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%D0%9B%D1%83%D0%BD%D0%BD%D1%8B%D0%B9%20%D0%B7%D0%B0%D0%B9%D1%87%D0%B8%D0%BA%203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75ED-F2C9-4816-A85F-BCA2BC6E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A473-CBEC-488B-B0C5-A0EF8047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2250-9931-46B3-8CD3-179E5B5D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C5E1-AF34-46BF-85E1-1D560AC3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C47A-439A-4A3F-83FB-C4827D1B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0CE8-33E8-4A72-8DCE-53F45284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CBE9-634C-4BA0-B01E-A8F17C53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4D7E-E4DD-416A-B09A-7AA40B39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4EC1-BBCA-4B40-995F-699E74C5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AB92-C47C-49B4-84C9-C2EE8A18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A19E-AA1E-4115-853C-CB11F79B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A966-928F-4A75-A286-A1F2C2F3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9F92-8B31-4A1B-B20D-27ECDE41FF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audio" Target="../media/&#1051;&#1091;&#1085;&#1085;&#1099;&#1081;%20&#1079;&#1072;&#1081;&#1095;&#1080;&#1082;%203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stat15.privet.ru/lr/0904b8c8403468218e567ba806d5c2fd" TargetMode="External"/><Relationship Id="rId3" Type="http://schemas.openxmlformats.org/officeDocument/2006/relationships/hyperlink" Target="http://s39.radikal.ru/i086/0905/c1/f81c43918ea3.jpg" TargetMode="External"/><Relationship Id="rId4" Type="http://schemas.openxmlformats.org/officeDocument/2006/relationships/hyperlink" Target="http://bms.24open.ru/images/3b964177d28fa6e27645e8c525918675" TargetMode="External"/><Relationship Id="rId5" Type="http://schemas.openxmlformats.org/officeDocument/2006/relationships/hyperlink" Target="http://forum.materinstvo.ru/uploads/1220366601/post-32828-1220389944_thumb.png" TargetMode="External"/><Relationship Id="rId6" Type="http://schemas.openxmlformats.org/officeDocument/2006/relationships/hyperlink" Target="http://video.m3x.org/i/data/002/02795/screen2.jpg" TargetMode="External"/><Relationship Id="rId7" Type="http://schemas.openxmlformats.org/officeDocument/2006/relationships/hyperlink" Target="http://www.photoshop-master.ru/adds/psd_template2654.jpg" TargetMode="External"/><Relationship Id="rId8" Type="http://schemas.openxmlformats.org/officeDocument/2006/relationships/hyperlink" Target="http://www.photoshop-master.ru/adds/psd_template2654.jpg" TargetMode="External"/><Relationship Id="rId9" Type="http://schemas.openxmlformats.org/officeDocument/2006/relationships/hyperlink" Target="http://www.photoshop-master.ru/adds/psd_template2654.jpg" TargetMode="External"/><Relationship Id="rId10" Type="http://schemas.openxmlformats.org/officeDocument/2006/relationships/hyperlink" Target="http://www.photoshop-master.ru/adds/psd_template2654.jpg" TargetMode="External"/><Relationship Id="rId11" Type="http://schemas.openxmlformats.org/officeDocument/2006/relationships/hyperlink" Target="http://www.photoshop-master.ru/adds/psd_template2654.jpg" TargetMode="External"/><Relationship Id="rId12" Type="http://schemas.openxmlformats.org/officeDocument/2006/relationships/hyperlink" Target="http://www.photoshop-master.ru/adds/psd_template2654.jpg" TargetMode="External"/><Relationship Id="rId13" Type="http://schemas.openxmlformats.org/officeDocument/2006/relationships/hyperlink" Target="http://www.photoshop-master.ru/adds/psd_template2654.jpg" TargetMode="External"/><Relationship Id="rId14" Type="http://schemas.openxmlformats.org/officeDocument/2006/relationships/hyperlink" Target="http://www.photoshop-master.ru/adds/psd_template2654.jpg" TargetMode="External"/><Relationship Id="rId15" Type="http://schemas.openxmlformats.org/officeDocument/2006/relationships/hyperlink" Target="http://www.photoshop-master.ru/adds/psd_template2654.jpg" TargetMode="External"/><Relationship Id="rId16" Type="http://schemas.openxmlformats.org/officeDocument/2006/relationships/hyperlink" Target="http://www.photoshop-master.ru/adds/psd_template2654.jpg" TargetMode="External"/><Relationship Id="rId17" Type="http://schemas.openxmlformats.org/officeDocument/2006/relationships/hyperlink" Target="http://www.photoshop-master.ru/adds/psd_template2654.jpg" TargetMode="External"/><Relationship Id="rId18" Type="http://schemas.openxmlformats.org/officeDocument/2006/relationships/hyperlink" Target="http://www.photoshop-master.ru/adds/psd_template2654.jpg" TargetMode="External"/><Relationship Id="rId19" Type="http://schemas.openxmlformats.org/officeDocument/2006/relationships/hyperlink" Target="http://www.photoshop-master.ru/adds/psd_template2654.jpg" TargetMode="External"/><Relationship Id="rId20" Type="http://schemas.openxmlformats.org/officeDocument/2006/relationships/hyperlink" Target="http://www.photoshop-master.ru/adds/psd_template2654.jpg" TargetMode="External"/><Relationship Id="rId21" Type="http://schemas.openxmlformats.org/officeDocument/2006/relationships/hyperlink" Target="http://www.photoshop-master.ru/adds/psd_template2654.jpg" TargetMode="External"/><Relationship Id="rId22" Type="http://schemas.openxmlformats.org/officeDocument/2006/relationships/hyperlink" Target="http://www.photoshop-master.ru/adds/psd_template2654.jpg" TargetMode="External"/><Relationship Id="rId23" Type="http://schemas.openxmlformats.org/officeDocument/2006/relationships/hyperlink" Target="http://www.photoshop-master.ru/adds/psd_template2654.jpg" TargetMode="External"/><Relationship Id="rId24" Type="http://schemas.openxmlformats.org/officeDocument/2006/relationships/hyperlink" Target="http://viki.rdf.ru/media/viki/upload/preview/masha-medvedi.jpg" TargetMode="External"/><Relationship Id="rId25" Type="http://schemas.openxmlformats.org/officeDocument/2006/relationships/hyperlink" Target="http://mylove.ru/m/b6d5742cd75c2c3ae662f6b94f2b0fab_6a2b873c63725644215387e5ce9dcbd6" TargetMode="External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.xml"/><Relationship Id="rId3" Type="http://schemas.openxmlformats.org/officeDocument/2006/relationships/slide" Target="slide9.xml"/><Relationship Id="rId4" Type="http://schemas.openxmlformats.org/officeDocument/2006/relationships/slide" Target="slide8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5.xml"/><Relationship Id="rId8" Type="http://schemas.openxmlformats.org/officeDocument/2006/relationships/slide" Target="slide4.xml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audio" Target="../media/&#1051;&#1091;&#1085;&#1085;&#1099;&#1081;%20&#1079;&#1072;&#1081;&#1095;&#1080;&#1082;%203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audio" Target="../media/&#1051;&#1091;&#1085;&#1085;&#1099;&#1081;%20&#1079;&#1072;&#1081;&#1095;&#1080;&#1082;%203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audio" Target="../media/&#1051;&#1091;&#1085;&#1085;&#1099;&#1081;%20&#1079;&#1072;&#1081;&#1095;&#1080;&#1082;%203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audio" Target="../media/&#1051;&#1091;&#1085;&#1085;&#1099;&#1081;%20&#1079;&#1072;&#1081;&#1095;&#1080;&#1082;%203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audio" Target="../media/&#1051;&#1091;&#1085;&#1085;&#1099;&#1081;%20&#1079;&#1072;&#1081;&#1095;&#1080;&#1082;%203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audio" Target="../media/&#1051;&#1091;&#1085;&#1085;&#1099;&#1081;%20&#1079;&#1072;&#1081;&#1095;&#1080;&#1082;%203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audio" Target="../media/&#1051;&#1091;&#1085;&#1085;&#1099;&#1081;%20&#1079;&#1072;&#1081;&#1095;&#1080;&#1082;%203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695760" y="762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нажё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762280" y="1600200"/>
            <a:ext cx="36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00"/>
                </a:solidFill>
                <a:latin typeface="Arial"/>
              </a:rPr>
              <a:t>Табличное умн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84720" y="6257880"/>
            <a:ext cx="574560" cy="600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1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3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5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7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9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1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23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32" descr="Ёжики"/>
          <p:cNvPicPr/>
          <p:nvPr/>
        </p:nvPicPr>
        <p:blipFill>
          <a:blip r:embed="rId2"/>
          <a:srcRect l="10254" t="6678" r="5371" b="2504"/>
          <a:stretch/>
        </p:blipFill>
        <p:spPr>
          <a:xfrm>
            <a:off x="2938320" y="838080"/>
            <a:ext cx="3265560" cy="12956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4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733920" y="5867280"/>
            <a:ext cx="574560" cy="600120"/>
          </a:xfrm>
          <a:prstGeom prst="rect">
            <a:avLst/>
          </a:prstGeom>
          <a:ln w="0">
            <a:noFill/>
          </a:ln>
        </p:spPr>
      </p:pic>
      <p:grpSp>
        <p:nvGrpSpPr>
          <p:cNvPr id="637" name="Group 89"/>
          <p:cNvGrpSpPr/>
          <p:nvPr/>
        </p:nvGrpSpPr>
        <p:grpSpPr>
          <a:xfrm>
            <a:off x="2536920" y="5599080"/>
            <a:ext cx="917640" cy="835200"/>
            <a:chOff x="2536920" y="5599080"/>
            <a:chExt cx="917640" cy="835200"/>
          </a:xfrm>
        </p:grpSpPr>
        <p:sp>
          <p:nvSpPr>
            <p:cNvPr id="638" name="Rectangle 90"/>
            <p:cNvSpPr/>
            <p:nvPr/>
          </p:nvSpPr>
          <p:spPr>
            <a:xfrm>
              <a:off x="2536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WordArt 91"/>
            <p:cNvSpPr txBox="1"/>
            <p:nvPr/>
          </p:nvSpPr>
          <p:spPr>
            <a:xfrm>
              <a:off x="2732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40" name="Group 92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641" name="Rectangle 93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WordArt 94"/>
            <p:cNvSpPr txBox="1"/>
            <p:nvPr/>
          </p:nvSpPr>
          <p:spPr>
            <a:xfrm>
              <a:off x="76536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43" name="Group 95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644" name="Rectangle 96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WordArt 97"/>
            <p:cNvSpPr txBox="1"/>
            <p:nvPr/>
          </p:nvSpPr>
          <p:spPr>
            <a:xfrm>
              <a:off x="696924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46" name="Group 98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647" name="Rectangle 99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WordArt 100"/>
            <p:cNvSpPr txBox="1"/>
            <p:nvPr/>
          </p:nvSpPr>
          <p:spPr>
            <a:xfrm>
              <a:off x="590400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49" name="Group 101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650" name="Rectangle 102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WordArt 103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52" name="Group 104"/>
          <p:cNvGrpSpPr/>
          <p:nvPr/>
        </p:nvGrpSpPr>
        <p:grpSpPr>
          <a:xfrm>
            <a:off x="7765920" y="4454640"/>
            <a:ext cx="917640" cy="834840"/>
            <a:chOff x="7765920" y="4454640"/>
            <a:chExt cx="917640" cy="834840"/>
          </a:xfrm>
        </p:grpSpPr>
        <p:sp>
          <p:nvSpPr>
            <p:cNvPr id="653" name="Rectangle 105"/>
            <p:cNvSpPr/>
            <p:nvPr/>
          </p:nvSpPr>
          <p:spPr>
            <a:xfrm>
              <a:off x="7765920" y="44546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WordArt 106"/>
            <p:cNvSpPr txBox="1"/>
            <p:nvPr/>
          </p:nvSpPr>
          <p:spPr>
            <a:xfrm>
              <a:off x="7961400" y="46036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55" name="Group 107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656" name="Rectangle 108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WordArt 109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58" name="Group 110"/>
          <p:cNvGrpSpPr/>
          <p:nvPr/>
        </p:nvGrpSpPr>
        <p:grpSpPr>
          <a:xfrm>
            <a:off x="460440" y="4468680"/>
            <a:ext cx="917640" cy="835200"/>
            <a:chOff x="460440" y="4468680"/>
            <a:chExt cx="917640" cy="835200"/>
          </a:xfrm>
        </p:grpSpPr>
        <p:sp>
          <p:nvSpPr>
            <p:cNvPr id="659" name="Rectangle 111"/>
            <p:cNvSpPr/>
            <p:nvPr/>
          </p:nvSpPr>
          <p:spPr>
            <a:xfrm>
              <a:off x="460440" y="44686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WordArt 112"/>
            <p:cNvSpPr txBox="1"/>
            <p:nvPr/>
          </p:nvSpPr>
          <p:spPr>
            <a:xfrm>
              <a:off x="655920" y="46180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61" name="Group 62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662" name="Rectangle 63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WordArt 64"/>
            <p:cNvSpPr txBox="1"/>
            <p:nvPr/>
          </p:nvSpPr>
          <p:spPr>
            <a:xfrm>
              <a:off x="76536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64" name="Group 83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665" name="Rectangle 84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WordArt 85"/>
            <p:cNvSpPr txBox="1"/>
            <p:nvPr/>
          </p:nvSpPr>
          <p:spPr>
            <a:xfrm>
              <a:off x="76536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67" name="Group 50"/>
          <p:cNvGrpSpPr/>
          <p:nvPr/>
        </p:nvGrpSpPr>
        <p:grpSpPr>
          <a:xfrm>
            <a:off x="460440" y="4468680"/>
            <a:ext cx="917640" cy="835200"/>
            <a:chOff x="460440" y="4468680"/>
            <a:chExt cx="917640" cy="835200"/>
          </a:xfrm>
        </p:grpSpPr>
        <p:sp>
          <p:nvSpPr>
            <p:cNvPr id="668" name="Rectangle 51"/>
            <p:cNvSpPr/>
            <p:nvPr/>
          </p:nvSpPr>
          <p:spPr>
            <a:xfrm>
              <a:off x="460440" y="44686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WordArt 52"/>
            <p:cNvSpPr txBox="1"/>
            <p:nvPr/>
          </p:nvSpPr>
          <p:spPr>
            <a:xfrm>
              <a:off x="655920" y="46180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70" name="Group 71"/>
          <p:cNvGrpSpPr/>
          <p:nvPr/>
        </p:nvGrpSpPr>
        <p:grpSpPr>
          <a:xfrm>
            <a:off x="460440" y="4468680"/>
            <a:ext cx="917640" cy="835200"/>
            <a:chOff x="460440" y="4468680"/>
            <a:chExt cx="917640" cy="835200"/>
          </a:xfrm>
        </p:grpSpPr>
        <p:sp>
          <p:nvSpPr>
            <p:cNvPr id="671" name="Rectangle 72"/>
            <p:cNvSpPr/>
            <p:nvPr/>
          </p:nvSpPr>
          <p:spPr>
            <a:xfrm>
              <a:off x="460440" y="44686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WordArt 73"/>
            <p:cNvSpPr txBox="1"/>
            <p:nvPr/>
          </p:nvSpPr>
          <p:spPr>
            <a:xfrm>
              <a:off x="655920" y="46180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73" name="Group 65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674" name="Rectangle 66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WordArt 67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76" name="Group 86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677" name="Rectangle 87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WordArt 88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79" name="Group 56"/>
          <p:cNvGrpSpPr/>
          <p:nvPr/>
        </p:nvGrpSpPr>
        <p:grpSpPr>
          <a:xfrm>
            <a:off x="2536920" y="5599080"/>
            <a:ext cx="917640" cy="835200"/>
            <a:chOff x="2536920" y="5599080"/>
            <a:chExt cx="917640" cy="835200"/>
          </a:xfrm>
        </p:grpSpPr>
        <p:sp>
          <p:nvSpPr>
            <p:cNvPr id="680" name="Rectangle 57"/>
            <p:cNvSpPr/>
            <p:nvPr/>
          </p:nvSpPr>
          <p:spPr>
            <a:xfrm>
              <a:off x="2536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WordArt 58"/>
            <p:cNvSpPr txBox="1"/>
            <p:nvPr/>
          </p:nvSpPr>
          <p:spPr>
            <a:xfrm>
              <a:off x="2732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82" name="Group 77"/>
          <p:cNvGrpSpPr/>
          <p:nvPr/>
        </p:nvGrpSpPr>
        <p:grpSpPr>
          <a:xfrm>
            <a:off x="2536920" y="5599080"/>
            <a:ext cx="917640" cy="835200"/>
            <a:chOff x="2536920" y="5599080"/>
            <a:chExt cx="917640" cy="835200"/>
          </a:xfrm>
        </p:grpSpPr>
        <p:sp>
          <p:nvSpPr>
            <p:cNvPr id="683" name="Rectangle 78"/>
            <p:cNvSpPr/>
            <p:nvPr/>
          </p:nvSpPr>
          <p:spPr>
            <a:xfrm>
              <a:off x="2536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WordArt 79"/>
            <p:cNvSpPr txBox="1"/>
            <p:nvPr/>
          </p:nvSpPr>
          <p:spPr>
            <a:xfrm>
              <a:off x="2732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85" name="Group 47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686" name="Rectangle 48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WordArt 49"/>
            <p:cNvSpPr txBox="1"/>
            <p:nvPr/>
          </p:nvSpPr>
          <p:spPr>
            <a:xfrm>
              <a:off x="590400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88" name="Group 68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689" name="Rectangle 69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WordArt 70"/>
            <p:cNvSpPr txBox="1"/>
            <p:nvPr/>
          </p:nvSpPr>
          <p:spPr>
            <a:xfrm>
              <a:off x="590400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1" name="Group 53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692" name="Rectangle 54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WordArt 55"/>
            <p:cNvSpPr txBox="1"/>
            <p:nvPr/>
          </p:nvSpPr>
          <p:spPr>
            <a:xfrm>
              <a:off x="696924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4" name="Group 74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695" name="Rectangle 75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WordArt 76"/>
            <p:cNvSpPr txBox="1"/>
            <p:nvPr/>
          </p:nvSpPr>
          <p:spPr>
            <a:xfrm>
              <a:off x="696924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7" name="Group 59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698" name="Rectangle 60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WordArt 61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00" name="Group 80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701" name="Rectangle 81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WordArt 82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03" name="Group 44"/>
          <p:cNvGrpSpPr/>
          <p:nvPr/>
        </p:nvGrpSpPr>
        <p:grpSpPr>
          <a:xfrm>
            <a:off x="7765920" y="4454640"/>
            <a:ext cx="917640" cy="834840"/>
            <a:chOff x="7765920" y="4454640"/>
            <a:chExt cx="917640" cy="834840"/>
          </a:xfrm>
        </p:grpSpPr>
        <p:sp>
          <p:nvSpPr>
            <p:cNvPr id="704" name="Rectangle 45"/>
            <p:cNvSpPr/>
            <p:nvPr/>
          </p:nvSpPr>
          <p:spPr>
            <a:xfrm>
              <a:off x="7765920" y="44546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WordArt 46"/>
            <p:cNvSpPr txBox="1"/>
            <p:nvPr/>
          </p:nvSpPr>
          <p:spPr>
            <a:xfrm>
              <a:off x="7961400" y="46036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706" name="AutoShape 113"/>
          <p:cNvSpPr/>
          <p:nvPr/>
        </p:nvSpPr>
        <p:spPr>
          <a:xfrm>
            <a:off x="4572000" y="583416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8406"/>
                </a:moveTo>
                <a:lnTo>
                  <a:pt x="12272" y="8406"/>
                </a:lnTo>
                <a:lnTo>
                  <a:pt x="16694" y="3794"/>
                </a:lnTo>
                <a:lnTo>
                  <a:pt x="16694" y="17806"/>
                </a:lnTo>
                <a:lnTo>
                  <a:pt x="12272" y="13194"/>
                </a:lnTo>
                <a:lnTo>
                  <a:pt x="7842" y="13194"/>
                </a:lnTo>
                <a:close/>
              </a:path>
              <a:path fill="darken" w="29697" h="21600">
                <a:moveTo>
                  <a:pt x="18347" y="10800"/>
                </a:moveTo>
                <a:lnTo>
                  <a:pt x="21855" y="10800"/>
                </a:lnTo>
              </a:path>
              <a:path fill="darken" w="29697" h="21600">
                <a:moveTo>
                  <a:pt x="18347" y="8406"/>
                </a:moveTo>
                <a:lnTo>
                  <a:pt x="21855" y="5639"/>
                </a:lnTo>
              </a:path>
              <a:path fill="darken" w="29697" h="21600">
                <a:moveTo>
                  <a:pt x="18347" y="13194"/>
                </a:moveTo>
                <a:lnTo>
                  <a:pt x="21855" y="15961"/>
                </a:lnTo>
              </a:path>
            </a:pathLst>
          </a:custGeom>
          <a:solidFill>
            <a:srgbClr val="80a7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14"/>
          <p:cNvSpPr/>
          <p:nvPr/>
        </p:nvSpPr>
        <p:spPr>
          <a:xfrm>
            <a:off x="4572000" y="5867280"/>
            <a:ext cx="838080" cy="53352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122" dur="indefinite" restart="never" nodeType="tmRoot">
          <p:childTnLst>
            <p:seq>
              <p:cTn id="2123" restart="whenNotActive" nodeType="interactiveSeq" fill="hold">
                <p:stCondLst>
                  <p:cond evt="onClick">
                    <p:tgtEl>
                      <p:spTgt spid="703"/>
                    </p:tgtEl>
                  </p:cond>
                </p:stCondLst>
                <p:childTnLst>
                  <p:par>
                    <p:cTn id="2124" nodeType="clickEffect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2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7" dur="30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30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32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3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6" restart="whenNotActive" nodeType="interactiveSeq" fill="hold">
                <p:stCondLst>
                  <p:cond evt="onClick">
                    <p:tgtEl>
                      <p:spTgt spid="685"/>
                    </p:tgtEl>
                  </p:cond>
                </p:stCondLst>
                <p:childTnLst>
                  <p:par>
                    <p:cTn id="2137" nodeType="clickEffect" fill="hold">
                      <p:stCondLst>
                        <p:cond evt="onClick">
                          <p:tgtEl>
                            <p:spTgt spid="685"/>
                          </p:tgtEl>
                        </p:cond>
                      </p:stCondLst>
                      <p:childTnLst>
                        <p:par>
                          <p:cTn id="2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0" dur="30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30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45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4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9" restart="whenNotActive" nodeType="interactiveSeq" fill="hold">
                <p:stCondLst>
                  <p:cond evt="onClick">
                    <p:tgtEl>
                      <p:spTgt spid="667"/>
                    </p:tgtEl>
                  </p:cond>
                </p:stCondLst>
                <p:childTnLst>
                  <p:par>
                    <p:cTn id="2150" nodeType="clickEffect" fill="hold">
                      <p:stCondLst>
                        <p:cond evt="onClick">
                          <p:tgtEl>
                            <p:spTgt spid="667"/>
                          </p:tgtEl>
                        </p:cond>
                      </p:stCondLst>
                      <p:childTnLst>
                        <p:par>
                          <p:cTn id="2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3" dur="3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3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58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6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2" restart="whenNotActive" nodeType="interactiveSeq" fill="hold">
                <p:stCondLst>
                  <p:cond evt="onClick">
                    <p:tgtEl>
                      <p:spTgt spid="691"/>
                    </p:tgtEl>
                  </p:cond>
                </p:stCondLst>
                <p:childTnLst>
                  <p:par>
                    <p:cTn id="2163" nodeType="clickEffect" fill="hold">
                      <p:stCondLst>
                        <p:cond evt="onClick">
                          <p:tgtEl>
                            <p:spTgt spid="691"/>
                          </p:tgtEl>
                        </p:cond>
                      </p:stCondLst>
                      <p:childTnLst>
                        <p:par>
                          <p:cTn id="2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6" dur="300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300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71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7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5" restart="whenNotActive" nodeType="interactiveSeq" fill="hold">
                <p:stCondLst>
                  <p:cond evt="onClick">
                    <p:tgtEl>
                      <p:spTgt spid="679"/>
                    </p:tgtEl>
                  </p:cond>
                </p:stCondLst>
                <p:childTnLst>
                  <p:par>
                    <p:cTn id="2176" nodeType="clickEffect" fill="hold">
                      <p:stCondLst>
                        <p:cond evt="onClick">
                          <p:tgtEl>
                            <p:spTgt spid="679"/>
                          </p:tgtEl>
                        </p:cond>
                      </p:stCondLst>
                      <p:childTnLst>
                        <p:par>
                          <p:cTn id="2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9" dur="30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30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84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86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8" restart="whenNotActive" nodeType="interactiveSeq" fill="hold">
                <p:stCondLst>
                  <p:cond evt="onClick">
                    <p:tgtEl>
                      <p:spTgt spid="697"/>
                    </p:tgtEl>
                  </p:cond>
                </p:stCondLst>
                <p:childTnLst>
                  <p:par>
                    <p:cTn id="2189" nodeType="clickEffect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2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2" dur="3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3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9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9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1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2202" nodeType="clickEffect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2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5" dur="30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30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10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21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4" restart="whenNotActive" nodeType="interactiveSeq" fill="hold">
                <p:stCondLst>
                  <p:cond evt="onClick">
                    <p:tgtEl>
                      <p:spTgt spid="673"/>
                    </p:tgtEl>
                  </p:cond>
                </p:stCondLst>
                <p:childTnLst>
                  <p:par>
                    <p:cTn id="2215" nodeType="clickEffect" fill="hold">
                      <p:stCondLst>
                        <p:cond evt="onClick">
                          <p:tgtEl>
                            <p:spTgt spid="673"/>
                          </p:tgtEl>
                        </p:cond>
                      </p:stCondLst>
                      <p:childTnLst>
                        <p:par>
                          <p:cTn id="2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8" dur="30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30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3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4" restart="whenNotActive" nodeType="interactiveSeq" fill="hold">
                <p:stCondLst>
                  <p:cond evt="onClick">
                    <p:tgtEl>
                      <p:spTgt spid="688"/>
                    </p:tgtEl>
                  </p:cond>
                </p:stCondLst>
                <p:childTnLst>
                  <p:par>
                    <p:cTn id="2225" nodeType="clickEffect" fill="hold">
                      <p:stCondLst>
                        <p:cond evt="onClick">
                          <p:tgtEl>
                            <p:spTgt spid="688"/>
                          </p:tgtEl>
                        </p:cond>
                      </p:stCondLst>
                      <p:childTnLst>
                        <p:par>
                          <p:cTn id="2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8" dur="1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29" dur="1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30" dur="1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6" restart="whenNotActive" nodeType="interactiveSeq" fill="hold">
                <p:stCondLst>
                  <p:cond evt="onClick">
                    <p:tgtEl>
                      <p:spTgt spid="670"/>
                    </p:tgtEl>
                  </p:cond>
                </p:stCondLst>
                <p:childTnLst>
                  <p:par>
                    <p:cTn id="2237" nodeType="clickEffect" fill="hold">
                      <p:stCondLst>
                        <p:cond evt="onClick">
                          <p:tgtEl>
                            <p:spTgt spid="670"/>
                          </p:tgtEl>
                        </p:cond>
                      </p:stCondLst>
                      <p:childTnLst>
                        <p:par>
                          <p:cTn id="2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0" dur="1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41" dur="1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42" dur="1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8" restart="whenNotActive" nodeType="interactiveSeq" fill="hold">
                <p:stCondLst>
                  <p:cond evt="onClick">
                    <p:tgtEl>
                      <p:spTgt spid="694"/>
                    </p:tgtEl>
                  </p:cond>
                </p:stCondLst>
                <p:childTnLst>
                  <p:par>
                    <p:cTn id="2249" nodeType="clickEffect" fill="hold">
                      <p:stCondLst>
                        <p:cond evt="onClick">
                          <p:tgtEl>
                            <p:spTgt spid="694"/>
                          </p:tgtEl>
                        </p:cond>
                      </p:stCondLst>
                      <p:childTnLst>
                        <p:par>
                          <p:cTn id="2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2" dur="1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53" dur="1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54" dur="1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0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2261" nodeType="clickEffect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2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4" dur="1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65" dur="1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66" dur="1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2" restart="whenNotActive" nodeType="interactiveSeq" fill="hold">
                <p:stCondLst>
                  <p:cond evt="onClick">
                    <p:tgtEl>
                      <p:spTgt spid="700"/>
                    </p:tgtEl>
                  </p:cond>
                </p:stCondLst>
                <p:childTnLst>
                  <p:par>
                    <p:cTn id="2273" nodeType="clickEffect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2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6" dur="1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77" dur="1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78" dur="1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4" restart="whenNotActive" nodeType="interactiveSeq" fill="hold">
                <p:stCondLst>
                  <p:cond evt="onClick">
                    <p:tgtEl>
                      <p:spTgt spid="664"/>
                    </p:tgtEl>
                  </p:cond>
                </p:stCondLst>
                <p:childTnLst>
                  <p:par>
                    <p:cTn id="2285" nodeType="clickEffect" fill="hold">
                      <p:stCondLst>
                        <p:cond evt="onClick">
                          <p:tgtEl>
                            <p:spTgt spid="664"/>
                          </p:tgtEl>
                        </p:cond>
                      </p:stCondLst>
                      <p:childTnLst>
                        <p:par>
                          <p:cTn id="2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8" dur="1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89" dur="1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90" dur="1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6" restart="whenNotActive" nodeType="interactiveSeq" fill="hold">
                <p:stCondLst>
                  <p:cond evt="onClick">
                    <p:tgtEl>
                      <p:spTgt spid="676"/>
                    </p:tgtEl>
                  </p:cond>
                </p:stCondLst>
                <p:childTnLst>
                  <p:par>
                    <p:cTn id="2297" nodeType="clickEffect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2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0" dur="1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01" dur="1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02" dur="1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8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2309" nodeType="clickEffect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2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2" dur="1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13" dur="1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4" dur="1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0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2321" nodeType="clickEffect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2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4" dur="1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25" dur="1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26" dur="1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2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2333" nodeType="clickEffect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2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6" dur="1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37" dur="1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38" dur="1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4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2345" nodeType="clickEffect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2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8" dur="1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49" dur="1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50" dur="1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6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2357" nodeType="clickEffect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2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0" dur="1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61" dur="1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62" dur="1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8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2369" nodeType="clickEffect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2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2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73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74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0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2381" nodeType="clickEffect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2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4" dur="1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85" dur="1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86" dur="1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2" restart="whenNotActive" nodeType="interactiveSeq" fill="hold">
                <p:stCondLst>
                  <p:cond evt="onClick">
                    <p:tgtEl>
                      <p:spTgt spid="658"/>
                    </p:tgtEl>
                  </p:cond>
                </p:stCondLst>
                <p:childTnLst>
                  <p:par>
                    <p:cTn id="2393" nodeType="clickEffect" fill="hold">
                      <p:stCondLst>
                        <p:cond evt="onClick">
                          <p:tgtEl>
                            <p:spTgt spid="658"/>
                          </p:tgtEl>
                        </p:cond>
                      </p:stCondLst>
                      <p:childTnLst>
                        <p:par>
                          <p:cTn id="2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6" dur="1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97" dur="1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98" dur="1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4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2405" nodeType="clickEffect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2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0%9B%D1%83%D0%BD%D0%BD%D1%8B%D0%B9%20%D0%B7%D0%B0%D0%B9%D1%87%D0%B8%D0%BA%203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08" dur="2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2409" dur="2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41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nodeType="clickEffect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2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сыл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айды оформлены с помощью программы Фотошо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ти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tat15.privet.ru/lr/0904b8c8403468218e567ba806d5c2f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рошка Ен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39.radikal.ru/i086/0905/c1/f81c43918ea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ёж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bms.24open.ru/images/3b964177d28fa6e27645e8c525918675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ёж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forum.materinstvo.ru/uploads/1220366601/post-32828-1220389944_thumb.pn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ёж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video.m3x.org/i/data/002/02795/screen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олчон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photosho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-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master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ru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adds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psd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_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template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2654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 дороге с облаками (лягушонок, кро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viki.rdf.ru/media/viki/upload/preview/masha-medvedi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едве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://mylove.ru/m/b6d5742cd75c2c3ae662f6b94f2b0fab_6a2b873c63725644215387e5ce9dcbd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олныш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lenagold.ru/fon/clipart/v/volk/volk03.jpg волчон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hobest.in.ua/uploads/posts/2009-08/thumbs/1251412288_1251352674_1.jpg бело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rp.foto.radikal.ru/0709/f0/f3a11200828d.jpg лисён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m.foto.radikal.ru/0707/d8/9d791bc7cdd4.jpg лися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karaoketut.narod.ru/l.html лунный зайч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5">
            <a:hlinkClick r:id="rId2" action="ppaction://hlinksldjump"/>
          </p:cNvPr>
          <p:cNvSpPr/>
          <p:nvPr/>
        </p:nvSpPr>
        <p:spPr>
          <a:xfrm>
            <a:off x="4224240" y="1247760"/>
            <a:ext cx="838440" cy="8380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19">
            <a:hlinkClick r:id="rId3" action="ppaction://hlinksldjump"/>
          </p:cNvPr>
          <p:cNvSpPr/>
          <p:nvPr/>
        </p:nvSpPr>
        <p:spPr>
          <a:xfrm>
            <a:off x="5410080" y="1752480"/>
            <a:ext cx="838440" cy="8384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20">
            <a:hlinkClick r:id="rId4" action="ppaction://hlinksldjump"/>
          </p:cNvPr>
          <p:cNvSpPr/>
          <p:nvPr/>
        </p:nvSpPr>
        <p:spPr>
          <a:xfrm>
            <a:off x="5943600" y="3009960"/>
            <a:ext cx="838080" cy="8380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21">
            <a:hlinkClick r:id="rId5" action="ppaction://hlinksldjump"/>
          </p:cNvPr>
          <p:cNvSpPr/>
          <p:nvPr/>
        </p:nvSpPr>
        <p:spPr>
          <a:xfrm>
            <a:off x="5410080" y="4191120"/>
            <a:ext cx="838440" cy="8380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2">
            <a:hlinkClick r:id="rId6" action="ppaction://hlinksldjump"/>
          </p:cNvPr>
          <p:cNvSpPr/>
          <p:nvPr/>
        </p:nvSpPr>
        <p:spPr>
          <a:xfrm>
            <a:off x="4224240" y="4829040"/>
            <a:ext cx="838440" cy="8384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3">
            <a:hlinkClick r:id="rId7" action="ppaction://hlinksldjump"/>
          </p:cNvPr>
          <p:cNvSpPr/>
          <p:nvPr/>
        </p:nvSpPr>
        <p:spPr>
          <a:xfrm>
            <a:off x="3048120" y="4267080"/>
            <a:ext cx="838080" cy="8384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4">
            <a:hlinkClick r:id="rId8" action="ppaction://hlinksldjump"/>
          </p:cNvPr>
          <p:cNvSpPr/>
          <p:nvPr/>
        </p:nvSpPr>
        <p:spPr>
          <a:xfrm>
            <a:off x="2590920" y="3009960"/>
            <a:ext cx="838080" cy="8380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5">
            <a:hlinkClick r:id="rId9" action="ppaction://hlinksldjump"/>
          </p:cNvPr>
          <p:cNvSpPr/>
          <p:nvPr/>
        </p:nvSpPr>
        <p:spPr>
          <a:xfrm>
            <a:off x="3048120" y="1752480"/>
            <a:ext cx="838080" cy="8384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5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0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2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4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6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8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2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Ёжики"/>
          <p:cNvPicPr/>
          <p:nvPr/>
        </p:nvPicPr>
        <p:blipFill>
          <a:blip r:embed="rId2"/>
          <a:srcRect l="10254" t="6678" r="5371" b="2504"/>
          <a:stretch/>
        </p:blipFill>
        <p:spPr>
          <a:xfrm>
            <a:off x="2938320" y="838080"/>
            <a:ext cx="3265560" cy="1295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84720" y="6257880"/>
            <a:ext cx="574560" cy="60012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69"/>
          <p:cNvGrpSpPr/>
          <p:nvPr/>
        </p:nvGrpSpPr>
        <p:grpSpPr>
          <a:xfrm>
            <a:off x="460440" y="1716120"/>
            <a:ext cx="917640" cy="834840"/>
            <a:chOff x="460440" y="1716120"/>
            <a:chExt cx="917640" cy="834840"/>
          </a:xfrm>
        </p:grpSpPr>
        <p:sp>
          <p:nvSpPr>
            <p:cNvPr id="64" name="Rectangle 70"/>
            <p:cNvSpPr/>
            <p:nvPr/>
          </p:nvSpPr>
          <p:spPr>
            <a:xfrm>
              <a:off x="46044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WordArt 71"/>
            <p:cNvSpPr txBox="1"/>
            <p:nvPr/>
          </p:nvSpPr>
          <p:spPr>
            <a:xfrm>
              <a:off x="65592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6" name="Group 68"/>
          <p:cNvGrpSpPr/>
          <p:nvPr/>
        </p:nvGrpSpPr>
        <p:grpSpPr>
          <a:xfrm>
            <a:off x="460440" y="1716120"/>
            <a:ext cx="917640" cy="834840"/>
            <a:chOff x="460440" y="1716120"/>
            <a:chExt cx="917640" cy="834840"/>
          </a:xfrm>
        </p:grpSpPr>
        <p:sp>
          <p:nvSpPr>
            <p:cNvPr id="67" name="Rectangle 24"/>
            <p:cNvSpPr/>
            <p:nvPr/>
          </p:nvSpPr>
          <p:spPr>
            <a:xfrm>
              <a:off x="46044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WordArt 66"/>
            <p:cNvSpPr txBox="1"/>
            <p:nvPr/>
          </p:nvSpPr>
          <p:spPr>
            <a:xfrm>
              <a:off x="65592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" name="Group 114"/>
          <p:cNvGrpSpPr/>
          <p:nvPr/>
        </p:nvGrpSpPr>
        <p:grpSpPr>
          <a:xfrm>
            <a:off x="7772400" y="1716120"/>
            <a:ext cx="917640" cy="834840"/>
            <a:chOff x="7772400" y="1716120"/>
            <a:chExt cx="917640" cy="834840"/>
          </a:xfrm>
        </p:grpSpPr>
        <p:sp>
          <p:nvSpPr>
            <p:cNvPr id="70" name="Rectangle 115"/>
            <p:cNvSpPr/>
            <p:nvPr/>
          </p:nvSpPr>
          <p:spPr>
            <a:xfrm>
              <a:off x="777240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WordArt 116"/>
            <p:cNvSpPr txBox="1"/>
            <p:nvPr/>
          </p:nvSpPr>
          <p:spPr>
            <a:xfrm>
              <a:off x="796788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2" name="Group 117"/>
          <p:cNvGrpSpPr/>
          <p:nvPr/>
        </p:nvGrpSpPr>
        <p:grpSpPr>
          <a:xfrm>
            <a:off x="7772400" y="4114800"/>
            <a:ext cx="917640" cy="835200"/>
            <a:chOff x="7772400" y="4114800"/>
            <a:chExt cx="917640" cy="835200"/>
          </a:xfrm>
        </p:grpSpPr>
        <p:sp>
          <p:nvSpPr>
            <p:cNvPr id="73" name="Rectangle 118"/>
            <p:cNvSpPr/>
            <p:nvPr/>
          </p:nvSpPr>
          <p:spPr>
            <a:xfrm>
              <a:off x="777240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WordArt 119"/>
            <p:cNvSpPr txBox="1"/>
            <p:nvPr/>
          </p:nvSpPr>
          <p:spPr>
            <a:xfrm>
              <a:off x="796788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5" name="Group 120"/>
          <p:cNvGrpSpPr/>
          <p:nvPr/>
        </p:nvGrpSpPr>
        <p:grpSpPr>
          <a:xfrm>
            <a:off x="7772400" y="2935440"/>
            <a:ext cx="917640" cy="834840"/>
            <a:chOff x="7772400" y="2935440"/>
            <a:chExt cx="917640" cy="834840"/>
          </a:xfrm>
        </p:grpSpPr>
        <p:sp>
          <p:nvSpPr>
            <p:cNvPr id="76" name="Rectangle 121"/>
            <p:cNvSpPr/>
            <p:nvPr/>
          </p:nvSpPr>
          <p:spPr>
            <a:xfrm>
              <a:off x="777240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WordArt 122"/>
            <p:cNvSpPr txBox="1"/>
            <p:nvPr/>
          </p:nvSpPr>
          <p:spPr>
            <a:xfrm>
              <a:off x="796788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8" name="Group 123"/>
          <p:cNvGrpSpPr/>
          <p:nvPr/>
        </p:nvGrpSpPr>
        <p:grpSpPr>
          <a:xfrm>
            <a:off x="7772400" y="5326200"/>
            <a:ext cx="917640" cy="834840"/>
            <a:chOff x="7772400" y="5326200"/>
            <a:chExt cx="917640" cy="834840"/>
          </a:xfrm>
        </p:grpSpPr>
        <p:sp>
          <p:nvSpPr>
            <p:cNvPr id="79" name="Rectangle 124"/>
            <p:cNvSpPr/>
            <p:nvPr/>
          </p:nvSpPr>
          <p:spPr>
            <a:xfrm>
              <a:off x="777240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WordArt 125"/>
            <p:cNvSpPr txBox="1"/>
            <p:nvPr/>
          </p:nvSpPr>
          <p:spPr>
            <a:xfrm>
              <a:off x="796788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1" name="Group 126"/>
          <p:cNvGrpSpPr/>
          <p:nvPr/>
        </p:nvGrpSpPr>
        <p:grpSpPr>
          <a:xfrm>
            <a:off x="460440" y="5326200"/>
            <a:ext cx="917640" cy="834840"/>
            <a:chOff x="460440" y="5326200"/>
            <a:chExt cx="917640" cy="834840"/>
          </a:xfrm>
        </p:grpSpPr>
        <p:sp>
          <p:nvSpPr>
            <p:cNvPr id="82" name="Rectangle 127"/>
            <p:cNvSpPr/>
            <p:nvPr/>
          </p:nvSpPr>
          <p:spPr>
            <a:xfrm>
              <a:off x="46044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WordArt 128"/>
            <p:cNvSpPr txBox="1"/>
            <p:nvPr/>
          </p:nvSpPr>
          <p:spPr>
            <a:xfrm>
              <a:off x="65592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4" name="Group 129"/>
          <p:cNvGrpSpPr/>
          <p:nvPr/>
        </p:nvGrpSpPr>
        <p:grpSpPr>
          <a:xfrm>
            <a:off x="460440" y="4114800"/>
            <a:ext cx="917640" cy="835200"/>
            <a:chOff x="460440" y="4114800"/>
            <a:chExt cx="917640" cy="835200"/>
          </a:xfrm>
        </p:grpSpPr>
        <p:sp>
          <p:nvSpPr>
            <p:cNvPr id="85" name="Rectangle 130"/>
            <p:cNvSpPr/>
            <p:nvPr/>
          </p:nvSpPr>
          <p:spPr>
            <a:xfrm>
              <a:off x="46044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WordArt 131"/>
            <p:cNvSpPr txBox="1"/>
            <p:nvPr/>
          </p:nvSpPr>
          <p:spPr>
            <a:xfrm>
              <a:off x="65592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7" name="Group 135"/>
          <p:cNvGrpSpPr/>
          <p:nvPr/>
        </p:nvGrpSpPr>
        <p:grpSpPr>
          <a:xfrm>
            <a:off x="460440" y="2935440"/>
            <a:ext cx="917640" cy="834840"/>
            <a:chOff x="460440" y="2935440"/>
            <a:chExt cx="917640" cy="834840"/>
          </a:xfrm>
        </p:grpSpPr>
        <p:sp>
          <p:nvSpPr>
            <p:cNvPr id="88" name="Rectangle 136"/>
            <p:cNvSpPr/>
            <p:nvPr/>
          </p:nvSpPr>
          <p:spPr>
            <a:xfrm>
              <a:off x="46044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WordArt 137"/>
            <p:cNvSpPr txBox="1"/>
            <p:nvPr/>
          </p:nvSpPr>
          <p:spPr>
            <a:xfrm>
              <a:off x="65592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0" name="Group 73"/>
          <p:cNvGrpSpPr/>
          <p:nvPr/>
        </p:nvGrpSpPr>
        <p:grpSpPr>
          <a:xfrm>
            <a:off x="460440" y="2935440"/>
            <a:ext cx="917640" cy="834840"/>
            <a:chOff x="460440" y="2935440"/>
            <a:chExt cx="917640" cy="834840"/>
          </a:xfrm>
        </p:grpSpPr>
        <p:sp>
          <p:nvSpPr>
            <p:cNvPr id="91" name="Rectangle 54"/>
            <p:cNvSpPr/>
            <p:nvPr/>
          </p:nvSpPr>
          <p:spPr>
            <a:xfrm>
              <a:off x="46044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WordArt 72"/>
            <p:cNvSpPr txBox="1"/>
            <p:nvPr/>
          </p:nvSpPr>
          <p:spPr>
            <a:xfrm>
              <a:off x="65592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3" name="Group 90"/>
          <p:cNvGrpSpPr/>
          <p:nvPr/>
        </p:nvGrpSpPr>
        <p:grpSpPr>
          <a:xfrm>
            <a:off x="460440" y="2935440"/>
            <a:ext cx="917640" cy="834840"/>
            <a:chOff x="460440" y="2935440"/>
            <a:chExt cx="917640" cy="834840"/>
          </a:xfrm>
        </p:grpSpPr>
        <p:sp>
          <p:nvSpPr>
            <p:cNvPr id="94" name="Rectangle 91"/>
            <p:cNvSpPr/>
            <p:nvPr/>
          </p:nvSpPr>
          <p:spPr>
            <a:xfrm>
              <a:off x="46044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WordArt 92"/>
            <p:cNvSpPr txBox="1"/>
            <p:nvPr/>
          </p:nvSpPr>
          <p:spPr>
            <a:xfrm>
              <a:off x="65592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6" name="Group 83"/>
          <p:cNvGrpSpPr/>
          <p:nvPr/>
        </p:nvGrpSpPr>
        <p:grpSpPr>
          <a:xfrm>
            <a:off x="460440" y="4114800"/>
            <a:ext cx="917640" cy="835200"/>
            <a:chOff x="460440" y="4114800"/>
            <a:chExt cx="917640" cy="835200"/>
          </a:xfrm>
        </p:grpSpPr>
        <p:sp>
          <p:nvSpPr>
            <p:cNvPr id="97" name="Rectangle 53"/>
            <p:cNvSpPr/>
            <p:nvPr/>
          </p:nvSpPr>
          <p:spPr>
            <a:xfrm>
              <a:off x="46044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WordArt 82"/>
            <p:cNvSpPr txBox="1"/>
            <p:nvPr/>
          </p:nvSpPr>
          <p:spPr>
            <a:xfrm>
              <a:off x="65592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9" name="Group 99"/>
          <p:cNvGrpSpPr/>
          <p:nvPr/>
        </p:nvGrpSpPr>
        <p:grpSpPr>
          <a:xfrm>
            <a:off x="460440" y="4113360"/>
            <a:ext cx="917640" cy="834840"/>
            <a:chOff x="460440" y="4113360"/>
            <a:chExt cx="917640" cy="834840"/>
          </a:xfrm>
        </p:grpSpPr>
        <p:sp>
          <p:nvSpPr>
            <p:cNvPr id="100" name="Rectangle 100"/>
            <p:cNvSpPr/>
            <p:nvPr/>
          </p:nvSpPr>
          <p:spPr>
            <a:xfrm>
              <a:off x="460440" y="411336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WordArt 101"/>
            <p:cNvSpPr txBox="1"/>
            <p:nvPr/>
          </p:nvSpPr>
          <p:spPr>
            <a:xfrm>
              <a:off x="655920" y="426240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2" name="Group 87"/>
          <p:cNvGrpSpPr/>
          <p:nvPr/>
        </p:nvGrpSpPr>
        <p:grpSpPr>
          <a:xfrm>
            <a:off x="460440" y="5326200"/>
            <a:ext cx="917640" cy="834840"/>
            <a:chOff x="460440" y="5326200"/>
            <a:chExt cx="917640" cy="834840"/>
          </a:xfrm>
        </p:grpSpPr>
        <p:sp>
          <p:nvSpPr>
            <p:cNvPr id="103" name="Rectangle 55"/>
            <p:cNvSpPr/>
            <p:nvPr/>
          </p:nvSpPr>
          <p:spPr>
            <a:xfrm>
              <a:off x="46044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WordArt 86"/>
            <p:cNvSpPr txBox="1"/>
            <p:nvPr/>
          </p:nvSpPr>
          <p:spPr>
            <a:xfrm>
              <a:off x="65592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5" name="Group 105"/>
          <p:cNvGrpSpPr/>
          <p:nvPr/>
        </p:nvGrpSpPr>
        <p:grpSpPr>
          <a:xfrm>
            <a:off x="460440" y="5326200"/>
            <a:ext cx="917640" cy="834840"/>
            <a:chOff x="460440" y="5326200"/>
            <a:chExt cx="917640" cy="834840"/>
          </a:xfrm>
        </p:grpSpPr>
        <p:sp>
          <p:nvSpPr>
            <p:cNvPr id="106" name="Rectangle 106"/>
            <p:cNvSpPr/>
            <p:nvPr/>
          </p:nvSpPr>
          <p:spPr>
            <a:xfrm>
              <a:off x="46044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WordArt 107"/>
            <p:cNvSpPr txBox="1"/>
            <p:nvPr/>
          </p:nvSpPr>
          <p:spPr>
            <a:xfrm>
              <a:off x="65592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8" name="Group 78"/>
          <p:cNvGrpSpPr/>
          <p:nvPr/>
        </p:nvGrpSpPr>
        <p:grpSpPr>
          <a:xfrm>
            <a:off x="7772400" y="1716120"/>
            <a:ext cx="917640" cy="834840"/>
            <a:chOff x="7772400" y="1716120"/>
            <a:chExt cx="917640" cy="834840"/>
          </a:xfrm>
        </p:grpSpPr>
        <p:sp>
          <p:nvSpPr>
            <p:cNvPr id="109" name="Rectangle 57"/>
            <p:cNvSpPr/>
            <p:nvPr/>
          </p:nvSpPr>
          <p:spPr>
            <a:xfrm>
              <a:off x="777240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WordArt 77"/>
            <p:cNvSpPr txBox="1"/>
            <p:nvPr/>
          </p:nvSpPr>
          <p:spPr>
            <a:xfrm>
              <a:off x="796788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1" name="Group 93"/>
          <p:cNvGrpSpPr/>
          <p:nvPr/>
        </p:nvGrpSpPr>
        <p:grpSpPr>
          <a:xfrm>
            <a:off x="7772400" y="1716120"/>
            <a:ext cx="917640" cy="834840"/>
            <a:chOff x="7772400" y="1716120"/>
            <a:chExt cx="917640" cy="834840"/>
          </a:xfrm>
        </p:grpSpPr>
        <p:sp>
          <p:nvSpPr>
            <p:cNvPr id="112" name="Rectangle 94"/>
            <p:cNvSpPr/>
            <p:nvPr/>
          </p:nvSpPr>
          <p:spPr>
            <a:xfrm>
              <a:off x="777240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WordArt 95"/>
            <p:cNvSpPr txBox="1"/>
            <p:nvPr/>
          </p:nvSpPr>
          <p:spPr>
            <a:xfrm>
              <a:off x="796788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4" name="Group 85"/>
          <p:cNvGrpSpPr/>
          <p:nvPr/>
        </p:nvGrpSpPr>
        <p:grpSpPr>
          <a:xfrm>
            <a:off x="7772400" y="2935440"/>
            <a:ext cx="917640" cy="834840"/>
            <a:chOff x="7772400" y="2935440"/>
            <a:chExt cx="917640" cy="834840"/>
          </a:xfrm>
        </p:grpSpPr>
        <p:sp>
          <p:nvSpPr>
            <p:cNvPr id="115" name="Rectangle 52"/>
            <p:cNvSpPr/>
            <p:nvPr/>
          </p:nvSpPr>
          <p:spPr>
            <a:xfrm>
              <a:off x="777240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WordArt 84"/>
            <p:cNvSpPr txBox="1"/>
            <p:nvPr/>
          </p:nvSpPr>
          <p:spPr>
            <a:xfrm>
              <a:off x="796788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7" name="Group 108"/>
          <p:cNvGrpSpPr/>
          <p:nvPr/>
        </p:nvGrpSpPr>
        <p:grpSpPr>
          <a:xfrm>
            <a:off x="7772400" y="2935440"/>
            <a:ext cx="917640" cy="834840"/>
            <a:chOff x="7772400" y="2935440"/>
            <a:chExt cx="917640" cy="834840"/>
          </a:xfrm>
        </p:grpSpPr>
        <p:sp>
          <p:nvSpPr>
            <p:cNvPr id="118" name="Rectangle 109"/>
            <p:cNvSpPr/>
            <p:nvPr/>
          </p:nvSpPr>
          <p:spPr>
            <a:xfrm>
              <a:off x="777240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WordArt 110"/>
            <p:cNvSpPr txBox="1"/>
            <p:nvPr/>
          </p:nvSpPr>
          <p:spPr>
            <a:xfrm>
              <a:off x="796788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0" name="Group 81"/>
          <p:cNvGrpSpPr/>
          <p:nvPr/>
        </p:nvGrpSpPr>
        <p:grpSpPr>
          <a:xfrm>
            <a:off x="7772400" y="4113360"/>
            <a:ext cx="917640" cy="834840"/>
            <a:chOff x="7772400" y="4113360"/>
            <a:chExt cx="917640" cy="834840"/>
          </a:xfrm>
        </p:grpSpPr>
        <p:sp>
          <p:nvSpPr>
            <p:cNvPr id="121" name="Rectangle 56"/>
            <p:cNvSpPr/>
            <p:nvPr/>
          </p:nvSpPr>
          <p:spPr>
            <a:xfrm>
              <a:off x="7772400" y="411336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WordArt 80"/>
            <p:cNvSpPr txBox="1"/>
            <p:nvPr/>
          </p:nvSpPr>
          <p:spPr>
            <a:xfrm>
              <a:off x="7967880" y="426240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3" name="Group 96"/>
          <p:cNvGrpSpPr/>
          <p:nvPr/>
        </p:nvGrpSpPr>
        <p:grpSpPr>
          <a:xfrm>
            <a:off x="7772400" y="4114800"/>
            <a:ext cx="917640" cy="835200"/>
            <a:chOff x="7772400" y="4114800"/>
            <a:chExt cx="917640" cy="835200"/>
          </a:xfrm>
        </p:grpSpPr>
        <p:sp>
          <p:nvSpPr>
            <p:cNvPr id="124" name="Rectangle 97"/>
            <p:cNvSpPr/>
            <p:nvPr/>
          </p:nvSpPr>
          <p:spPr>
            <a:xfrm>
              <a:off x="777240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WordArt 98"/>
            <p:cNvSpPr txBox="1"/>
            <p:nvPr/>
          </p:nvSpPr>
          <p:spPr>
            <a:xfrm>
              <a:off x="796788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6" name="Group 89"/>
          <p:cNvGrpSpPr/>
          <p:nvPr/>
        </p:nvGrpSpPr>
        <p:grpSpPr>
          <a:xfrm>
            <a:off x="7772400" y="5326200"/>
            <a:ext cx="917640" cy="834840"/>
            <a:chOff x="7772400" y="5326200"/>
            <a:chExt cx="917640" cy="834840"/>
          </a:xfrm>
        </p:grpSpPr>
        <p:sp>
          <p:nvSpPr>
            <p:cNvPr id="127" name="Rectangle 58"/>
            <p:cNvSpPr/>
            <p:nvPr/>
          </p:nvSpPr>
          <p:spPr>
            <a:xfrm>
              <a:off x="777240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WordArt 88"/>
            <p:cNvSpPr txBox="1"/>
            <p:nvPr/>
          </p:nvSpPr>
          <p:spPr>
            <a:xfrm>
              <a:off x="796788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9" name="Group 111"/>
          <p:cNvGrpSpPr/>
          <p:nvPr/>
        </p:nvGrpSpPr>
        <p:grpSpPr>
          <a:xfrm>
            <a:off x="7772400" y="5326200"/>
            <a:ext cx="917640" cy="834840"/>
            <a:chOff x="7772400" y="5326200"/>
            <a:chExt cx="917640" cy="834840"/>
          </a:xfrm>
        </p:grpSpPr>
        <p:sp>
          <p:nvSpPr>
            <p:cNvPr id="130" name="Rectangle 112"/>
            <p:cNvSpPr/>
            <p:nvPr/>
          </p:nvSpPr>
          <p:spPr>
            <a:xfrm>
              <a:off x="777240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WordArt 113"/>
            <p:cNvSpPr txBox="1"/>
            <p:nvPr/>
          </p:nvSpPr>
          <p:spPr>
            <a:xfrm>
              <a:off x="796788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32" name="AutoShape 139"/>
          <p:cNvSpPr/>
          <p:nvPr/>
        </p:nvSpPr>
        <p:spPr>
          <a:xfrm>
            <a:off x="6553080" y="5867280"/>
            <a:ext cx="838440" cy="60984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92" h="21600">
                <a:moveTo>
                  <a:pt x="0" y="0"/>
                </a:moveTo>
                <a:lnTo>
                  <a:pt x="29692" y="0"/>
                </a:lnTo>
                <a:lnTo>
                  <a:pt x="29692" y="21600"/>
                </a:lnTo>
                <a:lnTo>
                  <a:pt x="0" y="21600"/>
                </a:lnTo>
                <a:close/>
              </a:path>
              <a:path fill="lightenLess" w="29692" h="21600">
                <a:moveTo>
                  <a:pt x="0" y="0"/>
                </a:moveTo>
                <a:lnTo>
                  <a:pt x="29692" y="0"/>
                </a:lnTo>
                <a:lnTo>
                  <a:pt x="28292" y="1400"/>
                </a:lnTo>
                <a:lnTo>
                  <a:pt x="1400" y="1400"/>
                </a:lnTo>
                <a:close/>
              </a:path>
              <a:path fill="darken" w="29692" h="21600">
                <a:moveTo>
                  <a:pt x="29692" y="0"/>
                </a:moveTo>
                <a:lnTo>
                  <a:pt x="29692" y="21600"/>
                </a:lnTo>
                <a:lnTo>
                  <a:pt x="28292" y="20200"/>
                </a:lnTo>
                <a:lnTo>
                  <a:pt x="28292" y="1400"/>
                </a:lnTo>
                <a:close/>
              </a:path>
              <a:path fill="darkenLess" w="29692" h="21600">
                <a:moveTo>
                  <a:pt x="29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2" y="20200"/>
                </a:lnTo>
                <a:close/>
              </a:path>
              <a:path fill="lighten" w="29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2" h="21600">
                <a:moveTo>
                  <a:pt x="7840" y="8406"/>
                </a:moveTo>
                <a:lnTo>
                  <a:pt x="12270" y="8406"/>
                </a:lnTo>
                <a:lnTo>
                  <a:pt x="16691" y="3794"/>
                </a:lnTo>
                <a:lnTo>
                  <a:pt x="16691" y="17806"/>
                </a:lnTo>
                <a:lnTo>
                  <a:pt x="12270" y="13194"/>
                </a:lnTo>
                <a:lnTo>
                  <a:pt x="7840" y="13194"/>
                </a:lnTo>
                <a:close/>
              </a:path>
              <a:path fill="darken" w="29692" h="21600">
                <a:moveTo>
                  <a:pt x="18345" y="10800"/>
                </a:moveTo>
                <a:lnTo>
                  <a:pt x="21852" y="10800"/>
                </a:lnTo>
              </a:path>
              <a:path fill="darken" w="29692" h="21600">
                <a:moveTo>
                  <a:pt x="18345" y="8406"/>
                </a:moveTo>
                <a:lnTo>
                  <a:pt x="21852" y="5639"/>
                </a:lnTo>
              </a:path>
              <a:path fill="darken" w="29692" h="21600">
                <a:moveTo>
                  <a:pt x="18345" y="13194"/>
                </a:moveTo>
                <a:lnTo>
                  <a:pt x="21852" y="15961"/>
                </a:lnTo>
              </a:path>
            </a:pathLst>
          </a:custGeom>
          <a:solidFill>
            <a:srgbClr val="80a7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0"/>
          <p:cNvSpPr/>
          <p:nvPr/>
        </p:nvSpPr>
        <p:spPr>
          <a:xfrm>
            <a:off x="6553080" y="5900760"/>
            <a:ext cx="838440" cy="53352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3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9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3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3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3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3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3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3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3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9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1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1" dur="1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1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3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4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01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5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7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8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9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0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37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1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2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3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4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61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5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6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7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8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9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0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97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1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2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09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3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4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21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25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6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33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0%9B%D1%83%D0%BD%D0%BD%D1%8B%D0%B9%20%D0%B7%D0%B0%D0%B9%D1%87%D0%B8%D0%BA%203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33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5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7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4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5" descr="Ёжики"/>
          <p:cNvPicPr/>
          <p:nvPr/>
        </p:nvPicPr>
        <p:blipFill>
          <a:blip r:embed="rId2"/>
          <a:srcRect l="10254" t="6678" r="5371" b="2504"/>
          <a:stretch/>
        </p:blipFill>
        <p:spPr>
          <a:xfrm>
            <a:off x="2938320" y="838080"/>
            <a:ext cx="3265560" cy="1295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715000" y="5943600"/>
            <a:ext cx="574560" cy="60012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98"/>
          <p:cNvGrpSpPr/>
          <p:nvPr/>
        </p:nvGrpSpPr>
        <p:grpSpPr>
          <a:xfrm>
            <a:off x="460440" y="2935440"/>
            <a:ext cx="917640" cy="834840"/>
            <a:chOff x="460440" y="2935440"/>
            <a:chExt cx="917640" cy="834840"/>
          </a:xfrm>
        </p:grpSpPr>
        <p:sp>
          <p:nvSpPr>
            <p:cNvPr id="146" name="Rectangle 99"/>
            <p:cNvSpPr/>
            <p:nvPr/>
          </p:nvSpPr>
          <p:spPr>
            <a:xfrm>
              <a:off x="46044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WordArt 100"/>
            <p:cNvSpPr txBox="1"/>
            <p:nvPr/>
          </p:nvSpPr>
          <p:spPr>
            <a:xfrm>
              <a:off x="65592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8" name="Group 101"/>
          <p:cNvGrpSpPr/>
          <p:nvPr/>
        </p:nvGrpSpPr>
        <p:grpSpPr>
          <a:xfrm>
            <a:off x="7772400" y="4114800"/>
            <a:ext cx="917640" cy="835200"/>
            <a:chOff x="7772400" y="4114800"/>
            <a:chExt cx="917640" cy="835200"/>
          </a:xfrm>
        </p:grpSpPr>
        <p:sp>
          <p:nvSpPr>
            <p:cNvPr id="149" name="Rectangle 102"/>
            <p:cNvSpPr/>
            <p:nvPr/>
          </p:nvSpPr>
          <p:spPr>
            <a:xfrm>
              <a:off x="777240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WordArt 103"/>
            <p:cNvSpPr txBox="1"/>
            <p:nvPr/>
          </p:nvSpPr>
          <p:spPr>
            <a:xfrm>
              <a:off x="796788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1" name="Group 104"/>
          <p:cNvGrpSpPr/>
          <p:nvPr/>
        </p:nvGrpSpPr>
        <p:grpSpPr>
          <a:xfrm>
            <a:off x="7772400" y="2935440"/>
            <a:ext cx="917640" cy="834840"/>
            <a:chOff x="7772400" y="2935440"/>
            <a:chExt cx="917640" cy="834840"/>
          </a:xfrm>
        </p:grpSpPr>
        <p:sp>
          <p:nvSpPr>
            <p:cNvPr id="152" name="Rectangle 105"/>
            <p:cNvSpPr/>
            <p:nvPr/>
          </p:nvSpPr>
          <p:spPr>
            <a:xfrm>
              <a:off x="777240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WordArt 106"/>
            <p:cNvSpPr txBox="1"/>
            <p:nvPr/>
          </p:nvSpPr>
          <p:spPr>
            <a:xfrm>
              <a:off x="796788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4" name="Group 107"/>
          <p:cNvGrpSpPr/>
          <p:nvPr/>
        </p:nvGrpSpPr>
        <p:grpSpPr>
          <a:xfrm>
            <a:off x="7772400" y="1716120"/>
            <a:ext cx="917640" cy="834840"/>
            <a:chOff x="7772400" y="1716120"/>
            <a:chExt cx="917640" cy="834840"/>
          </a:xfrm>
        </p:grpSpPr>
        <p:sp>
          <p:nvSpPr>
            <p:cNvPr id="155" name="Rectangle 108"/>
            <p:cNvSpPr/>
            <p:nvPr/>
          </p:nvSpPr>
          <p:spPr>
            <a:xfrm>
              <a:off x="777240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WordArt 109"/>
            <p:cNvSpPr txBox="1"/>
            <p:nvPr/>
          </p:nvSpPr>
          <p:spPr>
            <a:xfrm>
              <a:off x="796788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7" name="Group 110"/>
          <p:cNvGrpSpPr/>
          <p:nvPr/>
        </p:nvGrpSpPr>
        <p:grpSpPr>
          <a:xfrm>
            <a:off x="7772400" y="5326200"/>
            <a:ext cx="917640" cy="834840"/>
            <a:chOff x="7772400" y="5326200"/>
            <a:chExt cx="917640" cy="834840"/>
          </a:xfrm>
        </p:grpSpPr>
        <p:sp>
          <p:nvSpPr>
            <p:cNvPr id="158" name="Rectangle 111"/>
            <p:cNvSpPr/>
            <p:nvPr/>
          </p:nvSpPr>
          <p:spPr>
            <a:xfrm>
              <a:off x="777240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WordArt 112"/>
            <p:cNvSpPr txBox="1"/>
            <p:nvPr/>
          </p:nvSpPr>
          <p:spPr>
            <a:xfrm>
              <a:off x="796788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0" name="Group 113"/>
          <p:cNvGrpSpPr/>
          <p:nvPr/>
        </p:nvGrpSpPr>
        <p:grpSpPr>
          <a:xfrm>
            <a:off x="460440" y="4113360"/>
            <a:ext cx="917640" cy="834840"/>
            <a:chOff x="460440" y="4113360"/>
            <a:chExt cx="917640" cy="834840"/>
          </a:xfrm>
        </p:grpSpPr>
        <p:sp>
          <p:nvSpPr>
            <p:cNvPr id="161" name="Rectangle 114"/>
            <p:cNvSpPr/>
            <p:nvPr/>
          </p:nvSpPr>
          <p:spPr>
            <a:xfrm>
              <a:off x="460440" y="411336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WordArt 115"/>
            <p:cNvSpPr txBox="1"/>
            <p:nvPr/>
          </p:nvSpPr>
          <p:spPr>
            <a:xfrm>
              <a:off x="655920" y="426240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3" name="Group 116"/>
          <p:cNvGrpSpPr/>
          <p:nvPr/>
        </p:nvGrpSpPr>
        <p:grpSpPr>
          <a:xfrm>
            <a:off x="460440" y="1716120"/>
            <a:ext cx="917640" cy="834840"/>
            <a:chOff x="460440" y="1716120"/>
            <a:chExt cx="917640" cy="834840"/>
          </a:xfrm>
        </p:grpSpPr>
        <p:sp>
          <p:nvSpPr>
            <p:cNvPr id="164" name="Rectangle 117"/>
            <p:cNvSpPr/>
            <p:nvPr/>
          </p:nvSpPr>
          <p:spPr>
            <a:xfrm>
              <a:off x="46044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WordArt 118"/>
            <p:cNvSpPr txBox="1"/>
            <p:nvPr/>
          </p:nvSpPr>
          <p:spPr>
            <a:xfrm>
              <a:off x="65592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6" name="Group 119"/>
          <p:cNvGrpSpPr/>
          <p:nvPr/>
        </p:nvGrpSpPr>
        <p:grpSpPr>
          <a:xfrm>
            <a:off x="460440" y="5326200"/>
            <a:ext cx="917640" cy="834840"/>
            <a:chOff x="460440" y="5326200"/>
            <a:chExt cx="917640" cy="834840"/>
          </a:xfrm>
        </p:grpSpPr>
        <p:sp>
          <p:nvSpPr>
            <p:cNvPr id="167" name="Rectangle 120"/>
            <p:cNvSpPr/>
            <p:nvPr/>
          </p:nvSpPr>
          <p:spPr>
            <a:xfrm>
              <a:off x="46044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WordArt 121"/>
            <p:cNvSpPr txBox="1"/>
            <p:nvPr/>
          </p:nvSpPr>
          <p:spPr>
            <a:xfrm>
              <a:off x="65592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9" name="Group 62"/>
          <p:cNvGrpSpPr/>
          <p:nvPr/>
        </p:nvGrpSpPr>
        <p:grpSpPr>
          <a:xfrm>
            <a:off x="460440" y="1716120"/>
            <a:ext cx="917640" cy="834840"/>
            <a:chOff x="460440" y="1716120"/>
            <a:chExt cx="917640" cy="834840"/>
          </a:xfrm>
        </p:grpSpPr>
        <p:sp>
          <p:nvSpPr>
            <p:cNvPr id="170" name="Rectangle 63"/>
            <p:cNvSpPr/>
            <p:nvPr/>
          </p:nvSpPr>
          <p:spPr>
            <a:xfrm>
              <a:off x="46044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WordArt 64"/>
            <p:cNvSpPr txBox="1"/>
            <p:nvPr/>
          </p:nvSpPr>
          <p:spPr>
            <a:xfrm>
              <a:off x="65592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72" name="Group 83"/>
          <p:cNvGrpSpPr/>
          <p:nvPr/>
        </p:nvGrpSpPr>
        <p:grpSpPr>
          <a:xfrm>
            <a:off x="460440" y="1716120"/>
            <a:ext cx="917640" cy="834840"/>
            <a:chOff x="460440" y="1716120"/>
            <a:chExt cx="917640" cy="834840"/>
          </a:xfrm>
        </p:grpSpPr>
        <p:sp>
          <p:nvSpPr>
            <p:cNvPr id="173" name="Rectangle 84"/>
            <p:cNvSpPr/>
            <p:nvPr/>
          </p:nvSpPr>
          <p:spPr>
            <a:xfrm>
              <a:off x="46044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WordArt 85"/>
            <p:cNvSpPr txBox="1"/>
            <p:nvPr/>
          </p:nvSpPr>
          <p:spPr>
            <a:xfrm>
              <a:off x="65592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75" name="Group 68"/>
          <p:cNvGrpSpPr/>
          <p:nvPr/>
        </p:nvGrpSpPr>
        <p:grpSpPr>
          <a:xfrm>
            <a:off x="460440" y="2935440"/>
            <a:ext cx="917640" cy="834840"/>
            <a:chOff x="460440" y="2935440"/>
            <a:chExt cx="917640" cy="834840"/>
          </a:xfrm>
        </p:grpSpPr>
        <p:sp>
          <p:nvSpPr>
            <p:cNvPr id="176" name="Rectangle 69"/>
            <p:cNvSpPr/>
            <p:nvPr/>
          </p:nvSpPr>
          <p:spPr>
            <a:xfrm>
              <a:off x="46044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WordArt 70"/>
            <p:cNvSpPr txBox="1"/>
            <p:nvPr/>
          </p:nvSpPr>
          <p:spPr>
            <a:xfrm>
              <a:off x="65592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78" name="Group 89"/>
          <p:cNvGrpSpPr/>
          <p:nvPr/>
        </p:nvGrpSpPr>
        <p:grpSpPr>
          <a:xfrm>
            <a:off x="460440" y="2935440"/>
            <a:ext cx="917640" cy="834840"/>
            <a:chOff x="460440" y="2935440"/>
            <a:chExt cx="917640" cy="834840"/>
          </a:xfrm>
        </p:grpSpPr>
        <p:sp>
          <p:nvSpPr>
            <p:cNvPr id="179" name="Rectangle 90"/>
            <p:cNvSpPr/>
            <p:nvPr/>
          </p:nvSpPr>
          <p:spPr>
            <a:xfrm>
              <a:off x="46044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WordArt 91"/>
            <p:cNvSpPr txBox="1"/>
            <p:nvPr/>
          </p:nvSpPr>
          <p:spPr>
            <a:xfrm>
              <a:off x="65592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1" name="Group 56"/>
          <p:cNvGrpSpPr/>
          <p:nvPr/>
        </p:nvGrpSpPr>
        <p:grpSpPr>
          <a:xfrm>
            <a:off x="460440" y="4114800"/>
            <a:ext cx="917640" cy="835200"/>
            <a:chOff x="460440" y="4114800"/>
            <a:chExt cx="917640" cy="835200"/>
          </a:xfrm>
        </p:grpSpPr>
        <p:sp>
          <p:nvSpPr>
            <p:cNvPr id="182" name="Rectangle 57"/>
            <p:cNvSpPr/>
            <p:nvPr/>
          </p:nvSpPr>
          <p:spPr>
            <a:xfrm>
              <a:off x="46044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WordArt 58"/>
            <p:cNvSpPr txBox="1"/>
            <p:nvPr/>
          </p:nvSpPr>
          <p:spPr>
            <a:xfrm>
              <a:off x="65592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4" name="Group 77"/>
          <p:cNvGrpSpPr/>
          <p:nvPr/>
        </p:nvGrpSpPr>
        <p:grpSpPr>
          <a:xfrm>
            <a:off x="460440" y="4114800"/>
            <a:ext cx="917640" cy="835200"/>
            <a:chOff x="460440" y="4114800"/>
            <a:chExt cx="917640" cy="835200"/>
          </a:xfrm>
        </p:grpSpPr>
        <p:sp>
          <p:nvSpPr>
            <p:cNvPr id="185" name="Rectangle 78"/>
            <p:cNvSpPr/>
            <p:nvPr/>
          </p:nvSpPr>
          <p:spPr>
            <a:xfrm>
              <a:off x="46044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WordArt 79"/>
            <p:cNvSpPr txBox="1"/>
            <p:nvPr/>
          </p:nvSpPr>
          <p:spPr>
            <a:xfrm>
              <a:off x="65592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7" name="Group 71"/>
          <p:cNvGrpSpPr/>
          <p:nvPr/>
        </p:nvGrpSpPr>
        <p:grpSpPr>
          <a:xfrm>
            <a:off x="460440" y="5326200"/>
            <a:ext cx="917640" cy="834840"/>
            <a:chOff x="460440" y="5326200"/>
            <a:chExt cx="917640" cy="834840"/>
          </a:xfrm>
        </p:grpSpPr>
        <p:sp>
          <p:nvSpPr>
            <p:cNvPr id="188" name="Rectangle 72"/>
            <p:cNvSpPr/>
            <p:nvPr/>
          </p:nvSpPr>
          <p:spPr>
            <a:xfrm>
              <a:off x="46044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WordArt 73"/>
            <p:cNvSpPr txBox="1"/>
            <p:nvPr/>
          </p:nvSpPr>
          <p:spPr>
            <a:xfrm>
              <a:off x="65592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0" name="Group 92"/>
          <p:cNvGrpSpPr/>
          <p:nvPr/>
        </p:nvGrpSpPr>
        <p:grpSpPr>
          <a:xfrm>
            <a:off x="460440" y="5326200"/>
            <a:ext cx="917640" cy="834840"/>
            <a:chOff x="460440" y="5326200"/>
            <a:chExt cx="917640" cy="834840"/>
          </a:xfrm>
        </p:grpSpPr>
        <p:sp>
          <p:nvSpPr>
            <p:cNvPr id="191" name="Rectangle 93"/>
            <p:cNvSpPr/>
            <p:nvPr/>
          </p:nvSpPr>
          <p:spPr>
            <a:xfrm>
              <a:off x="46044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WordArt 94"/>
            <p:cNvSpPr txBox="1"/>
            <p:nvPr/>
          </p:nvSpPr>
          <p:spPr>
            <a:xfrm>
              <a:off x="65592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3" name="Group 65"/>
          <p:cNvGrpSpPr/>
          <p:nvPr/>
        </p:nvGrpSpPr>
        <p:grpSpPr>
          <a:xfrm>
            <a:off x="7772400" y="1716120"/>
            <a:ext cx="917640" cy="834840"/>
            <a:chOff x="7772400" y="1716120"/>
            <a:chExt cx="917640" cy="834840"/>
          </a:xfrm>
        </p:grpSpPr>
        <p:sp>
          <p:nvSpPr>
            <p:cNvPr id="194" name="Rectangle 66"/>
            <p:cNvSpPr/>
            <p:nvPr/>
          </p:nvSpPr>
          <p:spPr>
            <a:xfrm>
              <a:off x="777240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WordArt 67"/>
            <p:cNvSpPr txBox="1"/>
            <p:nvPr/>
          </p:nvSpPr>
          <p:spPr>
            <a:xfrm>
              <a:off x="796788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6" name="Group 86"/>
          <p:cNvGrpSpPr/>
          <p:nvPr/>
        </p:nvGrpSpPr>
        <p:grpSpPr>
          <a:xfrm>
            <a:off x="7772400" y="1716120"/>
            <a:ext cx="917640" cy="834840"/>
            <a:chOff x="7772400" y="1716120"/>
            <a:chExt cx="917640" cy="834840"/>
          </a:xfrm>
        </p:grpSpPr>
        <p:sp>
          <p:nvSpPr>
            <p:cNvPr id="197" name="Rectangle 87"/>
            <p:cNvSpPr/>
            <p:nvPr/>
          </p:nvSpPr>
          <p:spPr>
            <a:xfrm>
              <a:off x="777240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WordArt 88"/>
            <p:cNvSpPr txBox="1"/>
            <p:nvPr/>
          </p:nvSpPr>
          <p:spPr>
            <a:xfrm>
              <a:off x="796788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9" name="Group 53"/>
          <p:cNvGrpSpPr/>
          <p:nvPr/>
        </p:nvGrpSpPr>
        <p:grpSpPr>
          <a:xfrm>
            <a:off x="7772400" y="2935440"/>
            <a:ext cx="917640" cy="834840"/>
            <a:chOff x="7772400" y="2935440"/>
            <a:chExt cx="917640" cy="834840"/>
          </a:xfrm>
        </p:grpSpPr>
        <p:sp>
          <p:nvSpPr>
            <p:cNvPr id="200" name="Rectangle 54"/>
            <p:cNvSpPr/>
            <p:nvPr/>
          </p:nvSpPr>
          <p:spPr>
            <a:xfrm>
              <a:off x="777240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WordArt 55"/>
            <p:cNvSpPr txBox="1"/>
            <p:nvPr/>
          </p:nvSpPr>
          <p:spPr>
            <a:xfrm>
              <a:off x="796788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02" name="Group 74"/>
          <p:cNvGrpSpPr/>
          <p:nvPr/>
        </p:nvGrpSpPr>
        <p:grpSpPr>
          <a:xfrm>
            <a:off x="7772400" y="4114800"/>
            <a:ext cx="917640" cy="835200"/>
            <a:chOff x="7772400" y="4114800"/>
            <a:chExt cx="917640" cy="835200"/>
          </a:xfrm>
        </p:grpSpPr>
        <p:sp>
          <p:nvSpPr>
            <p:cNvPr id="203" name="Rectangle 75"/>
            <p:cNvSpPr/>
            <p:nvPr/>
          </p:nvSpPr>
          <p:spPr>
            <a:xfrm>
              <a:off x="777240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WordArt 76"/>
            <p:cNvSpPr txBox="1"/>
            <p:nvPr/>
          </p:nvSpPr>
          <p:spPr>
            <a:xfrm>
              <a:off x="796788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05" name="Group 95"/>
          <p:cNvGrpSpPr/>
          <p:nvPr/>
        </p:nvGrpSpPr>
        <p:grpSpPr>
          <a:xfrm>
            <a:off x="7772400" y="4114800"/>
            <a:ext cx="917640" cy="835200"/>
            <a:chOff x="7772400" y="4114800"/>
            <a:chExt cx="917640" cy="835200"/>
          </a:xfrm>
        </p:grpSpPr>
        <p:sp>
          <p:nvSpPr>
            <p:cNvPr id="206" name="Rectangle 96"/>
            <p:cNvSpPr/>
            <p:nvPr/>
          </p:nvSpPr>
          <p:spPr>
            <a:xfrm>
              <a:off x="777240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WordArt 97"/>
            <p:cNvSpPr txBox="1"/>
            <p:nvPr/>
          </p:nvSpPr>
          <p:spPr>
            <a:xfrm>
              <a:off x="796788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08" name="Group 59"/>
          <p:cNvGrpSpPr/>
          <p:nvPr/>
        </p:nvGrpSpPr>
        <p:grpSpPr>
          <a:xfrm>
            <a:off x="7772400" y="5326200"/>
            <a:ext cx="917640" cy="834840"/>
            <a:chOff x="7772400" y="5326200"/>
            <a:chExt cx="917640" cy="834840"/>
          </a:xfrm>
        </p:grpSpPr>
        <p:sp>
          <p:nvSpPr>
            <p:cNvPr id="209" name="Rectangle 60"/>
            <p:cNvSpPr/>
            <p:nvPr/>
          </p:nvSpPr>
          <p:spPr>
            <a:xfrm>
              <a:off x="777240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WordArt 61"/>
            <p:cNvSpPr txBox="1"/>
            <p:nvPr/>
          </p:nvSpPr>
          <p:spPr>
            <a:xfrm>
              <a:off x="796788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1" name="Group 80"/>
          <p:cNvGrpSpPr/>
          <p:nvPr/>
        </p:nvGrpSpPr>
        <p:grpSpPr>
          <a:xfrm>
            <a:off x="7772400" y="5326200"/>
            <a:ext cx="917640" cy="834840"/>
            <a:chOff x="7772400" y="5326200"/>
            <a:chExt cx="917640" cy="834840"/>
          </a:xfrm>
        </p:grpSpPr>
        <p:sp>
          <p:nvSpPr>
            <p:cNvPr id="212" name="Rectangle 81"/>
            <p:cNvSpPr/>
            <p:nvPr/>
          </p:nvSpPr>
          <p:spPr>
            <a:xfrm>
              <a:off x="777240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WordArt 82"/>
            <p:cNvSpPr txBox="1"/>
            <p:nvPr/>
          </p:nvSpPr>
          <p:spPr>
            <a:xfrm>
              <a:off x="796788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14" name="AutoShape 122"/>
          <p:cNvSpPr/>
          <p:nvPr/>
        </p:nvSpPr>
        <p:spPr>
          <a:xfrm>
            <a:off x="6553080" y="5867280"/>
            <a:ext cx="838440" cy="60984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92" h="21600">
                <a:moveTo>
                  <a:pt x="0" y="0"/>
                </a:moveTo>
                <a:lnTo>
                  <a:pt x="29692" y="0"/>
                </a:lnTo>
                <a:lnTo>
                  <a:pt x="29692" y="21600"/>
                </a:lnTo>
                <a:lnTo>
                  <a:pt x="0" y="21600"/>
                </a:lnTo>
                <a:close/>
              </a:path>
              <a:path fill="lightenLess" w="29692" h="21600">
                <a:moveTo>
                  <a:pt x="0" y="0"/>
                </a:moveTo>
                <a:lnTo>
                  <a:pt x="29692" y="0"/>
                </a:lnTo>
                <a:lnTo>
                  <a:pt x="28292" y="1400"/>
                </a:lnTo>
                <a:lnTo>
                  <a:pt x="1400" y="1400"/>
                </a:lnTo>
                <a:close/>
              </a:path>
              <a:path fill="darken" w="29692" h="21600">
                <a:moveTo>
                  <a:pt x="29692" y="0"/>
                </a:moveTo>
                <a:lnTo>
                  <a:pt x="29692" y="21600"/>
                </a:lnTo>
                <a:lnTo>
                  <a:pt x="28292" y="20200"/>
                </a:lnTo>
                <a:lnTo>
                  <a:pt x="28292" y="1400"/>
                </a:lnTo>
                <a:close/>
              </a:path>
              <a:path fill="darkenLess" w="29692" h="21600">
                <a:moveTo>
                  <a:pt x="29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2" y="20200"/>
                </a:lnTo>
                <a:close/>
              </a:path>
              <a:path fill="lighten" w="29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2" h="21600">
                <a:moveTo>
                  <a:pt x="7840" y="8406"/>
                </a:moveTo>
                <a:lnTo>
                  <a:pt x="12270" y="8406"/>
                </a:lnTo>
                <a:lnTo>
                  <a:pt x="16691" y="3794"/>
                </a:lnTo>
                <a:lnTo>
                  <a:pt x="16691" y="17806"/>
                </a:lnTo>
                <a:lnTo>
                  <a:pt x="12270" y="13194"/>
                </a:lnTo>
                <a:lnTo>
                  <a:pt x="7840" y="13194"/>
                </a:lnTo>
                <a:close/>
              </a:path>
              <a:path fill="darken" w="29692" h="21600">
                <a:moveTo>
                  <a:pt x="18345" y="10800"/>
                </a:moveTo>
                <a:lnTo>
                  <a:pt x="21852" y="10800"/>
                </a:lnTo>
              </a:path>
              <a:path fill="darken" w="29692" h="21600">
                <a:moveTo>
                  <a:pt x="18345" y="8406"/>
                </a:moveTo>
                <a:lnTo>
                  <a:pt x="21852" y="5639"/>
                </a:lnTo>
              </a:path>
              <a:path fill="darken" w="29692" h="21600">
                <a:moveTo>
                  <a:pt x="18345" y="13194"/>
                </a:moveTo>
                <a:lnTo>
                  <a:pt x="21852" y="15961"/>
                </a:lnTo>
              </a:path>
            </a:pathLst>
          </a:custGeom>
          <a:solidFill>
            <a:srgbClr val="80a7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23"/>
          <p:cNvSpPr/>
          <p:nvPr/>
        </p:nvSpPr>
        <p:spPr>
          <a:xfrm>
            <a:off x="6553080" y="5900760"/>
            <a:ext cx="838440" cy="53352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46" dur="indefinite" restart="never" nodeType="tmRoot">
          <p:childTnLst>
            <p:seq>
              <p:cTn id="347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48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3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5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61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3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74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3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87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3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9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400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3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413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3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26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3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3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3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49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3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4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61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4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5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6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47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7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8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485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8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89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0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97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1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01" dur="1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2" dur="1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509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2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3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4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521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5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6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533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6" dur="1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37" dur="1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38" dur="1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45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9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0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557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0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61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2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569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73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4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81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4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85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6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93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97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05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8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09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0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617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0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21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629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0%9B%D1%83%D0%BD%D0%BD%D1%8B%D0%B9%20%D0%B7%D0%B0%D0%B9%D1%87%D0%B8%D0%BA%203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3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63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8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7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9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1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3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4" descr="Ёжики"/>
          <p:cNvPicPr/>
          <p:nvPr/>
        </p:nvPicPr>
        <p:blipFill>
          <a:blip r:embed="rId2"/>
          <a:srcRect l="10254" t="6678" r="5371" b="2504"/>
          <a:stretch/>
        </p:blipFill>
        <p:spPr>
          <a:xfrm>
            <a:off x="2938320" y="838080"/>
            <a:ext cx="3265560" cy="1295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58000" y="4800600"/>
            <a:ext cx="574560" cy="600120"/>
          </a:xfrm>
          <a:prstGeom prst="rect">
            <a:avLst/>
          </a:prstGeom>
          <a:ln w="0">
            <a:noFill/>
          </a:ln>
        </p:spPr>
      </p:pic>
      <p:grpSp>
        <p:nvGrpSpPr>
          <p:cNvPr id="227" name="Group 91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228" name="Rectangle 92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WordArt 93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30" name="Group 94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231" name="Rectangle 95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WordArt 96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33" name="Group 97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234" name="Rectangle 98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WordArt 99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36" name="Group 100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237" name="Rectangle 101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WordArt 102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39" name="Group 103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240" name="Rectangle 104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WordArt 105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42" name="Group 106"/>
          <p:cNvGrpSpPr/>
          <p:nvPr/>
        </p:nvGrpSpPr>
        <p:grpSpPr>
          <a:xfrm>
            <a:off x="3576600" y="5599080"/>
            <a:ext cx="917640" cy="835200"/>
            <a:chOff x="3576600" y="5599080"/>
            <a:chExt cx="917640" cy="835200"/>
          </a:xfrm>
        </p:grpSpPr>
        <p:sp>
          <p:nvSpPr>
            <p:cNvPr id="243" name="Rectangle 107"/>
            <p:cNvSpPr/>
            <p:nvPr/>
          </p:nvSpPr>
          <p:spPr>
            <a:xfrm>
              <a:off x="35766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WordArt 108"/>
            <p:cNvSpPr txBox="1"/>
            <p:nvPr/>
          </p:nvSpPr>
          <p:spPr>
            <a:xfrm>
              <a:off x="37720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45" name="Group 109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246" name="Rectangle 110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WordArt 111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48" name="Group 112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249" name="Rectangle 113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WordArt 114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51" name="Group 49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252" name="Rectangle 50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WordArt 51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54" name="Group 70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255" name="Rectangle 71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WordArt 72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57" name="Group 58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258" name="Rectangle 59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WordArt 60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60" name="Group 79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261" name="Rectangle 80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WordArt 81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63" name="Group 61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264" name="Rectangle 62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WordArt 63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66" name="Group 82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267" name="Rectangle 83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WordArt 84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69" name="Group 55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270" name="Rectangle 56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WordArt 57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72" name="Group 76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273" name="Rectangle 77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WordArt 78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75" name="Group 52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276" name="Rectangle 53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WordArt 54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78" name="Group 73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279" name="Rectangle 74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WordArt 75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1" name="Group 67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282" name="Rectangle 68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WordArt 69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4" name="Group 88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285" name="Rectangle 89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WordArt 90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7" name="Group 46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288" name="Rectangle 47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WordArt 48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90" name="Group 64"/>
          <p:cNvGrpSpPr/>
          <p:nvPr/>
        </p:nvGrpSpPr>
        <p:grpSpPr>
          <a:xfrm>
            <a:off x="3591000" y="5599080"/>
            <a:ext cx="917640" cy="835200"/>
            <a:chOff x="3591000" y="5599080"/>
            <a:chExt cx="917640" cy="835200"/>
          </a:xfrm>
        </p:grpSpPr>
        <p:sp>
          <p:nvSpPr>
            <p:cNvPr id="291" name="Rectangle 65"/>
            <p:cNvSpPr/>
            <p:nvPr/>
          </p:nvSpPr>
          <p:spPr>
            <a:xfrm>
              <a:off x="3591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WordArt 66"/>
            <p:cNvSpPr txBox="1"/>
            <p:nvPr/>
          </p:nvSpPr>
          <p:spPr>
            <a:xfrm>
              <a:off x="3786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93" name="Group 85"/>
          <p:cNvGrpSpPr/>
          <p:nvPr/>
        </p:nvGrpSpPr>
        <p:grpSpPr>
          <a:xfrm>
            <a:off x="3591000" y="5599080"/>
            <a:ext cx="917640" cy="835200"/>
            <a:chOff x="3591000" y="5599080"/>
            <a:chExt cx="917640" cy="835200"/>
          </a:xfrm>
        </p:grpSpPr>
        <p:sp>
          <p:nvSpPr>
            <p:cNvPr id="294" name="Rectangle 86"/>
            <p:cNvSpPr/>
            <p:nvPr/>
          </p:nvSpPr>
          <p:spPr>
            <a:xfrm>
              <a:off x="3591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WordArt 87"/>
            <p:cNvSpPr txBox="1"/>
            <p:nvPr/>
          </p:nvSpPr>
          <p:spPr>
            <a:xfrm>
              <a:off x="3786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96" name="AutoShape 115"/>
          <p:cNvSpPr/>
          <p:nvPr/>
        </p:nvSpPr>
        <p:spPr>
          <a:xfrm>
            <a:off x="7772400" y="4876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8406"/>
                </a:moveTo>
                <a:lnTo>
                  <a:pt x="12272" y="8406"/>
                </a:lnTo>
                <a:lnTo>
                  <a:pt x="16694" y="3794"/>
                </a:lnTo>
                <a:lnTo>
                  <a:pt x="16694" y="17806"/>
                </a:lnTo>
                <a:lnTo>
                  <a:pt x="12272" y="13194"/>
                </a:lnTo>
                <a:lnTo>
                  <a:pt x="7842" y="13194"/>
                </a:lnTo>
                <a:close/>
              </a:path>
              <a:path fill="darken" w="29697" h="21600">
                <a:moveTo>
                  <a:pt x="18347" y="10800"/>
                </a:moveTo>
                <a:lnTo>
                  <a:pt x="21855" y="10800"/>
                </a:lnTo>
              </a:path>
              <a:path fill="darken" w="29697" h="21600">
                <a:moveTo>
                  <a:pt x="18347" y="8406"/>
                </a:moveTo>
                <a:lnTo>
                  <a:pt x="21855" y="5639"/>
                </a:lnTo>
              </a:path>
              <a:path fill="darken" w="29697" h="21600">
                <a:moveTo>
                  <a:pt x="18347" y="13194"/>
                </a:moveTo>
                <a:lnTo>
                  <a:pt x="21855" y="15961"/>
                </a:lnTo>
              </a:path>
            </a:pathLst>
          </a:custGeom>
          <a:solidFill>
            <a:srgbClr val="80a7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6"/>
          <p:cNvSpPr/>
          <p:nvPr/>
        </p:nvSpPr>
        <p:spPr>
          <a:xfrm>
            <a:off x="7772400" y="4910040"/>
            <a:ext cx="838080" cy="53352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42" dur="indefinite" restart="never" nodeType="tmRoot">
          <p:childTnLst>
            <p:seq>
              <p:cTn id="643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644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7" dur="3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5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657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0" dur="3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3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670" nodeType="clickEffect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3" dur="3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3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683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6" dur="3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9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696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9" dur="3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70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8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709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2" dur="3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71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722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3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3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7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4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735" nodeType="clickEffect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8" dur="3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3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745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8" dur="1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49" dur="1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0" dur="1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757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61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2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8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769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2" dur="1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73" dur="1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4" dur="1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0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781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4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85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793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6" dur="1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97" dur="1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8" dur="1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4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805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8" dur="1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9" dur="1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1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817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0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21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2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829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2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33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0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841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4" dur="1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45" dur="1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6" dur="1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6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57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865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8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69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0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877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0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81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2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889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2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93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4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0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901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4" dur="1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05" dur="1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6" dur="1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2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913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6" dur="1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17" dur="1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8" dur="1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4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925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0%9B%D1%83%D0%BD%D0%BD%D1%8B%D0%B9%20%D0%B7%D0%B0%D0%B9%D1%87%D0%B8%D0%BA%203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28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929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3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6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6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2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3" descr="Ёжики"/>
          <p:cNvPicPr/>
          <p:nvPr/>
        </p:nvPicPr>
        <p:blipFill>
          <a:blip r:embed="rId2"/>
          <a:srcRect l="10254" t="6678" r="5371" b="2504"/>
          <a:stretch/>
        </p:blipFill>
        <p:spPr>
          <a:xfrm>
            <a:off x="2938320" y="838080"/>
            <a:ext cx="3265560" cy="12956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84720" y="4800600"/>
            <a:ext cx="574560" cy="600120"/>
          </a:xfrm>
          <a:prstGeom prst="rect">
            <a:avLst/>
          </a:prstGeom>
          <a:ln w="0">
            <a:noFill/>
          </a:ln>
        </p:spPr>
      </p:pic>
      <p:grpSp>
        <p:nvGrpSpPr>
          <p:cNvPr id="309" name="Group 90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310" name="Rectangle 91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WordArt 92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2" name="Group 93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313" name="Rectangle 94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WordArt 95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5" name="Group 96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316" name="Rectangle 97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WordArt 98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8" name="Group 99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319" name="Rectangle 100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WordArt 101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1" name="Group 102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322" name="Rectangle 103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WordArt 104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4" name="Group 105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325" name="Rectangle 106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WordArt 107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7" name="Group 108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328" name="Rectangle 109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WordArt 110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30" name="Group 111"/>
          <p:cNvGrpSpPr/>
          <p:nvPr/>
        </p:nvGrpSpPr>
        <p:grpSpPr>
          <a:xfrm>
            <a:off x="3576600" y="5599080"/>
            <a:ext cx="917640" cy="835200"/>
            <a:chOff x="3576600" y="5599080"/>
            <a:chExt cx="917640" cy="835200"/>
          </a:xfrm>
        </p:grpSpPr>
        <p:sp>
          <p:nvSpPr>
            <p:cNvPr id="331" name="Rectangle 112"/>
            <p:cNvSpPr/>
            <p:nvPr/>
          </p:nvSpPr>
          <p:spPr>
            <a:xfrm>
              <a:off x="35766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WordArt 113"/>
            <p:cNvSpPr txBox="1"/>
            <p:nvPr/>
          </p:nvSpPr>
          <p:spPr>
            <a:xfrm>
              <a:off x="37720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33" name="Group 60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334" name="Rectangle 61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WordArt 62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36" name="Group 81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337" name="Rectangle 82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WordArt 83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39" name="Group 63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340" name="Rectangle 64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WordArt 65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42" name="Group 84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343" name="Rectangle 85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WordArt 86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45" name="Group 51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346" name="Rectangle 52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WordArt 53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48" name="Group 72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349" name="Rectangle 73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WordArt 74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51" name="Group 66"/>
          <p:cNvGrpSpPr/>
          <p:nvPr/>
        </p:nvGrpSpPr>
        <p:grpSpPr>
          <a:xfrm>
            <a:off x="3576600" y="5599080"/>
            <a:ext cx="917640" cy="835200"/>
            <a:chOff x="3576600" y="5599080"/>
            <a:chExt cx="917640" cy="835200"/>
          </a:xfrm>
        </p:grpSpPr>
        <p:sp>
          <p:nvSpPr>
            <p:cNvPr id="352" name="Rectangle 67"/>
            <p:cNvSpPr/>
            <p:nvPr/>
          </p:nvSpPr>
          <p:spPr>
            <a:xfrm>
              <a:off x="35766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WordArt 68"/>
            <p:cNvSpPr txBox="1"/>
            <p:nvPr/>
          </p:nvSpPr>
          <p:spPr>
            <a:xfrm>
              <a:off x="37720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54" name="Group 87"/>
          <p:cNvGrpSpPr/>
          <p:nvPr/>
        </p:nvGrpSpPr>
        <p:grpSpPr>
          <a:xfrm>
            <a:off x="3576600" y="5599080"/>
            <a:ext cx="917640" cy="835200"/>
            <a:chOff x="3576600" y="5599080"/>
            <a:chExt cx="917640" cy="835200"/>
          </a:xfrm>
        </p:grpSpPr>
        <p:sp>
          <p:nvSpPr>
            <p:cNvPr id="355" name="Rectangle 88"/>
            <p:cNvSpPr/>
            <p:nvPr/>
          </p:nvSpPr>
          <p:spPr>
            <a:xfrm>
              <a:off x="35766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WordArt 89"/>
            <p:cNvSpPr txBox="1"/>
            <p:nvPr/>
          </p:nvSpPr>
          <p:spPr>
            <a:xfrm>
              <a:off x="37720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57" name="Group 57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358" name="Rectangle 58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WordArt 59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60" name="Group 78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361" name="Rectangle 79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WordArt 80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63" name="Group 48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364" name="Rectangle 49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WordArt 50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66" name="Group 69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367" name="Rectangle 70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WordArt 71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69" name="Group 54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370" name="Rectangle 55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WordArt 56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72" name="Group 75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373" name="Rectangle 76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WordArt 77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75" name="Group 45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376" name="Rectangle 46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WordArt 47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78" name="AutoShape 114"/>
          <p:cNvSpPr/>
          <p:nvPr/>
        </p:nvSpPr>
        <p:spPr>
          <a:xfrm>
            <a:off x="7772400" y="4876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8406"/>
                </a:moveTo>
                <a:lnTo>
                  <a:pt x="12272" y="8406"/>
                </a:lnTo>
                <a:lnTo>
                  <a:pt x="16694" y="3794"/>
                </a:lnTo>
                <a:lnTo>
                  <a:pt x="16694" y="17806"/>
                </a:lnTo>
                <a:lnTo>
                  <a:pt x="12272" y="13194"/>
                </a:lnTo>
                <a:lnTo>
                  <a:pt x="7842" y="13194"/>
                </a:lnTo>
                <a:close/>
              </a:path>
              <a:path fill="darken" w="29697" h="21600">
                <a:moveTo>
                  <a:pt x="18347" y="10800"/>
                </a:moveTo>
                <a:lnTo>
                  <a:pt x="21855" y="10800"/>
                </a:lnTo>
              </a:path>
              <a:path fill="darken" w="29697" h="21600">
                <a:moveTo>
                  <a:pt x="18347" y="8406"/>
                </a:moveTo>
                <a:lnTo>
                  <a:pt x="21855" y="5639"/>
                </a:lnTo>
              </a:path>
              <a:path fill="darken" w="29697" h="21600">
                <a:moveTo>
                  <a:pt x="18347" y="13194"/>
                </a:moveTo>
                <a:lnTo>
                  <a:pt x="21855" y="15961"/>
                </a:lnTo>
              </a:path>
            </a:pathLst>
          </a:custGeom>
          <a:solidFill>
            <a:srgbClr val="80a7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15"/>
          <p:cNvSpPr/>
          <p:nvPr/>
        </p:nvSpPr>
        <p:spPr>
          <a:xfrm>
            <a:off x="7772400" y="4910040"/>
            <a:ext cx="838080" cy="53352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38" dur="indefinite" restart="never" nodeType="tmRoot">
          <p:childTnLst>
            <p:seq>
              <p:cTn id="939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940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3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3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953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6" dur="3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6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5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966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9" dur="3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3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7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8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979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2" dur="3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3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8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1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992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5" dur="3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3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00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4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005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8" dur="3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3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01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7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1018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1" dur="3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3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02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1031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4" dur="3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3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0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041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4" dur="1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45" dur="1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6" dur="1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2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053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6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57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4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065" nodeType="clickEffect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8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69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0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6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1077" nodeType="clickEffect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0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81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2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8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1089" nodeType="clickEffect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2" dur="1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93" dur="1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94" dur="1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0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101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4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05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6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2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1113" nodeType="clickEffect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6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17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18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4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125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8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29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0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6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137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0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41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2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8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1149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2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53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4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0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1161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4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65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66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1173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1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77" dur="1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1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4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1185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8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89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0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6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197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01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2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8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1209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2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13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14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0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1221" nodeType="clickEffect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0%9B%D1%83%D0%BD%D0%BD%D1%8B%D0%B9%20%D0%B7%D0%B0%D0%B9%D1%87%D0%B8%D0%BA%203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24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1225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9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3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5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9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1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3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5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6" descr="Ёжики"/>
          <p:cNvPicPr/>
          <p:nvPr/>
        </p:nvPicPr>
        <p:blipFill>
          <a:blip r:embed="rId2"/>
          <a:srcRect l="10254" t="6678" r="5371" b="2504"/>
          <a:stretch/>
        </p:blipFill>
        <p:spPr>
          <a:xfrm>
            <a:off x="2938320" y="838080"/>
            <a:ext cx="3265560" cy="1295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84720" y="4800600"/>
            <a:ext cx="574560" cy="600120"/>
          </a:xfrm>
          <a:prstGeom prst="rect">
            <a:avLst/>
          </a:prstGeom>
          <a:ln w="0">
            <a:noFill/>
          </a:ln>
        </p:spPr>
      </p:pic>
      <p:grpSp>
        <p:nvGrpSpPr>
          <p:cNvPr id="391" name="Group 91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392" name="Rectangle 92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WordArt 93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4" name="Group 94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395" name="Rectangle 95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WordArt 96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7" name="Group 97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398" name="Rectangle 98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WordArt 99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0" name="Group 100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401" name="Rectangle 101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WordArt 102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3" name="Group 103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404" name="Rectangle 104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WordArt 105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6" name="Group 106"/>
          <p:cNvGrpSpPr/>
          <p:nvPr/>
        </p:nvGrpSpPr>
        <p:grpSpPr>
          <a:xfrm>
            <a:off x="3576600" y="5599080"/>
            <a:ext cx="917640" cy="835200"/>
            <a:chOff x="3576600" y="5599080"/>
            <a:chExt cx="917640" cy="835200"/>
          </a:xfrm>
        </p:grpSpPr>
        <p:sp>
          <p:nvSpPr>
            <p:cNvPr id="407" name="Rectangle 107"/>
            <p:cNvSpPr/>
            <p:nvPr/>
          </p:nvSpPr>
          <p:spPr>
            <a:xfrm>
              <a:off x="35766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WordArt 108"/>
            <p:cNvSpPr txBox="1"/>
            <p:nvPr/>
          </p:nvSpPr>
          <p:spPr>
            <a:xfrm>
              <a:off x="37720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9" name="Group 109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410" name="Rectangle 110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WordArt 111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12" name="Group 112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413" name="Rectangle 113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WordArt 114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15" name="Group 52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416" name="Rectangle 53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WordArt 54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18" name="Group 73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419" name="Rectangle 74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WordArt 75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21" name="Group 64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422" name="Rectangle 65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WordArt 66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24" name="Group 85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425" name="Rectangle 86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WordArt 87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27" name="Group 58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428" name="Rectangle 59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WordArt 60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30" name="Group 79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431" name="Rectangle 80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WordArt 81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33" name="Group 46"/>
          <p:cNvGrpSpPr/>
          <p:nvPr/>
        </p:nvGrpSpPr>
        <p:grpSpPr>
          <a:xfrm>
            <a:off x="3576600" y="5599080"/>
            <a:ext cx="917640" cy="835200"/>
            <a:chOff x="3576600" y="5599080"/>
            <a:chExt cx="917640" cy="835200"/>
          </a:xfrm>
        </p:grpSpPr>
        <p:sp>
          <p:nvSpPr>
            <p:cNvPr id="434" name="Rectangle 47"/>
            <p:cNvSpPr/>
            <p:nvPr/>
          </p:nvSpPr>
          <p:spPr>
            <a:xfrm>
              <a:off x="35766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WordArt 48"/>
            <p:cNvSpPr txBox="1"/>
            <p:nvPr/>
          </p:nvSpPr>
          <p:spPr>
            <a:xfrm>
              <a:off x="37720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36" name="Group 67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437" name="Rectangle 68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WordArt 69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39" name="Group 88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440" name="Rectangle 89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WordArt 90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42" name="Group 61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443" name="Rectangle 62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WordArt 63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45" name="Group 82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446" name="Rectangle 83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WordArt 84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48" name="Group 55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449" name="Rectangle 56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WordArt 57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51" name="Group 76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452" name="Rectangle 77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WordArt 78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54" name="Group 49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455" name="Rectangle 50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WordArt 51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57" name="Group 70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458" name="Rectangle 71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WordArt 72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60" name="AutoShape 115"/>
          <p:cNvSpPr/>
          <p:nvPr/>
        </p:nvSpPr>
        <p:spPr>
          <a:xfrm>
            <a:off x="7772400" y="4876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8406"/>
                </a:moveTo>
                <a:lnTo>
                  <a:pt x="12272" y="8406"/>
                </a:lnTo>
                <a:lnTo>
                  <a:pt x="16694" y="3794"/>
                </a:lnTo>
                <a:lnTo>
                  <a:pt x="16694" y="17806"/>
                </a:lnTo>
                <a:lnTo>
                  <a:pt x="12272" y="13194"/>
                </a:lnTo>
                <a:lnTo>
                  <a:pt x="7842" y="13194"/>
                </a:lnTo>
                <a:close/>
              </a:path>
              <a:path fill="darken" w="29697" h="21600">
                <a:moveTo>
                  <a:pt x="18347" y="10800"/>
                </a:moveTo>
                <a:lnTo>
                  <a:pt x="21855" y="10800"/>
                </a:lnTo>
              </a:path>
              <a:path fill="darken" w="29697" h="21600">
                <a:moveTo>
                  <a:pt x="18347" y="8406"/>
                </a:moveTo>
                <a:lnTo>
                  <a:pt x="21855" y="5639"/>
                </a:lnTo>
              </a:path>
              <a:path fill="darken" w="29697" h="21600">
                <a:moveTo>
                  <a:pt x="18347" y="13194"/>
                </a:moveTo>
                <a:lnTo>
                  <a:pt x="21855" y="15961"/>
                </a:lnTo>
              </a:path>
            </a:pathLst>
          </a:custGeom>
          <a:solidFill>
            <a:srgbClr val="80a7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16"/>
          <p:cNvSpPr/>
          <p:nvPr/>
        </p:nvSpPr>
        <p:spPr>
          <a:xfrm>
            <a:off x="7772400" y="4910040"/>
            <a:ext cx="838080" cy="53352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234" dur="indefinite" restart="never" nodeType="tmRoot">
          <p:childTnLst>
            <p:seq>
              <p:cTn id="1235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1236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9" dur="3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3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4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8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1249" nodeType="clickEffect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2" dur="3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3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5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1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1262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5" dur="3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3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7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4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1275" nodeType="clickEffect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8" dur="30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30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8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1288" nodeType="clickEffect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1" dur="3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3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9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0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1301" nodeType="clickEffect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4" dur="3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3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1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3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314" nodeType="clickEffect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7" dur="3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3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2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6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27" nodeType="clickEffect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0" dur="3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3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6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337" nodeType="clickEffect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0" dur="1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41" dur="1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2" dur="1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8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1349" nodeType="clickEffect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2" dur="1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53" dur="1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54" dur="1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0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1361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1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65" dur="1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6" dur="1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2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1373" nodeType="clickEffect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6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77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8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385" nodeType="clickEffect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1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89" dur="1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0" dur="1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6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397" nodeType="clickEffect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0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01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02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1409" nodeType="clickEffect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1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13" dur="1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4" dur="1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0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1421" nodeType="clickEffect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4" dur="1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25" dur="1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6" dur="1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2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1433" nodeType="clickEffect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1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37" dur="1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38" dur="1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4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1445" nodeType="clickEffect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8" dur="1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49" dur="1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50" dur="1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6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1457" nodeType="clickEffect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0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61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2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8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1469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2" dur="1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3" dur="1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4" dur="1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0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1481" nodeType="clickEffect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4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85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6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2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1493" nodeType="clickEffect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6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97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8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4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1505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8" dur="1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09" dur="1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0" dur="1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6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517" nodeType="clickEffect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0%9B%D1%83%D0%BD%D0%BD%D1%8B%D0%B9%20%D0%B7%D0%B0%D0%B9%D1%87%D0%B8%D0%BA%203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20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1521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2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6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8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0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2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4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8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0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2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23" descr="Ёжики"/>
          <p:cNvPicPr/>
          <p:nvPr/>
        </p:nvPicPr>
        <p:blipFill>
          <a:blip r:embed="rId2"/>
          <a:srcRect l="10254" t="6678" r="5371" b="2504"/>
          <a:stretch/>
        </p:blipFill>
        <p:spPr>
          <a:xfrm>
            <a:off x="2938320" y="838080"/>
            <a:ext cx="3265560" cy="12956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84720" y="4800600"/>
            <a:ext cx="574560" cy="600120"/>
          </a:xfrm>
          <a:prstGeom prst="rect">
            <a:avLst/>
          </a:prstGeom>
          <a:ln w="0">
            <a:noFill/>
          </a:ln>
        </p:spPr>
      </p:pic>
      <p:grpSp>
        <p:nvGrpSpPr>
          <p:cNvPr id="473" name="Group 100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474" name="Rectangle 101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WordArt 102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76" name="Group 103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477" name="Rectangle 104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WordArt 105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79" name="Group 106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480" name="Rectangle 107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WordArt 108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2" name="Group 109"/>
          <p:cNvGrpSpPr/>
          <p:nvPr/>
        </p:nvGrpSpPr>
        <p:grpSpPr>
          <a:xfrm>
            <a:off x="3576600" y="5599080"/>
            <a:ext cx="917640" cy="835200"/>
            <a:chOff x="3576600" y="5599080"/>
            <a:chExt cx="917640" cy="835200"/>
          </a:xfrm>
        </p:grpSpPr>
        <p:sp>
          <p:nvSpPr>
            <p:cNvPr id="483" name="Rectangle 110"/>
            <p:cNvSpPr/>
            <p:nvPr/>
          </p:nvSpPr>
          <p:spPr>
            <a:xfrm>
              <a:off x="35766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WordArt 111"/>
            <p:cNvSpPr txBox="1"/>
            <p:nvPr/>
          </p:nvSpPr>
          <p:spPr>
            <a:xfrm>
              <a:off x="37720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5" name="Group 112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486" name="Rectangle 113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WordArt 114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8" name="Group 115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489" name="Rectangle 116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WordArt 117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1" name="Group 118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492" name="Rectangle 119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WordArt 120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4" name="Group 121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495" name="Rectangle 122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WordArt 123"/>
            <p:cNvSpPr txBox="1"/>
            <p:nvPr/>
          </p:nvSpPr>
          <p:spPr>
            <a:xfrm>
              <a:off x="807084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7" name="Group 46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498" name="Rectangle 47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WordArt 48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00" name="Group 79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501" name="Rectangle 80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WordArt 81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03" name="Group 67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504" name="Rectangle 68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WordArt 69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06" name="Group 88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507" name="Rectangle 89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WordArt 90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09" name="Group 73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510" name="Rectangle 74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WordArt 75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12" name="Group 94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513" name="Rectangle 95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WordArt 96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15" name="Group 43"/>
          <p:cNvGrpSpPr/>
          <p:nvPr/>
        </p:nvGrpSpPr>
        <p:grpSpPr>
          <a:xfrm>
            <a:off x="3576600" y="5599080"/>
            <a:ext cx="917640" cy="835200"/>
            <a:chOff x="3576600" y="5599080"/>
            <a:chExt cx="917640" cy="835200"/>
          </a:xfrm>
        </p:grpSpPr>
        <p:sp>
          <p:nvSpPr>
            <p:cNvPr id="516" name="Rectangle 44"/>
            <p:cNvSpPr/>
            <p:nvPr/>
          </p:nvSpPr>
          <p:spPr>
            <a:xfrm>
              <a:off x="35766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WordArt 45"/>
            <p:cNvSpPr txBox="1"/>
            <p:nvPr/>
          </p:nvSpPr>
          <p:spPr>
            <a:xfrm>
              <a:off x="37720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18" name="Group 70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519" name="Rectangle 71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WordArt 72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1" name="Group 91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522" name="Rectangle 92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WordArt 93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4" name="Group 76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525" name="Rectangle 77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WordArt 78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7" name="Group 97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528" name="Rectangle 98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WordArt 99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30" name="Group 64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531" name="Rectangle 65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WordArt 66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33" name="Group 85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534" name="Rectangle 86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WordArt 87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36" name="Group 49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537" name="Rectangle 50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WordArt 51"/>
            <p:cNvSpPr txBox="1"/>
            <p:nvPr/>
          </p:nvSpPr>
          <p:spPr>
            <a:xfrm>
              <a:off x="807084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39" name="Group 82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540" name="Rectangle 83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WordArt 84"/>
            <p:cNvSpPr txBox="1"/>
            <p:nvPr/>
          </p:nvSpPr>
          <p:spPr>
            <a:xfrm>
              <a:off x="807084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42" name="AutoShape 124"/>
          <p:cNvSpPr/>
          <p:nvPr/>
        </p:nvSpPr>
        <p:spPr>
          <a:xfrm>
            <a:off x="7772400" y="4876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8406"/>
                </a:moveTo>
                <a:lnTo>
                  <a:pt x="12272" y="8406"/>
                </a:lnTo>
                <a:lnTo>
                  <a:pt x="16694" y="3794"/>
                </a:lnTo>
                <a:lnTo>
                  <a:pt x="16694" y="17806"/>
                </a:lnTo>
                <a:lnTo>
                  <a:pt x="12272" y="13194"/>
                </a:lnTo>
                <a:lnTo>
                  <a:pt x="7842" y="13194"/>
                </a:lnTo>
                <a:close/>
              </a:path>
              <a:path fill="darken" w="29697" h="21600">
                <a:moveTo>
                  <a:pt x="18347" y="10800"/>
                </a:moveTo>
                <a:lnTo>
                  <a:pt x="21855" y="10800"/>
                </a:lnTo>
              </a:path>
              <a:path fill="darken" w="29697" h="21600">
                <a:moveTo>
                  <a:pt x="18347" y="8406"/>
                </a:moveTo>
                <a:lnTo>
                  <a:pt x="21855" y="5639"/>
                </a:lnTo>
              </a:path>
              <a:path fill="darken" w="29697" h="21600">
                <a:moveTo>
                  <a:pt x="18347" y="13194"/>
                </a:moveTo>
                <a:lnTo>
                  <a:pt x="21855" y="15961"/>
                </a:lnTo>
              </a:path>
            </a:pathLst>
          </a:custGeom>
          <a:solidFill>
            <a:srgbClr val="80a7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25"/>
          <p:cNvSpPr/>
          <p:nvPr/>
        </p:nvSpPr>
        <p:spPr>
          <a:xfrm>
            <a:off x="7772400" y="4910040"/>
            <a:ext cx="838080" cy="53352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530" dur="indefinite" restart="never" nodeType="tmRoot">
          <p:childTnLst>
            <p:seq>
              <p:cTn id="1531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1532" nodeType="clickEffect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5" dur="30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30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0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4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4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1545" nodeType="clickEffect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8" dur="30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30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5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7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1558" nodeType="clickEffect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1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1" dur="3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3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6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0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1571" nodeType="clickEffect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1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4" dur="30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30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9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8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3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1584" nodeType="clickEffect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1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7" dur="30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30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2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9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6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1597" nodeType="clickEffect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0" dur="3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3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5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0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9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1610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3" dur="30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30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2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2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1623" nodeType="clickEffect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6" dur="30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30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2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1633" nodeType="clickEffect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6" dur="1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37" dur="1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8" dur="1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4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645" nodeType="clickEffect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8" dur="1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49" dur="1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0" dur="1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6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657" nodeType="clickEffect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0" dur="1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61" dur="1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2" dur="1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8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1669" nodeType="clickEffect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2" dur="1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73" dur="1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74" dur="1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0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1681" nodeType="clickEffect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1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4" dur="1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85" dur="1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6" dur="1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2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1693" nodeType="clickEffect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6" dur="1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97" dur="1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98" dur="1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4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1705" nodeType="clickEffect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8" dur="1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09" dur="1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0" dur="1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6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1717" nodeType="clickEffect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1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0" dur="1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21" dur="1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22" dur="1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8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729" nodeType="clickEffect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2" dur="1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33" dur="1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4" dur="1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0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1741" nodeType="clickEffect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4" dur="1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45" dur="1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46" dur="1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2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1753" nodeType="clickEffect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1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6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57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8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4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1765" nodeType="clickEffect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8" dur="1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69" dur="1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70" dur="1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6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1777" nodeType="clickEffect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1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0" dur="1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81" dur="1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2" dur="1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8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1789" nodeType="clickEffect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2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93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4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0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1801" nodeType="clickEffect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4" dur="1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05" dur="1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6" dur="1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2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1813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0%9B%D1%83%D0%BD%D0%BD%D1%8B%D0%B9%20%D0%B7%D0%B0%D0%B9%D1%87%D0%B8%D0%BA%203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16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1817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1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6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8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0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2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4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6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8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3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32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3" descr="Ёжики"/>
          <p:cNvPicPr/>
          <p:nvPr/>
        </p:nvPicPr>
        <p:blipFill>
          <a:blip r:embed="rId2"/>
          <a:srcRect l="10254" t="6678" r="5371" b="2504"/>
          <a:stretch/>
        </p:blipFill>
        <p:spPr>
          <a:xfrm>
            <a:off x="2938320" y="838080"/>
            <a:ext cx="3265560" cy="12956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00200" y="4876920"/>
            <a:ext cx="574560" cy="600120"/>
          </a:xfrm>
          <a:prstGeom prst="rect">
            <a:avLst/>
          </a:prstGeom>
          <a:ln w="0">
            <a:noFill/>
          </a:ln>
        </p:spPr>
      </p:pic>
      <p:grpSp>
        <p:nvGrpSpPr>
          <p:cNvPr id="555" name="Group 90"/>
          <p:cNvGrpSpPr/>
          <p:nvPr/>
        </p:nvGrpSpPr>
        <p:grpSpPr>
          <a:xfrm>
            <a:off x="7765920" y="3281400"/>
            <a:ext cx="917640" cy="834840"/>
            <a:chOff x="7765920" y="3281400"/>
            <a:chExt cx="917640" cy="834840"/>
          </a:xfrm>
        </p:grpSpPr>
        <p:sp>
          <p:nvSpPr>
            <p:cNvPr id="556" name="Rectangle 91"/>
            <p:cNvSpPr/>
            <p:nvPr/>
          </p:nvSpPr>
          <p:spPr>
            <a:xfrm>
              <a:off x="7765920" y="32814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WordArt 92"/>
            <p:cNvSpPr txBox="1"/>
            <p:nvPr/>
          </p:nvSpPr>
          <p:spPr>
            <a:xfrm>
              <a:off x="8070840" y="343332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58" name="Group 93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559" name="Rectangle 94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WordArt 95"/>
            <p:cNvSpPr txBox="1"/>
            <p:nvPr/>
          </p:nvSpPr>
          <p:spPr>
            <a:xfrm>
              <a:off x="807084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61" name="Group 45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562" name="Rectangle 46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WordArt 47"/>
            <p:cNvSpPr txBox="1"/>
            <p:nvPr/>
          </p:nvSpPr>
          <p:spPr>
            <a:xfrm>
              <a:off x="807084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64" name="Group 96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565" name="Rectangle 97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WordArt 98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67" name="Group 99"/>
          <p:cNvGrpSpPr/>
          <p:nvPr/>
        </p:nvGrpSpPr>
        <p:grpSpPr>
          <a:xfrm>
            <a:off x="460440" y="3400560"/>
            <a:ext cx="917640" cy="834840"/>
            <a:chOff x="460440" y="3400560"/>
            <a:chExt cx="917640" cy="834840"/>
          </a:xfrm>
        </p:grpSpPr>
        <p:sp>
          <p:nvSpPr>
            <p:cNvPr id="568" name="Rectangle 100"/>
            <p:cNvSpPr/>
            <p:nvPr/>
          </p:nvSpPr>
          <p:spPr>
            <a:xfrm>
              <a:off x="460440" y="340056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WordArt 101"/>
            <p:cNvSpPr txBox="1"/>
            <p:nvPr/>
          </p:nvSpPr>
          <p:spPr>
            <a:xfrm>
              <a:off x="655920" y="354960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70" name="Group 102"/>
          <p:cNvGrpSpPr/>
          <p:nvPr/>
        </p:nvGrpSpPr>
        <p:grpSpPr>
          <a:xfrm>
            <a:off x="7765920" y="4454640"/>
            <a:ext cx="917640" cy="834840"/>
            <a:chOff x="7765920" y="4454640"/>
            <a:chExt cx="917640" cy="834840"/>
          </a:xfrm>
        </p:grpSpPr>
        <p:sp>
          <p:nvSpPr>
            <p:cNvPr id="571" name="Rectangle 103"/>
            <p:cNvSpPr/>
            <p:nvPr/>
          </p:nvSpPr>
          <p:spPr>
            <a:xfrm>
              <a:off x="7765920" y="44546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WordArt 104"/>
            <p:cNvSpPr txBox="1"/>
            <p:nvPr/>
          </p:nvSpPr>
          <p:spPr>
            <a:xfrm>
              <a:off x="7961400" y="46036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73" name="Group 105"/>
          <p:cNvGrpSpPr/>
          <p:nvPr/>
        </p:nvGrpSpPr>
        <p:grpSpPr>
          <a:xfrm>
            <a:off x="460440" y="4468680"/>
            <a:ext cx="917640" cy="835200"/>
            <a:chOff x="460440" y="4468680"/>
            <a:chExt cx="917640" cy="835200"/>
          </a:xfrm>
        </p:grpSpPr>
        <p:sp>
          <p:nvSpPr>
            <p:cNvPr id="574" name="Rectangle 106"/>
            <p:cNvSpPr/>
            <p:nvPr/>
          </p:nvSpPr>
          <p:spPr>
            <a:xfrm>
              <a:off x="460440" y="44686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WordArt 107"/>
            <p:cNvSpPr txBox="1"/>
            <p:nvPr/>
          </p:nvSpPr>
          <p:spPr>
            <a:xfrm>
              <a:off x="655920" y="46180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76" name="Group 108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577" name="Rectangle 109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WordArt 110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79" name="Group 111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580" name="Rectangle 112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WordArt 113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2" name="Group 66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583" name="Rectangle 67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WordArt 68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5" name="Group 87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586" name="Rectangle 88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WordArt 89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8" name="Group 57"/>
          <p:cNvGrpSpPr/>
          <p:nvPr/>
        </p:nvGrpSpPr>
        <p:grpSpPr>
          <a:xfrm>
            <a:off x="7765920" y="4454640"/>
            <a:ext cx="917640" cy="834840"/>
            <a:chOff x="7765920" y="4454640"/>
            <a:chExt cx="917640" cy="834840"/>
          </a:xfrm>
        </p:grpSpPr>
        <p:sp>
          <p:nvSpPr>
            <p:cNvPr id="589" name="Rectangle 58"/>
            <p:cNvSpPr/>
            <p:nvPr/>
          </p:nvSpPr>
          <p:spPr>
            <a:xfrm>
              <a:off x="7765920" y="44546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WordArt 59"/>
            <p:cNvSpPr txBox="1"/>
            <p:nvPr/>
          </p:nvSpPr>
          <p:spPr>
            <a:xfrm>
              <a:off x="7961400" y="46036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1" name="Group 78"/>
          <p:cNvGrpSpPr/>
          <p:nvPr/>
        </p:nvGrpSpPr>
        <p:grpSpPr>
          <a:xfrm>
            <a:off x="7765920" y="4454640"/>
            <a:ext cx="917640" cy="834840"/>
            <a:chOff x="7765920" y="4454640"/>
            <a:chExt cx="917640" cy="834840"/>
          </a:xfrm>
        </p:grpSpPr>
        <p:sp>
          <p:nvSpPr>
            <p:cNvPr id="592" name="Rectangle 79"/>
            <p:cNvSpPr/>
            <p:nvPr/>
          </p:nvSpPr>
          <p:spPr>
            <a:xfrm>
              <a:off x="7765920" y="44546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WordArt 80"/>
            <p:cNvSpPr txBox="1"/>
            <p:nvPr/>
          </p:nvSpPr>
          <p:spPr>
            <a:xfrm>
              <a:off x="7961400" y="46036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4" name="Group 54"/>
          <p:cNvGrpSpPr/>
          <p:nvPr/>
        </p:nvGrpSpPr>
        <p:grpSpPr>
          <a:xfrm>
            <a:off x="7765920" y="3281400"/>
            <a:ext cx="917640" cy="834840"/>
            <a:chOff x="7765920" y="3281400"/>
            <a:chExt cx="917640" cy="834840"/>
          </a:xfrm>
        </p:grpSpPr>
        <p:sp>
          <p:nvSpPr>
            <p:cNvPr id="595" name="Rectangle 55"/>
            <p:cNvSpPr/>
            <p:nvPr/>
          </p:nvSpPr>
          <p:spPr>
            <a:xfrm>
              <a:off x="7765920" y="32814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WordArt 56"/>
            <p:cNvSpPr txBox="1"/>
            <p:nvPr/>
          </p:nvSpPr>
          <p:spPr>
            <a:xfrm>
              <a:off x="8070840" y="343332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7" name="Group 75"/>
          <p:cNvGrpSpPr/>
          <p:nvPr/>
        </p:nvGrpSpPr>
        <p:grpSpPr>
          <a:xfrm>
            <a:off x="7765920" y="3281400"/>
            <a:ext cx="917640" cy="834840"/>
            <a:chOff x="7765920" y="3281400"/>
            <a:chExt cx="917640" cy="834840"/>
          </a:xfrm>
        </p:grpSpPr>
        <p:sp>
          <p:nvSpPr>
            <p:cNvPr id="598" name="Rectangle 76"/>
            <p:cNvSpPr/>
            <p:nvPr/>
          </p:nvSpPr>
          <p:spPr>
            <a:xfrm>
              <a:off x="7765920" y="32814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WordArt 77"/>
            <p:cNvSpPr txBox="1"/>
            <p:nvPr/>
          </p:nvSpPr>
          <p:spPr>
            <a:xfrm>
              <a:off x="8070840" y="343332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00" name="Group 51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601" name="Rectangle 52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WordArt 53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03" name="Group 72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604" name="Rectangle 73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WordArt 74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06" name="Group 60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607" name="Rectangle 61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WordArt 62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09" name="Group 81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610" name="Rectangle 82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WordArt 83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2" name="Group 63"/>
          <p:cNvGrpSpPr/>
          <p:nvPr/>
        </p:nvGrpSpPr>
        <p:grpSpPr>
          <a:xfrm>
            <a:off x="460440" y="4468680"/>
            <a:ext cx="917640" cy="835200"/>
            <a:chOff x="460440" y="4468680"/>
            <a:chExt cx="917640" cy="835200"/>
          </a:xfrm>
        </p:grpSpPr>
        <p:sp>
          <p:nvSpPr>
            <p:cNvPr id="613" name="Rectangle 64"/>
            <p:cNvSpPr/>
            <p:nvPr/>
          </p:nvSpPr>
          <p:spPr>
            <a:xfrm>
              <a:off x="460440" y="44686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WordArt 65"/>
            <p:cNvSpPr txBox="1"/>
            <p:nvPr/>
          </p:nvSpPr>
          <p:spPr>
            <a:xfrm>
              <a:off x="655920" y="46180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5" name="Group 84"/>
          <p:cNvGrpSpPr/>
          <p:nvPr/>
        </p:nvGrpSpPr>
        <p:grpSpPr>
          <a:xfrm>
            <a:off x="460440" y="4468680"/>
            <a:ext cx="917640" cy="835200"/>
            <a:chOff x="460440" y="4468680"/>
            <a:chExt cx="917640" cy="835200"/>
          </a:xfrm>
        </p:grpSpPr>
        <p:sp>
          <p:nvSpPr>
            <p:cNvPr id="616" name="Rectangle 85"/>
            <p:cNvSpPr/>
            <p:nvPr/>
          </p:nvSpPr>
          <p:spPr>
            <a:xfrm>
              <a:off x="460440" y="44686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WordArt 86"/>
            <p:cNvSpPr txBox="1"/>
            <p:nvPr/>
          </p:nvSpPr>
          <p:spPr>
            <a:xfrm>
              <a:off x="655920" y="46180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8" name="Group 48"/>
          <p:cNvGrpSpPr/>
          <p:nvPr/>
        </p:nvGrpSpPr>
        <p:grpSpPr>
          <a:xfrm>
            <a:off x="460440" y="3400560"/>
            <a:ext cx="917640" cy="834840"/>
            <a:chOff x="460440" y="3400560"/>
            <a:chExt cx="917640" cy="834840"/>
          </a:xfrm>
        </p:grpSpPr>
        <p:sp>
          <p:nvSpPr>
            <p:cNvPr id="619" name="Rectangle 49"/>
            <p:cNvSpPr/>
            <p:nvPr/>
          </p:nvSpPr>
          <p:spPr>
            <a:xfrm>
              <a:off x="460440" y="340056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WordArt 50"/>
            <p:cNvSpPr txBox="1"/>
            <p:nvPr/>
          </p:nvSpPr>
          <p:spPr>
            <a:xfrm>
              <a:off x="655920" y="354960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21" name="Group 69"/>
          <p:cNvGrpSpPr/>
          <p:nvPr/>
        </p:nvGrpSpPr>
        <p:grpSpPr>
          <a:xfrm>
            <a:off x="460440" y="3400560"/>
            <a:ext cx="917640" cy="834840"/>
            <a:chOff x="460440" y="3400560"/>
            <a:chExt cx="917640" cy="834840"/>
          </a:xfrm>
        </p:grpSpPr>
        <p:sp>
          <p:nvSpPr>
            <p:cNvPr id="622" name="Rectangle 70"/>
            <p:cNvSpPr/>
            <p:nvPr/>
          </p:nvSpPr>
          <p:spPr>
            <a:xfrm>
              <a:off x="460440" y="340056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WordArt 71"/>
            <p:cNvSpPr txBox="1"/>
            <p:nvPr/>
          </p:nvSpPr>
          <p:spPr>
            <a:xfrm>
              <a:off x="655920" y="354960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24" name="AutoShape 114"/>
          <p:cNvSpPr/>
          <p:nvPr/>
        </p:nvSpPr>
        <p:spPr>
          <a:xfrm>
            <a:off x="6705720" y="491976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8406"/>
                </a:moveTo>
                <a:lnTo>
                  <a:pt x="12272" y="8406"/>
                </a:lnTo>
                <a:lnTo>
                  <a:pt x="16694" y="3794"/>
                </a:lnTo>
                <a:lnTo>
                  <a:pt x="16694" y="17806"/>
                </a:lnTo>
                <a:lnTo>
                  <a:pt x="12272" y="13194"/>
                </a:lnTo>
                <a:lnTo>
                  <a:pt x="7842" y="13194"/>
                </a:lnTo>
                <a:close/>
              </a:path>
              <a:path fill="darken" w="29697" h="21600">
                <a:moveTo>
                  <a:pt x="18347" y="10800"/>
                </a:moveTo>
                <a:lnTo>
                  <a:pt x="21855" y="10800"/>
                </a:lnTo>
              </a:path>
              <a:path fill="darken" w="29697" h="21600">
                <a:moveTo>
                  <a:pt x="18347" y="8406"/>
                </a:moveTo>
                <a:lnTo>
                  <a:pt x="21855" y="5639"/>
                </a:lnTo>
              </a:path>
              <a:path fill="darken" w="29697" h="21600">
                <a:moveTo>
                  <a:pt x="18347" y="13194"/>
                </a:moveTo>
                <a:lnTo>
                  <a:pt x="21855" y="15961"/>
                </a:lnTo>
              </a:path>
            </a:pathLst>
          </a:custGeom>
          <a:solidFill>
            <a:srgbClr val="80a7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15"/>
          <p:cNvSpPr/>
          <p:nvPr/>
        </p:nvSpPr>
        <p:spPr>
          <a:xfrm>
            <a:off x="6705720" y="4952880"/>
            <a:ext cx="838080" cy="53352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826" dur="indefinite" restart="never" nodeType="tmRoot">
          <p:childTnLst>
            <p:seq>
              <p:cTn id="1827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828" nodeType="clickEffect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1" dur="3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3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6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3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0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1841" nodeType="clickEffect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1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4" dur="3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3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4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5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3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1854" nodeType="clickEffect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1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7" dur="30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30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2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6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6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867" nodeType="clickEffect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0" dur="3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3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5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7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9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1880" nodeType="clickEffect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3" dur="30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30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8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9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2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1893" nodeType="clickEffect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6" dur="3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3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01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90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5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1906" nodeType="clickEffect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1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9" dur="30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30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4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91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8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919" nodeType="clickEffect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2" dur="3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3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8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1929" nodeType="clickEffect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2" dur="1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33" dur="1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4" dur="1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0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1941" nodeType="clickEffect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4" dur="1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45" dur="1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46" dur="1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2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1953" nodeType="clickEffect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1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6" dur="1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57" dur="1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58" dur="1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4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1965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1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8" dur="1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69" dur="1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70" dur="1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6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1977" nodeType="clickEffect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1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0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81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82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8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1989" nodeType="clickEffect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1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2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93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94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0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2001" nodeType="clickEffect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2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4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05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06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2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2013" nodeType="clickEffect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2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6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17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18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4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2025" nodeType="clickEffect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2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8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29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30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6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2037" nodeType="clickEffect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2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0" dur="1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41" dur="1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2" dur="1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8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2049" nodeType="clickEffect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2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2" dur="1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53" dur="1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54" dur="1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0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2061" nodeType="clickEffect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2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4" dur="1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65" dur="1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66" dur="1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2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2073" nodeType="clickEffect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2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6" dur="1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77" dur="1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8" dur="1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4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2085" nodeType="clickEffect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2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8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89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9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6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2097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2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0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01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2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8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2109" nodeType="clickEffect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2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0%9B%D1%83%D0%BD%D0%BD%D1%8B%D0%B9%20%D0%B7%D0%B0%D0%B9%D1%87%D0%B8%D0%BA%203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12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2113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1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nodeType="clickEffect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2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2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уряк мария Викторовна</dc:creator>
  <dc:description/>
  <cp:keywords>Тренажёр</cp:keywords>
  <dc:language>en-US</dc:language>
  <cp:lastModifiedBy>Наташа</cp:lastModifiedBy>
  <dcterms:modified xsi:type="dcterms:W3CDTF">2015-01-25T12:14:25Z</dcterms:modified>
  <cp:revision>90</cp:revision>
  <dc:subject>Тренажёр</dc:subject>
  <dc:title>В сказочном лес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