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%D0%9B%D1%83%D0%BD%D0%BD%D1%8B%D0%B9%20%D0%B7%D0%B0%D0%B9%D1%87%D0%B8%D0%BA%203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04D-D49E-4340-9F39-B6527032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1FB-E858-45DC-ACB3-41CC8D1E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CC6-2865-4FE6-8EED-DFDB6D84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C0C-8463-4220-97AC-BB33EDA2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DBC-17D6-4D49-BE53-9033A87A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174-3AD7-46EB-9363-D8C11C7D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0D4-53F8-4A53-9070-4EC6F44A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6AC-ED24-4B98-96EF-7419D683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766-8A2C-4443-8C06-FC58A9B9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85C-FABC-45B8-A8B9-E7B6C707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243-10A7-4E85-83C7-4D9D493C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1A1-8167-42D8-ADEB-0EE3C24F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5BD2-D4E6-4841-B16C-6D9667819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stat15.privet.ru/lr/0904b8c8403468218e567ba806d5c2fd" TargetMode="External"/><Relationship Id="rId3" Type="http://schemas.openxmlformats.org/officeDocument/2006/relationships/hyperlink" Target="http://s39.radikal.ru/i086/0905/c1/f81c43918ea3.jpg" TargetMode="External"/><Relationship Id="rId4" Type="http://schemas.openxmlformats.org/officeDocument/2006/relationships/hyperlink" Target="http://bms.24open.ru/images/3b964177d28fa6e27645e8c525918675" TargetMode="External"/><Relationship Id="rId5" Type="http://schemas.openxmlformats.org/officeDocument/2006/relationships/hyperlink" Target="http://forum.materinstvo.ru/uploads/1220366601/post-32828-1220389944_thumb.png" TargetMode="External"/><Relationship Id="rId6" Type="http://schemas.openxmlformats.org/officeDocument/2006/relationships/hyperlink" Target="http://video.m3x.org/i/data/002/02795/screen2.jpg" TargetMode="External"/><Relationship Id="rId7" Type="http://schemas.openxmlformats.org/officeDocument/2006/relationships/hyperlink" Target="http://www.photoshop-master.ru/adds/psd_template2654.jpg" TargetMode="External"/><Relationship Id="rId8" Type="http://schemas.openxmlformats.org/officeDocument/2006/relationships/hyperlink" Target="http://www.photoshop-master.ru/adds/psd_template2654.jpg" TargetMode="External"/><Relationship Id="rId9" Type="http://schemas.openxmlformats.org/officeDocument/2006/relationships/hyperlink" Target="http://www.photoshop-master.ru/adds/psd_template2654.jpg" TargetMode="External"/><Relationship Id="rId10" Type="http://schemas.openxmlformats.org/officeDocument/2006/relationships/hyperlink" Target="http://www.photoshop-master.ru/adds/psd_template2654.jpg" TargetMode="External"/><Relationship Id="rId11" Type="http://schemas.openxmlformats.org/officeDocument/2006/relationships/hyperlink" Target="http://www.photoshop-master.ru/adds/psd_template2654.jpg" TargetMode="External"/><Relationship Id="rId12" Type="http://schemas.openxmlformats.org/officeDocument/2006/relationships/hyperlink" Target="http://www.photoshop-master.ru/adds/psd_template2654.jpg" TargetMode="External"/><Relationship Id="rId13" Type="http://schemas.openxmlformats.org/officeDocument/2006/relationships/hyperlink" Target="http://www.photoshop-master.ru/adds/psd_template2654.jpg" TargetMode="External"/><Relationship Id="rId14" Type="http://schemas.openxmlformats.org/officeDocument/2006/relationships/hyperlink" Target="http://www.photoshop-master.ru/adds/psd_template2654.jpg" TargetMode="External"/><Relationship Id="rId15" Type="http://schemas.openxmlformats.org/officeDocument/2006/relationships/hyperlink" Target="http://www.photoshop-master.ru/adds/psd_template2654.jpg" TargetMode="External"/><Relationship Id="rId16" Type="http://schemas.openxmlformats.org/officeDocument/2006/relationships/hyperlink" Target="http://www.photoshop-master.ru/adds/psd_template2654.jpg" TargetMode="External"/><Relationship Id="rId17" Type="http://schemas.openxmlformats.org/officeDocument/2006/relationships/hyperlink" Target="http://www.photoshop-master.ru/adds/psd_template2654.jpg" TargetMode="External"/><Relationship Id="rId18" Type="http://schemas.openxmlformats.org/officeDocument/2006/relationships/hyperlink" Target="http://www.photoshop-master.ru/adds/psd_template2654.jpg" TargetMode="External"/><Relationship Id="rId19" Type="http://schemas.openxmlformats.org/officeDocument/2006/relationships/hyperlink" Target="http://www.photoshop-master.ru/adds/psd_template2654.jpg" TargetMode="External"/><Relationship Id="rId20" Type="http://schemas.openxmlformats.org/officeDocument/2006/relationships/hyperlink" Target="http://www.photoshop-master.ru/adds/psd_template2654.jpg" TargetMode="External"/><Relationship Id="rId21" Type="http://schemas.openxmlformats.org/officeDocument/2006/relationships/hyperlink" Target="http://www.photoshop-master.ru/adds/psd_template2654.jpg" TargetMode="External"/><Relationship Id="rId22" Type="http://schemas.openxmlformats.org/officeDocument/2006/relationships/hyperlink" Target="http://www.photoshop-master.ru/adds/psd_template2654.jpg" TargetMode="External"/><Relationship Id="rId23" Type="http://schemas.openxmlformats.org/officeDocument/2006/relationships/hyperlink" Target="http://www.photoshop-master.ru/adds/psd_template2654.jpg" TargetMode="External"/><Relationship Id="rId24" Type="http://schemas.openxmlformats.org/officeDocument/2006/relationships/hyperlink" Target="http://viki.rdf.ru/media/viki/upload/preview/masha-medvedi.jpg" TargetMode="External"/><Relationship Id="rId25" Type="http://schemas.openxmlformats.org/officeDocument/2006/relationships/hyperlink" Target="http://mylove.ru/m/b6d5742cd75c2c3ae662f6b94f2b0fab_6a2b873c63725644215387e5ce9dcbd6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audio" Target="../media/&#1051;&#1091;&#1085;&#1085;&#1099;&#1081;%20&#1079;&#1072;&#1081;&#1095;&#1080;&#1082;%203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695760" y="762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а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762280" y="160020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Табличн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84720" y="6257880"/>
            <a:ext cx="57456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32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33920" y="586728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89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38" name="Rectangle 90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WordArt 91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0" name="Group 9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41" name="Rectangle 9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WordArt 94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3" name="Group 9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44" name="Rectangle 9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WordArt 97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6" name="Group 9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47" name="Rectangle 9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WordArt 100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9" name="Group 10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50" name="Rectangle 10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WordArt 10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2" name="Group 104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653" name="Rectangle 105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WordArt 106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5" name="Group 107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656" name="Rectangle 108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WordArt 109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58" name="Group 110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59" name="Rectangle 111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WordArt 112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1" name="Group 6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62" name="Rectangle 6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WordArt 64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4" name="Group 83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65" name="Rectangle 84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WordArt 85"/>
            <p:cNvSpPr txBox="1"/>
            <p:nvPr/>
          </p:nvSpPr>
          <p:spPr>
            <a:xfrm>
              <a:off x="76536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7" name="Group 50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68" name="Rectangle 51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WordArt 52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0" name="Group 71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71" name="Rectangle 72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WordArt 73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3" name="Group 65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74" name="Rectangle 66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WordArt 67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6" name="Group 86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77" name="Rectangle 87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WordArt 88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9" name="Group 56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80" name="Rectangle 57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WordArt 58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2" name="Group 77"/>
          <p:cNvGrpSpPr/>
          <p:nvPr/>
        </p:nvGrpSpPr>
        <p:grpSpPr>
          <a:xfrm>
            <a:off x="2536920" y="5599080"/>
            <a:ext cx="917640" cy="835200"/>
            <a:chOff x="2536920" y="5599080"/>
            <a:chExt cx="917640" cy="835200"/>
          </a:xfrm>
        </p:grpSpPr>
        <p:sp>
          <p:nvSpPr>
            <p:cNvPr id="683" name="Rectangle 78"/>
            <p:cNvSpPr/>
            <p:nvPr/>
          </p:nvSpPr>
          <p:spPr>
            <a:xfrm>
              <a:off x="2536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WordArt 79"/>
            <p:cNvSpPr txBox="1"/>
            <p:nvPr/>
          </p:nvSpPr>
          <p:spPr>
            <a:xfrm>
              <a:off x="2732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5" name="Group 47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86" name="Rectangle 48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WordArt 49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8" name="Group 6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689" name="Rectangle 6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WordArt 70"/>
            <p:cNvSpPr txBox="1"/>
            <p:nvPr/>
          </p:nvSpPr>
          <p:spPr>
            <a:xfrm>
              <a:off x="590400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1" name="Group 53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92" name="Rectangle 54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WordArt 55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4" name="Group 7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695" name="Rectangle 7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WordArt 76"/>
            <p:cNvSpPr txBox="1"/>
            <p:nvPr/>
          </p:nvSpPr>
          <p:spPr>
            <a:xfrm>
              <a:off x="69692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7" name="Group 5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698" name="Rectangle 6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WordArt 61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0" name="Group 8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701" name="Rectangle 8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WordArt 8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3" name="Group 44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704" name="Rectangle 45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WordArt 46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06" name="AutoShape 113"/>
          <p:cNvSpPr/>
          <p:nvPr/>
        </p:nvSpPr>
        <p:spPr>
          <a:xfrm>
            <a:off x="4572000" y="58341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14"/>
          <p:cNvSpPr/>
          <p:nvPr/>
        </p:nvSpPr>
        <p:spPr>
          <a:xfrm>
            <a:off x="4572000" y="586728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22" dur="indefinite" restart="never" nodeType="tmRoot">
          <p:childTnLst>
            <p:seq>
              <p:cTn id="2123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2124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2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7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3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0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30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4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9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2150" nodeType="clickEffect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3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3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2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2163" nodeType="clickEffect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2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6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1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7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2176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3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8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8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2189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2" dur="3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3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9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2202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5" dur="3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3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21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2215" nodeType="clickEffect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2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3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30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2225" nodeType="clickEffect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8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29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0" dur="1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6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2237" nodeType="clickEffect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0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41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2" dur="1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8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249" nodeType="clickEffect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2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3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4" dur="1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4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5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6" dur="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2273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2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6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77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8" dur="1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2285" nodeType="clickEffect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2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8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89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90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6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2297" nodeType="clickEffect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0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1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2" dur="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8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309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2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13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4" dur="1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4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25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6" dur="1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2333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6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37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38" dur="1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2345" nodeType="clickEffect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8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49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50" dur="1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357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1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62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369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7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4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0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381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4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85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6" dur="1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6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7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8" dur="1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24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08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409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1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оформлены с помощью программы Фотош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at15.privet.ru/lr/0904b8c8403468218e567ba806d5c2f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рошка Ен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39.radikal.ru/i086/0905/c1/f81c43918ea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ms.24open.ru/images/3b964177d28fa6e27645e8c52591867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orum.materinstvo.ru/uploads/1220366601/post-32828-1220389944_thumb.pn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video.m3x.org/i/data/002/02795/screen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олчо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hotosho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aster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add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ps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mplate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2654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 дороге с облаками (лягушонок, кро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viki.rdf.ru/media/viki/upload/preview/masha-medvedi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две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mylove.ru/m/b6d5742cd75c2c3ae662f6b94f2b0fab_6a2b873c63725644215387e5ce9dcbd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лныш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lenagold.ru/fon/clipart/v/volk/volk03.jpg волчо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hobest.in.ua/uploads/posts/2009-08/thumbs/1251412288_1251352674_1.jpg бел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rp.foto.radikal.ru/0709/f0/f3a11200828d.jpg лисё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.foto.radikal.ru/0707/d8/9d791bc7cdd4.jpg лис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karaoketut.narod.ru/l.html лунный зай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5">
            <a:hlinkClick r:id="rId2" action="ppaction://hlinksldjump"/>
          </p:cNvPr>
          <p:cNvSpPr/>
          <p:nvPr/>
        </p:nvSpPr>
        <p:spPr>
          <a:xfrm>
            <a:off x="4224240" y="1247760"/>
            <a:ext cx="83844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9">
            <a:hlinkClick r:id="rId3" action="ppaction://hlinksldjump"/>
          </p:cNvPr>
          <p:cNvSpPr/>
          <p:nvPr/>
        </p:nvSpPr>
        <p:spPr>
          <a:xfrm>
            <a:off x="5410080" y="1752480"/>
            <a:ext cx="83844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0">
            <a:hlinkClick r:id="rId4" action="ppaction://hlinksldjump"/>
          </p:cNvPr>
          <p:cNvSpPr/>
          <p:nvPr/>
        </p:nvSpPr>
        <p:spPr>
          <a:xfrm>
            <a:off x="5943600" y="3009960"/>
            <a:ext cx="83808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1">
            <a:hlinkClick r:id="rId5" action="ppaction://hlinksldjump"/>
          </p:cNvPr>
          <p:cNvSpPr/>
          <p:nvPr/>
        </p:nvSpPr>
        <p:spPr>
          <a:xfrm>
            <a:off x="5410080" y="4191120"/>
            <a:ext cx="83844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2">
            <a:hlinkClick r:id="rId6" action="ppaction://hlinksldjump"/>
          </p:cNvPr>
          <p:cNvSpPr/>
          <p:nvPr/>
        </p:nvSpPr>
        <p:spPr>
          <a:xfrm>
            <a:off x="4224240" y="4829040"/>
            <a:ext cx="83844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>
            <a:hlinkClick r:id="rId7" action="ppaction://hlinksldjump"/>
          </p:cNvPr>
          <p:cNvSpPr/>
          <p:nvPr/>
        </p:nvSpPr>
        <p:spPr>
          <a:xfrm>
            <a:off x="3048120" y="4267080"/>
            <a:ext cx="83808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4">
            <a:hlinkClick r:id="rId8" action="ppaction://hlinksldjump"/>
          </p:cNvPr>
          <p:cNvSpPr/>
          <p:nvPr/>
        </p:nvSpPr>
        <p:spPr>
          <a:xfrm>
            <a:off x="2590920" y="3009960"/>
            <a:ext cx="838080" cy="838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5">
            <a:hlinkClick r:id="rId9" action="ppaction://hlinksldjump"/>
          </p:cNvPr>
          <p:cNvSpPr/>
          <p:nvPr/>
        </p:nvSpPr>
        <p:spPr>
          <a:xfrm>
            <a:off x="3048120" y="1752480"/>
            <a:ext cx="838080" cy="838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625788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69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64" name="Rectangle 70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WordArt 71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68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67" name="Rectangle 24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66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14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70" name="Rectangle 115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WordArt 116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117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73" name="Rectangle 118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WordArt 119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5" name="Group 120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76" name="Rectangle 121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WordArt 122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" name="Group 123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79" name="Rectangle 124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WordArt 125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126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82" name="Rectangle 127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WordArt 128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9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85" name="Rectangle 130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WordArt 131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35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88" name="Rectangle 136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WordArt 137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" name="Group 73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91" name="Rectangle 54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WordArt 72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" name="Group 90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94" name="Rectangle 91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WordArt 92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" name="Group 83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97" name="Rectangle 53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82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9" name="Group 99"/>
          <p:cNvGrpSpPr/>
          <p:nvPr/>
        </p:nvGrpSpPr>
        <p:grpSpPr>
          <a:xfrm>
            <a:off x="460440" y="4113360"/>
            <a:ext cx="917640" cy="834840"/>
            <a:chOff x="460440" y="4113360"/>
            <a:chExt cx="917640" cy="834840"/>
          </a:xfrm>
        </p:grpSpPr>
        <p:sp>
          <p:nvSpPr>
            <p:cNvPr id="100" name="Rectangle 100"/>
            <p:cNvSpPr/>
            <p:nvPr/>
          </p:nvSpPr>
          <p:spPr>
            <a:xfrm>
              <a:off x="46044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WordArt 101"/>
            <p:cNvSpPr txBox="1"/>
            <p:nvPr/>
          </p:nvSpPr>
          <p:spPr>
            <a:xfrm>
              <a:off x="65592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2" name="Group 87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03" name="Rectangle 55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WordArt 86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5" name="Group 105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06" name="Rectangle 106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107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8" name="Group 78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09" name="Rectangle 57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77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1" name="Group 93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12" name="Rectangle 94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95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4" name="Group 85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15" name="Rectangle 52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84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7" name="Group 108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18" name="Rectangle 109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WordArt 110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0" name="Group 81"/>
          <p:cNvGrpSpPr/>
          <p:nvPr/>
        </p:nvGrpSpPr>
        <p:grpSpPr>
          <a:xfrm>
            <a:off x="7772400" y="4113360"/>
            <a:ext cx="917640" cy="834840"/>
            <a:chOff x="7772400" y="4113360"/>
            <a:chExt cx="917640" cy="834840"/>
          </a:xfrm>
        </p:grpSpPr>
        <p:sp>
          <p:nvSpPr>
            <p:cNvPr id="121" name="Rectangle 56"/>
            <p:cNvSpPr/>
            <p:nvPr/>
          </p:nvSpPr>
          <p:spPr>
            <a:xfrm>
              <a:off x="777240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WordArt 80"/>
            <p:cNvSpPr txBox="1"/>
            <p:nvPr/>
          </p:nvSpPr>
          <p:spPr>
            <a:xfrm>
              <a:off x="796788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3" name="Group 96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124" name="Rectangle 97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WordArt 98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6" name="Group 89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27" name="Rectangle 58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88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9" name="Group 111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30" name="Rectangle 112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113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2" name="AutoShape 139"/>
          <p:cNvSpPr/>
          <p:nvPr/>
        </p:nvSpPr>
        <p:spPr>
          <a:xfrm>
            <a:off x="6553080" y="5867280"/>
            <a:ext cx="838440" cy="60984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92" h="21600">
                <a:moveTo>
                  <a:pt x="0" y="0"/>
                </a:moveTo>
                <a:lnTo>
                  <a:pt x="29692" y="0"/>
                </a:lnTo>
                <a:lnTo>
                  <a:pt x="29692" y="21600"/>
                </a:lnTo>
                <a:lnTo>
                  <a:pt x="0" y="21600"/>
                </a:lnTo>
                <a:close/>
              </a:path>
              <a:path fill="lightenLess" w="29692" h="21600">
                <a:moveTo>
                  <a:pt x="0" y="0"/>
                </a:moveTo>
                <a:lnTo>
                  <a:pt x="29692" y="0"/>
                </a:lnTo>
                <a:lnTo>
                  <a:pt x="28292" y="1400"/>
                </a:lnTo>
                <a:lnTo>
                  <a:pt x="1400" y="1400"/>
                </a:lnTo>
                <a:close/>
              </a:path>
              <a:path fill="darken" w="29692" h="21600">
                <a:moveTo>
                  <a:pt x="29692" y="0"/>
                </a:moveTo>
                <a:lnTo>
                  <a:pt x="29692" y="21600"/>
                </a:lnTo>
                <a:lnTo>
                  <a:pt x="28292" y="20200"/>
                </a:lnTo>
                <a:lnTo>
                  <a:pt x="28292" y="1400"/>
                </a:lnTo>
                <a:close/>
              </a:path>
              <a:path fill="darkenLess" w="29692" h="21600">
                <a:moveTo>
                  <a:pt x="2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2" y="20200"/>
                </a:lnTo>
                <a:close/>
              </a:path>
              <a:path fill="lighten" w="2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2" h="21600">
                <a:moveTo>
                  <a:pt x="7840" y="8406"/>
                </a:moveTo>
                <a:lnTo>
                  <a:pt x="12270" y="8406"/>
                </a:lnTo>
                <a:lnTo>
                  <a:pt x="16691" y="3794"/>
                </a:lnTo>
                <a:lnTo>
                  <a:pt x="16691" y="17806"/>
                </a:lnTo>
                <a:lnTo>
                  <a:pt x="12270" y="13194"/>
                </a:lnTo>
                <a:lnTo>
                  <a:pt x="7840" y="13194"/>
                </a:lnTo>
                <a:close/>
              </a:path>
              <a:path fill="darken" w="29692" h="21600">
                <a:moveTo>
                  <a:pt x="18345" y="10800"/>
                </a:moveTo>
                <a:lnTo>
                  <a:pt x="21852" y="10800"/>
                </a:lnTo>
              </a:path>
              <a:path fill="darken" w="29692" h="21600">
                <a:moveTo>
                  <a:pt x="18345" y="8406"/>
                </a:moveTo>
                <a:lnTo>
                  <a:pt x="21852" y="5639"/>
                </a:lnTo>
              </a:path>
              <a:path fill="darken" w="29692" h="21600">
                <a:moveTo>
                  <a:pt x="18345" y="13194"/>
                </a:moveTo>
                <a:lnTo>
                  <a:pt x="21852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0"/>
          <p:cNvSpPr/>
          <p:nvPr/>
        </p:nvSpPr>
        <p:spPr>
          <a:xfrm>
            <a:off x="6553080" y="5900760"/>
            <a:ext cx="83844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3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8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6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5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15000" y="5943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98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46" name="Rectangle 99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WordArt 100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8" name="Group 101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149" name="Rectangle 102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WordArt 103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1" name="Group 104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152" name="Rectangle 105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WordArt 106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55" name="Rectangle 108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WordArt 109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110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158" name="Rectangle 111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12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113"/>
          <p:cNvGrpSpPr/>
          <p:nvPr/>
        </p:nvGrpSpPr>
        <p:grpSpPr>
          <a:xfrm>
            <a:off x="460440" y="4113360"/>
            <a:ext cx="917640" cy="834840"/>
            <a:chOff x="460440" y="4113360"/>
            <a:chExt cx="917640" cy="834840"/>
          </a:xfrm>
        </p:grpSpPr>
        <p:sp>
          <p:nvSpPr>
            <p:cNvPr id="161" name="Rectangle 114"/>
            <p:cNvSpPr/>
            <p:nvPr/>
          </p:nvSpPr>
          <p:spPr>
            <a:xfrm>
              <a:off x="460440" y="41133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WordArt 115"/>
            <p:cNvSpPr txBox="1"/>
            <p:nvPr/>
          </p:nvSpPr>
          <p:spPr>
            <a:xfrm>
              <a:off x="655920" y="42624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116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64" name="Rectangle 117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WordArt 118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6" name="Group 119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67" name="Rectangle 120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WordArt 121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9" name="Group 62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70" name="Rectangle 63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64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2" name="Group 83"/>
          <p:cNvGrpSpPr/>
          <p:nvPr/>
        </p:nvGrpSpPr>
        <p:grpSpPr>
          <a:xfrm>
            <a:off x="460440" y="1716120"/>
            <a:ext cx="917640" cy="834840"/>
            <a:chOff x="460440" y="1716120"/>
            <a:chExt cx="917640" cy="834840"/>
          </a:xfrm>
        </p:grpSpPr>
        <p:sp>
          <p:nvSpPr>
            <p:cNvPr id="173" name="Rectangle 84"/>
            <p:cNvSpPr/>
            <p:nvPr/>
          </p:nvSpPr>
          <p:spPr>
            <a:xfrm>
              <a:off x="46044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85"/>
            <p:cNvSpPr txBox="1"/>
            <p:nvPr/>
          </p:nvSpPr>
          <p:spPr>
            <a:xfrm>
              <a:off x="65592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5" name="Group 68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76" name="Rectangle 69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70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8" name="Group 89"/>
          <p:cNvGrpSpPr/>
          <p:nvPr/>
        </p:nvGrpSpPr>
        <p:grpSpPr>
          <a:xfrm>
            <a:off x="460440" y="2935440"/>
            <a:ext cx="917640" cy="834840"/>
            <a:chOff x="460440" y="2935440"/>
            <a:chExt cx="917640" cy="834840"/>
          </a:xfrm>
        </p:grpSpPr>
        <p:sp>
          <p:nvSpPr>
            <p:cNvPr id="179" name="Rectangle 90"/>
            <p:cNvSpPr/>
            <p:nvPr/>
          </p:nvSpPr>
          <p:spPr>
            <a:xfrm>
              <a:off x="46044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WordArt 91"/>
            <p:cNvSpPr txBox="1"/>
            <p:nvPr/>
          </p:nvSpPr>
          <p:spPr>
            <a:xfrm>
              <a:off x="65592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56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182" name="Rectangle 57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WordArt 58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77"/>
          <p:cNvGrpSpPr/>
          <p:nvPr/>
        </p:nvGrpSpPr>
        <p:grpSpPr>
          <a:xfrm>
            <a:off x="460440" y="4114800"/>
            <a:ext cx="917640" cy="835200"/>
            <a:chOff x="460440" y="4114800"/>
            <a:chExt cx="917640" cy="835200"/>
          </a:xfrm>
        </p:grpSpPr>
        <p:sp>
          <p:nvSpPr>
            <p:cNvPr id="185" name="Rectangle 78"/>
            <p:cNvSpPr/>
            <p:nvPr/>
          </p:nvSpPr>
          <p:spPr>
            <a:xfrm>
              <a:off x="46044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WordArt 79"/>
            <p:cNvSpPr txBox="1"/>
            <p:nvPr/>
          </p:nvSpPr>
          <p:spPr>
            <a:xfrm>
              <a:off x="65592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71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88" name="Rectangle 72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WordArt 73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0" name="Group 92"/>
          <p:cNvGrpSpPr/>
          <p:nvPr/>
        </p:nvGrpSpPr>
        <p:grpSpPr>
          <a:xfrm>
            <a:off x="460440" y="5326200"/>
            <a:ext cx="917640" cy="834840"/>
            <a:chOff x="460440" y="5326200"/>
            <a:chExt cx="917640" cy="834840"/>
          </a:xfrm>
        </p:grpSpPr>
        <p:sp>
          <p:nvSpPr>
            <p:cNvPr id="191" name="Rectangle 93"/>
            <p:cNvSpPr/>
            <p:nvPr/>
          </p:nvSpPr>
          <p:spPr>
            <a:xfrm>
              <a:off x="46044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94"/>
            <p:cNvSpPr txBox="1"/>
            <p:nvPr/>
          </p:nvSpPr>
          <p:spPr>
            <a:xfrm>
              <a:off x="65592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3" name="Group 65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94" name="Rectangle 66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67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6" name="Group 86"/>
          <p:cNvGrpSpPr/>
          <p:nvPr/>
        </p:nvGrpSpPr>
        <p:grpSpPr>
          <a:xfrm>
            <a:off x="7772400" y="1716120"/>
            <a:ext cx="917640" cy="834840"/>
            <a:chOff x="7772400" y="1716120"/>
            <a:chExt cx="917640" cy="834840"/>
          </a:xfrm>
        </p:grpSpPr>
        <p:sp>
          <p:nvSpPr>
            <p:cNvPr id="197" name="Rectangle 87"/>
            <p:cNvSpPr/>
            <p:nvPr/>
          </p:nvSpPr>
          <p:spPr>
            <a:xfrm>
              <a:off x="7772400" y="171612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WordArt 88"/>
            <p:cNvSpPr txBox="1"/>
            <p:nvPr/>
          </p:nvSpPr>
          <p:spPr>
            <a:xfrm>
              <a:off x="7967880" y="186516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7772400" y="2935440"/>
            <a:ext cx="917640" cy="834840"/>
            <a:chOff x="7772400" y="2935440"/>
            <a:chExt cx="917640" cy="834840"/>
          </a:xfrm>
        </p:grpSpPr>
        <p:sp>
          <p:nvSpPr>
            <p:cNvPr id="200" name="Rectangle 54"/>
            <p:cNvSpPr/>
            <p:nvPr/>
          </p:nvSpPr>
          <p:spPr>
            <a:xfrm>
              <a:off x="7772400" y="29354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WordArt 55"/>
            <p:cNvSpPr txBox="1"/>
            <p:nvPr/>
          </p:nvSpPr>
          <p:spPr>
            <a:xfrm>
              <a:off x="7967880" y="30844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2" name="Group 74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203" name="Rectangle 75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WordArt 76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5" name="Group 95"/>
          <p:cNvGrpSpPr/>
          <p:nvPr/>
        </p:nvGrpSpPr>
        <p:grpSpPr>
          <a:xfrm>
            <a:off x="7772400" y="4114800"/>
            <a:ext cx="917640" cy="835200"/>
            <a:chOff x="7772400" y="4114800"/>
            <a:chExt cx="917640" cy="835200"/>
          </a:xfrm>
        </p:grpSpPr>
        <p:sp>
          <p:nvSpPr>
            <p:cNvPr id="206" name="Rectangle 96"/>
            <p:cNvSpPr/>
            <p:nvPr/>
          </p:nvSpPr>
          <p:spPr>
            <a:xfrm>
              <a:off x="7772400" y="411480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7"/>
            <p:cNvSpPr txBox="1"/>
            <p:nvPr/>
          </p:nvSpPr>
          <p:spPr>
            <a:xfrm>
              <a:off x="7967880" y="426420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8" name="Group 59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209" name="Rectangle 60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61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1" name="Group 80"/>
          <p:cNvGrpSpPr/>
          <p:nvPr/>
        </p:nvGrpSpPr>
        <p:grpSpPr>
          <a:xfrm>
            <a:off x="7772400" y="5326200"/>
            <a:ext cx="917640" cy="834840"/>
            <a:chOff x="7772400" y="5326200"/>
            <a:chExt cx="917640" cy="834840"/>
          </a:xfrm>
        </p:grpSpPr>
        <p:sp>
          <p:nvSpPr>
            <p:cNvPr id="212" name="Rectangle 81"/>
            <p:cNvSpPr/>
            <p:nvPr/>
          </p:nvSpPr>
          <p:spPr>
            <a:xfrm>
              <a:off x="7772400" y="53262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WordArt 82"/>
            <p:cNvSpPr txBox="1"/>
            <p:nvPr/>
          </p:nvSpPr>
          <p:spPr>
            <a:xfrm>
              <a:off x="7967880" y="547524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4" name="AutoShape 122"/>
          <p:cNvSpPr/>
          <p:nvPr/>
        </p:nvSpPr>
        <p:spPr>
          <a:xfrm>
            <a:off x="6553080" y="5867280"/>
            <a:ext cx="838440" cy="60984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92" h="21600">
                <a:moveTo>
                  <a:pt x="0" y="0"/>
                </a:moveTo>
                <a:lnTo>
                  <a:pt x="29692" y="0"/>
                </a:lnTo>
                <a:lnTo>
                  <a:pt x="29692" y="21600"/>
                </a:lnTo>
                <a:lnTo>
                  <a:pt x="0" y="21600"/>
                </a:lnTo>
                <a:close/>
              </a:path>
              <a:path fill="lightenLess" w="29692" h="21600">
                <a:moveTo>
                  <a:pt x="0" y="0"/>
                </a:moveTo>
                <a:lnTo>
                  <a:pt x="29692" y="0"/>
                </a:lnTo>
                <a:lnTo>
                  <a:pt x="28292" y="1400"/>
                </a:lnTo>
                <a:lnTo>
                  <a:pt x="1400" y="1400"/>
                </a:lnTo>
                <a:close/>
              </a:path>
              <a:path fill="darken" w="29692" h="21600">
                <a:moveTo>
                  <a:pt x="29692" y="0"/>
                </a:moveTo>
                <a:lnTo>
                  <a:pt x="29692" y="21600"/>
                </a:lnTo>
                <a:lnTo>
                  <a:pt x="28292" y="20200"/>
                </a:lnTo>
                <a:lnTo>
                  <a:pt x="28292" y="1400"/>
                </a:lnTo>
                <a:close/>
              </a:path>
              <a:path fill="darkenLess" w="29692" h="21600">
                <a:moveTo>
                  <a:pt x="29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2" y="20200"/>
                </a:lnTo>
                <a:close/>
              </a:path>
              <a:path fill="lighten" w="29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2" h="21600">
                <a:moveTo>
                  <a:pt x="7840" y="8406"/>
                </a:moveTo>
                <a:lnTo>
                  <a:pt x="12270" y="8406"/>
                </a:lnTo>
                <a:lnTo>
                  <a:pt x="16691" y="3794"/>
                </a:lnTo>
                <a:lnTo>
                  <a:pt x="16691" y="17806"/>
                </a:lnTo>
                <a:lnTo>
                  <a:pt x="12270" y="13194"/>
                </a:lnTo>
                <a:lnTo>
                  <a:pt x="7840" y="13194"/>
                </a:lnTo>
                <a:close/>
              </a:path>
              <a:path fill="darken" w="29692" h="21600">
                <a:moveTo>
                  <a:pt x="18345" y="10800"/>
                </a:moveTo>
                <a:lnTo>
                  <a:pt x="21852" y="10800"/>
                </a:lnTo>
              </a:path>
              <a:path fill="darken" w="29692" h="21600">
                <a:moveTo>
                  <a:pt x="18345" y="8406"/>
                </a:moveTo>
                <a:lnTo>
                  <a:pt x="21852" y="5639"/>
                </a:lnTo>
              </a:path>
              <a:path fill="darken" w="29692" h="21600">
                <a:moveTo>
                  <a:pt x="18345" y="13194"/>
                </a:moveTo>
                <a:lnTo>
                  <a:pt x="21852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3"/>
          <p:cNvSpPr/>
          <p:nvPr/>
        </p:nvSpPr>
        <p:spPr>
          <a:xfrm>
            <a:off x="6553080" y="5900760"/>
            <a:ext cx="83844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3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4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9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2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4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6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8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57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2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69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3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4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8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6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9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7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9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1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4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9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28" name="Rectangle 9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WordArt 9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0" name="Group 9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31" name="Rectangle 9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WordArt 9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3" name="Group 97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34" name="Rectangle 98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WordArt 99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6" name="Group 100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237" name="Rectangle 101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WordArt 102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9" name="Group 10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40" name="Rectangle 10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WordArt 10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2" name="Group 10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243" name="Rectangle 10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WordArt 10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5" name="Group 10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46" name="Rectangle 11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WordArt 11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8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49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1" name="Group 4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52" name="Rectangle 5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WordArt 5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4" name="Group 70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255" name="Rectangle 71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72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7" name="Group 58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58" name="Rectangle 59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60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0" name="Group 79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261" name="Rectangle 80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WordArt 81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3" name="Group 61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64" name="Rectangle 62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WordArt 63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6" name="Group 82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267" name="Rectangle 83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WordArt 84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9" name="Group 55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70" name="Rectangle 56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57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2" name="Group 76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273" name="Rectangle 77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WordArt 78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5" name="Group 52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76" name="Rectangle 53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WordArt 54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279" name="Rectangle 7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WordArt 7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1" name="Group 67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82" name="Rectangle 68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WordArt 69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4" name="Group 88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285" name="Rectangle 89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WordArt 90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7" name="Group 46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288" name="Rectangle 47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WordArt 48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0" name="Group 64"/>
          <p:cNvGrpSpPr/>
          <p:nvPr/>
        </p:nvGrpSpPr>
        <p:grpSpPr>
          <a:xfrm>
            <a:off x="3591000" y="5599080"/>
            <a:ext cx="917640" cy="835200"/>
            <a:chOff x="3591000" y="5599080"/>
            <a:chExt cx="917640" cy="835200"/>
          </a:xfrm>
        </p:grpSpPr>
        <p:sp>
          <p:nvSpPr>
            <p:cNvPr id="291" name="Rectangle 65"/>
            <p:cNvSpPr/>
            <p:nvPr/>
          </p:nvSpPr>
          <p:spPr>
            <a:xfrm>
              <a:off x="3591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66"/>
            <p:cNvSpPr txBox="1"/>
            <p:nvPr/>
          </p:nvSpPr>
          <p:spPr>
            <a:xfrm>
              <a:off x="3786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3" name="Group 85"/>
          <p:cNvGrpSpPr/>
          <p:nvPr/>
        </p:nvGrpSpPr>
        <p:grpSpPr>
          <a:xfrm>
            <a:off x="3591000" y="5599080"/>
            <a:ext cx="917640" cy="835200"/>
            <a:chOff x="3591000" y="5599080"/>
            <a:chExt cx="917640" cy="835200"/>
          </a:xfrm>
        </p:grpSpPr>
        <p:sp>
          <p:nvSpPr>
            <p:cNvPr id="294" name="Rectangle 86"/>
            <p:cNvSpPr/>
            <p:nvPr/>
          </p:nvSpPr>
          <p:spPr>
            <a:xfrm>
              <a:off x="3591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87"/>
            <p:cNvSpPr txBox="1"/>
            <p:nvPr/>
          </p:nvSpPr>
          <p:spPr>
            <a:xfrm>
              <a:off x="3786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6" name="AutoShape 115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6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42" dur="indefinite" restart="never" nodeType="tmRoot">
          <p:childTnLst>
            <p:seq>
              <p:cTn id="643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44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22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757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2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69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3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4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81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5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7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8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805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8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9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17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1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2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3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41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5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6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6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57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6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8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77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81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2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90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5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6" dur="1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91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6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7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8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925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92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9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310" name="Rectangle 9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WordArt 9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2" name="Group 93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13" name="Rectangle 94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WordArt 95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5" name="Group 96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16" name="Rectangle 97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WordArt 98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8" name="Group 99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19" name="Rectangle 100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WordArt 101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1" name="Group 10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22" name="Rectangle 10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WordArt 10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4" name="Group 105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25" name="Rectangle 106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WordArt 107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7" name="Group 108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28" name="Rectangle 109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WordArt 110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0" name="Group 111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31" name="Rectangle 112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WordArt 113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3" name="Group 60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34" name="Rectangle 61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WordArt 62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6" name="Group 81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37" name="Rectangle 82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WordArt 83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9" name="Group 63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40" name="Rectangle 64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WordArt 65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2" name="Group 84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43" name="Rectangle 85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WordArt 86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5" name="Group 51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46" name="Rectangle 52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WordArt 53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8" name="Group 72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349" name="Rectangle 73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WordArt 74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1" name="Group 6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52" name="Rectangle 6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WordArt 6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4" name="Group 87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355" name="Rectangle 88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WordArt 89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7" name="Group 5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58" name="Rectangle 5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WordArt 5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0" name="Group 7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61" name="Rectangle 7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WordArt 8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3" name="Group 48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64" name="Rectangle 49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WordArt 50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6" name="Group 69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367" name="Rectangle 70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WordArt 71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9" name="Group 5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70" name="Rectangle 5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WordArt 5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2" name="Group 7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373" name="Rectangle 7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WordArt 7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5" name="Group 45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376" name="Rectangle 46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WordArt 47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78" name="AutoShape 114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5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38" dur="indefinite" restart="never" nodeType="tmRoot">
          <p:childTnLst>
            <p:seq>
              <p:cTn id="939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40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3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966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9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7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979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5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0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3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031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041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4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6" dur="1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053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57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65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69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0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077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2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2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93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4" dur="1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101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113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6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7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8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25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8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9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0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37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0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1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2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149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2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3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4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161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5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6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7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185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9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09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2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3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221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22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5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6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9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392" name="Rectangle 9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WordArt 9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4" name="Group 94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395" name="Rectangle 95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WordArt 96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7" name="Group 9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398" name="Rectangle 9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WordArt 9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0" name="Group 100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01" name="Rectangle 101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WordArt 102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3" name="Group 10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04" name="Rectangle 10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WordArt 105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6" name="Group 10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07" name="Rectangle 10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WordArt 10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9" name="Group 109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10" name="Rectangle 110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WordArt 111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2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13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5" name="Group 5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16" name="Rectangle 5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WordArt 54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8" name="Group 73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19" name="Rectangle 74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WordArt 75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Group 64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22" name="Rectangle 65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WordArt 66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Group 85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25" name="Rectangle 86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WordArt 87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7" name="Group 58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28" name="Rectangle 59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WordArt 60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Group 79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31" name="Rectangle 80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WordArt 81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3" name="Group 46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34" name="Rectangle 47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WordArt 48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6" name="Group 67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37" name="Rectangle 68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WordArt 69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9" name="Group 8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40" name="Rectangle 8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WordArt 9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2" name="Group 61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43" name="Rectangle 62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WordArt 63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5" name="Group 8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46" name="Rectangle 8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WordArt 8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8" name="Group 5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49" name="Rectangle 5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WordArt 5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1" name="Group 7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52" name="Rectangle 7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WordArt 7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4" name="Group 4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55" name="Rectangle 5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WordArt 51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7" name="Group 70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58" name="Rectangle 71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WordArt 72"/>
            <p:cNvSpPr txBox="1"/>
            <p:nvPr/>
          </p:nvSpPr>
          <p:spPr>
            <a:xfrm>
              <a:off x="79614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60" name="AutoShape 115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16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34" dur="indefinite" restart="never" nodeType="tmRoot">
          <p:childTnLst>
            <p:seq>
              <p:cTn id="1235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236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9" dur="3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4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2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5" dur="3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7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275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8" dur="3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3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9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301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4" dur="3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3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7" dur="3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27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3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6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337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0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2" dur="1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349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2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53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4" dur="1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373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8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9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0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1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02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3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4" dur="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0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421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4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5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6" dur="1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7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8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445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8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9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0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0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1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2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46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2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3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4" dur="1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4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5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493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6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7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8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50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8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9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0" dur="1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517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52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480060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100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474" name="Rectangle 101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WordArt 102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6" name="Group 103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477" name="Rectangle 104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WordArt 105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9" name="Group 106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480" name="Rectangle 107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WordArt 108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2" name="Group 109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483" name="Rectangle 110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WordArt 111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5" name="Group 112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486" name="Rectangle 113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WordArt 114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8" name="Group 115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89" name="Rectangle 116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WordArt 117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1" name="Group 118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492" name="Rectangle 119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WordArt 120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4" name="Group 121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495" name="Rectangle 122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WordArt 123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7" name="Group 46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498" name="Rectangle 47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WordArt 48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0" name="Group 79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501" name="Rectangle 80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WordArt 81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3" name="Group 67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04" name="Rectangle 68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WordArt 69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6" name="Group 88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07" name="Rectangle 89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WordArt 90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510" name="Rectangle 74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WordArt 75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2" name="Group 94"/>
          <p:cNvGrpSpPr/>
          <p:nvPr/>
        </p:nvGrpSpPr>
        <p:grpSpPr>
          <a:xfrm>
            <a:off x="2511360" y="5599080"/>
            <a:ext cx="917640" cy="835200"/>
            <a:chOff x="2511360" y="5599080"/>
            <a:chExt cx="917640" cy="835200"/>
          </a:xfrm>
        </p:grpSpPr>
        <p:sp>
          <p:nvSpPr>
            <p:cNvPr id="513" name="Rectangle 95"/>
            <p:cNvSpPr/>
            <p:nvPr/>
          </p:nvSpPr>
          <p:spPr>
            <a:xfrm>
              <a:off x="251136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WordArt 96"/>
            <p:cNvSpPr txBox="1"/>
            <p:nvPr/>
          </p:nvSpPr>
          <p:spPr>
            <a:xfrm>
              <a:off x="270684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5" name="Group 43"/>
          <p:cNvGrpSpPr/>
          <p:nvPr/>
        </p:nvGrpSpPr>
        <p:grpSpPr>
          <a:xfrm>
            <a:off x="3576600" y="5599080"/>
            <a:ext cx="917640" cy="835200"/>
            <a:chOff x="3576600" y="5599080"/>
            <a:chExt cx="917640" cy="835200"/>
          </a:xfrm>
        </p:grpSpPr>
        <p:sp>
          <p:nvSpPr>
            <p:cNvPr id="516" name="Rectangle 44"/>
            <p:cNvSpPr/>
            <p:nvPr/>
          </p:nvSpPr>
          <p:spPr>
            <a:xfrm>
              <a:off x="35766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WordArt 45"/>
            <p:cNvSpPr txBox="1"/>
            <p:nvPr/>
          </p:nvSpPr>
          <p:spPr>
            <a:xfrm>
              <a:off x="37720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8" name="Group 70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519" name="Rectangle 71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WordArt 72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1" name="Group 91"/>
          <p:cNvGrpSpPr/>
          <p:nvPr/>
        </p:nvGrpSpPr>
        <p:grpSpPr>
          <a:xfrm>
            <a:off x="4572000" y="5599080"/>
            <a:ext cx="917640" cy="835200"/>
            <a:chOff x="4572000" y="5599080"/>
            <a:chExt cx="917640" cy="835200"/>
          </a:xfrm>
        </p:grpSpPr>
        <p:sp>
          <p:nvSpPr>
            <p:cNvPr id="522" name="Rectangle 92"/>
            <p:cNvSpPr/>
            <p:nvPr/>
          </p:nvSpPr>
          <p:spPr>
            <a:xfrm>
              <a:off x="457200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WordArt 93"/>
            <p:cNvSpPr txBox="1"/>
            <p:nvPr/>
          </p:nvSpPr>
          <p:spPr>
            <a:xfrm>
              <a:off x="476748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4" name="Group 76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525" name="Rectangle 77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WordArt 78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7" name="Group 97"/>
          <p:cNvGrpSpPr/>
          <p:nvPr/>
        </p:nvGrpSpPr>
        <p:grpSpPr>
          <a:xfrm>
            <a:off x="5599080" y="5599080"/>
            <a:ext cx="917640" cy="835200"/>
            <a:chOff x="5599080" y="5599080"/>
            <a:chExt cx="917640" cy="835200"/>
          </a:xfrm>
        </p:grpSpPr>
        <p:sp>
          <p:nvSpPr>
            <p:cNvPr id="528" name="Rectangle 98"/>
            <p:cNvSpPr/>
            <p:nvPr/>
          </p:nvSpPr>
          <p:spPr>
            <a:xfrm>
              <a:off x="559908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WordArt 99"/>
            <p:cNvSpPr txBox="1"/>
            <p:nvPr/>
          </p:nvSpPr>
          <p:spPr>
            <a:xfrm>
              <a:off x="579456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0" name="Group 64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31" name="Rectangle 65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WordArt 66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3" name="Group 85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34" name="Rectangle 86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WordArt 87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6" name="Group 49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37" name="Rectangle 50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WordArt 51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9" name="Group 82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40" name="Rectangle 83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84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42" name="AutoShape 124"/>
          <p:cNvSpPr/>
          <p:nvPr/>
        </p:nvSpPr>
        <p:spPr>
          <a:xfrm>
            <a:off x="77724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25"/>
          <p:cNvSpPr/>
          <p:nvPr/>
        </p:nvSpPr>
        <p:spPr>
          <a:xfrm>
            <a:off x="7772400" y="491004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30" dur="indefinite" restart="never" nodeType="tmRoot">
          <p:childTnLst>
            <p:seq>
              <p:cTn id="1531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5" dur="3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3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4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545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3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7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558" nodeType="clickEffect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1" dur="3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3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571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3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3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3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584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3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6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597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0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610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3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30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2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6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7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8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4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645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8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49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0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6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657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0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669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3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74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68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6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7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8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705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9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1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6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717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1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2" dur="1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729" nodeType="clickEffect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3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1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4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5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6" dur="1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753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57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65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9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0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6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777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0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1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2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8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789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9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4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801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4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05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6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16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1817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3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•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2"/>
          <p:cNvSpPr/>
          <p:nvPr/>
        </p:nvSpPr>
        <p:spPr>
          <a:xfrm>
            <a:off x="3009960" y="914400"/>
            <a:ext cx="31240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3" descr="Ёжики"/>
          <p:cNvPicPr/>
          <p:nvPr/>
        </p:nvPicPr>
        <p:blipFill>
          <a:blip r:embed="rId2"/>
          <a:srcRect l="10254" t="6678" r="5371" b="2504"/>
          <a:stretch/>
        </p:blipFill>
        <p:spPr>
          <a:xfrm>
            <a:off x="2938320" y="838080"/>
            <a:ext cx="3265560" cy="129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4876920"/>
            <a:ext cx="574560" cy="60012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90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56" name="Rectangle 91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WordArt 92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8" name="Group 93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59" name="Rectangle 94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WordArt 95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1" name="Group 45"/>
          <p:cNvGrpSpPr/>
          <p:nvPr/>
        </p:nvGrpSpPr>
        <p:grpSpPr>
          <a:xfrm>
            <a:off x="7765920" y="5599080"/>
            <a:ext cx="917640" cy="835200"/>
            <a:chOff x="7765920" y="5599080"/>
            <a:chExt cx="917640" cy="835200"/>
          </a:xfrm>
        </p:grpSpPr>
        <p:sp>
          <p:nvSpPr>
            <p:cNvPr id="562" name="Rectangle 46"/>
            <p:cNvSpPr/>
            <p:nvPr/>
          </p:nvSpPr>
          <p:spPr>
            <a:xfrm>
              <a:off x="77659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WordArt 47"/>
            <p:cNvSpPr txBox="1"/>
            <p:nvPr/>
          </p:nvSpPr>
          <p:spPr>
            <a:xfrm>
              <a:off x="8070840" y="575136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4" name="Group 9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65" name="Rectangle 9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WordArt 9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7" name="Group 99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568" name="Rectangle 100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WordArt 101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0" name="Group 102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71" name="Rectangle 103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WordArt 104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3" name="Group 105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574" name="Rectangle 106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WordArt 107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6" name="Group 108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577" name="Rectangle 109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WordArt 110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9" name="Group 11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580" name="Rectangle 11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WordArt 11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2" name="Group 66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83" name="Rectangle 67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WordArt 68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5" name="Group 87"/>
          <p:cNvGrpSpPr/>
          <p:nvPr/>
        </p:nvGrpSpPr>
        <p:grpSpPr>
          <a:xfrm>
            <a:off x="6664320" y="5599080"/>
            <a:ext cx="917640" cy="835200"/>
            <a:chOff x="6664320" y="5599080"/>
            <a:chExt cx="917640" cy="835200"/>
          </a:xfrm>
        </p:grpSpPr>
        <p:sp>
          <p:nvSpPr>
            <p:cNvPr id="586" name="Rectangle 88"/>
            <p:cNvSpPr/>
            <p:nvPr/>
          </p:nvSpPr>
          <p:spPr>
            <a:xfrm>
              <a:off x="666432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WordArt 89"/>
            <p:cNvSpPr txBox="1"/>
            <p:nvPr/>
          </p:nvSpPr>
          <p:spPr>
            <a:xfrm>
              <a:off x="685980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8" name="Group 57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89" name="Rectangle 58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WordArt 59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1" name="Group 78"/>
          <p:cNvGrpSpPr/>
          <p:nvPr/>
        </p:nvGrpSpPr>
        <p:grpSpPr>
          <a:xfrm>
            <a:off x="7765920" y="4454640"/>
            <a:ext cx="917640" cy="834840"/>
            <a:chOff x="7765920" y="4454640"/>
            <a:chExt cx="917640" cy="834840"/>
          </a:xfrm>
        </p:grpSpPr>
        <p:sp>
          <p:nvSpPr>
            <p:cNvPr id="592" name="Rectangle 79"/>
            <p:cNvSpPr/>
            <p:nvPr/>
          </p:nvSpPr>
          <p:spPr>
            <a:xfrm>
              <a:off x="7765920" y="445464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WordArt 80"/>
            <p:cNvSpPr txBox="1"/>
            <p:nvPr/>
          </p:nvSpPr>
          <p:spPr>
            <a:xfrm>
              <a:off x="7961400" y="460368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4" name="Group 54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95" name="Rectangle 55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WordArt 56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7" name="Group 75"/>
          <p:cNvGrpSpPr/>
          <p:nvPr/>
        </p:nvGrpSpPr>
        <p:grpSpPr>
          <a:xfrm>
            <a:off x="7765920" y="3281400"/>
            <a:ext cx="917640" cy="834840"/>
            <a:chOff x="7765920" y="3281400"/>
            <a:chExt cx="917640" cy="834840"/>
          </a:xfrm>
        </p:grpSpPr>
        <p:sp>
          <p:nvSpPr>
            <p:cNvPr id="598" name="Rectangle 76"/>
            <p:cNvSpPr/>
            <p:nvPr/>
          </p:nvSpPr>
          <p:spPr>
            <a:xfrm>
              <a:off x="7765920" y="328140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WordArt 77"/>
            <p:cNvSpPr txBox="1"/>
            <p:nvPr/>
          </p:nvSpPr>
          <p:spPr>
            <a:xfrm>
              <a:off x="8070840" y="343332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0" name="Group 51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01" name="Rectangle 52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WordArt 53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3" name="Group 72"/>
          <p:cNvGrpSpPr/>
          <p:nvPr/>
        </p:nvGrpSpPr>
        <p:grpSpPr>
          <a:xfrm>
            <a:off x="460440" y="5599080"/>
            <a:ext cx="917640" cy="835200"/>
            <a:chOff x="460440" y="5599080"/>
            <a:chExt cx="917640" cy="835200"/>
          </a:xfrm>
        </p:grpSpPr>
        <p:sp>
          <p:nvSpPr>
            <p:cNvPr id="604" name="Rectangle 73"/>
            <p:cNvSpPr/>
            <p:nvPr/>
          </p:nvSpPr>
          <p:spPr>
            <a:xfrm>
              <a:off x="4604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WordArt 74"/>
            <p:cNvSpPr txBox="1"/>
            <p:nvPr/>
          </p:nvSpPr>
          <p:spPr>
            <a:xfrm>
              <a:off x="6559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6" name="Group 60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07" name="Rectangle 61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WordArt 62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9" name="Group 81"/>
          <p:cNvGrpSpPr/>
          <p:nvPr/>
        </p:nvGrpSpPr>
        <p:grpSpPr>
          <a:xfrm>
            <a:off x="1482840" y="5599080"/>
            <a:ext cx="917640" cy="835200"/>
            <a:chOff x="1482840" y="5599080"/>
            <a:chExt cx="917640" cy="835200"/>
          </a:xfrm>
        </p:grpSpPr>
        <p:sp>
          <p:nvSpPr>
            <p:cNvPr id="610" name="Rectangle 82"/>
            <p:cNvSpPr/>
            <p:nvPr/>
          </p:nvSpPr>
          <p:spPr>
            <a:xfrm>
              <a:off x="1482840" y="55990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WordArt 83"/>
            <p:cNvSpPr txBox="1"/>
            <p:nvPr/>
          </p:nvSpPr>
          <p:spPr>
            <a:xfrm>
              <a:off x="1678320" y="57484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2" name="Group 63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13" name="Rectangle 64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WordArt 65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5" name="Group 84"/>
          <p:cNvGrpSpPr/>
          <p:nvPr/>
        </p:nvGrpSpPr>
        <p:grpSpPr>
          <a:xfrm>
            <a:off x="460440" y="4468680"/>
            <a:ext cx="917640" cy="835200"/>
            <a:chOff x="460440" y="4468680"/>
            <a:chExt cx="917640" cy="835200"/>
          </a:xfrm>
        </p:grpSpPr>
        <p:sp>
          <p:nvSpPr>
            <p:cNvPr id="616" name="Rectangle 85"/>
            <p:cNvSpPr/>
            <p:nvPr/>
          </p:nvSpPr>
          <p:spPr>
            <a:xfrm>
              <a:off x="460440" y="4468680"/>
              <a:ext cx="917640" cy="835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WordArt 86"/>
            <p:cNvSpPr txBox="1"/>
            <p:nvPr/>
          </p:nvSpPr>
          <p:spPr>
            <a:xfrm>
              <a:off x="655920" y="4618080"/>
              <a:ext cx="514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8" name="Group 48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619" name="Rectangle 49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WordArt 50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1" name="Group 69"/>
          <p:cNvGrpSpPr/>
          <p:nvPr/>
        </p:nvGrpSpPr>
        <p:grpSpPr>
          <a:xfrm>
            <a:off x="460440" y="3400560"/>
            <a:ext cx="917640" cy="834840"/>
            <a:chOff x="460440" y="3400560"/>
            <a:chExt cx="917640" cy="834840"/>
          </a:xfrm>
        </p:grpSpPr>
        <p:sp>
          <p:nvSpPr>
            <p:cNvPr id="622" name="Rectangle 70"/>
            <p:cNvSpPr/>
            <p:nvPr/>
          </p:nvSpPr>
          <p:spPr>
            <a:xfrm>
              <a:off x="460440" y="3400560"/>
              <a:ext cx="917640" cy="834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WordArt 71"/>
            <p:cNvSpPr txBox="1"/>
            <p:nvPr/>
          </p:nvSpPr>
          <p:spPr>
            <a:xfrm>
              <a:off x="655920" y="3549600"/>
              <a:ext cx="51408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4" name="AutoShape 114"/>
          <p:cNvSpPr/>
          <p:nvPr/>
        </p:nvSpPr>
        <p:spPr>
          <a:xfrm>
            <a:off x="6705720" y="49197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8406"/>
                </a:moveTo>
                <a:lnTo>
                  <a:pt x="12272" y="8406"/>
                </a:lnTo>
                <a:lnTo>
                  <a:pt x="16694" y="3794"/>
                </a:lnTo>
                <a:lnTo>
                  <a:pt x="16694" y="17806"/>
                </a:lnTo>
                <a:lnTo>
                  <a:pt x="12272" y="13194"/>
                </a:lnTo>
                <a:lnTo>
                  <a:pt x="7842" y="13194"/>
                </a:lnTo>
                <a:close/>
              </a:path>
              <a:path fill="darken" w="29697" h="21600">
                <a:moveTo>
                  <a:pt x="18347" y="10800"/>
                </a:moveTo>
                <a:lnTo>
                  <a:pt x="21855" y="10800"/>
                </a:lnTo>
              </a:path>
              <a:path fill="darken" w="29697" h="21600">
                <a:moveTo>
                  <a:pt x="18347" y="8406"/>
                </a:moveTo>
                <a:lnTo>
                  <a:pt x="21855" y="5639"/>
                </a:lnTo>
              </a:path>
              <a:path fill="darken" w="29697" h="21600">
                <a:moveTo>
                  <a:pt x="18347" y="13194"/>
                </a:moveTo>
                <a:lnTo>
                  <a:pt x="21855" y="15961"/>
                </a:lnTo>
              </a:path>
            </a:pathLst>
          </a:custGeom>
          <a:solidFill>
            <a:srgbClr val="80a7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15"/>
          <p:cNvSpPr/>
          <p:nvPr/>
        </p:nvSpPr>
        <p:spPr>
          <a:xfrm>
            <a:off x="6705720" y="4952880"/>
            <a:ext cx="838080" cy="53352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26" dur="indefinite" restart="never" nodeType="tmRoot">
          <p:childTnLst>
            <p:seq>
              <p:cTn id="182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1" dur="3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3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0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841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4" dur="3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3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854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3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3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867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0" dur="3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3" dur="3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3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89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2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893" nodeType="clickEffect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3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3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06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9" dur="3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3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91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3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3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2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3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4" dur="1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941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2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953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6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7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8" dur="1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965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69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0" dur="1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6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977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1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82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2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3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0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01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0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6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2013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7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8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0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6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037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0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1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2" dur="1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049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2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3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54" dur="1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4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5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6" dur="1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073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6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77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8" dur="1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4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2085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6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097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0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2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2109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0%9B%D1%83%D0%BD%D0%BD%D1%8B%D0%B9%20%D0%B7%D0%B0%D0%B9%D1%87%D0%B8%D0%BA%203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2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a74b"/>
                                      </p:to>
                                    </p:animClr>
                                    <p:set>
                                      <p:cBhvr>
                                        <p:cTn id="2113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уряк мария Викторовна</dc:creator>
  <dc:description/>
  <cp:keywords>Тренажёр</cp:keywords>
  <dc:language>en-US</dc:language>
  <cp:lastModifiedBy>Наташа</cp:lastModifiedBy>
  <dcterms:modified xsi:type="dcterms:W3CDTF">2015-01-25T12:14:25Z</dcterms:modified>
  <cp:revision>90</cp:revision>
  <dc:subject>Тренажёр</dc:subject>
  <dc:title>В сказочном лес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