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B19-CACD-4542-BAA8-59BF6D22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FE4-C532-4C1D-BD40-A9DA9E4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182-CC3C-43D9-BBCC-728C572C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752-3038-4CB7-9E87-9022E082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3454-55C7-4766-8A65-223C610E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B665-73F6-48D0-8D58-E95A9D5D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4AB4-AD88-410F-8D14-316A58FF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256-9A1F-4532-AB0E-0A256F3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687-2E02-4B37-BCE1-DC37911C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0C1-20CA-45B7-8517-94AC5AB5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5034-3546-4A5E-A116-725256A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2E4-1A05-436F-98ED-22F9BA6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C86-DFFA-4D14-9BE6-53CF396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144-D572-4DD1-A266-ABB7FA14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A2DD-A77B-4415-855A-E1E40F7B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D122-3042-4AAD-8429-E4D69C3C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86F-2851-4845-A07B-39705513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9D3-33F5-4DA4-B0FE-E923D92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BD7-475D-43C9-B49B-A131B575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DDC-A721-453D-8FC5-DBD697DD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206-943B-46AE-89FB-94F3B86A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4CB-ABC9-468F-A0C7-8152E9A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199-61E7-4F41-992B-255D904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D0E-FFA7-4E8B-926C-12F8EB1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F373-7A21-47EC-A592-7039F6394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DEB-43E3-4C61-BEB4-31197B672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64360" cy="475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Закрепление изученного</a:t>
            </a:r>
            <a:br>
              <a:rPr sz="7200"/>
            </a:b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 о видах предложений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Упр. 215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предложения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урок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Развитие умения различать предложения по цели высказывания, по интонац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3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1"/>
          <a:srcRect l="21040" t="0" r="60698" b="85819"/>
          <a:stretch/>
        </p:blipFill>
        <p:spPr>
          <a:xfrm>
            <a:off x="179280" y="198900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2"/>
          <a:srcRect l="20749" t="43761" r="60894" b="43935"/>
          <a:stretch/>
        </p:blipFill>
        <p:spPr>
          <a:xfrm>
            <a:off x="6372360" y="4076640"/>
            <a:ext cx="252072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Развлекательный сайт от Ларисы Витковой. Имеются материалы которые просто сами возбуждают желание обучиться."/>
          <p:cNvPicPr/>
          <p:nvPr/>
        </p:nvPicPr>
        <p:blipFill>
          <a:blip r:embed="rId3"/>
          <a:srcRect l="60789" t="28598" r="20532" b="57095"/>
          <a:stretch/>
        </p:blipFill>
        <p:spPr>
          <a:xfrm>
            <a:off x="3132000" y="3500280"/>
            <a:ext cx="2232000" cy="2376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Алексей Николаевич Толстой. Приключения Буратино или Золотой ключик. ч.2 - 27 Травня 2012 - Читаємо казки - Сімейна педагогіка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0720" y="189000"/>
            <a:ext cx="426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едложение бывает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3280" y="1989000"/>
            <a:ext cx="450072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) по цели высказыв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4114440"/>
            <a:ext cx="4498920" cy="19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) по интонац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Буратино анимашка - анимационные фото"/>
          <p:cNvPicPr/>
          <p:nvPr/>
        </p:nvPicPr>
        <p:blipFill>
          <a:blip r:embed="rId2"/>
          <a:stretch/>
        </p:blipFill>
        <p:spPr>
          <a:xfrm>
            <a:off x="-252360" y="0"/>
            <a:ext cx="4824360" cy="6335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3855"/>
          <a:stretch/>
        </p:blipFill>
        <p:spPr>
          <a:xfrm>
            <a:off x="250920" y="1413000"/>
            <a:ext cx="8642160" cy="4464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5373720"/>
            <a:ext cx="9325080" cy="122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акие знаки поставишь в конце предложений? Как докажешь решени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Поле дураков Информационно-новостной портал 'Час Пик'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3440" y="609480"/>
            <a:ext cx="8080200" cy="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6720" bIns="36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252360" y="1413000"/>
            <a:ext cx="90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работай самостояте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88640"/>
            <a:ext cx="9144000" cy="68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ошая горка получилась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Что тут у вас происходит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Что тут у вас происходит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вы это сделал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вы это сделал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7:31:09Z</dcterms:created>
  <dc:creator>Татьяна</dc:creator>
  <dc:description/>
  <dc:language>en-US</dc:language>
  <cp:lastModifiedBy>Татьяна</cp:lastModifiedBy>
  <dcterms:modified xsi:type="dcterms:W3CDTF">2014-11-16T18:11:51Z</dcterms:modified>
  <cp:revision>2</cp:revision>
  <dc:subject/>
  <dc:title>Закрепление изученного  о видах предложений</dc:title>
</cp:coreProperties>
</file>