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D7C4-43E5-4EA3-B89A-650E30DA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94CD-FF4B-4AF1-9669-E96C99C9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DBC-1897-4467-9AE7-CEB8ACF4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658-F8B6-4205-83C6-5355FE15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8A59-9134-4CC7-8194-EEB3594E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FE60-A570-401D-BCFB-12566921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7ADF-7056-449B-816C-A66275B4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C3C8-FBD6-4A89-B753-6C500C9E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275A-E7B1-4FFD-98A8-6849ADF4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E649-4C04-4B21-950B-C45F58BE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B8B6-5C3D-4FBD-AAC5-BEC817E3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616-5A95-4AFB-B97C-31B0605F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9F5A-35E0-4CB0-8525-8DB36DD3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65D6-606B-4B6E-894E-A276DC25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0B5B-13C0-4084-BD04-66161403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D853-AACD-4A06-AB78-1E094DA8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2C9F-E9E6-40BD-9DB7-99792685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C2D9-9EF1-4631-A946-F37DAAD7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28E7-E129-4418-9B05-1845090C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E750-8588-4280-A5A2-377D2B9B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6BC-7C8D-4026-860D-4E52C805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9E54-D9DD-4038-93EE-18450E09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79B3-32F6-4247-809C-0FE3B165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CDC-3C92-4007-A3B4-B27586DB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0571-54C9-4E22-A0B5-5303D74892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88E5-909E-4C2E-BB24-3358684B28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064360" cy="475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Arial"/>
              </a:rPr>
              <a:t>Закрепление изученного</a:t>
            </a:r>
            <a:br>
              <a:rPr sz="7200"/>
            </a:br>
            <a:r>
              <a:rPr b="1" lang="en-US" sz="7200" spc="-1" strike="noStrike">
                <a:solidFill>
                  <a:srgbClr val="ffcc66"/>
                </a:solidFill>
                <a:latin typeface="Arial"/>
              </a:rPr>
              <a:t> о видах предложений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Упр. 215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предложения)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Цель урока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Развитие умения различать предложения по цели высказывания, по интонаци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Минутка чистописан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3" name="" descr="Развлекательный сайт от Ларисы Витковой. Имеются материалы которые просто сами возбуждают желание обучиться."/>
          <p:cNvPicPr/>
          <p:nvPr/>
        </p:nvPicPr>
        <p:blipFill>
          <a:blip r:embed="rId1"/>
          <a:srcRect l="21040" t="0" r="60698" b="85819"/>
          <a:stretch/>
        </p:blipFill>
        <p:spPr>
          <a:xfrm>
            <a:off x="179280" y="1989000"/>
            <a:ext cx="2160720" cy="2376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Развлекательный сайт от Ларисы Витковой. Имеются материалы которые просто сами возбуждают желание обучиться."/>
          <p:cNvPicPr/>
          <p:nvPr/>
        </p:nvPicPr>
        <p:blipFill>
          <a:blip r:embed="rId2"/>
          <a:srcRect l="20749" t="43761" r="60894" b="43935"/>
          <a:stretch/>
        </p:blipFill>
        <p:spPr>
          <a:xfrm>
            <a:off x="6372360" y="4076640"/>
            <a:ext cx="2520720" cy="244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Развлекательный сайт от Ларисы Витковой. Имеются материалы которые просто сами возбуждают желание обучиться."/>
          <p:cNvPicPr/>
          <p:nvPr/>
        </p:nvPicPr>
        <p:blipFill>
          <a:blip r:embed="rId3"/>
          <a:srcRect l="60789" t="28598" r="20532" b="57095"/>
          <a:stretch/>
        </p:blipFill>
        <p:spPr>
          <a:xfrm>
            <a:off x="3132000" y="3500280"/>
            <a:ext cx="2232000" cy="23767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Алексей Николаевич Толстой. Приключения Буратино или Золотой ключик. ч.2 - 27 Травня 2012 - Читаємо казки - Сімейна педагогіка"/>
          <p:cNvPicPr/>
          <p:nvPr/>
        </p:nvPicPr>
        <p:blipFill>
          <a:blip r:embed="rId1"/>
          <a:stretch/>
        </p:blipFill>
        <p:spPr>
          <a:xfrm>
            <a:off x="539640" y="260280"/>
            <a:ext cx="8280360" cy="64087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00720" y="189000"/>
            <a:ext cx="426240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редложение бывает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2560" y="198108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643280" y="1989000"/>
            <a:ext cx="450072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) по цели высказыва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4720" y="4114440"/>
            <a:ext cx="4498920" cy="1981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) по интонац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Буратино анимашка - анимационные фото"/>
          <p:cNvPicPr/>
          <p:nvPr/>
        </p:nvPicPr>
        <p:blipFill>
          <a:blip r:embed="rId2"/>
          <a:stretch/>
        </p:blipFill>
        <p:spPr>
          <a:xfrm>
            <a:off x="-252360" y="0"/>
            <a:ext cx="4824360" cy="63356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33855"/>
          <a:stretch/>
        </p:blipFill>
        <p:spPr>
          <a:xfrm>
            <a:off x="250920" y="1413000"/>
            <a:ext cx="8642160" cy="4464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5373720"/>
            <a:ext cx="9325080" cy="122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Какие знаки поставишь в конце предложений? Как докажешь решение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Поле дураков Информационно-новостной портал 'Час Пик'"/>
          <p:cNvPicPr/>
          <p:nvPr/>
        </p:nvPicPr>
        <p:blipFill>
          <a:blip r:embed="rId1"/>
          <a:stretch/>
        </p:blipFill>
        <p:spPr>
          <a:xfrm>
            <a:off x="826920" y="189000"/>
            <a:ext cx="7490160" cy="49687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3440" y="609480"/>
            <a:ext cx="8080200" cy="8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6720" bIns="36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252360" y="1413000"/>
            <a:ext cx="900108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работай самостоятель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0" y="188640"/>
            <a:ext cx="9144000" cy="6840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Хорошая горка получилась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Хорошая горка получилась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Хорошая горка получилась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Что тут у вас происходит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Что тут у вас происходит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вы это сделали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вы это сделали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17:31:09Z</dcterms:created>
  <dc:creator>Татьяна</dc:creator>
  <dc:description/>
  <dc:language>en-US</dc:language>
  <cp:lastModifiedBy>Татьяна</cp:lastModifiedBy>
  <dcterms:modified xsi:type="dcterms:W3CDTF">2014-11-16T18:11:51Z</dcterms:modified>
  <cp:revision>2</cp:revision>
  <dc:subject/>
  <dc:title>Закрепление изученного  о видах предложений</dc:title>
</cp:coreProperties>
</file>