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drumroll.wav" ContentType="audio/x-wav"/>
  <Override PartName="/ppt/media/image15.png" ContentType="image/png"/>
  <Override PartName="/ppt/media/image10.jpeg" ContentType="image/jpeg"/>
  <Override PartName="/ppt/media/image5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applause.wav" ContentType="audio/x-wav"/>
  <Override PartName="/ppt/media/image16.jpeg" ContentType="image/jpeg"/>
  <Override PartName="/ppt/media/image20.jpeg" ContentType="image/jpeg"/>
  <Override PartName="/ppt/media/image18.png" ContentType="image/png"/>
  <Override PartName="/ppt/media/image19.png" ContentType="image/png"/>
  <Override PartName="/ppt/media/image17.png" ContentType="image/png"/>
  <Override PartName="/ppt/media/image13.jpeg" ContentType="image/jpeg"/>
  <Override PartName="/ppt/media/image1.png" ContentType="image/png"/>
  <Override PartName="/ppt/media/image21.gif" ContentType="image/gif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EC45-0870-4727-AC02-AF23B08AD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E303-9EFA-4B0C-A644-A1B23E79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A695-8F90-45B5-A198-655DB70FD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DFE5-0F4E-4C73-87AC-CE0B251CF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6492-2A17-4813-9D0C-1290D117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1512-9E0A-4213-82E6-2326549D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B958-6B4F-4786-82B9-1400DF43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4702-9B90-491A-805E-7E191FC4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3A55-3F68-46E0-B898-753D5368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E0BC-A40E-4592-B4F8-5BE88228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F27B-8679-4593-8871-A12EDFB0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9F42-85B5-4592-92F1-ACAF8367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6F02-5DA7-4A00-A8AE-34CCE558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F1B8-778E-4A99-A390-550F8C1F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2389-4C8D-4D56-81F1-258060F8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BBDE-F129-43D6-96BC-F032D3191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36BA-AEFB-4256-9116-120A04D21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6741-9EE3-4A9A-B08D-70DED07A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F4E1-B19D-4425-8050-2B5A812C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C22A-6528-44D8-AFE1-DCA1F4A7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EBB2-0D74-4AD0-842A-7180FCAC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FF80-003E-4DD5-AF71-3EE42F55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571C-DBF3-4277-B63E-1A08DC41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30B6-A623-49EA-A872-1ACAC8F9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BCC6-20C1-4613-8A1E-6CEB1D085C6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BB55-E77B-4C76-BC64-05EE228D186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19.png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95280" y="2590920"/>
            <a:ext cx="78487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Verdana"/>
              </a:rPr>
              <a:t>Математическая</a:t>
            </a:r>
            <a:r>
              <a:rPr b="1" lang="ru-RU" sz="4800" spc="-1" strike="noStrike">
                <a:solidFill>
                  <a:srgbClr val="ff5050"/>
                </a:solidFill>
                <a:latin typeface="Verdana"/>
              </a:rPr>
              <a:t>       </a:t>
            </a:r>
            <a:br>
              <a:rPr sz="4800"/>
            </a:br>
            <a:r>
              <a:rPr b="1" lang="ru-RU" sz="4800" spc="-1" strike="noStrike">
                <a:solidFill>
                  <a:srgbClr val="ff5050"/>
                </a:solidFill>
                <a:latin typeface="Verdana"/>
              </a:rPr>
              <a:t>            </a:t>
            </a:r>
            <a:r>
              <a:rPr b="1" lang="ru-RU" sz="4800" spc="-1" strike="noStrike">
                <a:solidFill>
                  <a:srgbClr val="0000ff"/>
                </a:solidFill>
                <a:latin typeface="Verdana"/>
              </a:rPr>
              <a:t>викторин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Verdana"/>
              </a:rPr>
              <a:t>Математика 5 – 6</a:t>
            </a: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WordArt 10"/>
          <p:cNvSpPr txBox="1"/>
          <p:nvPr/>
        </p:nvSpPr>
        <p:spPr>
          <a:xfrm>
            <a:off x="1143000" y="152280"/>
            <a:ext cx="40384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т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нтересно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2" name="Рисунок 11" descr="E:\Мои документы\Мои рисунки\последний звонок 1\11526802[1].jpg"/>
          <p:cNvPicPr/>
          <p:nvPr/>
        </p:nvPicPr>
        <p:blipFill>
          <a:blip r:embed="rId1"/>
          <a:stretch/>
        </p:blipFill>
        <p:spPr>
          <a:xfrm>
            <a:off x="6705720" y="228600"/>
            <a:ext cx="1928520" cy="22748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"/>
          <p:cNvPicPr/>
          <p:nvPr/>
        </p:nvPicPr>
        <p:blipFill>
          <a:blip r:embed="rId2"/>
          <a:stretch/>
        </p:blipFill>
        <p:spPr>
          <a:xfrm>
            <a:off x="1371600" y="5105520"/>
            <a:ext cx="2057400" cy="1522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"/>
          <p:cNvPicPr/>
          <p:nvPr/>
        </p:nvPicPr>
        <p:blipFill>
          <a:blip r:embed="rId3"/>
          <a:stretch/>
        </p:blipFill>
        <p:spPr>
          <a:xfrm>
            <a:off x="6781680" y="5159520"/>
            <a:ext cx="1981440" cy="169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5800" y="3047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Малыш может съесть банку варенья за 30 минут, а Карлсон – в 5 раз быстрее. За сколько времени они съедят такую банку варенья, если начнут есть ее со своей обычной скоростью вместе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2"/>
          <a:stretch/>
        </p:blipFill>
        <p:spPr>
          <a:xfrm>
            <a:off x="762120" y="0"/>
            <a:ext cx="3276360" cy="279576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15" descr="E:\Мои документы\Мои рисунки\03a5b123776c[1].jpg"/>
          <p:cNvPicPr/>
          <p:nvPr/>
        </p:nvPicPr>
        <p:blipFill>
          <a:blip r:embed="rId3"/>
          <a:stretch/>
        </p:blipFill>
        <p:spPr>
          <a:xfrm>
            <a:off x="5562720" y="304920"/>
            <a:ext cx="222732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2743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60093"/>
                </a:solidFill>
                <a:latin typeface="Verdana"/>
              </a:rPr>
              <a:t>Ответ:</a:t>
            </a:r>
            <a:r>
              <a:rPr b="0" lang="ru-RU" sz="3200" spc="-1" strike="noStrike">
                <a:solidFill>
                  <a:srgbClr val="d60093"/>
                </a:solidFill>
                <a:latin typeface="Verdana"/>
              </a:rPr>
              <a:t> </a:t>
            </a:r>
            <a:r>
              <a:rPr b="0" lang="ru-RU" sz="6000" spc="-1" strike="noStrike">
                <a:solidFill>
                  <a:srgbClr val="d60093"/>
                </a:solidFill>
                <a:latin typeface="Verdana"/>
              </a:rPr>
              <a:t>5 мин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Рисунок 6" descr="E:\Мои документы\Мои рисунки\Картинки\Текстура\617085.JPG"/>
          <p:cNvPicPr/>
          <p:nvPr/>
        </p:nvPicPr>
        <p:blipFill>
          <a:blip r:embed="rId2"/>
          <a:stretch/>
        </p:blipFill>
        <p:spPr>
          <a:xfrm>
            <a:off x="4343400" y="3048120"/>
            <a:ext cx="4086360" cy="273204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10" descr="E:\Мои документы\Мои рисунки\последний звонок 1\0DCXWKCAMR5B71CAOEDOFZCAQ6KUUTCA5KY0G8CA2BPSHYCANO0ZCNCA0KRBCCCAULD7ELCAS31AISCA19OJESCARIAM8JCA9ZTFKXCAYYYCP7CAUD1SIBCADOSBQGCAQ421O7CA6TTCALCANUGVCECANH6OY6.jpg"/>
          <p:cNvPicPr/>
          <p:nvPr/>
        </p:nvPicPr>
        <p:blipFill>
          <a:blip r:embed="rId3"/>
          <a:stretch/>
        </p:blipFill>
        <p:spPr>
          <a:xfrm>
            <a:off x="990720" y="380880"/>
            <a:ext cx="1906560" cy="28958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4" name="drumroll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880" y="-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В классе 35 учеников.  Из них: 20 школьников занимаются в математическом кружке, 11 в экологическом, 10 ребят не посещают эти кружки.  Сколько экологов увлекается математикой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Рисунок 8" descr="E:\Мои документы\Мои рисунки\последний звонок 1\1191269172_c41241-218x300[1].jpg"/>
          <p:cNvPicPr/>
          <p:nvPr/>
        </p:nvPicPr>
        <p:blipFill>
          <a:blip r:embed="rId2"/>
          <a:stretch/>
        </p:blipFill>
        <p:spPr>
          <a:xfrm>
            <a:off x="4343400" y="3124080"/>
            <a:ext cx="2398680" cy="3124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590920" y="53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60093"/>
                </a:solidFill>
                <a:latin typeface="Verdana"/>
              </a:rPr>
              <a:t>Ответ:</a:t>
            </a:r>
            <a:r>
              <a:rPr b="0" lang="ru-RU" sz="3200" spc="-1" strike="noStrike">
                <a:solidFill>
                  <a:srgbClr val="d60093"/>
                </a:solidFill>
                <a:latin typeface="Verdana"/>
              </a:rPr>
              <a:t> </a:t>
            </a:r>
            <a:r>
              <a:rPr b="0" lang="ru-RU" sz="6000" spc="-1" strike="noStrike">
                <a:solidFill>
                  <a:srgbClr val="d60093"/>
                </a:solidFill>
                <a:latin typeface="Verdana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Рисунок 6" descr="E:\Мои документы\Мои рисунки\Картинки\Текстура\617085.JPG"/>
          <p:cNvPicPr/>
          <p:nvPr/>
        </p:nvPicPr>
        <p:blipFill>
          <a:blip r:embed="rId2"/>
          <a:stretch/>
        </p:blipFill>
        <p:spPr>
          <a:xfrm>
            <a:off x="3429000" y="2895480"/>
            <a:ext cx="4086360" cy="273204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10" descr="E:\Мои документы\Мои рисунки\последний звонок 1\0DCXWKCAMR5B71CAOEDOFZCAQ6KUUTCA5KY0G8CA2BPSHYCANO0ZCNCA0KRBCCCAULD7ELCAS31AISCA19OJESCARIAM8JCA9ZTFKXCAYYYCP7CAUD1SIBCADOSBQGCAQ421O7CA6TTCALCANUGVCECANH6OY6.jpg"/>
          <p:cNvPicPr/>
          <p:nvPr/>
        </p:nvPicPr>
        <p:blipFill>
          <a:blip r:embed="rId3"/>
          <a:stretch/>
        </p:blipFill>
        <p:spPr>
          <a:xfrm>
            <a:off x="304920" y="304920"/>
            <a:ext cx="1906560" cy="28954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4" name="drumroll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Четверо играли в домино 4 часа. Сколько часов играл каждый?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2"/>
          <a:stretch/>
        </p:blipFill>
        <p:spPr>
          <a:xfrm>
            <a:off x="4038480" y="2854440"/>
            <a:ext cx="3564000" cy="3456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"/>
          <p:cNvPicPr/>
          <p:nvPr/>
        </p:nvPicPr>
        <p:blipFill>
          <a:blip r:embed="rId3"/>
          <a:stretch/>
        </p:blipFill>
        <p:spPr>
          <a:xfrm>
            <a:off x="4038480" y="2819520"/>
            <a:ext cx="356400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04812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60093"/>
                </a:solidFill>
                <a:latin typeface="Verdana"/>
              </a:rPr>
              <a:t>Ответ:</a:t>
            </a:r>
            <a:r>
              <a:rPr b="0" lang="ru-RU" sz="3200" spc="-1" strike="noStrike">
                <a:solidFill>
                  <a:srgbClr val="d60093"/>
                </a:solidFill>
                <a:latin typeface="Verdana"/>
              </a:rPr>
              <a:t> </a:t>
            </a:r>
            <a:r>
              <a:rPr b="0" lang="ru-RU" sz="6000" spc="-1" strike="noStrike">
                <a:solidFill>
                  <a:srgbClr val="d60093"/>
                </a:solidFill>
                <a:latin typeface="Verdana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Рисунок 6" descr="E:\Мои документы\Мои рисунки\Картинки\Текстура\617085.JPG"/>
          <p:cNvPicPr/>
          <p:nvPr/>
        </p:nvPicPr>
        <p:blipFill>
          <a:blip r:embed="rId2"/>
          <a:stretch/>
        </p:blipFill>
        <p:spPr>
          <a:xfrm>
            <a:off x="3886200" y="3581280"/>
            <a:ext cx="4086360" cy="273204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10" descr="E:\Мои документы\Мои рисунки\последний звонок 1\0DCXWKCAMR5B71CAOEDOFZCAQ6KUUTCA5KY0G8CA2BPSHYCANO0ZCNCA0KRBCCCAULD7ELCAS31AISCA19OJESCARIAM8JCA9ZTFKXCAYYYCP7CAUD1SIBCADOSBQGCAQ421O7CA6TTCALCANUGVCECANH6OY6.jpg"/>
          <p:cNvPicPr/>
          <p:nvPr/>
        </p:nvPicPr>
        <p:blipFill>
          <a:blip r:embed="rId3"/>
          <a:stretch/>
        </p:blipFill>
        <p:spPr>
          <a:xfrm>
            <a:off x="1143000" y="609480"/>
            <a:ext cx="1906560" cy="28958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4" name="drumroll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Одно яйцо варят 4 минуты. Сколько минут надо варить 6 яиц?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2"/>
          <a:stretch/>
        </p:blipFill>
        <p:spPr>
          <a:xfrm>
            <a:off x="4599000" y="3124080"/>
            <a:ext cx="3259080" cy="35053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89548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6000" spc="-1" strike="noStrike">
                <a:solidFill>
                  <a:srgbClr val="d60093"/>
                </a:solidFill>
                <a:latin typeface="Verdana"/>
              </a:rPr>
              <a:t>Ответ:</a:t>
            </a:r>
            <a:r>
              <a:rPr b="0" lang="ru-RU" sz="3200" spc="-1" strike="noStrike">
                <a:solidFill>
                  <a:srgbClr val="d60093"/>
                </a:solidFill>
                <a:latin typeface="Verdana"/>
              </a:rPr>
              <a:t> </a:t>
            </a:r>
            <a:r>
              <a:rPr b="0" lang="ru-RU" sz="6000" spc="-1" strike="noStrike">
                <a:solidFill>
                  <a:srgbClr val="d60093"/>
                </a:solidFill>
                <a:latin typeface="Verdana"/>
              </a:rPr>
              <a:t>4 мин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Рисунок 6" descr="E:\Мои документы\Мои рисунки\Картинки\Текстура\617085.JPG"/>
          <p:cNvPicPr/>
          <p:nvPr/>
        </p:nvPicPr>
        <p:blipFill>
          <a:blip r:embed="rId2"/>
          <a:stretch/>
        </p:blipFill>
        <p:spPr>
          <a:xfrm>
            <a:off x="4343400" y="3048120"/>
            <a:ext cx="4086360" cy="273204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10" descr="E:\Мои документы\Мои рисунки\последний звонок 1\0DCXWKCAMR5B71CAOEDOFZCAQ6KUUTCA5KY0G8CA2BPSHYCANO0ZCNCA0KRBCCCAULD7ELCAS31AISCA19OJESCARIAM8JCA9ZTFKXCAYYYCP7CAUD1SIBCADOSBQGCAQ421O7CA6TTCALCANUGVCECANH6OY6.jpg"/>
          <p:cNvPicPr/>
          <p:nvPr/>
        </p:nvPicPr>
        <p:blipFill>
          <a:blip r:embed="rId3"/>
          <a:stretch/>
        </p:blipFill>
        <p:spPr>
          <a:xfrm>
            <a:off x="1066680" y="304920"/>
            <a:ext cx="1906560" cy="28954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4" name="drumroll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0492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От стола отпилили угол. Сколько углов осталось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2"/>
          <a:stretch/>
        </p:blipFill>
        <p:spPr>
          <a:xfrm>
            <a:off x="4114800" y="3352680"/>
            <a:ext cx="2995560" cy="30481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3"/>
          <a:stretch/>
        </p:blipFill>
        <p:spPr>
          <a:xfrm>
            <a:off x="1600200" y="228600"/>
            <a:ext cx="2514600" cy="21556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"/>
          <p:cNvPicPr/>
          <p:nvPr/>
        </p:nvPicPr>
        <p:blipFill>
          <a:blip r:embed="rId4"/>
          <a:stretch/>
        </p:blipFill>
        <p:spPr>
          <a:xfrm>
            <a:off x="1600200" y="228600"/>
            <a:ext cx="2514600" cy="21556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50532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60093"/>
                </a:solidFill>
                <a:latin typeface="Verdana"/>
              </a:rPr>
              <a:t>Ответ:</a:t>
            </a:r>
            <a:r>
              <a:rPr b="0" lang="ru-RU" sz="3200" spc="-1" strike="noStrike">
                <a:solidFill>
                  <a:srgbClr val="d60093"/>
                </a:solidFill>
                <a:latin typeface="Verdana"/>
              </a:rPr>
              <a:t> </a:t>
            </a:r>
            <a:r>
              <a:rPr b="0" lang="ru-RU" sz="6000" spc="-1" strike="noStrike">
                <a:solidFill>
                  <a:srgbClr val="d60093"/>
                </a:solidFill>
                <a:latin typeface="Verdana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Рисунок 6" descr="E:\Мои документы\Мои рисунки\Картинки\Текстура\617085.JPG"/>
          <p:cNvPicPr/>
          <p:nvPr/>
        </p:nvPicPr>
        <p:blipFill>
          <a:blip r:embed="rId2"/>
          <a:stretch/>
        </p:blipFill>
        <p:spPr>
          <a:xfrm>
            <a:off x="3276720" y="3429000"/>
            <a:ext cx="4086000" cy="273204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10" descr="E:\Мои документы\Мои рисунки\последний звонок 1\0DCXWKCAMR5B71CAOEDOFZCAQ6KUUTCA5KY0G8CA2BPSHYCANO0ZCNCA0KRBCCCAULD7ELCAS31AISCA19OJESCARIAM8JCA9ZTFKXCAYYYCP7CAUD1SIBCADOSBQGCAQ421O7CA6TTCALCANUGVCECANH6OY6.jpg"/>
          <p:cNvPicPr/>
          <p:nvPr/>
        </p:nvPicPr>
        <p:blipFill>
          <a:blip r:embed="rId3"/>
          <a:stretch/>
        </p:blipFill>
        <p:spPr>
          <a:xfrm>
            <a:off x="1219320" y="228600"/>
            <a:ext cx="1906560" cy="28954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4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1. Кот в Сапогах поймал четырех щук и еще половину улова. Сколько щук поймал Кот в Сапогах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2"/>
          <a:stretch/>
        </p:blipFill>
        <p:spPr>
          <a:xfrm>
            <a:off x="5029200" y="2819520"/>
            <a:ext cx="2822400" cy="31096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Отгадай загадку: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Лежали конфетки в кучке.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Две матери, две дочки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Да бабушка с внучкой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Взяли конфет по штучке,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И не стало этой кучки.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Сколько конфет было в кучке?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Picture 7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3200400" cy="214308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11" descr="E:\Мои документы\Мои рисунки\последний звонок 1\11526802[1].jpg"/>
          <p:cNvPicPr/>
          <p:nvPr/>
        </p:nvPicPr>
        <p:blipFill>
          <a:blip r:embed="rId3"/>
          <a:stretch/>
        </p:blipFill>
        <p:spPr>
          <a:xfrm>
            <a:off x="5410080" y="228600"/>
            <a:ext cx="251964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12408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60093"/>
                </a:solidFill>
                <a:latin typeface="Verdana"/>
              </a:rPr>
              <a:t>Ответ:</a:t>
            </a:r>
            <a:r>
              <a:rPr b="0" lang="ru-RU" sz="3200" spc="-1" strike="noStrike">
                <a:solidFill>
                  <a:srgbClr val="d60093"/>
                </a:solidFill>
                <a:latin typeface="Verdana"/>
              </a:rPr>
              <a:t> </a:t>
            </a:r>
            <a:r>
              <a:rPr b="0" lang="ru-RU" sz="6000" spc="-1" strike="noStrike">
                <a:solidFill>
                  <a:srgbClr val="d60093"/>
                </a:solidFill>
                <a:latin typeface="Verdana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1" name="Рисунок 6" descr="E:\Мои документы\Мои рисунки\Картинки\Текстура\617085.JPG"/>
          <p:cNvPicPr/>
          <p:nvPr/>
        </p:nvPicPr>
        <p:blipFill>
          <a:blip r:embed="rId2"/>
          <a:stretch/>
        </p:blipFill>
        <p:spPr>
          <a:xfrm>
            <a:off x="4343400" y="3048120"/>
            <a:ext cx="4086360" cy="273204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0" descr="E:\Мои документы\Мои рисунки\последний звонок 1\0DCXWKCAMR5B71CAOEDOFZCAQ6KUUTCA5KY0G8CA2BPSHYCANO0ZCNCA0KRBCCCAULD7ELCAS31AISCA19OJESCARIAM8JCA9ZTFKXCAYYYCP7CAUD1SIBCADOSBQGCAQ421O7CA6TTCALCANUGVCECANH6OY6.jpg"/>
          <p:cNvPicPr/>
          <p:nvPr/>
        </p:nvPicPr>
        <p:blipFill>
          <a:blip r:embed="rId3"/>
          <a:stretch/>
        </p:blipFill>
        <p:spPr>
          <a:xfrm>
            <a:off x="638280" y="228600"/>
            <a:ext cx="210636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4" name="drumroll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7"/>
          <p:cNvPicPr/>
          <p:nvPr/>
        </p:nvPicPr>
        <p:blipFill>
          <a:blip r:embed="rId1"/>
          <a:stretch/>
        </p:blipFill>
        <p:spPr>
          <a:xfrm>
            <a:off x="228600" y="152280"/>
            <a:ext cx="3036960" cy="411480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3429000" y="455760"/>
            <a:ext cx="5410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У меня в одной коробке 3 жука,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А в другой имею я 3 паука.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В уголке шуршат бумагой 2 ежа,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А в двух клетках распевают 2 чижа.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Кто, ребята, сосчитать бы мне помог,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Сколько вместе все они имеют ног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5" name="Picture 7" descr=""/>
          <p:cNvPicPr/>
          <p:nvPr/>
        </p:nvPicPr>
        <p:blipFill>
          <a:blip r:embed="rId2"/>
          <a:stretch/>
        </p:blipFill>
        <p:spPr>
          <a:xfrm>
            <a:off x="685800" y="4344840"/>
            <a:ext cx="2590920" cy="2513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66688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60093"/>
                </a:solidFill>
                <a:latin typeface="Verdana"/>
              </a:rPr>
              <a:t>Ответ:</a:t>
            </a:r>
            <a:r>
              <a:rPr b="0" lang="ru-RU" sz="3200" spc="-1" strike="noStrike">
                <a:solidFill>
                  <a:srgbClr val="d60093"/>
                </a:solidFill>
                <a:latin typeface="Verdana"/>
              </a:rPr>
              <a:t> </a:t>
            </a:r>
            <a:r>
              <a:rPr b="0" lang="ru-RU" sz="6000" spc="-1" strike="noStrike">
                <a:solidFill>
                  <a:srgbClr val="d60093"/>
                </a:solidFill>
                <a:latin typeface="Verdana"/>
              </a:rPr>
              <a:t>54 ноги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7" name="Рисунок 6" descr="E:\Мои документы\Мои рисунки\Картинки\Текстура\617085.JPG"/>
          <p:cNvPicPr/>
          <p:nvPr/>
        </p:nvPicPr>
        <p:blipFill>
          <a:blip r:embed="rId2"/>
          <a:stretch/>
        </p:blipFill>
        <p:spPr>
          <a:xfrm>
            <a:off x="4343400" y="3048120"/>
            <a:ext cx="4086360" cy="273204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10" descr="E:\Мои документы\Мои рисунки\последний звонок 1\0DCXWKCAMR5B71CAOEDOFZCAQ6KUUTCA5KY0G8CA2BPSHYCANO0ZCNCA0KRBCCCAULD7ELCAS31AISCA19OJESCARIAM8JCA9ZTFKXCAYYYCP7CAUD1SIBCADOSBQGCAQ421O7CA6TTCALCANUGVCECANH6OY6.jpg"/>
          <p:cNvPicPr/>
          <p:nvPr/>
        </p:nvPicPr>
        <p:blipFill>
          <a:blip r:embed="rId3"/>
          <a:stretch/>
        </p:blipFill>
        <p:spPr>
          <a:xfrm>
            <a:off x="762120" y="0"/>
            <a:ext cx="210636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4" name="drumroll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WordArt 30"/>
          <p:cNvSpPr txBox="1"/>
          <p:nvPr/>
        </p:nvSpPr>
        <p:spPr>
          <a:xfrm rot="20423400">
            <a:off x="914040" y="761760"/>
            <a:ext cx="8229600" cy="453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ПОЗДРАВЛЯЕМ!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pic>
        <p:nvPicPr>
          <p:cNvPr id="230" name="Picture 11" descr="AG00373_"/>
          <p:cNvPicPr/>
          <p:nvPr/>
        </p:nvPicPr>
        <p:blipFill>
          <a:blip r:embed="rId1"/>
          <a:stretch/>
        </p:blipFill>
        <p:spPr>
          <a:xfrm>
            <a:off x="6172200" y="3505320"/>
            <a:ext cx="2743200" cy="2638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2"/>
          <a:stretch/>
        </p:blipFill>
        <p:spPr>
          <a:xfrm>
            <a:off x="2209680" y="3505320"/>
            <a:ext cx="2995560" cy="30477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8"/>
          <p:cNvSpPr/>
          <p:nvPr/>
        </p:nvSpPr>
        <p:spPr>
          <a:xfrm>
            <a:off x="2562840" y="1904040"/>
            <a:ext cx="622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ff"/>
                </a:solidFill>
                <a:latin typeface="Verdana"/>
              </a:rPr>
              <a:t>ПОБЕДИТЕЛЯ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omb dir="horz"/>
    <p:sndAc>
      <p:stSnd>
        <p:snd r:embed="rId3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286000" y="914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6000" spc="-1" strike="noStrike">
                <a:solidFill>
                  <a:srgbClr val="d60093"/>
                </a:solidFill>
                <a:latin typeface="Verdana"/>
              </a:rPr>
              <a:t>Ответ:</a:t>
            </a:r>
            <a:r>
              <a:rPr b="0" lang="ru-RU" sz="3200" spc="-1" strike="noStrike">
                <a:solidFill>
                  <a:srgbClr val="d60093"/>
                </a:solidFill>
                <a:latin typeface="Verdana"/>
              </a:rPr>
              <a:t>  </a:t>
            </a:r>
            <a:r>
              <a:rPr b="0" lang="ru-RU" sz="6000" spc="-1" strike="noStrike">
                <a:solidFill>
                  <a:srgbClr val="d60093"/>
                </a:solidFill>
                <a:latin typeface="Verdana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Рисунок 6" descr="E:\Мои документы\Мои рисунки\Картинки\Текстура\617085.JPG"/>
          <p:cNvPicPr/>
          <p:nvPr/>
        </p:nvPicPr>
        <p:blipFill>
          <a:blip r:embed="rId2"/>
          <a:stretch/>
        </p:blipFill>
        <p:spPr>
          <a:xfrm>
            <a:off x="3505320" y="2895480"/>
            <a:ext cx="4086000" cy="273204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0" descr="E:\Мои документы\Мои рисунки\последний звонок 1\0DCXWKCAMR5B71CAOEDOFZCAQ6KUUTCA5KY0G8CA2BPSHYCANO0ZCNCA0KRBCCCAULD7ELCAS31AISCA19OJESCARIAM8JCA9ZTFKXCAYYYCP7CAUD1SIBCADOSBQGCAQ421O7CA6TTCALCANUGVCECANH6OY6.jpg"/>
          <p:cNvPicPr/>
          <p:nvPr/>
        </p:nvPicPr>
        <p:blipFill>
          <a:blip r:embed="rId3"/>
          <a:stretch/>
        </p:blipFill>
        <p:spPr>
          <a:xfrm>
            <a:off x="380880" y="0"/>
            <a:ext cx="1906560" cy="28954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4" name="drumroll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286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Коробка с печеньем весят 330 грамм. Коробка весит в 10 раз меньше печенья. Сколько весит печенье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2"/>
          <a:stretch/>
        </p:blipFill>
        <p:spPr>
          <a:xfrm>
            <a:off x="5105520" y="4114800"/>
            <a:ext cx="2857320" cy="261000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16" descr="E:\Мои документы\Мои рисунки\1191268972_c4107[1].jpg"/>
          <p:cNvPicPr/>
          <p:nvPr/>
        </p:nvPicPr>
        <p:blipFill>
          <a:blip r:embed="rId3"/>
          <a:stretch/>
        </p:blipFill>
        <p:spPr>
          <a:xfrm>
            <a:off x="1143000" y="152280"/>
            <a:ext cx="2133720" cy="2121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58128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60093"/>
                </a:solidFill>
                <a:latin typeface="Verdana"/>
              </a:rPr>
              <a:t>Ответ:</a:t>
            </a:r>
            <a:r>
              <a:rPr b="0" lang="ru-RU" sz="3200" spc="-1" strike="noStrike">
                <a:solidFill>
                  <a:srgbClr val="d60093"/>
                </a:solidFill>
                <a:latin typeface="Verdana"/>
              </a:rPr>
              <a:t> </a:t>
            </a:r>
            <a:r>
              <a:rPr b="0" lang="ru-RU" sz="6000" spc="-1" strike="noStrike">
                <a:solidFill>
                  <a:srgbClr val="d60093"/>
                </a:solidFill>
                <a:latin typeface="Verdana"/>
              </a:rPr>
              <a:t>300</a:t>
            </a: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Рисунок 6" descr="E:\Мои документы\Мои рисунки\Картинки\Текстура\617085.JPG"/>
          <p:cNvPicPr/>
          <p:nvPr/>
        </p:nvPicPr>
        <p:blipFill>
          <a:blip r:embed="rId2"/>
          <a:stretch/>
        </p:blipFill>
        <p:spPr>
          <a:xfrm>
            <a:off x="4495680" y="3276720"/>
            <a:ext cx="4086360" cy="273204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10" descr="E:\Мои документы\Мои рисунки\последний звонок 1\0DCXWKCAMR5B71CAOEDOFZCAQ6KUUTCA5KY0G8CA2BPSHYCANO0ZCNCA0KRBCCCAULD7ELCAS31AISCA19OJESCARIAM8JCA9ZTFKXCAYYYCP7CAUD1SIBCADOSBQGCAQ421O7CA6TTCALCANUGVCECANH6OY6.jpg"/>
          <p:cNvPicPr/>
          <p:nvPr/>
        </p:nvPicPr>
        <p:blipFill>
          <a:blip r:embed="rId3"/>
          <a:stretch/>
        </p:blipFill>
        <p:spPr>
          <a:xfrm>
            <a:off x="1295280" y="380880"/>
            <a:ext cx="1906560" cy="28958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4" name="drumroll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Из четырех одинаковых квадратов сложили прямоугольник. Чему равен периметр каждого квадрата, если периметр прямоугольника равен 60с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Рисунок 15" descr="E:\Мои документы\Мои рисунки\03a5b123776c[1].jpg"/>
          <p:cNvPicPr/>
          <p:nvPr/>
        </p:nvPicPr>
        <p:blipFill>
          <a:blip r:embed="rId2"/>
          <a:stretch/>
        </p:blipFill>
        <p:spPr>
          <a:xfrm>
            <a:off x="4114800" y="3048120"/>
            <a:ext cx="2784600" cy="32385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5" descr="E:\Мои документы\Мои рисунки\03a5b123776c[1].jpg"/>
          <p:cNvPicPr/>
          <p:nvPr/>
        </p:nvPicPr>
        <p:blipFill>
          <a:blip r:embed="rId3"/>
          <a:stretch/>
        </p:blipFill>
        <p:spPr>
          <a:xfrm>
            <a:off x="4114800" y="3048120"/>
            <a:ext cx="2784600" cy="3238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58128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6000" spc="-1" strike="noStrike">
                <a:solidFill>
                  <a:srgbClr val="d60093"/>
                </a:solidFill>
                <a:latin typeface="Verdana"/>
              </a:rPr>
              <a:t>Ответ:</a:t>
            </a:r>
            <a:r>
              <a:rPr b="0" lang="ru-RU" sz="3200" spc="-1" strike="noStrike">
                <a:solidFill>
                  <a:srgbClr val="d60093"/>
                </a:solidFill>
                <a:latin typeface="Verdana"/>
              </a:rPr>
              <a:t> </a:t>
            </a:r>
            <a:r>
              <a:rPr b="0" lang="ru-RU" sz="6000" spc="-1" strike="noStrike">
                <a:solidFill>
                  <a:srgbClr val="d60093"/>
                </a:solidFill>
                <a:latin typeface="Verdana"/>
              </a:rPr>
              <a:t>24</a:t>
            </a: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Рисунок 6" descr="E:\Мои документы\Мои рисунки\Картинки\Текстура\617085.JPG"/>
          <p:cNvPicPr/>
          <p:nvPr/>
        </p:nvPicPr>
        <p:blipFill>
          <a:blip r:embed="rId2"/>
          <a:stretch/>
        </p:blipFill>
        <p:spPr>
          <a:xfrm>
            <a:off x="4343400" y="3048120"/>
            <a:ext cx="4086360" cy="273204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10" descr="E:\Мои документы\Мои рисунки\последний звонок 1\0DCXWKCAMR5B71CAOEDOFZCAQ6KUUTCA5KY0G8CA2BPSHYCANO0ZCNCA0KRBCCCAULD7ELCAS31AISCA19OJESCARIAM8JCA9ZTFKXCAYYYCP7CAUD1SIBCADOSBQGCAQ421O7CA6TTCALCANUGVCECANH6OY6.jpg"/>
          <p:cNvPicPr/>
          <p:nvPr/>
        </p:nvPicPr>
        <p:blipFill>
          <a:blip r:embed="rId3"/>
          <a:stretch/>
        </p:blipFill>
        <p:spPr>
          <a:xfrm>
            <a:off x="1295280" y="380880"/>
            <a:ext cx="1906560" cy="28958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4" name="drumroll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Вдоль линии электропередач врыты столбы на расстоянии 200м друг от друга. Чему равно расстояние между крайними столбами, если всего столбов 23?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Рисунок 9" descr="E:\Мои документы\Мои рисунки\последний звонок 1\01_1[1].jpg"/>
          <p:cNvPicPr/>
          <p:nvPr/>
        </p:nvPicPr>
        <p:blipFill>
          <a:blip r:embed="rId2"/>
          <a:stretch/>
        </p:blipFill>
        <p:spPr>
          <a:xfrm>
            <a:off x="5562720" y="3429000"/>
            <a:ext cx="2315880" cy="284796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11" descr="E:\Мои документы\Мои рисунки\последний звонок 1\11526802[1].jpg"/>
          <p:cNvPicPr/>
          <p:nvPr/>
        </p:nvPicPr>
        <p:blipFill>
          <a:blip r:embed="rId3"/>
          <a:stretch/>
        </p:blipFill>
        <p:spPr>
          <a:xfrm>
            <a:off x="546120" y="3276720"/>
            <a:ext cx="290664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12408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60093"/>
                </a:solidFill>
                <a:latin typeface="Verdana"/>
              </a:rPr>
              <a:t>Ответ:</a:t>
            </a:r>
            <a:r>
              <a:rPr b="0" lang="ru-RU" sz="3200" spc="-1" strike="noStrike">
                <a:solidFill>
                  <a:srgbClr val="d60093"/>
                </a:solidFill>
                <a:latin typeface="Verdana"/>
              </a:rPr>
              <a:t> </a:t>
            </a:r>
            <a:r>
              <a:rPr b="0" lang="ru-RU" sz="6000" spc="-1" strike="noStrike">
                <a:solidFill>
                  <a:srgbClr val="d60093"/>
                </a:solidFill>
                <a:latin typeface="Verdana"/>
              </a:rPr>
              <a:t>4400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Рисунок 6" descr="E:\Мои документы\Мои рисунки\Картинки\Текстура\617085.JPG"/>
          <p:cNvPicPr/>
          <p:nvPr/>
        </p:nvPicPr>
        <p:blipFill>
          <a:blip r:embed="rId2"/>
          <a:stretch/>
        </p:blipFill>
        <p:spPr>
          <a:xfrm>
            <a:off x="3657600" y="2895480"/>
            <a:ext cx="4086360" cy="273204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10" descr="E:\Мои документы\Мои рисунки\последний звонок 1\0DCXWKCAMR5B71CAOEDOFZCAQ6KUUTCA5KY0G8CA2BPSHYCANO0ZCNCA0KRBCCCAULD7ELCAS31AISCA19OJESCARIAM8JCA9ZTFKXCAYYYCP7CAUD1SIBCADOSBQGCAQ421O7CA6TTCALCANUGVCECANH6OY6.jpg"/>
          <p:cNvPicPr/>
          <p:nvPr/>
        </p:nvPicPr>
        <p:blipFill>
          <a:blip r:embed="rId3"/>
          <a:stretch/>
        </p:blipFill>
        <p:spPr>
          <a:xfrm>
            <a:off x="1295280" y="380880"/>
            <a:ext cx="1906560" cy="28958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4" name="drumroll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7T13:09:09Z</dcterms:created>
  <dc:creator>nikolai325</dc:creator>
  <dc:description/>
  <dc:language>en-US</dc:language>
  <cp:lastModifiedBy>Admin</cp:lastModifiedBy>
  <dcterms:modified xsi:type="dcterms:W3CDTF">2013-12-12T11:52:1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