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applause.wav" ContentType="audio/x-wav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3.jpeg" ContentType="image/jpeg"/>
  <Override PartName="/ppt/media/image1.png" ContentType="image/png"/>
  <Override PartName="/ppt/media/image21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027-1849-43E1-91C0-58A10020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A94-725E-4669-8745-30541590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4DA-CA6E-405A-9B8B-FC307CDA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9CF-83BE-4F28-BAC1-FA22721E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444D-56DB-440E-A695-C5740BB4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DBD1-7777-4EB1-A7E3-69C80797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6CDB-0279-4E8D-9D54-383B3047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905C-DD5C-4B0C-B7F7-477AA7A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AFED-F3CF-48DB-8E77-44C68F26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BB9-C493-4E9E-8ADF-B5787470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2116-409B-48B2-9F4B-3A641BA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9F4-F0A8-445C-88C6-C6480E65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3A04-8BF8-4A23-BDB7-C9FB577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F689-5E78-4C8B-B781-C6F2AB6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E1CB-76E0-4DC3-BFBF-3B02FCBF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43B1-0F83-4906-B0D4-E715B97E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8AE1-A5CC-404C-92D4-6A9BCD0B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AA6-51D5-4472-90D7-61DDDC8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CDC-14E9-43A1-B9EE-0BA8B65C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A26-D729-4198-8218-0D34285A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1C3-A8DD-4F5F-AA49-19E1B6F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9A3-5D47-4093-BC7A-183CB2A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BF5-1F0B-405D-9076-CEFE47A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2AE-1707-4708-ACB1-075C4E4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4CF8-42ED-434E-8459-13C05F3EBE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FDD5-C042-47E2-A5C5-11F9B9A31B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Математическая</a:t>
            </a:r>
            <a:r>
              <a:rPr b="1" lang="ru-RU" sz="4800" spc="-1" strike="noStrike">
                <a:solidFill>
                  <a:srgbClr val="ff5050"/>
                </a:solidFill>
                <a:latin typeface="Verdana"/>
              </a:rPr>
              <a:t>       </a:t>
            </a:r>
            <a:br>
              <a:rPr sz="4800"/>
            </a:br>
            <a:r>
              <a:rPr b="1" lang="ru-RU" sz="4800" spc="-1" strike="noStrike">
                <a:solidFill>
                  <a:srgbClr val="ff5050"/>
                </a:solidFill>
                <a:latin typeface="Verdana"/>
              </a:rPr>
              <a:t>            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викторин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Verdana"/>
              </a:rPr>
              <a:t>Математика 5 – 6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1143000" y="152280"/>
            <a:ext cx="4038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рес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Рисунок 11" descr="E:\Мои документы\Мои рисунки\последний звонок 1\11526802[1].jpg"/>
          <p:cNvPicPr/>
          <p:nvPr/>
        </p:nvPicPr>
        <p:blipFill>
          <a:blip r:embed="rId1"/>
          <a:stretch/>
        </p:blipFill>
        <p:spPr>
          <a:xfrm>
            <a:off x="6705720" y="228600"/>
            <a:ext cx="1928520" cy="2274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1371600" y="5105520"/>
            <a:ext cx="2057400" cy="152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3"/>
          <a:stretch/>
        </p:blipFill>
        <p:spPr>
          <a:xfrm>
            <a:off x="6781680" y="5159520"/>
            <a:ext cx="198144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Малыш может съесть банку варенья за 30 минут, а Карлсон – в 5 раз быстрее. За сколько времени они съедят такую банку варенья, если начнут есть ее со своей обычной скоростью вместе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762120" y="0"/>
            <a:ext cx="3276360" cy="27957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5" descr="E:\Мои документы\Мои рисунки\03a5b123776c[1].jpg"/>
          <p:cNvPicPr/>
          <p:nvPr/>
        </p:nvPicPr>
        <p:blipFill>
          <a:blip r:embed="rId3"/>
          <a:stretch/>
        </p:blipFill>
        <p:spPr>
          <a:xfrm>
            <a:off x="5562720" y="304920"/>
            <a:ext cx="222732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43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5 мин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99072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 классе 35 учеников.  Из них: 20 школьников занимаются в математическом кружке, 11 в экологическом, 10 ребят не посещают эти кружки.  Сколько экологов увлекается математикой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Рисунок 8" descr="E:\Мои документы\Мои рисунки\последний звонок 1\1191269172_c41241-218x300[1].jpg"/>
          <p:cNvPicPr/>
          <p:nvPr/>
        </p:nvPicPr>
        <p:blipFill>
          <a:blip r:embed="rId2"/>
          <a:stretch/>
        </p:blipFill>
        <p:spPr>
          <a:xfrm>
            <a:off x="4343400" y="3124080"/>
            <a:ext cx="239868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9092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429000" y="289548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304920" y="30492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Четверо играли в домино 4 часа. Сколько часов играл каждый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4038480" y="2854440"/>
            <a:ext cx="3564000" cy="34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4038480" y="2819520"/>
            <a:ext cx="3564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81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886200" y="358128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143000" y="6094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дно яйцо варят 4 минуты. Сколько минут надо варить 6 яиц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4599000" y="31240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954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4 мин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066680" y="30492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т стола отпилили угол. Сколько углов осталось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114800" y="3352680"/>
            <a:ext cx="2995560" cy="3048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1600200" y="228600"/>
            <a:ext cx="2514600" cy="2155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2514600" cy="2155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5053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276720" y="3429000"/>
            <a:ext cx="4086000" cy="2732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19320" y="22860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 Кот в Сапогах поймал четырех щук и еще половину улова. Сколько щук поймал Кот в Сапогах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282240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тгадай загадку: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Лежали конфетки в кучке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Две матери, две дочки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Да бабушка с внучкой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зяли конфет по штучке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И не стало этой кучки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колько конфет было в кучке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1" descr="E:\Мои документы\Мои рисунки\последний звонок 1\11526802[1].jpg"/>
          <p:cNvPicPr/>
          <p:nvPr/>
        </p:nvPicPr>
        <p:blipFill>
          <a:blip r:embed="rId3"/>
          <a:stretch/>
        </p:blipFill>
        <p:spPr>
          <a:xfrm>
            <a:off x="5410080" y="228600"/>
            <a:ext cx="25196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1240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638280" y="228600"/>
            <a:ext cx="21063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7"/>
          <p:cNvPicPr/>
          <p:nvPr/>
        </p:nvPicPr>
        <p:blipFill>
          <a:blip r:embed="rId1"/>
          <a:stretch/>
        </p:blipFill>
        <p:spPr>
          <a:xfrm>
            <a:off x="228600" y="152280"/>
            <a:ext cx="3036960" cy="4114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3429000" y="455760"/>
            <a:ext cx="5410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У меня в одной коробке 3 жука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А в другой имею я 3 паука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 уголке шуршат бумагой 2 ежа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А в двух клетках распевают 2 чижа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Кто, ребята, сосчитать бы мне помог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колько вместе все они имеют ног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685800" y="4344840"/>
            <a:ext cx="25909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66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54 ноги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762120" y="0"/>
            <a:ext cx="21063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30"/>
          <p:cNvSpPr txBox="1"/>
          <p:nvPr/>
        </p:nvSpPr>
        <p:spPr>
          <a:xfrm rot="20423400">
            <a:off x="914040" y="761760"/>
            <a:ext cx="8229600" cy="453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ПОЗДРАВЛЯЕМ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230" name="Picture 11" descr="AG00373_"/>
          <p:cNvPicPr/>
          <p:nvPr/>
        </p:nvPicPr>
        <p:blipFill>
          <a:blip r:embed="rId1"/>
          <a:stretch/>
        </p:blipFill>
        <p:spPr>
          <a:xfrm>
            <a:off x="6172200" y="3505320"/>
            <a:ext cx="2743200" cy="263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2995560" cy="3047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2562840" y="1904040"/>
            <a:ext cx="62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Verdana"/>
              </a:rPr>
              <a:t>ПОБЕДИТЕЛЯ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horz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505320" y="2895480"/>
            <a:ext cx="4086000" cy="2732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380880" y="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6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Коробка с печеньем весят 330 грамм. Коробка весит в 10 раз меньше печенья. Сколько весит печень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857320" cy="2610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6" descr="E:\Мои документы\Мои рисунки\1191268972_c4107[1].jpg"/>
          <p:cNvPicPr/>
          <p:nvPr/>
        </p:nvPicPr>
        <p:blipFill>
          <a:blip r:embed="rId3"/>
          <a:stretch/>
        </p:blipFill>
        <p:spPr>
          <a:xfrm>
            <a:off x="1143000" y="152280"/>
            <a:ext cx="2133720" cy="212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81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300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495680" y="32767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9528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Из четырех одинаковых квадратов сложили прямоугольник. Чему равен периметр каждого квадрата, если периметр прямоугольника равен 60с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Рисунок 15" descr="E:\Мои документы\Мои рисунки\03a5b123776c[1].jpg"/>
          <p:cNvPicPr/>
          <p:nvPr/>
        </p:nvPicPr>
        <p:blipFill>
          <a:blip r:embed="rId2"/>
          <a:stretch/>
        </p:blipFill>
        <p:spPr>
          <a:xfrm>
            <a:off x="4114800" y="3048120"/>
            <a:ext cx="2784600" cy="32385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5" descr="E:\Мои документы\Мои рисунки\03a5b123776c[1].jpg"/>
          <p:cNvPicPr/>
          <p:nvPr/>
        </p:nvPicPr>
        <p:blipFill>
          <a:blip r:embed="rId3"/>
          <a:stretch/>
        </p:blipFill>
        <p:spPr>
          <a:xfrm>
            <a:off x="4114800" y="3048120"/>
            <a:ext cx="278460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81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24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9528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доль линии электропередач врыты столбы на расстоянии 200м друг от друга. Чему равно расстояние между крайними столбами, если всего столбов 23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Рисунок 9" descr="E:\Мои документы\Мои рисунки\последний звонок 1\01_1[1].jpg"/>
          <p:cNvPicPr/>
          <p:nvPr/>
        </p:nvPicPr>
        <p:blipFill>
          <a:blip r:embed="rId2"/>
          <a:stretch/>
        </p:blipFill>
        <p:spPr>
          <a:xfrm>
            <a:off x="5562720" y="3429000"/>
            <a:ext cx="2315880" cy="2847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1" descr="E:\Мои документы\Мои рисунки\последний звонок 1\11526802[1].jpg"/>
          <p:cNvPicPr/>
          <p:nvPr/>
        </p:nvPicPr>
        <p:blipFill>
          <a:blip r:embed="rId3"/>
          <a:stretch/>
        </p:blipFill>
        <p:spPr>
          <a:xfrm>
            <a:off x="546120" y="3276720"/>
            <a:ext cx="29066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1240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4400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657600" y="289548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9528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3:09:09Z</dcterms:created>
  <dc:creator>nikolai325</dc:creator>
  <dc:description/>
  <dc:language>en-US</dc:language>
  <cp:lastModifiedBy>Admin</cp:lastModifiedBy>
  <dcterms:modified xsi:type="dcterms:W3CDTF">2013-12-12T11:52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