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903E-42B9-4310-82E9-EE65BB8C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E6135-B6A5-4CCD-96D8-7FE1AF45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01FBE-4889-4F2E-8141-C8253267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35008-08B9-4BCB-A07A-A0CA8198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A1A7-B059-4899-82E2-571C1F54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7796-14E3-4A8E-B9DD-0193CE9B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5C37-2721-4256-81DB-32FC68E7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ED58-8713-460C-A2A8-575FBFA5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87C0-FCDD-4F49-B0EE-7F10E861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52F4-A8E2-460A-A346-E1F6257F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3C07-AF3B-4B68-A47E-91167C2C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8271B-C5AF-4D3C-99DA-9B3D0496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C520-448F-42D4-93B6-6D825EFC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7225-E3EB-4B29-BC04-66D71733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4300-5B80-4EF2-AEEE-32F2D455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4806-87F8-4E5D-96F3-AB53F5A1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7C15-4B79-46BB-B15A-3D9CFEC7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D7A7A-6194-4047-90FE-BF31607D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895D1-55D9-4772-86E3-C616A69F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960F7-C187-41E5-BE8A-2699949C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66491-6EF9-4047-A1AE-0AEDC756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EF822-CBEF-4DBD-9F4F-275B572A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72265-5AC8-4618-9FFF-0E2F2549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850E8-BBD7-49D4-910F-BAFF5747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94786-8E4A-434D-8B00-7A7F6BE9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BAED-A9BC-4034-9D83-9D1D812B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E45AE-A947-4400-B402-4FF74F4D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7872A-22FB-4DD2-B4B0-7635DE14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6ECCC-9783-4026-BB1D-BDEDBD8A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EBDA-5937-4DE0-ACCC-D27A0182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CF8E4E-882F-4419-9907-39733769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E5F68-E60A-45D9-A8E3-858FB25B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017095-8296-4C7E-84FC-375F3A18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0BD4-1B0C-421F-A984-774E8A22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BB752-E30C-4D91-B12C-F65C1852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2FABAA-DEC8-45CE-BA86-91C19381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632B04-CA1E-44DC-BFC8-2C00466F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8C58CA-FFEF-42C8-AD8A-C4316DA6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B6C954-54C1-475F-ADF0-38EDB31F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FDEFBA-9C3A-4FA6-A5E2-20EF8324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A785A-9BA5-43D4-BE50-BFCB09C8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0908C8-1D43-4F34-9C53-7611D3E8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3DD229-109D-4052-A7A5-41A5C392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FDF55-0D27-48DA-9DFF-FD326EF9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D7A2-2728-4F35-A09E-4998F075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C4AEB-5886-4FA6-8D86-7AF056FB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B1FCB-51DB-474E-AFDE-25F373F6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089BB-F2E7-425D-A2FF-E6AD4211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0993F-D871-4F98-9255-D0731478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5DF89-94DB-4E27-880C-362FEE54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5D0C4-3961-4E18-AB43-A2580483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14F7B-E300-4FF6-9574-84DF24E1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7D7E5-FEB8-41D3-B190-644E7566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FE827-FBAD-49EF-97D3-EF9E1404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D5B89-CB11-4553-8172-DFC0A3A6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94F34-B07E-4EB0-B912-890647D1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CFBD7-A9D9-46FE-809C-78D8A2DC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11B26-A246-471B-856E-18159FF5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8B061-C04C-432A-9138-CD67D7F2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52B18-5722-4EF2-8444-2D18A1F6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F5196-E51C-416A-9C02-B4B2A673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46A74-7679-4E0D-88BB-8EAE93D6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CA94F-D93F-49C6-9297-C15CA346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D878F-9070-4474-8AD2-78FC2FED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33101-577C-43BB-98DA-1C5DA514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EFCE2-BFAE-4C9A-A2DE-5ABDFC1A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7EE9F-18C7-4356-B4D2-5FA2A25B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3EF93-A706-42C6-A67D-02D7BBE7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1BFDA-495D-4EB5-A12A-F8122D3C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3A3FF-21D9-48DF-BC8C-98172D4B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7103F-F75F-497B-99B0-86E7CF7F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5F94-482F-4462-9B37-BC7E981B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2603-166D-4C72-AE82-A285584A20A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5A93-E54B-4068-AAEB-E65F7FABBA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8EB8-452B-423D-B6CC-B40399CFDF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C180-C9BB-4948-842C-3F37F4BA60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8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F733-F5C2-4B39-8187-7592C21DCF0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3DE5-27E5-4F0C-9F80-870A25F7E43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1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1196640"/>
            <a:ext cx="7056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2ec00"/>
                </a:solidFill>
                <a:latin typeface="Garamond"/>
              </a:rPr>
              <a:t>Химические </a:t>
            </a:r>
            <a:br>
              <a:rPr sz="8000"/>
            </a:br>
            <a:r>
              <a:rPr b="1" i="1" lang="en-US" sz="8000" spc="-1" strike="noStrike">
                <a:solidFill>
                  <a:srgbClr val="f2ec00"/>
                </a:solidFill>
                <a:latin typeface="Garamond"/>
              </a:rPr>
              <a:t>составляющие человеческого </a:t>
            </a:r>
            <a:br>
              <a:rPr sz="8000"/>
            </a:br>
            <a:r>
              <a:rPr b="1" i="1" lang="en-US" sz="8000" spc="-1" strike="noStrike">
                <a:solidFill>
                  <a:srgbClr val="f2ec00"/>
                </a:solidFill>
                <a:latin typeface="Garamond"/>
              </a:rPr>
              <a:t>организма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cc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Garamond"/>
              </a:rPr>
              <a:t>Суточное потребление химических элемен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340000" y="1916280"/>
          <a:ext cx="4114800" cy="3919320"/>
        </p:xfrm>
        <a:graphic>
          <a:graphicData uri="http://schemas.openxmlformats.org/drawingml/2006/table">
            <a:tbl>
              <a:tblPr/>
              <a:tblGrid>
                <a:gridCol w="1450800"/>
                <a:gridCol w="1511280"/>
                <a:gridCol w="1152720"/>
              </a:tblGrid>
              <a:tr h="76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Химические элемент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Суточное потребление, мг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Взрослые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Де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2000-5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5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100-3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2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800-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4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800-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Z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M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300-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ажная информац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7057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сли волосы стали сухими и ломкими, а при расчёсывании выпадают, а ногти стали хрупкими и расслоившимися – значит, в организме дефицит железа, магния, цинка, меди, кальция, витаминов группы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сли кожа стала сухой и шелушится – это не хватает витамина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, F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биоти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сли лицо бледное, да ещё с кислым выражением, знайте, что имеет прямую зависимость от дефицита в организме кальция, магния, витаминов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витамина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P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"/>
          <p:cNvSpPr/>
          <p:nvPr/>
        </p:nvSpPr>
        <p:spPr>
          <a:xfrm>
            <a:off x="1403280" y="836640"/>
            <a:ext cx="6337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фицит элементов сказывается на внеш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7308720" y="1700280"/>
            <a:ext cx="1638360" cy="2232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7308720" y="4149720"/>
            <a:ext cx="1630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c" descr=""/>
          <p:cNvPicPr/>
          <p:nvPr/>
        </p:nvPicPr>
        <p:blipFill>
          <a:blip r:embed="rId2"/>
          <a:stretch/>
        </p:blipFill>
        <p:spPr>
          <a:xfrm>
            <a:off x="1258920" y="260280"/>
            <a:ext cx="733320" cy="409680"/>
          </a:xfrm>
          <a:prstGeom prst="rect">
            <a:avLst/>
          </a:prstGeom>
          <a:ln w="0">
            <a:noFill/>
          </a:ln>
        </p:spPr>
      </p:pic>
      <p:pic>
        <p:nvPicPr>
          <p:cNvPr id="344" name="d" descr=""/>
          <p:cNvPicPr/>
          <p:nvPr/>
        </p:nvPicPr>
        <p:blipFill>
          <a:blip r:embed="rId3"/>
          <a:stretch/>
        </p:blipFill>
        <p:spPr>
          <a:xfrm>
            <a:off x="179280" y="2060640"/>
            <a:ext cx="790560" cy="304560"/>
          </a:xfrm>
          <a:prstGeom prst="rect">
            <a:avLst/>
          </a:prstGeom>
          <a:ln w="0">
            <a:noFill/>
          </a:ln>
        </p:spPr>
      </p:pic>
      <p:pic>
        <p:nvPicPr>
          <p:cNvPr id="345" name="pp" descr=""/>
          <p:cNvPicPr/>
          <p:nvPr/>
        </p:nvPicPr>
        <p:blipFill>
          <a:blip r:embed="rId4"/>
          <a:stretch/>
        </p:blipFill>
        <p:spPr>
          <a:xfrm>
            <a:off x="539640" y="189000"/>
            <a:ext cx="790560" cy="438120"/>
          </a:xfrm>
          <a:prstGeom prst="rect">
            <a:avLst/>
          </a:prstGeom>
          <a:ln w="0">
            <a:noFill/>
          </a:ln>
        </p:spPr>
      </p:pic>
      <p:pic>
        <p:nvPicPr>
          <p:cNvPr id="346" name="b5" descr=""/>
          <p:cNvPicPr/>
          <p:nvPr/>
        </p:nvPicPr>
        <p:blipFill>
          <a:blip r:embed="rId5"/>
          <a:stretch/>
        </p:blipFill>
        <p:spPr>
          <a:xfrm>
            <a:off x="1116000" y="836640"/>
            <a:ext cx="790560" cy="523800"/>
          </a:xfrm>
          <a:prstGeom prst="rect">
            <a:avLst/>
          </a:prstGeom>
          <a:ln w="0">
            <a:noFill/>
          </a:ln>
        </p:spPr>
      </p:pic>
      <p:pic>
        <p:nvPicPr>
          <p:cNvPr id="347" name="k" descr=""/>
          <p:cNvPicPr/>
          <p:nvPr/>
        </p:nvPicPr>
        <p:blipFill>
          <a:blip r:embed="rId6"/>
          <a:stretch/>
        </p:blipFill>
        <p:spPr>
          <a:xfrm>
            <a:off x="324000" y="981000"/>
            <a:ext cx="790560" cy="409680"/>
          </a:xfrm>
          <a:prstGeom prst="rect">
            <a:avLst/>
          </a:prstGeom>
          <a:ln w="0">
            <a:noFill/>
          </a:ln>
        </p:spPr>
      </p:pic>
      <p:pic>
        <p:nvPicPr>
          <p:cNvPr id="348" name="b9" descr=""/>
          <p:cNvPicPr/>
          <p:nvPr/>
        </p:nvPicPr>
        <p:blipFill>
          <a:blip r:embed="rId7"/>
          <a:stretch/>
        </p:blipFill>
        <p:spPr>
          <a:xfrm>
            <a:off x="179280" y="476280"/>
            <a:ext cx="733680" cy="380880"/>
          </a:xfrm>
          <a:prstGeom prst="rect">
            <a:avLst/>
          </a:prstGeom>
          <a:ln w="0">
            <a:noFill/>
          </a:ln>
        </p:spPr>
      </p:pic>
      <p:pic>
        <p:nvPicPr>
          <p:cNvPr id="349" name="b1" descr=""/>
          <p:cNvPicPr/>
          <p:nvPr/>
        </p:nvPicPr>
        <p:blipFill>
          <a:blip r:embed="rId8"/>
          <a:stretch/>
        </p:blipFill>
        <p:spPr>
          <a:xfrm>
            <a:off x="0" y="1052640"/>
            <a:ext cx="685800" cy="352440"/>
          </a:xfrm>
          <a:prstGeom prst="rect">
            <a:avLst/>
          </a:prstGeom>
          <a:ln w="0">
            <a:noFill/>
          </a:ln>
        </p:spPr>
      </p:pic>
      <p:pic>
        <p:nvPicPr>
          <p:cNvPr id="350" name="b2" descr=""/>
          <p:cNvPicPr/>
          <p:nvPr/>
        </p:nvPicPr>
        <p:blipFill>
          <a:blip r:embed="rId9"/>
          <a:stretch/>
        </p:blipFill>
        <p:spPr>
          <a:xfrm>
            <a:off x="179280" y="1557360"/>
            <a:ext cx="733680" cy="514440"/>
          </a:xfrm>
          <a:prstGeom prst="rect">
            <a:avLst/>
          </a:prstGeom>
          <a:ln w="0">
            <a:noFill/>
          </a:ln>
        </p:spPr>
      </p:pic>
      <p:pic>
        <p:nvPicPr>
          <p:cNvPr id="351" name="b6" descr=""/>
          <p:cNvPicPr/>
          <p:nvPr/>
        </p:nvPicPr>
        <p:blipFill>
          <a:blip r:embed="rId10"/>
          <a:stretch/>
        </p:blipFill>
        <p:spPr>
          <a:xfrm>
            <a:off x="1547640" y="692280"/>
            <a:ext cx="790920" cy="590400"/>
          </a:xfrm>
          <a:prstGeom prst="rect">
            <a:avLst/>
          </a:prstGeom>
          <a:ln w="0">
            <a:noFill/>
          </a:ln>
        </p:spPr>
      </p:pic>
      <p:pic>
        <p:nvPicPr>
          <p:cNvPr id="352" name="h" descr=""/>
          <p:cNvPicPr/>
          <p:nvPr/>
        </p:nvPicPr>
        <p:blipFill>
          <a:blip r:embed="rId11"/>
          <a:stretch/>
        </p:blipFill>
        <p:spPr>
          <a:xfrm>
            <a:off x="755640" y="1341360"/>
            <a:ext cx="790560" cy="362160"/>
          </a:xfrm>
          <a:prstGeom prst="rect">
            <a:avLst/>
          </a:prstGeom>
          <a:ln w="0">
            <a:noFill/>
          </a:ln>
        </p:spPr>
      </p:pic>
      <p:pic>
        <p:nvPicPr>
          <p:cNvPr id="353" name="b1" descr=""/>
          <p:cNvPicPr/>
          <p:nvPr/>
        </p:nvPicPr>
        <p:blipFill>
          <a:blip r:embed="rId12"/>
          <a:stretch/>
        </p:blipFill>
        <p:spPr>
          <a:xfrm>
            <a:off x="1763640" y="1413000"/>
            <a:ext cx="685800" cy="352440"/>
          </a:xfrm>
          <a:prstGeom prst="rect">
            <a:avLst/>
          </a:prstGeom>
          <a:ln w="0">
            <a:noFill/>
          </a:ln>
        </p:spPr>
      </p:pic>
      <p:pic>
        <p:nvPicPr>
          <p:cNvPr id="354" name="b12_new" descr=""/>
          <p:cNvPicPr/>
          <p:nvPr/>
        </p:nvPicPr>
        <p:blipFill>
          <a:blip r:embed="rId13"/>
          <a:stretch/>
        </p:blipFill>
        <p:spPr>
          <a:xfrm>
            <a:off x="1187280" y="162864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355" name="e" descr=""/>
          <p:cNvPicPr/>
          <p:nvPr/>
        </p:nvPicPr>
        <p:blipFill>
          <a:blip r:embed="rId14"/>
          <a:stretch/>
        </p:blipFill>
        <p:spPr>
          <a:xfrm>
            <a:off x="2195640" y="333360"/>
            <a:ext cx="790560" cy="514440"/>
          </a:xfrm>
          <a:prstGeom prst="rect">
            <a:avLst/>
          </a:prstGeom>
          <a:ln w="0">
            <a:noFill/>
          </a:ln>
        </p:spPr>
      </p:pic>
      <p:pic>
        <p:nvPicPr>
          <p:cNvPr id="356" name="a" descr=""/>
          <p:cNvPicPr/>
          <p:nvPr/>
        </p:nvPicPr>
        <p:blipFill>
          <a:blip r:embed="rId15"/>
          <a:stretch/>
        </p:blipFill>
        <p:spPr>
          <a:xfrm>
            <a:off x="2627280" y="907920"/>
            <a:ext cx="685800" cy="486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80" y="310932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99"/>
                </a:solidFill>
                <a:latin typeface="Arial"/>
              </a:rPr>
              <a:t>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60" y="391392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40" y="4795200"/>
            <a:ext cx="683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99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544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60" y="5799960"/>
            <a:ext cx="317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99"/>
                </a:solidFill>
                <a:latin typeface="Arial"/>
              </a:rPr>
              <a:t>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60" y="6605280"/>
            <a:ext cx="86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99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20" y="7608240"/>
            <a:ext cx="1003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99"/>
                </a:solidFill>
                <a:latin typeface="Arial"/>
              </a:rPr>
              <a:t>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00" y="8422560"/>
            <a:ext cx="18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35280" y="0"/>
            <a:ext cx="4176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Garamond"/>
              </a:rPr>
              <a:t>Витаминный алфави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348000" y="148428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Garamond"/>
              </a:rPr>
              <a:t>История открытия витами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5640" y="2492280"/>
            <a:ext cx="79218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4c"/>
                </a:solidFill>
                <a:latin typeface="Arial"/>
              </a:rPr>
              <a:t>В 1880 году русский учёный Николай Лунин, изучавший роль минеральных веществ в питании, заметил, что мыши, поглощавшие искусственную пищу, составленную из всех известных частей молока (казеина, жира, сахара и солей), чахли и погибали. А мышки, получавшие натуральное молоко, были веселы и здоровы. «Из этого следует, что в молоке содержатся ещё другие вещества, незаменимые  для питания»,- сделал вывод учё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4c"/>
                </a:solidFill>
                <a:latin typeface="Arial"/>
              </a:rPr>
              <a:t>Первым выделил витамин в кристаллическом виде польский учёный Казимир Функ в 1911  году. Год спустя он же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4c"/>
                </a:solidFill>
                <a:latin typeface="Arial"/>
              </a:rPr>
              <a:t>придумал и название – от латинского «</a:t>
            </a:r>
            <a:r>
              <a:rPr b="0" lang="en-US" sz="2000" spc="-1" strike="noStrike">
                <a:solidFill>
                  <a:srgbClr val="00004c"/>
                </a:solidFill>
                <a:latin typeface="Arial"/>
              </a:rPr>
              <a:t>vita</a:t>
            </a:r>
            <a:r>
              <a:rPr b="0" lang="ru-RU" sz="2000" spc="-1" strike="noStrike">
                <a:solidFill>
                  <a:srgbClr val="00004c"/>
                </a:solidFill>
                <a:latin typeface="Arial"/>
              </a:rPr>
              <a:t>» - «жизн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77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770" fill="hold"/>
                                        <p:tgtEl>
                                          <p:spTgt spid="3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3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77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70" fill="hold"/>
                                        <p:tgtEl>
                                          <p:spTgt spid="3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8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3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77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770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3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77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7" dur="770" fill="hold"/>
                                        <p:tgtEl>
                                          <p:spTgt spid="3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9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1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77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770" fill="hold"/>
                                        <p:tgtEl>
                                          <p:spTgt spid="3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77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770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Важнейшие витамины и их источни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68360" y="1268280"/>
          <a:ext cx="8229600" cy="5410080"/>
        </p:xfrm>
        <a:graphic>
          <a:graphicData uri="http://schemas.openxmlformats.org/drawingml/2006/table">
            <a:tbl>
              <a:tblPr/>
              <a:tblGrid>
                <a:gridCol w="2735280"/>
                <a:gridCol w="5494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тами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чни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тино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ыбий жир, печень, морковь помидор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1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ам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рожжи, орехи, бобовые, молок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2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рибофлав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чень, мясо, молоко, зелёные овощи, яйц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икотиновая кислота (ниац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ыба, орехи, кукуруза, домашняя птиц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ырая печень, мясо, рыба, молок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аскорбиновая кислот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итрусовые, смородина, молок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льцеферо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ыбий жир, сливки, яичный желток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коферо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я, сливочное масло, овсяные хлопь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елень, яйца, молок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Значение витамин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395280" y="76500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Витам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Его знач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 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тино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обходим для нормального функционирования сетчатки гла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1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ам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жен для окисления глюкозы, роста, для нервных клеток и мыш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2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рибофлав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обходим для обмена веще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котиновая кислота (ниац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жен для роста и развития организ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жен для продуцирования красных кровяных теле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аскорбиновая кислот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обходим для здоровья костей, зубов, кровяных сосу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 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льцеферо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лияет на рост костей и зуб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 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коферо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обходим для нормального развития нервных клеток и мыш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жный фактор для коагуляции кр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Как сохранить витами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1413000"/>
            <a:ext cx="9144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ойте салат только под проточной вод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арите картофель в кожуре и лучше всего на пар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купайте только свежие фрукты и овощ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раните фрукты и овощи недолго и обязательно в холодном помещен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истите овощи непосредственно перед употребл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Поешьте и успокойтесь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В рационе человека обязательно должны быть продукты с высоким содержанием некоторых важных компонентов, которые препятствуют, возникновению стрессов или снимают нервное напря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Витамин </a:t>
            </a:r>
            <a:r>
              <a:rPr b="0" lang="en-US" sz="2800" spc="-1" strike="noStrike">
                <a:solidFill>
                  <a:srgbClr val="00004c"/>
                </a:solidFill>
                <a:latin typeface="Tahoma"/>
              </a:rPr>
              <a:t>B1 – </a:t>
            </a: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смягчает депресси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Витамин </a:t>
            </a:r>
            <a:r>
              <a:rPr b="0" lang="en-US" sz="2800" spc="-1" strike="noStrike">
                <a:solidFill>
                  <a:srgbClr val="00004c"/>
                </a:solidFill>
                <a:latin typeface="Tahoma"/>
              </a:rPr>
              <a:t>E – </a:t>
            </a: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активно участвует в снабжении мозга кислород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Фолиевая кислота (</a:t>
            </a:r>
            <a:r>
              <a:rPr b="0" lang="en-US" sz="2800" spc="-1" strike="noStrike">
                <a:solidFill>
                  <a:srgbClr val="00004c"/>
                </a:solidFill>
                <a:latin typeface="Tahoma"/>
              </a:rPr>
              <a:t>B9</a:t>
            </a: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4c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недостаток её в организме вызывает нервные заболе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Цинк – обеспечивает нормальное функционирование моз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8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8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8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971640" y="259920"/>
            <a:ext cx="741672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итательные вещест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91440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Углеводы, белки, жиры, минеральные вещества, витамины и вода – вот шесть важных усвояемых компонентов пищи, необходимых для крепкого здоровь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ahoma"/>
              </a:rPr>
              <a:t>Интересный фак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176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о последним данным Всемирной организации здравоохранения, состояние здоровья человека лишь на 15% зависит от организации медицинской службы, на столько же - от генетических особенностей, а на 70% - от образа жизни и питания. Сегодня не вызывает сомнения, что полноценное питание определяется не только энергетической ценностью пищи, сбалансированностью рациона по белкам, жирам и углеводам, но и обеспеченностью витаминами, микроэлементами и минерал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5003640" y="1341360"/>
            <a:ext cx="338472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324000" y="0"/>
            <a:ext cx="5256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наружени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95280" y="1197000"/>
            <a:ext cx="302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Impact"/>
              </a:rPr>
              <a:t>витами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ccff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88360" y="549360"/>
            <a:ext cx="5763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ffcc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ffcc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084720" y="1197000"/>
            <a:ext cx="7923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"/>
          <p:cNvSpPr txBox="1"/>
          <p:nvPr/>
        </p:nvSpPr>
        <p:spPr>
          <a:xfrm rot="5400000">
            <a:off x="7970040" y="2262960"/>
            <a:ext cx="105264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ee64a2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ee64a2"/>
                  </a:gs>
                </a:gsLst>
                <a:lin ang="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 rot="21034200">
            <a:off x="3634920" y="4220640"/>
            <a:ext cx="36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 продуктах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5" name=""/>
          <p:cNvSpPr txBox="1"/>
          <p:nvPr/>
        </p:nvSpPr>
        <p:spPr>
          <a:xfrm rot="21101400">
            <a:off x="6227640" y="4797000"/>
            <a:ext cx="22384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н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716360" y="5994360"/>
            <a:ext cx="410364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ксперимен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24000" y="5805360"/>
            <a:ext cx="3743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имическ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08000" y="260280"/>
            <a:ext cx="446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Наш организм состоит из «кирпичиков» - химических элементов.    Дефицит или избыток любого из них может плохо отразиться на здоровье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387680" y="2852640"/>
            <a:ext cx="4756320" cy="37497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457200" y="291960"/>
          <a:ext cx="8229600" cy="5727960"/>
        </p:xfrm>
        <a:graphic>
          <a:graphicData uri="http://schemas.openxmlformats.org/drawingml/2006/table">
            <a:tbl>
              <a:tblPr/>
              <a:tblGrid>
                <a:gridCol w="2243160"/>
                <a:gridCol w="1049400"/>
                <a:gridCol w="1644480"/>
                <a:gridCol w="1646280"/>
                <a:gridCol w="1646280"/>
              </a:tblGrid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следуемы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яемый витам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Cl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, крахма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 Раств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олнечное ма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рко-зелен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рас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монный с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нее окраши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блоч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нее окраши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риный желт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еленовато-голубая окрас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39640" y="836640"/>
            <a:ext cx="8352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ec00"/>
                </a:solidFill>
                <a:latin typeface="Garamond"/>
              </a:rPr>
              <a:t>Из 92 встречающихся в природе химических элементов 81 присутствует в человеческом организме. Все они играют ключевые роли в его жизнедея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2ec00"/>
                </a:solidFill>
                <a:latin typeface="Garamond"/>
              </a:rPr>
              <a:t>обеспечивают «строительным материалом» косные и другие тка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2ec00"/>
                </a:solidFill>
                <a:latin typeface="Garamond"/>
              </a:rPr>
              <a:t>являются составными частями витаминов и гормон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2ec00"/>
                </a:solidFill>
                <a:latin typeface="Garamond"/>
              </a:rPr>
              <a:t>ускоряют разные биохимические процессы, в том числе обмен вещест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2ec00"/>
                </a:solidFill>
                <a:latin typeface="Garamond"/>
              </a:rPr>
              <a:t>активизируют синтез белка и фер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Garamond"/>
              </a:rPr>
              <a:t>Жизнь элементов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newsflash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e5ff"/>
            </a:gs>
            <a:gs pos="100000">
              <a:srgbClr val="33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Первые симпто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56000" y="1268280"/>
            <a:ext cx="6410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Garamond"/>
              </a:rPr>
              <a:t>Всё, что происходит с нашим телом – от формирования мускулов до умственного развития,- связано с химическими элементами. Дефицит, избыток или дисбаланс этих полезных веществ вызывает микроэлементоз, который влечёт за собой различные недомогания, постоянное чувство усталости, апатию и депресси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8" name="" descr="image1"/>
          <p:cNvPicPr/>
          <p:nvPr/>
        </p:nvPicPr>
        <p:blipFill>
          <a:blip r:embed="rId1"/>
          <a:stretch/>
        </p:blipFill>
        <p:spPr>
          <a:xfrm>
            <a:off x="179280" y="1773360"/>
            <a:ext cx="2570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ве основные группы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56000" y="1052640"/>
            <a:ext cx="35287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Макроэлемент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"/>
          <p:cNvSpPr/>
          <p:nvPr/>
        </p:nvSpPr>
        <p:spPr>
          <a:xfrm>
            <a:off x="1979640" y="1773360"/>
            <a:ext cx="792000" cy="792000"/>
          </a:xfrm>
          <a:prstGeom prst="flowChartConnector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C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2924280"/>
            <a:ext cx="792000" cy="792000"/>
          </a:xfrm>
          <a:prstGeom prst="flowChartConnector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Garamond"/>
              </a:rPr>
              <a:t>M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4076640"/>
            <a:ext cx="792000" cy="792360"/>
          </a:xfrm>
          <a:prstGeom prst="flowChartConnector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Garamond"/>
              </a:rPr>
              <a:t>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48360" y="4149720"/>
            <a:ext cx="792000" cy="792000"/>
          </a:xfrm>
          <a:prstGeom prst="flowChartConnector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514"/>
                </a:solidFill>
                <a:latin typeface="Garamond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50920" y="5300640"/>
            <a:ext cx="792360" cy="792360"/>
          </a:xfrm>
          <a:prstGeom prst="flowChartConnector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48360" y="2924280"/>
            <a:ext cx="792000" cy="792000"/>
          </a:xfrm>
          <a:prstGeom prst="flowChartConnector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Garamond"/>
              </a:rPr>
              <a:t>C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3280" y="1700280"/>
            <a:ext cx="36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оставляет основу косной ткани, влияет на процессы в нервно-мышечной и сердечно сосудистой систем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87640" y="52293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частвует в передаче нервных импульсов, активирует работу фер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32000" y="292428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частвует в формировании костей, работы нервной ткани, в обмене углеводов и энергетическом обме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2000" y="407664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твечает за регуляцию кровяного давления, водного обм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84720" y="285264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частвует в образовании желудочного сока, формировании плаз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2000" y="407664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ходит в состав белков в виде серосодержащих аминокисл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Микроэлементы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"/>
          <p:cNvSpPr/>
          <p:nvPr/>
        </p:nvSpPr>
        <p:spPr>
          <a:xfrm>
            <a:off x="3635280" y="4724280"/>
            <a:ext cx="792360" cy="792360"/>
          </a:xfrm>
          <a:prstGeom prst="flowChartConnector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0"/>
                </a:solidFill>
                <a:latin typeface="Garamond"/>
              </a:rPr>
              <a:t>C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2060640"/>
            <a:ext cx="792360" cy="792000"/>
          </a:xfrm>
          <a:prstGeom prst="flowChartConnector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Z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35280" y="1125360"/>
            <a:ext cx="792360" cy="792360"/>
          </a:xfrm>
          <a:prstGeom prst="flowChartConnector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Garamond"/>
              </a:rPr>
              <a:t>F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35280" y="2997360"/>
            <a:ext cx="792360" cy="792000"/>
          </a:xfrm>
          <a:prstGeom prst="flowChartConnector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0"/>
                </a:solidFill>
                <a:latin typeface="Garamond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00360" y="1125360"/>
            <a:ext cx="3095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Участвует в образовании гемоглоби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"/>
          <p:cNvSpPr/>
          <p:nvPr/>
        </p:nvSpPr>
        <p:spPr>
          <a:xfrm>
            <a:off x="1403280" y="2060640"/>
            <a:ext cx="309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ходит в состав гормона инсул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2997360"/>
            <a:ext cx="2665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ходит в состав гормона тирокс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640" y="3860640"/>
            <a:ext cx="792360" cy="792360"/>
          </a:xfrm>
          <a:prstGeom prst="flowChartConnector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20400"/>
                </a:solidFill>
                <a:latin typeface="Garamond"/>
              </a:rPr>
              <a:t>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03280" y="393372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Главный составляющий элемент зубной эм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00720" y="479736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Задерживает рост и размножение бакте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Источники минерал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836280"/>
            <a:ext cx="78692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 продуктам с высоким содержанием алюминия относится вода из-под крана, без предварительной очистки. Пищевые красители, колбасы, дрожж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гурцы, печень, орехи (фундук), какао, пивные дрожжи, плоды шиповника, сыр, шоколад, пшеничные отруби, пшеничные зародыши, грецкий орех, зелень, грибы, бобовые, гречневая крупа, земляника, крыжовник, мясо, мидии, пищевые зла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Чай, морская рыба, сельдь, макрель, лосось и любая пища, приготовленная на фторированной вод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Морская рыба, рыбий жир, морская капуста, а также молочные продукты, гречневая крупа, пшено, картофель, свежие овощи и фрукт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Бурая водоросль,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пшеничные отруби, тыквенное семя, подсолнечник, халва тахинная, миндаль, арбузы, шоколад горький, какао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0" name="" descr="Вода"/>
          <p:cNvPicPr/>
          <p:nvPr/>
        </p:nvPicPr>
        <p:blipFill>
          <a:blip r:embed="rId1"/>
          <a:stretch/>
        </p:blipFill>
        <p:spPr>
          <a:xfrm>
            <a:off x="179280" y="981000"/>
            <a:ext cx="827280" cy="827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Огурцы"/>
          <p:cNvPicPr/>
          <p:nvPr/>
        </p:nvPicPr>
        <p:blipFill>
          <a:blip r:embed="rId2"/>
          <a:stretch/>
        </p:blipFill>
        <p:spPr>
          <a:xfrm>
            <a:off x="179280" y="206064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Рыба"/>
          <p:cNvPicPr/>
          <p:nvPr/>
        </p:nvPicPr>
        <p:blipFill>
          <a:blip r:embed="rId3"/>
          <a:stretch/>
        </p:blipFill>
        <p:spPr>
          <a:xfrm>
            <a:off x="179280" y="3213000"/>
            <a:ext cx="827280" cy="8272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Помидоры"/>
          <p:cNvPicPr/>
          <p:nvPr/>
        </p:nvPicPr>
        <p:blipFill>
          <a:blip r:embed="rId4"/>
          <a:stretch/>
        </p:blipFill>
        <p:spPr>
          <a:xfrm>
            <a:off x="179280" y="4365720"/>
            <a:ext cx="827280" cy="826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Арбуз"/>
          <p:cNvPicPr/>
          <p:nvPr/>
        </p:nvPicPr>
        <p:blipFill>
          <a:blip r:embed="rId5"/>
          <a:stretch/>
        </p:blipFill>
        <p:spPr>
          <a:xfrm>
            <a:off x="179280" y="5300640"/>
            <a:ext cx="82728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Принцип взаимодейств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52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реди макро- и микроэлементов идёт «спор», то есть избыток одного элемента, приводит к дефициту други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"/>
          <p:cNvSpPr/>
          <p:nvPr/>
        </p:nvSpPr>
        <p:spPr>
          <a:xfrm>
            <a:off x="15840" y="1919160"/>
            <a:ext cx="386712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211640" y="1413000"/>
          <a:ext cx="4464000" cy="4873680"/>
        </p:xfrm>
        <a:graphic>
          <a:graphicData uri="http://schemas.openxmlformats.org/drawingml/2006/table">
            <a:tbl>
              <a:tblPr/>
              <a:tblGrid>
                <a:gridCol w="1785960"/>
                <a:gridCol w="2678040"/>
              </a:tblGrid>
              <a:tr h="88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Избыток элемен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иводит к дефицит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H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C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Se, Z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P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Ca, Mg, Zn, 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P, Z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F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Cu, Z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Cu, M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M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C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Z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Fe, C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C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Mo, Z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102,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102,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c"/>
                </a:solidFill>
                <a:latin typeface="Garamond"/>
              </a:rPr>
              <a:t>Симптомы дефицита химических элементов в организме  челове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"/>
          <p:cNvSpPr/>
          <p:nvPr/>
        </p:nvSpPr>
        <p:spPr>
          <a:xfrm>
            <a:off x="3851280" y="3933720"/>
            <a:ext cx="934920" cy="935280"/>
          </a:xfrm>
          <a:custGeom>
            <a:avLst/>
            <a:gdLst>
              <a:gd name="textAreaLeft" fmla="*/ 213480 w 934920"/>
              <a:gd name="textAreaRight" fmla="*/ 721440 w 934920"/>
              <a:gd name="textAreaTop" fmla="*/ 213480 h 935280"/>
              <a:gd name="textAreaBottom" fmla="*/ 721800 h 9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16360" y="3429000"/>
            <a:ext cx="1008000" cy="93492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13480 h 934920"/>
              <a:gd name="textAreaBottom" fmla="*/ 721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1280" y="2133720"/>
            <a:ext cx="934920" cy="934920"/>
          </a:xfrm>
          <a:custGeom>
            <a:avLst/>
            <a:gdLst>
              <a:gd name="textAreaLeft" fmla="*/ 213480 w 934920"/>
              <a:gd name="textAreaRight" fmla="*/ 721440 w 934920"/>
              <a:gd name="textAreaTop" fmla="*/ 213480 h 934920"/>
              <a:gd name="textAreaBottom" fmla="*/ 721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514"/>
                </a:solidFill>
                <a:latin typeface="Garamond"/>
              </a:rPr>
              <a:t>F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7640" y="2492280"/>
            <a:ext cx="934920" cy="935280"/>
          </a:xfrm>
          <a:custGeom>
            <a:avLst/>
            <a:gdLst>
              <a:gd name="textAreaLeft" fmla="*/ 213480 w 934920"/>
              <a:gd name="textAreaRight" fmla="*/ 721440 w 934920"/>
              <a:gd name="textAreaTop" fmla="*/ 213480 h 935280"/>
              <a:gd name="textAreaBottom" fmla="*/ 721800 h 9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M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16360" y="2565360"/>
            <a:ext cx="935280" cy="934920"/>
          </a:xfrm>
          <a:custGeom>
            <a:avLst/>
            <a:gdLst>
              <a:gd name="textAreaLeft" fmla="*/ 213480 w 935280"/>
              <a:gd name="textAreaRight" fmla="*/ 721800 w 935280"/>
              <a:gd name="textAreaTop" fmla="*/ 213480 h 934920"/>
              <a:gd name="textAreaBottom" fmla="*/ 721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Garamond"/>
              </a:rPr>
              <a:t>C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3500280"/>
            <a:ext cx="936720" cy="936720"/>
          </a:xfrm>
          <a:custGeom>
            <a:avLst/>
            <a:gdLst>
              <a:gd name="textAreaLeft" fmla="*/ 213840 w 936720"/>
              <a:gd name="textAreaRight" fmla="*/ 722880 w 936720"/>
              <a:gd name="textAreaTop" fmla="*/ 213840 h 936720"/>
              <a:gd name="textAreaBottom" fmla="*/ 7228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Garamond"/>
              </a:rPr>
              <a:t>Z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2637000"/>
            <a:ext cx="165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Garamond"/>
              </a:rPr>
              <a:t>Симптомы диабе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51640" y="357336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Garamond"/>
              </a:rPr>
              <a:t>Повреждение кожи, замедление ро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4797360"/>
            <a:ext cx="201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Garamond"/>
              </a:rPr>
              <a:t>Замедление роста скеле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71640" y="1413000"/>
            <a:ext cx="30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Garamond"/>
              </a:rPr>
              <a:t>Анемия, нарушение иммунной систе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2637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Garamond"/>
              </a:rPr>
              <a:t>Бесплодност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42920" y="3500280"/>
            <a:ext cx="18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Garamond"/>
              </a:rPr>
              <a:t>Мускульные судорог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9:19:26Z</dcterms:created>
  <dc:creator>Дарья</dc:creator>
  <dc:description/>
  <dc:language>en-US</dc:language>
  <cp:lastModifiedBy>Эшрокова</cp:lastModifiedBy>
  <dcterms:modified xsi:type="dcterms:W3CDTF">2009-04-20T04:22:14Z</dcterms:modified>
  <cp:revision>24</cp:revision>
  <dc:subject/>
  <dc:title>Химические  составляющие человеческого  организма</dc:title>
</cp:coreProperties>
</file>