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BB90-ABA7-4D0A-A75E-73A322C9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2175-ACF9-465F-91CE-764CA221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C12B-254E-43CF-A32A-020792C4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5E73-5727-4750-8D31-08322B64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0EF0-B9AE-4BB9-B605-0972AD4A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912-A7CF-49D7-9DD2-E5FCCBE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1DFB-E573-43CE-BAEC-0784406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40CF-285B-49CA-B545-F4843FB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BC71-D075-4401-930E-B122800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7251-C89C-4109-9B97-1E25391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773E-FAF7-4D08-B90C-323614D5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493F-55BF-44D2-8C94-50D0A5B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44AD-172C-4B40-A847-1095708A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C6D-EC72-4B35-A80E-33215D3A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ADC4-1B6C-4374-A77B-BE649E0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ED72-0725-4B26-ADF4-2802C437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325C-CD1A-419D-86A5-01CF7E4E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4BF5-64C7-446D-B17A-3D8DB098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D47D-62F7-4C50-9CD2-FF53E091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B00BF-DCBF-41E4-B162-1BA60E62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D735-1A67-47CC-AB1A-2A722E47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B109-DDF3-4229-B7BF-65B73365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F308-0274-43C5-808E-FDDA72B2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3193-3821-4424-AAA2-3FB0F0DF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2A8E-2275-40AF-B6C2-79934F8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0205-C36C-41A8-B8A8-F11DC5B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0A57-5932-4C44-8198-C54B133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D58D-13F1-44BC-91D3-42D3DC41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0E9C-A8F9-4A7E-AA9F-2EBFD965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9AD2-A94A-4850-9814-8560BEF4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3E62F-BB59-402F-9921-32B86E75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F7CE6-D934-430D-A46B-C254F91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7B229-5B23-4676-A1F8-EF2D772A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664C-A0D7-4929-95E3-4F932368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44758-4553-4B3D-BE17-D0215EC9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29EF4-60C9-4AB8-9032-ACAAA38B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A14EF-546D-454D-8602-0DF8E22C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1B729-2578-4702-BC90-6065305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591A8-5986-4DB2-AC9A-9D2AA01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14556-F6AF-4D93-ADC0-0B2EC04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7FC2D-FF8F-4B51-A5E4-71679E2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7413A-89D9-4B2A-BC73-C99C4417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B26DA-429A-4B21-A7DA-9678B4CD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E44C-2C19-4830-B667-0CC51361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E07F-6E61-47FE-BADC-3DDF548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5E90-DEFC-4767-A785-4D5FC45A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F2E5E-85F4-4DA0-9612-1FF00A86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1EB06-0A78-4B04-A021-703755FC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DB8D-00A9-45C6-B799-3EC2D0F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F828-9FF3-48AC-AAD1-BF9A81E3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A890B-1C8B-46D4-892C-E2B2055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DE415-E76F-4F0A-A4F2-F1F11BF1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36EC-6990-4ED2-812F-0590DE6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3E0F-CCA5-47EF-A25E-3CF59161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510B-859D-45E2-B5CB-181858F3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9A10-E89D-4D8E-BCBB-DC2239F6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605E9-309E-44D8-B126-96AB87CB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3D1B4-6140-458E-8F7D-DADFF829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EDAF4-CE87-4A59-82D1-00B3F794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221F5-D6BE-43C0-A655-29EFF1D5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49DC-EB96-49C5-9846-5700CDC7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F8610-C4B8-4A0D-B175-135906F5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D3F8B-0D28-4E47-B3DD-FCC442A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70D12-D400-4806-B45F-05CA5730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922B-7C86-43B9-9C0C-755946A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B6C6-E89E-4786-92F7-04A871C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3B22-F5D5-498F-A6BB-B299D71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70F9-0030-410F-8900-5A1118B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70B80-B610-4EBD-A628-F014CB24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EB8FB-3628-412C-AFA0-B4D9D08B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9858-A0A9-4F57-A9A4-D73C794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2CF0-D81F-4916-A2D3-0646A70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464D-1DD9-4D8D-BEFD-B4E7217BC1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1A3-A1F0-402B-9CFC-59DBF33E29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6D6-368D-44C8-A1F9-ED34E343FD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8699-C65E-41E8-BCD9-C37F51C10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AEDC-FBEA-4291-8489-01CD457C1A4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C9D-BE5D-4663-AE14-634D54CB0D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1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056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2ec00"/>
                </a:solidFill>
                <a:latin typeface="Garamond"/>
              </a:rPr>
              <a:t>Химические </a:t>
            </a:r>
            <a:br>
              <a:rPr sz="8000"/>
            </a:br>
            <a:r>
              <a:rPr b="1" i="1" lang="en-US" sz="8000" spc="-1" strike="noStrike">
                <a:solidFill>
                  <a:srgbClr val="f2ec00"/>
                </a:solidFill>
                <a:latin typeface="Garamond"/>
              </a:rPr>
              <a:t>составляющие человеческого </a:t>
            </a:r>
            <a:br>
              <a:rPr sz="8000"/>
            </a:br>
            <a:r>
              <a:rPr b="1" i="1" lang="en-US" sz="8000" spc="-1" strike="noStrike">
                <a:solidFill>
                  <a:srgbClr val="f2ec00"/>
                </a:solidFill>
                <a:latin typeface="Garamond"/>
              </a:rPr>
              <a:t>организма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100000">
              <a:srgbClr val="cc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Суточное потребление химических элеме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340000" y="1916280"/>
          <a:ext cx="4114800" cy="3919320"/>
        </p:xfrm>
        <a:graphic>
          <a:graphicData uri="http://schemas.openxmlformats.org/drawingml/2006/table">
            <a:tbl>
              <a:tblPr/>
              <a:tblGrid>
                <a:gridCol w="1450800"/>
                <a:gridCol w="1511280"/>
                <a:gridCol w="115272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Химические элемен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Суточное потребление, мг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Взрослые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Де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000-5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100-3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800-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800-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Z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M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300-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ажная информ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7057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волосы стали сухими и ломкими, а при расчёсывании выпадают, а ногти стали хрупкими и расслоившимися – значит, в организме дефицит железа, магния, цинка, меди, кальция, витаминов группы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кожа стала сухой и шелушится – это не хватает витамин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, F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биоти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лицо бледное, да ещё с кислым выражением, знайте, что имеет прямую зависимость от дефицита в организме кальция, магния, витаминов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витамин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"/>
          <p:cNvSpPr/>
          <p:nvPr/>
        </p:nvSpPr>
        <p:spPr>
          <a:xfrm>
            <a:off x="1403280" y="836640"/>
            <a:ext cx="633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фицит элементов сказывается на внеш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308720" y="1700280"/>
            <a:ext cx="1638360" cy="2232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308720" y="4149720"/>
            <a:ext cx="1630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c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733320" cy="409680"/>
          </a:xfrm>
          <a:prstGeom prst="rect">
            <a:avLst/>
          </a:prstGeom>
          <a:ln w="0">
            <a:noFill/>
          </a:ln>
        </p:spPr>
      </p:pic>
      <p:pic>
        <p:nvPicPr>
          <p:cNvPr id="344" name="d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790560" cy="304560"/>
          </a:xfrm>
          <a:prstGeom prst="rect">
            <a:avLst/>
          </a:prstGeom>
          <a:ln w="0">
            <a:noFill/>
          </a:ln>
        </p:spPr>
      </p:pic>
      <p:pic>
        <p:nvPicPr>
          <p:cNvPr id="345" name="pp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790560" cy="438120"/>
          </a:xfrm>
          <a:prstGeom prst="rect">
            <a:avLst/>
          </a:prstGeom>
          <a:ln w="0">
            <a:noFill/>
          </a:ln>
        </p:spPr>
      </p:pic>
      <p:pic>
        <p:nvPicPr>
          <p:cNvPr id="346" name="b5" descr=""/>
          <p:cNvPicPr/>
          <p:nvPr/>
        </p:nvPicPr>
        <p:blipFill>
          <a:blip r:embed="rId5"/>
          <a:stretch/>
        </p:blipFill>
        <p:spPr>
          <a:xfrm>
            <a:off x="1116000" y="836640"/>
            <a:ext cx="790560" cy="523800"/>
          </a:xfrm>
          <a:prstGeom prst="rect">
            <a:avLst/>
          </a:prstGeom>
          <a:ln w="0">
            <a:noFill/>
          </a:ln>
        </p:spPr>
      </p:pic>
      <p:pic>
        <p:nvPicPr>
          <p:cNvPr id="347" name="k" descr=""/>
          <p:cNvPicPr/>
          <p:nvPr/>
        </p:nvPicPr>
        <p:blipFill>
          <a:blip r:embed="rId6"/>
          <a:stretch/>
        </p:blipFill>
        <p:spPr>
          <a:xfrm>
            <a:off x="324000" y="981000"/>
            <a:ext cx="790560" cy="409680"/>
          </a:xfrm>
          <a:prstGeom prst="rect">
            <a:avLst/>
          </a:prstGeom>
          <a:ln w="0">
            <a:noFill/>
          </a:ln>
        </p:spPr>
      </p:pic>
      <p:pic>
        <p:nvPicPr>
          <p:cNvPr id="348" name="b9" descr=""/>
          <p:cNvPicPr/>
          <p:nvPr/>
        </p:nvPicPr>
        <p:blipFill>
          <a:blip r:embed="rId7"/>
          <a:stretch/>
        </p:blipFill>
        <p:spPr>
          <a:xfrm>
            <a:off x="179280" y="476280"/>
            <a:ext cx="733680" cy="380880"/>
          </a:xfrm>
          <a:prstGeom prst="rect">
            <a:avLst/>
          </a:prstGeom>
          <a:ln w="0">
            <a:noFill/>
          </a:ln>
        </p:spPr>
      </p:pic>
      <p:pic>
        <p:nvPicPr>
          <p:cNvPr id="349" name="b1" descr=""/>
          <p:cNvPicPr/>
          <p:nvPr/>
        </p:nvPicPr>
        <p:blipFill>
          <a:blip r:embed="rId8"/>
          <a:stretch/>
        </p:blipFill>
        <p:spPr>
          <a:xfrm>
            <a:off x="0" y="1052640"/>
            <a:ext cx="685800" cy="352440"/>
          </a:xfrm>
          <a:prstGeom prst="rect">
            <a:avLst/>
          </a:prstGeom>
          <a:ln w="0">
            <a:noFill/>
          </a:ln>
        </p:spPr>
      </p:pic>
      <p:pic>
        <p:nvPicPr>
          <p:cNvPr id="350" name="b2" descr=""/>
          <p:cNvPicPr/>
          <p:nvPr/>
        </p:nvPicPr>
        <p:blipFill>
          <a:blip r:embed="rId9"/>
          <a:stretch/>
        </p:blipFill>
        <p:spPr>
          <a:xfrm>
            <a:off x="179280" y="1557360"/>
            <a:ext cx="733680" cy="514440"/>
          </a:xfrm>
          <a:prstGeom prst="rect">
            <a:avLst/>
          </a:prstGeom>
          <a:ln w="0">
            <a:noFill/>
          </a:ln>
        </p:spPr>
      </p:pic>
      <p:pic>
        <p:nvPicPr>
          <p:cNvPr id="351" name="b6" descr=""/>
          <p:cNvPicPr/>
          <p:nvPr/>
        </p:nvPicPr>
        <p:blipFill>
          <a:blip r:embed="rId10"/>
          <a:stretch/>
        </p:blipFill>
        <p:spPr>
          <a:xfrm>
            <a:off x="1547640" y="692280"/>
            <a:ext cx="790920" cy="590400"/>
          </a:xfrm>
          <a:prstGeom prst="rect">
            <a:avLst/>
          </a:prstGeom>
          <a:ln w="0">
            <a:noFill/>
          </a:ln>
        </p:spPr>
      </p:pic>
      <p:pic>
        <p:nvPicPr>
          <p:cNvPr id="352" name="h" descr=""/>
          <p:cNvPicPr/>
          <p:nvPr/>
        </p:nvPicPr>
        <p:blipFill>
          <a:blip r:embed="rId11"/>
          <a:stretch/>
        </p:blipFill>
        <p:spPr>
          <a:xfrm>
            <a:off x="755640" y="1341360"/>
            <a:ext cx="790560" cy="362160"/>
          </a:xfrm>
          <a:prstGeom prst="rect">
            <a:avLst/>
          </a:prstGeom>
          <a:ln w="0">
            <a:noFill/>
          </a:ln>
        </p:spPr>
      </p:pic>
      <p:pic>
        <p:nvPicPr>
          <p:cNvPr id="353" name="b1" descr=""/>
          <p:cNvPicPr/>
          <p:nvPr/>
        </p:nvPicPr>
        <p:blipFill>
          <a:blip r:embed="rId12"/>
          <a:stretch/>
        </p:blipFill>
        <p:spPr>
          <a:xfrm>
            <a:off x="1763640" y="1413000"/>
            <a:ext cx="6858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b12_new" descr=""/>
          <p:cNvPicPr/>
          <p:nvPr/>
        </p:nvPicPr>
        <p:blipFill>
          <a:blip r:embed="rId13"/>
          <a:stretch/>
        </p:blipFill>
        <p:spPr>
          <a:xfrm>
            <a:off x="1187280" y="162864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355" name="e" descr=""/>
          <p:cNvPicPr/>
          <p:nvPr/>
        </p:nvPicPr>
        <p:blipFill>
          <a:blip r:embed="rId14"/>
          <a:stretch/>
        </p:blipFill>
        <p:spPr>
          <a:xfrm>
            <a:off x="2195640" y="333360"/>
            <a:ext cx="790560" cy="514440"/>
          </a:xfrm>
          <a:prstGeom prst="rect">
            <a:avLst/>
          </a:prstGeom>
          <a:ln w="0">
            <a:noFill/>
          </a:ln>
        </p:spPr>
      </p:pic>
      <p:pic>
        <p:nvPicPr>
          <p:cNvPr id="356" name="a" descr=""/>
          <p:cNvPicPr/>
          <p:nvPr/>
        </p:nvPicPr>
        <p:blipFill>
          <a:blip r:embed="rId15"/>
          <a:stretch/>
        </p:blipFill>
        <p:spPr>
          <a:xfrm>
            <a:off x="2627280" y="907920"/>
            <a:ext cx="685800" cy="486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80" y="310932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0" y="391392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" y="4795200"/>
            <a:ext cx="68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4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60" y="5799960"/>
            <a:ext cx="31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60" y="6605280"/>
            <a:ext cx="86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20" y="7608240"/>
            <a:ext cx="1003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00" y="842256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0"/>
            <a:ext cx="4176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Garamond"/>
              </a:rPr>
              <a:t>Витаминный алфави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48000" y="14842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Garamond"/>
              </a:rPr>
              <a:t>История открытия витами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2492280"/>
            <a:ext cx="79218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В 1880 году русский учёный Николай Лунин, изучавший роль минеральных веществ в питании,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«Из этого следует, что в молоке содержатся ещё другие вещества, незаменимые  для питания»,- сделал вывод учё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Первым выделил витамин в кристаллическом виде польский учёный Казимир Функ в 1911  году. Год спустя он же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придумал и название – от латинского «</a:t>
            </a:r>
            <a:r>
              <a:rPr b="0" lang="en-US" sz="2000" spc="-1" strike="noStrike">
                <a:solidFill>
                  <a:srgbClr val="00004c"/>
                </a:solidFill>
                <a:latin typeface="Arial"/>
              </a:rPr>
              <a:t>vita</a:t>
            </a:r>
            <a:r>
              <a:rPr b="0" lang="ru-RU" sz="2000" spc="-1" strike="noStrike">
                <a:solidFill>
                  <a:srgbClr val="00004c"/>
                </a:solidFill>
                <a:latin typeface="Arial"/>
              </a:rPr>
              <a:t>» - «жизн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3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Важнейшие витамины и их источн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68360" y="1268280"/>
          <a:ext cx="8229600" cy="5410080"/>
        </p:xfrm>
        <a:graphic>
          <a:graphicData uri="http://schemas.openxmlformats.org/drawingml/2006/table">
            <a:tbl>
              <a:tblPr/>
              <a:tblGrid>
                <a:gridCol w="2735280"/>
                <a:gridCol w="5494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тами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чни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тин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ыбий жир, печень, морковь помидор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1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а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ожжи, орехи, бобовые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2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рибофлав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чень, мясо, молоко, зелёные овощи, яйц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отиновая кислота (ниац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ыба, орехи, кукуруза, домашняя птиц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ырая печень, мясо, рыба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аскорбиновая кисло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итрусовые, смородина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льце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ыбий жир, сливки, яичный желто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ко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я, сливочное масло, овсяные хлопь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ь, яйца, молок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Значение витамин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95280" y="76500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Вита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Его зна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тин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нормального функционирования сетчатки гл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1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а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ен для окисления глюкозы, роста, для нервных клеток и мыш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2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рибофлав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обмена веще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отиновая кислота (ниац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ен для роста и развития 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ен для продуцирования красных кровяных теле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аскорбиновая кисло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здоровья костей, зубов, кровяных сосу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ьце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ияет на рост костей и зуб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 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коферо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обходим для нормального развития нервных клеток и мыш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жный фактор для коагуляции к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Как сохранить витами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41300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йте салат только под проточной вод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арите картофель в кожуре и лучше всего на пар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купайте только свежие фрукты и овощ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раните фрукты и овощи недолго и обязательно в холодном помещ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тите овощи непосредственно перед употребл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Поешьте и успокойтесь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В рационе человека обязательно должны быть продукты с высоким содержанием некоторых важных компонентов, которые препятствуют, возникновению стрессов или снимают нервное напря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Витамин 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B1 – 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смягчает депресс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Витамин 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E – 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активно участвует в снабжении мозга кислород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Фолиевая кислота (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B9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4c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недостаток её в организме вызывает нервные заболе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c"/>
                </a:solidFill>
                <a:latin typeface="Tahoma"/>
              </a:rPr>
              <a:t>Цинк – обеспечивает нормальное функционирование моз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8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8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971640" y="259920"/>
            <a:ext cx="74167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итательные вещест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глеводы, белки, жиры, минеральные вещества, витамины и вода – вот шесть важных усвояемых компонентов пищи, необходимых для крепкого здоров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ahoma"/>
              </a:rPr>
              <a:t>Интересный фак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76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 последним данным Всемирной организации здравоохранения, состояние здоровья человека лишь на 15% зависит от организации медицинской службы, на столько же - от генетических особенностей, а на 70% - от образа жизни и питания. Сегодня не вызывает сомнения, что полноценное питание определяется не только энергетической ценностью пищи, сбалансированностью рациона по белкам, жирам и углеводам, но и обеспеченностью витаминами, микроэлементами и минерал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38472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24000" y="0"/>
            <a:ext cx="525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наруж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5280" y="1197000"/>
            <a:ext cx="30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Impact"/>
              </a:rPr>
              <a:t>витами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ccff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8360" y="549360"/>
            <a:ext cx="5763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ffcc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84720" y="1197000"/>
            <a:ext cx="792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 rot="5400000">
            <a:off x="7970040" y="2262960"/>
            <a:ext cx="105264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ee64a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ee64a2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 rot="21034200">
            <a:off x="3634920" y="4220640"/>
            <a:ext cx="36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продукта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5" name=""/>
          <p:cNvSpPr txBox="1"/>
          <p:nvPr/>
        </p:nvSpPr>
        <p:spPr>
          <a:xfrm rot="21101400">
            <a:off x="6227640" y="4797000"/>
            <a:ext cx="22384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н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716360" y="5994360"/>
            <a:ext cx="410364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ксперимен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24000" y="5805360"/>
            <a:ext cx="374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446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Наш организм состоит из «кирпичиков» - химических элементов.    Дефицит или избыток любого из них может плохо отразиться на здоровье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387680" y="2852640"/>
            <a:ext cx="475632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457200" y="291960"/>
          <a:ext cx="8229600" cy="5727960"/>
        </p:xfrm>
        <a:graphic>
          <a:graphicData uri="http://schemas.openxmlformats.org/drawingml/2006/table">
            <a:tbl>
              <a:tblPr/>
              <a:tblGrid>
                <a:gridCol w="2243160"/>
                <a:gridCol w="1049400"/>
                <a:gridCol w="1644480"/>
                <a:gridCol w="1646280"/>
                <a:gridCol w="1646280"/>
              </a:tblGrid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уем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яемый витам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Cl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, крахма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 Раств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олнечное мас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рко-зеле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рас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монный с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блоч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ее окраши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риный желт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овато-голубая окрас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39640" y="836640"/>
            <a:ext cx="8352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ec00"/>
                </a:solidFill>
                <a:latin typeface="Garamond"/>
              </a:rPr>
              <a:t>Из 92 встречающихся в природе химических элементов 81 присутствует в человеческом организме. Все они играют ключевые роли в его жизнедея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обеспечивают «строительным материалом» косные и другие тка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являются составными частями витаминов и гормон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ускоряют разные биохимические процессы, в том числе обмен веще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ec00"/>
                </a:solidFill>
                <a:latin typeface="Garamond"/>
              </a:rPr>
              <a:t>активизируют синтез белка и фер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Garamond"/>
              </a:rPr>
              <a:t>Жизнь элементов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ff"/>
            </a:gs>
            <a:gs pos="100000">
              <a:srgbClr val="33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Первые симпто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56000" y="1268280"/>
            <a:ext cx="6410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Garamond"/>
              </a:rPr>
              <a:t>Всё, что происходит с нашим телом – от формирования мускулов до умственного развития,- связано с химическими элементами. Дефицит, избыток или дисбаланс этих полезных веществ вызывает микроэлементоз, который влечёт за собой различные недомогания, постоянное чувство усталости, апатию и депресс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8" name="" descr="image1"/>
          <p:cNvPicPr/>
          <p:nvPr/>
        </p:nvPicPr>
        <p:blipFill>
          <a:blip r:embed="rId1"/>
          <a:stretch/>
        </p:blipFill>
        <p:spPr>
          <a:xfrm>
            <a:off x="179280" y="1773360"/>
            <a:ext cx="2570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ве основные групп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56000" y="1052640"/>
            <a:ext cx="3528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Макроэлемент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1773360"/>
            <a:ext cx="792000" cy="792000"/>
          </a:xfrm>
          <a:prstGeom prst="flowChartConnector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2924280"/>
            <a:ext cx="792000" cy="792000"/>
          </a:xfrm>
          <a:prstGeom prst="flowChartConnector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M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4076640"/>
            <a:ext cx="792000" cy="792360"/>
          </a:xfrm>
          <a:prstGeom prst="flowChartConnector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aramond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4149720"/>
            <a:ext cx="792000" cy="792000"/>
          </a:xfrm>
          <a:prstGeom prst="flowChartConnec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514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5300640"/>
            <a:ext cx="792360" cy="792360"/>
          </a:xfrm>
          <a:prstGeom prst="flowChartConnector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2924280"/>
            <a:ext cx="792000" cy="792000"/>
          </a:xfrm>
          <a:prstGeom prst="flowChartConnector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Garamond"/>
              </a:rPr>
              <a:t>C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170028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оставляет основу косной ткани, влияет на процессы в нервно-мышечной и сердечно сосудистой систе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229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аствует в передаче нервных импульсов, активирует работу фер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29242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аствует в формировании костей, работы нервной ткани, в обмене углеводов и энергетическом обм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0766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твечает за регуляцию кровяного давления, водного обм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84720" y="285264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частвует в образовании желудочного сока, формировании плаз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2000" y="4076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ходит в состав белков в виде серосодержащих аминокисл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Микроэлемент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"/>
          <p:cNvSpPr/>
          <p:nvPr/>
        </p:nvSpPr>
        <p:spPr>
          <a:xfrm>
            <a:off x="3635280" y="4724280"/>
            <a:ext cx="792360" cy="792360"/>
          </a:xfrm>
          <a:prstGeom prst="flowChartConnector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0"/>
                </a:solidFill>
                <a:latin typeface="Garamond"/>
              </a:rPr>
              <a:t>C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2060640"/>
            <a:ext cx="792360" cy="792000"/>
          </a:xfrm>
          <a:prstGeom prst="flowChartConnector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Z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5280" y="1125360"/>
            <a:ext cx="792360" cy="792360"/>
          </a:xfrm>
          <a:prstGeom prst="flowChartConnector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Garamond"/>
              </a:rPr>
              <a:t>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2997360"/>
            <a:ext cx="792360" cy="792000"/>
          </a:xfrm>
          <a:prstGeom prst="flowChartConnector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0"/>
                </a:solidFill>
                <a:latin typeface="Garamond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00360" y="1125360"/>
            <a:ext cx="3095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частвует в образовании гемоглоб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2060640"/>
            <a:ext cx="30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ходит в состав гормона инсу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997360"/>
            <a:ext cx="2665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ходит в состав гормона тирокс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" y="3860640"/>
            <a:ext cx="792360" cy="792360"/>
          </a:xfrm>
          <a:prstGeom prst="flowChartConnector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20400"/>
                </a:solidFill>
                <a:latin typeface="Garamond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03280" y="3933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Главный составляющий элемент зубной эм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0720" y="479736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держивает рост и размнож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Источники минерал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836280"/>
            <a:ext cx="78692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продуктам с высоким содержанием алюминия относится вода из-под крана, без предварительной очистки. Пищевые красители, колбасы, дрожж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гурцы, печень, орехи (фундук), какао, пивные дрожжи, плоды шиповника, сыр, шоколад, пшеничные отруби, пшеничные зародыши, грецкий орех, зелень, грибы, бобовые, гречневая крупа, земляника, крыжовник, мясо, мидии, пищевые зла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ай, морская рыба, сельдь, макрель, лосось и любая пища, приготовленная на фторированной вод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орская рыба, рыбий жир, морская капуста, а также молочные продукты, гречневая крупа, пшено, картофель, свежие овощи и фрукт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урая водоросль,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пшеничные отруби, тыквенное семя, подсолнечник, халва тахинная, миндаль, арбузы, шоколад горький, кака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" descr="Вода"/>
          <p:cNvPicPr/>
          <p:nvPr/>
        </p:nvPicPr>
        <p:blipFill>
          <a:blip r:embed="rId1"/>
          <a:stretch/>
        </p:blipFill>
        <p:spPr>
          <a:xfrm>
            <a:off x="179280" y="981000"/>
            <a:ext cx="827280" cy="827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Огурцы"/>
          <p:cNvPicPr/>
          <p:nvPr/>
        </p:nvPicPr>
        <p:blipFill>
          <a:blip r:embed="rId2"/>
          <a:stretch/>
        </p:blipFill>
        <p:spPr>
          <a:xfrm>
            <a:off x="179280" y="206064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Рыба"/>
          <p:cNvPicPr/>
          <p:nvPr/>
        </p:nvPicPr>
        <p:blipFill>
          <a:blip r:embed="rId3"/>
          <a:stretch/>
        </p:blipFill>
        <p:spPr>
          <a:xfrm>
            <a:off x="179280" y="3213000"/>
            <a:ext cx="827280" cy="827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Помидоры"/>
          <p:cNvPicPr/>
          <p:nvPr/>
        </p:nvPicPr>
        <p:blipFill>
          <a:blip r:embed="rId4"/>
          <a:stretch/>
        </p:blipFill>
        <p:spPr>
          <a:xfrm>
            <a:off x="179280" y="436572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Арбуз"/>
          <p:cNvPicPr/>
          <p:nvPr/>
        </p:nvPicPr>
        <p:blipFill>
          <a:blip r:embed="rId5"/>
          <a:stretch/>
        </p:blipFill>
        <p:spPr>
          <a:xfrm>
            <a:off x="179280" y="5300640"/>
            <a:ext cx="827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инцип взаимодейств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352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реди макро- и микроэлементов идёт «спор», то есть избыток одного элемента, приводит к дефициту други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"/>
          <p:cNvSpPr/>
          <p:nvPr/>
        </p:nvSpPr>
        <p:spPr>
          <a:xfrm>
            <a:off x="15840" y="1919160"/>
            <a:ext cx="386712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211640" y="1413000"/>
          <a:ext cx="4464000" cy="4873680"/>
        </p:xfrm>
        <a:graphic>
          <a:graphicData uri="http://schemas.openxmlformats.org/drawingml/2006/table">
            <a:tbl>
              <a:tblPr/>
              <a:tblGrid>
                <a:gridCol w="1785960"/>
                <a:gridCol w="2678040"/>
              </a:tblGrid>
              <a:tr h="88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збыток эле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водит к дефицит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Se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P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a, Mg, Zn, 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P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, M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Fe, 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3399"/>
                          </a:solidFill>
                          <a:latin typeface="Comic Sans MS"/>
                          <a:ea typeface="Times New Roman"/>
                        </a:rPr>
                        <a:t>Mo, Z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c"/>
                </a:solidFill>
                <a:latin typeface="Garamond"/>
              </a:rPr>
              <a:t>Симптомы дефицита химических элементов в организме  челове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"/>
          <p:cNvSpPr/>
          <p:nvPr/>
        </p:nvSpPr>
        <p:spPr>
          <a:xfrm>
            <a:off x="3851280" y="3933720"/>
            <a:ext cx="934920" cy="935280"/>
          </a:xfrm>
          <a:custGeom>
            <a:avLst/>
            <a:gdLst>
              <a:gd name="textAreaLeft" fmla="*/ 213480 w 934920"/>
              <a:gd name="textAreaRight" fmla="*/ 721440 w 934920"/>
              <a:gd name="textAreaTop" fmla="*/ 213480 h 935280"/>
              <a:gd name="textAreaBottom" fmla="*/ 7218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3429000"/>
            <a:ext cx="1008000" cy="93492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13480 h 934920"/>
              <a:gd name="textAreaBottom" fmla="*/ 721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2133720"/>
            <a:ext cx="934920" cy="934920"/>
          </a:xfrm>
          <a:custGeom>
            <a:avLst/>
            <a:gdLst>
              <a:gd name="textAreaLeft" fmla="*/ 213480 w 934920"/>
              <a:gd name="textAreaRight" fmla="*/ 721440 w 934920"/>
              <a:gd name="textAreaTop" fmla="*/ 213480 h 934920"/>
              <a:gd name="textAreaBottom" fmla="*/ 721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2492280"/>
            <a:ext cx="934920" cy="935280"/>
          </a:xfrm>
          <a:custGeom>
            <a:avLst/>
            <a:gdLst>
              <a:gd name="textAreaLeft" fmla="*/ 213480 w 934920"/>
              <a:gd name="textAreaRight" fmla="*/ 721440 w 934920"/>
              <a:gd name="textAreaTop" fmla="*/ 213480 h 935280"/>
              <a:gd name="textAreaBottom" fmla="*/ 7218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M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16360" y="2565360"/>
            <a:ext cx="935280" cy="934920"/>
          </a:xfrm>
          <a:custGeom>
            <a:avLst/>
            <a:gdLst>
              <a:gd name="textAreaLeft" fmla="*/ 213480 w 935280"/>
              <a:gd name="textAreaRight" fmla="*/ 721800 w 935280"/>
              <a:gd name="textAreaTop" fmla="*/ 213480 h 934920"/>
              <a:gd name="textAreaBottom" fmla="*/ 721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Garamond"/>
              </a:rPr>
              <a:t>C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3500280"/>
            <a:ext cx="936720" cy="936720"/>
          </a:xfrm>
          <a:custGeom>
            <a:avLst/>
            <a:gdLst>
              <a:gd name="textAreaLeft" fmla="*/ 213840 w 936720"/>
              <a:gd name="textAreaRight" fmla="*/ 722880 w 936720"/>
              <a:gd name="textAreaTop" fmla="*/ 213840 h 936720"/>
              <a:gd name="textAreaBottom" fmla="*/ 722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Z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2637000"/>
            <a:ext cx="165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Симптомы диаб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1640" y="357336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Повреждение кожи, замедление ро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79736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Замедление роста скел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1640" y="1413000"/>
            <a:ext cx="30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Анемия, нарушение иммунной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2637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Бесплоднос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42920" y="3500280"/>
            <a:ext cx="18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Garamond"/>
              </a:rPr>
              <a:t>Мускульные судорог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9:19:26Z</dcterms:created>
  <dc:creator>Дарья</dc:creator>
  <dc:description/>
  <dc:language>en-US</dc:language>
  <cp:lastModifiedBy>Эшрокова</cp:lastModifiedBy>
  <dcterms:modified xsi:type="dcterms:W3CDTF">2009-04-20T04:22:14Z</dcterms:modified>
  <cp:revision>24</cp:revision>
  <dc:subject/>
  <dc:title>Химические  составляющие человеческого  организма</dc:title>
</cp:coreProperties>
</file>