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4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7.jpeg" ContentType="image/jpeg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C767-5C2F-4BB3-8ADE-04E42114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0654-2EFB-4331-9D8C-D9D2A6BC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3746-DD0E-4C7F-8836-6167D973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7393-6E98-4123-8E37-2E18AC8F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9267-7753-4A8F-87AD-9D0F0354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BF9F-2FFF-479B-B111-3FFE795E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B81B-1CD5-4B45-94E9-E54DB895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27CF-DD88-44CF-B9EB-C027BB7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A55A-6544-483F-9F4B-5D873F53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AF53-D1FD-418C-BCA1-925E616A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92FF-76D3-424F-9253-45D480D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9356-E85B-4D3F-8723-B5AE803C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2CC6-09AA-4786-AA6A-2220D11D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578-7E28-4086-96B1-BA195EA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837C-8D6B-4E6A-A225-4DB752F3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64D4-99D6-48E0-A545-5D967800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16BB-F7ED-42E4-A2F9-4C9F87F3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7CF5-8AEB-4EB6-913C-88B72BA4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CF39-49F3-491F-9F7A-EA7A092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C370-F4B1-47DE-8FE0-A7C411F8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F3F1-19C9-41C2-A156-F98058AE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075E-6467-403F-A11E-DB9E855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EA95-9B27-4580-82C3-F5AA5DCA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695F-47D8-42F8-9D75-B57E12D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538E-10B1-46E9-B3F8-0F6C3C83F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AE2A-B1A6-47C2-B435-29F2F9A04E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кон сохранения и превращения энергии в механических и тепловых процессах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Rectangle 5"/>
          <p:cNvSpPr/>
          <p:nvPr/>
        </p:nvSpPr>
        <p:spPr>
          <a:xfrm>
            <a:off x="6084720" y="5805360"/>
            <a:ext cx="28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Лицей 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яева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8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83480" cy="628668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"/>
          <p:cNvSpPr/>
          <p:nvPr/>
        </p:nvSpPr>
        <p:spPr>
          <a:xfrm>
            <a:off x="1145880" y="1285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436680" y="928800"/>
            <a:ext cx="437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АГРЕГА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Й ВЕ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1753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5"/>
          <p:cNvSpPr/>
          <p:nvPr/>
        </p:nvSpPr>
        <p:spPr>
          <a:xfrm>
            <a:off x="1983240" y="551664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ГОРАНИЕ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Энергетические превращения в организме человека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 нервных клетка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органах вкуса и обон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утреннее ух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тчатка гл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мышечные кле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7"/>
          <p:cNvSpPr/>
          <p:nvPr/>
        </p:nvSpPr>
        <p:spPr>
          <a:xfrm>
            <a:off x="684360" y="2492280"/>
            <a:ext cx="2087280" cy="64764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4284720" y="2637000"/>
            <a:ext cx="3166920" cy="720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10"/>
          <p:cNvSpPr/>
          <p:nvPr/>
        </p:nvSpPr>
        <p:spPr>
          <a:xfrm>
            <a:off x="684360" y="3645000"/>
            <a:ext cx="2087280" cy="64764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684360" y="4724280"/>
            <a:ext cx="2087280" cy="64800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12"/>
          <p:cNvSpPr/>
          <p:nvPr/>
        </p:nvSpPr>
        <p:spPr>
          <a:xfrm>
            <a:off x="755640" y="5877000"/>
            <a:ext cx="2087640" cy="64764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3"/>
          <p:cNvSpPr/>
          <p:nvPr/>
        </p:nvSpPr>
        <p:spPr>
          <a:xfrm>
            <a:off x="4284720" y="3645000"/>
            <a:ext cx="3166920" cy="720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к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4284720" y="4653000"/>
            <a:ext cx="3166920" cy="720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к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4284720" y="5805360"/>
            <a:ext cx="3166920" cy="64800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3276720" y="2637000"/>
            <a:ext cx="863640" cy="576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0"/>
          <p:cNvSpPr/>
          <p:nvPr/>
        </p:nvSpPr>
        <p:spPr>
          <a:xfrm>
            <a:off x="3276720" y="5877000"/>
            <a:ext cx="863640" cy="576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21"/>
          <p:cNvSpPr/>
          <p:nvPr/>
        </p:nvSpPr>
        <p:spPr>
          <a:xfrm>
            <a:off x="3276720" y="3645000"/>
            <a:ext cx="863640" cy="576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22"/>
          <p:cNvSpPr/>
          <p:nvPr/>
        </p:nvSpPr>
        <p:spPr>
          <a:xfrm>
            <a:off x="3276720" y="4724280"/>
            <a:ext cx="863640" cy="576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4284720" y="2708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к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755640" y="256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97164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1042920" y="4797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900000" y="59500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4" descr="пищевая цепо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3636000" y="26028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ЕВЫЕ ЦЕП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water_cycle_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6"/>
          <p:cNvSpPr/>
          <p:nvPr/>
        </p:nvSpPr>
        <p:spPr>
          <a:xfrm>
            <a:off x="2340720" y="0"/>
            <a:ext cx="52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Энергетические превращения на электростанция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08" name="Organization Chart 6"/>
          <p:cNvGrpSpPr/>
          <p:nvPr/>
        </p:nvGrpSpPr>
        <p:grpSpPr>
          <a:xfrm>
            <a:off x="0" y="1547640"/>
            <a:ext cx="9143640" cy="3609000"/>
            <a:chOff x="0" y="1547640"/>
            <a:chExt cx="9143640" cy="3609000"/>
          </a:xfrm>
        </p:grpSpPr>
        <p:cxnSp>
          <p:nvCxnSpPr>
            <p:cNvPr id="609" name="_s1028"/>
            <p:cNvCxnSpPr>
              <a:stCxn id="610" idx="0"/>
              <a:endCxn id="611" idx="2"/>
            </p:cNvCxnSpPr>
            <p:nvPr/>
          </p:nvCxnSpPr>
          <p:spPr>
            <a:xfrm flipV="1" rot="16200000">
              <a:off x="5151240" y="2410200"/>
              <a:ext cx="722520" cy="1883160"/>
            </a:xfrm>
            <a:prstGeom prst="bentConnector3">
              <a:avLst>
                <a:gd name="adj1" fmla="val 25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2" name="_s1029"/>
            <p:cNvCxnSpPr>
              <a:stCxn id="613" idx="0"/>
              <a:endCxn id="611" idx="2"/>
            </p:cNvCxnSpPr>
            <p:nvPr/>
          </p:nvCxnSpPr>
          <p:spPr>
            <a:xfrm flipV="1" rot="16200000">
              <a:off x="6092640" y="1468800"/>
              <a:ext cx="722520" cy="3765600"/>
            </a:xfrm>
            <a:prstGeom prst="bentConnector3">
              <a:avLst>
                <a:gd name="adj1" fmla="val 25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4" name="_s1030"/>
            <p:cNvCxnSpPr>
              <a:stCxn id="615" idx="0"/>
              <a:endCxn id="611" idx="2"/>
            </p:cNvCxnSpPr>
            <p:nvPr/>
          </p:nvCxnSpPr>
          <p:spPr>
            <a:xfrm flipV="1">
              <a:off x="4571280" y="2990520"/>
              <a:ext cx="2520" cy="72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6" name="_s1031"/>
            <p:cNvCxnSpPr>
              <a:stCxn id="617" idx="0"/>
              <a:endCxn id="611" idx="2"/>
            </p:cNvCxnSpPr>
            <p:nvPr/>
          </p:nvCxnSpPr>
          <p:spPr>
            <a:xfrm flipH="1" flipV="1" rot="5400000">
              <a:off x="3269160" y="2410200"/>
              <a:ext cx="722520" cy="1883160"/>
            </a:xfrm>
            <a:prstGeom prst="bentConnector3">
              <a:avLst>
                <a:gd name="adj1" fmla="val 25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8" name="_s1032"/>
            <p:cNvCxnSpPr>
              <a:stCxn id="619" idx="0"/>
              <a:endCxn id="611" idx="2"/>
            </p:cNvCxnSpPr>
            <p:nvPr/>
          </p:nvCxnSpPr>
          <p:spPr>
            <a:xfrm flipH="1" flipV="1" rot="5400000">
              <a:off x="2329200" y="1470240"/>
              <a:ext cx="722520" cy="3763440"/>
            </a:xfrm>
            <a:prstGeom prst="bentConnector3">
              <a:avLst>
                <a:gd name="adj1" fmla="val 25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1" name="_s1033"/>
            <p:cNvSpPr/>
            <p:nvPr/>
          </p:nvSpPr>
          <p:spPr>
            <a:xfrm>
              <a:off x="3764880" y="15476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Электрическая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034"/>
            <p:cNvSpPr/>
            <p:nvPr/>
          </p:nvSpPr>
          <p:spPr>
            <a:xfrm>
              <a:off x="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адающ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035"/>
            <p:cNvSpPr/>
            <p:nvPr/>
          </p:nvSpPr>
          <p:spPr>
            <a:xfrm>
              <a:off x="188244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нутрення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а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036"/>
            <p:cNvSpPr/>
            <p:nvPr/>
          </p:nvSpPr>
          <p:spPr>
            <a:xfrm>
              <a:off x="376488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ет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037"/>
            <p:cNvSpPr/>
            <p:nvPr/>
          </p:nvSpPr>
          <p:spPr>
            <a:xfrm>
              <a:off x="753012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илив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 вол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038"/>
            <p:cNvSpPr/>
            <p:nvPr/>
          </p:nvSpPr>
          <p:spPr>
            <a:xfrm>
              <a:off x="564768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солнц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Text Box 18"/>
          <p:cNvSpPr/>
          <p:nvPr/>
        </p:nvSpPr>
        <p:spPr>
          <a:xfrm>
            <a:off x="684360" y="4581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9"/>
          <p:cNvSpPr/>
          <p:nvPr/>
        </p:nvSpPr>
        <p:spPr>
          <a:xfrm>
            <a:off x="179280" y="5300640"/>
            <a:ext cx="8569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ЭС            ТЭС            ВЭУ            СЭС           ПЭ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20"/>
          <p:cNvSpPr/>
          <p:nvPr/>
        </p:nvSpPr>
        <p:spPr>
          <a:xfrm>
            <a:off x="3708360" y="587700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етряные)      (солнечные)     (прилив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fdef6"/>
                </a:solidFill>
                <a:latin typeface="Arial"/>
              </a:rPr>
              <a:t>Другие примеры превращения энергии в живых организмах и в природе</a:t>
            </a:r>
            <a:endParaRPr b="0" lang="en-US" sz="3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обм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вые эффекты химических реакций (сгорание топли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фотосинтез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мен и превращение энергии в живых организм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евые цепоч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аганы, ветры, круговорот воды в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 всех явлениях, происходящих в  природе, энергия не возникает и не исчезает. Она только превращается из одного вида в другой. При этом её значение сохраняе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Из работ Джоуля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Теплота, живая сила и притяжение на расстоянии (потенциальная энергия) взаимно превратимы друг в друга, причём в этом превращении ничего не теряетс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1042920" y="27082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76200" y="258444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324000" y="2276640"/>
            <a:ext cx="3816360" cy="22885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fdef6"/>
                </a:solidFill>
                <a:uFillTx/>
                <a:latin typeface="Arial"/>
              </a:rPr>
              <a:t>Потенциальная энергия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– это энергия которая определяется взаимным положением тел или частей одного и того ж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4859280" y="1916280"/>
            <a:ext cx="32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932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4859280" y="2421000"/>
            <a:ext cx="3745080" cy="155700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fdef6"/>
                </a:solidFill>
                <a:uFillTx/>
                <a:latin typeface="Arial"/>
              </a:rPr>
              <a:t>Кинетическая энергия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– это энергия которой обладают движущиеся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755640" y="549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187280" y="3524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1187280" y="54936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468360" y="333360"/>
            <a:ext cx="842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СУЩЕСТВУЕТ ДВА ВИДА МЕХАНИЧЕСКОЙ ЭНЕРГИИ: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ИНЕТИЧЕСКАЯ И ПОТЕНЦИАЛЬНАЯ, КОТОРЫЕ МОГУТ ПРЕВРАЩАТЬСЯ ДРУГ В ДРУ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Object 12" descr=""/>
          <p:cNvPicPr/>
          <p:nvPr/>
        </p:nvPicPr>
        <p:blipFill>
          <a:blip r:embed="rId1"/>
          <a:stretch/>
        </p:blipFill>
        <p:spPr>
          <a:xfrm>
            <a:off x="4876920" y="4114800"/>
            <a:ext cx="1606320" cy="7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9" name="Object 13"/>
          <p:cNvGraphicFramePr/>
          <p:nvPr/>
        </p:nvGraphicFramePr>
        <p:xfrm>
          <a:off x="7086600" y="4876920"/>
          <a:ext cx="1282680" cy="15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876920"/>
                    <a:ext cx="1282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4"/>
          <p:cNvGraphicFramePr/>
          <p:nvPr/>
        </p:nvGraphicFramePr>
        <p:xfrm>
          <a:off x="2195640" y="4221000"/>
          <a:ext cx="2514600" cy="24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4221000"/>
                    <a:ext cx="251460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3" name="Object 15" descr=""/>
          <p:cNvPicPr/>
          <p:nvPr/>
        </p:nvPicPr>
        <p:blipFill>
          <a:blip r:embed="rId6"/>
          <a:stretch/>
        </p:blipFill>
        <p:spPr>
          <a:xfrm>
            <a:off x="304920" y="5410080"/>
            <a:ext cx="1295280" cy="11764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7"/>
          <p:cNvSpPr/>
          <p:nvPr/>
        </p:nvSpPr>
        <p:spPr>
          <a:xfrm>
            <a:off x="250920" y="4437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0" y="501336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1477440" y="6021360"/>
            <a:ext cx="27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X 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4859280" y="522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v 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02000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564000" y="59500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Математическое выражение закона сохранения энергии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=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h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v /2;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X 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971640" y="1989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н ме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12400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3203640" y="1989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1042920" y="3141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485928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766764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1045080" y="43657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1979640" y="43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а №1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падает с высоты 1200 метров. На сколько повысится температура воды, если па её нагревание идёт 60% работы силы тяж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0,6mgh = mc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= 0,6gh/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4"/>
          <p:cNvSpPr/>
          <p:nvPr/>
        </p:nvSpPr>
        <p:spPr>
          <a:xfrm>
            <a:off x="3419640" y="4365720"/>
            <a:ext cx="144360" cy="2872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AutoShape 7"/>
          <p:cNvSpPr/>
          <p:nvPr/>
        </p:nvSpPr>
        <p:spPr>
          <a:xfrm>
            <a:off x="1042920" y="5589720"/>
            <a:ext cx="142920" cy="2872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5508720" y="429264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Температура            повысится на 1,7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игатель мощностью 50 Вт в течение 10 минут вращает лопасти вентилятора внутри калориметра с водой. На сколько градусов повысится за это время температура воды, если её масса 2 кг ? Потерями тепла пренебре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 =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τ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= mc 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 = N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τ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/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484360" y="4941720"/>
            <a:ext cx="144720" cy="28764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826920" y="5516640"/>
            <a:ext cx="144720" cy="2872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5651640" y="42926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Температура повысится на 3,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а №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стреле из ствола винтовки пуля массой 9 г приобретает скор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00 м/с. Определить массу порохового заряда, если КПД выстрела 24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0,24m q = m v 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 = m v /0,48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2916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34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 flipH="1">
            <a:off x="7093080" y="6381720"/>
            <a:ext cx="8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7"/>
          <p:cNvSpPr/>
          <p:nvPr/>
        </p:nvSpPr>
        <p:spPr>
          <a:xfrm>
            <a:off x="1910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55"/>
          <p:cNvSpPr/>
          <p:nvPr/>
        </p:nvSpPr>
        <p:spPr>
          <a:xfrm flipH="1">
            <a:off x="2050200" y="6381720"/>
            <a:ext cx="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56"/>
          <p:cNvSpPr/>
          <p:nvPr/>
        </p:nvSpPr>
        <p:spPr>
          <a:xfrm>
            <a:off x="3061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57"/>
          <p:cNvSpPr/>
          <p:nvPr/>
        </p:nvSpPr>
        <p:spPr>
          <a:xfrm>
            <a:off x="2270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58"/>
          <p:cNvSpPr/>
          <p:nvPr/>
        </p:nvSpPr>
        <p:spPr>
          <a:xfrm>
            <a:off x="191016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59"/>
          <p:cNvSpPr/>
          <p:nvPr/>
        </p:nvSpPr>
        <p:spPr>
          <a:xfrm>
            <a:off x="111780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60"/>
          <p:cNvSpPr/>
          <p:nvPr/>
        </p:nvSpPr>
        <p:spPr>
          <a:xfrm>
            <a:off x="5076720" y="472428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Масса порохов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ряда 4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9144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WordArt 4"/>
          <p:cNvSpPr txBox="1"/>
          <p:nvPr/>
        </p:nvSpPr>
        <p:spPr>
          <a:xfrm>
            <a:off x="825480" y="2349360"/>
            <a:ext cx="6767640" cy="26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сть ваша энерги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спешно переходи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полезную работ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WordArt 5"/>
          <p:cNvSpPr txBox="1"/>
          <p:nvPr/>
        </p:nvSpPr>
        <p:spPr>
          <a:xfrm>
            <a:off x="2987640" y="620640"/>
            <a:ext cx="3171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м спасибо!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ВСПОМНИМ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0" y="3357720"/>
          <a:ext cx="226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7720"/>
                    <a:ext cx="226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7"/>
          <p:cNvSpPr/>
          <p:nvPr/>
        </p:nvSpPr>
        <p:spPr>
          <a:xfrm>
            <a:off x="0" y="1197000"/>
            <a:ext cx="860436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ИНЕТИЧЕСКАЯ ЭНЕРГИЯ ВСЕХ МОЛЕКУЛ, ИЗ КОТОР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СТОИТ ТЕЛО, И ПОТЕНЦИАЛЬНАЯ ЭНЕРГИЯ 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ЗАИМОДЕЙСТВИЯ СОСТОВ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НУТРЕННЮЮ ЭНЕРГИЮ ТЕЛА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211640" y="3789360"/>
            <a:ext cx="720720" cy="7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6"/>
          <p:cNvSpPr/>
          <p:nvPr/>
        </p:nvSpPr>
        <p:spPr>
          <a:xfrm>
            <a:off x="3419640" y="3933720"/>
            <a:ext cx="576000" cy="71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28"/>
          <p:cNvSpPr/>
          <p:nvPr/>
        </p:nvSpPr>
        <p:spPr>
          <a:xfrm>
            <a:off x="2268360" y="3068640"/>
            <a:ext cx="3888000" cy="158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ы измен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 rot="13392600">
            <a:off x="3850920" y="4724280"/>
            <a:ext cx="852480" cy="852480"/>
          </a:xfrm>
          <a:custGeom>
            <a:avLst/>
            <a:gdLst>
              <a:gd name="textAreaLeft" fmla="*/ 121680 w 852480"/>
              <a:gd name="textAreaRight" fmla="*/ 730800 w 85248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6"/>
          <p:cNvSpPr/>
          <p:nvPr/>
        </p:nvSpPr>
        <p:spPr>
          <a:xfrm>
            <a:off x="2556000" y="5373720"/>
            <a:ext cx="1295280" cy="1224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верш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9"/>
          <p:cNvSpPr/>
          <p:nvPr/>
        </p:nvSpPr>
        <p:spPr>
          <a:xfrm>
            <a:off x="4716360" y="5373720"/>
            <a:ext cx="1295640" cy="1224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л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42"/>
          <p:cNvGraphicFramePr/>
          <p:nvPr/>
        </p:nvGraphicFramePr>
        <p:xfrm>
          <a:off x="7596360" y="0"/>
          <a:ext cx="1547640" cy="17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0"/>
                    <a:ext cx="15476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Что общего между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ряженной мышелов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куском сливочного мас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движущимся автомобил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батарей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tradeboardhjQuG7_img"/>
          <p:cNvPicPr/>
          <p:nvPr/>
        </p:nvPicPr>
        <p:blipFill>
          <a:blip r:embed="rId5"/>
          <a:stretch/>
        </p:blipFill>
        <p:spPr>
          <a:xfrm>
            <a:off x="2268360" y="4653000"/>
            <a:ext cx="1943280" cy="1944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4111"/>
          <p:cNvPicPr/>
          <p:nvPr/>
        </p:nvPicPr>
        <p:blipFill>
          <a:blip r:embed="rId6"/>
          <a:stretch/>
        </p:blipFill>
        <p:spPr>
          <a:xfrm>
            <a:off x="6588000" y="4653000"/>
            <a:ext cx="2338560" cy="19447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myshelovka"/>
          <p:cNvPicPr/>
          <p:nvPr/>
        </p:nvPicPr>
        <p:blipFill>
          <a:blip r:embed="rId7"/>
          <a:stretch/>
        </p:blipFill>
        <p:spPr>
          <a:xfrm>
            <a:off x="324000" y="4653000"/>
            <a:ext cx="2016000" cy="1942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BYD-FLYER-II-0-8-i-40-l-s-"/>
          <p:cNvPicPr/>
          <p:nvPr/>
        </p:nvPicPr>
        <p:blipFill>
          <a:blip r:embed="rId8"/>
          <a:stretch/>
        </p:blipFill>
        <p:spPr>
          <a:xfrm>
            <a:off x="4140360" y="4653000"/>
            <a:ext cx="2447640" cy="194472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12"/>
          <p:cNvSpPr/>
          <p:nvPr/>
        </p:nvSpPr>
        <p:spPr>
          <a:xfrm>
            <a:off x="7524720" y="1557360"/>
            <a:ext cx="1368360" cy="2808360"/>
          </a:xfrm>
          <a:custGeom>
            <a:avLst/>
            <a:gdLst>
              <a:gd name="textAreaLeft" fmla="*/ 88560 w 1368360"/>
              <a:gd name="textAreaRight" fmla="*/ 1279800 w 1368360"/>
              <a:gd name="textAreaTop" fmla="*/ 88560 h 2808360"/>
              <a:gd name="textAreaBottom" fmla="*/ 2719800 h 2808360"/>
            </a:gdLst>
            <a:ahLst/>
            <a:rect l="textAreaLeft" t="textAreaTop" r="textAreaRight" b="textAreaBottom"/>
            <a:pathLst>
              <a:path w="21600" h="44325">
                <a:moveTo>
                  <a:pt x="0" y="0"/>
                </a:moveTo>
                <a:lnTo>
                  <a:pt x="21600" y="0"/>
                </a:lnTo>
                <a:lnTo>
                  <a:pt x="21600" y="44325"/>
                </a:lnTo>
                <a:lnTo>
                  <a:pt x="0" y="44325"/>
                </a:lnTo>
                <a:close/>
              </a:path>
              <a:path fill="lightenLess" w="21600" h="443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4325">
                <a:moveTo>
                  <a:pt x="21600" y="0"/>
                </a:moveTo>
                <a:lnTo>
                  <a:pt x="21600" y="44325"/>
                </a:lnTo>
                <a:lnTo>
                  <a:pt x="20200" y="42925"/>
                </a:lnTo>
                <a:lnTo>
                  <a:pt x="20200" y="1400"/>
                </a:lnTo>
                <a:close/>
              </a:path>
              <a:path fill="darkenLess" w="21600" h="44325">
                <a:moveTo>
                  <a:pt x="21600" y="44325"/>
                </a:moveTo>
                <a:lnTo>
                  <a:pt x="0" y="44325"/>
                </a:lnTo>
                <a:lnTo>
                  <a:pt x="1400" y="42925"/>
                </a:lnTo>
                <a:lnTo>
                  <a:pt x="20200" y="42925"/>
                </a:lnTo>
                <a:close/>
              </a:path>
              <a:path fill="lighten" w="21600" h="44325">
                <a:moveTo>
                  <a:pt x="0" y="44325"/>
                </a:moveTo>
                <a:lnTo>
                  <a:pt x="0" y="0"/>
                </a:lnTo>
                <a:lnTo>
                  <a:pt x="1400" y="1400"/>
                </a:lnTo>
                <a:lnTo>
                  <a:pt x="1400" y="42925"/>
                </a:lnTo>
                <a:close/>
              </a:path>
              <a:path fill="darken" w="21600" h="44325">
                <a:moveTo>
                  <a:pt x="10800" y="2616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44325">
                <a:moveTo>
                  <a:pt x="11905" y="25644"/>
                </a:moveTo>
                <a:lnTo>
                  <a:pt x="11905" y="23686"/>
                </a:lnTo>
                <a:cubicBezTo>
                  <a:pt x="11905" y="22859"/>
                  <a:pt x="12236" y="22162"/>
                  <a:pt x="12837" y="22162"/>
                </a:cubicBezTo>
                <a:cubicBezTo>
                  <a:pt x="13968" y="22162"/>
                  <a:pt x="14865" y="20796"/>
                  <a:pt x="14865" y="19212"/>
                </a:cubicBezTo>
                <a:cubicBezTo>
                  <a:pt x="14865" y="16897"/>
                  <a:pt x="13011" y="15156"/>
                  <a:pt x="10800" y="15156"/>
                </a:cubicBezTo>
                <a:cubicBezTo>
                  <a:pt x="8589" y="15156"/>
                  <a:pt x="6918" y="16897"/>
                  <a:pt x="6918" y="19212"/>
                </a:cubicBezTo>
                <a:lnTo>
                  <a:pt x="8772" y="19212"/>
                </a:lnTo>
                <a:cubicBezTo>
                  <a:pt x="8772" y="18072"/>
                  <a:pt x="9695" y="17184"/>
                  <a:pt x="10800" y="17184"/>
                </a:cubicBezTo>
                <a:cubicBezTo>
                  <a:pt x="11905" y="17184"/>
                  <a:pt x="12837" y="18072"/>
                  <a:pt x="12837" y="19212"/>
                </a:cubicBezTo>
                <a:cubicBezTo>
                  <a:pt x="12837" y="19952"/>
                  <a:pt x="12367" y="20683"/>
                  <a:pt x="11905" y="20683"/>
                </a:cubicBezTo>
                <a:cubicBezTo>
                  <a:pt x="10800" y="20683"/>
                  <a:pt x="9695" y="22162"/>
                  <a:pt x="9695" y="23686"/>
                </a:cubicBezTo>
                <a:lnTo>
                  <a:pt x="9695" y="25644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Из статьи «Энергия» в первом издании Британской энциклопедии (1771г.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«Энерг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слово греческого происхождения, означае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могуществ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остоинств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ейственнос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чего-либо. Его используют также в переносном смысле для обозначения выразительности речи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огда и кем сформулирован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675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ередина 19 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оберт      Джеймс      Герм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Майер      Джоуль  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Гельмголь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img36"/>
          <p:cNvPicPr/>
          <p:nvPr/>
        </p:nvPicPr>
        <p:blipFill>
          <a:blip r:embed="rId3"/>
          <a:stretch/>
        </p:blipFill>
        <p:spPr>
          <a:xfrm>
            <a:off x="6156360" y="2924280"/>
            <a:ext cx="2663640" cy="345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image_preview"/>
          <p:cNvPicPr/>
          <p:nvPr/>
        </p:nvPicPr>
        <p:blipFill>
          <a:blip r:embed="rId4"/>
          <a:stretch/>
        </p:blipFill>
        <p:spPr>
          <a:xfrm>
            <a:off x="3203640" y="2924280"/>
            <a:ext cx="2647800" cy="34574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8"/>
          <p:cNvSpPr/>
          <p:nvPr/>
        </p:nvSpPr>
        <p:spPr>
          <a:xfrm>
            <a:off x="539640" y="64911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611280" y="645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1814-187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348000" y="645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1818-188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6443640" y="6453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1821-189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12" descr="mayer_mayer"/>
          <p:cNvPicPr/>
          <p:nvPr/>
        </p:nvPicPr>
        <p:blipFill>
          <a:blip r:embed="rId5"/>
          <a:stretch/>
        </p:blipFill>
        <p:spPr>
          <a:xfrm>
            <a:off x="324000" y="2924280"/>
            <a:ext cx="2519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Энергетические превращ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 по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Е 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ение мя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маят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рел из пружинного пистоле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рел из лу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заводной механической        игру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2195640" y="170028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dfde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Энергетические превращ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ение свинцового шара на свинцовую пли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рможение автомобиля у светофо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ревание при т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тепловых двигател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рел из огнестрельного оружия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4"/>
          <p:cNvSpPr/>
          <p:nvPr/>
        </p:nvSpPr>
        <p:spPr>
          <a:xfrm>
            <a:off x="2195640" y="170028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150410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6156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0:09:47Z</dcterms:created>
  <dc:creator>Super</dc:creator>
  <dc:description/>
  <dc:language>en-US</dc:language>
  <cp:lastModifiedBy>учитель</cp:lastModifiedBy>
  <dcterms:modified xsi:type="dcterms:W3CDTF">2015-01-13T06:02:41Z</dcterms:modified>
  <cp:revision>72</cp:revision>
  <dc:subject/>
  <dc:title>Закон сохранения и превращения энергии в механических и тепловых процессах</dc:title>
</cp:coreProperties>
</file>