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37C8-1169-4603-B4F2-022EE8774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56E6-0CCC-4D92-AFD7-D36B4F09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3094-A718-4F1C-BE28-14C7F30E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3875-2345-4C48-A613-22C4A1B6E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A7A1-738C-4635-8B09-CE1DE5E5F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5788-6286-401F-AB3D-834369C6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E93F-7FC4-440B-89AA-76B8F21A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11F4-7697-4228-B284-9C356B94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451F-17F4-4E5A-8AA5-F13E46B3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356E-33BB-4564-AF0B-B017685E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C793-3619-4D0D-93CA-BE26049B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11EA-13F7-4C17-8BB4-8634AE7E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4CC6-A4A0-477E-AF92-BE4DD15B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1039-03F9-46EC-BD4F-77E51FB4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2CCA-5DFE-4EAD-B8EF-ACFAA01D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7AC0-7BAD-41DA-A99D-76905D83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4E1C-442D-4FFB-A3E1-8154FDBEF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F0CC-9C1D-40C8-8D77-28A62C2E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5E60-D125-4909-BA18-F58D64D6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CD78-FB91-4CEF-9841-4E354AD4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A4F3-5661-460E-A976-E7F53BF9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C5C7-9FD0-4FA0-8623-C47FED7D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C3A2-047F-4D69-8937-F62FA2E5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BFC7-6F17-40EA-9371-EF40646D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499EE-5B44-453A-8EBD-1AB0ED0F4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9607A-E782-4BD6-9A12-9CB18E41D60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-19080"/>
            <a:ext cx="10080720" cy="74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Духовно-нравственное воспитание личности учащихся на занят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декоративно-прикладного творчества в рамках изучения те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«Русские народные кукл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8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Автор  проекта: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ФИО Афанасьева  Елена  Викторовна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Должность: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педагог дополнительного образования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МБОУ ДОД ДТДМ  г.о. Тольятти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Тольятти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Ожидаемый результат: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2076120"/>
            <a:ext cx="8418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Формирование позитивного отношения к окружающему миру и людям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Усвоение ребенком добродетели,направленность и открытость добру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Потребность сопереживания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Воспитание патриотизма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Формирование истинных семейных ценностей(любовь,дом,честь,верность,Родина)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Деятельное отношение к труду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Ответственность за дела и поступки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546120"/>
            <a:ext cx="8607600" cy="1736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Этапы проекта</a:t>
            </a:r>
            <a:br>
              <a:rPr sz="2400"/>
            </a:br>
            <a:br>
              <a:rPr sz="2400"/>
            </a:b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1этап</a:t>
            </a:r>
            <a:br>
              <a:rPr sz="2400"/>
            </a:b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Изучение русских традиций</a:t>
            </a:r>
            <a:br>
              <a:rPr sz="2400"/>
            </a:b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2257200"/>
            <a:ext cx="8418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Изучение информационных источников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Просмотр видеоматериалов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Работа с иллюстрациями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Посещение выставок посвященных русской культуре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Беседы о русской культуре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0000" y="603360"/>
            <a:ext cx="8607600" cy="1736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Этапы проекта</a:t>
            </a:r>
            <a:br>
              <a:rPr sz="2400"/>
            </a:b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2этап</a:t>
            </a:r>
            <a:br>
              <a:rPr sz="2400"/>
            </a:b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Изучение истории возникновения кукол</a:t>
            </a:r>
            <a:br>
              <a:rPr sz="2400"/>
            </a:br>
            <a:br>
              <a:rPr sz="2400"/>
            </a:b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Работа с видеоматериалами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Работа с книжными источниками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Посещение музея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Тематические беседы о куклах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132680" y="-249120"/>
            <a:ext cx="11430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Этапы проекта</a:t>
            </a:r>
            <a:br>
              <a:rPr sz="2400"/>
            </a:b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3этап</a:t>
            </a:r>
            <a:br>
              <a:rPr sz="2400"/>
            </a:b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Изучение технологии изготовления кукол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Мастер-классы по изготовлению кукол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Просмотр видеоматериалов по изготовлению кукол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Организация выставки кукол изготовленных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учащимися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Формируемые компетенции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Tuning Project (компетенции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СИСТЕМНЫЕ компетенции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способность видеть целостные системы (понимание частей и целого)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исследовательские умения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умения учиться, адаптироваться к новым ситуациям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руководство, лидерство и.т.д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Формируемые компетенции</a:t>
            </a:r>
            <a:br>
              <a:rPr sz="2400"/>
            </a:b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Самоорганизации и самоуправления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Уверенность в себе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824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Способность к рефлексии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824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Самостоятельная работа (самостоятельность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824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Способность брать на себя ответственность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824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Способность целенаправленно организовать свою работу индивидуально или в команде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824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Инициативность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82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Компетенции самоорганизации и самоуправления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32040" y="717480"/>
            <a:ext cx="86072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Формируемые компитенции</a:t>
            </a:r>
            <a:br>
              <a:rPr sz="2400"/>
            </a:b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Tuning Project (компетенции)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МЕЖЛИЧНОСТНЫЕ компетенции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(интерперсональные)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индивидуальные способности (выражение чувств, отношение к критике и самокритике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социальные навыки  (межличностные отношения, работа в команде, приверженность общественным и этическим ценностям)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Формируемые компитенции  </a:t>
            </a:r>
            <a:br>
              <a:rPr sz="2400"/>
            </a:b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Социального взаимодействия 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280" y="251892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Письменная и устная коммуникация на родном языке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Умение слушать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Умение работать в команде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Способность учитывать точки зрения и интересы других.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2400" y="35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Формируемые компетенции</a:t>
            </a:r>
            <a:br>
              <a:rPr sz="2400"/>
            </a:b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Системно-деятельностные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761840"/>
            <a:ext cx="841824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Базовые знания в различных областях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Способность применять знания на практике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Исследовательские навыки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Способность порождать новые идеи (креативность; поддержка творчества)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Владение методами поиска нового (методическая компетнция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Способность порождать новые идеи (креативность; поддержка творчества)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Гибкость мышления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1680" y="973080"/>
            <a:ext cx="878832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6000" spc="-1" strike="noStrike">
                <a:solidFill>
                  <a:srgbClr val="99284c"/>
                </a:solidFill>
                <a:latin typeface="Arial"/>
              </a:rPr>
              <a:t>Благодарю </a:t>
            </a:r>
            <a:br>
              <a:rPr sz="6000"/>
            </a:br>
            <a:br>
              <a:rPr sz="6000"/>
            </a:br>
            <a:r>
              <a:rPr b="1" i="1" lang="de-DE" sz="6000" spc="-1" strike="noStrike">
                <a:solidFill>
                  <a:srgbClr val="99284c"/>
                </a:solidFill>
                <a:latin typeface="Arial"/>
              </a:rPr>
              <a:t>за</a:t>
            </a:r>
            <a:br>
              <a:rPr sz="6000"/>
            </a:br>
            <a:br>
              <a:rPr sz="6000"/>
            </a:br>
            <a:r>
              <a:rPr b="1" i="1" lang="de-DE" sz="6000" spc="-1" strike="noStrike">
                <a:solidFill>
                  <a:srgbClr val="99284c"/>
                </a:solidFill>
                <a:latin typeface="Arial"/>
              </a:rPr>
              <a:t> внимание!</a:t>
            </a:r>
            <a:endParaRPr b="1" i="1" lang="en-US" sz="6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Проблема Проекта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698120"/>
            <a:ext cx="841824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 fontScale="99000"/>
          </a:bodyPr>
          <a:p>
            <a:pPr marL="4982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333333"/>
                </a:solidFill>
                <a:latin typeface="Arial"/>
              </a:rPr>
              <a:t>Утеряно понятие истинного предназначения мужчины и женщины в семье,как следствие нет гармоничных отношений,отсутствует взаимо понимание между детьми и взрослыми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Миссия Проекта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99640" y="1800360"/>
            <a:ext cx="841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333333"/>
                </a:solidFill>
                <a:latin typeface="Arial"/>
              </a:rPr>
              <a:t>«Главный смысл и цель семейной жизни - воспитание детей. Главная школа воспитания детей - это взаимоотношения мужа и жены, отца и матери»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333333"/>
                </a:solidFill>
                <a:latin typeface="Arial"/>
              </a:rPr>
              <a:t>В. А. Сухомлинский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Цель  Проекта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698120"/>
            <a:ext cx="8418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 fontScale="98000"/>
          </a:bodyPr>
          <a:p>
            <a:pPr marL="4932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493200" indent="-4233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333333"/>
                </a:solidFill>
                <a:latin typeface="Arial"/>
              </a:rPr>
              <a:t>Изучение русских традиций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4932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4932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493200" indent="-4233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333333"/>
                </a:solidFill>
                <a:latin typeface="Arial"/>
              </a:rPr>
              <a:t>Возрождение русской культуры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4932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493200" indent="-4233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333333"/>
                </a:solidFill>
                <a:latin typeface="Arial"/>
              </a:rPr>
              <a:t>Формирование правильного мировоззрения у детей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Задачи Проекта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21880" y="2138400"/>
            <a:ext cx="841860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Изучение русских традиций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29040" indent="0">
              <a:lnSpc>
                <a:spcPct val="14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накомство с техникой изготовления русских кукол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29040" indent="0">
              <a:lnSpc>
                <a:spcPct val="14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Изготовление кукол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29040" indent="0">
              <a:lnSpc>
                <a:spcPct val="14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Организация выставки работ учащихся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Задачи Проекта</a:t>
            </a:r>
            <a:br>
              <a:rPr sz="2400"/>
            </a:br>
            <a:br>
              <a:rPr sz="2400"/>
            </a:b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Изучение русских традиций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0360" y="207612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Книги, видеоматериал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Посещение выставок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Беседы о русской культуре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400720" y="2160720"/>
            <a:ext cx="395928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2400" y="655200"/>
            <a:ext cx="860760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Задачи Проекта</a:t>
            </a:r>
            <a:br>
              <a:rPr sz="2400"/>
            </a:br>
            <a:br>
              <a:rPr sz="2400"/>
            </a:b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Знакомство с техникой</a:t>
            </a:r>
            <a:br>
              <a:rPr sz="2400"/>
            </a:b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изготовления кукол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Видеоматериалы, книги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Посещение музея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Изготовление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методических пособий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80000" y="2700360"/>
            <a:ext cx="4500360" cy="37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Задачи Проекта</a:t>
            </a:r>
            <a:br>
              <a:rPr sz="2400"/>
            </a:br>
            <a:br>
              <a:rPr sz="2400"/>
            </a:b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Изготовление кукол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2257200"/>
            <a:ext cx="8418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333333"/>
                </a:solidFill>
                <a:latin typeface="Arial"/>
              </a:rPr>
              <a:t>Мастер-классы по изготовлению кукол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333333"/>
                </a:solidFill>
                <a:latin typeface="Arial"/>
              </a:rPr>
              <a:t>Видеоролики по изготовлению кукол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333333"/>
                </a:solidFill>
                <a:latin typeface="Arial"/>
              </a:rPr>
              <a:t>Книжные пособия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Задачи Проекта</a:t>
            </a:r>
            <a:br>
              <a:rPr sz="2400"/>
            </a:b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Организация выставки работ учащихся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55800" y="213840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2Z</dcterms:created>
  <dc:creator/>
  <dc:description/>
  <dc:language>en-US</dc:language>
  <cp:lastModifiedBy/>
  <dcterms:modified xsi:type="dcterms:W3CDTF">2014-07-01T20:57:17Z</dcterms:modified>
  <cp:revision>7</cp:revision>
  <dc:subject/>
  <dc:title/>
</cp:coreProperties>
</file>