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B4B-FEEF-4E30-B1BD-8A883780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128-678E-4CF3-AEC6-5202E799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EE9-ACC9-4EE1-9319-263E65ED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981-B947-4917-AB39-DC9EA8CB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D450-5B4C-438B-B41A-87ACAF6B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8ABD-FC55-45D3-B782-C1944F51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5C3D-85B2-4E6F-ABC6-91B1DB2F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091F-9DFC-4644-9F8A-2E7744D1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409C-CD09-46C0-A266-02BB35B0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F0A8-C6FE-4D7E-AD71-72F8939D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077-EED0-4CFB-879D-F6914F3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FDC-CFA3-4F4C-90E5-4E120EB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4D8A-1FBB-41F9-927F-FBDFB3F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80CF-5B62-4C24-A3C7-3DF305E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1736-0B39-4859-AC83-F1F73058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6782-3977-457B-BF95-6D951E66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2B60-CD78-48A1-81A3-81154D8C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18B-AA44-45C2-BAA1-CD06680B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297-2E59-4C89-95EF-4AFAF216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6F2-51C0-45C2-AFBB-2BF17F1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008-98AB-4E0D-AE06-39389263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D55-38FF-428F-8863-7452ADF6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EB8-A80B-4B44-808A-C4BF313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360-1485-48FB-B1A0-9BA265C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D02C0-9B77-4CF4-A320-66E3190A8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CC882-09EF-4DF3-8718-BD73AE07D2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-19080"/>
            <a:ext cx="10080720" cy="74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Духовно-нравственное воспитание личности учащихся на занят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декоративно-прикладного творчества в рамках изучения т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«Русские народные кук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Автор  проекта: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ФИО Афанасьева  Елена  Викторовна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Должность: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МБОУ ДОД ДТДМ  г.о. Тольятти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Тольятти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Ожидаемый результат: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207612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Формирование позитивного отношения к окружающему миру и людям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своение ребенком добродетели,направленность и открытость добр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требность сопереживани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Воспитание патриотизм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Формирование истинных семейных ценностей(любовь,дом,честь,верность,Родина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Деятельное отношение к труд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Ответственность за дела и поступк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546120"/>
            <a:ext cx="860760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Этапы проекта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1этап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учение русских традиций</a:t>
            </a: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5720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зучение информационных источник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росмотр видеоматериал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Работа с иллюстрация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сещение выставок посвященных русской культур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Беседы о русской культур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603360"/>
            <a:ext cx="860760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Этапы проекта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2этап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учение истории возникновения кукол</a:t>
            </a:r>
            <a:br>
              <a:rPr sz="2400"/>
            </a:b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Работа с видеоматериала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Работа с книжными источника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сещение музе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Тематические беседы о кукла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32680" y="-249120"/>
            <a:ext cx="1143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Этапы проекта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3этап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учение технологии изготовления куко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Мастер-классы по изготовлению куко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росмотр видеоматериалов по изготовлению куко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Организация выставки кукол изготовленны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чащимис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етенции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Tuning Project (компетенции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ИСТЕМНЫЕ компетенции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видеть целостные системы (понимание частей и целого)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сследовательские умения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мения учиться, адаптироваться к новым ситуациям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руководство, лидерство и.т.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етенции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Самоорганизации и самоуправления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веренность в себ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к рефлекси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амостоятельная работа (самостоятельность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брать на себя ответственнос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целенаправленно организовать свою работу индивидуально или в команд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нициативность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Компетенции самоорганизации и самоуправлени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32040" y="717480"/>
            <a:ext cx="86072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итенции</a:t>
            </a: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Tuning Project (компетенции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МЕЖЛИЧНОСТНЫЕ компетенци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(интерперсональные)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ндивидуальные способности (выражение чувств, отношение к критике и самокритике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оциальные навыки  (межличностные отношения, работа в команде, приверженность общественным и этическим ценностям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итенции  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Социального взаимодействия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2518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исьменная и устная коммуникация на родном язык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мение слуша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Умение работать в команд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учитывать точки зрения и интересы других.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2400" y="35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Формируемые компетенции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Системно-деятельностные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761840"/>
            <a:ext cx="841824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Базовые знания в различных областя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применять знания на практик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сследовательские навык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порождать новые идеи (креативность; поддержка творчества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Владение методами поиска нового (методическая компетнция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Способность порождать новые идеи (креативность; поддержка творчества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Гибкость мышлени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973080"/>
            <a:ext cx="878832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6000" spc="-1" strike="noStrike">
                <a:solidFill>
                  <a:srgbClr val="99284c"/>
                </a:solidFill>
                <a:latin typeface="Arial"/>
              </a:rPr>
              <a:t>Благодарю </a:t>
            </a:r>
            <a:br>
              <a:rPr sz="6000"/>
            </a:br>
            <a:br>
              <a:rPr sz="6000"/>
            </a:br>
            <a:r>
              <a:rPr b="1" i="1" lang="de-DE" sz="6000" spc="-1" strike="noStrike">
                <a:solidFill>
                  <a:srgbClr val="99284c"/>
                </a:solidFill>
                <a:latin typeface="Arial"/>
              </a:rPr>
              <a:t>за</a:t>
            </a:r>
            <a:br>
              <a:rPr sz="6000"/>
            </a:br>
            <a:br>
              <a:rPr sz="6000"/>
            </a:br>
            <a:r>
              <a:rPr b="1" i="1" lang="de-DE" sz="6000" spc="-1" strike="noStrike">
                <a:solidFill>
                  <a:srgbClr val="99284c"/>
                </a:solidFill>
                <a:latin typeface="Arial"/>
              </a:rPr>
              <a:t> внимание!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Проблема Проект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98120"/>
            <a:ext cx="841824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9000"/>
          </a:bodyPr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Утеряно понятие истинного предназначения мужчины и женщины в семье,как следствие нет гармоничных отношений,отсутствует взаимо понимание между детьми и взрослыми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Миссия Проект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800360"/>
            <a:ext cx="841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Arial"/>
              </a:rPr>
              <a:t>«Главный смысл и цель семейной жизни - воспитание детей. Главная школа воспитания детей - это взаимоотношения мужа и жены, отца и матери»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333333"/>
                </a:solidFill>
                <a:latin typeface="Arial"/>
              </a:rPr>
              <a:t>В. А. Сухомлински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Цель  Проект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698120"/>
            <a:ext cx="8418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8000"/>
          </a:bodyPr>
          <a:p>
            <a:pPr marL="493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-4233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Изучение русских традиций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-4233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Возрождение русской культур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3200" indent="-4233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Формирование правильного мировоззрения у детей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ение русских традиций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комство с техникой изготовления русских кукол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готовление кукол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14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ганизация выставки работ учащихся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учение русских традиций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20761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Книги, видеоматериал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сещение выставо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Беседы о русской культур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00720" y="2160720"/>
            <a:ext cx="395928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2400" y="655200"/>
            <a:ext cx="8607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накомство с техникой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готовления куко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Видеоматериалы, книг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Посещение музе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Изготовление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методических пособи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0000" y="2700360"/>
            <a:ext cx="45003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br>
              <a:rPr sz="2400"/>
            </a:b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Изготовление куко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25720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Мастер-классы по изготовлению кукол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Видеоролики по изготовлению кукол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333333"/>
                </a:solidFill>
                <a:latin typeface="Arial"/>
              </a:rPr>
              <a:t>Книжные пособия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Задачи Проекта</a:t>
            </a:r>
            <a:br>
              <a:rPr sz="2400"/>
            </a:br>
            <a:r>
              <a:rPr b="1" i="1" lang="de-DE" sz="2400" spc="-1" strike="noStrike">
                <a:solidFill>
                  <a:srgbClr val="99284c"/>
                </a:solidFill>
                <a:latin typeface="Arial"/>
              </a:rPr>
              <a:t>Организация выставки работ учащихся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55800" y="21384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/>
  <dcterms:modified xsi:type="dcterms:W3CDTF">2014-07-01T20:57:17Z</dcterms:modified>
  <cp:revision>7</cp:revision>
  <dc:subject/>
  <dc:title/>
</cp:coreProperties>
</file>