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23D-BB84-4EFC-BDF1-776CCA04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EE5-574C-4E17-8823-5C2FA871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008-AB13-429D-8EB6-75145C21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BB5-766A-44DA-AFDD-C810F280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5B5F-EC3D-4846-ACAF-D0D0A092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3362-B8A7-4F8D-9456-EB52091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393-2528-4D89-B05B-6C166AF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D96-ABAB-4EC9-84AB-FC43B1FF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126E-4D2E-4045-BEE8-897127AD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D9B-EF8B-4B1C-BC51-C75B577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53B-1F1F-4547-9F50-187582C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2AB-B34D-497E-88C4-E60AF697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3E7D-D268-412A-842A-E2BEE32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9B4-BF4B-4453-B35A-6C32B51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A5E9-D127-40D9-B02A-284955C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4C28-297D-4F2A-B6FD-B9713FB7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05B-8472-4636-A6EA-05F57C0D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F61F-1714-4FA6-8946-B6164FDF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40DB-9BEC-4C51-82F1-2B4D5521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BDFF-4524-4539-BCDF-CD5859F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E2E1-489A-4163-98ED-1CED1216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01D6-F1C3-4EF7-89BB-63348E7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089-8867-4E60-8B06-8E62D5BB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09DF-6D93-4BF9-A430-1B749ED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90E5-B10C-40E0-8177-50AACEAA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8A73-2143-4EE6-9DF4-35A9F30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E5BA-F751-4DC4-9260-388B15B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D018-5395-4044-909E-0C527ACB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6E22-EB05-4A5B-BC60-BEBAD461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AE40-891E-48EF-A120-C305048A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EF87-7631-44A5-8B43-1A39694F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0A70-EB3F-4F63-A2C4-6BDB7D7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6243-0A11-40AE-AE65-2E99AFE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B71-C8D1-44B8-8635-29CE35D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ECEA-9795-4DB8-9EF4-1486B1C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ED84-D5C0-494F-8E0D-A09488E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9AAB-AC88-40EC-8FD7-7B363335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D7A5-9C93-4E12-9B3D-9124B88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8520-CFF2-4455-99F3-502F611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F790-ADAB-425A-9E71-ED49B38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6D8E-F834-4919-9FD9-81544B37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F52A-1F5A-40CB-9AF6-95E21648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9F3B-4D4F-4F12-A818-2E6C3E7F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6B4F-7D48-4450-AA95-B7E448BC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5DE-36AB-4C86-BBD1-1F77864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948B-A578-4092-BC67-BB37F3D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040E-9EBD-4054-9157-BED8130E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7AAC-3239-45A7-8C02-B5EE2CC3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89E0-42A2-4195-BF2C-659326C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D8AA-64CB-40A8-AB13-484F742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B495-7F7B-4FCA-94F3-DE574AB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40D0-F73E-45D9-97A4-EC2D355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A364-05B7-4A27-8B7E-77389D0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50FE-2E31-4842-AB9C-E07F59E7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1727-41FB-4F3E-B09C-55824E0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CE4-F574-4586-821C-D4010DB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2727-0149-43DC-A5AC-9DD133D0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B6ED3-47E2-495C-BAD3-C6F9535D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C6287-46DC-4AEF-9871-06758B9B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54D43-8C17-4B5E-AAFB-F1FFD94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47307-02C7-464F-BAC2-019E9EF7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27B5F-C6A0-4776-8A15-A64EB20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53D07-ED0A-4127-A8AF-C57A64B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F77D7-BA9C-4C06-8051-61D74C0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5220E-4CC6-48E0-8C70-B2B110A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70FC7-91AF-44E8-9ADF-991CB16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059-D1D7-4692-A04B-AB4F079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58194-7CEB-4E5A-9ACA-2E269EAD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26145-3778-40E4-BCB8-C2187117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89DA2-6214-4E40-A16C-1B404A40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543-DEB4-4F8F-BA1E-0B4C900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629-886A-4F4B-9C37-26A753D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55AC-90CB-48A1-9A57-7046B81B5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5D1-122D-4B03-BDEE-ED82AC3C68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869-E7BE-42AE-A92F-2CC2C1C8773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392-AD6D-45E5-BD45-78D69E642D3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225-45B7-4182-9CD5-7FBFBEBA00C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CFE1-8988-4D3E-8289-E85E5BA2F9C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C:\Users\user\Desktop\логотип победы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9802-01C3-42AD-9A2F-430E8168F4B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129528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1489f"/>
                </a:solidFill>
                <a:latin typeface="Monotype Corsiva"/>
              </a:rPr>
              <a:t>ПОСВЯЩАЕ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609480" y="2600640"/>
            <a:ext cx="777240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активную гражданскую позицию и патриотическую ответственность  за судьбу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патриотического воспитания, через использования новых форм, методов и интерактив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 Активизация исследовательской деятельности по изучению вклада своей семьи в поб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70 – летию Великой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активной гражданской позиции и патриотической ответственности за судьбу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2"/>
          <p:cNvSpPr/>
          <p:nvPr/>
        </p:nvSpPr>
        <p:spPr>
          <a:xfrm>
            <a:off x="0" y="23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но-массовые меро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0" y="990720"/>
            <a:ext cx="434340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410f"/>
                </a:solidFill>
                <a:latin typeface="Arial"/>
                <a:ea typeface="Arial"/>
              </a:rPr>
              <a:t>Митинг- концерт «Вспомним всех поименно…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572000" y="990720"/>
            <a:ext cx="112536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6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5867280" y="990720"/>
            <a:ext cx="121932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0" y="182880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ыставка с портретами родственников-фронтов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«Бессмертный пол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4495680" y="1828800"/>
            <a:ext cx="11257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5715000" y="1828800"/>
            <a:ext cx="3200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0" y="2895480"/>
            <a:ext cx="434340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Оформление  групп, прогулочных участков фотографиями фронтов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«Стена памяти», георгиевскими ленто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4495680" y="2895480"/>
            <a:ext cx="112572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1-5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5715000" y="2895480"/>
            <a:ext cx="320040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4495680" y="4495680"/>
            <a:ext cx="1125720" cy="47808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5867280" y="4495680"/>
            <a:ext cx="2895840" cy="4543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0" y="4495680"/>
            <a:ext cx="4343400" cy="507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Конкурс на лучший проект по патриотическому воспит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5"/>
          <p:cNvSpPr/>
          <p:nvPr/>
        </p:nvSpPr>
        <p:spPr>
          <a:xfrm>
            <a:off x="0" y="5257800"/>
            <a:ext cx="4343400" cy="9144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Конкурс семейно-литературных композиций «Загляните в семейный альб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6"/>
          <p:cNvSpPr/>
          <p:nvPr/>
        </p:nvSpPr>
        <p:spPr>
          <a:xfrm>
            <a:off x="4495680" y="5257800"/>
            <a:ext cx="1623960" cy="9144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Февраль-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7"/>
          <p:cNvSpPr/>
          <p:nvPr/>
        </p:nvSpPr>
        <p:spPr>
          <a:xfrm>
            <a:off x="7162920" y="990720"/>
            <a:ext cx="177624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Измайлова Л.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Мокродеева Е.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8"/>
          <p:cNvSpPr/>
          <p:nvPr/>
        </p:nvSpPr>
        <p:spPr>
          <a:xfrm>
            <a:off x="6248520" y="5486400"/>
            <a:ext cx="2666880" cy="453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0" y="23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но-массовые меро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0" y="990720"/>
            <a:ext cx="434340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410f"/>
                </a:solidFill>
                <a:latin typeface="Arial"/>
                <a:ea typeface="Arial"/>
              </a:rPr>
              <a:t>Конкурс сочинений «Моя семья в ВОВ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572000" y="990720"/>
            <a:ext cx="152388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0" y="182880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Интернет-конкурс «Победители в семейных фотоальбома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4495680" y="1828800"/>
            <a:ext cx="16765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Февраль - 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6400800" y="1828800"/>
            <a:ext cx="25146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0" y="289548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Оформление  минимуз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«Никто не забыт, ничто не забыт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4495680" y="2895480"/>
            <a:ext cx="11257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5715000" y="2895480"/>
            <a:ext cx="3200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4495680" y="4191120"/>
            <a:ext cx="1125720" cy="4777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5791320" y="4191120"/>
            <a:ext cx="2895480" cy="453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0" y="4114800"/>
            <a:ext cx="4343400" cy="507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Военно-патриотическая игра «Зар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324480" y="990720"/>
            <a:ext cx="261468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D1D-CC9D-4AB1-93E7-FDE8FE738842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формировать активную  гражданскую позицию и патриотическую ответственность за судьбу страны у свое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533520" y="2095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активной гражданской позиции и патриотической ответственности за судьбу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0T11:58:20Z</dcterms:modified>
  <cp:revision>9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