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A93-FD18-4A53-AE3D-26B203A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6D7-907D-4A30-B04A-DEF3738B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97D-7B03-44D3-980E-8F24DA4E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A56-2532-43C5-A587-DB11FA13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9A72-51B4-43BC-AB88-D71F6B5C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154-4FA6-4EC6-8E01-53B3D28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74C1-1EDC-4A79-8A77-D1044414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5F0B-AE19-45A5-BB21-4150517C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0C1-0967-4670-AFF9-9A2A003C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6B11-7DEC-4D9C-822F-87D57CFF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C8DF-9899-4A13-8557-88BC2F3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52A-8A9D-41D7-AB0E-2C709C20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B9DF-22E9-4C66-9098-F6A449C7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A282-8905-41FD-BC24-5547071D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12C4-76A7-40D4-A2A3-4C308145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1DBF-787A-49BE-90F0-27713776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8B8-B653-4010-981B-DD4E601E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B96D-FEC8-441D-884E-40F91782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A180-DA65-4AF1-B78C-3984FFF9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387F-2F80-4DF5-84F9-C37E25C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8BD6-7218-4C9B-9B8B-79BEC019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72F2-B78D-4643-A75E-D840AA5F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FF9-5049-4405-9961-CDFAE053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EF28-A100-4A5C-88FC-10B82E9B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B5E7-B538-4959-8118-8CFEB4B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3BCE-A231-4694-ABA5-2CC185D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1812-1C25-409E-9348-EAE07BF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6A08-DF6C-468E-B027-F7AA54E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D3D7-FAA0-4F89-BA89-23E60B9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DB1E-CAF8-4AAC-B436-47CF89BC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0A27-FF68-44C7-8E09-1B84D253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BF518-04A3-4518-A60A-C68594F1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AF39-A0A8-4754-ABC1-D0859EF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38C-634A-4544-9002-C279C7DA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67BE-FBDB-49E2-9B38-DEEA5D9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7FEC-CB46-4A8C-A135-17798576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6797-C23C-45CF-BE0F-D5195381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B33B-EBE4-4B8A-91EB-2871A65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38964-6700-4426-979B-45420FC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AEC1-2EA4-4088-8808-191963C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9E13-9C97-459E-B8B2-59278E6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69F5-C0EE-4D8F-BF10-ECC1F026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E97B-1CF3-4C6E-B575-99ECC761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F7CA-F15B-449B-9D1A-132E5486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593-FD5C-4A82-B432-FCB754B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22E15-4311-464D-9806-5D7A5AF1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65EC-2B6C-4336-B162-10FC753B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65EE-1CAE-422B-BCF3-D6CDB9D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DA6C-DD8F-431E-8C78-B21581F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F820E-1B31-40A8-AD84-5CC8F76F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5A63-8B1C-4F8C-B740-A5446E2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6634-2308-417E-8723-DDBAC55C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8A23-C613-4B15-B67D-E7E544D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BF6D-A2A3-47D5-A90A-199C4CA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DF58-FC44-4897-BB74-24D65589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7F6-4D1D-4FCE-8A45-FA762BEE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BD05-F1F5-407A-AEAC-DE410402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1F2E6-57F9-4674-BA6B-A69CAFF7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06D62-CDA5-4A2C-8BE8-1C2565C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BBE36-1816-4E26-B327-E74CA52F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B4319-50CE-4F10-A15A-A01CAD0D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5FCB2-645E-4B15-B3FC-A9EEC00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B1472-8C82-49FF-AF23-9ECE3B65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6F15F-13D9-408D-A214-26AF244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46957-29CB-4D38-85A7-7895267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B7DAD-720A-4448-BD25-C66DCDE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52D-C0DD-4AD6-BDED-51CC173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BF8DB-0A1B-4B8E-9C93-9F6C9208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9CCBA-C4F1-477B-97A5-4CFEEF99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2FA0A-6B39-4386-B6F7-73923CE6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02B-3860-4226-9258-ABEF9DB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D38-30E9-4951-A915-08ED082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3AEF-0FE9-4039-8269-A12988F534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B4F-6864-4C79-A3D6-BA9844572E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FE78-5C6B-4089-A1F9-14453E1334A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1324-4013-4595-8F9B-7A2F80AFF71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6609-8DBC-4BE3-AC67-2FE534200E2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6AB-46A0-4E27-993F-6E44AD4DA4F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C:\Users\user\Desktop\логотип победы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9145-A31C-41A5-9F41-ED21B6E32BD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447920" y="1619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ШКОЛЬНОЕ ОБРАЗОВАТЕЛЬНОЕ УЧРЕЖДЕНИЕ «ЦЕНТР РАЗВИТИЯ РЕБЁНКА ДЕТСКИЙ САД №19» города Иш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129528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1489f"/>
                </a:solidFill>
                <a:latin typeface="Monotype Corsiva"/>
              </a:rPr>
              <a:t>ПОСВЯЩАЕ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11480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ом директора МАДОУ ЦРР д/с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9» янва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6 о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609480" y="2600640"/>
            <a:ext cx="777240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Формировать активную гражданскую позицию и патриотическую ответственность  за судьбу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пагандировать широкие возможности организации патриотического воспитания, через использования новых форм, методов и интерактив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 Активизация исследовательской деятельности по изучению вклада своей семьи в поб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457200" y="30492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, посвященные 70 – летию Великой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формирование активной гражданской позиции и патриотической ответственности за судьбу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2"/>
          <p:cNvSpPr/>
          <p:nvPr/>
        </p:nvSpPr>
        <p:spPr>
          <a:xfrm>
            <a:off x="0" y="23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льтурно-массовые меро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0" y="990720"/>
            <a:ext cx="434340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6410f"/>
                </a:solidFill>
                <a:latin typeface="Arial"/>
                <a:ea typeface="Arial"/>
              </a:rPr>
              <a:t>Митинг- концерт «Вспомним всех поименно…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572000" y="990720"/>
            <a:ext cx="112536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6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5867280" y="990720"/>
            <a:ext cx="121932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0" y="1828800"/>
            <a:ext cx="4343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ыставка с портретами родственников-фронтов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«Бессмертный пол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4495680" y="1828800"/>
            <a:ext cx="112572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Апрель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5715000" y="1828800"/>
            <a:ext cx="3200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8"/>
          <p:cNvSpPr/>
          <p:nvPr/>
        </p:nvSpPr>
        <p:spPr>
          <a:xfrm>
            <a:off x="0" y="2895480"/>
            <a:ext cx="4343400" cy="129564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Оформление  групп, прогулочных участков фотографиями фронтов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«Стена памяти», георгиевскими ленто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9"/>
          <p:cNvSpPr/>
          <p:nvPr/>
        </p:nvSpPr>
        <p:spPr>
          <a:xfrm>
            <a:off x="4495680" y="2895480"/>
            <a:ext cx="1125720" cy="129564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1-5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5715000" y="2895480"/>
            <a:ext cx="3200400" cy="129564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4495680" y="4495680"/>
            <a:ext cx="1125720" cy="47808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5867280" y="4495680"/>
            <a:ext cx="2895840" cy="4543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0" y="4495680"/>
            <a:ext cx="4343400" cy="507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Конкурс на лучший проект по патриотическому воспит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5"/>
          <p:cNvSpPr/>
          <p:nvPr/>
        </p:nvSpPr>
        <p:spPr>
          <a:xfrm>
            <a:off x="0" y="5257800"/>
            <a:ext cx="4343400" cy="9144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Конкурс семейно-литературных композиций «Загляните в семейный альб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6"/>
          <p:cNvSpPr/>
          <p:nvPr/>
        </p:nvSpPr>
        <p:spPr>
          <a:xfrm>
            <a:off x="4495680" y="5257800"/>
            <a:ext cx="1623960" cy="9144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Февраль-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7"/>
          <p:cNvSpPr/>
          <p:nvPr/>
        </p:nvSpPr>
        <p:spPr>
          <a:xfrm>
            <a:off x="7162920" y="990720"/>
            <a:ext cx="177624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Измайлова Л.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Мокродеева Е.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8"/>
          <p:cNvSpPr/>
          <p:nvPr/>
        </p:nvSpPr>
        <p:spPr>
          <a:xfrm>
            <a:off x="6248520" y="5486400"/>
            <a:ext cx="2666880" cy="453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2"/>
          <p:cNvSpPr/>
          <p:nvPr/>
        </p:nvSpPr>
        <p:spPr>
          <a:xfrm>
            <a:off x="0" y="23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льтурно-массовые меро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0" y="990720"/>
            <a:ext cx="434340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6410f"/>
                </a:solidFill>
                <a:latin typeface="Arial"/>
                <a:ea typeface="Arial"/>
              </a:rPr>
              <a:t>Конкурс сочинений «Моя семья в ВОВ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572000" y="990720"/>
            <a:ext cx="152388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0" y="1828800"/>
            <a:ext cx="4343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Интернет-конкурс «Победители в семейных фотоальбома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4495680" y="1828800"/>
            <a:ext cx="167652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Февраль - 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6400800" y="1828800"/>
            <a:ext cx="25146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0" y="2895480"/>
            <a:ext cx="4343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Оформление  минимуз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«Никто не забыт, ничто не забыт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4495680" y="2895480"/>
            <a:ext cx="112572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5715000" y="2895480"/>
            <a:ext cx="3200400" cy="7621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4495680" y="4191120"/>
            <a:ext cx="1125720" cy="47772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5791320" y="4191120"/>
            <a:ext cx="2895480" cy="453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0" y="4114800"/>
            <a:ext cx="4343400" cy="50796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410f"/>
                </a:solidFill>
                <a:latin typeface="Arial"/>
                <a:ea typeface="Arial"/>
              </a:rPr>
              <a:t>Военно-патриотическая игра «Зар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6324480" y="990720"/>
            <a:ext cx="2614680" cy="576000"/>
          </a:xfrm>
          <a:prstGeom prst="rect">
            <a:avLst/>
          </a:prstGeom>
          <a:solidFill>
            <a:srgbClr val="dce1f4"/>
          </a:solidFill>
          <a:ln w="6480">
            <a:solidFill>
              <a:srgbClr val="21306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10f"/>
                </a:solidFill>
                <a:latin typeface="Arial"/>
                <a:ea typeface="Arial"/>
              </a:rPr>
              <a:t>Воспитатели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D17-75C0-44BB-9325-1C86963A8379}" type="slidenum">
              <a:rPr b="1" lang="ru-RU" sz="1200" spc="-1" strike="noStrike">
                <a:solidFill>
                  <a:srgbClr val="4a38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C:\Users\Пользователь\Documents\ГЭП семья\ГЭП новая\семья6.jpg"/>
          <p:cNvPicPr/>
          <p:nvPr/>
        </p:nvPicPr>
        <p:blipFill>
          <a:blip r:embed="rId1"/>
          <a:stretch/>
        </p:blipFill>
        <p:spPr>
          <a:xfrm>
            <a:off x="152280" y="2860560"/>
            <a:ext cx="2210040" cy="2476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"/>
          <p:cNvPicPr/>
          <p:nvPr/>
        </p:nvPicPr>
        <p:blipFill>
          <a:blip r:embed="rId2"/>
          <a:stretch/>
        </p:blipFill>
        <p:spPr>
          <a:xfrm>
            <a:off x="6780240" y="3159000"/>
            <a:ext cx="2363760" cy="1879560"/>
          </a:xfrm>
          <a:prstGeom prst="rect">
            <a:avLst/>
          </a:prstGeom>
          <a:ln w="0">
            <a:noFill/>
          </a:ln>
        </p:spPr>
      </p:pic>
      <p:sp>
        <p:nvSpPr>
          <p:cNvPr id="346" name="Выгнутая вверх стрелка 5"/>
          <p:cNvSpPr/>
          <p:nvPr/>
        </p:nvSpPr>
        <p:spPr>
          <a:xfrm>
            <a:off x="1636560" y="1143000"/>
            <a:ext cx="6324840" cy="1905120"/>
          </a:xfrm>
          <a:custGeom>
            <a:avLst/>
            <a:gdLst>
              <a:gd name="textAreaLeft" fmla="*/ 1402560 w 6324840"/>
              <a:gd name="textAreaRight" fmla="*/ 4684320 w 632484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0" hR="21600" stAng="10800000" swAng="5400000"/>
                <a:lnTo>
                  <a:pt x="11207" y="0"/>
                </a:lnTo>
                <a:arcTo wR="9580" hR="21600" stAng="-5400000" swAng="3587624"/>
                <a:lnTo>
                  <a:pt x="21296" y="16200"/>
                </a:lnTo>
                <a:lnTo>
                  <a:pt x="19974" y="21600"/>
                </a:lnTo>
                <a:lnTo>
                  <a:pt x="18043" y="16200"/>
                </a:lnTo>
                <a:lnTo>
                  <a:pt x="18856" y="16200"/>
                </a:lnTo>
                <a:arcTo wR="9580" hR="21600" stAng="-1812376" swAng="-3457744"/>
                <a:lnTo>
                  <a:pt x="10394" y="78"/>
                </a:lnTo>
                <a:arcTo wR="9580" hR="21600" stAng="-5529880" swAng="-5270120"/>
                <a:close/>
              </a:path>
              <a:path fill="darkenLess" w="21600" h="21600">
                <a:moveTo>
                  <a:pt x="0" y="21600"/>
                </a:moveTo>
                <a:arcTo wR="9580" hR="21600" stAng="10800000" swAng="5400000"/>
                <a:lnTo>
                  <a:pt x="9580" y="0"/>
                </a:lnTo>
                <a:arcTo wR="9580" hR="21600" stAng="-5400000" swAng="129880"/>
                <a:lnTo>
                  <a:pt x="10394" y="78"/>
                </a:lnTo>
                <a:arcTo wR="9580" hR="21600" stAng="-5529880" swAng="-5270120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Выгнутая вниз стрелка 6"/>
          <p:cNvSpPr/>
          <p:nvPr/>
        </p:nvSpPr>
        <p:spPr>
          <a:xfrm>
            <a:off x="1636560" y="4606920"/>
            <a:ext cx="6324840" cy="1793880"/>
          </a:xfrm>
          <a:custGeom>
            <a:avLst/>
            <a:gdLst>
              <a:gd name="textAreaLeft" fmla="*/ 1413000 w 6324840"/>
              <a:gd name="textAreaRight" fmla="*/ 4687560 w 6324840"/>
              <a:gd name="textAreaTop" fmla="*/ 240120 h 1793880"/>
              <a:gd name="textAreaBottom" fmla="*/ 155376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-3598718"/>
                <a:lnTo>
                  <a:pt x="21294" y="5400"/>
                </a:lnTo>
                <a:lnTo>
                  <a:pt x="20069" y="0"/>
                </a:lnTo>
                <a:lnTo>
                  <a:pt x="18231" y="5400"/>
                </a:lnTo>
                <a:lnTo>
                  <a:pt x="18997" y="5400"/>
                </a:lnTo>
                <a:arcTo wR="9652" hR="21600" stAng="1801282" swAng="3476551"/>
                <a:lnTo>
                  <a:pt x="10417" y="21532"/>
                </a:lnTo>
                <a:arcTo wR="9652" hR="21600" stAng="5522167" swAng="5277833"/>
                <a:close/>
              </a:path>
              <a:path fill="darkenLess"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122167"/>
                <a:lnTo>
                  <a:pt x="10417" y="21532"/>
                </a:lnTo>
                <a:arcTo wR="9652" hR="21600" stAng="5522167" swAng="5277833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7"/>
          <p:cNvSpPr/>
          <p:nvPr/>
        </p:nvSpPr>
        <p:spPr>
          <a:xfrm>
            <a:off x="2209680" y="1719360"/>
            <a:ext cx="4953240" cy="3962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жидаемые результаты: увеличение количества семей, объеденных общими интересами и стремлением формировать активную  гражданскую позицию и патриотическую ответственность за судьбу страны у свое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8"/>
          <p:cNvSpPr/>
          <p:nvPr/>
        </p:nvSpPr>
        <p:spPr>
          <a:xfrm>
            <a:off x="533520" y="2095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формирование активной гражданской позиции и патриотической ответственности за судьбу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343080" y="57070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данного проекта будет рассматриваться на заседаниях Управляющего Совета, Совета Педагогов, родительских собраниях. Итоги каждого этапа будут освещаться на сайте ДОУ . Работа активных, творческих педагогов  будет учитываться  при  распределении премиальных выпл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лков Михаил Александрович</dc:creator>
  <dc:description/>
  <dc:language>en-US</dc:language>
  <cp:lastModifiedBy>user</cp:lastModifiedBy>
  <cp:lastPrinted>2014-02-03T11:02:23Z</cp:lastPrinted>
  <dcterms:modified xsi:type="dcterms:W3CDTF">2015-01-20T11:58:20Z</dcterms:modified>
  <cp:revision>9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