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E1A0-2101-44C2-8ACE-DEF0A3A26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FCA8-D37C-4527-8761-D3A1D07B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DD41-9640-449A-AF59-D9556F512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7B67-77C1-40B9-89D6-F30F75302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B9F1-BCAC-43D1-B1BE-CBAA2FB15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539CA-D43A-45B2-A366-0D0FCA84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CB8D-15E0-4231-989F-B68222F1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7813-5785-4A11-BCF8-379BB646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8A822-6D4C-4905-B111-D8F6CF12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E019-6515-4194-AC13-D94E6C6E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2893-FF3E-4E2B-BAD7-AC86B0C4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32D4-8705-4868-82BE-C1B5F1106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061B-1ED2-40F6-916D-0C803DBE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C335-2474-4629-AD95-DB77A301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DA4E0-EBB0-4995-AE9F-67C7E896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C0D6-AB8D-47C6-A1D7-DB1ECEAE9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B573-9872-4429-B3B1-DE3B4F87F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9D71D-022A-4303-9282-2466FD41F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96947-FEC9-411A-B49E-89ABC430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74195-5126-4A52-9DDF-8C494C6B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3B24E-F303-4AF7-9843-43B475B3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8FAE8-C315-43DE-A32B-8F7FABB8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6C2A-612E-4EAC-8EE2-DE44B776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949F9-BECE-480A-8352-4AFD9010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EE23F-B05F-4C22-88D9-B7791C77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11898-B6B1-4392-B708-47167281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E0582-3A30-4DCF-AF37-22E77BF6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AAEA8-8BDC-4E49-A084-B8B9405F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ECEB8-8474-4ED2-BB99-BD9FEF148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BDC20-3C65-4B71-A1C2-00A61F01A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DCBF0-E3DC-4EB0-BE58-41CE05654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E99D0-352F-4184-952C-49CE68A3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4F457-D15C-4788-9814-F289A94C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3351-B40D-4956-A8E8-334BCC1D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9F470-9EC2-47B2-B25E-B592DE58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02A4D-4493-4C78-9168-A98A15DC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046A9-3376-4CC7-B1C6-55E29FA9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F11BA-3691-4C47-8377-4F8F880C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1A1E0-B70A-4E52-9E32-8D2FCA85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DD45A-0762-43C7-914C-C58BC2AF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50168-12FD-475E-ADEE-075D64AD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317EC-0439-4605-B978-31B7F2036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B43BF-1BC5-483A-9BC0-5457E1F7D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32792-B01F-42F9-B2A5-945096774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312C-94D1-4EE0-9751-C3E8EEF4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33CCE-9848-4F95-8E4A-5B019BA1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193C4-782D-4421-886C-C3B359EB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41B16-9717-4883-9160-78767D1B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49C8F-361B-4D60-B291-6915AF9F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29F35-C5B0-45C1-824E-096D62B9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36B24-7945-442B-B387-051A3235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3BAC9-D667-4E94-AA09-5AC0547A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AC723-128E-484C-9588-F52DD542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BF912-A580-40C8-8DF8-00C96300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78FEB-EB2F-4551-9C81-5A5EE537F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F1FC-142E-496D-BF7F-553A631E5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90195-CFDF-485A-9AC2-9A4A51AB9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F5B859-D8B1-4576-B4F8-74B7B7FE4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68C062-5F33-4E04-8E98-E839FCDF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704163-ACB0-4978-8011-EBBCD92E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3D2A76-EA1E-49DF-B4A2-9F74103C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96BC42-F745-4065-AEFB-EEF11F46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C4F316-6EB4-46A2-94D3-66EA7764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890DAE-E516-4E16-924B-19BB2FFD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73CFB5-62B8-4164-9BBD-A5003727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1955D3-05AC-462B-8C19-9A2B1798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970E-EEEC-42F9-8DED-780977FE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E4DD24-656A-4D38-B33B-D29E684C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88C5F8-AA3E-4FF2-AA36-3CD19520D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BCB0B4-7CAB-49B0-ACF3-556C12CB4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1109-5E8E-4F49-A6CF-C7635A67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777D-8E86-48BB-B610-47CF2F28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9d9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A11A-9E34-41F0-A73F-212681228F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4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4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022E-1596-4F06-8B0D-9E101218BA9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93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96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00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FD90-B66F-45CD-9B73-329D81A3046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4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4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5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54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57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61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EDAD-607E-4CDB-BEDF-CD0AC33891B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205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208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212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C1ED-64BE-416B-8CE1-CD72AC75724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256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259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263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6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17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8276-BC7E-4B43-96F2-721565FB2F7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18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7" descr="C:\Users\user\Desktop\741px-0_8d714_88e7d658_orig.png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307" name="Номер слайда 1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B7A4-843E-41E5-B07B-FF0A25B72EE2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4"/>
          <p:cNvSpPr/>
          <p:nvPr/>
        </p:nvSpPr>
        <p:spPr>
          <a:xfrm>
            <a:off x="1447920" y="1619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ОЕ АВТОНОМ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ШКОЛЬНОЕ ОБРАЗОВАТЕЛЬНОЕ УЧРЕЖДЕНИЕ «ЦЕНТР РАЗВИТИЯ РЕБЁНКА ДЕТСКИЙ САД №19» города Иш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5"/>
          <p:cNvSpPr/>
          <p:nvPr/>
        </p:nvSpPr>
        <p:spPr>
          <a:xfrm>
            <a:off x="990720" y="4495680"/>
            <a:ext cx="7391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1489f"/>
                </a:solidFill>
                <a:latin typeface="Monotype Corsiva"/>
              </a:rPr>
              <a:t>ГОДУ ЛИТЕРАТУРЫ В РОССИЙСКОЙ ФЕДЕРАЦИИ – ПОСВЯЩАЕ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2"/>
          <p:cNvSpPr/>
          <p:nvPr/>
        </p:nvSpPr>
        <p:spPr>
          <a:xfrm>
            <a:off x="4114800" y="3049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ТВЕРЖДЕ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казом директора МАДОУ ЦРР д/с №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19» января 201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6 о/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"/>
          <p:cNvSpPr/>
          <p:nvPr/>
        </p:nvSpPr>
        <p:spPr>
          <a:xfrm>
            <a:off x="533520" y="2106360"/>
            <a:ext cx="7772400" cy="4208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b4dcf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.Формировать круг семейного чтения для укрепления семейных  и семейно-родственных связей поко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. Пропагандировать широкие возможности организации семейного досуга  на основе детской литературы и привлекать родителей к их использов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. Помочь родителям осознать ценность детского чтения, как эффективного средства развития личности, обучения и воспитания, как залога жизненного успе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. Способствование всестороннему и гармоничному развитию всех членов семьи (дети, родители, бабушки, дедушки и др.члены семьи) путем знакомства с лучшими и новыми произведениями классической и современной литера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5. Выявить и обобщить опыт, традиции «Читающей семьи» и распространять его на территории г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2"/>
          <p:cNvSpPr/>
          <p:nvPr/>
        </p:nvSpPr>
        <p:spPr>
          <a:xfrm>
            <a:off x="457200" y="304920"/>
            <a:ext cx="8458200" cy="18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роприятия, посвященные Году литературы в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изация совместного про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нига – твой друг, с ней познай мир вокруг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ЛЬ: Достижение результатов нового  качества 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рез формирование  культуры семейного чтения, воспитания привязанности ребенка к семье, семейным чтен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"/>
          <p:cNvGraphicFramePr/>
          <p:nvPr/>
        </p:nvGraphicFramePr>
        <p:xfrm>
          <a:off x="228600" y="990720"/>
          <a:ext cx="8763120" cy="4754520"/>
        </p:xfrm>
        <a:graphic>
          <a:graphicData uri="http://schemas.openxmlformats.org/drawingml/2006/table">
            <a:tbl>
              <a:tblPr/>
              <a:tblGrid>
                <a:gridCol w="627120"/>
                <a:gridCol w="4859280"/>
                <a:gridCol w="1828800"/>
                <a:gridCol w="1447920"/>
              </a:tblGrid>
              <a:tr h="365400">
                <a:tc>
                  <a:txBody>
                    <a:bodyPr lIns="18720" rIns="18720" tIns="0" bIns="0" anchor="t">
                      <a:noAutofit/>
                    </a:bodyPr>
                    <a:p>
                      <a:pPr marL="44280" indent="44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marL="44280" indent="4492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звание меропри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marL="44280" indent="4492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marL="44280" indent="4492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ветственны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18720" rIns="18720" tIns="0" bIns="0" anchor="t">
                      <a:noAutofit/>
                    </a:bodyPr>
                    <a:p>
                      <a:pPr marL="44280" indent="44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marL="44280" indent="44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ведение в ДОУ мероприятий (познавательных и эвристических бесед, викторин, занимательных дел), посвящённых открытию Года литературы в Р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marL="44280" indent="44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нварь 20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marL="44280" indent="44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спитател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18720" rIns="18720" tIns="0" bIns="0" anchor="t">
                      <a:noAutofit/>
                    </a:bodyPr>
                    <a:p>
                      <a:pPr marL="44280" indent="44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marL="44280" indent="44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мещение  на сайте  ОО логотипа,  плана мероприятий посвящённого Году литерату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marL="44280" indent="44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 30 января 20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marL="44280" indent="44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меститель директ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360"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«</a:t>
                      </a:r>
                      <a:r>
                        <a:rPr b="1" i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Литературный  калейдоскоп. Путешествие по произведениям русских и зарубежных писателей»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220 лет со дня рождения  А.С. Грибоедова (1795-1829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 155 лет со дня рождения А.П. Чехова (1860-1904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105 лет со дня рождения Б.Л. Пастернака (1890-196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200 лет со дня рождения П.П. Ершова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210 лет со дня рождения Ханса Кристиана Андерсена (1805-1875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110 лет со дня рождения М.А. Шолохова (1905-1984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75 лет со дня рождения И. А. Бродского (1940-1996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105 лет со дня рождения А.Т. Твардовского (1910-1972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110 лет  со дня рождения Л.А. Кассиля (1905-197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120 лет  со дня  рождения М.М. Зощенко (1895-1958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145 лет со дня рождения А.И. Куприна (1870-1938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120 лет со дня рождения  С.А. Есенина (1895-1925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145 лет со дня рождения И.А. Бунина (1870-1953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135 лет со дня рождения А.А. Блока (1880-1928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180 лет со дня рождения Марка Твена (1835-191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195 лет  со дня  рождения А. Фета (1820-1892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ечение 2015 год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нварь 20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евраль 20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арт 20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прель 20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ай 20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юнь 20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юль 20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вгуст 20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ентябрь 20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ктябрь 20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ябрь 20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кабрь 20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спитател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"/>
          <p:cNvGraphicFramePr/>
          <p:nvPr/>
        </p:nvGraphicFramePr>
        <p:xfrm>
          <a:off x="228600" y="457200"/>
          <a:ext cx="8686800" cy="5699160"/>
        </p:xfrm>
        <a:graphic>
          <a:graphicData uri="http://schemas.openxmlformats.org/drawingml/2006/table">
            <a:tbl>
              <a:tblPr/>
              <a:tblGrid>
                <a:gridCol w="622440"/>
                <a:gridCol w="5106960"/>
                <a:gridCol w="1244520"/>
                <a:gridCol w="1712880"/>
              </a:tblGrid>
              <a:tr h="335160"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сультация для родите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В семье рождается читатель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прель 2015 год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узнецова Т.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 тематических книжных выстав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ечение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гнатенко М.А., воспитат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ворческие встречи с Ишимскими поэт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ечение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гнатенко М.А., совместно с детской библиотеко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емирный день писател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 марта 2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спитат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ероссийский урок, посвящённый Году литератур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отдельному план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спитат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емирный день книг и авторского пра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 апреля 2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спитат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курсы детского рисунка, посвящённого литературным  произведения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ечение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спитат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рамках празднования Года литературы и 70-летия Победы ВОВ  встречи с  ветеранами ВОВ, известными людьми «Любимая книга о войне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ай 2015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спитат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ушкинский день России  (День русского языка) «Ай, да Пушкин!» - конкурс чтец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 июня 201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спитат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триотическая информ-акция «Поэзия 41-года», посвящённая Дню скорби и памя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 июня 2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спитат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ект «Лето с книгой» (в рамках ЛОК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юнь-август 2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спитат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курс «Самая читающая группа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ентябрь 201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спитат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родской проект «Книга – в больницу» (в рамках акций «Весенняя неделя добра», «Осенняя неделя добра»)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прель, Октябрь 2015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спитатели, родители, воспитанни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ворческий проект «Изготовление  информационных закладок с рекомендательным списком  художественной литературы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ябрь 2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гнатенко М.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готовление стенда «Юбилеи детских поэтов и писателей в 2015 году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нварь 2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гнатенко М.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Номер слайда 1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C6B5-F24B-442F-AA37-AA4381BDDC76}" type="slidenum">
              <a:rPr b="1" lang="ru-RU" sz="1200" spc="-1" strike="noStrike">
                <a:solidFill>
                  <a:srgbClr val="4a382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3" descr="C:\Users\Пользователь\Documents\ГЭП семья\ГЭП новая\семья6.jpg"/>
          <p:cNvPicPr/>
          <p:nvPr/>
        </p:nvPicPr>
        <p:blipFill>
          <a:blip r:embed="rId1"/>
          <a:stretch/>
        </p:blipFill>
        <p:spPr>
          <a:xfrm>
            <a:off x="152280" y="2860560"/>
            <a:ext cx="2210040" cy="2476440"/>
          </a:xfrm>
          <a:prstGeom prst="rect">
            <a:avLst/>
          </a:prstGeom>
          <a:ln w="0">
            <a:noFill/>
          </a:ln>
        </p:spPr>
      </p:pic>
      <p:pic>
        <p:nvPicPr>
          <p:cNvPr id="317" name="Рисунок 4" descr=""/>
          <p:cNvPicPr/>
          <p:nvPr/>
        </p:nvPicPr>
        <p:blipFill>
          <a:blip r:embed="rId2"/>
          <a:stretch/>
        </p:blipFill>
        <p:spPr>
          <a:xfrm>
            <a:off x="6780240" y="3159000"/>
            <a:ext cx="2363760" cy="1879560"/>
          </a:xfrm>
          <a:prstGeom prst="rect">
            <a:avLst/>
          </a:prstGeom>
          <a:ln w="0">
            <a:noFill/>
          </a:ln>
        </p:spPr>
      </p:pic>
      <p:sp>
        <p:nvSpPr>
          <p:cNvPr id="318" name="Выгнутая вверх стрелка 5"/>
          <p:cNvSpPr/>
          <p:nvPr/>
        </p:nvSpPr>
        <p:spPr>
          <a:xfrm>
            <a:off x="1636560" y="1143000"/>
            <a:ext cx="6324840" cy="1905120"/>
          </a:xfrm>
          <a:custGeom>
            <a:avLst/>
            <a:gdLst>
              <a:gd name="textAreaLeft" fmla="*/ 1402560 w 6324840"/>
              <a:gd name="textAreaRight" fmla="*/ 4684320 w 6324840"/>
              <a:gd name="textAreaTop" fmla="*/ 255240 h 1905120"/>
              <a:gd name="textAreaBottom" fmla="*/ 164988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80" hR="21600" stAng="10800000" swAng="5400000"/>
                <a:lnTo>
                  <a:pt x="11207" y="0"/>
                </a:lnTo>
                <a:arcTo wR="9580" hR="21600" stAng="-5400000" swAng="3587624"/>
                <a:lnTo>
                  <a:pt x="21296" y="16200"/>
                </a:lnTo>
                <a:lnTo>
                  <a:pt x="19974" y="21600"/>
                </a:lnTo>
                <a:lnTo>
                  <a:pt x="18043" y="16200"/>
                </a:lnTo>
                <a:lnTo>
                  <a:pt x="18856" y="16200"/>
                </a:lnTo>
                <a:arcTo wR="9580" hR="21600" stAng="-1812376" swAng="-3457744"/>
                <a:lnTo>
                  <a:pt x="10394" y="78"/>
                </a:lnTo>
                <a:arcTo wR="9580" hR="21600" stAng="-5529880" swAng="-5270120"/>
                <a:close/>
              </a:path>
              <a:path fill="darkenLess" w="21600" h="21600">
                <a:moveTo>
                  <a:pt x="0" y="21600"/>
                </a:moveTo>
                <a:arcTo wR="9580" hR="21600" stAng="10800000" swAng="5400000"/>
                <a:lnTo>
                  <a:pt x="9580" y="0"/>
                </a:lnTo>
                <a:arcTo wR="9580" hR="21600" stAng="-5400000" swAng="129880"/>
                <a:lnTo>
                  <a:pt x="10394" y="78"/>
                </a:lnTo>
                <a:arcTo wR="9580" hR="21600" stAng="-5529880" swAng="-5270120"/>
                <a:close/>
              </a:path>
            </a:pathLst>
          </a:cu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Выгнутая вниз стрелка 6"/>
          <p:cNvSpPr/>
          <p:nvPr/>
        </p:nvSpPr>
        <p:spPr>
          <a:xfrm>
            <a:off x="1636560" y="4606920"/>
            <a:ext cx="6324840" cy="1793880"/>
          </a:xfrm>
          <a:custGeom>
            <a:avLst/>
            <a:gdLst>
              <a:gd name="textAreaLeft" fmla="*/ 1413000 w 6324840"/>
              <a:gd name="textAreaRight" fmla="*/ 4687560 w 6324840"/>
              <a:gd name="textAreaTop" fmla="*/ 240120 h 1793880"/>
              <a:gd name="textAreaBottom" fmla="*/ 1553760 h 179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52" hR="21600" stAng="10800000" swAng="-5400000"/>
                <a:lnTo>
                  <a:pt x="11183" y="21600"/>
                </a:lnTo>
                <a:arcTo wR="9652" hR="21600" stAng="5400000" swAng="-3598718"/>
                <a:lnTo>
                  <a:pt x="21294" y="5400"/>
                </a:lnTo>
                <a:lnTo>
                  <a:pt x="20069" y="0"/>
                </a:lnTo>
                <a:lnTo>
                  <a:pt x="18231" y="5400"/>
                </a:lnTo>
                <a:lnTo>
                  <a:pt x="18997" y="5400"/>
                </a:lnTo>
                <a:arcTo wR="9652" hR="21600" stAng="1801282" swAng="3476551"/>
                <a:lnTo>
                  <a:pt x="10417" y="21532"/>
                </a:lnTo>
                <a:arcTo wR="9652" hR="21600" stAng="5522167" swAng="5277833"/>
                <a:close/>
              </a:path>
              <a:path fill="darkenLess" w="21600" h="21600">
                <a:moveTo>
                  <a:pt x="0" y="0"/>
                </a:moveTo>
                <a:arcTo wR="9652" hR="21600" stAng="10800000" swAng="-5400000"/>
                <a:lnTo>
                  <a:pt x="11183" y="21600"/>
                </a:lnTo>
                <a:arcTo wR="9652" hR="21600" stAng="5400000" swAng="122167"/>
                <a:lnTo>
                  <a:pt x="10417" y="21532"/>
                </a:lnTo>
                <a:arcTo wR="9652" hR="21600" stAng="5522167" swAng="5277833"/>
                <a:close/>
              </a:path>
            </a:pathLst>
          </a:cu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Овал 7"/>
          <p:cNvSpPr/>
          <p:nvPr/>
        </p:nvSpPr>
        <p:spPr>
          <a:xfrm>
            <a:off x="2209680" y="1719360"/>
            <a:ext cx="4953240" cy="396216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Ожидаемые результаты: увеличение количества семей, объеденных общими интересами и стремлением воспитывать умных, любящих книги и чтение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8"/>
          <p:cNvSpPr/>
          <p:nvPr/>
        </p:nvSpPr>
        <p:spPr>
          <a:xfrm>
            <a:off x="533520" y="209520"/>
            <a:ext cx="815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ализация совместного про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нига – твой друг, с ней познай мир вокруг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ь:  Достижение результатов нового  качества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ез формирование  культуры семейного чтения, воспитания привязанности ребенка к семье, семейным чтен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9"/>
          <p:cNvSpPr/>
          <p:nvPr/>
        </p:nvSpPr>
        <p:spPr>
          <a:xfrm>
            <a:off x="343080" y="57070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ализация данного проекта будет рассматриваться на заседаниях Управляющего Совета, Совета Педагогов, родительских собраниях. Итоги каждого этапа будут освещаться на сайте ДОУ . Работа активных, творческих педагогов  будет учитываться  при  распределении премиальных выпла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Шилков Михаил Александрович</dc:creator>
  <dc:description/>
  <dc:language>en-US</dc:language>
  <cp:lastModifiedBy>user</cp:lastModifiedBy>
  <cp:lastPrinted>2014-02-03T11:02:23Z</cp:lastPrinted>
  <dcterms:modified xsi:type="dcterms:W3CDTF">2015-01-26T11:14:21Z</dcterms:modified>
  <cp:revision>90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