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257D-FB14-4757-B74C-01EA7003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9224-4B16-42C0-8F92-0156E83F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6AB-8585-4D0D-A531-C4AFD2C4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EE0-D580-4895-A8FC-21B9CC2F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97CE-7175-4BDD-A6FC-9129913D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D3FF-6E46-423C-9967-75E03ECB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CAEA-DFA9-46DB-9CAC-2A2783D4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BB9C-5B02-4DF1-8A1E-851BD09E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9606-CB63-40FD-9B3F-CD659424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86D2-F227-4D7B-8ABD-FD390DB9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2A9C-E262-4C7A-9701-6C4E2D3C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2E97-C8A5-4134-ADC8-B4C38A31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AFA4-0A52-4D04-9F0B-E0F35359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9429-3E33-445F-9666-A062490E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B5C9-2171-455A-8762-93CBF83A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DB16-5E34-44DA-89A2-56B246BD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D1AC-9E8C-4E19-B6ED-E60DBB71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9A34B-CC2F-4694-B07C-8B33EB78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3A6D2-7B98-4664-B4C6-1F90BB6D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1647A-8D0B-4EC7-883D-39D759F3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418AC-6D77-45FE-B158-00F67196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A8B8C-A345-4CE2-9E80-C4AEEEE1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865-7395-4579-B2BE-BDD562A4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38543-9CEB-4044-88BE-C7D7A63F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7E6EF-7E16-4446-ACE0-36486348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29EAC-6CDD-4142-AB41-71B08B51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558B8-2EB5-4BE2-91DD-0E87080D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A2661-E08E-403C-B450-31C31B7A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2D8AA-2800-4CED-BF27-7BE82366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B8023-BA23-4239-9DB9-275D8DA6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F6EDA-AD21-43FC-8125-D950C7B7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B1FA0-EE91-482E-BD48-EC198FE8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A9447-13FC-4B10-BFB3-9F49D24C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FA54-4F14-4337-928D-FECB63DB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C944E-7C6C-43B8-86D8-B367D684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240CE-88CE-4DBD-ACB4-792D6DFB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F9E45-6A3C-4E69-B588-048EBE1A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D1EC3-26BF-415A-96AA-32D1F6C2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8ECE5-5B77-4DB9-9CF0-0DA57038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49861-A9C9-452B-B626-B3B17B57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C8057-4F56-4146-9850-04AFF124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88D59-C911-40D5-8F14-B389ED00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C6AD2-3449-44A6-B28E-454476A2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18C57-5CA4-4EA5-BFCA-7259752D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C13-6826-4A15-ADD3-F84CD9C9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63A54-4321-4E00-B052-EA482B77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EE292-414F-4F53-B8D4-3266C907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F5D44-4D6F-4A6A-B49F-AC6158AD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E38FE-0322-4023-8252-5499618D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15403-B4D1-4B37-BE90-415095F0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C7717-EFFA-44E3-87A2-B817DF36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814ED-E10B-430A-B13E-A78D2B42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521DB-17AB-4529-8CB9-0C7DA2D4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55598-8DDC-4F55-9A3D-949769AC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21318-9369-4A7F-9F6C-C885023F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963-31F3-4A11-8888-F49F1112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C1135-E4F4-4C6A-A837-628B9677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AEF008-D9E5-4C02-9883-D931AF43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83B6D5-41EE-4BCE-A357-DE3483C2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97F5BB-4831-49C3-A0CB-F510FFA5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A31E66-011E-4E2A-B687-F432878F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E33EDB-A589-48F0-8607-178AED46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37D71D-27E0-4F30-8CAE-D6EE90FA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951FB1-B978-4AD3-BA44-5A8631A1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036B20-2C36-4535-B2D8-1500C3DC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91C416-0ABA-4B2B-85E1-CED6586E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369-6AA8-4B4E-A37C-F74165F1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7F6B50-39B7-457A-9CD1-957F5FBA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7E0AB1-8909-4386-8ED9-5E1B394A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840097-EE70-4DB5-AA5B-2F7EE5A7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9372-CE58-467A-A7FE-FD3BA491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976-E159-4DB2-AE8B-D5B43B64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155F-C1D8-4122-B2B6-89AE1B08BE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FC92-946B-453B-8B29-C7A09163356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93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96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0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1B28-E33A-4E9B-8250-F61CC607C4B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4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4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54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57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61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68B2-1EB2-4B9D-B001-237ACC3097C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20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208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12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C668-6504-4FD4-A267-9D443CE0D32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25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59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63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DDE0-58DA-41F2-AC75-ADC3A131B8C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7" descr="C:\Users\user\Desktop\741px-0_8d714_88e7d658_orig.pn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307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6568-7D3F-4107-99C6-BB7360E9E610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1447920" y="1619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АВТОНОМ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ШКОЛЬНОЕ ОБРАЗОВАТЕЛЬНОЕ УЧРЕЖДЕНИЕ «ЦЕНТР РАЗВИТИЯ РЕБЁНКА ДЕТСКИЙ САД №19» города Иш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990720" y="4495680"/>
            <a:ext cx="739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1489f"/>
                </a:solidFill>
                <a:latin typeface="Monotype Corsiva"/>
              </a:rPr>
              <a:t>ГОДУ ЛИТЕРАТУРЫ В РОССИЙСКОЙ ФЕДЕРАЦИИ – ПОСВЯЩАЕ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"/>
          <p:cNvSpPr/>
          <p:nvPr/>
        </p:nvSpPr>
        <p:spPr>
          <a:xfrm>
            <a:off x="4114800" y="3049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ЕРЖДЕ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ом директора МАДОУ ЦРР д/с №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19» января 20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6 о/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33520" y="2106360"/>
            <a:ext cx="7772400" cy="4208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Формировать круг семейного чтения для укрепления семейных  и семейно-родственных связей поко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Пропагандировать широкие возможности организации семейного досуга  на основе детской литературы и привлекать родителей к их использ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 Помочь родителям осознать ценность детского чтения, как эффективного средства развития личности, обучения и воспитания, как залога жизненного усп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 Способствование всестороннему и гармоничному развитию всех членов семьи (дети, родители, бабушки, дедушки и др.члены семьи) путем знакомства с лучшими и новыми произведениями классической и современн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. Выявить и обобщить опыт, традиции «Читающей семьи» и распространять его на территории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2"/>
          <p:cNvSpPr/>
          <p:nvPr/>
        </p:nvSpPr>
        <p:spPr>
          <a:xfrm>
            <a:off x="457200" y="304920"/>
            <a:ext cx="845820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оприятия, посвященные Году литературы 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совместного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а – твой друг, с ней познай мир вокру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: Достижение результатов нового  качества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ез формирование  культуры семейного чтения, воспитания привязанности ребенка к семье, семейным чтен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228600" y="990720"/>
          <a:ext cx="8763120" cy="4754520"/>
        </p:xfrm>
        <a:graphic>
          <a:graphicData uri="http://schemas.openxmlformats.org/drawingml/2006/table">
            <a:tbl>
              <a:tblPr/>
              <a:tblGrid>
                <a:gridCol w="627120"/>
                <a:gridCol w="4859280"/>
                <a:gridCol w="1828800"/>
                <a:gridCol w="1447920"/>
              </a:tblGrid>
              <a:tr h="365400"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вание меро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ветстве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ведение в ДОУ мероприятий (познавательных и эвристических бесед, викторин, занимательных дел), посвящённых открытию Года литературы в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нварь 2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щение  на сайте  ОО логотипа,  плана мероприятий посвящённого Году литера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30 января 2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marL="44280" indent="44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меститель дирек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36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i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Литературный  калейдоскоп. Путешествие по произведениям русских и зарубежных писателей»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220 лет со дня рождения  А.С. Грибоедова (1795-1829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155 лет со дня рождения А.П. Чехова (1860-1904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05 лет со дня рождения Б.Л. Пастернака (1890-196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200 лет со дня рождения П.П. Ершов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210 лет со дня рождения Ханса Кристиана Андерсена (1805-1875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10 лет со дня рождения М.А. Шолохова (1905-1984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75 лет со дня рождения И. А. Бродского (1940-1996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05 лет со дня рождения А.Т. Твардовского (1910-197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10 лет  со дня рождения Л.А. Кассиля (1905-197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20 лет  со дня  рождения М.М. Зощенко (1895-1958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45 лет со дня рождения А.И. Куприна (1870-1938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20 лет со дня рождения  С.А. Есенина (1895-1925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45 лет со дня рождения И.А. Бунина (1870-1953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35 лет со дня рождения А.А. Блока (1880-1928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80 лет со дня рождения Марка Твена (1835-19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95 лет  со дня  рождения А. Фета (1820-1892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ечение 2015 го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нварь 2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евраль 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рт 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прель 2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й 2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юнь 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юль 2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густ 2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нтябрь 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тябрь 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ябрь 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кабрь 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228600" y="457200"/>
          <a:ext cx="8686800" cy="5699160"/>
        </p:xfrm>
        <a:graphic>
          <a:graphicData uri="http://schemas.openxmlformats.org/drawingml/2006/table">
            <a:tbl>
              <a:tblPr/>
              <a:tblGrid>
                <a:gridCol w="622440"/>
                <a:gridCol w="5106960"/>
                <a:gridCol w="1244520"/>
                <a:gridCol w="1712880"/>
              </a:tblGrid>
              <a:tr h="33516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сультация для роди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В семье рождается читатель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прель 2015 год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узнецова Т.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тематических книжных выстав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ечение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гнатенко М.А., 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орческие встречи с Ишимскими поэт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ечение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гнатенко М.А., совместно с детской библиотек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мирный день писател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 марта 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российский урок, посвящённый Году литерату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отдельному пла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мирный день книг и авторского пра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 апреля 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сы детского рисунка, посвящённого литературным  произведения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ечение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рамках празднования Года литературы и 70-летия Победы ВОВ  встречи с  ветеранами ВОВ, известными людьми «Любимая книга о войне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й 2015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шкинский день России  (День русского языка) «Ай, да Пушкин!» - конкурс чтец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 июня 20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триотическая информ-акция «Поэзия 41-года», посвящённая Дню скорби и памя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 июня 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 «Лето с книгой» (в рамках ЛОК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юнь-август 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курс «Самая читающая групп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нтябрь 20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одской проект «Книга – в больницу» (в рамках акций «Весенняя неделя добра», «Осенняя неделя добра»)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прель, Октябрь 2015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и, родители, воспитанн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орческий проект «Изготовление  информационных закладок с рекомендательным списком  художественной литературы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ябрь 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гнатенко М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готовление стенда «Юбилеи детских поэтов и писателей в 2015 году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нварь 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гнатенко М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A11E-FA06-4861-AC7E-E3AA0792EB2B}" type="slidenum">
              <a:rPr b="1" lang="ru-RU" sz="1200" spc="-1" strike="noStrike">
                <a:solidFill>
                  <a:srgbClr val="4a382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C:\Users\Пользователь\Documents\ГЭП семья\ГЭП новая\семья6.jpg"/>
          <p:cNvPicPr/>
          <p:nvPr/>
        </p:nvPicPr>
        <p:blipFill>
          <a:blip r:embed="rId1"/>
          <a:stretch/>
        </p:blipFill>
        <p:spPr>
          <a:xfrm>
            <a:off x="152280" y="2860560"/>
            <a:ext cx="2210040" cy="247644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4" descr=""/>
          <p:cNvPicPr/>
          <p:nvPr/>
        </p:nvPicPr>
        <p:blipFill>
          <a:blip r:embed="rId2"/>
          <a:stretch/>
        </p:blipFill>
        <p:spPr>
          <a:xfrm>
            <a:off x="6780240" y="3159000"/>
            <a:ext cx="2363760" cy="1879560"/>
          </a:xfrm>
          <a:prstGeom prst="rect">
            <a:avLst/>
          </a:prstGeom>
          <a:ln w="0">
            <a:noFill/>
          </a:ln>
        </p:spPr>
      </p:pic>
      <p:sp>
        <p:nvSpPr>
          <p:cNvPr id="318" name="Выгнутая вверх стрелка 5"/>
          <p:cNvSpPr/>
          <p:nvPr/>
        </p:nvSpPr>
        <p:spPr>
          <a:xfrm>
            <a:off x="1636560" y="1143000"/>
            <a:ext cx="6324840" cy="1905120"/>
          </a:xfrm>
          <a:custGeom>
            <a:avLst/>
            <a:gdLst>
              <a:gd name="textAreaLeft" fmla="*/ 1402560 w 6324840"/>
              <a:gd name="textAreaRight" fmla="*/ 4684320 w 6324840"/>
              <a:gd name="textAreaTop" fmla="*/ 255240 h 1905120"/>
              <a:gd name="textAreaBottom" fmla="*/ 1649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0" hR="21600" stAng="10800000" swAng="5400000"/>
                <a:lnTo>
                  <a:pt x="11207" y="0"/>
                </a:lnTo>
                <a:arcTo wR="9580" hR="21600" stAng="-5400000" swAng="3587624"/>
                <a:lnTo>
                  <a:pt x="21296" y="16200"/>
                </a:lnTo>
                <a:lnTo>
                  <a:pt x="19974" y="21600"/>
                </a:lnTo>
                <a:lnTo>
                  <a:pt x="18043" y="16200"/>
                </a:lnTo>
                <a:lnTo>
                  <a:pt x="18856" y="16200"/>
                </a:lnTo>
                <a:arcTo wR="9580" hR="21600" stAng="-1812376" swAng="-3457744"/>
                <a:lnTo>
                  <a:pt x="10394" y="78"/>
                </a:lnTo>
                <a:arcTo wR="9580" hR="21600" stAng="-5529880" swAng="-5270120"/>
                <a:close/>
              </a:path>
              <a:path fill="darkenLess" w="21600" h="21600">
                <a:moveTo>
                  <a:pt x="0" y="21600"/>
                </a:moveTo>
                <a:arcTo wR="9580" hR="21600" stAng="10800000" swAng="5400000"/>
                <a:lnTo>
                  <a:pt x="9580" y="0"/>
                </a:lnTo>
                <a:arcTo wR="9580" hR="21600" stAng="-5400000" swAng="129880"/>
                <a:lnTo>
                  <a:pt x="10394" y="78"/>
                </a:lnTo>
                <a:arcTo wR="9580" hR="21600" stAng="-5529880" swAng="-5270120"/>
                <a:close/>
              </a:path>
            </a:pathLst>
          </a:cu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Выгнутая вниз стрелка 6"/>
          <p:cNvSpPr/>
          <p:nvPr/>
        </p:nvSpPr>
        <p:spPr>
          <a:xfrm>
            <a:off x="1636560" y="4606920"/>
            <a:ext cx="6324840" cy="1793880"/>
          </a:xfrm>
          <a:custGeom>
            <a:avLst/>
            <a:gdLst>
              <a:gd name="textAreaLeft" fmla="*/ 1413000 w 6324840"/>
              <a:gd name="textAreaRight" fmla="*/ 4687560 w 6324840"/>
              <a:gd name="textAreaTop" fmla="*/ 240120 h 1793880"/>
              <a:gd name="textAreaBottom" fmla="*/ 1553760 h 179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2" hR="21600" stAng="10800000" swAng="-5400000"/>
                <a:lnTo>
                  <a:pt x="11183" y="21600"/>
                </a:lnTo>
                <a:arcTo wR="9652" hR="21600" stAng="5400000" swAng="-3598718"/>
                <a:lnTo>
                  <a:pt x="21294" y="5400"/>
                </a:lnTo>
                <a:lnTo>
                  <a:pt x="20069" y="0"/>
                </a:lnTo>
                <a:lnTo>
                  <a:pt x="18231" y="5400"/>
                </a:lnTo>
                <a:lnTo>
                  <a:pt x="18997" y="5400"/>
                </a:lnTo>
                <a:arcTo wR="9652" hR="21600" stAng="1801282" swAng="3476551"/>
                <a:lnTo>
                  <a:pt x="10417" y="21532"/>
                </a:lnTo>
                <a:arcTo wR="9652" hR="21600" stAng="5522167" swAng="5277833"/>
                <a:close/>
              </a:path>
              <a:path fill="darkenLess" w="21600" h="21600">
                <a:moveTo>
                  <a:pt x="0" y="0"/>
                </a:moveTo>
                <a:arcTo wR="9652" hR="21600" stAng="10800000" swAng="-5400000"/>
                <a:lnTo>
                  <a:pt x="11183" y="21600"/>
                </a:lnTo>
                <a:arcTo wR="9652" hR="21600" stAng="5400000" swAng="122167"/>
                <a:lnTo>
                  <a:pt x="10417" y="21532"/>
                </a:lnTo>
                <a:arcTo wR="9652" hR="21600" stAng="5522167" swAng="5277833"/>
                <a:close/>
              </a:path>
            </a:pathLst>
          </a:cu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Овал 7"/>
          <p:cNvSpPr/>
          <p:nvPr/>
        </p:nvSpPr>
        <p:spPr>
          <a:xfrm>
            <a:off x="2209680" y="1719360"/>
            <a:ext cx="4953240" cy="396216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жидаемые результаты: увеличение количества семей, объеденных общими интересами и стремлением воспитывать умных, любящих книги и чтение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8"/>
          <p:cNvSpPr/>
          <p:nvPr/>
        </p:nvSpPr>
        <p:spPr>
          <a:xfrm>
            <a:off x="533520" y="20952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изация совместного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а – твой друг, с ней познай мир вокруг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 Достижение результатов нового  качества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формирование  культуры семейного чтения, воспитания привязанности ребенка к семье, семейным чт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9"/>
          <p:cNvSpPr/>
          <p:nvPr/>
        </p:nvSpPr>
        <p:spPr>
          <a:xfrm>
            <a:off x="343080" y="57070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изация данного проекта будет рассматриваться на заседаниях Управляющего Совета, Совета Педагогов, родительских собраниях. Итоги каждого этапа будут освещаться на сайте ДОУ . Работа активных, творческих педагогов  будет учитываться  при  распределении премиальных выпла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илков Михаил Александрович</dc:creator>
  <dc:description/>
  <dc:language>en-US</dc:language>
  <cp:lastModifiedBy>user</cp:lastModifiedBy>
  <cp:lastPrinted>2014-02-03T11:02:23Z</cp:lastPrinted>
  <dcterms:modified xsi:type="dcterms:W3CDTF">2015-01-26T11:14:21Z</dcterms:modified>
  <cp:revision>9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