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F02-3D7F-4E5A-B57E-4BB3EDA3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37C-C5ED-482B-A261-C3F8713F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D05-9FB8-42F0-9B2C-E80953E5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FB2-B213-4FA9-B819-2CA84490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28C1-D62B-4124-BAE6-C8955BE9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868C-688A-4106-8696-10014CC3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5D77-1469-4CB7-9001-5B855E6F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83B-B92C-4677-A23C-72881C27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BEF4-6DC3-4E91-B3D5-2DBF86F0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12E1-A51C-4F70-9C3A-FAC04BE7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D14E-13ED-4A40-957C-2261448D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57B-3F09-44FA-8719-FF110EFC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6654-0422-4B4A-842A-847E285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B42E-AF33-4D71-A4AA-062CBC8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A3B8-2728-4BBC-A7F5-84AAAEF8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EC7-7328-4280-8852-6C5335B6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BA54-D9A1-4F7C-B32E-759B23F4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31B4-4A34-4390-9F96-F9A7ED2E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54AE-F222-465E-952B-F161BD37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9DA3-D683-480F-A57F-3DBA0769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7086-71B8-46FB-AF6F-23A91C05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C8B77-90B5-478C-8BFB-C5234F4A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721-82CA-4F87-AF70-0BD05D2D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D7A3-04E2-47A4-8E08-DF406B62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C90C-9DBB-418C-BE7B-9ECFB90F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8DF00-4B8E-42AF-BE22-1D8FD77F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910E-1D0F-4A3F-9ED4-21834F8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9F34-E41F-4B42-B1DB-EEDDF4CA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8128-D8CF-4B01-9039-C91374FF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FECD-9482-452A-90F5-C4313B96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4839-E166-4A4F-B8F6-8AF57C28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1F15-43B6-490A-A7B4-5A83FE02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E689-D903-4652-A078-53ED7FC3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EFC-0020-40DC-8F58-9FDB3E68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ECD83-72DF-4F90-B18B-657F86D8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266A-D4EB-44E2-9752-C4C0CCD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45B4-B605-44A8-99ED-19256E1A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D9A3-090B-4B0C-ADB9-7BBAE8C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9E24-8E40-472C-AF4E-1FFE9A9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1AC09-C071-4315-984D-ACA7FAA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92EA-FF68-44A9-ABEE-9A33CD9C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0C5A3-0057-46FF-8AA8-8884EC47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4E11-F109-4E3E-9995-9C6CE9E2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071BE-FB28-40F5-B017-B1E90590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193-7406-421A-9C08-D2312374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26093-70D8-484B-A249-D33D9795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42B0A-E6EE-490D-A8E8-98D5B397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01F0-24B7-43A5-ABA1-00BFF872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ABE8-D933-41EF-845F-76752AD8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7EBF9-B3F2-4537-A225-FB17EF4E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3B05-A782-4E7A-91CA-4C7454FB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5C868-78F3-4F1B-A741-EAC5583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7AED1-422C-44A4-804A-6C61A47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9F1C4-6A0B-4AE1-B507-F229A9D1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85E7D-3B3C-41BB-82B9-80310DCF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499-9958-4AEA-99CF-292734A4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AC326-520E-4D55-AE1E-CEB7138D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C5C34-5C9A-4068-801B-48CC1F6A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F9D4A-26EA-49E1-826B-4BC498ED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11A7C-EB49-41EE-B6B4-328DFEAD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759DB-B24A-4C6C-8AB4-5279B286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87E98-2EC0-4A01-9647-2F752686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25C60-903F-47E6-8714-7B638F6A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27202-0954-4D4B-9870-2F86783D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22618-030B-4694-A62E-BC61965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63230-EBFE-4BD4-B4BC-7376555E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CB6-FCC6-46AD-8DBD-7489DEB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6BEF1-3A0D-4812-BC53-FDCCA432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8EEB4-7689-481A-A531-8D4BAAAB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06556-2C74-450A-BC6F-DB155CC5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63D-B9E2-45AB-9E05-3617EDE0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8EE-9C4D-466C-9C86-BF7BE4A5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1187-1570-4F7C-9ACB-B8F345B7FF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0D5C-8357-4C26-9817-AC28BAC164B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61DA-8335-4924-B5B1-43FB6586B2B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A4D2-1D5D-4F13-B064-D600E73E8A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82EC-E140-40DD-9CC2-E361376DDF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6F89-93BB-47F7-AD9D-ABDA274A449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Users\user\Desktop\1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56DC-0C23-4A43-B7F5-091BBACFA81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447920" y="1619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ШКОЛЬНОЕ ОБРАЗОВАТЕЛЬНОЕ УЧРЕЖДЕНИЕ «ЦЕНТР РАЗВИТИЯ РЕБЁНКА ДЕТСКИЙ САД №19» города Иш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990720" y="3733920"/>
            <a:ext cx="739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200 -летию со дня рождения П.П.Ершова – ПОСВЯЩ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411480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ом директора МАДОУ ЦРР д/с 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19» января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6 о/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33520" y="2106360"/>
            <a:ext cx="777240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Формировать круг семейного чтения для укрепления семейных  и семейно-родственных связей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опагандировать широкие возможности организации семейного досуга  на основе детской литературы и привлекать родителей к их использ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омочь родителям осознать ценность детского чтения, как эффективного средства развития личности, обучения и воспитания, как залога жизненного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пособствование всестороннему и гармоничному развитию всех членов семьи (дети, родители, бабушки, дедушки и др.члены семьи) путем знакомства с лучшими и новыми произведениями классической и современн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 Выявить и обобщить опыт, традиции «Читающей семьи» и распространять его на территори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457200" y="304920"/>
            <a:ext cx="84582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, посвященные Году литературы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ка вокруг н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Достижение результатов нового 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формирование  культуры семейного чтения, воспитания привязанности ребенка к семье, семейным чте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80880" y="1584360"/>
          <a:ext cx="8458200" cy="4935600"/>
        </p:xfrm>
        <a:graphic>
          <a:graphicData uri="http://schemas.openxmlformats.org/drawingml/2006/table">
            <a:tbl>
              <a:tblPr/>
              <a:tblGrid>
                <a:gridCol w="631800"/>
                <a:gridCol w="3537000"/>
                <a:gridCol w="1640160"/>
                <a:gridCol w="2649240"/>
              </a:tblGrid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 меропри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формление стенда «Неизвестный П.П.Ершов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02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губова С.В.,  Третьякова О.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формление в библиотеке детского сада выставки книг П.П.Ершо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.03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гнева Т.А., Бырдина О.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формление выставок в мини музе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01.03.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гнева Т.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тавка детских работ «По мотивам сказки «Конек – горбуно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.03.-13.03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закова О.П., Ревягина О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ие в городских мероприятиях, посвященных 200-летию П.П.Ершова, в том числе в городском конкурсе «Сказка на ладошке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, 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уктивная деятельность детей «Рыба – ки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02.- 27.02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 старших возрастных гру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атрализованная постановка сказки «Конек – горбуно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.03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кродеева Е.Я., Гультяева Р.Ф., Измайлова Л.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скурсии в КЦ имени П.П.Ершо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согласовани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врилова В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хова О.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1"/>
          <p:cNvSpPr/>
          <p:nvPr/>
        </p:nvSpPr>
        <p:spPr>
          <a:xfrm>
            <a:off x="2743560" y="685080"/>
            <a:ext cx="3656880" cy="459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мероприятий, посвященных праздн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0-летия со дня рождения П.П. Ерш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3" descr="Ершов П. П."/>
          <p:cNvPicPr/>
          <p:nvPr/>
        </p:nvPicPr>
        <p:blipFill>
          <a:blip r:embed="rId1"/>
          <a:stretch/>
        </p:blipFill>
        <p:spPr>
          <a:xfrm>
            <a:off x="380880" y="152280"/>
            <a:ext cx="1568520" cy="174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EA6-4FA1-4D87-8881-5C9D71034F98}" type="slidenum">
              <a:rPr b="1" lang="ru-RU" sz="1200" spc="-1" strike="noStrike">
                <a:solidFill>
                  <a:srgbClr val="4a38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:\Users\Пользователь\Documents\ГЭП семья\ГЭП новая\семья6.jpg"/>
          <p:cNvPicPr/>
          <p:nvPr/>
        </p:nvPicPr>
        <p:blipFill>
          <a:blip r:embed="rId1"/>
          <a:stretch/>
        </p:blipFill>
        <p:spPr>
          <a:xfrm>
            <a:off x="152280" y="2860560"/>
            <a:ext cx="2210040" cy="24764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"/>
          <p:cNvPicPr/>
          <p:nvPr/>
        </p:nvPicPr>
        <p:blipFill>
          <a:blip r:embed="rId2"/>
          <a:stretch/>
        </p:blipFill>
        <p:spPr>
          <a:xfrm>
            <a:off x="6780240" y="3159000"/>
            <a:ext cx="2363760" cy="1879560"/>
          </a:xfrm>
          <a:prstGeom prst="rect">
            <a:avLst/>
          </a:prstGeom>
          <a:ln w="0">
            <a:noFill/>
          </a:ln>
        </p:spPr>
      </p:pic>
      <p:sp>
        <p:nvSpPr>
          <p:cNvPr id="319" name="Выгнутая вверх стрелка 5"/>
          <p:cNvSpPr/>
          <p:nvPr/>
        </p:nvSpPr>
        <p:spPr>
          <a:xfrm>
            <a:off x="1636560" y="1143000"/>
            <a:ext cx="6324840" cy="1905120"/>
          </a:xfrm>
          <a:custGeom>
            <a:avLst/>
            <a:gdLst>
              <a:gd name="textAreaLeft" fmla="*/ 1402560 w 6324840"/>
              <a:gd name="textAreaRight" fmla="*/ 4684320 w 6324840"/>
              <a:gd name="textAreaTop" fmla="*/ 255240 h 1905120"/>
              <a:gd name="textAreaBottom" fmla="*/ 1649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0" hR="21600" stAng="10800000" swAng="5400000"/>
                <a:lnTo>
                  <a:pt x="11207" y="0"/>
                </a:lnTo>
                <a:arcTo wR="9580" hR="21600" stAng="-5400000" swAng="3587624"/>
                <a:lnTo>
                  <a:pt x="21296" y="16200"/>
                </a:lnTo>
                <a:lnTo>
                  <a:pt x="19974" y="21600"/>
                </a:lnTo>
                <a:lnTo>
                  <a:pt x="18043" y="16200"/>
                </a:lnTo>
                <a:lnTo>
                  <a:pt x="18856" y="16200"/>
                </a:lnTo>
                <a:arcTo wR="9580" hR="21600" stAng="-1812376" swAng="-3457744"/>
                <a:lnTo>
                  <a:pt x="10394" y="78"/>
                </a:lnTo>
                <a:arcTo wR="9580" hR="21600" stAng="-5529880" swAng="-5270120"/>
                <a:close/>
              </a:path>
              <a:path fill="darkenLess" w="21600" h="21600">
                <a:moveTo>
                  <a:pt x="0" y="21600"/>
                </a:moveTo>
                <a:arcTo wR="9580" hR="21600" stAng="10800000" swAng="5400000"/>
                <a:lnTo>
                  <a:pt x="9580" y="0"/>
                </a:lnTo>
                <a:arcTo wR="9580" hR="21600" stAng="-5400000" swAng="129880"/>
                <a:lnTo>
                  <a:pt x="10394" y="78"/>
                </a:lnTo>
                <a:arcTo wR="9580" hR="21600" stAng="-5529880" swAng="-5270120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Выгнутая вниз стрелка 6"/>
          <p:cNvSpPr/>
          <p:nvPr/>
        </p:nvSpPr>
        <p:spPr>
          <a:xfrm>
            <a:off x="1636560" y="4606920"/>
            <a:ext cx="6324840" cy="1793880"/>
          </a:xfrm>
          <a:custGeom>
            <a:avLst/>
            <a:gdLst>
              <a:gd name="textAreaLeft" fmla="*/ 1413000 w 6324840"/>
              <a:gd name="textAreaRight" fmla="*/ 4687560 w 6324840"/>
              <a:gd name="textAreaTop" fmla="*/ 240120 h 1793880"/>
              <a:gd name="textAreaBottom" fmla="*/ 1553760 h 17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-3598718"/>
                <a:lnTo>
                  <a:pt x="21294" y="5400"/>
                </a:lnTo>
                <a:lnTo>
                  <a:pt x="20069" y="0"/>
                </a:lnTo>
                <a:lnTo>
                  <a:pt x="18231" y="5400"/>
                </a:lnTo>
                <a:lnTo>
                  <a:pt x="18997" y="5400"/>
                </a:lnTo>
                <a:arcTo wR="9652" hR="21600" stAng="1801282" swAng="3476551"/>
                <a:lnTo>
                  <a:pt x="10417" y="21532"/>
                </a:lnTo>
                <a:arcTo wR="9652" hR="21600" stAng="5522167" swAng="5277833"/>
                <a:close/>
              </a:path>
              <a:path fill="darkenLess"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122167"/>
                <a:lnTo>
                  <a:pt x="10417" y="21532"/>
                </a:lnTo>
                <a:arcTo wR="9652" hR="21600" stAng="5522167" swAng="5277833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7"/>
          <p:cNvSpPr/>
          <p:nvPr/>
        </p:nvSpPr>
        <p:spPr>
          <a:xfrm>
            <a:off x="2209680" y="1719360"/>
            <a:ext cx="4953240" cy="3962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жидаемые результаты: увеличение количества семей, объеденных общими интересами и стремлением воспитывать умных, любящих книги и чтение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8"/>
          <p:cNvSpPr/>
          <p:nvPr/>
        </p:nvSpPr>
        <p:spPr>
          <a:xfrm>
            <a:off x="533520" y="20952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ка вокруг нас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 Достижение результатов нового  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формирование  культуры семейного чтения, воспитания привязанности ребенка к семье, семейным чт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343080" y="57070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я данного проекта будет рассматриваться на заседаниях Управляющего Совета, Совета Педагогов, родительских собраниях. Итоги каждого этапа будут освещаться на сайте ДОУ . Работа активных, творческих педагогов  будет учитываться  при  распределении премиальных выпл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лков Михаил Александрович</dc:creator>
  <dc:description/>
  <dc:language>en-US</dc:language>
  <cp:lastModifiedBy>user</cp:lastModifiedBy>
  <cp:lastPrinted>2014-02-03T11:02:23Z</cp:lastPrinted>
  <dcterms:modified xsi:type="dcterms:W3CDTF">2015-01-26T11:18:55Z</dcterms:modified>
  <cp:revision>9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