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473-1AAB-4290-A429-86D2A8B5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069-5004-4421-BB63-4C563F91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322-E9E4-4173-91E6-7A699FE4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D6E-F058-490A-AAB5-F5AD9746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3CA2-E5FB-40BB-9526-DBE9301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30A-E62F-4AAC-BF45-527344A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B883-C889-4983-A1E4-068EE31C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14F-7B6C-4C8D-B6B7-60D193E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761F-9956-4BD4-8EAC-2BC7012C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7FB-99BD-4399-825D-0C355B0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45E7-55E4-4356-9059-4179841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DD3-4FE5-41A4-8570-FDB8DA5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E6F9-A708-490A-BA8E-F183220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10AC-1E18-4F2D-894C-F6A4A7F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45A9-166E-41DE-9900-551951E7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269-6B0D-4BEA-BCA7-AA5B00BE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570-95D7-4071-9624-FDA5FBAD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A90B-2DD2-42D4-A8A0-01B8E35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48F0-1419-418C-A6EC-A5E61F2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B481-187C-4DEA-8573-34EC967B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E307-7BA2-49AC-BC1B-E013EF1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ABC9-FEA8-474D-93E0-CA6FEA7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954-C43C-45D5-A22D-75393A47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E754-EC3E-4581-A53D-9DF233B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FFE6-4264-44D7-B2BE-D49B06BD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BDB3-60A1-477A-AC90-2A1DFC3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771C-14E0-4F07-A3CA-B956028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71C7-7382-46FF-A502-2802B9FC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FF52-A3CB-45BA-835A-7056B38E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089A-0071-48BE-A708-617950FB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C2E8-E8FB-4C56-A0E0-4A994C18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8B71-4C94-4B22-87B9-AAB98FD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1F43-6AA8-4898-ABB3-C3C3DFB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53D-7335-4E64-95F1-E9E9F434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8198-661E-4B34-9FFD-2FCBCEC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B8B3-ECE2-44C2-B038-96B38551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E201-C033-45B3-889D-CDEAC2EE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BF91-999A-410D-B99B-01C3EEF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F3B2F-DDC5-418C-92C4-DE75570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39CA-D165-41BA-9C75-1072527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5A6F-C816-4B35-9609-0522FED9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7967-B64D-43CC-8E57-6AD409A2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8DC7C-3B83-448B-BFF7-ED18B9B7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CB5AE-4DFE-4141-95A6-BB2FE4E1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CF1-193F-4E85-B099-201040C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F2F0-1F9A-4FDA-B9AE-FE2BA509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CB32-A772-4F0D-A7A7-4BD6BC3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AF54-C508-47F1-922B-C800035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38E0-5DE9-4FDF-8E49-691DE56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112A3-51FF-4ADE-B8EB-E1C89E58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B412-045D-4EA3-AC0D-CB15401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C4AE-4D6E-4869-9864-A45B756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20E6-7A5F-4E64-9076-5BBF23F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212B-71D0-41C5-B9E7-78BBE2B2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D7D0-D7C6-48A5-9539-F564179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168-1203-43FF-9BF6-D68C2FB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BBD4-9030-4557-9F14-52A4B29E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AF88F-94D2-44E3-A108-B04EA74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9849C-CC61-4271-AF45-0CAABD21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3B8CB-FF61-4FAF-88A6-D79CFB5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76F66-8784-4B66-96B6-9DC3FE9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40133-6276-46AE-8D0F-4C07FED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2A30C-D13D-4021-BBE9-F7E473EC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0595C-1029-4422-B567-399AC0E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6E453-5835-4C9A-97E6-5EF7E1D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33031-E653-4ABE-B7F7-74946EF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4C4-31BE-4515-A2EA-EEE469FE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2DD36-3C32-45A5-A4F9-584DFB95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10843-DA3F-4AB3-9EC7-11B6560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4AB9A-AE32-4546-82F2-1E31D322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40A-0DFC-4422-813F-A39FB5C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35A-3FD5-4D89-864C-20C367C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695D-F1EE-4E5F-BF04-6C815866A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830-3B0F-4C86-830D-28ED2B26D0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0DA4-0FDC-43D5-99A6-FBD7E43F53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54B-FEF0-4D8F-8578-9090FBCBAA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EF9-8DEB-4318-B6D1-3F4848B117D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960-52E7-428C-B6EF-7B9C0683154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user\Desktop\1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292-617D-4D23-9877-B07139DC8B3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990720" y="373392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200 -летию со дня рождения П.П.Ершова – ПОСВЯЩ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33520" y="2106360"/>
            <a:ext cx="77724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круг семейного чтения для укрепления семейных  и семейно-родстве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семейного досуга  на основе детской литературы и привлекать родителей к их исполь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мочь родителям осознать ценность детского чтения, как эффективного средства развития личности, обучения и воспитания, как залога жизнен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пособствование всестороннему и гармоничному развитию всех членов семьи (дети, родители, бабушки, дедушки и др.члены семьи) путем знакомства с лучшими и новыми произведениями классической и соврем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Выявить и обобщить опыт, традиции «Читающей семьи» и распространять его на терри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Году литературы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а вокруг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80880" y="1584360"/>
          <a:ext cx="8458200" cy="4935600"/>
        </p:xfrm>
        <a:graphic>
          <a:graphicData uri="http://schemas.openxmlformats.org/drawingml/2006/table">
            <a:tbl>
              <a:tblPr/>
              <a:tblGrid>
                <a:gridCol w="631800"/>
                <a:gridCol w="3537000"/>
                <a:gridCol w="1640160"/>
                <a:gridCol w="264924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меропри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стенда «Неизвестный П.П.Ерш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02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губова С.В.,  Третьякова О.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в библиотеке детского сада выставки книг П.П.Ерш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нева Т.А., Бырдина О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выставок в мини музе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01.03.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нева Т.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тавка детских работ «По мотивам сказки «Конек – горбуно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.03.-13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закова О.П., Ревягина О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городских мероприятиях, посвященных 200-летию П.П.Ершова, в том числе в городском конкурсе «Сказка на ладошк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ивная деятельность детей «Рыба – ки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02.- 27.02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старших возрастных гру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атрализованная постановка сказки «Конек – горбуно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кродеева Е.Я., Гультяева Р.Ф., Измайлова Л.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курсии в КЦ имени П.П.Ерш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согласо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врилова В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хова О.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"/>
          <p:cNvSpPr/>
          <p:nvPr/>
        </p:nvSpPr>
        <p:spPr>
          <a:xfrm>
            <a:off x="2743560" y="685080"/>
            <a:ext cx="3656880" cy="45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мероприятий, посвященных праздн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-летия со дня рождения П.П. Ерш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3" descr="Ершов П. П."/>
          <p:cNvPicPr/>
          <p:nvPr/>
        </p:nvPicPr>
        <p:blipFill>
          <a:blip r:embed="rId1"/>
          <a:stretch/>
        </p:blipFill>
        <p:spPr>
          <a:xfrm>
            <a:off x="380880" y="152280"/>
            <a:ext cx="1568520" cy="17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B20-4BB6-4F02-BD1A-EC1A8D05F873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19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воспитывать умных, любящих книги и чтение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533520" y="20952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а вокруг на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6T11:18:55Z</dcterms:modified>
  <cp:revision>9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