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188D-AF8F-4CFA-9625-7160C84C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DCFE-C19D-4B7B-9384-44AF0B67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9961-C3C8-4FFA-B14C-5DFFCA35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5AA0-DFE8-4E7C-99DA-1277D1E0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AA23-918A-450C-9231-1B41968F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8792-9AEF-4723-84CB-6F8BAD2A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2D63-6F73-4569-9EFD-567F6BCF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B557-7592-4269-B588-2F18F857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9668-9D79-48D6-B053-D1D02B06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A54C-D29B-47CF-BC4E-BB75337C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29FB-A1A6-4863-A41C-342F46E5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9A32-4293-4FFD-8312-341997C8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90E4-5E1A-446E-8911-5C34FE81AC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Чистый родник </a:t>
            </a:r>
            <a:br>
              <a:rPr sz="4000"/>
            </a:b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выполнили ученики 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МОУ «ООШ №39</a:t>
            </a: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» г Саратова</a:t>
            </a:r>
            <a:br>
              <a:rPr sz="4000"/>
            </a:b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Кирюшкина Наталья </a:t>
            </a:r>
            <a:br>
              <a:rPr sz="4000"/>
            </a:b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Поливанов Никол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одник расположен недалеко от выезда из города  Саратова по направлению к детскому оздоровительному лагерю «Ударни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657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Местная администрация  облагородила родник в 2012 году. Была выложена каменная стена, поставлена беседка, посажены ели. Но в 2013 году эта же местная администрация продала землю вблизи родника под строительство частного дома. В результате прямо у родника вырублена немалая часть зеленой зоны. Высаженные ели погиб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I:\Фотографии\Nikon\001\DSCN0782.JPG"/>
          <p:cNvPicPr/>
          <p:nvPr/>
        </p:nvPicPr>
        <p:blipFill>
          <a:blip r:embed="rId1"/>
          <a:stretch/>
        </p:blipFill>
        <p:spPr>
          <a:xfrm>
            <a:off x="3962520" y="1981080"/>
            <a:ext cx="4647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I:\Фотографии\Nikon\001\DSCN0778.JPG"/>
          <p:cNvPicPr/>
          <p:nvPr/>
        </p:nvPicPr>
        <p:blipFill>
          <a:blip r:embed="rId1"/>
          <a:stretch/>
        </p:blipFill>
        <p:spPr>
          <a:xfrm>
            <a:off x="0" y="228600"/>
            <a:ext cx="5105520" cy="3828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I:\Фотографии\Nikon\103NIKON\DSCN2070.JPG"/>
          <p:cNvPicPr/>
          <p:nvPr/>
        </p:nvPicPr>
        <p:blipFill>
          <a:blip r:embed="rId2"/>
          <a:stretch/>
        </p:blipFill>
        <p:spPr>
          <a:xfrm>
            <a:off x="3962520" y="297180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6172200" y="304812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Arial"/>
              </a:rPr>
              <a:t>Посл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228600" y="5335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Arial"/>
              </a:rPr>
              <a:t>Д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Родник на горе Алтынная от улицы Лесна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Жители близлежащих домов часто ходят в родник за водой или на пикники вблизи родника. К сожалению не все относятся бережно к природе и  оставляют много мусора. Ребята нашей школы каждый год устраивают мероприятия по очистке родника от мус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1"/>
          <p:cNvPicPr/>
          <p:nvPr/>
        </p:nvPicPr>
        <p:blipFill>
          <a:blip r:embed="rId1"/>
          <a:stretch/>
        </p:blipFill>
        <p:spPr>
          <a:xfrm>
            <a:off x="0" y="2819520"/>
            <a:ext cx="482292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h-7663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3" descr=""/>
          <p:cNvPicPr/>
          <p:nvPr/>
        </p:nvPicPr>
        <p:blipFill>
          <a:blip r:embed="rId2"/>
          <a:stretch/>
        </p:blipFill>
        <p:spPr>
          <a:xfrm>
            <a:off x="237960" y="2743200"/>
            <a:ext cx="86742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h-7663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56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1370586213_273549569"/>
          <p:cNvPicPr/>
          <p:nvPr/>
        </p:nvPicPr>
        <p:blipFill>
          <a:blip r:embed="rId2"/>
          <a:stretch/>
        </p:blipFill>
        <p:spPr>
          <a:xfrm>
            <a:off x="5029200" y="3809880"/>
            <a:ext cx="37339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а Юго- Востоке, на Восточно-Европейской равнине, средь гор и холмов, в котловине, всего 5 век, не так уж и много- красуется город гора, рядом с                                                                                Волг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volga"/>
          <p:cNvPicPr/>
          <p:nvPr/>
        </p:nvPicPr>
        <p:blipFill>
          <a:blip r:embed="rId1"/>
          <a:stretch/>
        </p:blipFill>
        <p:spPr>
          <a:xfrm>
            <a:off x="0" y="2286000"/>
            <a:ext cx="5486400" cy="4297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img--i-44496-w-640"/>
          <p:cNvPicPr/>
          <p:nvPr/>
        </p:nvPicPr>
        <p:blipFill>
          <a:blip r:embed="rId2"/>
          <a:stretch/>
        </p:blipFill>
        <p:spPr>
          <a:xfrm>
            <a:off x="4952880" y="3429000"/>
            <a:ext cx="419112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 городе сады, зеленые зоны, скверы и памятники приро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nt112a"/>
          <p:cNvPicPr/>
          <p:nvPr/>
        </p:nvPicPr>
        <p:blipFill>
          <a:blip r:embed="rId1"/>
          <a:stretch/>
        </p:blipFill>
        <p:spPr>
          <a:xfrm>
            <a:off x="152280" y="28954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nt03a"/>
          <p:cNvPicPr/>
          <p:nvPr/>
        </p:nvPicPr>
        <p:blipFill>
          <a:blip r:embed="rId2"/>
          <a:stretch/>
        </p:blipFill>
        <p:spPr>
          <a:xfrm>
            <a:off x="4572000" y="28954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Гора Ув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Лопати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                         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гора Алтын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Лысогорский массив с ущельями длинными.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sp04a"/>
          <p:cNvPicPr/>
          <p:nvPr/>
        </p:nvPicPr>
        <p:blipFill>
          <a:blip r:embed="rId1"/>
          <a:stretch/>
        </p:blipFill>
        <p:spPr>
          <a:xfrm>
            <a:off x="0" y="3111480"/>
            <a:ext cx="4495680" cy="3746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://rybakiohotniki.ru/uploads_user/1000/652/3708.jpg"/>
          <p:cNvPicPr/>
          <p:nvPr/>
        </p:nvPicPr>
        <p:blipFill>
          <a:blip r:embed="rId2"/>
          <a:stretch/>
        </p:blipFill>
        <p:spPr>
          <a:xfrm>
            <a:off x="4495680" y="3086280"/>
            <a:ext cx="46483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76197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а Приволжской возвышенности     Лысогорского плато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лесопарк Кумысная поля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Здесь редкие травы, деревья, овраги, мир животный, каскады пруд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          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родники на поля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http://gtrk-saratov.ru/images/cms/data/2011-2012/mai/29/polyana.jpg"/>
          <p:cNvPicPr/>
          <p:nvPr/>
        </p:nvPicPr>
        <p:blipFill>
          <a:blip r:embed="rId1"/>
          <a:stretch/>
        </p:blipFill>
        <p:spPr>
          <a:xfrm>
            <a:off x="0" y="314316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http://photos.wikimapia.org/p/00/00/63/12/15_big.jpg"/>
          <p:cNvPicPr/>
          <p:nvPr/>
        </p:nvPicPr>
        <p:blipFill>
          <a:blip r:embed="rId2"/>
          <a:stretch/>
        </p:blipFill>
        <p:spPr>
          <a:xfrm>
            <a:off x="4191120" y="314316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Дуб Великан доживает свой век, сосна Веймутова и ландышей ц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ало таких городов на планет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 сочетанием природы и города в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nt06a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nt09a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дной из экологических проблем окраины  Заводского района города Саратова является загрязнение родников</a:t>
            </a: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юди загрязняют родн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усора все 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год от г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 растут вокруг уже цвет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рубают ле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щай природ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1370586213_273549569"/>
          <p:cNvPicPr/>
          <p:nvPr/>
        </p:nvPicPr>
        <p:blipFill>
          <a:blip r:embed="rId1"/>
          <a:stretch/>
        </p:blipFill>
        <p:spPr>
          <a:xfrm>
            <a:off x="5105520" y="2133720"/>
            <a:ext cx="403848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2880" y="380880"/>
            <a:ext cx="4191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Пересохший род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на горе Алтынная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Этот родник расположен на выезде из города Саратова на Волгоградскую трассу. При облагораживании родника неправильно была сделана приемная камера. Труба забилась песком. В 2005 году планировалось переделать камеру, но все осталось по-прежне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http://www.saratovgreen.ru/images/trueimg/originals/11/CC1572202997-11.jpg"/>
          <p:cNvPicPr/>
          <p:nvPr/>
        </p:nvPicPr>
        <p:blipFill>
          <a:blip r:embed="rId1"/>
          <a:stretch/>
        </p:blipFill>
        <p:spPr>
          <a:xfrm>
            <a:off x="0" y="0"/>
            <a:ext cx="513864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http://www.saratovgreen.ru/images/trueimg/originals/11/CC1572202997-11.jpg"/>
          <p:cNvPicPr/>
          <p:nvPr/>
        </p:nvPicPr>
        <p:blipFill>
          <a:blip r:embed="rId2"/>
          <a:stretch/>
        </p:blipFill>
        <p:spPr>
          <a:xfrm>
            <a:off x="0" y="0"/>
            <a:ext cx="513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12:41:40Z</dcterms:created>
  <dc:creator>Наталья</dc:creator>
  <dc:description/>
  <dc:language>en-US</dc:language>
  <cp:lastModifiedBy>Лена</cp:lastModifiedBy>
  <dcterms:modified xsi:type="dcterms:W3CDTF">2015-01-26T19:27:57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