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8B8-9F15-4CA9-8949-4E26C1A2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2CB-ED9A-4D06-A1C2-7BEEFE8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13C-27FD-4ECB-8230-FEE57631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DEE-CA89-403F-8001-A1EB6D9B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109-C597-48D4-810E-482F19B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DB0-B054-4C73-AD70-EA21C3DB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497-CD4A-4ED1-9473-709D9A2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691-67AD-4343-A13C-A54A8EC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621-3C16-40DE-B1B0-750E705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DB6-6BAD-47F9-8DF3-0677942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E39-EA56-446F-8F7C-D490490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36A-DD4C-4B49-9819-3B4D5B7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227-207A-42B8-B200-C971A433A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Чистый родник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выполнили ученики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У «ООШ №39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» г Саратова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Кирюшкина Наталья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Поливанов Никол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одник расположен недалеко от выезда из города  Саратова по направлению к детскому оздоровительному лагерю «Ударн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657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естная администрация  облагородила родник в 2012 году. Была выложена каменная стена, поставлена беседка, посажены ели. Но в 2013 году эта же местная администрация продала землю вблизи родника под строительство частного дома. В результате прямо у родника вырублена немалая часть зеленой зоны. Высаженные ели погиб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:\Фотографии\Nikon\001\DSCN0782.JPG"/>
          <p:cNvPicPr/>
          <p:nvPr/>
        </p:nvPicPr>
        <p:blipFill>
          <a:blip r:embed="rId1"/>
          <a:stretch/>
        </p:blipFill>
        <p:spPr>
          <a:xfrm>
            <a:off x="3962520" y="1981080"/>
            <a:ext cx="4647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:\Фотографии\Nikon\001\DSCN0778.JPG"/>
          <p:cNvPicPr/>
          <p:nvPr/>
        </p:nvPicPr>
        <p:blipFill>
          <a:blip r:embed="rId1"/>
          <a:stretch/>
        </p:blipFill>
        <p:spPr>
          <a:xfrm>
            <a:off x="0" y="22860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:\Фотографии\Nikon\103NIKON\DSCN2070.JPG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6172200" y="3048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Пос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28600" y="5335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одник на горе Алтынная от улицы Лесна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тели близлежащих домов часто ходят в родник за водой или на пикники вблизи родника. К сожалению не все относятся бережно к природе и  оставляют много мусора. Ребята нашей школы каждый год устраивают мероприятия по очистке родника от му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"/>
          <p:cNvPicPr/>
          <p:nvPr/>
        </p:nvPicPr>
        <p:blipFill>
          <a:blip r:embed="rId1"/>
          <a:stretch/>
        </p:blipFill>
        <p:spPr>
          <a:xfrm>
            <a:off x="0" y="2819520"/>
            <a:ext cx="48229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-7663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" descr=""/>
          <p:cNvPicPr/>
          <p:nvPr/>
        </p:nvPicPr>
        <p:blipFill>
          <a:blip r:embed="rId2"/>
          <a:stretch/>
        </p:blipFill>
        <p:spPr>
          <a:xfrm>
            <a:off x="237960" y="2743200"/>
            <a:ext cx="8674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-7663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370586213_273549569"/>
          <p:cNvPicPr/>
          <p:nvPr/>
        </p:nvPicPr>
        <p:blipFill>
          <a:blip r:embed="rId2"/>
          <a:stretch/>
        </p:blipFill>
        <p:spPr>
          <a:xfrm>
            <a:off x="5029200" y="3809880"/>
            <a:ext cx="3733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Юго- Востоке, на Восточно-Европейской равнине, средь гор и холмов, в котловине, всего 5 век, не так уж и много- красуется город гора, рядом с                                                                                Вол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volga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9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img--i-44496-w-640"/>
          <p:cNvPicPr/>
          <p:nvPr/>
        </p:nvPicPr>
        <p:blipFill>
          <a:blip r:embed="rId2"/>
          <a:stretch/>
        </p:blipFill>
        <p:spPr>
          <a:xfrm>
            <a:off x="4952880" y="3429000"/>
            <a:ext cx="41911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городе сады, зеленые зоны, скверы и памятники при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nt112a"/>
          <p:cNvPicPr/>
          <p:nvPr/>
        </p:nvPicPr>
        <p:blipFill>
          <a:blip r:embed="rId1"/>
          <a:stretch/>
        </p:blipFill>
        <p:spPr>
          <a:xfrm>
            <a:off x="152280" y="28954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t03a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ра У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опат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ра Алтын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ысогорский массив с ущельями длинными.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p04a"/>
          <p:cNvPicPr/>
          <p:nvPr/>
        </p:nvPicPr>
        <p:blipFill>
          <a:blip r:embed="rId1"/>
          <a:stretch/>
        </p:blipFill>
        <p:spPr>
          <a:xfrm>
            <a:off x="0" y="3111480"/>
            <a:ext cx="4495680" cy="374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rybakiohotniki.ru/uploads_user/1000/652/3708.jpg"/>
          <p:cNvPicPr/>
          <p:nvPr/>
        </p:nvPicPr>
        <p:blipFill>
          <a:blip r:embed="rId2"/>
          <a:stretch/>
        </p:blipFill>
        <p:spPr>
          <a:xfrm>
            <a:off x="4495680" y="308628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619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Приволжской возвышенности     Лысогорского плато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есопарк Кумысная поля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десь редкие травы, деревья, овраги, мир животный, каскады пру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одники на поля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gtrk-saratov.ru/images/cms/data/2011-2012/mai/29/polyana.jpg"/>
          <p:cNvPicPr/>
          <p:nvPr/>
        </p:nvPicPr>
        <p:blipFill>
          <a:blip r:embed="rId1"/>
          <a:stretch/>
        </p:blipFill>
        <p:spPr>
          <a:xfrm>
            <a:off x="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photos.wikimapia.org/p/00/00/63/12/15_big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уб Великан доживает свой век, сосна Веймутова и ландыше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ло таких городов на планет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сочетанием природы и города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nt06a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nt09a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дной из экологических проблем окраины  Заводского района города Саратова является загрязнение роднико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юди загрязняют род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сора все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 от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стут вокруг уже цв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рубают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щай приро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370586213_273549569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2880" y="3808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ересохший ро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на горе Алтынна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Этот родник расположен на выезде из города Саратова на Волгоградскую трассу. При облагораживании родника неправильно была сделана приемная камера. Труба забилась песком. В 2005 году планировалось переделать камеру, но все осталось по-прежн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http://www.saratovgreen.ru/images/trueimg/originals/11/CC1572202997-11.jpg"/>
          <p:cNvPicPr/>
          <p:nvPr/>
        </p:nvPicPr>
        <p:blipFill>
          <a:blip r:embed="rId1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ttp://www.saratovgreen.ru/images/trueimg/originals/11/CC1572202997-11.jpg"/>
          <p:cNvPicPr/>
          <p:nvPr/>
        </p:nvPicPr>
        <p:blipFill>
          <a:blip r:embed="rId2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2:41:40Z</dcterms:created>
  <dc:creator>Наталья</dc:creator>
  <dc:description/>
  <dc:language>en-US</dc:language>
  <cp:lastModifiedBy>Лена</cp:lastModifiedBy>
  <dcterms:modified xsi:type="dcterms:W3CDTF">2015-01-26T19:27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