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1.gif" ContentType="image/gif"/>
  <Override PartName="/ppt/media/image19.png" ContentType="image/png"/>
  <Override PartName="/ppt/media/image3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2.jpeg" ContentType="image/jpeg"/>
  <Override PartName="/ppt/media/image22.gif" ContentType="image/gif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2B5-3C99-4B59-8879-A6E83D7D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3EA-D8C8-4401-A02D-90672033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964-B64A-4F2B-8D9B-12D0833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A87-2F03-4C37-AF65-294AE438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3C4-12A7-4265-B3D9-34E4FB24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56B-886C-4D8E-9FCB-CA15F92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807-A031-4CAD-89AE-EDE6A378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EFE-8416-48D7-9F10-DF6413A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A68-52C6-4AA9-B8E7-6748599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153-9B94-4DA0-A381-8BF47ED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259-CA1A-436D-A064-6AE8B4C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C3F-9D48-4773-8B04-7350048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B1E0-DCF3-42DF-A7CB-011F425D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907920"/>
            <a:ext cx="720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 ЗДОРОВЬ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2016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87280" y="2133720"/>
            <a:ext cx="662472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КОЛОГИ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07040" y="0"/>
            <a:ext cx="4836960" cy="494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4356000" cy="319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335592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203640" y="2781360"/>
            <a:ext cx="3008160" cy="407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156360" y="4365720"/>
            <a:ext cx="2987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692280"/>
            <a:ext cx="7991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РОФИЛАКТИК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2952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87280" y="476280"/>
            <a:ext cx="6913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ГИГИЕН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3098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76360" y="476280"/>
            <a:ext cx="633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ПОР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196848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664000" cy="2436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022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87280" y="1052640"/>
            <a:ext cx="7056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ЗДОРОВ БУДЕШЬ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640" y="3059280"/>
            <a:ext cx="7056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ВСЁ ДОБУДЕШ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24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404640"/>
            <a:ext cx="6048360" cy="237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000" y="1484280"/>
            <a:ext cx="352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ЗО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2781360"/>
            <a:ext cx="496908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5373720"/>
            <a:ext cx="496908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4797360"/>
            <a:ext cx="28814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3500280"/>
            <a:ext cx="269568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96908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797360"/>
            <a:ext cx="24480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781360"/>
            <a:ext cx="3241800" cy="71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500280"/>
            <a:ext cx="2303640" cy="622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781360"/>
            <a:ext cx="1727280" cy="76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11280" y="260280"/>
            <a:ext cx="7777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ИТА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2360" y="3357720"/>
            <a:ext cx="4677480" cy="2160000"/>
            <a:chOff x="1692360" y="3357720"/>
            <a:chExt cx="4677480" cy="2160000"/>
          </a:xfrm>
        </p:grpSpPr>
        <p:sp>
          <p:nvSpPr>
            <p:cNvPr id="56" name=""/>
            <p:cNvSpPr/>
            <p:nvPr/>
          </p:nvSpPr>
          <p:spPr>
            <a:xfrm>
              <a:off x="1692360" y="4502880"/>
              <a:ext cx="284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ЕЗ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113000" y="3357720"/>
              <a:ext cx="2256840" cy="21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16720" y="3547080"/>
              <a:ext cx="131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452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9920" y="3701880"/>
              <a:ext cx="84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svezhie-ovowi.ucoz.ru/_ph/1/2/370059371.jpg"/>
          <p:cNvPicPr/>
          <p:nvPr/>
        </p:nvPicPr>
        <p:blipFill>
          <a:blip r:embed="rId1"/>
          <a:stretch/>
        </p:blipFill>
        <p:spPr>
          <a:xfrm>
            <a:off x="1258920" y="2044800"/>
            <a:ext cx="3600360" cy="25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static.freepik.com/free-photo/white-background-caramel-fruit-torte_3299750.jpg"/>
          <p:cNvPicPr/>
          <p:nvPr/>
        </p:nvPicPr>
        <p:blipFill>
          <a:blip r:embed="rId2"/>
          <a:stretch/>
        </p:blipFill>
        <p:spPr>
          <a:xfrm>
            <a:off x="5580000" y="1989000"/>
            <a:ext cx="3313080" cy="254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3372480"/>
            <a:ext cx="149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3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7800" y="19152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netpulse.ru/info/assets/images/14/lawn2.jpg"/>
          <p:cNvPicPr/>
          <p:nvPr/>
        </p:nvPicPr>
        <p:blipFill>
          <a:blip r:embed="rId1"/>
          <a:stretch/>
        </p:blipFill>
        <p:spPr>
          <a:xfrm>
            <a:off x="539640" y="2060640"/>
            <a:ext cx="3299040" cy="246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fs112.taba.ru/dev122/0/000/413/0000413960.fid.jpg"/>
          <p:cNvPicPr/>
          <p:nvPr/>
        </p:nvPicPr>
        <p:blipFill>
          <a:blip r:embed="rId2"/>
          <a:stretch/>
        </p:blipFill>
        <p:spPr>
          <a:xfrm>
            <a:off x="4643280" y="2133720"/>
            <a:ext cx="3708720" cy="267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640" y="1557000"/>
            <a:ext cx="81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557000"/>
            <a:ext cx="115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4160" y="11959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6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03280" y="476280"/>
            <a:ext cx="626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ЕЖИМ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181080" y="2922840"/>
            <a:ext cx="292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00 – 7.15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15 – 7.3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30 – 8.45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.00 – 14.0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4.30 – 15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.00 – 15.3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.30 – 17.0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7.00 – 20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.00 – 21.30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.30 – 22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2.00 – 7.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3480" y="2922840"/>
            <a:ext cx="585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робуждение, гигиенические процед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завт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дорог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второй завтрак, уроки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дорога домой, об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рогулка на свежем воздухе, пол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выполнение домашней работы, уж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свободное время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подготовка ко с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1125360"/>
            <a:ext cx="7488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ФИЗ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260280"/>
            <a:ext cx="8209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Вредные привычк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168360" cy="234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3716280"/>
            <a:ext cx="3672000" cy="245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651640" y="4221000"/>
            <a:ext cx="2808000" cy="224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0890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5:05:20Z</dcterms:created>
  <dc:creator>123</dc:creator>
  <dc:description/>
  <dc:language>en-US</dc:language>
  <cp:lastModifiedBy>123</cp:lastModifiedBy>
  <dcterms:modified xsi:type="dcterms:W3CDTF">2014-01-09T07:21:34Z</dcterms:modified>
  <cp:revision>25</cp:revision>
  <dc:subject/>
  <dc:title>Слайд 1</dc:title>
</cp:coreProperties>
</file>