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8.gif" ContentType="image/gif"/>
  <Override PartName="/ppt/media/image20.gif" ContentType="image/gif"/>
  <Override PartName="/ppt/media/image10.gif" ContentType="image/gif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21.gif" ContentType="image/gif"/>
  <Override PartName="/ppt/media/image19.png" ContentType="image/png"/>
  <Override PartName="/ppt/media/image3.jpeg" ContentType="image/jpeg"/>
  <Override PartName="/ppt/media/image5.jpeg" ContentType="image/jpeg"/>
  <Override PartName="/ppt/media/image23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.gif" ContentType="image/gif"/>
  <Override PartName="/ppt/media/image2.jpeg" ContentType="image/jpeg"/>
  <Override PartName="/ppt/media/image22.gif" ContentType="image/gif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1DB5-A0B3-4058-9D44-100346D89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1707-A7F6-45CB-93D9-6A0F19B81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AD6A-D231-4E57-A9B0-CAB7B7156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D968-B7AB-4766-89D6-78767304C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F4F4-9687-4543-913D-958C43D0E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920A-2D8B-4CAF-A545-FF2481FF9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13EC-3507-4A29-BB29-EC39F667B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CF1C-4557-4EA4-92ED-E7A401C21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B63F-3458-4F54-8128-32ABAA453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C5A8-23DA-40D8-93D4-0B75B0E5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5212-C5EE-4607-8F73-DE18DEA4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8A9D-6267-49C7-86A9-DD3068CF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92BD8-A606-4E73-AE06-2834490F0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042920" y="907920"/>
            <a:ext cx="720108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ФОРМУЛА ЗДОРОВЬ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780000" y="4365720"/>
            <a:ext cx="2016000" cy="19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187280" y="2133720"/>
            <a:ext cx="6624720" cy="21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ЭКОЛОГИЯ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307040" y="0"/>
            <a:ext cx="4836960" cy="4941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17640"/>
            <a:ext cx="4356000" cy="3195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0" y="2421000"/>
            <a:ext cx="3355920" cy="4437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3203640" y="2781360"/>
            <a:ext cx="3008160" cy="4076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6156360" y="4365720"/>
            <a:ext cx="298764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68360" y="692280"/>
            <a:ext cx="7991280" cy="26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ПРОФИЛАКТИКА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987640" y="3716280"/>
            <a:ext cx="2952720" cy="24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187280" y="476280"/>
            <a:ext cx="691380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ГИГИЕНА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059280" y="3213000"/>
            <a:ext cx="3309840" cy="33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476360" y="476280"/>
            <a:ext cx="633744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СПОРТ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564000" y="3789360"/>
            <a:ext cx="1968480" cy="25210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084720" y="2781360"/>
            <a:ext cx="2664000" cy="24368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39640" y="2708280"/>
            <a:ext cx="20224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187280" y="1052640"/>
            <a:ext cx="7056720" cy="1728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ЗДОРОВ БУДЕШЬ -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71640" y="3059280"/>
            <a:ext cx="7056360" cy="23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ВСЁ ДОБУДЕШЬ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771640" y="1773360"/>
            <a:ext cx="302436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476360" y="404640"/>
            <a:ext cx="6048360" cy="237672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00000" y="1484280"/>
            <a:ext cx="35290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ЗО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0920" y="2781360"/>
            <a:ext cx="4969080" cy="36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50920" y="5373720"/>
            <a:ext cx="496908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следств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50920" y="4797360"/>
            <a:ext cx="2881440" cy="576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ИТ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050920" y="3500280"/>
            <a:ext cx="2695680" cy="622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50920" y="4149720"/>
            <a:ext cx="4969080" cy="622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редные привы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797360"/>
            <a:ext cx="2448000" cy="576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Ж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050920" y="2781360"/>
            <a:ext cx="3241800" cy="7189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филак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16360" y="3500280"/>
            <a:ext cx="2303640" cy="622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иги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92720" y="2781360"/>
            <a:ext cx="1727280" cy="765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ПО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11280" y="260280"/>
            <a:ext cx="777708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ПИТАНИЕ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692360" y="3357720"/>
            <a:ext cx="4677480" cy="2160000"/>
            <a:chOff x="1692360" y="3357720"/>
            <a:chExt cx="4677480" cy="2160000"/>
          </a:xfrm>
        </p:grpSpPr>
        <p:sp>
          <p:nvSpPr>
            <p:cNvPr id="56" name=""/>
            <p:cNvSpPr/>
            <p:nvPr/>
          </p:nvSpPr>
          <p:spPr>
            <a:xfrm>
              <a:off x="1692360" y="4502880"/>
              <a:ext cx="284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ОЕЗД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 txBox="1"/>
            <p:nvPr/>
          </p:nvSpPr>
          <p:spPr>
            <a:xfrm>
              <a:off x="4113000" y="3357720"/>
              <a:ext cx="2256840" cy="216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е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16720" y="3547080"/>
              <a:ext cx="1319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452</a:t>
              </a: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9920" y="3701880"/>
              <a:ext cx="842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РО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ttp://svezhie-ovowi.ucoz.ru/_ph/1/2/370059371.jpg"/>
          <p:cNvPicPr/>
          <p:nvPr/>
        </p:nvPicPr>
        <p:blipFill>
          <a:blip r:embed="rId1"/>
          <a:stretch/>
        </p:blipFill>
        <p:spPr>
          <a:xfrm>
            <a:off x="1258920" y="2044800"/>
            <a:ext cx="3600360" cy="2528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http://static.freepik.com/free-photo/white-background-caramel-fruit-torte_3299750.jpg"/>
          <p:cNvPicPr/>
          <p:nvPr/>
        </p:nvPicPr>
        <p:blipFill>
          <a:blip r:embed="rId2"/>
          <a:stretch/>
        </p:blipFill>
        <p:spPr>
          <a:xfrm>
            <a:off x="5580000" y="1989000"/>
            <a:ext cx="3313080" cy="25416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24000" y="3372480"/>
            <a:ext cx="1490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53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17800" y="1915200"/>
            <a:ext cx="10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://www.netpulse.ru/info/assets/images/14/lawn2.jpg"/>
          <p:cNvPicPr/>
          <p:nvPr/>
        </p:nvPicPr>
        <p:blipFill>
          <a:blip r:embed="rId1"/>
          <a:stretch/>
        </p:blipFill>
        <p:spPr>
          <a:xfrm>
            <a:off x="539640" y="2060640"/>
            <a:ext cx="3299040" cy="2469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http://fs112.taba.ru/dev122/0/000/413/0000413960.fid.jpg"/>
          <p:cNvPicPr/>
          <p:nvPr/>
        </p:nvPicPr>
        <p:blipFill>
          <a:blip r:embed="rId2"/>
          <a:stretch/>
        </p:blipFill>
        <p:spPr>
          <a:xfrm>
            <a:off x="4643280" y="2133720"/>
            <a:ext cx="3708720" cy="2673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79640" y="1557000"/>
            <a:ext cx="811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0360" y="1557000"/>
            <a:ext cx="1154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,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4160" y="119592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768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403280" y="476280"/>
            <a:ext cx="626436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РЕЖИМ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0" name=""/>
          <p:cNvSpPr/>
          <p:nvPr/>
        </p:nvSpPr>
        <p:spPr>
          <a:xfrm>
            <a:off x="181080" y="2922840"/>
            <a:ext cx="29239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7.00 – 7.15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7.15 – 7.30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7.30 – 8.45 -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8.00 – 14.00 -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4.30 – 15.00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5.00 – 15.30 -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5.30 – 17.00 -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7.00 – 20.00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0.00 – 21.30 -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1.30 – 22.00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2.00 – 7.00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53480" y="2922840"/>
            <a:ext cx="5850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пробуждение, гигиенические процедур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завтр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дорога в шко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          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второй завтрак, уроки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дорога домой, обе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         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отд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          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прогулка на свежем воздухе, полд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выполнение домашней работы, уж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         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свободное время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подготовка ко с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с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900000" y="1125360"/>
            <a:ext cx="7488360" cy="29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ФИЗМИНУТКА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539640" y="260280"/>
            <a:ext cx="8209080" cy="23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Вредные привычки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3168360" cy="2341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835280" y="3068640"/>
            <a:ext cx="3024000" cy="2268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3132000" y="3716280"/>
            <a:ext cx="3672000" cy="24544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5651640" y="4221000"/>
            <a:ext cx="2808000" cy="2240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179280" y="4869000"/>
            <a:ext cx="2089080" cy="17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9T05:05:20Z</dcterms:created>
  <dc:creator>123</dc:creator>
  <dc:description/>
  <dc:language>en-US</dc:language>
  <cp:lastModifiedBy>123</cp:lastModifiedBy>
  <dcterms:modified xsi:type="dcterms:W3CDTF">2014-01-09T07:21:34Z</dcterms:modified>
  <cp:revision>25</cp:revision>
  <dc:subject/>
  <dc:title>Слайд 1</dc:title>
</cp:coreProperties>
</file>