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F874-F4C9-4660-9E14-626FC28D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152C-4E6F-442F-B1DB-10D5F61D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0394-C4CF-4049-9003-4A264C3D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95F7-E44F-40CB-A893-EF9EEAA8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574-C795-4500-8EA0-733915F5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FCC-F51B-4262-AC3C-FA877C35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8EE1-039B-467F-92CD-1358817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632E-1FBE-4A8C-95E6-7FED35EC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FE04-7C19-4F71-91D6-73E942D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29EA-A9FC-4578-ACA6-537B8897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DCEB-CFFF-4688-AF90-E97C523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F96D-C63E-4567-A620-F33CC2C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4791-1628-421B-9495-6F61F8D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CD9E-C0C9-4DA5-B37C-2CF2A4C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7FD4-C68C-4848-A033-B4E116AA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97E1-8086-4A50-8639-99FDD7D9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95C4-6EBD-4E5E-8096-8BFE62D5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9547-471C-43ED-9F78-DCFC989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55E7-8238-45A6-AE06-42BE0B8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5F61-CD2C-4981-A75B-6B909CC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1F95-97EE-43D8-9D0E-B79F2BE5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35B1A-9677-4489-96C1-9E27E0A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E6C4-4FED-423E-A4E3-45ED16C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4F87-F252-4D44-AB99-EEF4EED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99DC-1EC5-41C1-8571-D055873F6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EA7-6D84-41FD-A10A-7989CC5FA4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559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Геополитическая ситуация на южных границах Древнерусского государ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ystory_russia_p1"/>
          <p:cNvPicPr/>
          <p:nvPr/>
        </p:nvPicPr>
        <p:blipFill>
          <a:blip r:embed="rId1"/>
          <a:stretch/>
        </p:blipFill>
        <p:spPr>
          <a:xfrm>
            <a:off x="2570040" y="1700280"/>
            <a:ext cx="4964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33829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ериод существования Древнерусского государства его южная граница, проходящая в основном по линии распространения лесов и лесостепных ландшафтов, оставалась все время в подвижном состоянии, поскольку обитавшие здесь народы вели кочевой образ жизн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8" descr="imgpreview"/>
          <p:cNvPicPr/>
          <p:nvPr/>
        </p:nvPicPr>
        <p:blipFill>
          <a:blip r:embed="rId1"/>
          <a:stretch/>
        </p:blipFill>
        <p:spPr>
          <a:xfrm>
            <a:off x="4427640" y="333360"/>
            <a:ext cx="4321080" cy="297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350495128_e"/>
          <p:cNvPicPr/>
          <p:nvPr/>
        </p:nvPicPr>
        <p:blipFill>
          <a:blip r:embed="rId2"/>
          <a:stretch/>
        </p:blipFill>
        <p:spPr>
          <a:xfrm>
            <a:off x="1042920" y="3068640"/>
            <a:ext cx="47466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368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9в. опасным противником Руси был Хазарский каганат.  Двухсотлетний период русско-хазарских взаимоотношений характеризовался военными столкновениями.  Это связано с тем, что Олег освободил от хазарской зависимости полян, северян и радимичей, что привело к русско-хазарской войне. В 964-965гг. князь Святослав нанес решающий удар по Хазарскому каганату, после которого он перестал существовать как самостоятельное государств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imgpreview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66160721"/>
          <p:cNvPicPr/>
          <p:nvPr/>
        </p:nvPicPr>
        <p:blipFill>
          <a:blip r:embed="rId2"/>
          <a:stretch/>
        </p:blipFill>
        <p:spPr>
          <a:xfrm>
            <a:off x="3851280" y="3011400"/>
            <a:ext cx="31003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дение Хазарского каганата открывало дорогу в причерноморские степи ордам кочевых народов, которые спустя десятилетия смещали друг друг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обенностью положения Руси – находилась в состоянии перманентной войны с племенами кочевников, военные действия которых носили опустошительный характер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700"/>
          <p:cNvPicPr/>
          <p:nvPr/>
        </p:nvPicPr>
        <p:blipFill>
          <a:blip r:embed="rId1"/>
          <a:stretch/>
        </p:blipFill>
        <p:spPr>
          <a:xfrm>
            <a:off x="4427640" y="404640"/>
            <a:ext cx="309708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imgpreview"/>
          <p:cNvPicPr/>
          <p:nvPr/>
        </p:nvPicPr>
        <p:blipFill>
          <a:blip r:embed="rId2"/>
          <a:stretch/>
        </p:blipFill>
        <p:spPr>
          <a:xfrm>
            <a:off x="4788000" y="3716280"/>
            <a:ext cx="40320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южных степях половцы, вытеснившие кочевые народы и закрывшие для Руси выходы к Азовскому и Черному морям, потребовало изменения внешнеполитической такти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еликий князь Святополк Изяславич в 1094г. взял в жены дочь половецкого хана, установив династические бра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ериод политической раздробленности каждое княжество, составляющее некогда «единую Русь», было самостоятельным и  обращалось к помощи половце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kipchaki"/>
          <p:cNvPicPr/>
          <p:nvPr/>
        </p:nvPicPr>
        <p:blipFill>
          <a:blip r:embed="rId1"/>
          <a:stretch/>
        </p:blipFill>
        <p:spPr>
          <a:xfrm>
            <a:off x="4500720" y="836640"/>
            <a:ext cx="442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и ученицы 10 класса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«Берёзовская СО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с и Дубренская Анаста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1:15:04Z</dcterms:created>
  <dc:creator>User</dc:creator>
  <dc:description/>
  <dc:language>en-US</dc:language>
  <cp:lastModifiedBy>Любовь Никитична</cp:lastModifiedBy>
  <dcterms:modified xsi:type="dcterms:W3CDTF">2015-01-26T12:53:17Z</dcterms:modified>
  <cp:revision>3</cp:revision>
  <dc:subject/>
  <dc:title>Геополитическая ситуация на южных границах Древнерусского государства</dc:title>
</cp:coreProperties>
</file>