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0F555-2C5B-4A34-A60E-FE277B568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EBDD6-FECE-4892-A7F8-A7C629E3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758D5-2603-407E-93FD-F48B21146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8D8D9-7810-4871-90B1-8C0C546B9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69CFB-972F-43AB-BD99-F2BBF01E4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78F9-A7D5-45DE-B325-45AF3C6C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B84D-83AD-45A4-98D0-9B733FFE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A4A5C-2C18-4E84-9040-EC895E6F8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2459-7CE1-44B4-B745-4E789C02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4E75-D0D2-4158-9473-AA7C7B01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6776-D754-4FE9-8D65-8868F591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F49EE-073B-40E6-B158-CBCE7EA85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EABA5-824E-4CB4-981E-9BFAF106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72DC-CDAF-4B48-AAB7-E300F286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80CE8-F99A-4580-AED9-978A153B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7EED-F4F5-4ACE-93A5-7EE9CC842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DDADC-E252-4DFD-A68E-3938FC1F8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E9B62-8078-4DC1-A2DF-AAAF857A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992AA-F9D3-4EBC-8AEF-08418FF6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55C23-4574-4E55-9BA3-26E3BF14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A2308-5121-43FA-AFF9-05AFA7D8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BAA4A-6D3A-41AD-8D0F-10BC13A4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4C47C-FF26-4706-BC79-1013C465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371FD-8E9D-4FFD-83A6-AD746D8E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F021-AB4A-4E17-B514-9D6A596080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1EE8-BF20-418A-95B9-C6072057FF9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7559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Garamond"/>
              </a:rPr>
              <a:t>Геополитическая ситуация на южных границах Древнерусского государств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1" name="Picture 4" descr="hystory_russia_p1"/>
          <p:cNvPicPr/>
          <p:nvPr/>
        </p:nvPicPr>
        <p:blipFill>
          <a:blip r:embed="rId1"/>
          <a:stretch/>
        </p:blipFill>
        <p:spPr>
          <a:xfrm>
            <a:off x="2570040" y="1700280"/>
            <a:ext cx="49644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-360" y="333000"/>
            <a:ext cx="3382920" cy="53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В период существования Древнерусского государства его южная граница, проходящая в основном по линии распространения лесов и лесостепных ландшафтов, оставалась все время в подвижном состоянии, поскольку обитавшие здесь народы вели кочевой образ жизни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3" name="Picture 8" descr="imgpreview"/>
          <p:cNvPicPr/>
          <p:nvPr/>
        </p:nvPicPr>
        <p:blipFill>
          <a:blip r:embed="rId1"/>
          <a:stretch/>
        </p:blipFill>
        <p:spPr>
          <a:xfrm>
            <a:off x="4427640" y="333360"/>
            <a:ext cx="4321080" cy="2976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1350495128_e"/>
          <p:cNvPicPr/>
          <p:nvPr/>
        </p:nvPicPr>
        <p:blipFill>
          <a:blip r:embed="rId2"/>
          <a:stretch/>
        </p:blipFill>
        <p:spPr>
          <a:xfrm>
            <a:off x="1042920" y="3068640"/>
            <a:ext cx="474660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3683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В 9в. опасным противником Руси был Хазарский каганат.  Двухсотлетний период русско-хазарских взаимоотношений характеризовался военными столкновениями.  Это связано с тем, что Олег освободил от хазарской зависимости полян, северян и радимичей, что привело к русско-хазарской войне. В 964-965гг. князь Святослав нанес решающий удар по Хазарскому каганату, после которого он перестал существовать как самостоятельное государство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8" descr="imgpreview"/>
          <p:cNvPicPr/>
          <p:nvPr/>
        </p:nvPicPr>
        <p:blipFill>
          <a:blip r:embed="rId1"/>
          <a:stretch/>
        </p:blipFill>
        <p:spPr>
          <a:xfrm>
            <a:off x="4716360" y="260280"/>
            <a:ext cx="3959280" cy="3240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66160721"/>
          <p:cNvPicPr/>
          <p:nvPr/>
        </p:nvPicPr>
        <p:blipFill>
          <a:blip r:embed="rId2"/>
          <a:stretch/>
        </p:blipFill>
        <p:spPr>
          <a:xfrm>
            <a:off x="3851280" y="3011400"/>
            <a:ext cx="310032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адение Хазарского каганата открывало дорогу в причерноморские степи ордам кочевых народов, которые спустя десятилетия смещали друг друга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собенностью положения Руси – находилась в состоянии перманентной войны с племенами кочевников, военные действия которых носили опустошительный характер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8" descr="700"/>
          <p:cNvPicPr/>
          <p:nvPr/>
        </p:nvPicPr>
        <p:blipFill>
          <a:blip r:embed="rId1"/>
          <a:stretch/>
        </p:blipFill>
        <p:spPr>
          <a:xfrm>
            <a:off x="4427640" y="404640"/>
            <a:ext cx="3097080" cy="3600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imgpreview"/>
          <p:cNvPicPr/>
          <p:nvPr/>
        </p:nvPicPr>
        <p:blipFill>
          <a:blip r:embed="rId2"/>
          <a:stretch/>
        </p:blipFill>
        <p:spPr>
          <a:xfrm>
            <a:off x="4788000" y="3716280"/>
            <a:ext cx="403200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В южных степях половцы, вытеснившие кочевые народы и закрывшие для Руси выходы к Азовскому и Черному морям, потребовало изменения внешнеполитической тактики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Великий князь Святополк Изяславич в 1094г. взял в жены дочь половецкого хана, установив династические браки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В период политической раздробленности каждое княжество, составляющее некогда «единую Русь», было самостоятельным и  обращалось к помощи половцев.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8" descr="kipchaki"/>
          <p:cNvPicPr/>
          <p:nvPr/>
        </p:nvPicPr>
        <p:blipFill>
          <a:blip r:embed="rId1"/>
          <a:stretch/>
        </p:blipFill>
        <p:spPr>
          <a:xfrm>
            <a:off x="4500720" y="836640"/>
            <a:ext cx="44272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ыполнили ученицы 10 класса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БОУ «Берёзовская СОШ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исс и Дубренская Анастас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0T11:15:04Z</dcterms:created>
  <dc:creator>User</dc:creator>
  <dc:description/>
  <dc:language>en-US</dc:language>
  <cp:lastModifiedBy>Любовь Никитична</cp:lastModifiedBy>
  <dcterms:modified xsi:type="dcterms:W3CDTF">2015-01-26T12:53:17Z</dcterms:modified>
  <cp:revision>3</cp:revision>
  <dc:subject/>
  <dc:title>Геополитическая ситуация на южных границах Древнерусского государства</dc:title>
</cp:coreProperties>
</file>