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722A-594C-43A6-877C-3809C4D427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B0EE-111B-488C-9563-EAF3CA5A70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F074-28BD-4622-B07E-3A3C306060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15B7-28FB-4BA0-A058-44095F2381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F08-6ACA-47EA-BD71-14124559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338-A197-4404-B7AB-34299CBE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703-FB8F-419E-9368-C2E39D80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B47-F1BF-47B8-91DF-CCCDBFE0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EA3E-D99A-46A3-A96D-507FFF04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941E-4838-41C3-A7C2-CE403FDB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7DC3-52D6-4330-850C-BE8EB61D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8D13-EB90-4640-8482-683AB085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827A-AE14-4DC4-A719-E6EA202C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4336-0F8A-4B02-9254-7623E970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E6D3-B180-4C10-98D0-259B8D89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47F-8F37-4E6C-84C8-48D2FB10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54C8-65CA-49E5-B143-1562FAB0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5E55-9540-42CF-92B8-B920B027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FA81-08B2-4526-A29D-99687CF1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9C82-9CBA-4ABC-8444-AE5F6A6D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28B6-2AEA-4539-8CD0-C8526647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D484-54B4-4DFE-A46F-D8715014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EF1B-29A3-4B05-90AC-225ACD68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D800-B4EB-4A5C-BC3D-E3F16225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B43A-908F-45AF-B0EE-5DA2A9E0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95E6-FAEB-447D-829F-B16D0366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4D6-B5BF-4655-8073-4C58550C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284B-6DAC-4BC3-B0C6-2B2F5305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016C-0229-458C-B7BE-77DC4728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F0A1-F528-419F-BB62-8D52213E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3836C-0F1F-49D6-B0FA-054931D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27060-705A-4781-8974-8BDBD1B4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E1F2C-B4BA-4C5D-8316-71E33C62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9219-EADC-4289-9C9B-662E89DB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2D47-F678-46B6-9E63-C0700150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DEEDE-AFCD-490F-AC02-2921623F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B8CC-210D-43D0-9303-26D5697F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A89-DBC7-4B1D-84AD-8A2E4057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D2622-0F79-4DCD-B101-8819801E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5C4C-5E93-4B3B-A458-53F958B5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3E338-F729-47A3-A446-75C980BE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75A32-77C1-4FAD-82EA-EBFE4575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46429-86FA-4FD6-A654-62449F12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B3A4-9CC4-4E59-A38A-512351AE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A840-3656-4F16-B9B9-8D311441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E44B-B858-462E-9C88-859AE1F4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3F9ED-CE1D-44CD-B76A-651DC1A3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A9E-F41D-4B09-A1F3-975D3D6B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FF1-F4DF-4A7A-BED2-82DD34B5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CF9-174A-4BEF-BC91-AE559FB8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2CC-B88E-4815-A177-F747107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991-155A-46E3-928C-A8802581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3835-B402-4041-ACBF-337741E72F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5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5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5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FEFC-45E5-4EE4-B28F-81D474C9EB3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4B81-68A4-4CDE-A4FA-C059707191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5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58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162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165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D4D7-0222-463D-870B-1FAB6AE3DB50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vereza.info/" TargetMode="Externa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214200" y="207180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Губит людей и           пиво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357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анилина Ал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4" name="Picture 2" descr="F:\о пиве картинки\why_we_love_beer_10.jpg"/>
          <p:cNvPicPr/>
          <p:nvPr/>
        </p:nvPicPr>
        <p:blipFill>
          <a:blip r:embed="rId1"/>
          <a:stretch/>
        </p:blipFill>
        <p:spPr>
          <a:xfrm>
            <a:off x="1571760" y="0"/>
            <a:ext cx="6643440" cy="1928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F:\о пиве картинки\499.jpg"/>
          <p:cNvPicPr/>
          <p:nvPr/>
        </p:nvPicPr>
        <p:blipFill>
          <a:blip r:embed="rId2"/>
          <a:stretch/>
        </p:blipFill>
        <p:spPr>
          <a:xfrm>
            <a:off x="0" y="3500280"/>
            <a:ext cx="3714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3840" y="244440"/>
            <a:ext cx="8628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иво вымывает витамин С, развивается гипоксия , страдает моз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4" name="Picture 2" descr="F:\о пиве картинки\Пейте_пиво_НЕВСКОЕ_.jpeg"/>
          <p:cNvPicPr/>
          <p:nvPr/>
        </p:nvPicPr>
        <p:blipFill>
          <a:blip r:embed="rId1"/>
          <a:stretch/>
        </p:blipFill>
        <p:spPr>
          <a:xfrm>
            <a:off x="108000" y="2060640"/>
            <a:ext cx="4211640" cy="3357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Users\USER\Desktop\9e62781b613af4de96e457a0f58.jpg"/>
          <p:cNvPicPr/>
          <p:nvPr/>
        </p:nvPicPr>
        <p:blipFill>
          <a:blip r:embed="rId2"/>
          <a:stretch/>
        </p:blipFill>
        <p:spPr>
          <a:xfrm>
            <a:off x="4340160" y="3724200"/>
            <a:ext cx="45576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Documents and Settings\Алла\Мои документы\x_4e13c848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Documents and Settings\Алла\Мои документы\x_682c8790.jpg"/>
          <p:cNvPicPr/>
          <p:nvPr/>
        </p:nvPicPr>
        <p:blipFill>
          <a:blip r:embed="rId2"/>
          <a:stretch/>
        </p:blipFill>
        <p:spPr>
          <a:xfrm>
            <a:off x="285840" y="214200"/>
            <a:ext cx="36432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fotojop2458-4"/>
          <p:cNvPicPr/>
          <p:nvPr/>
        </p:nvPicPr>
        <p:blipFill>
          <a:blip r:embed="rId1"/>
          <a:stretch/>
        </p:blipFill>
        <p:spPr>
          <a:xfrm>
            <a:off x="-228600" y="-55440"/>
            <a:ext cx="9372600" cy="69134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5867280"/>
            <a:ext cx="7391160" cy="6098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Алкоголь в любых дозах ведет к деградаци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0" name="Picture 5" descr="C:\Documents and Settings\Алла\Мои документы\пена.jpeg"/>
          <p:cNvPicPr/>
          <p:nvPr/>
        </p:nvPicPr>
        <p:blipFill>
          <a:blip r:embed="rId2"/>
          <a:stretch/>
        </p:blipFill>
        <p:spPr>
          <a:xfrm>
            <a:off x="3643200" y="4000680"/>
            <a:ext cx="221472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6997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иво понижает иммунитет Кожные заболевания и заболевания ног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2" name="Picture 2" descr="F:\о пиве картинки\42714.jpg"/>
          <p:cNvPicPr/>
          <p:nvPr/>
        </p:nvPicPr>
        <p:blipFill>
          <a:blip r:embed="rId1"/>
          <a:stretch/>
        </p:blipFill>
        <p:spPr>
          <a:xfrm>
            <a:off x="0" y="1214280"/>
            <a:ext cx="3071880" cy="2643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F:\о пиве картинки\боль.jpeg"/>
          <p:cNvPicPr/>
          <p:nvPr/>
        </p:nvPicPr>
        <p:blipFill>
          <a:blip r:embed="rId2"/>
          <a:stretch/>
        </p:blipFill>
        <p:spPr>
          <a:xfrm>
            <a:off x="3643200" y="1214280"/>
            <a:ext cx="2786040" cy="2571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F:\о пиве картинки\губы.jpeg"/>
          <p:cNvPicPr/>
          <p:nvPr/>
        </p:nvPicPr>
        <p:blipFill>
          <a:blip r:embed="rId3"/>
          <a:stretch/>
        </p:blipFill>
        <p:spPr>
          <a:xfrm>
            <a:off x="6786720" y="2928960"/>
            <a:ext cx="2000160" cy="2786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F:\о пиве картинки\нога.jpeg"/>
          <p:cNvPicPr/>
          <p:nvPr/>
        </p:nvPicPr>
        <p:blipFill>
          <a:blip r:embed="rId4"/>
          <a:stretch/>
        </p:blipFill>
        <p:spPr>
          <a:xfrm>
            <a:off x="214200" y="4071960"/>
            <a:ext cx="2428920" cy="2500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F:\о пиве картинки\рот.jpeg"/>
          <p:cNvPicPr/>
          <p:nvPr/>
        </p:nvPicPr>
        <p:blipFill>
          <a:blip r:embed="rId5"/>
          <a:stretch/>
        </p:blipFill>
        <p:spPr>
          <a:xfrm>
            <a:off x="3643200" y="4071960"/>
            <a:ext cx="2324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Дети алкоголиков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8" name="Picture 2" descr="F:\о пиве картинки\rodi-y-narkomanki-3.jpg"/>
          <p:cNvPicPr/>
          <p:nvPr/>
        </p:nvPicPr>
        <p:blipFill>
          <a:blip r:embed="rId1"/>
          <a:stretch/>
        </p:blipFill>
        <p:spPr>
          <a:xfrm>
            <a:off x="428760" y="1857240"/>
            <a:ext cx="4362480" cy="4071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F:\о пиве картинки\znen_alko3.jpg"/>
          <p:cNvPicPr/>
          <p:nvPr/>
        </p:nvPicPr>
        <p:blipFill>
          <a:blip r:embed="rId2"/>
          <a:stretch/>
        </p:blipFill>
        <p:spPr>
          <a:xfrm>
            <a:off x="5000760" y="1928880"/>
            <a:ext cx="392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ЧЕ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1" name="Picture 2" descr="C:\Documents and Settings\Алла\Мои документы\620188_596395.jpg"/>
          <p:cNvPicPr/>
          <p:nvPr/>
        </p:nvPicPr>
        <p:blipFill>
          <a:blip r:embed="rId1"/>
          <a:stretch/>
        </p:blipFill>
        <p:spPr>
          <a:xfrm>
            <a:off x="571680" y="1857240"/>
            <a:ext cx="5072040" cy="4572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5643720" y="1928880"/>
            <a:ext cx="3211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дорового челове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5869080" y="4929120"/>
            <a:ext cx="308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лкогол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Documents and Settings\Алла\Мои документы\106487-schimpanse-deluxe-kostuem-affe-ape-monkey-chimp-chimpanzee-deluxe-costume.jpeg"/>
          <p:cNvPicPr/>
          <p:nvPr/>
        </p:nvPicPr>
        <p:blipFill>
          <a:blip r:embed="rId1"/>
          <a:stretch/>
        </p:blipFill>
        <p:spPr>
          <a:xfrm>
            <a:off x="3357720" y="0"/>
            <a:ext cx="557208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C:\Documents and Settings\Алла\Мои документы\1133362694_anub_ru_4.jpg"/>
          <p:cNvPicPr/>
          <p:nvPr/>
        </p:nvPicPr>
        <p:blipFill>
          <a:blip r:embed="rId2"/>
          <a:stretch/>
        </p:blipFill>
        <p:spPr>
          <a:xfrm>
            <a:off x="5214960" y="3071880"/>
            <a:ext cx="2071800" cy="27288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2928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ловек  -с пивом –ходящий! Много пьёт пив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овая ступень эволюци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3851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Пиво вызывает спектр глазных заболева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8" name="Picture 2" descr="F:\о пиве картинки\why_we_love_beer_11.jpg"/>
          <p:cNvPicPr/>
          <p:nvPr/>
        </p:nvPicPr>
        <p:blipFill>
          <a:blip r:embed="rId1"/>
          <a:stretch/>
        </p:blipFill>
        <p:spPr>
          <a:xfrm>
            <a:off x="857160" y="214200"/>
            <a:ext cx="7286760" cy="1928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Documents and Settings\Алла\Мои документы\катаракта.jpeg"/>
          <p:cNvPicPr/>
          <p:nvPr/>
        </p:nvPicPr>
        <p:blipFill>
          <a:blip r:embed="rId2"/>
          <a:stretch/>
        </p:blipFill>
        <p:spPr>
          <a:xfrm>
            <a:off x="714240" y="3714840"/>
            <a:ext cx="3286440" cy="214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C:\Documents and Settings\Алла\Мои документы\image014.jpg"/>
          <p:cNvPicPr/>
          <p:nvPr/>
        </p:nvPicPr>
        <p:blipFill>
          <a:blip r:embed="rId3"/>
          <a:stretch/>
        </p:blipFill>
        <p:spPr>
          <a:xfrm>
            <a:off x="5572080" y="3429000"/>
            <a:ext cx="2743200" cy="27147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"/>
          <p:cNvSpPr/>
          <p:nvPr/>
        </p:nvSpPr>
        <p:spPr>
          <a:xfrm>
            <a:off x="785880" y="60721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тара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5643720" y="61437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кулопа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иво вредно влияет на гормоны.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У мужчин откладывается жир по женскому типу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74" name="Picture 2" descr="F:\о пиве картинки\beer_belly_12.jpg"/>
          <p:cNvPicPr/>
          <p:nvPr/>
        </p:nvPicPr>
        <p:blipFill>
          <a:blip r:embed="rId1"/>
          <a:stretch/>
        </p:blipFill>
        <p:spPr>
          <a:xfrm>
            <a:off x="142920" y="1571760"/>
            <a:ext cx="4643280" cy="4976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F:\о пиве картинки\beer_belly_24.jpg"/>
          <p:cNvPicPr/>
          <p:nvPr/>
        </p:nvPicPr>
        <p:blipFill>
          <a:blip r:embed="rId2"/>
          <a:stretch/>
        </p:blipFill>
        <p:spPr>
          <a:xfrm>
            <a:off x="4714920" y="1500120"/>
            <a:ext cx="4429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6526800" y="6071400"/>
            <a:ext cx="230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 рисунка: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юров А. Н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чник: </a:t>
            </a: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tvereza.inf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WordArt 6"/>
          <p:cNvSpPr txBox="1"/>
          <p:nvPr/>
        </p:nvSpPr>
        <p:spPr>
          <a:xfrm>
            <a:off x="2476440" y="2492280"/>
            <a:ext cx="41911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ив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алкого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78" name="Picture 4" descr="Самый лёгкий путь к наркомании"/>
          <p:cNvPicPr/>
          <p:nvPr/>
        </p:nvPicPr>
        <p:blipFill>
          <a:blip r:embed="rId2"/>
          <a:stretch/>
        </p:blipFill>
        <p:spPr>
          <a:xfrm>
            <a:off x="500040" y="285840"/>
            <a:ext cx="7786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Алла\Мои документы\800x600_CTZ67M0jzNP6mO0F1nam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285840" y="243720"/>
            <a:ext cx="8643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Живи без пи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Человечество могло бы достигну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вероятных успехов, если бы оно было трезвы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И.Гёте (1749 - 183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 ядовитых соединениях в пиве не принято говорить, но…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2920" y="1905120"/>
            <a:ext cx="52149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иве обнаруже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водные конопл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довиты моноамины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пный яд – кафедр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C:\Documents and Settings\Алла\Мои документы\d2baa4b56ad1.jpg"/>
          <p:cNvPicPr/>
          <p:nvPr/>
        </p:nvPicPr>
        <p:blipFill>
          <a:blip r:embed="rId1"/>
          <a:stretch/>
        </p:blipFill>
        <p:spPr>
          <a:xfrm>
            <a:off x="4929120" y="1785960"/>
            <a:ext cx="400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Овал 4"/>
          <p:cNvSpPr/>
          <p:nvPr/>
        </p:nvSpPr>
        <p:spPr>
          <a:xfrm>
            <a:off x="2643120" y="2714760"/>
            <a:ext cx="3786120" cy="11998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иво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Овал 5"/>
          <p:cNvSpPr/>
          <p:nvPr/>
        </p:nvSpPr>
        <p:spPr>
          <a:xfrm>
            <a:off x="5072040" y="714240"/>
            <a:ext cx="3786120" cy="148608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ано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фи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Овал 6"/>
          <p:cNvSpPr/>
          <p:nvPr/>
        </p:nvSpPr>
        <p:spPr>
          <a:xfrm>
            <a:off x="0" y="785880"/>
            <a:ext cx="4429080" cy="142884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0" y="4714920"/>
            <a:ext cx="3929040" cy="157176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вушные мас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Овал 8"/>
          <p:cNvSpPr/>
          <p:nvPr/>
        </p:nvSpPr>
        <p:spPr>
          <a:xfrm>
            <a:off x="4071960" y="4643280"/>
            <a:ext cx="5072040" cy="2214720"/>
          </a:xfrm>
          <a:prstGeom prst="ellips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Выгнутая вправо стрелка 10"/>
          <p:cNvSpPr/>
          <p:nvPr/>
        </p:nvSpPr>
        <p:spPr>
          <a:xfrm>
            <a:off x="6429240" y="2214720"/>
            <a:ext cx="731880" cy="1358640"/>
          </a:xfrm>
          <a:custGeom>
            <a:avLst/>
            <a:gdLst>
              <a:gd name="textAreaLeft" fmla="*/ 97920 w 731880"/>
              <a:gd name="textAreaRight" fmla="*/ 633960 w 731880"/>
              <a:gd name="textAreaTop" fmla="*/ 271080 h 1358640"/>
              <a:gd name="textAreaBottom" fmla="*/ 996120 h 135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9" stAng="-5400000" swAng="5400000"/>
                <a:lnTo>
                  <a:pt x="21600" y="11527"/>
                </a:lnTo>
                <a:arcTo wR="21600" hR="8619" stAng="0" swAng="3425658"/>
                <a:lnTo>
                  <a:pt x="5400" y="21326"/>
                </a:lnTo>
                <a:lnTo>
                  <a:pt x="0" y="18692"/>
                </a:lnTo>
                <a:lnTo>
                  <a:pt x="5400" y="15510"/>
                </a:lnTo>
                <a:lnTo>
                  <a:pt x="5400" y="16964"/>
                </a:lnTo>
                <a:arcTo wR="21600" hR="8619" stAng="3425658" swAng="-3191246"/>
                <a:lnTo>
                  <a:pt x="21290" y="10073"/>
                </a:lnTo>
                <a:arcTo wR="21600" hR="8619" stAng="-234412" swAng="-5165588"/>
                <a:close/>
              </a:path>
              <a:path fill="darkenLess" w="21600" h="21600">
                <a:moveTo>
                  <a:pt x="0" y="0"/>
                </a:moveTo>
                <a:arcTo wR="21600" hR="8619" stAng="-5400000" swAng="5400000"/>
                <a:lnTo>
                  <a:pt x="21600" y="11527"/>
                </a:lnTo>
                <a:arcTo wR="21600" hR="8619" stAng="0" swAng="-234412"/>
                <a:lnTo>
                  <a:pt x="21290" y="10073"/>
                </a:lnTo>
                <a:arcTo wR="21600" hR="8619" stAng="-234412" swAng="-5165588"/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Выгнутая влево стрелка 11"/>
          <p:cNvSpPr/>
          <p:nvPr/>
        </p:nvSpPr>
        <p:spPr>
          <a:xfrm>
            <a:off x="1928880" y="221472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Выгнутая вправо стрелка 12"/>
          <p:cNvSpPr/>
          <p:nvPr/>
        </p:nvSpPr>
        <p:spPr>
          <a:xfrm rot="11097600">
            <a:off x="2336040" y="3530160"/>
            <a:ext cx="731880" cy="1222560"/>
          </a:xfrm>
          <a:custGeom>
            <a:avLst/>
            <a:gdLst>
              <a:gd name="textAreaLeft" fmla="*/ 97920 w 731880"/>
              <a:gd name="textAreaRight" fmla="*/ 633960 w 731880"/>
              <a:gd name="textAreaTop" fmla="*/ 236880 h 1222560"/>
              <a:gd name="textAreaBottom" fmla="*/ 89424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76" stAng="-5400000" swAng="5400000"/>
                <a:lnTo>
                  <a:pt x="21600" y="11608"/>
                </a:lnTo>
                <a:arcTo wR="21600" hR="8376" stAng="0" swAng="3380464"/>
                <a:lnTo>
                  <a:pt x="5400" y="21334"/>
                </a:lnTo>
                <a:lnTo>
                  <a:pt x="0" y="18367"/>
                </a:lnTo>
                <a:lnTo>
                  <a:pt x="5400" y="14868"/>
                </a:lnTo>
                <a:lnTo>
                  <a:pt x="5400" y="16485"/>
                </a:lnTo>
                <a:arcTo wR="21600" hR="8376" stAng="3380464" swAng="-3118850"/>
                <a:lnTo>
                  <a:pt x="21194" y="9992"/>
                </a:lnTo>
                <a:arcTo wR="21600" hR="8376" stAng="-261613" swAng="-5138387"/>
                <a:close/>
              </a:path>
              <a:path fill="darkenLess" w="21600" h="21600">
                <a:moveTo>
                  <a:pt x="0" y="0"/>
                </a:moveTo>
                <a:arcTo wR="21600" hR="8376" stAng="-5400000" swAng="5400000"/>
                <a:lnTo>
                  <a:pt x="21600" y="11608"/>
                </a:lnTo>
                <a:arcTo wR="21600" hR="8376" stAng="0" swAng="-261613"/>
                <a:lnTo>
                  <a:pt x="21194" y="9992"/>
                </a:lnTo>
                <a:arcTo wR="21600" hR="8376" stAng="-261613" swAng="-5138387"/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Выгнутая вниз стрелка 13"/>
          <p:cNvSpPr/>
          <p:nvPr/>
        </p:nvSpPr>
        <p:spPr>
          <a:xfrm rot="16385400">
            <a:off x="6004440" y="3690000"/>
            <a:ext cx="1216080" cy="731880"/>
          </a:xfrm>
          <a:custGeom>
            <a:avLst/>
            <a:gdLst>
              <a:gd name="textAreaLeft" fmla="*/ 235440 w 1216080"/>
              <a:gd name="textAreaRight" fmla="*/ 889200 w 121608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63" hR="21600" stAng="10800000" swAng="-5400000"/>
                <a:lnTo>
                  <a:pt x="11613" y="21600"/>
                </a:lnTo>
                <a:arcTo wR="8363" hR="21600" stAng="5400000" swAng="-3377999"/>
                <a:lnTo>
                  <a:pt x="21334" y="5400"/>
                </a:lnTo>
                <a:lnTo>
                  <a:pt x="18350" y="0"/>
                </a:lnTo>
                <a:lnTo>
                  <a:pt x="14834" y="5400"/>
                </a:lnTo>
                <a:lnTo>
                  <a:pt x="16459" y="5400"/>
                </a:lnTo>
                <a:arcTo wR="8363" hR="21600" stAng="2022001" swAng="3114862"/>
                <a:lnTo>
                  <a:pt x="9988" y="21188"/>
                </a:lnTo>
                <a:arcTo wR="8363" hR="21600" stAng="5663137" swAng="5136863"/>
                <a:close/>
              </a:path>
              <a:path fill="darkenLess" w="21600" h="21600">
                <a:moveTo>
                  <a:pt x="0" y="0"/>
                </a:moveTo>
                <a:arcTo wR="8363" hR="21600" stAng="10800000" swAng="-5400000"/>
                <a:lnTo>
                  <a:pt x="11613" y="21600"/>
                </a:lnTo>
                <a:arcTo wR="8363" hR="21600" stAng="5400000" swAng="263137"/>
                <a:lnTo>
                  <a:pt x="9988" y="21188"/>
                </a:lnTo>
                <a:arcTo wR="8363" hR="21600" stAng="5663137" swAng="5136863"/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14"/>
          <p:cNvSpPr/>
          <p:nvPr/>
        </p:nvSpPr>
        <p:spPr>
          <a:xfrm>
            <a:off x="4714920" y="4714920"/>
            <a:ext cx="4214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нцероген N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трозодиметил      ами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17"/>
          <p:cNvSpPr/>
          <p:nvPr/>
        </p:nvSpPr>
        <p:spPr>
          <a:xfrm>
            <a:off x="2643120" y="0"/>
            <a:ext cx="48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став пи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785880" y="10717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ьдеги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C:\Documents and Settings\Алла\Мои документы\4300505774bb.jpg"/>
          <p:cNvPicPr/>
          <p:nvPr/>
        </p:nvPicPr>
        <p:blipFill>
          <a:blip r:embed="rId1"/>
          <a:stretch/>
        </p:blipFill>
        <p:spPr>
          <a:xfrm>
            <a:off x="250920" y="2571840"/>
            <a:ext cx="2428920" cy="42861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C:\Documents and Settings\Алла\Мои документы\5312.jpg"/>
          <p:cNvPicPr/>
          <p:nvPr/>
        </p:nvPicPr>
        <p:blipFill>
          <a:blip r:embed="rId2"/>
          <a:stretch/>
        </p:blipFill>
        <p:spPr>
          <a:xfrm>
            <a:off x="0" y="0"/>
            <a:ext cx="3857760" cy="378612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3"/>
          <p:cNvSpPr/>
          <p:nvPr/>
        </p:nvSpPr>
        <p:spPr>
          <a:xfrm>
            <a:off x="3995640" y="620640"/>
            <a:ext cx="51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 бутылка пива эквивалентна 50-100 граммам водки. Выпивая 5-6 бутылок пива, можно получить дозу этилового спирта, равную бутылке водки.  "В настоящее время в стране рост потребления пива идет в основном за счет детей, подростков и женщин детородного возраста. Согласно статистике, в России пьют 11,5 тысячи детей, 161 ребенку в возрасте от 10 до 14 лет поставлен диагноз "алкоголизм"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42560" y="-360"/>
            <a:ext cx="9001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есно отметить, что в Европе пить пиво стали меньше, но производство по-прежнему остается стабильным, а в Германии и Бельгии даже растет. Куда же девается излишнее пиво? Лишнее пиво сливают в «слаборазвитые страны», типа России. Но мало кто подозревает, что помимо этой пивной экспансии Запада, более 80% всего выпускаемого в России пива тоже контролируется иностранным капита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во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ВСКОЕ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РЫЙ МЕЛЬНИК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урц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ЛСТЯК-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ельг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       БОЧКАРЕВ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ланд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ЗОЛОТАЯ БОЧКА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жна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ЛЛЕР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мери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        ХОЛСТЕН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ФЕС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урц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     Балтика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кандинав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то все не наше отечественное пи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C:\Documents and Settings\Алла\Мои документы\podrostok_alko.jpg"/>
          <p:cNvPicPr/>
          <p:nvPr/>
        </p:nvPicPr>
        <p:blipFill>
          <a:blip r:embed="rId1"/>
          <a:stretch/>
        </p:blipFill>
        <p:spPr>
          <a:xfrm>
            <a:off x="4071960" y="300024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C:\Documents and Settings\Алла\Мои документы\1305285294_2011-05-13_135728.png"/>
          <p:cNvPicPr/>
          <p:nvPr/>
        </p:nvPicPr>
        <p:blipFill>
          <a:blip r:embed="rId2"/>
          <a:stretch/>
        </p:blipFill>
        <p:spPr>
          <a:xfrm>
            <a:off x="0" y="1643040"/>
            <a:ext cx="4181400" cy="428616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4"/>
          <p:cNvSpPr/>
          <p:nvPr/>
        </p:nvSpPr>
        <p:spPr>
          <a:xfrm>
            <a:off x="0" y="21420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кого рассчитывают рекламодатели пива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2" descr="C:\Documents and Settings\Алла\Мои документы\ребёнок с ивом.jpeg"/>
          <p:cNvPicPr/>
          <p:nvPr/>
        </p:nvPicPr>
        <p:blipFill>
          <a:blip r:embed="rId3"/>
          <a:stretch/>
        </p:blipFill>
        <p:spPr>
          <a:xfrm>
            <a:off x="5429160" y="857160"/>
            <a:ext cx="3000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3" name="Picture 5" descr="beer_10102008_3"/>
          <p:cNvPicPr/>
          <p:nvPr/>
        </p:nvPicPr>
        <p:blipFill>
          <a:blip r:embed="rId1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3"/>
          <p:cNvSpPr/>
          <p:nvPr/>
        </p:nvSpPr>
        <p:spPr>
          <a:xfrm>
            <a:off x="428760" y="21420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 скорости привыкания пивной алкоголизм развивается в 3-4 раза быстрее водочного и лечить его нелег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C:\Documents and Settings\Алла\Мои документы\547675.jpg"/>
          <p:cNvPicPr/>
          <p:nvPr/>
        </p:nvPicPr>
        <p:blipFill>
          <a:blip r:embed="rId1"/>
          <a:stretch/>
        </p:blipFill>
        <p:spPr>
          <a:xfrm>
            <a:off x="214200" y="2428920"/>
            <a:ext cx="3905280" cy="424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F:\о пиве картинки\девки.jpeg"/>
          <p:cNvPicPr/>
          <p:nvPr/>
        </p:nvPicPr>
        <p:blipFill>
          <a:blip r:embed="rId2"/>
          <a:stretch/>
        </p:blipFill>
        <p:spPr>
          <a:xfrm>
            <a:off x="4572000" y="2571840"/>
            <a:ext cx="4286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13840" y="-360"/>
            <a:ext cx="4357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Еще хуже ситуация с энергетическими коктейлями. Здесь, к такому же количеству спиртного, добавляется кофеин в размере четырех чашек крепкого кофе на банк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3" descr="C:\Documents and Settings\Алла\Мои документы\135411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714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C:\Documents and Settings\Алла\Мои документы\девки.jpeg"/>
          <p:cNvPicPr/>
          <p:nvPr/>
        </p:nvPicPr>
        <p:blipFill>
          <a:blip r:embed="rId2"/>
          <a:stretch/>
        </p:blipFill>
        <p:spPr>
          <a:xfrm>
            <a:off x="4643280" y="3714840"/>
            <a:ext cx="4500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Алла\Мои документы\images_162741.jpg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1"/>
          <p:cNvSpPr/>
          <p:nvPr/>
        </p:nvSpPr>
        <p:spPr>
          <a:xfrm>
            <a:off x="357120" y="21420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гуар не такой уж милый и безвредный «зверь» как его представляет нам рекла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642960" y="1571760"/>
            <a:ext cx="77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став «Ягуара» входят 4 весьма вредных компонен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вый из них - консервант Е21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714240" y="310500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опасный компонент - краситель E-129 (Красный очаровательный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785880" y="414324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тий компонент Ягуара  -- стоит упомянуть, это этиловый спир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857160" y="521496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твертое опасное сочетание химических веществ в «Ягуаре» – это сочетание кофеина и алкого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Documents and Settings\Алла\Мои документы\imgpreview.jpeg"/>
          <p:cNvPicPr/>
          <p:nvPr/>
        </p:nvPicPr>
        <p:blipFill>
          <a:blip r:embed="rId1"/>
          <a:stretch/>
        </p:blipFill>
        <p:spPr>
          <a:xfrm>
            <a:off x="214200" y="214200"/>
            <a:ext cx="3286080" cy="2928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C:\Documents and Settings\Алла\Мои документы\5361.jpg"/>
          <p:cNvPicPr/>
          <p:nvPr/>
        </p:nvPicPr>
        <p:blipFill>
          <a:blip r:embed="rId2"/>
          <a:stretch/>
        </p:blipFill>
        <p:spPr>
          <a:xfrm>
            <a:off x="7048440" y="1214280"/>
            <a:ext cx="2095560" cy="4953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C:\Documents and Settings\Алла\Мои документы\девчёнки.jpeg"/>
          <p:cNvPicPr/>
          <p:nvPr/>
        </p:nvPicPr>
        <p:blipFill>
          <a:blip r:embed="rId3"/>
          <a:stretch/>
        </p:blipFill>
        <p:spPr>
          <a:xfrm>
            <a:off x="3571920" y="4000680"/>
            <a:ext cx="3286080" cy="285732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8"/>
          <p:cNvSpPr/>
          <p:nvPr/>
        </p:nvSpPr>
        <p:spPr>
          <a:xfrm>
            <a:off x="3500280" y="1571760"/>
            <a:ext cx="37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ы ещё не до конца выжил из ума, но пьёшь коктейль Ягуар, задумайся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9"/>
          <p:cNvSpPr/>
          <p:nvPr/>
        </p:nvSpPr>
        <p:spPr>
          <a:xfrm>
            <a:off x="0" y="3357720"/>
            <a:ext cx="4071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 НЕ хочешь в самом расцвете сил быть больным и никчемным? Тогда прекрати пить коктейль Ягуар (jaguar), или как его ещё называют – Я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3714840" y="0"/>
            <a:ext cx="521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ий возраст потребителей данного напитка: 12-16 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Алла\Мои документы\funny-summer18.jpg"/>
          <p:cNvPicPr/>
          <p:nvPr/>
        </p:nvPicPr>
        <p:blipFill>
          <a:blip r:embed="rId1"/>
          <a:stretch/>
        </p:blipFill>
        <p:spPr>
          <a:xfrm>
            <a:off x="642960" y="1857240"/>
            <a:ext cx="8001000" cy="4786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Сегодня пьют все , от мала до велик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C:\Documents and Settings\Алла\Мои документы\fa.jpg"/>
          <p:cNvPicPr/>
          <p:nvPr/>
        </p:nvPicPr>
        <p:blipFill>
          <a:blip r:embed="rId1"/>
          <a:stretch/>
        </p:blipFill>
        <p:spPr>
          <a:xfrm>
            <a:off x="0" y="214200"/>
            <a:ext cx="5572080" cy="3500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C:\Documents and Settings\Алла\Мои документы\пиво\small_6 filvbhg 110.jpg"/>
          <p:cNvPicPr/>
          <p:nvPr/>
        </p:nvPicPr>
        <p:blipFill>
          <a:blip r:embed="rId2"/>
          <a:stretch/>
        </p:blipFill>
        <p:spPr>
          <a:xfrm>
            <a:off x="5500800" y="3929040"/>
            <a:ext cx="3429000" cy="26431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35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Последнее пожелание «Иванам»..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5357880" y="0"/>
            <a:ext cx="4000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славно гуляли в республике вашей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доллары черпали полною чашей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 вы тут пили, мы вас разорил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оды продали, богатыми стали.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4"/>
          <p:cNvSpPr/>
          <p:nvPr/>
        </p:nvSpPr>
        <p:spPr>
          <a:xfrm>
            <a:off x="0" y="3714840"/>
            <a:ext cx="6429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вам всем «здоровья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живите богато»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мы отправляем ресурсы на запад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чтобы ни крошки у вас не остало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чтобы здоровых детей не рождалось.</a:t>
            </a:r>
            <a:br>
              <a:rPr sz="24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Алла\Мои документы\179760_1.jpg"/>
          <p:cNvPicPr/>
          <p:nvPr/>
        </p:nvPicPr>
        <p:blipFill>
          <a:blip r:embed="rId1"/>
          <a:stretch/>
        </p:blipFill>
        <p:spPr>
          <a:xfrm>
            <a:off x="6148440" y="3071880"/>
            <a:ext cx="2995560" cy="3071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C:\Documents and Settings\Алла\Мои документы\парень.jpeg"/>
          <p:cNvPicPr/>
          <p:nvPr/>
        </p:nvPicPr>
        <p:blipFill>
          <a:blip r:embed="rId2"/>
          <a:stretch/>
        </p:blipFill>
        <p:spPr>
          <a:xfrm>
            <a:off x="5357880" y="0"/>
            <a:ext cx="3071880" cy="2143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C:\Documents and Settings\Алла\Мои документы\пиво\Octoberfest_05.jpg"/>
          <p:cNvPicPr/>
          <p:nvPr/>
        </p:nvPicPr>
        <p:blipFill>
          <a:blip r:embed="rId3"/>
          <a:stretch/>
        </p:blipFill>
        <p:spPr>
          <a:xfrm>
            <a:off x="285840" y="1357200"/>
            <a:ext cx="5643360" cy="400068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3"/>
          <p:cNvSpPr/>
          <p:nvPr/>
        </p:nvSpPr>
        <p:spPr>
          <a:xfrm>
            <a:off x="428760" y="0"/>
            <a:ext cx="8715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 ваши ресурсы дадим мы вам шприцев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спирта цистерны, до смерти упиться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ркотики в вены вливайте «богато»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аляйтесь, как свиньи, вблизи вашей хаты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 все постепенно умрете бомжами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долю такую вы выбрали сами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ваша земля, нам нужна без народа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ы вас похороним в любую погод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37720" y="2857680"/>
            <a:ext cx="800748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дума приняла 7 июля 2011 года  закон, приравнивающий пиво к алкоголю, ставший известным как "антиалкогольный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C:\Documents and Settings\Алла\Мои документы\Duma.gif"/>
          <p:cNvPicPr/>
          <p:nvPr/>
        </p:nvPicPr>
        <p:blipFill>
          <a:blip r:embed="rId1"/>
          <a:stretch/>
        </p:blipFill>
        <p:spPr>
          <a:xfrm>
            <a:off x="857160" y="214200"/>
            <a:ext cx="7500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C:\Documents and Settings\Алла\Мои документы\pic001.jpg"/>
          <p:cNvPicPr/>
          <p:nvPr/>
        </p:nvPicPr>
        <p:blipFill>
          <a:blip r:embed="rId1"/>
          <a:stretch/>
        </p:blipFill>
        <p:spPr>
          <a:xfrm>
            <a:off x="2143080" y="214200"/>
            <a:ext cx="4714920" cy="333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571680" y="3642840"/>
            <a:ext cx="8007120" cy="27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новому закону алкоголем предлагается считать напиток с содержанием спирта более 0,5%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Documents and Settings\Алла\Мои документы\beer_2.jpg"/>
          <p:cNvPicPr/>
          <p:nvPr/>
        </p:nvPicPr>
        <p:blipFill>
          <a:blip r:embed="rId1"/>
          <a:stretch/>
        </p:blipFill>
        <p:spPr>
          <a:xfrm>
            <a:off x="1643040" y="0"/>
            <a:ext cx="7500960" cy="58579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13840" y="499680"/>
            <a:ext cx="33577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же новый закон запрещает распитие спиртных напитков во дворах, подъездах, на лестничных площадках, в лифтах жилых домов, на детских площадках, в зонах рекреационного назначения. В общем, пить теперь запрещается везде, за исключением мест общественного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C:\Documents and Settings\Алла\Мои документы\caebfdc624ee.jpg"/>
          <p:cNvPicPr/>
          <p:nvPr/>
        </p:nvPicPr>
        <p:blipFill>
          <a:blip r:embed="rId1"/>
          <a:stretch/>
        </p:blipFill>
        <p:spPr>
          <a:xfrm>
            <a:off x="357120" y="1143000"/>
            <a:ext cx="8535960" cy="5715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новое поколение жителей Земл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выступаем против алкоголя, против наркотиков, против табакокурени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за здоровый образ жизн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" descr="C:\Documents and Settings\Алла\Мои документы\поростки и природа\3274185-portrait-of-young-people-running-in-water-and-laughing-holding-each-other-by-hands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4"/>
          <p:cNvSpPr/>
          <p:nvPr/>
        </p:nvSpPr>
        <p:spPr>
          <a:xfrm>
            <a:off x="285840" y="21420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 смеются люди,      Они, конечно, смог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ло победит на свете,    Добру открыть доро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C:\Documents and Settings\Алла\Мои документы\88386453c0ba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ч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льм о пивном и подростковом алкоголизме "Чижик-пыжик, где ты был?.." - источник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theme.orthodoxy.ru/pivo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928800" y="3500280"/>
            <a:ext cx="7215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отека Авария - Пей пиво -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p3share.ru/mp3/diskoteka_avariya-pey_pivo.html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храненная копия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4"/>
          <p:cNvSpPr/>
          <p:nvPr/>
        </p:nvSpPr>
        <p:spPr>
          <a:xfrm>
            <a:off x="857160" y="4429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usslav.ru/stat/podrostok_alkogolizm.html http://www.russlav.ru/stat/podrostok_alkogolizm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ч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85880" y="18572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ы подросткового алког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2286000" y="2428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usslav.ru/stat/podrostok_alkogolizm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4"/>
          <p:cNvSpPr/>
          <p:nvPr/>
        </p:nvSpPr>
        <p:spPr>
          <a:xfrm>
            <a:off x="446760" y="3071880"/>
            <a:ext cx="42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ЕД ПИВА И ПИВНОЙ АЛКОГОЛИЗМ   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5"/>
          <p:cNvSpPr/>
          <p:nvPr/>
        </p:nvSpPr>
        <p:spPr>
          <a:xfrm>
            <a:off x="4572000" y="3071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чник: http://theme.orthodoxy.ru/p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285840" y="357192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вная «в законе»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pivnaya.ru/news/609--l-r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293040" y="4357800"/>
            <a:ext cx="39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g.ru/2010/11/08/pivo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8"/>
          <p:cNvSpPr/>
          <p:nvPr/>
        </p:nvSpPr>
        <p:spPr>
          <a:xfrm>
            <a:off x="285840" y="4857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ptr-vlad.ru/2011/07/08/gosduma-prinyala-zakon-priravnivayuschiy-pivo-k-alkogolyu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10"/>
          <p:cNvSpPr/>
          <p:nvPr/>
        </p:nvSpPr>
        <p:spPr>
          <a:xfrm>
            <a:off x="35712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alcologia.ru/stati/vred-kokteylya-yaguar-jaguar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81120" y="533160"/>
            <a:ext cx="358164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b7"/>
                </a:solidFill>
                <a:latin typeface="Arial Black"/>
              </a:rPr>
              <a:t>Главный санитарный врач РФ Геннадий Онищенко:</a:t>
            </a:r>
            <a:br>
              <a:rPr sz="3100"/>
            </a:br>
            <a:br>
              <a:rPr sz="2800"/>
            </a:br>
            <a:endParaRPr b="1" lang="en-US" sz="31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1" name="Picture 4" descr="KSP_006541_00074_1m"/>
          <p:cNvPicPr/>
          <p:nvPr/>
        </p:nvPicPr>
        <p:blipFill>
          <a:blip r:embed="rId1"/>
          <a:stretch/>
        </p:blipFill>
        <p:spPr>
          <a:xfrm>
            <a:off x="0" y="0"/>
            <a:ext cx="4325760" cy="6477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4897440" y="2887560"/>
            <a:ext cx="4246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Не СПИД, не туберкулез погубят Россию, а </a:t>
            </a: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"/>
              </a:rPr>
              <a:t>пивной алкоголизм среди юного поколения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Алла\Мои документы\257d3b41258f13e5ff89c8cd1ae5762e1310921061_4.jpg"/>
          <p:cNvPicPr/>
          <p:nvPr/>
        </p:nvPicPr>
        <p:blipFill>
          <a:blip r:embed="rId1"/>
          <a:stretch/>
        </p:blipFill>
        <p:spPr>
          <a:xfrm>
            <a:off x="1928880" y="0"/>
            <a:ext cx="642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Documents and Settings\Алла\Мои документы\знаете .jpg"/>
          <p:cNvPicPr/>
          <p:nvPr/>
        </p:nvPicPr>
        <p:blipFill>
          <a:blip r:embed="rId1"/>
          <a:stretch/>
        </p:blipFill>
        <p:spPr>
          <a:xfrm>
            <a:off x="857160" y="2157480"/>
            <a:ext cx="6307200" cy="4700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редное воздействие пива на сердце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амое разрушительное и вредное последствие неумеренного потребления пива - больное сердце или, как назвал его немецкий врач профессор Болингер, баварское "пивное" или "бычье" сердце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F:\пиво\1259338020_reklama-no-smoking-001-neky.ru.jpg"/>
          <p:cNvPicPr/>
          <p:nvPr/>
        </p:nvPicPr>
        <p:blipFill>
          <a:blip r:embed="rId1"/>
          <a:stretch/>
        </p:blipFill>
        <p:spPr>
          <a:xfrm>
            <a:off x="642960" y="0"/>
            <a:ext cx="80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3851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зг нормального человека и алкогол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" descr="C:\Documents and Settings\Алла\Мои документы\mozg.jpg"/>
          <p:cNvPicPr/>
          <p:nvPr/>
        </p:nvPicPr>
        <p:blipFill>
          <a:blip r:embed="rId1"/>
          <a:stretch/>
        </p:blipFill>
        <p:spPr>
          <a:xfrm>
            <a:off x="285840" y="1214280"/>
            <a:ext cx="8429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6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первыми запустили спутник в космос, первыми отправили туда человека. Американцы, глядя на нас, только охали и ахали. Сейчас, когда наши школьники и студенты на переменах курят  сигареты, а по вечерам не расстаются с пивом, их уровень интеллекта (по мировым показателям) где-то на 100-ом мес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F:\о пиве картинки\02 (13).jpg"/>
          <p:cNvPicPr/>
          <p:nvPr/>
        </p:nvPicPr>
        <p:blipFill>
          <a:blip r:embed="rId1"/>
          <a:stretch/>
        </p:blipFill>
        <p:spPr>
          <a:xfrm>
            <a:off x="28584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Documents and Settings\Алла\Мои документы\406782628.jpg"/>
          <p:cNvPicPr/>
          <p:nvPr/>
        </p:nvPicPr>
        <p:blipFill>
          <a:blip r:embed="rId2"/>
          <a:stretch/>
        </p:blipFill>
        <p:spPr>
          <a:xfrm>
            <a:off x="4071960" y="4214880"/>
            <a:ext cx="4734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, Рытикова Татьяна</dc:creator>
  <dc:description>Скачано с сайта www.school31novochek.narod.ru ©</dc:description>
  <cp:keywords>пиво реклама алкоголизм ПАВ</cp:keywords>
  <dc:language>en-US</dc:language>
  <cp:lastModifiedBy>USER</cp:lastModifiedBy>
  <dcterms:modified xsi:type="dcterms:W3CDTF">2015-01-26T17:20:18Z</dcterms:modified>
  <cp:revision>202</cp:revision>
  <dc:subject>защита проекта</dc:subject>
  <dc:title>Пивной алкоголизм</dc:title>
</cp:coreProperties>
</file>