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BB4-135E-4C61-987B-3120A98B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C9C-ED2C-44F6-A79E-B16612D1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2503F-2AEA-4AC2-97BD-11EED45D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15261-2EFB-4702-B06E-A39D5BCC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3ADED-39FF-4C95-98BF-93C19887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AAD7B-7631-4A6F-8E39-6B2DA798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7B7FF-A492-4D23-8196-53EC5F73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07F99-F88A-40F4-B3EC-80E08EAB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47DE6-1416-4414-A58A-4227EF42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2EAA5-143B-4E11-9F9C-23B9DC37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368E1-8ED4-4890-BB0D-A3EAF284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C1B15-CF1F-4F9C-A822-1CD0080D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266A-D515-4514-865D-DCA0C8FC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1B28C-E841-425B-8E81-943798D9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36281-8032-41A9-A9D0-AD681EB1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935D7-003C-4272-9E24-ACF5C5E4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8BCBE-2409-4EB1-8934-5B9AE36B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7678F-5303-48CF-B4CA-3D55F537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0742E-08D0-4DD8-980F-5939894C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BA3DA-4655-4B9E-945D-0664E211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4B2A8-724F-41F0-9193-33A84DD0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8614B-5CB0-471D-9BEB-994EF7BB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38CF5-3BC3-4562-8393-32087447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783-3D53-4E7D-886D-F844B509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CA472-2886-4376-BD89-464913AF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5641C-C0DE-4DCD-9F4C-7F106C12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0C591-07EE-46D5-B854-5E436701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7D87A-DFB6-43C3-900A-FBF5D099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AB006-D5A7-43EE-8737-DD6F1899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8B1FA-2A67-4B79-BC29-54E0D377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8F726-CEAE-48B6-B1CB-889BCEAF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0CAA0-1D86-424B-81C1-484BF9D7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36874-E09C-4C08-9672-AEBA712F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F2D30-3E2D-4255-86F4-A34E6969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65E3-9CE1-4F3A-881F-63265027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D5DD4-1D47-412E-9D6A-C7E7EFAE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7BFD4-04DD-474A-B14C-4431F5A3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23579-66FB-484B-ADAB-8F6F4161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D08DB-2156-47C9-A9A7-43AA1151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2CD15-2A4C-4D58-A750-4A6C9665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696CE-F8D7-4AB2-921D-167C5783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2A85E-7C8C-459C-89D4-4E31A8D8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A1335-F086-477E-95FE-910B920E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DC004-2CBB-406E-ACA0-A7086A3F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AB957-B204-4DEF-9B36-8DEB8BB8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D601-E986-4728-924C-227C0245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75A03-31E2-4BB3-AFB4-9535798A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6A662-D365-404C-A5D6-0C8168EC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62ED1-A2CB-4637-B6AA-D0AD7C0A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519CA-10B2-4DB9-A0C1-CEABD70E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B9C97-9DEE-44DB-887E-CBB05640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BE7E0-9671-4574-9553-6519332F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30954-898F-4733-BF09-001E3777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C0C24-1586-49BC-A38F-58608E2E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1B9A2-4730-4177-9CFE-ED9B85D9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998BD-C6EE-4FA6-884D-42187495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0C8C-8F67-4C3B-9A63-A7A9EE62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7B704-1690-4BF2-8335-BE95F63D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30AE2-3F43-4AAC-B537-757A1557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A553F-C15E-4FB8-A7AA-BCF37AF3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19E89-DCAF-4C10-88BC-6CBA2A4D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7D6F7A-6684-4FAC-ACBC-B5A2D6D3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F5015-7D25-4718-85A4-F6BB8E24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F620C8-243B-4ADD-A5E7-B7C98989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75D1B6-0748-4D82-AC88-B0C61A60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7CB0AB-0921-47DF-ADBA-B4637F67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FE6A6B-6EE1-4C17-883F-70C9997A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AD65-3F0C-412E-81DC-2EFF56DC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B4228-4303-45A7-A4BB-28AAAF6C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9B3E9C-D27A-4443-845D-F45D35AA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575904-3E3D-49C2-ADC1-3E4B9174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42282-6B41-459F-B9AC-0925EF27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9BBCB1-E1EE-4CDE-977D-5E2D2831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42F4EB-73E8-497F-B93F-7A81F73E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D0C78-D2EE-45F1-8BFD-32A7B99D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938328-831F-4BD5-803D-6AF3002E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71A25E-B62D-4E84-856C-9D079903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C8C80-D8B6-43DF-9AA0-97C0B6D8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DB1E-BC8A-4C98-8433-12067423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0893A3-B039-4751-B898-A702F3AD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DE37A0-CBC9-4B95-8351-FBCED051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C4A5DE-342A-4D88-8F6E-16AD16DA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4DE6E5-08FC-41D2-A7AB-86366B94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9721E2-D3F1-40C8-A807-19E51CD6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622BDF-F5C3-498D-B7D3-8B449AA1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4B624-C3F0-4195-A640-96797FB1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91534B-F373-4E19-B6C6-A71993BC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F04D87-960E-4FA1-879D-F84D972B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E3D072-D207-446C-8F8E-B46A65F0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5BAA-885D-4F76-BA58-2AC5A650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7B20FD-CAE8-458F-AAB4-33B97E43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56B3B7-FC43-45D5-AE27-FBA4F694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9AB20E-7E0D-4A15-B2A2-477A270E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CDFB1D-C80C-44B6-85F0-4FC60D48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516FE4-C7BD-4EB4-A9FD-1BDEB233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DA20E4-B9FD-4502-BD20-1D2C8960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3FA259-0702-4AB5-BA49-D18B6E9A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B85DAC-343A-4BE4-B909-FB07007B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6C9F76-198E-4A04-BE82-3BA22DC8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E43D1B-3668-4BA1-BF29-10932AE3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D0DE-F29C-473B-8950-69D449C2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C81780-92C6-4FFB-BB92-D330208D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CE89FD-DC18-4F96-854F-BD69D766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16387C-1185-4886-8278-D7A91C87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FA2735-5BFB-41E2-AE5A-51A10807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2F020-FCF3-4A83-8E94-690B7134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F212E8-1C55-42EE-ADF9-8D0212F5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157B64-419B-49BF-9171-141491B3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EE9683-918E-4617-80E8-CBD402F3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A76D75-C4B2-486C-97CA-148889F3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3E0E26-BB51-4976-9D6F-76F21976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870-84C6-4489-8553-C4A9BF10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8F77-8594-4851-BD93-CD818B8B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5120BF-3AD1-44B7-8BC9-2D177B8D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83971C-1BF2-4B23-9C3D-6A7F8FCE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65FBB6-62FA-4D3F-82FD-043A99C6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B7BE54-DB8E-4AF2-836C-218B78F3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DF25AF-7988-4076-A3C8-86F52317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A64EB3-C7F2-4B29-956E-1BC5C161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93E6BD-64F2-4426-BD10-E2316EEA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8CF2E3-2E59-4561-8832-BFB5BED5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4318C4-FABE-4500-9D28-151ED9C0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C214B3-790F-42DA-A4C7-D2DCB810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094F-AAB4-4A17-AB2D-88E10E15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B87FA7-4340-44AD-B924-A5E1B2EE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A92A88-81D1-4D9B-89F6-10A58B8E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5318DA-F155-4417-8DEC-DE656743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08ACEC-47BD-4F74-B4CF-446DC551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C007E1-3234-41C7-A876-EBB3E68C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A6A668-1A8E-439B-81F5-E50849B6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268BE5-3F06-4484-95E7-7A118900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490A4B-0DF4-449B-AAF7-6E75AC45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B620B7-3F17-4DB1-94D9-2DCDCE3D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1A0614-0E1B-4C55-BEAB-9F88D197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7748-0617-4D73-B78E-F17B600D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5AD7C0-FB67-4994-8D4A-56CE150F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675BF5-3FC5-48CF-916F-969BD169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118152-177D-47B5-99B1-A49FAB5B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556260-C73C-41D3-89F9-0300094C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CFB233-D1DB-4F79-A7F4-E6665470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28349B-190D-46B8-994A-50981C1B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04FD74-B06D-4F28-809D-B06E393F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EA3401-BDA6-46EB-8922-A168F95B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11F212-30B5-4A34-BA0F-CE0CBACA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0BAD8C-F0E8-4018-B13B-C37B9F5C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3DB1-37F2-41D7-AC72-918AD768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8D744C-9F56-4617-BF67-C395850F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9A3B6D-7A79-4A83-9311-4B1E59CF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F13A48-E678-4B41-8986-FDDE5DC6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28F102-81F4-414B-9646-B17BA339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58B419-CEC2-4B48-BD30-35CC5C7F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D19D34-E077-4288-9E0D-57E32909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707708-91B4-496D-8AD0-389AF8FC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FCEE69-488D-424B-9A52-2BA9FD4A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723B29-D840-46A3-823A-B9C03BCF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E23A1E-594D-41C3-A9E0-672FDE15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7373-64A1-4A22-B2A8-3289864C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A691C9-483A-44BB-8C44-5044F06D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366920-3CFD-468C-A3FE-FCAA77D1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BA9722-BD66-4691-AA9B-73B146F0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9AD508-F9F4-46DD-9E50-4835E1BB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98BE39-BA85-4038-A6C4-51E0AE9B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604549-828B-4880-9E26-60CF61B6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9F3043-636F-42D4-BEC6-F7230F6E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071647-33A9-470E-BDF8-4322B8B1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2D6BEE-6B51-4A05-90D9-5CD12B4A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815755-CC93-4D3E-BFB7-97580BEB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0E6E6-074D-466A-8C86-70CD2932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CFE869-7D1F-4B2E-A658-3544F1E7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226E72-1017-44C4-8BF2-2177B1AE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71EB6F-1C97-4FEB-AEC6-799952CD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08F38B-C233-4D88-BEE6-DD5771AC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5594D4-0750-4550-810E-E461DBED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268195-C7D8-428D-94A7-7D384823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8F49F9-91F4-4641-869E-76D7F66A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4FC431-841F-45F2-934C-EF5CBCB9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DE876A-B756-471A-8E36-C73DB6E0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C003A3-E30F-4BB2-82E6-D747C35F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F23AD-5590-4A88-9F2F-B1DCEFD4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FBB3EA-3179-40D0-9905-E5D22665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4E4E43-4929-4AA8-8805-CE403409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0E4731-D3E2-4CDB-8E68-68AD0BAC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287E63-38A8-4570-B58F-DB22974E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8981A9-3B5C-45DE-AE70-DA6D1112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78BDE4-FD6C-4CE6-A505-B1ED823A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57AB25-0111-49B7-AD79-6FEE808E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9427E9-A309-4990-8E48-E461997D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8F2AB9-8E70-492F-A1FA-C5D75F67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B50E19-77C1-4E2A-9FF8-A748A2C4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84329-8DF3-45F5-AA7D-D11BC24A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7A67B5-0133-4D86-A9C6-817651F5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11E456-6757-4E87-9D85-276D3F72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3E570B-30E0-40C1-BE1E-10B5FA8D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E335FD-E2F8-47A7-BD22-CA6AD031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61CE36-5A7F-46B2-B8BF-69B8B0EB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858225-812A-4187-9560-CB537070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AC67D4-87D1-41ED-AC99-BD94A594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13A2A2-901D-4D1A-A231-A878FF40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E6B9D7-A88C-414D-8255-4563EC88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378781-D84B-44BE-B255-60EBF293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F43AE-24D7-4757-B826-ECC9ED89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5E893E-6ADC-4100-A5EB-CD3EE72F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5A9989-2BA7-4D28-B232-0FC074E5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2ACA6E-D5A2-4C7B-8D83-D0A122F8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8B489E-E18E-4FA5-BEBA-A95BD51F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E4F2AC-D3AE-44C4-9E5A-89362B4F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D97065-5D9D-4948-BD7F-AD1F787C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967B36-92E8-45B7-8AEF-25C52C1C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25F870-5C44-495A-81E2-FF288658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6D6B2E-4DB5-4A15-BE8B-E6A51F15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D2AC2-BFEB-4AAE-BBCC-698B7190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7E4-3EB8-45FA-B7F9-356C714F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BD5D6-4B95-4F10-8509-39ABBC29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AAE51-4AAC-4AC0-97F0-8D0D7A66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E3E32-1FDD-4D18-A4EC-BDFE36D3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3DC0A-ECB5-4F8C-BF6E-9C1C60C7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5B1E0-685A-45E1-9ECF-8317212A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AA655-3843-4D92-A194-24629A2C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5B331-3F72-45EB-A164-5F82E86E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D05AE-0220-4ED5-8E7A-43455668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A3158-8EFD-4E0E-B8AD-E30CA64D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E0B9E-479A-4DBF-B1EB-EC0934D7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84C-F854-4280-9D8C-298DA8F1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A36A2-4091-48E4-A65D-862CE123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825D8-F0EB-4D64-B103-04D5A8A5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B8023-921B-4427-86EF-D5F3EF83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0D7FB-A021-4E85-9FAF-45317C72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E6AE7-5927-49E2-9C80-41722378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E4A52-5847-4110-9486-0D19E431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5BCE3-2E28-4E1D-883D-9E6795FF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14837-6A1D-4B58-ABF9-35F6ECED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606EE-BED0-4A87-B3BB-C38141A5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36C03-DEBB-4887-B7DD-E8137684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6CC0-26E3-45AD-B587-CB625A9D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ACEE5-6E6C-48F6-B9B2-E5CBC407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22FE2-9206-4C82-BBC5-7A8C19C2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448FE-844F-4E33-B4BE-2C3D3BA7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5D262-8346-4EEE-B252-AE2945C8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86E13-E559-476E-AE0D-26A473A5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5EF12-9879-4299-8EE5-08C88E7B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EF587-512C-4057-A0DA-80A6384E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4884D-9294-4F7E-9C3F-97A1998B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2DCA8-1CD7-4D9E-8B85-6DC5E459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53A8A-AE38-4B4D-A78C-D223A4B2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7E6-E4B2-46B1-B967-48139F8C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D2EA3-F0DE-4B06-AE04-3C5D1BE7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FB750-99D7-49F2-9EDE-17E6D9F4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8DF8A-3917-4D0D-8429-78FA5E56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4E022-39AC-48CB-AE79-4B4C31AE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78E59-6BEC-4388-B392-D3B0DBC7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0A429-FACF-4CCB-9CCC-4F4A411B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5130E-E4F4-487E-9AE7-AF9E5B10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27C64-EA91-4520-A68D-63ED9016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501FC-2D3D-48F8-98F0-EBA127D1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7EEB7-6018-4206-83E0-10C3CEA5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1F02-C7CE-4491-917A-F8748CBF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16347-7425-4DD0-AF34-E463A9F2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4B319-7785-4B9C-8EB9-09B46924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46995-DB37-4576-B5D8-76D200DA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D1C6B-E16D-4C30-B743-BA3D138A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3B390-1211-4880-8C48-EE115BB9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07BA7-E398-4507-8CE9-20F1AFE9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C6095-F7CF-454B-A822-D8F783F9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B798A-E1BD-4464-937D-9CBF1008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86A08-0BD1-4E1A-AB55-B178743C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EEC20-5890-4820-B0CB-0C6F0F31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9D1C-BDE2-4888-B539-48399B81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D8CFA-1ED0-4307-9FFF-E264AFE6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63FAB-8F8F-4873-B648-FB4B061F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E9998-8CE1-4F93-AEF0-733046C2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B909D-762E-4AA8-AD1E-217C9F00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13EC7-BDE5-458A-9916-08C3F173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65045-0202-4326-BC44-AF78FCF3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42A3B-0F7D-4054-865C-DDADAF4A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7FFE3-4474-4D57-B3DF-30F7DA0C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3DE51-39D7-4A05-9095-3EEEC28A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51BC2-3E0E-4B96-BFAF-109D1E29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6D6-8593-4790-A17D-3DE22FEC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1310E-8F73-473F-AC2B-A4752B09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1BC27-FBC9-4514-87F7-729FE3AD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548DB-E183-4482-9A58-8EFD1F17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88259-C16E-4845-97F9-18B42E0E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150C0-361F-410F-859E-A3E73298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69592-829C-44A9-92AA-9E54A54D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DF437-B704-49FB-927D-9D1A6E7A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C9858-3688-457B-927C-E76B86A7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046DC-9206-4A43-8DE1-373ED173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89CF3-2F51-4B07-85F9-894B16DB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B943-F9E3-4690-9D65-E670E8094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C705-90F0-4A70-8680-AA5992F6E4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8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8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9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1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CF14-9387-405C-8389-204A50223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8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9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0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2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4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3D2F-8798-4D3B-BD57-BD00434C5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69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9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3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3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8BC1-867F-4E77-9719-A2846AFA50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A608-740D-4992-82E2-2633850158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778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C521-8AE9-4936-9175-88DDD4A83A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2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9B2C-4088-4971-A857-8FF015F6BA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CEC3-108D-4441-A974-99D5FAC125A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8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93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94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0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1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13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14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5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16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4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9C24-C2C3-4926-BAFC-B5226914324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6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7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7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8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025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D47F-4C3B-4397-B99F-D91F21AE9C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1C11-9974-4C19-8187-A3F2E09A3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070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4F7D-17B8-414F-99B6-862751D444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114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5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116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121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26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127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131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35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8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39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2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9573-B31C-4F60-A927-FD67DEE357B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198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199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6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2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213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217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221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225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229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2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9" name="PlaceHolder 1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0E36-9580-43D2-81EA-706231946EA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9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280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2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28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 type="dt" idx="6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 type="ftr" idx="6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 type="sldNum" idx="6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B27D-49ED-44AA-90C8-2BEB549ADCA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3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334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335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7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341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dt" idx="7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 type="ftr" idx="7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 type="sldNum" idx="7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5F39-4967-4AD0-82C1-AE23F02E679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06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c0600"/>
                </a:gs>
                <a:gs pos="50000">
                  <a:srgbClr val="993300"/>
                </a:gs>
                <a:gs pos="100000">
                  <a:srgbClr val="0c0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c06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c06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c06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60300"/>
                </a:gs>
                <a:gs pos="100000">
                  <a:srgbClr val="0c0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0c0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c0600"/>
                </a:gs>
                <a:gs pos="50000">
                  <a:srgbClr val="993300"/>
                </a:gs>
                <a:gs pos="100000">
                  <a:srgbClr val="0c0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e34b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7e34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18CC-B948-41C5-B9CD-483259FC1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06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c0600"/>
                </a:gs>
                <a:gs pos="50000">
                  <a:srgbClr val="993300"/>
                </a:gs>
                <a:gs pos="100000">
                  <a:srgbClr val="0c0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c06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c06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c06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60300"/>
                </a:gs>
                <a:gs pos="100000">
                  <a:srgbClr val="0c0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0c0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c0600"/>
                </a:gs>
                <a:gs pos="50000">
                  <a:srgbClr val="993300"/>
                </a:gs>
                <a:gs pos="100000">
                  <a:srgbClr val="0c0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e34b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420C-507D-4127-A965-7D8D0EEF6E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0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4EC2-B39C-454A-9C70-65389F28D1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C34F-379B-4C6E-8418-88846A2400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d2d5d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cd0505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7c849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E0A6-39ED-4435-A4B5-CEADB76FD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320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7c8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7c8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7c8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dt" idx="22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23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24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9F54-61C2-4048-92B3-4E6017220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E226-D2E2-49EF-802C-4288AE484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 txBox="1"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99ff"/>
                </a:solidFill>
                <a:latin typeface="Comic Sans MS"/>
              </a:rPr>
              <a:t>- Из</a:t>
            </a:r>
            <a:r>
              <a:rPr b="1" lang="en-US" sz="6400" spc="-1" strike="noStrike">
                <a:solidFill>
                  <a:srgbClr val="fb052e"/>
                </a:solidFill>
                <a:latin typeface="Comic Sans MS"/>
              </a:rPr>
              <a:t>вин</a:t>
            </a:r>
            <a:r>
              <a:rPr b="1" lang="en-US" sz="64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64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Comic Sans MS"/>
              </a:rPr>
              <a:t>- Исключи меня </a:t>
            </a:r>
            <a:r>
              <a:rPr b="1" lang="en-US" sz="7400" spc="-1" strike="noStrike">
                <a:solidFill>
                  <a:srgbClr val="0099ff"/>
                </a:solidFill>
                <a:latin typeface="Comic Sans MS"/>
              </a:rPr>
              <a:t>из</a:t>
            </a:r>
            <a:r>
              <a:rPr b="1" lang="en-US" sz="7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7400" spc="-1" strike="noStrike">
                <a:solidFill>
                  <a:srgbClr val="fb052e"/>
                </a:solidFill>
                <a:latin typeface="Comic Sans MS"/>
              </a:rPr>
              <a:t>вины</a:t>
            </a:r>
            <a:r>
              <a:rPr b="1" lang="en-US" sz="7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дание 1. «Подумай и ответь»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шок – мех; подушка – ух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лег вещий – весть;Кощей - 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Жучка - 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усок дерева для топки -?     от 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укавица - ?; перчатки - 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Задание 2. «Состав слов и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                      способ образования»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Завязывать, кольцо, настольный, опилки, пасынок, девятнадцать, подберезовик, ловить, горница, корова, дворняжка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Задание 3. «Словарь»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…гряный, б…рдовый, п…рила,  те(р,рр)аса, п…ркет, инт…рьер, с…лдат, б…гатырь,  п…хота, из…бр…тение, р…форма,  иску(с,сс)тво, искус…ный, бл…госл…вение, восп…тать, ув…жение, п…вильон, л…т…ратура, …тчизн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052e"/>
                </a:solidFill>
                <a:latin typeface="Verdana"/>
              </a:rPr>
              <a:t>Например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</a:t>
            </a:r>
            <a:r>
              <a:rPr b="1" lang="ru-RU" sz="3200" spc="-1" strike="noStrike">
                <a:solidFill>
                  <a:srgbClr val="fb052e"/>
                </a:solidFill>
                <a:latin typeface="Verdana"/>
              </a:rPr>
              <a:t>а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ряный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– из старославянского  «б</a:t>
            </a:r>
            <a:r>
              <a:rPr b="0" lang="ru-RU" sz="3200" spc="-1" strike="noStrike">
                <a:solidFill>
                  <a:srgbClr val="fb052e"/>
                </a:solidFill>
                <a:latin typeface="Verdana"/>
              </a:rPr>
              <a:t>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ръ» – «красная краска или цвет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</a:t>
            </a:r>
            <a:r>
              <a:rPr b="1" lang="ru-RU" sz="3200" spc="-1" strike="noStrike">
                <a:solidFill>
                  <a:srgbClr val="fb052e"/>
                </a:solidFill>
                <a:latin typeface="Verdana"/>
              </a:rPr>
              <a:t>о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довый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– от французского «цвет б</a:t>
            </a:r>
            <a:r>
              <a:rPr b="0" lang="ru-RU" sz="3200" spc="-1" strike="noStrike">
                <a:solidFill>
                  <a:srgbClr val="fb052e"/>
                </a:solidFill>
                <a:latin typeface="Verdana"/>
              </a:rPr>
              <a:t>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до» от названия местности Б</a:t>
            </a:r>
            <a:r>
              <a:rPr b="0" lang="ru-RU" sz="3200" spc="-1" strike="noStrike">
                <a:solidFill>
                  <a:srgbClr val="fb052e"/>
                </a:solidFill>
                <a:latin typeface="Verdana"/>
              </a:rPr>
              <a:t>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до, где производят вино цвета б</a:t>
            </a:r>
            <a:r>
              <a:rPr b="0" lang="ru-RU" sz="3200" spc="-1" strike="noStrike">
                <a:solidFill>
                  <a:srgbClr val="fb052e"/>
                </a:solidFill>
                <a:latin typeface="Verdana"/>
              </a:rPr>
              <a:t>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до- «ярко красного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Работа в группах «Этимологический словарик».</a:t>
            </a:r>
            <a:r>
              <a:rPr b="1" lang="en-US" sz="4000" spc="-1" strike="noStrike">
                <a:solidFill>
                  <a:srgbClr val="fb052e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b052e"/>
                </a:solidFill>
                <a:latin typeface="Comic Sans MS"/>
              </a:rPr>
              <a:t>Например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Едкий </a:t>
            </a:r>
            <a:r>
              <a:rPr b="1" i="1" lang="en-US" sz="4400" spc="-1" strike="noStrike">
                <a:solidFill>
                  <a:srgbClr val="703dff"/>
                </a:solidFill>
                <a:latin typeface="Comic Sans MS"/>
              </a:rPr>
              <a:t>– </a:t>
            </a:r>
            <a:r>
              <a:rPr b="0" i="1" lang="en-US" sz="4400" spc="-1" strike="noStrike">
                <a:solidFill>
                  <a:srgbClr val="703dff"/>
                </a:solidFill>
                <a:latin typeface="Comic Sans MS"/>
              </a:rPr>
              <a:t>пригодный в пищу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Нелепица </a:t>
            </a:r>
            <a:r>
              <a:rPr b="1" i="1" lang="en-US" sz="4400" spc="-1" strike="noStrike">
                <a:solidFill>
                  <a:srgbClr val="703dff"/>
                </a:solidFill>
                <a:latin typeface="Comic Sans MS"/>
              </a:rPr>
              <a:t>– </a:t>
            </a:r>
            <a:r>
              <a:rPr b="0" i="1" lang="en-US" sz="4400" spc="-1" strike="noStrike">
                <a:solidFill>
                  <a:srgbClr val="703dff"/>
                </a:solidFill>
                <a:latin typeface="Comic Sans MS"/>
              </a:rPr>
              <a:t>некачественный пластили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06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e34b"/>
                </a:solidFill>
                <a:latin typeface="Times New Roman"/>
              </a:rPr>
              <a:t>Работа в группах «Этимологический словарик».</a:t>
            </a:r>
            <a:endParaRPr b="1" lang="en-US" sz="40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 группа- 1 ряд 1 вариант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дерюга, парилка, налич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группа- 1ряд 2 вариант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дача, тысячелистник, мокриц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 группа- 2 ряд 1 вариант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гончая, чернослив, стри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 группа- 2ряд 2 вариант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заморыш, зазубрина, готовальн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 группа- 3ряд 1 вариант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лестница, четвертовать, этажер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 группа- 3ряд 2 вариант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изверг, жрец, сомн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394920" y="765000"/>
            <a:ext cx="82803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052e"/>
                </a:solidFill>
                <a:latin typeface="Tahoma"/>
              </a:rPr>
              <a:t>«Берегите наш язык, наш прекрасный русский язык, этот клад, это достояние, переданное нам нашими предшественниками, в числе которых блистает опять-таки Пушкин! Обращайтесь почтительно с этим могущественным орудием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052e"/>
                </a:solidFill>
                <a:latin typeface="Tahoma"/>
              </a:rPr>
              <a:t>в руках умелых оно в состоянии совершать чудеса!...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052e"/>
                </a:solidFill>
                <a:latin typeface="Tahoma"/>
              </a:rPr>
              <a:t>И. С. Тургенев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  </a:t>
            </a: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Время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.                   </a:t>
            </a: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Бумага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2340000" y="1599840"/>
            <a:ext cx="3222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ремя – заимствованно из старославянского, где образовано с помощью суффикса  мен  (затем перешедшего в  мя) от той же основы, что и глагол вертеть. Первоначальное значение существительного время – «нечто вращающеес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Остановить бы </a:t>
            </a:r>
            <a:r>
              <a:rPr b="1" i="1" lang="en-US" sz="1600" spc="-1" strike="noStrike">
                <a:solidFill>
                  <a:srgbClr val="e4005c"/>
                </a:solidFill>
                <a:latin typeface="Times New Roman"/>
              </a:rPr>
              <a:t>время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отдышать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Не торопясь подум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обо вс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Кто мы такие, чтоб на с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рождатьс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Зачем пришли и для ч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живе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В. Тарас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5651640" y="1599840"/>
            <a:ext cx="3187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умага – заимствованно из итальянского, где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bambagia-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хлопок, хлопчатая бумаг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тальянский это слово пришло из греческого и имеет несомненное родство с существительным  бамбук (в греческом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mbakion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и означало бамбук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нига есть и будет осн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духовной жизни народа. Чер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ттиски букв на белой </a:t>
            </a:r>
            <a:r>
              <a:rPr b="1" i="1" lang="ru-RU" sz="1600" spc="-1" strike="noStrike">
                <a:solidFill>
                  <a:srgbClr val="e4005c"/>
                </a:solidFill>
                <a:latin typeface="Times New Roman"/>
              </a:rPr>
              <a:t>бумаге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листы, собранные в книгу,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лучшее универсаль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ранилище мысл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дохновляющий источ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овых и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 Е. Лихтенштей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508720" y="1700280"/>
            <a:ext cx="0" cy="489744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diamond" w="med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5508720" y="475920"/>
            <a:ext cx="0" cy="108108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diamond" w="med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651640" y="1557360"/>
            <a:ext cx="3241440" cy="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diamond" w="med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36400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2484000" y="1557360"/>
            <a:ext cx="2879640" cy="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diamond" w="med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651640" y="6597720"/>
            <a:ext cx="331308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diamond" w="med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2411280" y="6597720"/>
            <a:ext cx="295272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diamond" w="med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411280" y="1628640"/>
            <a:ext cx="0" cy="48960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diamond" w="med"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964720" y="1628640"/>
            <a:ext cx="0" cy="482472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diamond" w="med"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06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e34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7e34b"/>
                </a:solidFill>
                <a:latin typeface="Times New Roman"/>
              </a:rPr>
              <a:t>Задание «Расшифруй пословицу»</a:t>
            </a:r>
            <a:endParaRPr b="1" lang="en-US" sz="4000" spc="-1" strike="noStrike">
              <a:solidFill>
                <a:srgbClr val="f7e34b"/>
              </a:solidFill>
              <a:latin typeface="Times New Roman"/>
            </a:endParaRPr>
          </a:p>
        </p:txBody>
      </p:sp>
      <p:graphicFrame>
        <p:nvGraphicFramePr>
          <p:cNvPr id="1462" name=""/>
          <p:cNvGraphicFramePr/>
          <p:nvPr/>
        </p:nvGraphicFramePr>
        <p:xfrm>
          <a:off x="468360" y="1989000"/>
          <a:ext cx="8218440" cy="362448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м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ую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юб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рег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ую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м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мл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463" name=""/>
          <p:cNvGraphicFramePr/>
          <p:nvPr/>
        </p:nvGraphicFramePr>
        <p:xfrm>
          <a:off x="3203640" y="5589720"/>
          <a:ext cx="2736720" cy="86364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ff"/>
                </a:solidFill>
                <a:latin typeface="Comic Sans MS"/>
              </a:rPr>
              <a:t>- О</a:t>
            </a:r>
            <a:r>
              <a:rPr b="1" lang="en-US" sz="7200" spc="-1" strike="noStrike">
                <a:solidFill>
                  <a:srgbClr val="fb052e"/>
                </a:solidFill>
                <a:latin typeface="Comic Sans MS"/>
              </a:rPr>
              <a:t>берег</a:t>
            </a:r>
            <a:r>
              <a:rPr b="1" lang="en-US" sz="7200" spc="-1" strike="noStrike">
                <a:solidFill>
                  <a:srgbClr val="1f357b"/>
                </a:solidFill>
                <a:latin typeface="Comic Sans MS"/>
              </a:rPr>
              <a:t>и</a:t>
            </a:r>
            <a:endParaRPr b="0" lang="en-US" sz="72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b052e"/>
                </a:solidFill>
                <a:latin typeface="Arial"/>
              </a:rPr>
              <a:t>- Берег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ами меня </a:t>
            </a:r>
            <a:r>
              <a:rPr b="0" lang="en-US" sz="7200" spc="-1" strike="noStrike">
                <a:solidFill>
                  <a:srgbClr val="0099ff"/>
                </a:solidFill>
                <a:latin typeface="Arial"/>
              </a:rPr>
              <a:t>о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кружи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 txBox="1"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ff"/>
                </a:solidFill>
                <a:latin typeface="Comic Sans MS"/>
              </a:rPr>
              <a:t>- </a:t>
            </a:r>
            <a:r>
              <a:rPr b="1" lang="en-US" sz="7200" spc="-1" strike="noStrike">
                <a:solidFill>
                  <a:srgbClr val="fb052e"/>
                </a:solidFill>
                <a:latin typeface="Comic Sans MS"/>
              </a:rPr>
              <a:t>Защит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72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- Спрячь меня </a:t>
            </a:r>
            <a:r>
              <a:rPr b="1" lang="en-US" sz="7200" spc="-1" strike="noStrike">
                <a:solidFill>
                  <a:srgbClr val="0099ff"/>
                </a:solidFill>
                <a:latin typeface="Arial"/>
              </a:rPr>
              <a:t>за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fb052e"/>
                </a:solidFill>
                <a:latin typeface="Arial"/>
              </a:rPr>
              <a:t>щит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ом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хема морфемного состава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24000" y="5445000"/>
            <a:ext cx="4032000" cy="1224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. В сложном  слове д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или больше) корня; меж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ими может стоя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единительная глас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4716360" y="5445000"/>
            <a:ext cx="4032360" cy="1224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. В слове может бы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е приставки или д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уффикса (или больш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79280" y="4653000"/>
            <a:ext cx="3672000" cy="57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. Корень                1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4932360" y="4653000"/>
            <a:ext cx="4032360" cy="57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. Приставка или суффи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или и то и друго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4932360" y="3860640"/>
            <a:ext cx="4032360" cy="57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. В производной осно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язательно е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16000" y="3860640"/>
            <a:ext cx="3384720" cy="57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. В непроизводной осно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сть толь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84360" y="3141720"/>
            <a:ext cx="4032000" cy="57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. В любой основе е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324000" y="2349360"/>
            <a:ext cx="5327640" cy="57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Основа                                             5.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6084720" y="2349360"/>
            <a:ext cx="1981440" cy="57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 Оконч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148360" y="1628640"/>
            <a:ext cx="3384360" cy="57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 В изменяемом сло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908000" y="1557360"/>
            <a:ext cx="3095640" cy="57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В неизменяемом сло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сть толь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50920" y="836640"/>
            <a:ext cx="2305080" cy="57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В любом сло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300720" y="213372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826920" y="134136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556000" y="2781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971640" y="357336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826920" y="5157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219640" y="42926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219640" y="50846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556000" y="4221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340000" y="2060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364000" y="2060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H="1">
            <a:off x="3564000" y="4292640"/>
            <a:ext cx="151272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 txBox="1"/>
          <p:nvPr/>
        </p:nvSpPr>
        <p:spPr>
          <a:xfrm>
            <a:off x="7093080" y="4941720"/>
            <a:ext cx="162864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СОЛН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684360" y="4941720"/>
            <a:ext cx="99036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СОЛ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426" name="" descr=""/>
          <p:cNvPicPr/>
          <p:nvPr/>
        </p:nvPicPr>
        <p:blipFill>
          <a:blip r:embed="rId1"/>
          <a:stretch/>
        </p:blipFill>
        <p:spPr>
          <a:xfrm>
            <a:off x="6516720" y="404640"/>
            <a:ext cx="1973160" cy="2519640"/>
          </a:xfrm>
          <a:prstGeom prst="rect">
            <a:avLst/>
          </a:prstGeom>
          <a:ln w="0">
            <a:noFill/>
          </a:ln>
        </p:spPr>
      </p:pic>
      <p:pic>
        <p:nvPicPr>
          <p:cNvPr id="1427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2016000" cy="2579760"/>
          </a:xfrm>
          <a:prstGeom prst="rect">
            <a:avLst/>
          </a:prstGeom>
          <a:ln w="0">
            <a:noFill/>
          </a:ln>
        </p:spPr>
      </p:pic>
      <p:pic>
        <p:nvPicPr>
          <p:cNvPr id="1428" name="" descr=""/>
          <p:cNvPicPr/>
          <p:nvPr/>
        </p:nvPicPr>
        <p:blipFill>
          <a:blip r:embed="rId3"/>
          <a:stretch/>
        </p:blipFill>
        <p:spPr>
          <a:xfrm>
            <a:off x="2484360" y="2637000"/>
            <a:ext cx="403236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9" name=""/>
          <p:cNvGraphicFramePr/>
          <p:nvPr/>
        </p:nvGraphicFramePr>
        <p:xfrm>
          <a:off x="468360" y="476280"/>
          <a:ext cx="8137440" cy="6127560"/>
        </p:xfrm>
        <a:graphic>
          <a:graphicData uri="http://schemas.openxmlformats.org/drawingml/2006/table">
            <a:tbl>
              <a:tblPr/>
              <a:tblGrid>
                <a:gridCol w="2712960"/>
                <a:gridCol w="2711520"/>
                <a:gridCol w="2712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ревнее слово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временное слово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 изменилось?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нц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р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ск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ск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о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ем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л+и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оск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0" name=""/>
          <p:cNvGraphicFramePr/>
          <p:nvPr/>
        </p:nvGraphicFramePr>
        <p:xfrm>
          <a:off x="468360" y="476280"/>
          <a:ext cx="8137440" cy="6127560"/>
        </p:xfrm>
        <a:graphic>
          <a:graphicData uri="http://schemas.openxmlformats.org/drawingml/2006/table">
            <a:tbl>
              <a:tblPr/>
              <a:tblGrid>
                <a:gridCol w="2712960"/>
                <a:gridCol w="2711520"/>
                <a:gridCol w="2712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ревнее слово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временное слово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 изменилось?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</a:t>
                      </a: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Tahoma"/>
                        </a:rPr>
                        <a:t>н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Tahoma"/>
                        </a:rPr>
                        <a:t>Н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с</a:t>
                      </a: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Tahoma"/>
                        </a:rPr>
                        <a:t>к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ск</a:t>
                      </a: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Tahoma"/>
                        </a:rPr>
                        <a:t>в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</a:t>
                      </a: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Tahoma"/>
                        </a:rPr>
                        <a:t>о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</a:t>
                      </a: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Tahoma"/>
                        </a:rPr>
                        <a:t>емл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л+</a:t>
                      </a: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Tahoma"/>
                        </a:rPr>
                        <a:t>и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л</a:t>
                      </a: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Tahoma"/>
                        </a:rPr>
                        <a:t>иц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о</a:t>
                      </a: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Tahoma"/>
                        </a:rPr>
                        <a:t>ск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о</a:t>
                      </a: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Tahoma"/>
                        </a:rPr>
                        <a:t>щад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1" name=""/>
          <p:cNvGraphicFramePr/>
          <p:nvPr/>
        </p:nvGraphicFramePr>
        <p:xfrm>
          <a:off x="468360" y="476280"/>
          <a:ext cx="8137440" cy="6269040"/>
        </p:xfrm>
        <a:graphic>
          <a:graphicData uri="http://schemas.openxmlformats.org/drawingml/2006/table">
            <a:tbl>
              <a:tblPr/>
              <a:tblGrid>
                <a:gridCol w="2712960"/>
                <a:gridCol w="2711520"/>
                <a:gridCol w="2712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ревнее слово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временное слово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изменилось?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л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Arial"/>
                        </a:rPr>
                        <a:t>Солн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ффикс слился с корн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Arial"/>
                        </a:rPr>
                        <a:t>Нар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ставка на слилась с корн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ск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Arial"/>
                        </a:rPr>
                        <a:t>Москв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нетические изменения – появилась буква 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о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Arial"/>
                        </a:rPr>
                        <a:t>Крем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редование м//м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л+и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Arial"/>
                        </a:rPr>
                        <a:t>столиц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ффикс слился с корн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ск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Arial"/>
                        </a:rPr>
                        <a:t>площад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нетические изменения+слияние суффикса –адь с корн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7e7ff"/>
                </a:solidFill>
                <a:latin typeface="Georgia"/>
              </a:rPr>
              <a:t>"Исторические изменения </a:t>
            </a:r>
            <a:br>
              <a:rPr sz="4800"/>
            </a:br>
            <a:r>
              <a:rPr b="1" lang="en-US" sz="4800" spc="-1" strike="noStrike">
                <a:solidFill>
                  <a:srgbClr val="b7e7ff"/>
                </a:solidFill>
                <a:latin typeface="Georgia"/>
              </a:rPr>
              <a:t>в составе слова".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Усердней с каждым днём гляжу в словар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 его столбцах мерцают искры чувства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ет, не словарь лежит передо м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А древняя рассыпанная повесть.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. Маршак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9BA2-1976-4C7F-87E9-1E76D540DFF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6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Этимология – (От греческого “etymon” – истина и “logos” - учение)</a:t>
            </a:r>
            <a:br>
              <a:rPr sz="3600"/>
            </a:b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Происхождение слова или морфе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Раздел языкознания, занимающийся изучением первоначальной словообразовательной структуры слова и выявлением элементов его древнего зна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20:55:49Z</dcterms:created>
  <dc:creator>Лапа</dc:creator>
  <dc:description/>
  <dc:language>en-US</dc:language>
  <cp:lastModifiedBy>Лапа</cp:lastModifiedBy>
  <dcterms:modified xsi:type="dcterms:W3CDTF">2007-10-16T23:35:23Z</dcterms:modified>
  <cp:revision>64</cp:revision>
  <dc:subject/>
  <dc:title>"Исторические изменения в составе слова.  Этимология на службе орфографии". </dc:title>
</cp:coreProperties>
</file>