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A443-2C9D-4D14-B52D-1C45EF95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B975-40BD-4458-81F6-F42994CF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8CDB1-82F3-494E-8405-A788FD7F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138E5-E885-487C-9DC8-B6E01A35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12610-1FE2-46CF-AF22-C9CD3FD0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7EB14-AC0D-494C-8B83-A47CC901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160A9-E9AD-4D9A-89CC-B7AE05FA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D5F8E-030A-43F6-BF45-16C199BA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60928-88C4-4B1B-9F60-3C8CCE1E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40CF3-FDE2-42D4-A80D-2B9F24E9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F7C0F-48D6-461E-9644-CC9CF086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CE899-9789-4AF3-A68E-915B2ACB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7CC7-F080-4DAA-8694-62FA3243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2EF11-3BA1-4C3A-AAC5-C985F55B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65D1C-6AAA-43DE-9424-5B29BBF4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A0711-9ECF-4625-8C93-2E455664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EE33F-9925-4301-94F7-75E9AD60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013EB-B73F-489C-B919-5EE47B39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A9A9F-D0D9-42C5-9445-61B98946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97AB1-A139-4C3B-91DE-0108CB9A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26E45-898B-44D6-960C-3E9F0B6E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EC79B-7BBA-4CBE-9B95-9A23FA12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047E7-59D0-4E7F-98DE-274BE84D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CC0F-0A07-43B1-8D60-8EFB36F3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B9432-42A7-43BC-8C86-CFFA4022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6F51C-C9C3-40DE-90CC-A1AF2C31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FD575-1B65-435F-B059-34E0006E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024CE-AA03-4477-9790-4C47767F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E8488-60CD-4219-99DB-8720DF97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12BBA-765E-4AB3-87C4-FDD8498D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39135-A792-47A9-84F3-CCEB0EEB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1F9D8-E561-4E01-89E7-479C5CCD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6AB13-9BA2-4302-B98F-B5CB8F8D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B2F71-DBB0-4537-9CAF-3C1D6AB3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501A-5607-49E8-852E-FB77F511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D947D-E58A-431F-8B23-FFA6E2B2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3EDEA-B033-4B62-9749-7A8EA200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1D53D-1E95-421E-A265-F6D67D8C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41F0E-AF94-4EE1-952E-387C8EBF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2451F-5577-4772-8CEC-BF7AA8B2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161C1-2FCA-4BF3-9874-E31585DF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96E16-6DF6-4530-8F93-3ADDECC0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247A0-3824-4FD1-9104-BFE84FC5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D5621-BF46-4D35-A77F-D5D3BC4B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86E27-2FE3-4989-AE0A-CDD512CE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FEED-0836-4A10-A6F9-3B8256FE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D19C8-7D67-4EE3-AC8E-FFEE9F00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166DF-675E-45B8-8EEA-2045A1CD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09E5A-41BA-4D8B-A07A-5D716748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4F516-2F85-4800-94F5-1EE6A157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A3276-5E2E-4C8B-963D-7F8F1E9E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41FC58-8E55-46F4-A00E-C6B12084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55AE4E-84CF-47F6-8190-024D6A5E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45058D-6BB7-4C45-B13B-3AFB6F64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E9C646-07F7-4E73-ACCF-88FCCDCD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4EAB9A-1FE9-41B2-BF3B-A02E69F2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C212-EC09-4431-9C93-B0559996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ACAFAE-7926-456D-A853-0F170FF7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FCC5F-5398-4C68-83EE-F66880EC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01247-1B83-42C4-9AE1-893E08B5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69106-57EE-40E4-8AF7-F7343BA6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CF02A-1A3D-4B9F-B82F-E9CFA1E3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109862-2046-4C81-8221-B6455F08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E625E-0176-44A5-810B-ED733BE0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44D8D7-A580-4557-A214-DEBF5D12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B5D5F4-073A-4D4A-88D2-8ED71734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E9377D-7DBE-4F9C-A4DB-F8663A8A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0C37-1ED2-4018-AA3B-7E5705B0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7C1A3F-20E7-4539-B70C-DA0746D1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59B77E-E72C-457B-A27A-E29D2816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6FF048-17E2-4047-AAAF-501E73FB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066EE8-FF02-4810-85C5-81A79253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4113A8-ADC7-452F-AA06-D81C26D4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2E4E0E-0C68-4A8F-A86A-0BDA4AAD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6983D1-7D21-4E4F-8F19-E0B36601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DE924A-7168-4041-9686-8C46AF5A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61C2E4-A101-460C-B997-85E77F17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C43DD6-9063-45F5-894B-374658DF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029C-3259-4CC7-AC43-D45A7464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19ABF7-B019-4C91-9168-24EE9CB6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26F871-AE95-4B85-ADE2-184D282D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15AE47-1A1B-4E3D-8707-39D64F7C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28E16E-D102-4C6F-9A0B-EA2D959B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DF6024-E077-40D3-AEE2-C932C059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AF6305-1C67-43B4-9990-5E3A3AAF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C275E1-E46D-4846-B515-A7228A59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246E4B-CB1C-4CFE-BC5C-E2BD1F2E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667452-19BB-4EF6-A3FD-EECA38DF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936EBE-D65F-4F9F-AEC7-8BE729AF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025A-68DE-4CB0-A92C-A13D1B02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DF239D-A10F-4627-8811-4643CE31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07A553-E0E8-46C2-A2B2-D4A08DDE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97CEED-23E0-402F-90D7-4F6DE4CF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D07C7C-27C7-41ED-A8AD-B379F799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C1225D-A5E2-4F39-988D-B00559FE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093F6C-C2D5-4E3A-9C7A-13086AB8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F21493-2140-45EA-9EF7-4CB6C291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8C2E58-6B44-426D-BE0B-15706865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039A3D-A350-4934-BBCD-5750A0A9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DFBA3B-E2A5-4C85-89DC-7748A8EF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CE94-5E15-4C3E-85C8-F4DCFCDB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FF7574-4B29-447B-A729-123A4AAB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5F673C-C0E0-4880-A6C7-BFFF655E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0AADAA-10E9-44A7-95AD-19BDAAF1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98C378-8165-42DE-A2B2-F9101460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BB06A6-0EA4-4231-A0F0-D1C017B3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801C3F-26EE-4D9D-B88F-EE483AC1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49A6E4-839E-4AB5-8B6D-B619A1C1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9675DD-DE28-41D3-A0D3-4B95FC31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C618E9-3615-4BBD-8F2B-2E97256C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3377AD-4103-4416-B9FF-EDCF99F5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91C3-1891-410E-90CB-4067652B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3C31-1DBC-4BEC-AA3E-5E70F9C0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62461D-1206-4B87-AA1C-46544868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3F2C11-FFE2-404B-8A5C-443787DF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62EC35-03E7-4856-B6D9-2FDE11D9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474E61-513E-4129-A074-ED68E78B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795F60-70C4-4AAF-9308-87D710D9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BBCBD7-3641-40DF-B00C-77A78018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D8262E-B53B-4D05-80BD-F15B06E4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9A337A-A90F-4BC1-9BCC-FC362DDC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C4C627-B556-40A8-9205-34AD1A51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1DD072-2671-4380-B9C7-294BA2CD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3652-ACC0-4A45-B6E5-DB0D2DC5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D3B46A-1C1C-4C81-994B-2197F8AD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294AF7-EB6E-458F-BDAA-191F5BD0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6A3D98-E8EC-48E4-81AD-2310AEF1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1962EC-4077-40E6-B4EC-CB3359D4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2D34BD-C1CA-4075-8899-25A27E0A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75D0DE-2B32-4B7F-B6C6-EE30A152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B1791F-3843-47E7-AF32-2F98258D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92FBAF-43B1-4686-AF6C-6302307D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5330C1-530B-442B-ACB5-2FA8FB6B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30038D-8DEF-4C50-8D30-5F6DF875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ADB9-D04D-46F2-8210-EB1B56BC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68FD58-F635-4A89-8CA7-AFB3AD2A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4FB951-7662-4292-8A48-6668CF34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DC1C46-F728-4EE2-85E2-905CF957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0AA383-795B-473E-8F78-EAA39BCE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60BDEE-599B-4903-A20F-80A421FC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90227A-BF24-4D91-A1F4-105DDF41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A82EBC-BF93-4069-8D3F-B96BE7AB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4DB1E4-574C-429B-914C-C243D67B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B79218-775E-4005-B74C-95970ABE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F0FE02-4ECB-4197-883C-DE22D060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7AF6-DF39-4714-808E-02E7FA10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2BA040-81B3-4EFE-B52B-7AF21E7A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773722-4F3B-40E3-B72A-BBEDB7B8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13073C-8A64-4956-813E-E1D7873F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877E01-89DC-4219-9635-2C05ED64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96F265-AFF9-4E33-B051-88164ADF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F9DBB7-A052-4F7E-8F83-24D3F613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99012B-F9D1-46AF-B6CF-CC287208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98208A-B3E8-42E6-AB71-D74CB13D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E650A6-0850-4D86-9548-B5A4BD66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A294BF-2DD8-41F2-979A-D49652CE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F461-4B6A-4312-AE97-572A614C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09845F-ECA9-406B-9E7A-93ECEDB3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E684B0-16DC-4266-9CE3-53BD9F9A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20D722-B422-4B75-BF7A-3B412AE0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1D1FCE-FFA8-4C57-98BD-45AB61D2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14A679-4308-432F-81E1-4FCC856F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7CA3EE-5167-42F0-9BED-CF4227FB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B5D00F-0211-450C-B24C-74B6FF91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93C389-D592-4762-9B9C-3FDF72A7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CAFBBF-D8F4-4630-BA92-E9E73D10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E3C87D-6CB4-4C5F-8392-0AB2D4D9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E28A5-953C-4794-A8BD-084F60E2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E9C64E-6AC5-4A4D-86FF-2C05686C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A71B0D-5EE0-4000-9AE2-9799C387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EF71E8-3D4D-412D-9486-92D5CE45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E7C99C-E8E3-417E-B107-5357C077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708BDD-F96E-42E2-8324-D5C65B96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7B598C-8D15-420F-8B19-DCFAC400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33352F-37E9-4F7F-ADB0-A06D59F4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42E1CF-8947-48BD-9F50-BBD9A7E9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9D5430-436A-48FA-A18C-B1FC03C2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894736-DBCF-43CF-BED4-A349F6E1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BBEA5-81F8-4CDE-9B1B-D8969B4C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9C3073-12BC-4F50-8E48-D79E66E5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A4DF11-6A51-4622-8FC9-7008465B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6E1BE3-FB62-4135-9710-F93C7E9C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935F43-3954-40CB-9CB9-DE2012CF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D072AA-7526-4DAF-B3A8-88F4FCF1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C04350-6F0C-4316-8446-45A2606F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11EEDE-E7C7-4DD5-A1EB-CC217CDB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659CB9-AE38-46D9-9C14-D43148CE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6D7EDB-0B35-459C-8026-1DB93790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2DE651-2B67-41A6-B18F-8268DE4C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05B29-F9FA-4B33-9646-AC7DDBB3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6ADB79-342D-416B-A871-BE01A31D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9A0468-BF3A-4C2D-AF89-30CD8155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E1B1AD-C466-4BE4-BB67-07EA302C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061818-7451-4D0A-A10A-67B6BD77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D48E6A-8F84-4BA5-9CCC-8EC784D0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AF3789-33CE-4ADC-ADA4-762E5736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064F18-27AF-4378-B510-2F8EEB2D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539EEB-D712-42D4-AE84-07DCE872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08E709-24B4-4B03-9B7A-8444A8F5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7C59FC-0C5D-4054-8578-DA1B78EB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273D3-3288-4CCD-83EA-8483FB25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B6D611-F8B3-4379-92A9-0C2343D5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9947E6-9E72-452A-9F5E-C87787D8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DCF2AF-F8AE-48F1-89AB-73011B88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5AAC3D-01B2-4582-A6B3-D9E0E9BF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16EBE4-263B-491A-A2CF-71F8EDE0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BAD16A-F2B6-4635-9136-39455E76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AA947F-E34D-447B-B563-73BF8E72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4AEE1F-E3D0-4A13-AD42-2D405F56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AD6040-9275-4A14-A032-E794D212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85DDD-5660-4AAF-B375-A625EEFE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9DB3-1EC5-4546-AC91-E4ED9256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00F40-A51F-4EDF-AEA1-0B1F4D66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58D4B-B2A9-4F38-BB1F-FEC1E4D2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81951-238E-4A9F-B15F-9CE5EE55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D946C-59DC-4CEA-9273-B23A0A87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EE9B1-5E1F-4ECD-AE12-0B6866BE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1682B-E4EA-4257-9B74-C7882B1D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9524B-5F0D-487A-88CB-5402715F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44F98-E891-4E29-A31D-84C16453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7E3A2-A140-4D34-AC0B-AF7EB040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FA2F4-8B9F-4696-B0F3-B6F853AC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2E9-2701-43D9-98D4-A29D9301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4947C-1412-46C3-BF5A-FF7DE2D9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88047-5578-44D0-82B5-44443147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EB6CD-7B70-4948-94DD-5EF740AF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0D5CD-B918-4446-ABFC-8399071D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F78BD-4B6A-4E82-88BA-C39A704A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D5EAC-4073-42FB-8C9C-72E8B654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1C073-6F53-4E72-BC1B-0D9DA117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F0AF7-076A-4125-80DB-C4437986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89A48-9833-4F96-8632-69DF9A46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84F6B-B120-4DE1-BE51-C15773DC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6789-833D-48D2-8498-668E9D8D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08177-BEE1-4CF9-B404-6EB5E7D7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764B8-910C-4B55-AED1-D7BCE059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DF0C3-8EF0-4259-B9C0-E88BB1AD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45697-8426-466D-82EC-86CB4704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98DDA-24CD-49A5-BE2D-99FBD418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85027-B7D3-43D5-8328-4D4BD005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EEE8E-6D3B-46C8-904E-E1FA3095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D661D-EF27-4727-A2F1-20EA752C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6AFC1-68B8-4256-B2C2-66A07063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5A092-C8BC-4838-A2F2-EEFC0C2C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0D43-8FB1-48A2-BF48-7ABE52A7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EB57D-56B7-4256-AF66-EB8B6F28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E5DCC-B137-4118-9816-E53EB77C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F0F54-A0E6-45DE-BE2F-5C111026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A3488-1124-48FD-B7B8-0D56A6AE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B368E-4C3F-4E57-860F-B350DF5B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5F67C-41E6-4818-8271-6AD5FD4E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B64E1-A505-4E51-92C7-9538FCE8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1DB69-374D-4237-93B8-FB71D057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906B7-B146-4E9F-8F62-EB55D065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DC898-87E1-4BDE-A0D7-1A3DB319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E6D9-C127-42EC-BA2C-E688C581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03C1B-0D6B-401B-BE66-5E1FA6C8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85AED-67EC-4A75-B5D3-E6C5425B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1FB05-5E75-478E-97D3-BE04FE16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4D41E-365B-43FB-82C0-F6BF22FC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6D72F-780E-4306-A924-9A2B16E9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68087-9732-4F3E-9569-6AFA4870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FAAB0-6D63-4980-811A-D8A0C79F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2EEA9-A07A-4D77-B106-E997F45E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A8BC3-AAAA-4850-B2D5-44F412E8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8E691-B78A-4B56-A7FA-0C8D11BF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0B7F-4D1B-4E3D-9831-6C90FD62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41F6B-847F-45A5-9781-8FBF2BD6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30CAF-C78D-4C96-BCC0-65EB5734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FDF79-D507-492A-8568-53C7FEC0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F43E5-F2EE-456F-B45A-01952CC5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DACE1-D1CC-46C5-AEBD-6DCC380D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EB331-D061-4936-9FDB-CEDC000F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10820-702C-4B07-911E-3F52A7F5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2D81C-9C25-42E3-97B4-6A1304D5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98D0A-2BF3-4A2A-B792-924754EC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4BB97-DE76-4F51-8E0B-24B90892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9AE0-DC6D-4E46-8E26-419EF266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9191C-8397-45E9-9275-D7EC86DD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E1ABF-B474-4FFC-B722-0BCC9F3D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19A2B-EA4F-4871-BD4F-52C0EAC9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9AC36-0FDF-4D00-95D4-22A96D93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D0831-21C1-4631-99E8-18439164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1BA46-BD90-4468-A9DC-D413703F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759F0-A366-43A9-9A81-9E46B705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8A64B-1F91-4800-B548-FC6C87EF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61685-4462-4A5F-B24A-9CF5F984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5F8FA-E283-414C-BAE5-FBAAFE03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2C5E-55FF-47C6-BDF1-138B5136F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66C3-C9EC-4939-A3AE-8FF261BD8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8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8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9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1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01A6-2BA7-4D86-82C6-659D57F2B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8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9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0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2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4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810A-BBC6-4252-BE3E-6A84ED2C5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69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9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3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3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8A5C-932B-4F14-8971-1AF3105A25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8D9F-85BA-4492-8B23-41C03A2F26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778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DF57-65FB-45D3-A954-66C4DAB9BC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2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730E-E6C6-461E-A57B-C47B7FF110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F021-BCDD-4AA8-97C7-9BFB64BD0D3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83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93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94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7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0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09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10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13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14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15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16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4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F0CC-4244-41E0-AAAE-D36D4509AD6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67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1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76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77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81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86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025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4EA5-264F-4FD2-9E4A-AEE0693FA7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A17A-B7F3-46DE-B17D-2EC8A07D9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9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070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C389-6E33-467C-B99C-7A019B7C59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114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5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116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121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26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127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131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135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8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39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2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76CF-625D-4AFC-93FC-D7AA1477AF2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7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198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199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6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2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213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217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221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225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229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2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9" name="PlaceHolder 1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91F9-8223-46CF-927D-F8DB2E84FF6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9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280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2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28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 type="dt" idx="6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 type="ftr" idx="6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 type="sldNum" idx="6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2144-C1F3-43AB-9C1F-1337A9C4A38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3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334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335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7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0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341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dt" idx="7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 type="ftr" idx="7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 type="sldNum" idx="7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786A-1220-470A-9D3A-443E0D01C18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06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c0600"/>
                </a:gs>
                <a:gs pos="50000">
                  <a:srgbClr val="993300"/>
                </a:gs>
                <a:gs pos="100000">
                  <a:srgbClr val="0c0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c06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c06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c06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60300"/>
                </a:gs>
                <a:gs pos="100000">
                  <a:srgbClr val="0c0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0c0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c0600"/>
                </a:gs>
                <a:gs pos="50000">
                  <a:srgbClr val="993300"/>
                </a:gs>
                <a:gs pos="100000">
                  <a:srgbClr val="0c0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e34b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7e34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4A5B-1B80-47D4-AB86-7A464E8151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06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c0600"/>
                </a:gs>
                <a:gs pos="50000">
                  <a:srgbClr val="993300"/>
                </a:gs>
                <a:gs pos="100000">
                  <a:srgbClr val="0c0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c06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c06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c06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60300"/>
                </a:gs>
                <a:gs pos="100000">
                  <a:srgbClr val="0c0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0c0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c0600"/>
                </a:gs>
                <a:gs pos="50000">
                  <a:srgbClr val="993300"/>
                </a:gs>
                <a:gs pos="100000">
                  <a:srgbClr val="0c0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e34b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4F8C-67ED-451B-9AA3-F00CC2F428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0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A859-1370-4C5B-B4F2-DCE42D5282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5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9A3B-EA90-4A85-A7A9-072B8A11073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d2d5d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cd0505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7c849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251E-1EBC-4AA7-9B1F-D4C9B2C54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320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7c8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7c8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7c8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cd0505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dt" idx="22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23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24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1497-7C53-46C7-B90D-08F19FDDF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F1AA-53D5-41DB-BE96-F689D46981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 txBox="1"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99ff"/>
                </a:solidFill>
                <a:latin typeface="Comic Sans MS"/>
              </a:rPr>
              <a:t>- Из</a:t>
            </a:r>
            <a:r>
              <a:rPr b="1" lang="en-US" sz="6400" spc="-1" strike="noStrike">
                <a:solidFill>
                  <a:srgbClr val="fb052e"/>
                </a:solidFill>
                <a:latin typeface="Comic Sans MS"/>
              </a:rPr>
              <a:t>вин</a:t>
            </a:r>
            <a:r>
              <a:rPr b="1" lang="en-US" sz="64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64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00000"/>
                </a:solidFill>
                <a:latin typeface="Comic Sans MS"/>
              </a:rPr>
              <a:t>- Исключи меня </a:t>
            </a:r>
            <a:r>
              <a:rPr b="1" lang="en-US" sz="7400" spc="-1" strike="noStrike">
                <a:solidFill>
                  <a:srgbClr val="0099ff"/>
                </a:solidFill>
                <a:latin typeface="Comic Sans MS"/>
              </a:rPr>
              <a:t>из</a:t>
            </a:r>
            <a:r>
              <a:rPr b="1" lang="en-US" sz="7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7400" spc="-1" strike="noStrike">
                <a:solidFill>
                  <a:srgbClr val="fb052e"/>
                </a:solidFill>
                <a:latin typeface="Comic Sans MS"/>
              </a:rPr>
              <a:t>вины</a:t>
            </a:r>
            <a:r>
              <a:rPr b="1" lang="en-US" sz="7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адание 1. «Подумай и ответь»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шок – мех; подушка – ух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лег вещий – весть;Кощей - 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Жучка - 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усок дерева для топки -?     от 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укавица - ?; перчатки - 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Задание 2. «Состав слов и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                      способ образования»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Завязывать, кольцо, настольный, опилки, пасынок, девятнадцать, подберезовик, ловить, горница, корова, дворняжка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Задание 3. «Словарь»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…гряный, б…рдовый, п…рила,  те(р,рр)аса, п…ркет, инт…рьер, с…лдат, б…гатырь,  п…хота, из…бр…тение, р…форма,  иску(с,сс)тво, искус…ный, бл…госл…вение, восп…тать, ув…жение, п…вильон, л…т…ратура, …тчизн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052e"/>
                </a:solidFill>
                <a:latin typeface="Verdana"/>
              </a:rPr>
              <a:t>Например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</a:t>
            </a:r>
            <a:r>
              <a:rPr b="1" lang="ru-RU" sz="3200" spc="-1" strike="noStrike">
                <a:solidFill>
                  <a:srgbClr val="fb052e"/>
                </a:solidFill>
                <a:latin typeface="Verdana"/>
              </a:rPr>
              <a:t>а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ряный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– из старославянского  «б</a:t>
            </a:r>
            <a:r>
              <a:rPr b="0" lang="ru-RU" sz="3200" spc="-1" strike="noStrike">
                <a:solidFill>
                  <a:srgbClr val="fb052e"/>
                </a:solidFill>
                <a:latin typeface="Verdana"/>
              </a:rPr>
              <a:t>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ръ» – «красная краска или цвет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</a:t>
            </a:r>
            <a:r>
              <a:rPr b="1" lang="ru-RU" sz="3200" spc="-1" strike="noStrike">
                <a:solidFill>
                  <a:srgbClr val="fb052e"/>
                </a:solidFill>
                <a:latin typeface="Verdana"/>
              </a:rPr>
              <a:t>о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довый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– от французского «цвет б</a:t>
            </a:r>
            <a:r>
              <a:rPr b="0" lang="ru-RU" sz="3200" spc="-1" strike="noStrike">
                <a:solidFill>
                  <a:srgbClr val="fb052e"/>
                </a:solidFill>
                <a:latin typeface="Verdana"/>
              </a:rPr>
              <a:t>о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до» от названия местности Б</a:t>
            </a:r>
            <a:r>
              <a:rPr b="0" lang="ru-RU" sz="3200" spc="-1" strike="noStrike">
                <a:solidFill>
                  <a:srgbClr val="fb052e"/>
                </a:solidFill>
                <a:latin typeface="Verdana"/>
              </a:rPr>
              <a:t>о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до, где производят вино цвета б</a:t>
            </a:r>
            <a:r>
              <a:rPr b="0" lang="ru-RU" sz="3200" spc="-1" strike="noStrike">
                <a:solidFill>
                  <a:srgbClr val="fb052e"/>
                </a:solidFill>
                <a:latin typeface="Verdana"/>
              </a:rPr>
              <a:t>о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до- «ярко красного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Работа в группах «Этимологический словарик».</a:t>
            </a:r>
            <a:r>
              <a:rPr b="1" lang="en-US" sz="4000" spc="-1" strike="noStrike">
                <a:solidFill>
                  <a:srgbClr val="fb052e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b052e"/>
                </a:solidFill>
                <a:latin typeface="Comic Sans MS"/>
              </a:rPr>
              <a:t>Например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Едкий </a:t>
            </a:r>
            <a:r>
              <a:rPr b="1" i="1" lang="en-US" sz="4400" spc="-1" strike="noStrike">
                <a:solidFill>
                  <a:srgbClr val="703dff"/>
                </a:solidFill>
                <a:latin typeface="Comic Sans MS"/>
              </a:rPr>
              <a:t>– </a:t>
            </a:r>
            <a:r>
              <a:rPr b="0" i="1" lang="en-US" sz="4400" spc="-1" strike="noStrike">
                <a:solidFill>
                  <a:srgbClr val="703dff"/>
                </a:solidFill>
                <a:latin typeface="Comic Sans MS"/>
              </a:rPr>
              <a:t>пригодный в пищу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Нелепица </a:t>
            </a:r>
            <a:r>
              <a:rPr b="1" i="1" lang="en-US" sz="4400" spc="-1" strike="noStrike">
                <a:solidFill>
                  <a:srgbClr val="703dff"/>
                </a:solidFill>
                <a:latin typeface="Comic Sans MS"/>
              </a:rPr>
              <a:t>– </a:t>
            </a:r>
            <a:r>
              <a:rPr b="0" i="1" lang="en-US" sz="4400" spc="-1" strike="noStrike">
                <a:solidFill>
                  <a:srgbClr val="703dff"/>
                </a:solidFill>
                <a:latin typeface="Comic Sans MS"/>
              </a:rPr>
              <a:t>некачественный пластили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06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e34b"/>
                </a:solidFill>
                <a:latin typeface="Times New Roman"/>
              </a:rPr>
              <a:t>Работа в группах «Этимологический словарик».</a:t>
            </a:r>
            <a:endParaRPr b="1" lang="en-US" sz="4000" spc="-1" strike="noStrike">
              <a:solidFill>
                <a:srgbClr val="f7e34b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 группа- 1 ряд 1 вариант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дерюга, парилка, налич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группа- 1ряд 2 вариант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дача, тысячелистник, мокриц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 группа- 2 ряд 1 вариант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гончая, чернослив, стри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 группа- 2ряд 2 вариант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заморыш, зазубрина, готовальн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 группа- 3ряд 1 вариант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лестница, четвертовать, этажер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 группа- 3ряд 2 вариант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изверг, жрец, сомн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394920" y="765000"/>
            <a:ext cx="82803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052e"/>
                </a:solidFill>
                <a:latin typeface="Tahoma"/>
              </a:rPr>
              <a:t>«Берегите наш язык, наш прекрасный русский язык, этот клад, это достояние, переданное нам нашими предшественниками, в числе которых блистает опять-таки Пушкин! Обращайтесь почтительно с этим могущественным орудием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052e"/>
                </a:solidFill>
                <a:latin typeface="Tahoma"/>
              </a:rPr>
              <a:t>в руках умелых оно в состоянии совершать чудеса!...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052e"/>
                </a:solidFill>
                <a:latin typeface="Tahoma"/>
              </a:rPr>
              <a:t>И. С. Тургенев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  </a:t>
            </a: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Время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.                   </a:t>
            </a: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Бумага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2340000" y="1599840"/>
            <a:ext cx="3222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ремя – заимствованно из старославянского, где образовано с помощью суффикса  мен  (затем перешедшего в  мя) от той же основы, что и глагол вертеть. Первоначальное значение существительного время – «нечто вращающеес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Остановить бы </a:t>
            </a:r>
            <a:r>
              <a:rPr b="1" i="1" lang="en-US" sz="1600" spc="-1" strike="noStrike">
                <a:solidFill>
                  <a:srgbClr val="e4005c"/>
                </a:solidFill>
                <a:latin typeface="Times New Roman"/>
              </a:rPr>
              <a:t>время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отдышать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Не торопясь подум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обо вс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Кто мы такие, чтоб на с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рождатьс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Зачем пришли и для ч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живе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В. Тарас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5651640" y="1599840"/>
            <a:ext cx="3187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умага – заимствованно из итальянского, где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bambagia-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хлопок, хлопчатая бумаг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тальянский это слово пришло из греческого и имеет несомненное родство с существительным  бамбук (в греческом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mbakion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и означало бамбук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нига есть и будет осно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духовной жизни народа. Чер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оттиски букв на белой </a:t>
            </a:r>
            <a:r>
              <a:rPr b="1" i="1" lang="ru-RU" sz="1600" spc="-1" strike="noStrike">
                <a:solidFill>
                  <a:srgbClr val="e4005c"/>
                </a:solidFill>
                <a:latin typeface="Times New Roman"/>
              </a:rPr>
              <a:t>бумаге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листы, собранные в книгу,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лучшее универсаль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ранилище мысл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дохновляющий источн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овых ид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 Е. Лихтенштей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508720" y="1700280"/>
            <a:ext cx="0" cy="489744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diamond" w="med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5508720" y="475920"/>
            <a:ext cx="0" cy="108108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diamond" w="med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651640" y="1557360"/>
            <a:ext cx="3241440" cy="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diamond" w="med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36400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2484000" y="1557360"/>
            <a:ext cx="2879640" cy="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diamond" w="med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651640" y="6597720"/>
            <a:ext cx="331308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diamond" w="med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2411280" y="6597720"/>
            <a:ext cx="295272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diamond" w="med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411280" y="1628640"/>
            <a:ext cx="0" cy="489600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diamond" w="med"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964720" y="1628640"/>
            <a:ext cx="0" cy="482472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diamond" w="med"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06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e34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7e34b"/>
                </a:solidFill>
                <a:latin typeface="Times New Roman"/>
              </a:rPr>
              <a:t>Задание «Расшифруй пословицу»</a:t>
            </a:r>
            <a:endParaRPr b="1" lang="en-US" sz="4000" spc="-1" strike="noStrike">
              <a:solidFill>
                <a:srgbClr val="f7e34b"/>
              </a:solidFill>
              <a:latin typeface="Times New Roman"/>
            </a:endParaRPr>
          </a:p>
        </p:txBody>
      </p:sp>
      <p:graphicFrame>
        <p:nvGraphicFramePr>
          <p:cNvPr id="1462" name=""/>
          <p:cNvGraphicFramePr/>
          <p:nvPr/>
        </p:nvGraphicFramePr>
        <p:xfrm>
          <a:off x="468360" y="1989000"/>
          <a:ext cx="8218440" cy="362448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м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ую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юб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рег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ую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м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мл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463" name=""/>
          <p:cNvGraphicFramePr/>
          <p:nvPr/>
        </p:nvGraphicFramePr>
        <p:xfrm>
          <a:off x="3203640" y="5589720"/>
          <a:ext cx="2736720" cy="86364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ff"/>
                </a:solidFill>
                <a:latin typeface="Comic Sans MS"/>
              </a:rPr>
              <a:t>- О</a:t>
            </a:r>
            <a:r>
              <a:rPr b="1" lang="en-US" sz="7200" spc="-1" strike="noStrike">
                <a:solidFill>
                  <a:srgbClr val="fb052e"/>
                </a:solidFill>
                <a:latin typeface="Comic Sans MS"/>
              </a:rPr>
              <a:t>берег</a:t>
            </a:r>
            <a:r>
              <a:rPr b="1" lang="en-US" sz="7200" spc="-1" strike="noStrike">
                <a:solidFill>
                  <a:srgbClr val="1f357b"/>
                </a:solidFill>
                <a:latin typeface="Comic Sans MS"/>
              </a:rPr>
              <a:t>и</a:t>
            </a:r>
            <a:endParaRPr b="0" lang="en-US" sz="72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b052e"/>
                </a:solidFill>
                <a:latin typeface="Arial"/>
              </a:rPr>
              <a:t>- Берег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ами меня </a:t>
            </a:r>
            <a:r>
              <a:rPr b="0" lang="en-US" sz="7200" spc="-1" strike="noStrike">
                <a:solidFill>
                  <a:srgbClr val="0099ff"/>
                </a:solidFill>
                <a:latin typeface="Arial"/>
              </a:rPr>
              <a:t>о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кружи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/>
          <p:cNvSpPr txBox="1"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ff"/>
                </a:solidFill>
                <a:latin typeface="Comic Sans MS"/>
              </a:rPr>
              <a:t>- </a:t>
            </a:r>
            <a:r>
              <a:rPr b="1" lang="en-US" sz="7200" spc="-1" strike="noStrike">
                <a:solidFill>
                  <a:srgbClr val="fb052e"/>
                </a:solidFill>
                <a:latin typeface="Comic Sans MS"/>
              </a:rPr>
              <a:t>Защит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72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- Спрячь меня </a:t>
            </a:r>
            <a:r>
              <a:rPr b="1" lang="en-US" sz="7200" spc="-1" strike="noStrike">
                <a:solidFill>
                  <a:srgbClr val="0099ff"/>
                </a:solidFill>
                <a:latin typeface="Arial"/>
              </a:rPr>
              <a:t>за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fb052e"/>
                </a:solidFill>
                <a:latin typeface="Arial"/>
              </a:rPr>
              <a:t>щит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ом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хема морфемного состава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24000" y="5445000"/>
            <a:ext cx="4032000" cy="1224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. В сложном  слове д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или больше) корня; меж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ими может стоя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единительная глас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4716360" y="5445000"/>
            <a:ext cx="4032360" cy="1224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. В слове может бы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е приставки или д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уффикса (или больш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79280" y="4653000"/>
            <a:ext cx="3672000" cy="576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. Корень                1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4932360" y="4653000"/>
            <a:ext cx="4032360" cy="576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. Приставка или суффик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или и то и друго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4932360" y="3860640"/>
            <a:ext cx="4032360" cy="576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. В производной осно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язательно е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16000" y="3860640"/>
            <a:ext cx="3384720" cy="576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. В непроизводной осно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сть толь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84360" y="3141720"/>
            <a:ext cx="4032000" cy="576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. В любой основе е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324000" y="2349360"/>
            <a:ext cx="5327640" cy="576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Основа                                             5.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6084720" y="2349360"/>
            <a:ext cx="1981440" cy="576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 Оконч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148360" y="1628640"/>
            <a:ext cx="3384360" cy="576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 В изменяемом сло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908000" y="1557360"/>
            <a:ext cx="3095640" cy="576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В неизменяемом сло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сть толь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250920" y="836640"/>
            <a:ext cx="2305080" cy="576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В любом сло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6300720" y="213372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826920" y="134136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2556000" y="27813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971640" y="357336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826920" y="5157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219640" y="42926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219640" y="50846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556000" y="4221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340000" y="2060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364000" y="2060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H="1">
            <a:off x="3564000" y="4292640"/>
            <a:ext cx="151272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 txBox="1"/>
          <p:nvPr/>
        </p:nvSpPr>
        <p:spPr>
          <a:xfrm>
            <a:off x="7093080" y="4941720"/>
            <a:ext cx="162864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СОЛН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684360" y="4941720"/>
            <a:ext cx="99036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СОЛ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426" name="" descr=""/>
          <p:cNvPicPr/>
          <p:nvPr/>
        </p:nvPicPr>
        <p:blipFill>
          <a:blip r:embed="rId1"/>
          <a:stretch/>
        </p:blipFill>
        <p:spPr>
          <a:xfrm>
            <a:off x="6516720" y="404640"/>
            <a:ext cx="1973160" cy="2519640"/>
          </a:xfrm>
          <a:prstGeom prst="rect">
            <a:avLst/>
          </a:prstGeom>
          <a:ln w="0">
            <a:noFill/>
          </a:ln>
        </p:spPr>
      </p:pic>
      <p:pic>
        <p:nvPicPr>
          <p:cNvPr id="1427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2016000" cy="2579760"/>
          </a:xfrm>
          <a:prstGeom prst="rect">
            <a:avLst/>
          </a:prstGeom>
          <a:ln w="0">
            <a:noFill/>
          </a:ln>
        </p:spPr>
      </p:pic>
      <p:pic>
        <p:nvPicPr>
          <p:cNvPr id="1428" name="" descr=""/>
          <p:cNvPicPr/>
          <p:nvPr/>
        </p:nvPicPr>
        <p:blipFill>
          <a:blip r:embed="rId3"/>
          <a:stretch/>
        </p:blipFill>
        <p:spPr>
          <a:xfrm>
            <a:off x="2484360" y="2637000"/>
            <a:ext cx="403236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9" name=""/>
          <p:cNvGraphicFramePr/>
          <p:nvPr/>
        </p:nvGraphicFramePr>
        <p:xfrm>
          <a:off x="468360" y="476280"/>
          <a:ext cx="8137440" cy="6127560"/>
        </p:xfrm>
        <a:graphic>
          <a:graphicData uri="http://schemas.openxmlformats.org/drawingml/2006/table">
            <a:tbl>
              <a:tblPr/>
              <a:tblGrid>
                <a:gridCol w="2712960"/>
                <a:gridCol w="2711520"/>
                <a:gridCol w="2712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ревнее слово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временное слово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 изменилось?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л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лнц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р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ск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ск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о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ем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ол+и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олиц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оск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0" name=""/>
          <p:cNvGraphicFramePr/>
          <p:nvPr/>
        </p:nvGraphicFramePr>
        <p:xfrm>
          <a:off x="468360" y="476280"/>
          <a:ext cx="8137440" cy="6127560"/>
        </p:xfrm>
        <a:graphic>
          <a:graphicData uri="http://schemas.openxmlformats.org/drawingml/2006/table">
            <a:tbl>
              <a:tblPr/>
              <a:tblGrid>
                <a:gridCol w="2712960"/>
                <a:gridCol w="2711520"/>
                <a:gridCol w="2712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ревнее слово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временное слово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 изменилось?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л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л</a:t>
                      </a: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Tahoma"/>
                        </a:rPr>
                        <a:t>н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Tahoma"/>
                        </a:rPr>
                        <a:t>Н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с</a:t>
                      </a: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Tahoma"/>
                        </a:rPr>
                        <a:t>к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ск</a:t>
                      </a: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Tahoma"/>
                        </a:rPr>
                        <a:t>в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</a:t>
                      </a: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Tahoma"/>
                        </a:rPr>
                        <a:t>о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</a:t>
                      </a: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Tahoma"/>
                        </a:rPr>
                        <a:t>емл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ол+</a:t>
                      </a: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Tahoma"/>
                        </a:rPr>
                        <a:t>и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ол</a:t>
                      </a: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Tahoma"/>
                        </a:rPr>
                        <a:t>иц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о</a:t>
                      </a: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Tahoma"/>
                        </a:rPr>
                        <a:t>ск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о</a:t>
                      </a: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Tahoma"/>
                        </a:rPr>
                        <a:t>щад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1" name=""/>
          <p:cNvGraphicFramePr/>
          <p:nvPr/>
        </p:nvGraphicFramePr>
        <p:xfrm>
          <a:off x="468360" y="476280"/>
          <a:ext cx="8137440" cy="6269040"/>
        </p:xfrm>
        <a:graphic>
          <a:graphicData uri="http://schemas.openxmlformats.org/drawingml/2006/table">
            <a:tbl>
              <a:tblPr/>
              <a:tblGrid>
                <a:gridCol w="2712960"/>
                <a:gridCol w="2711520"/>
                <a:gridCol w="2712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ревнее слово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временное слово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 изменилось?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л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Arial"/>
                        </a:rPr>
                        <a:t>Солн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ффикс слился с корн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Arial"/>
                        </a:rPr>
                        <a:t>Нар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ставка на слилась с корн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ск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Arial"/>
                        </a:rPr>
                        <a:t>Москв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нетические изменения – появилась буква </a:t>
                      </a: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о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Arial"/>
                        </a:rPr>
                        <a:t>Крем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редование м//м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л+и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Arial"/>
                        </a:rPr>
                        <a:t>столиц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ффикс слился с корн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ск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b052e"/>
                          </a:solidFill>
                          <a:latin typeface="Arial"/>
                        </a:rPr>
                        <a:t>площад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нетические изменения+слияние суффикса –адь с корн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7e7ff"/>
                </a:solidFill>
                <a:latin typeface="Georgia"/>
              </a:rPr>
              <a:t>"Исторические изменения </a:t>
            </a:r>
            <a:br>
              <a:rPr sz="4800"/>
            </a:br>
            <a:r>
              <a:rPr b="1" lang="en-US" sz="4800" spc="-1" strike="noStrike">
                <a:solidFill>
                  <a:srgbClr val="b7e7ff"/>
                </a:solidFill>
                <a:latin typeface="Georgia"/>
              </a:rPr>
              <a:t>в составе слова".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Усердней с каждым днём гляжу в словар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 его столбцах мерцают искры чувства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ет, не словарь лежит передо м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А древняя рассыпанная повесть.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. Маршак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A19B-7643-420F-96B1-24EA945265C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6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Этимология – (От греческого “etymon” – истина и “logos” - учение)</a:t>
            </a:r>
            <a:br>
              <a:rPr sz="3600"/>
            </a:b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Происхождение слова или морфе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Раздел языкознания, занимающийся изучением первоначальной словообразовательной структуры слова и выявлением элементов его древнего зна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20:55:49Z</dcterms:created>
  <dc:creator>Лапа</dc:creator>
  <dc:description/>
  <dc:language>en-US</dc:language>
  <cp:lastModifiedBy>Лапа</cp:lastModifiedBy>
  <dcterms:modified xsi:type="dcterms:W3CDTF">2007-10-16T23:35:23Z</dcterms:modified>
  <cp:revision>64</cp:revision>
  <dc:subject/>
  <dc:title>"Исторические изменения в составе слова.  Этимология на службе орфографии". </dc:title>
</cp:coreProperties>
</file>