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B1AF-7323-46C8-BF2C-2DCCBF63D8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E599-E8DF-4C34-A8E5-C86516B2C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надписи – автоматически после первого щелчка мыши (с задержкой для чтения стро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79FD-2DF8-440E-8586-9F6C42DE5A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строк – автоматически после первого щелчка мыши (с задержкой для чтения стро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4F07-20B6-42B1-B279-BC03DB4B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F5D7-4209-449A-BE8C-6A2109AC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030-3914-42D2-AB09-B9BE0B03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559A-45B7-40E5-B592-0435861F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CD84-A6B7-4C6A-93C1-30D322B9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C5A9-EB23-4B1F-B3BA-D9ECD85F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6357-A7AB-40C1-A0DC-CDBD3D24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0DCF-20DB-4DDC-A368-63076D9A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6897-4CCC-44A3-8CF4-E8E2A31B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6282-42FC-4FED-A09F-CEEA7FCF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8A5C-9B70-4D00-AD6A-0B69D56E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349-6A6D-4C8D-BE84-21F9B75F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734F-04BF-4C64-B6AF-5CED80F6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4317-69CF-4385-B7C3-8FD7E63F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6F8F-B228-4A96-86B0-0D8D9355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3845-BA08-4C52-889A-0A3C657F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CACD-3E62-4ED2-8B32-A1520C71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927-9AB6-470B-873E-94407582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734E-5667-48FB-97E2-39DB5920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507-7308-425E-9623-A72E6FF6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734-82BB-4063-BCE9-778B7C8A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891-5DFF-4B46-A005-402AEAA7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D001-D0A1-43F8-94BB-FCA37908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7B6C-9940-4E43-B7EF-43F9ADB1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B231-E22C-41B3-924B-91C7A05B8BC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DF4C-45FB-4A6B-AB12-DB2195175C8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66"/>
                </a:solidFill>
                <a:latin typeface="Monotype Corsiva"/>
              </a:rPr>
              <a:t>Мораль </a:t>
            </a:r>
            <a:br>
              <a:rPr sz="8000"/>
            </a:br>
            <a:r>
              <a:rPr b="0" lang="ru-RU" sz="8000" spc="-1" strike="noStrike">
                <a:solidFill>
                  <a:srgbClr val="006666"/>
                </a:solidFill>
                <a:latin typeface="Monotype Corsiva"/>
              </a:rPr>
              <a:t>и </a:t>
            </a:r>
            <a:br>
              <a:rPr sz="8000"/>
            </a:br>
            <a:r>
              <a:rPr b="0" lang="ru-RU" sz="8000" spc="-1" strike="noStrike">
                <a:solidFill>
                  <a:srgbClr val="006666"/>
                </a:solidFill>
                <a:latin typeface="Monotype Corsiva"/>
              </a:rPr>
              <a:t>нравственность в жизни человека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16" descr=""/>
          <p:cNvPicPr/>
          <p:nvPr/>
        </p:nvPicPr>
        <p:blipFill>
          <a:blip r:embed="rId1"/>
          <a:stretch/>
        </p:blipFill>
        <p:spPr>
          <a:xfrm>
            <a:off x="6372360" y="549360"/>
            <a:ext cx="24555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5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34212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4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Monotype Corsiva"/>
              </a:rPr>
              <a:t>«Лишь две вещи на свете </a:t>
            </a:r>
            <a:br>
              <a:rPr sz="5400"/>
            </a:br>
            <a:r>
              <a:rPr b="0" lang="ru-RU" sz="5400" spc="-1" strike="noStrike">
                <a:solidFill>
                  <a:srgbClr val="002060"/>
                </a:solidFill>
                <a:latin typeface="Monotype Corsiva"/>
              </a:rPr>
              <a:t>способны тревожить </a:t>
            </a:r>
            <a:br>
              <a:rPr sz="5400"/>
            </a:br>
            <a:r>
              <a:rPr b="0" lang="ru-RU" sz="5400" spc="-1" strike="noStrike">
                <a:solidFill>
                  <a:srgbClr val="002060"/>
                </a:solidFill>
                <a:latin typeface="Monotype Corsiva"/>
              </a:rPr>
              <a:t>наше воображение: </a:t>
            </a:r>
            <a:br>
              <a:rPr sz="5400"/>
            </a:br>
            <a:r>
              <a:rPr b="0" lang="ru-RU" sz="5400" spc="-1" strike="noStrike">
                <a:solidFill>
                  <a:srgbClr val="002060"/>
                </a:solidFill>
                <a:latin typeface="Monotype Corsiva"/>
              </a:rPr>
              <a:t>звездное небо над нами и нравственный закон внутри нас»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19564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И. Кан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8"/>
          <p:cNvSpPr/>
          <p:nvPr/>
        </p:nvSpPr>
        <p:spPr>
          <a:xfrm>
            <a:off x="250920" y="5886360"/>
            <a:ext cx="417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4572000" y="1052640"/>
            <a:ext cx="417672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324000" y="1052640"/>
            <a:ext cx="417672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572000" y="352440"/>
            <a:ext cx="4176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Monotype Corsiva"/>
              </a:rPr>
              <a:t>Нравственность</a:t>
            </a:r>
            <a:r>
              <a:rPr b="0" lang="ru-RU" sz="4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95280" y="352440"/>
            <a:ext cx="4176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Monotype Corsiva"/>
              </a:rPr>
              <a:t>Мораль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0" y="352440"/>
            <a:ext cx="835344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395280" y="1052640"/>
            <a:ext cx="8353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395280" y="6451560"/>
            <a:ext cx="8353440" cy="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13"/>
          <p:cNvSpPr/>
          <p:nvPr/>
        </p:nvSpPr>
        <p:spPr>
          <a:xfrm>
            <a:off x="0" y="352440"/>
            <a:ext cx="0" cy="588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4572000" y="404640"/>
            <a:ext cx="0" cy="604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9144000" y="352440"/>
            <a:ext cx="0" cy="588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Прямоугольник 1"/>
          <p:cNvSpPr/>
          <p:nvPr/>
        </p:nvSpPr>
        <p:spPr>
          <a:xfrm>
            <a:off x="324000" y="1054080"/>
            <a:ext cx="4248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onotype Corsiva"/>
              </a:rPr>
              <a:t>C</a:t>
            </a: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фера культуры, в которой концентрируются и обобщаются высокие идеалы и строгие нормы, регулирующие поведение и сознание человека в различных областях общественной жизн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250920" y="4846680"/>
            <a:ext cx="43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раль – это совокупность норм и требований, устанавливаемых обществом для людей (все вместе для каждог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4573440" y="107784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Принципы реального практического поведения людей, в котором строгость высокоморальных норм значительно смягчена, т.е. в данное понятие вкладывается более житейское, «приземлённое» значени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1640" y="4839840"/>
            <a:ext cx="43196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равственность – это совокупность этических требований, которые человек должен предъявлять к себе сам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Diagram 7"/>
          <p:cNvGrpSpPr/>
          <p:nvPr/>
        </p:nvGrpSpPr>
        <p:grpSpPr>
          <a:xfrm>
            <a:off x="409320" y="447840"/>
            <a:ext cx="8321040" cy="4367520"/>
            <a:chOff x="409320" y="447840"/>
            <a:chExt cx="8321040" cy="4367520"/>
          </a:xfrm>
        </p:grpSpPr>
        <p:sp>
          <p:nvSpPr>
            <p:cNvPr id="118" name="_s1028"/>
            <p:cNvSpPr/>
            <p:nvPr/>
          </p:nvSpPr>
          <p:spPr>
            <a:xfrm flipH="1" flipV="1">
              <a:off x="2511720" y="2435400"/>
              <a:ext cx="1035000" cy="18288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_s1029"/>
            <p:cNvSpPr/>
            <p:nvPr/>
          </p:nvSpPr>
          <p:spPr>
            <a:xfrm>
              <a:off x="409320" y="1668960"/>
              <a:ext cx="2157840" cy="1175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Высшие 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моральные 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ценности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_s1030"/>
            <p:cNvSpPr/>
            <p:nvPr/>
          </p:nvSpPr>
          <p:spPr>
            <a:xfrm flipH="1">
              <a:off x="3298320" y="3272040"/>
              <a:ext cx="640440" cy="47916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_s1031"/>
            <p:cNvSpPr/>
            <p:nvPr/>
          </p:nvSpPr>
          <p:spPr>
            <a:xfrm>
              <a:off x="1589760" y="3640320"/>
              <a:ext cx="2158560" cy="1175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Морально-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сихологические 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механизмы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_s1032"/>
            <p:cNvSpPr/>
            <p:nvPr/>
          </p:nvSpPr>
          <p:spPr>
            <a:xfrm>
              <a:off x="5200560" y="3272040"/>
              <a:ext cx="641160" cy="47916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_s1033"/>
            <p:cNvSpPr/>
            <p:nvPr/>
          </p:nvSpPr>
          <p:spPr>
            <a:xfrm>
              <a:off x="5397840" y="3638880"/>
              <a:ext cx="2158560" cy="1175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Нравственные 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ринципы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_s1034"/>
            <p:cNvSpPr/>
            <p:nvPr/>
          </p:nvSpPr>
          <p:spPr>
            <a:xfrm flipV="1">
              <a:off x="5592240" y="2435400"/>
              <a:ext cx="1035000" cy="18288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_s1035"/>
            <p:cNvSpPr/>
            <p:nvPr/>
          </p:nvSpPr>
          <p:spPr>
            <a:xfrm>
              <a:off x="6572520" y="1667160"/>
              <a:ext cx="2157840" cy="1175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Моральные 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качества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_s1036"/>
            <p:cNvSpPr/>
            <p:nvPr/>
          </p:nvSpPr>
          <p:spPr>
            <a:xfrm flipV="1">
              <a:off x="4570200" y="1621080"/>
              <a:ext cx="0" cy="59184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_s1037"/>
            <p:cNvSpPr/>
            <p:nvPr/>
          </p:nvSpPr>
          <p:spPr>
            <a:xfrm>
              <a:off x="3492360" y="447840"/>
              <a:ext cx="2157840" cy="11750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Нормы 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оведения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_s1038"/>
            <p:cNvSpPr/>
            <p:nvPr/>
          </p:nvSpPr>
          <p:spPr>
            <a:xfrm>
              <a:off x="3058560" y="1915560"/>
              <a:ext cx="2737440" cy="1513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Monotype Corsiva"/>
                </a:rPr>
                <a:t>Моральные 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Monotype Corsiva"/>
                </a:rPr>
                <a:t>требования и 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Monotype Corsiva"/>
                </a:rPr>
                <a:t>представления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9" name="AutoShape 19"/>
          <p:cNvSpPr/>
          <p:nvPr/>
        </p:nvSpPr>
        <p:spPr>
          <a:xfrm>
            <a:off x="5796000" y="333360"/>
            <a:ext cx="2879640" cy="1197000"/>
          </a:xfrm>
          <a:prstGeom prst="wedgeRoundRectCallout">
            <a:avLst>
              <a:gd name="adj1" fmla="val -62680"/>
              <a:gd name="adj2" fmla="val 3976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Не лг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Не украд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Не уби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20"/>
          <p:cNvSpPr/>
          <p:nvPr/>
        </p:nvSpPr>
        <p:spPr>
          <a:xfrm>
            <a:off x="5940360" y="2708280"/>
            <a:ext cx="3203640" cy="1224000"/>
          </a:xfrm>
          <a:prstGeom prst="wedgeRoundRectCallout">
            <a:avLst>
              <a:gd name="adj1" fmla="val -18384"/>
              <a:gd name="adj2" fmla="val -76976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Доброжелательность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праведливость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Мудрость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21"/>
          <p:cNvSpPr/>
          <p:nvPr/>
        </p:nvSpPr>
        <p:spPr>
          <a:xfrm>
            <a:off x="5148360" y="5084640"/>
            <a:ext cx="2879640" cy="1224000"/>
          </a:xfrm>
          <a:prstGeom prst="wedgeRoundRectCallout">
            <a:avLst>
              <a:gd name="adj1" fmla="val -26902"/>
              <a:gd name="adj2" fmla="val -75032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Коллективизм / индивидуализм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Эгоизм / альтруизм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22"/>
          <p:cNvSpPr/>
          <p:nvPr/>
        </p:nvSpPr>
        <p:spPr>
          <a:xfrm>
            <a:off x="1258920" y="5084640"/>
            <a:ext cx="2808360" cy="648000"/>
          </a:xfrm>
          <a:prstGeom prst="wedgeRoundRectCallout">
            <a:avLst>
              <a:gd name="adj1" fmla="val 199"/>
              <a:gd name="adj2" fmla="val -106615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Долг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овесть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23"/>
          <p:cNvSpPr/>
          <p:nvPr/>
        </p:nvSpPr>
        <p:spPr>
          <a:xfrm>
            <a:off x="250920" y="404640"/>
            <a:ext cx="2952720" cy="1225800"/>
          </a:xfrm>
          <a:prstGeom prst="wedgeRoundRectCallout">
            <a:avLst>
              <a:gd name="adj1" fmla="val -12527"/>
              <a:gd name="adj2" fmla="val 60361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мысл жизн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вобод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частье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684360" y="7920"/>
          <a:ext cx="8064360" cy="685008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68580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1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2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3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4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5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6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7   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оров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больные                                                              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самые здор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1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2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3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4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7   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глупые                                                                     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амые ум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1               2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3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4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5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6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7   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б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злые                                                            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добр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1               2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3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5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6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7   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с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лживые                                                              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самые чес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1               2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3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5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6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7   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и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необщительные                                     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общ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1              2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3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4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5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6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7   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иа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беспринципные                                      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самые принцип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1               2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5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6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7   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р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неискренние                                       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самые искрен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1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2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3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4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5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6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7   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л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робкие                                                              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самые сме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1               2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3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4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5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6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7   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влека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непривлекательные                              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амые привлека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1               2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3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4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5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6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7   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част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несчастливые                                     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амые счастли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3640" y="404640"/>
            <a:ext cx="83516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люч показателей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10-20 баллов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– заниженная самооценка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21-34 балла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– тенденция к занижению;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35-45 баллов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– адекватная самооценка; </a:t>
            </a: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46-59 баллов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– тенденция к завышению самооценки;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60-70 баллов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– явно завышенная самооценк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24000" y="189000"/>
          <a:ext cx="8712000" cy="6553080"/>
        </p:xfrm>
        <a:graphic>
          <a:graphicData uri="http://schemas.openxmlformats.org/drawingml/2006/table">
            <a:tbl>
              <a:tblPr/>
              <a:tblGrid>
                <a:gridCol w="1476360"/>
                <a:gridCol w="3138480"/>
                <a:gridCol w="2377800"/>
                <a:gridCol w="1719360"/>
              </a:tblGrid>
              <a:tr h="5572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п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шение к ошибк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ж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кват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вляют активность, общительность, оптим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целом – адекватное отношение: могут огорчиться; свои ошибки стараются исправить, чужим проблемам сочувствую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4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мятся к успехам в различных видах деятельности, им свойственна уверенность в своих сил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ще предпочтут не исправить ошибки, а забыть, не думать о н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льно, относятся безразлично к н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ыше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им людям свойственны высокомерие, бестактность. Они склонны к переоценке своих возможностей, недооценке чуж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итают случайными, вызванными посторонними факторами («плохо себя чувствовал», «учитель придирался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итают закономерными, само собой разумеющими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вляют неуверенность в себе, застенчивость, повышенную тревож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живают, но не стремятся исправ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льно безразл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иже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сть, замкнутость. Постоянная недооценка своих возможностей, переоценка чуж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итают закономерными, воспринимают как должно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авдывают, считают случайн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6912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Время  эти  понятия  не  стёрл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Нужно  только  поднять  верхний  пласт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И  дымящейся  кровью  у  горл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Чувства  вечные  хлынут  из  нас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Ныне  присно,  во  веки  веков,  старина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И  цена  есть  цена,  и  вина  есть  вина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И  всегда   хорошо,  если  честь  спасена,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Если  духом  надёжно  прикрыта  спин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Чистоту,  простоту  мы  у  древних  берём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Саги,  сказки  из  прошлого  тащи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Потому,  что  добро  остаётся  добро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В  прошлом,  будущем  и  настоящем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.  Высоцкий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«Баллада о времени»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975 год</a:t>
            </a:r>
            <a:r>
              <a:rPr b="0" lang="ru-RU" sz="1700" spc="-1" strike="noStrike" baseline="-2000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6875640" y="260280"/>
            <a:ext cx="2008080" cy="3097440"/>
          </a:xfrm>
          <a:prstGeom prst="rect">
            <a:avLst/>
          </a:prstGeom>
          <a:ln w="88920">
            <a:solidFill>
              <a:srgbClr val="996633"/>
            </a:solidFill>
            <a:miter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65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8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1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74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2:23:29Z</dcterms:created>
  <dc:creator>Оля</dc:creator>
  <dc:description/>
  <dc:language>en-US</dc:language>
  <cp:lastModifiedBy>user</cp:lastModifiedBy>
  <dcterms:modified xsi:type="dcterms:W3CDTF">2014-12-11T05:30:27Z</dcterms:modified>
  <cp:revision>33</cp:revision>
  <dc:subject/>
  <dc:title>Мораль и нравственность</dc:title>
</cp:coreProperties>
</file>