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F5C7B-23FA-4FDA-8DE4-9C2A9F9F5F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13D20-6339-4105-BABC-DD93041F64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явление надписи – автоматически после первого щелчка мыши (с задержкой для чтения строк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CB523-75FB-4406-A41F-AD4FB06665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явление строк – автоматически после первого щелчка мыши (с задержкой для чтения строк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57D9-8ED5-4294-A68D-037BEA61B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CE95-0D9B-4D64-8A5E-5826211CD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84B6-75CA-456F-91BE-6FB581D0A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C1ED-44C5-48AA-A4C3-27149758B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43DFF-4E05-4C7B-80BC-E4EFA49CD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9AE47-3EB8-4E7B-9F00-45DAE64F5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F4928-0D37-4A94-912B-753BF6A45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22ADE-0AF7-416E-B114-7B16B077A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86796-28BE-4F6E-A221-63C12398D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B0B27-759D-4346-84E4-BF51AF939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37937-67CB-4A12-BECB-F1DF4F43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9D2D-9EA8-4A7B-B1CB-E3F9F2E0A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AE0F5-242C-4792-882D-BFA9D370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AC9D6-A979-4ADA-B4E0-A3938A9B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41BA2-7734-446E-857A-F8E6AFC75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910D6-CC18-461C-974B-E70E700C0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2578D-F20C-4C6E-816F-6BE08A3F9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9BAB-99A6-484B-AAED-E30EB739E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77E5-D083-4F71-AEB6-52811F38C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E45D-F859-47DC-ABEE-F5CFE30D8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12AA-A5F0-4505-99D9-6407D7F85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99FB-E26A-4CDA-BA5A-A216D7D51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FDB6-B767-4BCB-BB6E-B202FC7C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348C-A4C9-4414-A958-AA608104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FBAC8-3A0A-4AE5-BB82-BD87C4BF39C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F1F53-3214-4761-8B9C-C11BD17BBA1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6666"/>
                </a:solidFill>
                <a:latin typeface="Monotype Corsiva"/>
              </a:rPr>
              <a:t>Мораль </a:t>
            </a:r>
            <a:br>
              <a:rPr sz="8000"/>
            </a:br>
            <a:r>
              <a:rPr b="0" lang="ru-RU" sz="8000" spc="-1" strike="noStrike">
                <a:solidFill>
                  <a:srgbClr val="006666"/>
                </a:solidFill>
                <a:latin typeface="Monotype Corsiva"/>
              </a:rPr>
              <a:t>и </a:t>
            </a:r>
            <a:br>
              <a:rPr sz="8000"/>
            </a:br>
            <a:r>
              <a:rPr b="0" lang="ru-RU" sz="8000" spc="-1" strike="noStrike">
                <a:solidFill>
                  <a:srgbClr val="006666"/>
                </a:solidFill>
                <a:latin typeface="Monotype Corsiva"/>
              </a:rPr>
              <a:t>нравственность в жизни человека</a:t>
            </a:r>
            <a:endParaRPr b="0" lang="en-US" sz="8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8" name="Picture 16" descr=""/>
          <p:cNvPicPr/>
          <p:nvPr/>
        </p:nvPicPr>
        <p:blipFill>
          <a:blip r:embed="rId1"/>
          <a:stretch/>
        </p:blipFill>
        <p:spPr>
          <a:xfrm>
            <a:off x="6372360" y="549360"/>
            <a:ext cx="24555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5" descr=""/>
          <p:cNvPicPr/>
          <p:nvPr/>
        </p:nvPicPr>
        <p:blipFill>
          <a:blip r:embed="rId1"/>
          <a:stretch/>
        </p:blipFill>
        <p:spPr>
          <a:xfrm>
            <a:off x="1476360" y="1052640"/>
            <a:ext cx="634212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130120"/>
            <a:ext cx="8496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2060"/>
                </a:solidFill>
                <a:latin typeface="Monotype Corsiva"/>
              </a:rPr>
              <a:t>«Лишь две вещи на свете </a:t>
            </a:r>
            <a:br>
              <a:rPr sz="5400"/>
            </a:br>
            <a:r>
              <a:rPr b="0" lang="ru-RU" sz="5400" spc="-1" strike="noStrike">
                <a:solidFill>
                  <a:srgbClr val="002060"/>
                </a:solidFill>
                <a:latin typeface="Monotype Corsiva"/>
              </a:rPr>
              <a:t>способны тревожить </a:t>
            </a:r>
            <a:br>
              <a:rPr sz="5400"/>
            </a:br>
            <a:r>
              <a:rPr b="0" lang="ru-RU" sz="5400" spc="-1" strike="noStrike">
                <a:solidFill>
                  <a:srgbClr val="002060"/>
                </a:solidFill>
                <a:latin typeface="Monotype Corsiva"/>
              </a:rPr>
              <a:t>наше воображение: </a:t>
            </a:r>
            <a:br>
              <a:rPr sz="5400"/>
            </a:br>
            <a:r>
              <a:rPr b="0" lang="ru-RU" sz="5400" spc="-1" strike="noStrike">
                <a:solidFill>
                  <a:srgbClr val="002060"/>
                </a:solidFill>
                <a:latin typeface="Monotype Corsiva"/>
              </a:rPr>
              <a:t>звездное небо над нами и нравственный закон внутри нас»</a:t>
            </a:r>
            <a:endParaRPr b="0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19564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Verdana"/>
              </a:rPr>
              <a:t>И. Кан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8"/>
          <p:cNvSpPr/>
          <p:nvPr/>
        </p:nvSpPr>
        <p:spPr>
          <a:xfrm>
            <a:off x="250920" y="5886360"/>
            <a:ext cx="417672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4572000" y="1052640"/>
            <a:ext cx="4176720" cy="46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324000" y="1052640"/>
            <a:ext cx="4176720" cy="46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4572000" y="352440"/>
            <a:ext cx="417672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Monotype Corsiva"/>
              </a:rPr>
              <a:t>Нравственность</a:t>
            </a:r>
            <a:r>
              <a:rPr b="0" lang="ru-RU" sz="4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395280" y="352440"/>
            <a:ext cx="417672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Monotype Corsiva"/>
              </a:rPr>
              <a:t>Мораль 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Line 10"/>
          <p:cNvSpPr/>
          <p:nvPr/>
        </p:nvSpPr>
        <p:spPr>
          <a:xfrm>
            <a:off x="0" y="352440"/>
            <a:ext cx="8353440" cy="14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Line 11"/>
          <p:cNvSpPr/>
          <p:nvPr/>
        </p:nvSpPr>
        <p:spPr>
          <a:xfrm>
            <a:off x="395280" y="1052640"/>
            <a:ext cx="83534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Line 12"/>
          <p:cNvSpPr/>
          <p:nvPr/>
        </p:nvSpPr>
        <p:spPr>
          <a:xfrm>
            <a:off x="395280" y="6451560"/>
            <a:ext cx="8353440" cy="1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Line 13"/>
          <p:cNvSpPr/>
          <p:nvPr/>
        </p:nvSpPr>
        <p:spPr>
          <a:xfrm>
            <a:off x="0" y="352440"/>
            <a:ext cx="0" cy="58849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Line 14"/>
          <p:cNvSpPr/>
          <p:nvPr/>
        </p:nvSpPr>
        <p:spPr>
          <a:xfrm>
            <a:off x="4572000" y="404640"/>
            <a:ext cx="0" cy="604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Line 15"/>
          <p:cNvSpPr/>
          <p:nvPr/>
        </p:nvSpPr>
        <p:spPr>
          <a:xfrm>
            <a:off x="9144000" y="352440"/>
            <a:ext cx="0" cy="58849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Прямоугольник 1"/>
          <p:cNvSpPr/>
          <p:nvPr/>
        </p:nvSpPr>
        <p:spPr>
          <a:xfrm>
            <a:off x="324000" y="1054080"/>
            <a:ext cx="4248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Monotype Corsiva"/>
              </a:rPr>
              <a:t>C</a:t>
            </a:r>
            <a:r>
              <a:rPr b="1" lang="ru-RU" sz="2800" spc="-1" strike="noStrike">
                <a:solidFill>
                  <a:srgbClr val="002060"/>
                </a:solidFill>
                <a:latin typeface="Monotype Corsiva"/>
              </a:rPr>
              <a:t>фера культуры, в которой концентрируются и обобщаются высокие идеалы и строгие нормы, регулирующие поведение и сознание человека в различных областях общественной жизн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Прямоугольник 2"/>
          <p:cNvSpPr/>
          <p:nvPr/>
        </p:nvSpPr>
        <p:spPr>
          <a:xfrm>
            <a:off x="250920" y="4846680"/>
            <a:ext cx="4321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раль – это совокупность норм и требований, устанавливаемых обществом для людей (все вместе для каждого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Прямоугольник 3"/>
          <p:cNvSpPr/>
          <p:nvPr/>
        </p:nvSpPr>
        <p:spPr>
          <a:xfrm>
            <a:off x="4573440" y="1077840"/>
            <a:ext cx="4572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Monotype Corsiva"/>
              </a:rPr>
              <a:t>Принципы реального практического поведения людей, в котором строгость высокоморальных норм значительно смягчена, т.е. в данное понятие вкладывается более житейское, «приземлённое» значение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1640" y="4839840"/>
            <a:ext cx="431964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равственность – это совокупность этических требований, которые человек должен предъявлять к себе сам.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Diagram 7"/>
          <p:cNvGrpSpPr/>
          <p:nvPr/>
        </p:nvGrpSpPr>
        <p:grpSpPr>
          <a:xfrm>
            <a:off x="409320" y="447840"/>
            <a:ext cx="8321040" cy="4367520"/>
            <a:chOff x="409320" y="447840"/>
            <a:chExt cx="8321040" cy="4367520"/>
          </a:xfrm>
        </p:grpSpPr>
        <p:sp>
          <p:nvSpPr>
            <p:cNvPr id="118" name="_s1028"/>
            <p:cNvSpPr/>
            <p:nvPr/>
          </p:nvSpPr>
          <p:spPr>
            <a:xfrm flipH="1" flipV="1">
              <a:off x="2511720" y="2435400"/>
              <a:ext cx="1035000" cy="182880"/>
            </a:xfrm>
            <a:prstGeom prst="line">
              <a:avLst/>
            </a:prstGeom>
            <a:ln w="28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" name="_s1029"/>
            <p:cNvSpPr/>
            <p:nvPr/>
          </p:nvSpPr>
          <p:spPr>
            <a:xfrm>
              <a:off x="409320" y="1668960"/>
              <a:ext cx="2157840" cy="11750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Высшие </a:t>
              </a: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моральные </a:t>
              </a: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ценности</a:t>
              </a: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_s1030"/>
            <p:cNvSpPr/>
            <p:nvPr/>
          </p:nvSpPr>
          <p:spPr>
            <a:xfrm flipH="1">
              <a:off x="3298320" y="3272040"/>
              <a:ext cx="640440" cy="479160"/>
            </a:xfrm>
            <a:prstGeom prst="line">
              <a:avLst/>
            </a:prstGeom>
            <a:ln w="28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_s1031"/>
            <p:cNvSpPr/>
            <p:nvPr/>
          </p:nvSpPr>
          <p:spPr>
            <a:xfrm>
              <a:off x="1589760" y="3640320"/>
              <a:ext cx="2158560" cy="11750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Морально-</a:t>
              </a: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психологические </a:t>
              </a: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механизмы</a:t>
              </a: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_s1032"/>
            <p:cNvSpPr/>
            <p:nvPr/>
          </p:nvSpPr>
          <p:spPr>
            <a:xfrm>
              <a:off x="5200560" y="3272040"/>
              <a:ext cx="641160" cy="479160"/>
            </a:xfrm>
            <a:prstGeom prst="line">
              <a:avLst/>
            </a:prstGeom>
            <a:ln w="28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" name="_s1033"/>
            <p:cNvSpPr/>
            <p:nvPr/>
          </p:nvSpPr>
          <p:spPr>
            <a:xfrm>
              <a:off x="5397840" y="3638880"/>
              <a:ext cx="2158560" cy="11750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Нравственные </a:t>
              </a: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принципы</a:t>
              </a: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_s1034"/>
            <p:cNvSpPr/>
            <p:nvPr/>
          </p:nvSpPr>
          <p:spPr>
            <a:xfrm flipV="1">
              <a:off x="5592240" y="2435400"/>
              <a:ext cx="1035000" cy="182880"/>
            </a:xfrm>
            <a:prstGeom prst="line">
              <a:avLst/>
            </a:prstGeom>
            <a:ln w="28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_s1035"/>
            <p:cNvSpPr/>
            <p:nvPr/>
          </p:nvSpPr>
          <p:spPr>
            <a:xfrm>
              <a:off x="6572520" y="1667160"/>
              <a:ext cx="2157840" cy="11750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Моральные </a:t>
              </a: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качества</a:t>
              </a: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" name="_s1036"/>
            <p:cNvSpPr/>
            <p:nvPr/>
          </p:nvSpPr>
          <p:spPr>
            <a:xfrm flipV="1">
              <a:off x="4570200" y="1621080"/>
              <a:ext cx="0" cy="591840"/>
            </a:xfrm>
            <a:prstGeom prst="line">
              <a:avLst/>
            </a:prstGeom>
            <a:ln w="28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" name="_s1037"/>
            <p:cNvSpPr/>
            <p:nvPr/>
          </p:nvSpPr>
          <p:spPr>
            <a:xfrm>
              <a:off x="3492360" y="447840"/>
              <a:ext cx="2157840" cy="11750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Нормы </a:t>
              </a: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поведения</a:t>
              </a: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_s1038"/>
            <p:cNvSpPr/>
            <p:nvPr/>
          </p:nvSpPr>
          <p:spPr>
            <a:xfrm>
              <a:off x="3058560" y="1915560"/>
              <a:ext cx="2737440" cy="15134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700" spc="-1" strike="noStrike">
                  <a:solidFill>
                    <a:srgbClr val="000000"/>
                  </a:solidFill>
                  <a:latin typeface="Monotype Corsiva"/>
                </a:rPr>
                <a:t>Моральные </a:t>
              </a:r>
              <a:endParaRPr b="0" lang="en-US" sz="37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700" spc="-1" strike="noStrike">
                  <a:solidFill>
                    <a:srgbClr val="000000"/>
                  </a:solidFill>
                  <a:latin typeface="Monotype Corsiva"/>
                </a:rPr>
                <a:t>требования и </a:t>
              </a:r>
              <a:endParaRPr b="0" lang="en-US" sz="37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700" spc="-1" strike="noStrike">
                  <a:solidFill>
                    <a:srgbClr val="000000"/>
                  </a:solidFill>
                  <a:latin typeface="Monotype Corsiva"/>
                </a:rPr>
                <a:t>представления</a:t>
              </a:r>
              <a:endParaRPr b="0" lang="en-US" sz="37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9" name="AutoShape 19"/>
          <p:cNvSpPr/>
          <p:nvPr/>
        </p:nvSpPr>
        <p:spPr>
          <a:xfrm>
            <a:off x="5796000" y="333360"/>
            <a:ext cx="2879640" cy="1197000"/>
          </a:xfrm>
          <a:prstGeom prst="wedgeRoundRectCallout">
            <a:avLst>
              <a:gd name="adj1" fmla="val -62680"/>
              <a:gd name="adj2" fmla="val 3976"/>
              <a:gd name="adj3" fmla="val 1666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Не лги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Не укради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Не убий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AutoShape 20"/>
          <p:cNvSpPr/>
          <p:nvPr/>
        </p:nvSpPr>
        <p:spPr>
          <a:xfrm>
            <a:off x="5940360" y="2708280"/>
            <a:ext cx="3203640" cy="1224000"/>
          </a:xfrm>
          <a:prstGeom prst="wedgeRoundRectCallout">
            <a:avLst>
              <a:gd name="adj1" fmla="val -18384"/>
              <a:gd name="adj2" fmla="val -76976"/>
              <a:gd name="adj3" fmla="val 1666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Доброжелательность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Справедливость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Мудрость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AutoShape 21"/>
          <p:cNvSpPr/>
          <p:nvPr/>
        </p:nvSpPr>
        <p:spPr>
          <a:xfrm>
            <a:off x="5148360" y="5084640"/>
            <a:ext cx="2879640" cy="1224000"/>
          </a:xfrm>
          <a:prstGeom prst="wedgeRoundRectCallout">
            <a:avLst>
              <a:gd name="adj1" fmla="val -26902"/>
              <a:gd name="adj2" fmla="val -75032"/>
              <a:gd name="adj3" fmla="val 1666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Коллективизм / индивидуализм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Эгоизм / альтруизм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AutoShape 22"/>
          <p:cNvSpPr/>
          <p:nvPr/>
        </p:nvSpPr>
        <p:spPr>
          <a:xfrm>
            <a:off x="1258920" y="5084640"/>
            <a:ext cx="2808360" cy="648000"/>
          </a:xfrm>
          <a:prstGeom prst="wedgeRoundRectCallout">
            <a:avLst>
              <a:gd name="adj1" fmla="val 199"/>
              <a:gd name="adj2" fmla="val -106615"/>
              <a:gd name="adj3" fmla="val 1666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Долг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Совесть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AutoShape 23"/>
          <p:cNvSpPr/>
          <p:nvPr/>
        </p:nvSpPr>
        <p:spPr>
          <a:xfrm>
            <a:off x="250920" y="404640"/>
            <a:ext cx="2952720" cy="1225800"/>
          </a:xfrm>
          <a:prstGeom prst="wedgeRoundRectCallout">
            <a:avLst>
              <a:gd name="adj1" fmla="val -12527"/>
              <a:gd name="adj2" fmla="val 60361"/>
              <a:gd name="adj3" fmla="val 1666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Смысл жизни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Свобода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Счастье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684360" y="7920"/>
          <a:ext cx="8064360" cy="6850080"/>
        </p:xfrm>
        <a:graphic>
          <a:graphicData uri="http://schemas.openxmlformats.org/drawingml/2006/table">
            <a:tbl>
              <a:tblPr/>
              <a:tblGrid>
                <a:gridCol w="8064360"/>
              </a:tblGrid>
              <a:tr h="685800">
                <a:tc>
                  <a:txBody>
                    <a:bodyPr lIns="55080" rIns="55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   1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2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3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4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5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6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7    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доровь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ые больные                                                                    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самые здоров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   1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2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3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4  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5   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6  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7    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ые глупые                                                                           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амые ум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   1               2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3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4 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5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6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7    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бр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ые злые                                                                  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ые добр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   1               2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3 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4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5 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6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7    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ст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ые лживые                                                                    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самые чест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   1               2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3 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4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5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6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7    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итель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ые необщительные                                           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ые общитель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   1              2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3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4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5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6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7    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нципиаль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ые беспринципные                                            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самые принципиаль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   1               2 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3 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4 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5 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6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7    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крен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ые неискренние                                             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самые искрен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   1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2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3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4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5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6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7    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мел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ые робкие                                                                    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самые смел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   1               2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3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4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5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6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7    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влекатель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ые непривлекательные                                    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амые привлекатель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   1               2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3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4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5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6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7    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часть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ые несчастливые                                           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амые счастлив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323640" y="404640"/>
            <a:ext cx="835164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Ключ показателей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Monotype Corsiva"/>
              </a:rPr>
              <a:t>10-20 баллов  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– заниженная самооценка;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Monotype Corsiva"/>
              </a:rPr>
              <a:t>21-34 балла 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– тенденция к занижению;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Monotype Corsiva"/>
              </a:rPr>
              <a:t>35-45 баллов 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– адекватная самооценка; </a:t>
            </a:r>
            <a:r>
              <a:rPr b="1" lang="ru-RU" sz="4000" spc="-1" strike="noStrike">
                <a:solidFill>
                  <a:srgbClr val="c00000"/>
                </a:solidFill>
                <a:latin typeface="Monotype Corsiva"/>
              </a:rPr>
              <a:t>46-59 баллов 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– тенденция к завышению самооценки;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Monotype Corsiva"/>
              </a:rPr>
              <a:t>60-70 баллов 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– явно завышенная самооценка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324000" y="189000"/>
          <a:ext cx="8712000" cy="6553080"/>
        </p:xfrm>
        <a:graphic>
          <a:graphicData uri="http://schemas.openxmlformats.org/drawingml/2006/table">
            <a:tbl>
              <a:tblPr/>
              <a:tblGrid>
                <a:gridCol w="1476360"/>
                <a:gridCol w="3138480"/>
                <a:gridCol w="2377800"/>
                <a:gridCol w="1719360"/>
              </a:tblGrid>
              <a:tr h="55728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оцен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обенности повед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ношение к ошибка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ои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ужи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9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екват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являют активность, общительность, оптимиз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целом – адекватное отношение: могут огорчиться; свои ошибки стараются исправить, чужим проблемам сочувствую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84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емятся к успехам в различных видах деятельности, им свойственна уверенность в своих сила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ще предпочтут не исправить ошибки, а забыть, не думать о ни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авнительно, относятся безразлично к ни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0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ышен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им людям свойственны высокомерие, бестактность. Они склонны к переоценке своих возможностей, недооценке чужи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читают случайными, вызванными посторонними факторами («плохо себя чувствовал», «учитель придирался»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читают закономерными, само собой разумеющими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являют неуверенность в себе, застенчивость, повышенную тревож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живают, но не стремятся исправи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авнительно безразлич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0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ижен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ссивность, замкнутость. Постоянная недооценка своих возможностей, переоценка чужи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читают закономерными, воспринимают как должно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авдывают, считают случайны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6912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Monotype Corsiva"/>
              </a:rPr>
              <a:t>Время  эти  понятия  не  стёрло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Monotype Corsiva"/>
              </a:rPr>
              <a:t>Нужно  только  поднять  верхний  пласт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Monotype Corsiva"/>
              </a:rPr>
              <a:t>И  дымящейся  кровью  у  горла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Monotype Corsiva"/>
              </a:rPr>
              <a:t>Чувства  вечные  хлынут  из  нас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Monotype Corsiva"/>
              </a:rPr>
              <a:t>Ныне  присно,  во  веки  веков,  старина,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Monotype Corsiva"/>
              </a:rPr>
              <a:t>И  цена  есть  цена,  и  вина  есть  вина,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Monotype Corsiva"/>
              </a:rPr>
              <a:t>И  всегда   хорошо,  если  честь  спасена,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Monotype Corsiva"/>
              </a:rPr>
              <a:t>Если  духом  надёжно  прикрыта  спина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Monotype Corsiva"/>
              </a:rPr>
              <a:t>Чистоту,  простоту  мы  у  древних  берём,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Monotype Corsiva"/>
              </a:rPr>
              <a:t>Саги,  сказки  из  прошлого  тащим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Monotype Corsiva"/>
              </a:rPr>
              <a:t>Потому,  что  добро  остаётся  добром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Monotype Corsiva"/>
              </a:rPr>
              <a:t>В  прошлом,  будущем  и  настоящем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25800" indent="0" algn="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                           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В.  Высоцкий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25800" indent="0" algn="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«Баллада о времени»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1975 год</a:t>
            </a:r>
            <a:r>
              <a:rPr b="0" lang="ru-RU" sz="1700" spc="-1" strike="noStrike" baseline="-2000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6875640" y="260280"/>
            <a:ext cx="2008080" cy="3097440"/>
          </a:xfrm>
          <a:prstGeom prst="rect">
            <a:avLst/>
          </a:prstGeom>
          <a:ln w="88920">
            <a:solidFill>
              <a:srgbClr val="996633"/>
            </a:solidFill>
            <a:miter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7" nodeType="afterEffect" fill="hold" presetClass="entr" presetID="1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0" nodeType="afterEffect" fill="hold" presetClass="entr" presetID="1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3" nodeType="afterEffect" fill="hold" presetClass="entr" presetID="1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6" nodeType="afterEffect" fill="hold" presetClass="entr" presetID="1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59" nodeType="afterEffect" fill="hold" presetClass="entr" presetID="1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62" nodeType="afterEffect" fill="hold" presetClass="entr" presetID="1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65" nodeType="afterEffect" fill="hold" presetClass="entr" presetID="1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68" nodeType="afterEffect" fill="hold" presetClass="entr" presetID="1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71" nodeType="afterEffect" fill="hold" presetClass="entr" presetID="1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74" nodeType="afterEffect" fill="hold" presetClass="entr" presetID="1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0T12:23:29Z</dcterms:created>
  <dc:creator>Оля</dc:creator>
  <dc:description/>
  <dc:language>en-US</dc:language>
  <cp:lastModifiedBy>user</cp:lastModifiedBy>
  <dcterms:modified xsi:type="dcterms:W3CDTF">2014-12-11T05:30:27Z</dcterms:modified>
  <cp:revision>33</cp:revision>
  <dc:subject/>
  <dc:title>Мораль и нравственность</dc:title>
</cp:coreProperties>
</file>