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6A4-279F-4D80-B56A-B34FD015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E4B-7EDA-40FB-B1B0-F321EA6F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E0A50-EF3F-4DEF-B8E3-57C8C44E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D9805-4F99-4CEA-A9C8-B2AEBF60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0D2D7-66A6-4C0F-9717-679A1F32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B91E9-095D-4E29-9BE6-50643605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4DDB2-4935-4432-9F7D-4F29A15F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8576E-6139-462C-ACFF-7C72E5A2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0A874-E5EE-4654-B34B-0E84E70B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97E68-6764-480B-AD10-046995BB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1B68A-92E7-451A-910D-3B78612A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17A95-D12C-425C-9D63-710E885A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2E9-C054-49EF-A8FE-9F6DC2AC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D61EC-3108-4DF4-923A-79BED559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A6723-9706-445E-B972-91B73195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84BC5-3B28-44E5-A09E-27305F80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1E9FE-EC3A-421A-BABD-228BB1BF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3F33B-AAB0-400E-8532-B18D3E16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FBD6A-BD57-4BA6-96EB-8B538ECB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01908-702B-49E9-95F7-202A77E5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46374-3418-42B0-9169-57DDD24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4BE11-696C-4921-A2A9-EDCE20CB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53438-D3F0-468B-A5EB-451524BD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D9E-F34B-40CB-8B19-8AFBF04F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E8CBA-A420-418C-9591-943BF296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AB3A4-E623-4158-A119-FD5F0D6C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89F5A-7881-46F0-8EA0-53E2BDB5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CFEDC-67B1-4787-98A6-C8361404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4D9FB-6F34-4C37-A78F-A8276AE6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51E5B-F7A2-4539-9B63-D0DBF5B3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6DB6C-6590-45B0-934E-E89AA962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E64C0-1B55-4AAE-8DBB-F63F3293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A50A1-C6FF-4AEE-984D-8CA5888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AFB73-2E1E-4632-88EC-CAA4A10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040D-187D-4AED-9CB5-36EBD837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F1E56-FB08-42E7-9FC7-1B5D5D39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3FF2D-358A-4AC0-BA3D-6CD182BF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5B9F7-485C-4D75-A691-F3BE6487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9FF59-D95C-4353-9310-892FCFF0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7C3F6-893C-443D-8294-39A28F45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EC2D8-B7F2-40ED-A1DF-65528EC1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8C125-0E30-4826-B7D6-E103C6A5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1CEAB-9696-44E1-85EB-5D72E8A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16339-C5E1-48AF-85E1-42232DC2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A480E-5571-4E4B-894D-A7820AB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EBE7-3344-497F-9C5F-88CFEAD5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B3E1B-250A-4B9B-9325-0F25B0E9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BDF9E-1F3B-4BCD-AAA0-E732512E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CEA4E-43E8-4A60-A4EF-E717FF36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05177-B665-4BA2-AADE-0D3C8ECE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F4520-B0B1-4759-A5F6-5DA5F92E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8EDC-0CE9-4FDA-B693-5E0CBD88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9468-9536-40D1-BBB4-D7A392B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7E29-AFE9-4FC8-AAD9-47BB38C5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AFA2-0309-4EA3-8677-E76612D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B394-C3D4-49AF-BA08-E064C4E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191-D6EF-4DD5-B9E6-D6865BB4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95ED-4DBC-4F79-B9EA-E2A28C02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6145-C865-4F2B-9C56-2ED16DF6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3A3B-2F21-417F-9EEE-DCA19602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7280-B0C0-488A-AC94-60FB069C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F3C1-EB52-4DCA-95DF-34ED3100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8958-97D5-457C-9B9F-B5064B86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591A-E22E-41E7-A1A3-946DFEAB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B769-E29A-48E2-BE12-8940290F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C408-758A-4B3B-A13E-0EF1330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E63CD-E871-49C4-9CD3-102280D6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83E-3D51-4048-B696-6BAC1A43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2EA0-66B8-493E-82FE-730FD3F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55D7-4E57-4E6A-9974-2BDF4837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E188-F38B-44A4-AD18-8FCB4E7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D934-424A-4B5D-BC1B-7079D3F7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4563-38EE-4FA8-8DF1-D4B1586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E081-47A2-40F4-B4BE-A4375BE3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3577-00BB-4F7B-A944-ED1F055A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CC93-BD3E-47D3-945C-3DD1153F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1C35-4FE5-425B-B52E-CF86FA97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53BE-8F52-4B1A-A8CB-A3097FDF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585-1FBB-49F3-8B6C-8DF6661F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C13D-DD49-4BEF-8285-684F20B4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1735-C261-4806-A25D-9C453F3E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2649-9EE7-42D8-8A49-CC19A814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50D5-29F7-476E-BA70-F2D5BA7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C494-923E-4672-9BE6-F09EBCA5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2672-997A-441D-BCCE-DEAC3EF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283A-6F4C-4495-B285-50D8DD85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6A41-5A31-4B7F-A875-947375C4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2743-EB33-4851-9784-194F82F2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5A684-F974-4136-858F-3311309B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6DF-01A5-4EE8-8D9D-ADAD6AC0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DBA8-5B9E-42E7-A50F-EDC2B70A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2685-72DF-49C5-9194-9268D2CE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46F2-3802-4CC9-9FFB-9DD2D120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09FF-1153-4C6E-9E68-E8D20D08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53E4E-C601-4135-A04E-809F1EC9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14A5-BB8A-41AB-B6E6-873A7A2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2F23B-46B9-4497-9BE4-ED71C9B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8BDDD-B0A3-4CDA-9728-B28CAABB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2C85-9E1D-4E32-9521-83DC42A4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10B6-466C-440A-BC6A-206AD439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798-BBC6-4586-B791-F4216529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041D3-DE23-4B46-AE84-2A7B21CA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BB60E-F12D-4710-ADDC-46386427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9D6A9-F556-48C5-8690-8673395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117FB-AECF-4E97-976E-DC90C8D7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66BDF-0A0C-4E54-818C-04376D51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8E7D2-4749-4724-912A-A03E472C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1E08-BAD2-4A58-86DA-DF8307B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9F4CD-418D-4DF5-80A9-BC90B72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5CD8-A627-4515-838D-C7763814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B43FB-CC48-426A-84BE-D409FB00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52E-370D-4C17-B742-DF232956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481A9-AC8E-4851-A4BE-C314CFF2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026D9-1E0F-4C2F-9548-07557176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E3DF7-D0B0-4153-B177-AD5F6AD9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E7A25-21FA-42B0-91BA-07DCD96D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4AA70-DF71-4C3B-95CE-DD52D5B5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4603-7BA2-4815-B11C-150EDDE8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53E7E-E111-4EA0-AFF7-AFFC7FFA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0405F-2D74-4A91-BCA3-24F8150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5964F-F1EE-4BEA-B39B-01BB1CD2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BB523-E51C-44DE-8A33-FA3DFDD7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A0D-AF1C-477D-BA05-0CEA0B8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43484-3FA6-4B5A-A0C7-D4C87D5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1DC96-EAF7-42AB-BF87-E9D7914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8F0E-63E6-4B5D-9A14-D7893EA0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5CA6E-A1B5-4930-BB1A-F154C253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2243F-BA99-4E3D-8E38-36670682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5DD71-F95F-4258-BA79-AAAB24D9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C86CA-5897-4536-AF79-B0544006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75889-8E87-49CC-A1D3-D0315889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4A303-6F07-46F2-B6B4-888A234E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26542-3DE9-46DB-8B67-CC5E8B45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AED-36B1-41D7-832E-9DEEC6C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43020-24BE-4423-A5BB-4D651002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B232B-D83E-407A-B5F9-BEE64277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5AAF1-3880-4A36-8E6F-116BE2AF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939FE-242B-4F30-96F5-CEB7433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FE8E2-C9D7-43A0-AC97-5AD59468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FD33E-0BE9-4443-B80A-D67F89DA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FEA87-66DB-4154-A04D-6B08A505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78A9E-967C-487E-8F44-2DDCD7A8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DA400-718B-4720-A73A-14515391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52128-A477-4BCB-B4EA-890BFC0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87A0-AFC3-434B-8771-0F6C4974A78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5E3D-F9A9-40C0-9CA5-04437EB8487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ADAE-E2B3-4865-99E5-3AA99406489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7F9E-C14D-4A1C-B3CA-D7F17492C7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C533-E87F-4D98-AFA1-F6DA068E357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63FC-C8E8-4B4D-9ED3-55889037C59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E515-3164-4F60-BB20-9ACB154502E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18D8-920E-42F3-9250-A8F110B62D8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8FF2-B386-4919-814D-473E034AC42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6DC6-3AD6-400C-8F62-0786DA696D2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C26A-11FB-46B0-9BBC-2AA4F38092D4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3CD1-7226-425A-BC30-75DE3786936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ЕСТО ЧЕЛОВЕКА В СИСТЕМЕ ОРГАНИЧЕСКОГО МИР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ОБЩИЙ ОБЗОР ТЕЛА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ОГЭ по теме «Человек и его здоровье»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как и у других представителей класса Млекопитающие, имее(ю)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S-образный позвон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росшиеся кости та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хорошо развитие кости пальцев ру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альные и потов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класса Млекопитающие свойствен человеку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лёгочное дых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оловной и спинно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амкнутая кровеносная систе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социальным факторам эволюции человека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следственную изменчи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борьбу за существов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скус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членораздельную 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творческому труду были способ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дриопите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итекантр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австралопите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циальная эволюция человека сопровождалас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ереходом к прямохожд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оявлением заботы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развитием искусства и нау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величением мозгового отдела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обеспечило социальную эволюцию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забота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рямохожд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счезновение шерстного покров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трудов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 какому признаку отличают человека от человекообразных обезьян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легочное дых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четырехкамерное 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сводчатая сто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остоянная температура те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отличает Человека разумного от животны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азвитие периферической нерв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личие двух кругов кровообра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развитие S-образной формы позвоночни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формирование трёх зародышевых листков в период эмбрионально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одство строения большинства систем органов у млекопитающих животных и человека служит доказательством 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родств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жизни в одинаковых условия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роисхождения от земноводны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возникновения в одно и то же историческое врем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е изменение в строении стопы появилось у человека в связи с прямохождение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формировался сво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 большом пальце появились две фалан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рослись кости предплюс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большой палец приобрел подвиж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 в отличие от позвоночных животных,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ся головной и спинно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ырабатываются рефлек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тело состоит из различных тканей и орган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мозговой отдел черепа преобладает над лицев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, в отличие от позвоночных животны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 пять отделов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имеет хорошо развитые органы чув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оздаёт сложные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оциальное существ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 биологическом единстве человеческих рас свидетельствует их способ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давать плодовитое потомств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реобразовывать окружающую сред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сселяться по поверхности Зем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спользовать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01320" y="642960"/>
            <a:ext cx="85042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 каким признакам человека относят к классу Млекопитающие? Выберите три верных ответа из шести и запишите цифры, под которыми они указа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личие зубов в лунках челю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пособность регулировать температуру своего те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аличие нерв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львеолярное строение лёгк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закладка у зародышей нервной трубки над хорд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наличие сводчатой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доказывает родство человека и хордовых животны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скармливание потомства молок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остоянная температура те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наличие внутреннего осевого скел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наличие коры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человека характеризует его как представителя класса Млекопитающ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 ранних стадиях эмбрионального развития формируется кишечная труб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формируется внутренний костный скел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вивается замкнутая кровеносная система и два круга кровообра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ся грудобрюшная перегородка – 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носят к классу млекопитающих, так как у н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дыхание осуществляется с помощью легк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ровь течет по двум кругам кровообра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ередний мозг включает два полушар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развитие зародыша происходит в матк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ие особенности  в строении тела приобрел предок современного человека, перейдя к регулярной трудовой деятельност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тазовые кости срослись, по форме напоминают чаш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большой палец руки стал противостоять ост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в позвоночном столбе сформировалось несколько изгибов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топа из плоской превратилась в сводчату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му способствовало появление прямохождения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заселению новых территор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более быстрому передвижению по земл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лее тесному общению люд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освобождению руки и развитию трудов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у человека в процессе эволюции возник раньше други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озн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егулярная трудов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прямохожд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чественной особенностью человека, в отличие от других приматов, являе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абстрактное мышл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рудийн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условный рефлек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рассудочн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320" y="-239760"/>
            <a:ext cx="853452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01320" y="642960"/>
            <a:ext cx="85042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смотрите рисунок, на котором изображены ископаемые предки рода Человек в хронологической последовательности их появления на Земле. Под какой цифрой на нем изображен австралопитек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0" name="Picture 2" descr="http://opengia.ru/resources/A6CDA7947743B38E461B803B2AA8617C-GIABIO2011A805-A6CDA7947743B38E461B803B2AA8617C-2-1298377457/repr-0.jpg"/>
          <p:cNvPicPr/>
          <p:nvPr/>
        </p:nvPicPr>
        <p:blipFill>
          <a:blip r:embed="rId1"/>
          <a:stretch/>
        </p:blipFill>
        <p:spPr>
          <a:xfrm>
            <a:off x="3929040" y="3071880"/>
            <a:ext cx="4314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4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позволяет отнести человека к классу Млекопитающ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легочное дых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ва круга кровообра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оловной мозг, состоящий из пяти отдел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разделение зубов на резцы, клыки и корен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человекообразных обезьян, имее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четырехкамерное 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тереоскопическое цветное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S-образный позвон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е влияние оказала трудовая деятельность на формирование руки человека? Укажите два эволюционных измен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относится к классу Млекопитающие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 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ладает членораздельной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 ушные ракови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млекопитающи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ерхняя конечность состоит из плеча, предплечья и ки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исть крючкообразная, со слаборазвитым большим пальц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ижняя челюсть соединена с черепом подвижн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большой палец образует прямой угол по отношению к другим пальц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, свойственный человеку, является признаком животных типа Хордовы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лёгкие, состоящие из альвео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ервная система узлового ти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волосяной покр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жаберные щели в стенке глотки зародыш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головном мозге человека по сравнению с мозгом шимпанзе лучше разви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родолговаты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зжеч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редни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передни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предшественникам людей большинство антропологов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австралопите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шимпанз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рангутан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орил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из перечисленного может служить примером рудимента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личие хвос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ополнительные молочн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збыточная волосат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наличие копчи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группе древнейших людей учёные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романьон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австралопит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еандерталь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человека прямоходящ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чём отличие Человека разумного от животных класса Млекопитающие? Выберите три верных ответа из шести и запишите цифры, под которыми они указа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азвитие ре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личие пяти отделов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формирование опорно-двигательного аппара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формирование сводов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способность изготавливать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наличие зрительного и слухового анализатор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органов относят к половой системе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мочет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елезён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предстательная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ппендик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01320" y="285840"/>
            <a:ext cx="850428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ие примеры рефлексов животных и человека следует отнести к условным рефлексам? Выберите три верных ответа из шести и запишите цифры, под которыми они указа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езкий поворот головы и тела кошки в направлении раскатов гро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окраснение покровов лица человека при воспоминании о неприятных события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ильное выделение слюны у лисицы, забравшейся в курят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чихание человека при уборке помещ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сильное слюноотделение у собаки при попадании пищи в ротовую пол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лай собаки на человека в чёрном плащ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рган какой системы человека представлен на рисунк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ровенос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ыдели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ищевари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дыха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http://opengia.ru/resources/0cd39dabe660e3119cce001fc68344c9-BIO2013VIII9A901-copy1--innerimg0/repr-0.jpg"/>
          <p:cNvPicPr/>
          <p:nvPr/>
        </p:nvPicPr>
        <p:blipFill>
          <a:blip r:embed="rId1"/>
          <a:stretch/>
        </p:blipFill>
        <p:spPr>
          <a:xfrm>
            <a:off x="5572080" y="2286000"/>
            <a:ext cx="18478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органов относят к половой системе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ч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чевой пузыр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мат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мочет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носят к классу Млекопитающие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имеет молочн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ладает членораздельной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 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м отличается человекообразная обезьяна от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троением кисти ру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ифференциацией зуб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щим планом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ровнем обмена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из перечисленных желёз входит в состав пищеварительной системы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печен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щитовидная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адпоче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ипофи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пределите правильную последовательность основных этапов эволюции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древнейшие люди ⇒ предшественники людей ⇒ неандертальцы ⇒ 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предшественники людей ⇒ древнейшие люди ⇒ неандертальцы ⇒ 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кроманьонцы ⇒ неандертальцы ⇒ предшественники людей ⇒ древние люд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неандертальцы ⇒ древнейшие люди ⇒ предшественники людей ⇒ 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отличает человекообразную обезьяну от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бщий план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ровень обмена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строение передних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абота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временные люди, принадлежащие к разным расам, являются представителя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одного ви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разных вид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дной популя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разных родов одного семейств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орган пищеварения расположен с левой стороны под диафрагмой в брюшной полост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ечен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желуд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желчный пузыр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млекопитающих животных, развиты(-а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условные рефлек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вторая сигнальная систе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рганы чув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абота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личает от человекообразных обезьян налич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заботы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ерв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втор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теплокров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человекообразных обезьян, е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S-образный позвоно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розды и извилины в конечном мозг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тереоскопическое цветовое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чь человека отличается от «языка животных» тем, что он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беспечивается центральной нервной систем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является врождён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возникает осознанн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одержит информацию только о текущих события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и современные человекообразные обезьяны сходны тем, чт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ладеют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способны к обуч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пособны к абстрактному мышл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зготовляют каменные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личия человека от человекообразных обезьян, связанные с его трудовой деятельностью, проявляются в строен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сводчатой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S-образного позвоночни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орта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ки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68000" y="1484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м отличается человек от шимпанз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группами кров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пособностьюк обуч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енетическим код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пособностью кабстрактному мышл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других животны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развита вторая сигнальная систе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летки лишены жёсткой оболоч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есть бесполое размнож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две пары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еречисленных органов расположен в грудной полости тела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елезён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двенадцатиперстная киш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оджелудочная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других представителей класса млекопитающи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зародыш развивается в матк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имеются сальные и потов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ся 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мозговой отдел черепа больше лицево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оцесс обеспечил социальную эволюцию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зменение форм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оявление заботы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витие искусства и нау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величение объема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и у всех позвоночных, у чело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нутренний скелет образован хорд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тело покрыто волосяным покров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имеется сердце, кровеносная система замкнут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ся грудобрюшная перегородка – 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еход от обезьяноподобного предка к человеку сопровождался развит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хотничьих навы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способности к труд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мышц нижней челю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рудной клет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чиной различия в интенсивности загара у двух людей белой расы, проводящих на солнце одинаковое время, являе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о пигмента меланин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оличество тепловых рецептор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возраст принимающих солнечные ван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лотность эпидермис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еречисленных органов расположен в грудной полости тела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ч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тонкий кише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легко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оджелудочная жел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собенностью больших полушарий человека, в отличие от млекопитающих, является налич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о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извили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дол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центров ре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орган из перечисленных входит в состав пищеварительной системы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ч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елезён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трахе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глот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одство человека и млекопитающих животных свидетельству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об их родстве и общем плане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 одинаковом уровне их организ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 разном уровне их организ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 их происхождении от разных пред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му из представителей рода Человек принадлежат представленные изображения наскальных рисунков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итекантроп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неандертальц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кроманьонц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встралопитек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2" descr="http://opengia.ru/resources/3237065AD1B9AB3942890F96E32FECFA-GIABIO2011A801-3237065AD1B9AB3942890F96E32FECFA-2-1396449999/repr-0.jpg"/>
          <p:cNvPicPr/>
          <p:nvPr/>
        </p:nvPicPr>
        <p:blipFill>
          <a:blip r:embed="rId1"/>
          <a:stretch/>
        </p:blipFill>
        <p:spPr>
          <a:xfrm>
            <a:off x="4286160" y="2928960"/>
            <a:ext cx="3986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 каким признакам человека относят к классу Млекопитающие? Выберите три верных ответа из шести и запишите цифры, под которыми они указа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ервная система трубчатого ти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жаберные щели на глотке зародыш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четырёхкамерное 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ушные ракови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скелет верхних и нижних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6)борозды и извилины в коре больших полушар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ие изменения произошли в головном мозге человека в связи с трудовой деятельностью? Укажите два измен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может служить примером рудимента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личие хвос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ногососко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збыточная волосат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наличие третьего 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одство обезьяны и человека заключается 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динаковой степени развития коры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динаковых пропорциях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способности к образованию 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пособности к твор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группе древних людей учёные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австралопит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романьон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неандерталь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екантро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свидетельствует о том, что представители рода Человек появились примерно 2–3 млн. лет назад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айденные исторические летопис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анные сравнительной анатом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палеонтологические наход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мифы древних народ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из движущих сил эволюции человека имеет биологическую природу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абстрактное мышл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пособность создавать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членораздельная 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относится к классу млекопитающих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вынашивает плод в матк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ладает членораздельной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 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из перечисленных особенностей строения черепа человека является приспособлением к реч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)наличие выступающего подбород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ертикальный ло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растание костей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величенная по сравнением с лицевой мозговая часть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группе древнейших людей учёные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романьонц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австралопите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еандертальц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инантроп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 принадлежности человека именно к хордовым говорит наличие у н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нутреннего оплодотвор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осевого скел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кровенос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уб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млекопитающих животных, развиты(-о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абстрактное мышл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словные рефлек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ные виды тормож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большие полушария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 какой цифрой на рисунке изображён представитель европеоидной расы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8" name="Picture 2" descr="http://opengia.ru/resources/463C4D5EF24EB77A472118F6C633AC76-GIABIO2011A822-463C4D5EF24EB77A472118F6C633AC76-2-1302700248/repr-0.jpg"/>
          <p:cNvPicPr/>
          <p:nvPr/>
        </p:nvPicPr>
        <p:blipFill>
          <a:blip r:embed="rId1"/>
          <a:stretch/>
        </p:blipFill>
        <p:spPr>
          <a:xfrm>
            <a:off x="1500120" y="4429080"/>
            <a:ext cx="5400720" cy="179064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оугольник 4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)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3)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)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относится к классу Млекопитающие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имеет различные по строению и выполнению функций зуб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пособен к формированию 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 тело, состоящее из клеток и ткан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наследственной программе поведения животных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безусловный рефлек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словный рефлек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рассудочную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за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из перечисленного может служить примером рудимента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збыточная волосат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дополнительная пара молочных желе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наличие зачаточных ушных мышц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наличие хвос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 влиянием какого фактора происходило формирование руки у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гетеротрофного пита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итания предков человека в саванна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коллективной трудов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двуногого хожд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фактор эволюции человека относят к социаль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использование орудий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следственная изменчи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рьба за существов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характерен для вида Человек разумный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хорошо развитый подбород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личие ног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витый ствол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ъёмное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признаков принадлежит обезьян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звоночник имеет S-образный изгиб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плоская сто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уки короче, чем но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чашеобразный та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астью какой системы органов человека является поч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лов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выдели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ищеваритель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кровенос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носят к классу Млекопитающие, так как о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 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ладает членораздельной реч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итается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имеет перегородку в виде диафраг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цифрой на рисунке обозначена полость, в которой расположена поджелудочная желез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opengia.ru/resources/095A8BC4CDF097474264EC1E8AAC13B6-095A8BC4CDF097474264EC1E8AAC13B6-095A8BC4CDF097474264EC1E8AAC13B6-2-1396433750/repr-0.jpg"/>
          <p:cNvPicPr/>
          <p:nvPr/>
        </p:nvPicPr>
        <p:blipFill>
          <a:blip r:embed="rId1"/>
          <a:stretch/>
        </p:blipFill>
        <p:spPr>
          <a:xfrm>
            <a:off x="5143680" y="2500200"/>
            <a:ext cx="10951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циальная природа человека проявляется 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речев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риспособленности к прямохожд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аличии гортани с голосовыми связк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разовании 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из перечисленного оказало наибольшее влияние на развитие мышления предков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рямохожд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жизнь в группа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регулярная трудов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ереход от древесного к наземному образу жиз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 чем свидетельствует наличие хвоста у зародышей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б отклонениях в развит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 развитии с неполным превращ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 изменчивости организмов в период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о происхождении человека от общих предков с другими хордовы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 чём отличие Человека разумного от животных класса Млекопитающие? Выберите три верных ответа из шести и запишите цифры, под которыми они указаны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)прямохожден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)теплокровность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3)развитие абстрактного мышлени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)наличие диафрагмы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5)формирование условных рефлексо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6)высокая степень противопоставления большого пальца кисти всем остальны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человекообразных обезьян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ся головной и спинно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ырабатываются условные рефлек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ется объемное цветовое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мозговой отдел черепа преобладает над лицев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временный человек — это прямой потом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еандертальц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инантроп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кроманьонц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екантроп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выми научились пользоваться огнё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австралопите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питекантр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еандерталь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кроманьон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результате каких процессов у человека сформировались расовые признак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упражнения или неупражнения отдельных органов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щественного образа жизни чело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действия естественного отбо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развития цивилиз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 в связи с прямохожд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азвился большой палец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огти на ногах превратились в ног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сформировались своды стоп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рослись две первые фаланги пальцев но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разумный, в отличие от других животны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оздаёт и использует орудия тру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сеяде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пособен плавать под вод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пособен переживать резкие температурные колеба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каким факторам эволюции человека относят коллективный труд, речь, абстрактное мыш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оци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иолог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 разумный, в отличие от других животных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может переживать экстремальный холо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жет долго жить без в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может рисовать и ценить карти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пособен питаться растениями и животны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фактор эволюции человека относят к социаль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развитие втор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следственная изменчи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рьба за существов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признаков принадлежит человеку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уки длиннее, чем но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лицевой скелет лучше развит, чем мозгов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имеет чашеобразный та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 защёчные меш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17892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смотрите рисунок, на котором изображены ископаемые предки рода Человек в хронологической последовательности их появления на Земле. Под какой цифрой на нём изображён кроманьонец, если под цифрой 1 изображён австралопитек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6" name="Picture 2" descr="http://opengia.ru/resources/6965CEFC0B39A2174F08A57C38CB8608-GIABIO2011A817-6965CEFC0B39A2174F08A57C38CB8608-2-1302695293/repr-0.jpg"/>
          <p:cNvPicPr/>
          <p:nvPr/>
        </p:nvPicPr>
        <p:blipFill>
          <a:blip r:embed="rId1"/>
          <a:stretch/>
        </p:blipFill>
        <p:spPr>
          <a:xfrm>
            <a:off x="4071960" y="4071960"/>
            <a:ext cx="4714920" cy="2523960"/>
          </a:xfrm>
          <a:prstGeom prst="rect">
            <a:avLst/>
          </a:prstGeom>
          <a:ln w="0">
            <a:noFill/>
          </a:ln>
        </p:spPr>
      </p:pic>
      <p:sp>
        <p:nvSpPr>
          <p:cNvPr id="757" name="Прямоугольник 4"/>
          <p:cNvSpPr/>
          <p:nvPr/>
        </p:nvSpPr>
        <p:spPr>
          <a:xfrm>
            <a:off x="357120" y="4572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1)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)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)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 формирование речи идет параллельно с развит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торной памя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абстрактного мышл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без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личительной от высокоорганизованных животных особенностью человека является то, что челове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имеет первую сигнальную систем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способен пользоваться обобщёнными понятия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легко поддаётся обуч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ладает высокой коммуникабельность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 рисунке под каким номером изображён один из атавизмов человека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928760" y="1500120"/>
            <a:ext cx="4038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5" name="Picture 2" descr="http://opengia.ru/resources/762AF13CA229A7F147949F2254EC3D9F-G12A812-xs3qvrsrc187B7F99B025A083455E51B57462B12A-2-1329912418/repr-0.jpg"/>
          <p:cNvPicPr/>
          <p:nvPr/>
        </p:nvPicPr>
        <p:blipFill>
          <a:blip r:embed="rId1"/>
          <a:stretch/>
        </p:blipFill>
        <p:spPr>
          <a:xfrm>
            <a:off x="1000080" y="2928960"/>
            <a:ext cx="1285920" cy="17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4" descr="http://opengia.ru/resources/762AF13CA229A7F147949F2254EC3D9F-G12A812-xs3qvrsrcB3F1BF3F0C5694704C351E2F8C3F8683-2-1329912446/repr-0.jpg"/>
          <p:cNvPicPr/>
          <p:nvPr/>
        </p:nvPicPr>
        <p:blipFill>
          <a:blip r:embed="rId2"/>
          <a:stretch/>
        </p:blipFill>
        <p:spPr>
          <a:xfrm>
            <a:off x="1071720" y="4572000"/>
            <a:ext cx="1455480" cy="1143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6" descr="http://opengia.ru/resources/762AF13CA229A7F147949F2254EC3D9F-G12A812-xs3qvrsrc910EED338ABCBDB4487EE2FCD990C26B-2-1332257010/repr-0.jpg"/>
          <p:cNvPicPr/>
          <p:nvPr/>
        </p:nvPicPr>
        <p:blipFill>
          <a:blip r:embed="rId3"/>
          <a:stretch/>
        </p:blipFill>
        <p:spPr>
          <a:xfrm>
            <a:off x="5715000" y="1428840"/>
            <a:ext cx="1214280" cy="1811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http://opengia.ru/resources/762AF13CA229A7F147949F2254EC3D9F-G12A812-xs3qvrsrc8C2A1A13B8029F664E97EE3F1DC60760-2-1329912485/repr-0.jpg"/>
          <p:cNvPicPr/>
          <p:nvPr/>
        </p:nvPicPr>
        <p:blipFill>
          <a:blip r:embed="rId4"/>
          <a:stretch/>
        </p:blipFill>
        <p:spPr>
          <a:xfrm>
            <a:off x="5786280" y="3286080"/>
            <a:ext cx="1436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ённых органов относят к эндокринной систем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оч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надпочеч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двенадцатиперстная киш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пинной моз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приведенных признаков принадлежит обезьян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большой палец на ноге противопоставлен осталь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топа имеет св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уки короче, чем но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чашеобразный та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свидетельствует о принадлежности разных рас современных людей к одному виду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ыкармливание детёнышей молок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широкое распространение по поверхности Земл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умение пользоваться огнё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пособность давать плодовитое потомство в браках между представителями разных р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других представителей класса Млекопитающие, в процессе эволюции сформировалась способ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 передаче сигналов с помощью жест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воспринимать сигналы, исходящие из внешней сре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добывать и использовать огон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взаимодействовать в групп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 чем свидетельствует наличие хвоста у зародышей человека на ранней стадии его развития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 развитии с полным превращ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об изменчивости организм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о происхождении человека от животны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об отклонении в его развит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, в отличие от орангутана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больше лицевой отдел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больше объём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верхние конечности длиннее нижн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рудная клетка образована рёбр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отличает человекообразную обезьяну от человек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троение передних конечнос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ровень обмена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щий план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забота о потомств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ая современная раса до эпохи Великих географических открытий была распространена в Европе, Передней Азии, Средней Азии, Северной Африке, центральной Индии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негроид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онголоид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европеоид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встралоид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фактор эволюции человека относят к социаль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трудов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наследственная изменчив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рьба за существова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 и у всех хордовых, у чело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на ранних стадиях эмбрионального развития формируется кишечная труб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формируется внутренний хрящевый скел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меются грудная и брюшная полости те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имеется грудобрюшная перегородка – диафраг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 животных отличает наличие у н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безусловных рефлек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инстинкт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перв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второй сигнальной систе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щим признаком для человека и других млекопитающих являе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строение череп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количество зуб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ъём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троение серд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сшая нервная деятельность у человека обеспечива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возникновение нервных импульс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ередачу нервных сигналов из спинного мозга в голов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изменение обмена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формирование поведенческих реакц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истематический признак, по которому человека  относят к классу Млекопитающие, – эт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клеточное стро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членораздельная реч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наличие грудобрюшной перегородки – диафрагм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питание готовыми органическими веществ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 подтверждает родство человека и животных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общий план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прямохожд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множение и кормление молок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ходство эмоц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ажнейшим социальным приобретением в эволюции человека был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хождение на двух нога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увеличение объема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3)использование огн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стереоскопическое  зр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ля какой расы характерно следующее описание: чёрные жёсткие прямые, реже волнистые волосы; тёмные глаза; смуглый, часто желтоватый цвет кожи; слабое развитие волосяного покрова; уплощённое лицо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европеоид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монголоид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негроид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встралоидн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е изменение в строении стопы появилось у человека в связи с прямохождение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сформировались св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рослись кости предплюсн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большой палец приобрел подвиж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в большом пальце появились две фалан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еобладание у человека мозгового отдела черепа над лицевым привело 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1)возникновению мимических мышц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развитию мышл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развитию голосовых связ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увеличению ушных ракови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ловека относят к классу млекопитающих, так как у нег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пальцы имеют ногтевые пластин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конечности состоят из отдел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четырехкамерное сердц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есть диафрагма, потовые и млечные желе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з современных человекообразных обезьян человек имеет наибольшее родство 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рангутан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2)шимпанз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гиббон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горилл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 рисунке под каким номером изображён один из рудиментов человека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309560" y="1390680"/>
            <a:ext cx="4038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3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10" name="Picture 2" descr="http://opengia.ru/resources/91A385FCD4E0B0314743F285560716D7-91A385FCD4E0B0314743F285560716D7-xs3qvrsrc0CA38BFA649CA5E3446D86B6C55E8922-2-1330442621/repr-0.jpg"/>
          <p:cNvPicPr/>
          <p:nvPr/>
        </p:nvPicPr>
        <p:blipFill>
          <a:blip r:embed="rId1"/>
          <a:stretch/>
        </p:blipFill>
        <p:spPr>
          <a:xfrm>
            <a:off x="1214280" y="307188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4" descr="http://opengia.ru/resources/91A385FCD4E0B0314743F285560716D7-91A385FCD4E0B0314743F285560716D7-xs3qvrsrcFB6774BB2B97946A46FA894482F2CBF2-2-1330442642/repr-0.jpg"/>
          <p:cNvPicPr/>
          <p:nvPr/>
        </p:nvPicPr>
        <p:blipFill>
          <a:blip r:embed="rId2"/>
          <a:stretch/>
        </p:blipFill>
        <p:spPr>
          <a:xfrm>
            <a:off x="1143000" y="4572000"/>
            <a:ext cx="1357200" cy="18144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6" descr="http://opengia.ru/resources/91A385FCD4E0B0314743F285560716D7-91A385FCD4E0B0314743F285560716D7-xs3qvrsrc09B84CA00F44A56342F074D6303C0E05-2-1330442662/repr-0.jpg"/>
          <p:cNvPicPr/>
          <p:nvPr/>
        </p:nvPicPr>
        <p:blipFill>
          <a:blip r:embed="rId3"/>
          <a:stretch/>
        </p:blipFill>
        <p:spPr>
          <a:xfrm>
            <a:off x="5643720" y="1571760"/>
            <a:ext cx="1357200" cy="16873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8" descr="http://opengia.ru/resources/91A385FCD4E0B0314743F285560716D7-91A385FCD4E0B0314743F285560716D7-xs3qvrsrcA4FF3863A00DA0E04756766B44D642D7-2-1332258603/repr-0.jpg"/>
          <p:cNvPicPr/>
          <p:nvPr/>
        </p:nvPicPr>
        <p:blipFill>
          <a:blip r:embed="rId4"/>
          <a:stretch/>
        </p:blipFill>
        <p:spPr>
          <a:xfrm>
            <a:off x="6000840" y="3929040"/>
            <a:ext cx="657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ародиной человечества большинство ученых считаю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Австрал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Африк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Европ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Аз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признак рас является отличительны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объём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масса головного моз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общественный образ жиз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особенности внешнего стро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 человека в связи с прямохожд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развился большой палец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сформировались ногтевые пластинк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срослись две первые фаланги пальцев но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4)сформировались своды стоп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5:02:06Z</dcterms:created>
  <dc:creator>Сергей</dc:creator>
  <dc:description/>
  <dc:language>en-US</dc:language>
  <cp:lastModifiedBy>ученик</cp:lastModifiedBy>
  <dcterms:modified xsi:type="dcterms:W3CDTF">2014-12-01T16:38:04Z</dcterms:modified>
  <cp:revision>27</cp:revision>
  <dc:subject/>
  <dc:title>ОГЭ по теме «Человек и его здоровье»</dc:title>
</cp:coreProperties>
</file>