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1EC-A030-4489-83D8-F073DBF5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00E-0F43-4863-B1D2-53EBBD7B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248F6-B97F-4210-BFF8-31CC40FA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3FA78-7A54-4C86-8D92-95A29F69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F8917-E932-431F-AAEB-2BE5D1B7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23D8A-9A12-44B6-92D4-61EEC3C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707C9-BFE8-4D60-9884-9862D3AA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05A74-45DA-4FD1-B5DC-334984C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BF4D7-D2B6-4D9A-B808-9B402F3C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CBF64-A0D5-427C-AFB0-9CED1D73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80C9C-74FE-4D4E-A828-6C0DCBB0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1769A-122C-4EA8-8FA5-4B89E8DA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0AA-0CBE-4088-998C-AE0F2B4B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D665B-61F7-471D-8612-23554CB3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E15CB-E2E8-4954-89E1-B65707E4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AA69A-9A6B-4713-BDEB-C16658ED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4D13D-1FDD-44CC-B176-EDABA9C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95E54-CF87-40F1-93E3-9E517B27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AB958-6160-4A61-952E-A174CDD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8D7EB-C715-4F9D-90CD-6117F651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86D16-E679-4B96-B645-47026C6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8F21E-402A-4550-A27A-0BDC12A0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4D10F-A01C-446E-B4B3-55A09AE2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FAC-0ABC-4980-BB1F-7957BFD8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D5E18-B05E-4CB1-BB20-9202C597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31E8-CDB9-4D16-8DB0-2785D5AD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8AA6F-A3E8-470B-B162-CC3A54B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70F5-FB45-44C6-ADDE-A6A18F29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28103-FA93-4721-9305-26F0264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407DD-C915-4CBB-A1C1-6227FF7F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F68CA-D379-4457-9B31-15EC8B0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211D8-1D69-4CFE-A083-73D1AA82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4E067-A2F2-45AD-BDE5-3A4EBB61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C8302-5A75-4073-913F-D7D09518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3432-9A23-4856-B8E0-AE4E726D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132E5-1647-4BC9-9BDA-80C37B95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A04AF-C77E-4DEF-B8A5-84EF81D3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E7403-124E-42C2-A516-DABBAC96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D9C4C-BA4B-4375-80F0-4E9FF42A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266B9-2F0F-4CCF-822A-4C04FFEF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0DD9B-F536-4599-8637-177E82E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28FD8-C1EF-4DF6-B839-3AC2022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7CC62-653E-4CFD-B3BA-1C06C9FE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BC64F-4234-439A-9990-CEEA7DF9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41E2D-0CC7-45B5-9515-C3D45D7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97F-AD68-4840-8705-3BD7F7F4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1B03E-8863-4F20-93D5-27F771BF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221E3-4208-4187-9796-5CBB5BF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EF06A-F2AD-43C2-B1A2-C92BDE5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C3915-42CD-44BB-9223-3A8A591B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24491-70C9-4C0D-823D-B8FD27BD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AD17-2A27-4690-B743-B4469C57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7A1F-96BB-4948-99C2-19084B98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D82E-0507-4E14-AA9F-FF63A11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52C9-F292-4B95-B1C2-9C08A100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A391-4A86-4922-BE78-CB349623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005-8F9C-4715-8E13-36113E9F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735F-1E70-4159-A0D4-F5F07A7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7AD9-B570-4A76-BB94-3085E71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A06-C226-4EB1-8F90-D4C6661B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7518-122C-4960-A596-71819895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6CED-3064-4BF4-B2CF-995B5E8E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D082-B42B-4AA2-A8D1-E73F7CA7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0BD3-8FF2-4101-947D-EE0252BB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9B33-702C-409C-8BFC-89D8AC1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6A74-4D0D-4BB0-BFE9-BCDDE499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1A2A-ABD7-436B-95F4-57589CAC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36A-D3F0-48CB-94B2-670F56AF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E99C-3512-430D-B284-030C0D5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EEC1-8C9A-4CF8-BA47-AF49BF23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2966-E663-4B77-990D-3A48158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086E-B159-446F-9A74-6245283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57F0-0FC7-4D26-BA2A-8E1EE245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ACE8-499C-4BE5-BC9C-66275E08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6B98-6B78-408D-940D-B40A993F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A180-9622-4D6A-A3DF-9E00BC3C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55AD-5084-4177-8738-7574B962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1EAA-68FE-4BC8-B470-43D28781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DA4-5B3F-497F-982D-5976F742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DB253-14A2-44F3-BD41-67A2D08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262B-E885-466D-9E9B-23ABAE4D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B8F5-5978-4C76-B51C-69A73012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1ECA-BACF-47FE-AA8A-6E76DD93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E55A-1E52-474D-9438-2DCC431D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F4DD-C75B-4B49-A456-AFF23F1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D81E-BF42-425E-B150-716C458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3BDC-BC0F-411D-8EDC-0F98714E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522D-AC1A-4988-8C42-D32A2759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2CB6-1C9B-47FD-9F57-60DE0669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62B-110F-4084-A085-E516058B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B1A57-9C18-46EF-BFA0-AC3C5153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4044-82B7-4AA5-87D5-47CBA9E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0E5AA-C17A-4CEC-AE1D-5ED2678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D4CF8-BE8F-4B97-A0C9-4119DC0C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C334B-D152-48A6-8B67-E08E24A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B30D-1421-4816-BA75-A5BF28A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19BF4-03DE-4640-897E-D23F1ED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8DAE-90D9-40BD-8EC7-DF00287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4487D-A433-492A-922E-D14BE76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4EC2-5597-4EB3-9EDF-826E1CCB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09A-A9D9-49BD-8790-355C541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B003F-B244-4A84-B83F-863FF7A3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23C7-1B63-4074-AFC4-B379F25E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9810-EACC-43B3-83D7-503017E1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56A35-E2AE-4CB7-BD4D-600D7755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9BB8B-98FB-49E1-9404-7FDE95D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D1983-ECAB-4CB8-9EF6-9B48689F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596D-5C85-46C4-9720-D60CFE95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F969-861D-476C-B7EA-5F95D15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88FB-5870-429A-9AE6-4900EE21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BF97E-5226-4AE1-BBB2-62C01BA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D1B-CBD0-4BED-9B47-8983855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99B6-A0C9-4D7F-ADB4-43784D5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2581-A657-4E21-92A9-EC05B6FD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27B5-EAC0-470D-B898-789598DA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6EEAC-EFFC-436F-A497-A7D9EFBF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61C3B-B4FD-4D55-92FB-7DE760D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D8C7-7C23-4BFA-8A9A-A5BB1631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46F6-EDB8-47E9-8FDE-65DDFF8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798E-74D5-4C8B-BBBB-DD442EB3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0E7C-9231-4F6F-9A75-E21F77B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F88A-2DA4-4429-9DB6-F630A0FD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95B-3B95-4E12-B3BF-8DB6F5B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D4BBE-EF1F-4CC9-A872-6035382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E57B7-FF02-4E42-A8B4-0F51CE7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4DFC-0FFB-4D51-BCE3-877165AB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F6387-F87B-449D-A942-1FBE20F7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D0E92-5B80-4B4F-BC88-6068223F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67BC5-5D1D-485D-9D48-2984E603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67025-C9DE-4FB3-9A5A-0D3242C5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266AD-BFAE-487E-98BD-6685A275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3F745-5F45-4C40-9784-D5BF67A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14828-53AB-4337-B7EB-39F78BB2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6A2-C484-4CFC-B943-1E0E92D2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6E72D-A531-4D38-BEFD-9DB1908E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813E4-5BE8-4950-AE6D-D482786C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83DB3-7AEC-4B95-84BD-2FDECB6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A8ED-7206-434B-8BC3-84C64B8D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D4A83-9ADD-459C-A685-8893C30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CF7E1-BFB1-42A3-8B46-FD12044D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9A153-7147-4F53-86D4-3B566A8F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D7383-AF7D-45ED-83A8-8C1C108B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2CCDF-38FD-4777-A096-937C5E98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42FE8-5C4F-4936-A524-2A41C0F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48D5-CE88-4241-8304-F14B40EA1C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6C4-0704-472F-B502-D17F4F62134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F04F-9F04-4034-88B8-23B49D2CB40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AA19-60B1-4228-AA21-37CC40E3FF0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E966-5C21-49E2-9481-8A71CF5736C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77C-6BEE-412F-A8DF-157BA11DF0E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56AD-6C0D-4D3D-8A01-B38091B04D6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BE5-C42F-41EA-B432-68565EA0C55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61BA-15AE-4E15-A496-E71CED64D5E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2DBB-CFE7-4F5E-BCBD-0302442FC0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5522-E868-4D81-BEAB-6134847FD87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EEC2-F7A8-4382-B439-786F879F591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ЕСТО ЧЕЛОВЕКА В СИСТЕМЕ ОРГАНИЧЕСКОГО МИР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ОБЩИЙ ОБЗОР ТЕЛА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ОГЭ по теме «Человек и его здоровье»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как и у других представителей класса Млекопитающие, имее(ю)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S-образный позвон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росшиеся кости та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хорошо развитие кости пальцев ру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альные и потов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класса Млекопитающие свойствен человек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лёгочное дых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оловной и 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мкнутая кровеносная систе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социальным факторам эволюции человека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следственную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орьбу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скус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членораздельную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творческому труду были способ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риопите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итекантр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австралопите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циальная эволюция человека сопровождалас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ереходом к прямохожд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явлением заботы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азвитием искусства и нау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ием мозгового отдела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беспечило социальную эволюцию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счезновение шерстного покро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 какому признаку отличают человека от человекообразных обезьян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легочное дых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четыре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водчатая сто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остоянная температура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отличает Человека разумного от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тие периферической нерв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личие двух кругов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азвитие S-образной формы позвоночни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формирование трёх зародышевых листков в период эмбрионально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одство строения большинства систем органов у млекопитающих животных и человека служит доказательством 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одст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жизни в одинаковых услови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роисхождения от земноводны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возникновения в одно и то же историческое врем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е изменение в строении стопы появилось у человека в связи с прямохождение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формировался св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 большом пальце появились две фалан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ослись кости предплюс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большой палец приобрел подвиж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 в отличие от позвоночных животных,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ся головной и 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ырабатываются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тело состоит из различных тканей и орга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мозговой отдел черепа преобладает над лицев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, в отличие от позвоночны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пять отделов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меет хорошо развитые органы чув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оздаёт сложные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оциальное суще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биологическом единстве человеческих рас свидетельствует их способ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давать плодовитое потом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еобразовывать окружающую сред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сселяться по поверхности Зем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спользовать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01320" y="642960"/>
            <a:ext cx="85042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 каким признакам человека относят к классу Млекопитающие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личие зубов в лунках челю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пособность регулировать температуру своего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аличие нерв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львеолярное строение лёгк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закладка у зародышей нервной трубки над хорд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наличие сводчатой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доказывает родство человека и хордовых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скармливание потомства молок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стоянная температура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аличие внутреннего осевого скел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наличие коры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человека характеризует его как представителя класса Млекопитающ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 ранних стадиях эмбрионального развития формируется кишечная труб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формируется внутренний костный скел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вается замкнутая кровеносная система и два круга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ся грудобрюшная перегородка – 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х, так как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ыхание осуществляется с помощью легк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ровь течет по двум кругам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ередний мозг включает два полушар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развитие зародыша происходит в матк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особенности  в строении тела приобрел предок современного человека, перейдя к регулярной трудовой деятельност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тазовые кости срослись, по форме напоминают чаш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ольшой палец руки стал противостоять ост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 позвоночном столбе сформировалось несколько изгибов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опа из плоской превратилась в сводчату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у способствовало появление прямохождения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селению новых территор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олее быстрому передвижению по земл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лее тесному общению люд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освобождению руки и развитию трудов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у человека в процессе эволюции возник раньше други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озн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егулярная 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чественной особенностью человека, в отличие от других приматов, явля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абстрактное мышл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рудийн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условный рефле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рассудочн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-239760"/>
            <a:ext cx="853452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01320" y="642960"/>
            <a:ext cx="85042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смотрите рисунок, на котором изображены ископаемые предки рода Человек в хронологической последовательности их появления на Земле. Под какой цифрой на нем изображен австралопите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0" name="Picture 2" descr="http://opengia.ru/resources/A6CDA7947743B38E461B803B2AA8617C-GIABIO2011A805-A6CDA7947743B38E461B803B2AA8617C-2-1298377457/repr-0.jpg"/>
          <p:cNvPicPr/>
          <p:nvPr/>
        </p:nvPicPr>
        <p:blipFill>
          <a:blip r:embed="rId1"/>
          <a:stretch/>
        </p:blipFill>
        <p:spPr>
          <a:xfrm>
            <a:off x="3929040" y="3071880"/>
            <a:ext cx="4314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4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позволяет отнести человека к классу Млекопитающ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легочное дых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ва круга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оловной мозг, состоящий из пяти отдел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разделение зубов на резцы, клыки и коре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человекообразных обезьян, име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четыре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тереоскопическое цветн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S-образный позвон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е влияние оказала трудовая деятельность на формирование руки человека? Укажите два эволюционных измен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относится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 ушные ракови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млекопитающи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ерхняя конечность состоит из плеча, предплечья и ки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исть крючкообразная, со слаборазвитым большим пальц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ижняя челюсть соединена с черепом подвижн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большой палец образует прямой угол по отношению к другим пальц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, свойственный человеку, является признаком животных типа Хордовы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лёгкие, состоящие из альвео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ервная система узлового ти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олосяной пок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жаберные щели в стенке глотки зародыш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головном мозге человека по сравнению с мозгом шимпанзе лучше разви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родолговаты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зжеч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едни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передни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предшественникам людей большинство антропологов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австралопите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шимпанз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рангута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орил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из перечисленного может служить примером рудимента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личие хво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ополнительные молочн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збыточная волосат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наличие копчи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группе древнейших людей учёные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романьон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австралопит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андерталь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человека прямоходящ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чём отличие Человека разумного от животных класса Млекопитающие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тие ре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личие пяти отделов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формирование опорно-двигательного аппара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формирование сводов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способность изготавливать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наличие зрительного и слухового анализато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органов относят к половой системе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мочет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елезён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предстатель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ппенди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01320" y="285840"/>
            <a:ext cx="85042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примеры рефлексов животных и человека следует отнести к условным рефлексам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езкий поворот головы и тела кошки в направлении раскатов гро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краснение покровов лица человека при воспоминании о неприятных событи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ильное выделение слюны у лисицы, забравшейся в курят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чихание человека при уборке поме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сильное слюноотделение у собаки при попадании пищи в ротовую пол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лай собаки на человека в чёрном плащ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 какой системы человека представлен на рисунк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ровенос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ыдел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щевар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дыха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http://opengia.ru/resources/0cd39dabe660e3119cce001fc68344c9-BIO2013VIII9A901-copy1--innerimg0/repr-0.jpg"/>
          <p:cNvPicPr/>
          <p:nvPr/>
        </p:nvPicPr>
        <p:blipFill>
          <a:blip r:embed="rId1"/>
          <a:stretch/>
        </p:blipFill>
        <p:spPr>
          <a:xfrm>
            <a:off x="5572080" y="2286000"/>
            <a:ext cx="18478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органов относят к половой системе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чевой пузыр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мат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мочет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имеет молочн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 отличается человекообразная обезьяна от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троением кисти ру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ифференциацией зуб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щим планом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ровнем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из перечисленных желёз входит в состав пищеварительной системы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печен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щитовид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адпоче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ипофи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ределите правильную последовательность основных этапов эволюции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ревнейшие люди ⇒ предшественники людей ⇒ неандертальцы ⇒ 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предшественники людей ⇒ древнейшие люди ⇒ неандертальцы ⇒ 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кроманьонцы ⇒ неандертальцы ⇒ предшественники людей ⇒ древние люд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неандертальцы ⇒ древнейшие люди ⇒ предшественники людей ⇒ 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тличает человекообразную обезьяну от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щий план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ровень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троение передних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временные люди, принадлежащие к разным расам, являются представителя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одного ви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разных вид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дной популя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разных родов одного семейст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орган пищеварения расположен с левой стороны под диафрагмой в брюшной полост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ечен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желуд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желчный пузыр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млекопитающих животных, развиты(-а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условные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вторая сигнальная систе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рганы чув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личает от человекообразных обезьян налич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боты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ерв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втор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теплокров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человекообразных обезьян, е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S-образный позвон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озды и извилины в конечном мозг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ереоскопическое цветов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чь человека отличается от «языка животных» тем, что он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еспечивается центральной нервной систем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является врождён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возникает осознанн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одержит информацию только о текущих событи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и современные человекообразные обезьяны сходны тем, чт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ладеют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способны к обуч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пособны к абстрактному мышл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зготовляют каменные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личия человека от человекообразных обезьян, связанные с его трудовой деятельностью, проявляются в строен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сводчатой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S-образного позвоночни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орта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ки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68000" y="1484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 отличается человек от шимпанз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группами кров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пособностьюк обуч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енетическим код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пособностью кабстрактному мышл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други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азвита вторая сигнальная систе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летки лишены жёсткой оболоч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есть бесполое размнож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две пары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еречисленных органов расположен в грудной полости тела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елезён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двенадцатиперстная киш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оджелудоч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других представителей класса млекопитающи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родыш развивается в матк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меются сальные и потов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ся 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мозговой отдел черепа больше лицево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оцесс обеспечил социальную эволюцию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зменение форм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явление заботы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тие искусства и нау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ие объема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и у всех позвоночных, у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нутренний скелет образован хорд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тело покрыто волосяным покров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имеется сердце, кровеносная система замкнут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ся грудобрюшная перегородка – 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еход от обезьяноподобного предка к человеку сопровождался развит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хотничьих навы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способности к труд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мышц нижней челю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рудной клет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чиной различия в интенсивности загара у двух людей белой расы, проводящих на солнце одинаковое время, явля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о пигмента меланин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оличество тепловых рецепто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озраст принимающих солнечные ван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лотность эпидермис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еречисленных органов расположен в грудной полости тела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тонкий кише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легко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оджелудоч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собенностью больших полушарий человека, в отличие от млекопитающих, является налич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о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звили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дол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центров ре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орган из перечисленных входит в состав пищеварительной системы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елезён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трахе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глот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одство человека и млекопитающих животных свидетельству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об их родстве и общем плане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 одинаковом уровне их организ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 разном уровне их организ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 их происхождении от разных пред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му из представителей рода Человек принадлежат представленные изображения наскальных рисунков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итекантроп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неандертальц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кроманьонц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встралопитек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2" descr="http://opengia.ru/resources/3237065AD1B9AB3942890F96E32FECFA-GIABIO2011A801-3237065AD1B9AB3942890F96E32FECFA-2-1396449999/repr-0.jpg"/>
          <p:cNvPicPr/>
          <p:nvPr/>
        </p:nvPicPr>
        <p:blipFill>
          <a:blip r:embed="rId1"/>
          <a:stretch/>
        </p:blipFill>
        <p:spPr>
          <a:xfrm>
            <a:off x="4286160" y="2928960"/>
            <a:ext cx="3986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 каким признакам человека относят к классу Млекопитающие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ервная система трубчатого ти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жаберные щели на глотке зародыш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четырё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ушные ракови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скелет верхних и нижних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6)борозды и извилины в коре больших полушар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изменения произошли в головном мозге человека в связи с трудовой деятельностью? Укажите два измен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может служить примером рудимента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личие хво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ногососко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збыточная волосат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наличие третьего 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одство обезьяны и человека заключается 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динаковой степени развития коры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динаковых пропорциях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пособности к образованию 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особности к твор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группе древних людей учёные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встралопит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романьон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еандерталь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екантро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свидетельствует о том, что представители рода Человек появились примерно 2–3 млн. лет назад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йденные исторические летопис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анные сравнительной анатом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палеонтологические наход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мифы древних народ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из движущих сил эволюции человека имеет биологическую природ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бстрактное мышл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пособность создавать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членораздельная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относится к классу млекопитающих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вынашивает плод в матк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из перечисленных особенностей строения черепа человека является приспособлением к реч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)наличие выступающего подбород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ертикальный ло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астание костей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ная по сравнением с лицевой мозговая часть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группе древнейших людей учёные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романьон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австралопите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андерталь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инантроп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принадлежности человека именно к хордовым говорит наличие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нутреннего оплодотвор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осевого скел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кровенос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уб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млекопитающих животных, развиты(-о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абстрактное мышл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словные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ные виды тормож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большие полушария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 какой цифрой на рисунке изображён представитель европеоидной расы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8" name="Picture 2" descr="http://opengia.ru/resources/463C4D5EF24EB77A472118F6C633AC76-GIABIO2011A822-463C4D5EF24EB77A472118F6C633AC76-2-1302700248/repr-0.jpg"/>
          <p:cNvPicPr/>
          <p:nvPr/>
        </p:nvPicPr>
        <p:blipFill>
          <a:blip r:embed="rId1"/>
          <a:stretch/>
        </p:blipFill>
        <p:spPr>
          <a:xfrm>
            <a:off x="1500120" y="4429080"/>
            <a:ext cx="5400720" cy="179064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оугольник 4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)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3)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)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относится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имеет различные по строению и выполнению функций зуб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пособен к формированию 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 тело, состоящее из клеток и ткан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наследственной программе поведения животных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езусловный рефле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словный рефле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ассудочную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за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из перечисленного может служить примером рудимента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збыточная волосат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ополнительная пара молочных желе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аличие зачаточных ушных мышц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наличие хво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 влиянием какого фактора происходило формирование руки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гетеротрофного пит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итания предков человека в саванна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коллективной трудов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двуногого хожд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фактор эволюции человека относят к социа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использование орудий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следственная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ьба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характерен для вида Человек разумный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хорошо развитый подбород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личие ног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тый ствол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ъёмн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признаков принадлежит обезьян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звоночник имеет S-образный изги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плоская сто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уки короче, чем но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чашеобразный та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астью какой системы органов человека является поч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лов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выдел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щевар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кровенос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имеет перегородку в виде диафраг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цифрой на рисунке обозначена полость, в которой расположена поджелудочная желез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opengia.ru/resources/095A8BC4CDF097474264EC1E8AAC13B6-095A8BC4CDF097474264EC1E8AAC13B6-095A8BC4CDF097474264EC1E8AAC13B6-2-1396433750/repr-0.jpg"/>
          <p:cNvPicPr/>
          <p:nvPr/>
        </p:nvPicPr>
        <p:blipFill>
          <a:blip r:embed="rId1"/>
          <a:stretch/>
        </p:blipFill>
        <p:spPr>
          <a:xfrm>
            <a:off x="5143680" y="2500200"/>
            <a:ext cx="1095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циальная природа человека проявляется 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ечев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испособленности к прямохожд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аличии гортани с голосовыми связк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разовании 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из перечисленного оказало наибольшее влияние на развитие мышления предков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жизнь в группа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егулярная 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ереход от древесного к наземному образу жиз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чем свидетельствует наличие хвоста у зародышей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 отклонениях в развит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 развитии с неполным превращ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 изменчивости организмов в период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о происхождении человека от общих предков с другими хордовы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 чём отличие Человека разумного от животных класса Млекопитающие? Выберите три верных ответа из шести и запишите цифры, под которыми они указан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)прямохожден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)теплокровность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3)развитие абстрактного мышлени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)наличие диафрагмы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5)формирование условных рефлекс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6)высокая степень противопоставления большого пальца кисти всем остальны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человекообразных обезьян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ся головной и 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ырабатываются условные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ся объемное цветов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мозговой отдел черепа преобладает над лицев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временный человек — это прямой потом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еандерталь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инантроп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кроманьон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екантроп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выми научились пользоваться огнё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встралопите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питекантр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андерталь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результате каких процессов у человека сформировались расовые признак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упражнения или неупражнения отдельных органов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щественного образа жизни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действия естественного отбо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развития цивилиз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 в связи с прямохожд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лся большой палец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огти на ногах превратились в ног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формировались своды стоп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рослись две первые фаланги пальцев но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разумный, в отличие от други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оздаёт и использует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сеяд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пособен плавать под вод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особен переживать резкие температурные колеб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каким факторам эволюции человека относят коллективный труд, речь, абстрактное мыш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оци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иолог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разумный, в отличие от други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может переживать экстремальный хол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жет долго жить без 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может рисовать и ценить карти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особен питаться растениями и животны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фактор эволюции человека относят к социа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азвитие втор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следственная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ьба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признаков принадлежит человек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уки длиннее, чем но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лицевой скелет лучше развит, чем мозгов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имеет чашеобразный та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 защёчные меш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17892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смотрите рисунок, на котором изображены ископаемые предки рода Человек в хронологической последовательности их появления на Земле. Под какой цифрой на нём изображён кроманьонец, если под цифрой 1 изображён австралопите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6" name="Picture 2" descr="http://opengia.ru/resources/6965CEFC0B39A2174F08A57C38CB8608-GIABIO2011A817-6965CEFC0B39A2174F08A57C38CB8608-2-1302695293/repr-0.jpg"/>
          <p:cNvPicPr/>
          <p:nvPr/>
        </p:nvPicPr>
        <p:blipFill>
          <a:blip r:embed="rId1"/>
          <a:stretch/>
        </p:blipFill>
        <p:spPr>
          <a:xfrm>
            <a:off x="4071960" y="4071960"/>
            <a:ext cx="4714920" cy="252396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4"/>
          <p:cNvSpPr/>
          <p:nvPr/>
        </p:nvSpPr>
        <p:spPr>
          <a:xfrm>
            <a:off x="357120" y="457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1)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)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)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 формирование речи идет параллельно с развит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торной памя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абстрактного мышл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без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личительной от высокоорганизованных животных особенностью человека является то, что челове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первую сигнальную систем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способен пользоваться обобщёнными понятия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легко поддаётся обуч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ладает высокой коммуникабельност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 рисунке под каким номером изображён один из атавизмов человека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928760" y="150012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5" name="Picture 2" descr="http://opengia.ru/resources/762AF13CA229A7F147949F2254EC3D9F-G12A812-xs3qvrsrc187B7F99B025A083455E51B57462B12A-2-1329912418/repr-0.jpg"/>
          <p:cNvPicPr/>
          <p:nvPr/>
        </p:nvPicPr>
        <p:blipFill>
          <a:blip r:embed="rId1"/>
          <a:stretch/>
        </p:blipFill>
        <p:spPr>
          <a:xfrm>
            <a:off x="1000080" y="2928960"/>
            <a:ext cx="1285920" cy="17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4" descr="http://opengia.ru/resources/762AF13CA229A7F147949F2254EC3D9F-G12A812-xs3qvrsrcB3F1BF3F0C5694704C351E2F8C3F8683-2-1329912446/repr-0.jpg"/>
          <p:cNvPicPr/>
          <p:nvPr/>
        </p:nvPicPr>
        <p:blipFill>
          <a:blip r:embed="rId2"/>
          <a:stretch/>
        </p:blipFill>
        <p:spPr>
          <a:xfrm>
            <a:off x="1071720" y="4572000"/>
            <a:ext cx="1455480" cy="1143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" descr="http://opengia.ru/resources/762AF13CA229A7F147949F2254EC3D9F-G12A812-xs3qvrsrc910EED338ABCBDB4487EE2FCD990C26B-2-1332257010/repr-0.jpg"/>
          <p:cNvPicPr/>
          <p:nvPr/>
        </p:nvPicPr>
        <p:blipFill>
          <a:blip r:embed="rId3"/>
          <a:stretch/>
        </p:blipFill>
        <p:spPr>
          <a:xfrm>
            <a:off x="5715000" y="1428840"/>
            <a:ext cx="1214280" cy="1811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http://opengia.ru/resources/762AF13CA229A7F147949F2254EC3D9F-G12A812-xs3qvrsrc8C2A1A13B8029F664E97EE3F1DC60760-2-1329912485/repr-0.jpg"/>
          <p:cNvPicPr/>
          <p:nvPr/>
        </p:nvPicPr>
        <p:blipFill>
          <a:blip r:embed="rId4"/>
          <a:stretch/>
        </p:blipFill>
        <p:spPr>
          <a:xfrm>
            <a:off x="5786280" y="3286080"/>
            <a:ext cx="1436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органов относят к эндокринной систем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надпоче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двенадцатиперстная киш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енных признаков принадлежит обезьян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ольшой палец на ноге противопоставлен ост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топа имеет с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уки короче, чем но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чашеобразный та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свидетельствует о принадлежности разных рас современных людей к одному вид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ыкармливание детёнышей молок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широкое распространение по поверхности Зем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умение пользоваться огнё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пособность давать плодовитое потомство в браках между представителями разных р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других представителей класса Млекопитающие, в процессе эволюции сформировалась способ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 передаче сигналов с помощью жес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оспринимать сигналы, исходящие из внешней сре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добывать и использовать огон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взаимодействовать в групп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чем свидетельствует наличие хвоста у зародышей человека на ранней стадии его развити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 развитии с полным превращ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 изменчивости организм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о происхождении человека от животны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 отклонении в его развит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орангутана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ольше лицевой отдел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больше объём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ерхние конечности длиннее нижн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рудная клетка образована рёбр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тличает человекообразную обезьяну от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троение передних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ровень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щий план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современная раса до эпохи Великих географических открытий была распространена в Европе, Передней Азии, Средней Азии, Северной Африке, центральной Инди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егр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нгол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европе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встрал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фактор эволюции человека относят к социа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следственная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ьба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и у всех хордовых, у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на ранних стадиях эмбрионального развития формируется кишечная труб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формируется внутренний хрящевый скел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ются грудная и брюшная полости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ся грудобрюшная перегородка – 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 животных отличает наличие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ез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нстинк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ерв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втор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щим признаком для человека и других млекопитающих явля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строение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количество зуб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ъём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роение серд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сшая нервная деятельность у человека обеспечива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озникновение нервных импуль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ередачу нервных сигналов из спинного мозга в голов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зменение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формирование поведенческих реакц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истематический признак, по которому человека  относят к классу Млекопитающие, – эт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членораздельная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аличие грудобрюшной перегородки – диафраг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ние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подтверждает родство человека и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общий план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множение и кормление молок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ходство эмоц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ажнейшим социальным приобретением в эволюции человека был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хождение на двух нога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величение объема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использование огн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ереоскопическое 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ля какой расы характерно следующее описание: чёрные жёсткие прямые, реже волнистые волосы; тёмные глаза; смуглый, часто желтоватый цвет кожи; слабое развитие волосяного покрова; уплощённое лицо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европе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монгол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гр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встрал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е изменение в строении стопы появилось у человека в связи с прямохождение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формировались с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рослись кости предплюс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льшой палец приобрел подвиж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в большом пальце появились две фалан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еобладание у человека мозгового отдела черепа над лицевым привело 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возникновению мимических мышц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развитию мышл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тию голосовых связ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ию ушных ракови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х, так как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альцы имеют ногтевые пластин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онечности состоят из отдел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четыре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есть диафрагма, потовые и млечн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 современных человекообразных обезьян человек имеет наибольшее родство 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рангутан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шимпанз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иббон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орилл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 рисунке под каким номером изображён один из рудиментов человека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309560" y="139068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3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0" name="Picture 2" descr="http://opengia.ru/resources/91A385FCD4E0B0314743F285560716D7-91A385FCD4E0B0314743F285560716D7-xs3qvrsrc0CA38BFA649CA5E3446D86B6C55E8922-2-1330442621/repr-0.jpg"/>
          <p:cNvPicPr/>
          <p:nvPr/>
        </p:nvPicPr>
        <p:blipFill>
          <a:blip r:embed="rId1"/>
          <a:stretch/>
        </p:blipFill>
        <p:spPr>
          <a:xfrm>
            <a:off x="1214280" y="307188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4" descr="http://opengia.ru/resources/91A385FCD4E0B0314743F285560716D7-91A385FCD4E0B0314743F285560716D7-xs3qvrsrcFB6774BB2B97946A46FA894482F2CBF2-2-1330442642/repr-0.jpg"/>
          <p:cNvPicPr/>
          <p:nvPr/>
        </p:nvPicPr>
        <p:blipFill>
          <a:blip r:embed="rId2"/>
          <a:stretch/>
        </p:blipFill>
        <p:spPr>
          <a:xfrm>
            <a:off x="1143000" y="457200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" descr="http://opengia.ru/resources/91A385FCD4E0B0314743F285560716D7-91A385FCD4E0B0314743F285560716D7-xs3qvrsrc09B84CA00F44A56342F074D6303C0E05-2-1330442662/repr-0.jpg"/>
          <p:cNvPicPr/>
          <p:nvPr/>
        </p:nvPicPr>
        <p:blipFill>
          <a:blip r:embed="rId3"/>
          <a:stretch/>
        </p:blipFill>
        <p:spPr>
          <a:xfrm>
            <a:off x="5643720" y="1571760"/>
            <a:ext cx="1357200" cy="16873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8" descr="http://opengia.ru/resources/91A385FCD4E0B0314743F285560716D7-91A385FCD4E0B0314743F285560716D7-xs3qvrsrcA4FF3863A00DA0E04756766B44D642D7-2-1332258603/repr-0.jpg"/>
          <p:cNvPicPr/>
          <p:nvPr/>
        </p:nvPicPr>
        <p:blipFill>
          <a:blip r:embed="rId4"/>
          <a:stretch/>
        </p:blipFill>
        <p:spPr>
          <a:xfrm>
            <a:off x="6000840" y="3929040"/>
            <a:ext cx="657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родиной человечества большинство ученых считаю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встрал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Африк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Европ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з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рас является отличите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ъём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асса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щественный образ жиз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особенности внешнего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 в связи с прямохожд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лся большой палец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формировались ногтевые пластин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ослись две первые фаланги пальцев но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формировались своды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5:02:06Z</dcterms:created>
  <dc:creator>Сергей</dc:creator>
  <dc:description/>
  <dc:language>en-US</dc:language>
  <cp:lastModifiedBy>ученик</cp:lastModifiedBy>
  <dcterms:modified xsi:type="dcterms:W3CDTF">2014-12-01T16:38:04Z</dcterms:modified>
  <cp:revision>27</cp:revision>
  <dc:subject/>
  <dc:title>ОГЭ по теме «Человек и его здоровье»</dc:title>
</cp:coreProperties>
</file>