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9FC-5EDD-4613-9094-22E5EC0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141-4C63-4B72-AC92-7CE59B98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417-F728-49AE-8727-83AB38CB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F49-10F0-4582-90EE-EC5278A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EE11-2C98-4452-9C8A-6E618562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C5A-2AB8-4915-B801-BD21874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BC59-4116-438D-8D89-08A696E3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57AE-139E-47FD-9B60-D34AD537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A03-169B-445A-8C3C-D13A75E6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701-EF23-4584-B4F3-68A62B7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3A9C-580B-4B1E-907E-72C78C0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C6A-543A-4B86-9519-A442BE9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667-30BA-4CD3-A176-A7F6638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9329-78F5-4335-B801-B714C5C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E28-6962-4ED2-8ED1-38606D3B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82C5-4C24-42CA-B69D-AA1452D1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3870-A54D-45FF-8E02-317C5CDF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0C4A-16D3-4269-8FEC-EB0389DE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5EE0-D532-4794-9A73-0C4A97D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0A53-B714-4110-ADE5-6E4AA23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81EC-E9B7-4CBE-90B6-F8EFDCB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8A24-B01A-4662-98A9-256F904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A22-8FF0-4EFE-B0D9-E74B3EC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73EA-F587-46F1-A23E-A5E71FDB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527C-4CB6-419E-A383-F6D6CE4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8421-15F2-43AD-8F63-2B0FB1B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F945-C00A-4BA2-B401-AE795D3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031B-2ABB-4A51-8CCF-58AD1514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DAA2-0F29-4B81-AA1E-600BA6D6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B925-AF2B-4297-AA1B-46B6307E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DFBB-ED2B-4442-BC70-E5B4D3ED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EC81-9D56-40BA-9440-66ED92A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4775-4866-4654-93C2-6102AC4D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5AE-8E32-4F36-855A-CF67DB54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E143-1948-450A-928B-4B020F3B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4139-00E8-47A7-B340-5CD0EEB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5B75-1DAB-4673-B554-39154F8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97B1-95D5-489C-9439-9518852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4254-2FCC-4A9C-8C5D-EA690E2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DE8E-2ABF-4944-BE5F-C883B23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9BC8-59AC-4EFF-8918-74A743FF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01DF-A18B-476F-97FA-DC352307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4C86-65B6-49CE-BF9A-E728080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877-242F-4A9B-BB93-5DFE8134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B41-B153-4E8D-8C5A-76CDA4D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3D7-9A9A-49F2-8483-74FF2E2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9A7-96F7-4C9D-878F-17A903F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C83-A86F-4121-8055-02719B4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545E-938A-4628-AC12-467965EAB7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42D-93D8-4F09-B1F5-B75701A46A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690-DFAE-493E-9D46-E27BD7690F0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1AE1-9708-4E4C-9856-D1379F4413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Оксиды азот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5" descr="красиво3.jpg"/>
          <p:cNvPicPr/>
          <p:nvPr/>
        </p:nvPicPr>
        <p:blipFill>
          <a:blip r:embed="rId3"/>
          <a:stretch/>
        </p:blipFill>
        <p:spPr>
          <a:xfrm>
            <a:off x="428760" y="3143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85840" y="9288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Азот способен проявлять несколько степеней окисления от -3 до +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57120" y="171468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Известны несколько оксидов азо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+1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+2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+3   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+4 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+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500040" y="2928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Солеобразующие:  </a:t>
            </a: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N2O3     NO2     N2O4       N2O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                                                                </a:t>
            </a: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димер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оксида азота(</a:t>
            </a:r>
            <a:r>
              <a:rPr b="0" i="1" lang="en-US" sz="1400" spc="-1" strike="noStrike">
                <a:solidFill>
                  <a:srgbClr val="387026"/>
                </a:solidFill>
                <a:latin typeface="Constantia"/>
              </a:rPr>
              <a:t>IV)</a:t>
            </a: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214200" y="43578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Несолеобразующие:  </a:t>
            </a: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N2O     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285840" y="52149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Все оксиды азота, кроме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N2O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, ядовитые веще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000760" y="23572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28584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128592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2143080" y="2357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3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3571920" y="235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N2O.png"/>
          <p:cNvPicPr/>
          <p:nvPr/>
        </p:nvPicPr>
        <p:blipFill>
          <a:blip r:embed="rId2"/>
          <a:stretch/>
        </p:blipFill>
        <p:spPr>
          <a:xfrm>
            <a:off x="3822840" y="1214280"/>
            <a:ext cx="5321160" cy="32814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285840" y="8571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N2O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оксид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 азота </a:t>
            </a: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14200" y="1643040"/>
            <a:ext cx="328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I       IV      I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=N=O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461960" y="214308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Против всех прави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28584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тепень окисления не всегда совпадает с валентность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85840" y="385776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2     -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=N=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степень окисления распределяется на два атома азота и равна для обоих +2, а для одного +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5643720" y="4500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олекула линей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285840" y="53578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й газ со слабым запахом и сладковатым вкусом, хорошо растворим в воде, но не взаимодействует с ней. В смеси с кислородом используется в медицине для слабого наркоза. («веселящий» газ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При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700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С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разлагается: </a:t>
            </a:r>
            <a:r>
              <a:rPr b="0" i="1" lang="ru-RU" sz="24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= </a:t>
            </a:r>
            <a:r>
              <a:rPr b="0" i="1" lang="en-US" sz="24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 + 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928800" y="8571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NO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-оксид азота (</a:t>
            </a: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00040" y="4857840"/>
            <a:ext cx="81439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й газ, не имеет запаха. В воде малорастворим. Образуется из азота и кислорода при сильных электрических разрядах (например, во время грозы в воздухе) или при высокой температур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                       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 + O2 </a:t>
            </a:r>
            <a:r>
              <a:rPr b="0" i="1" lang="en-US" sz="1800" spc="-1" strike="noStrike">
                <a:solidFill>
                  <a:srgbClr val="546422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В лаборатории: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С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u +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HNO3 ==   Cu(NO3)2  +   NO + 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разб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642960" y="128592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       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лекула линейна, имеет неспаренный электрон, поэтому является радикалом, используется как донор электронов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42960" y="24289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Окислительно-восстановительная двойств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42960" y="3000240"/>
            <a:ext cx="350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Восстановител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 + O2 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(легко!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так как радикал, очень легко подвергается окислени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286160" y="3000240"/>
            <a:ext cx="4500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Окислител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 +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SO2 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SO3 + N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Нитрозный способ получения серной кисл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2214720" y="614376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786040" y="6143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3857760" y="60721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5286240" y="60721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5929200" y="60721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2960" y="7858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N2O3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-оксид азота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III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Рисунок 2" descr="N2O3.png"/>
          <p:cNvPicPr/>
          <p:nvPr/>
        </p:nvPicPr>
        <p:blipFill>
          <a:blip r:embed="rId2"/>
          <a:stretch/>
        </p:blipFill>
        <p:spPr>
          <a:xfrm>
            <a:off x="4572000" y="428760"/>
            <a:ext cx="4613400" cy="4037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571680" y="5286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жидкость, темно – синего цвета, неустойчива при низких температурах и разлагается: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3 = NO + 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642960" y="15001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1680" y="32148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2O3 + H2O =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71680" y="3929040"/>
            <a:ext cx="3714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2O3 +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OH =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NO2 =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714240" y="200016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b2c9"/>
                </a:solidFill>
                <a:latin typeface="Constantia"/>
              </a:rPr>
              <a:t>Приведите примеры реакций, доказывающих кислотные свойства оксида азота(</a:t>
            </a:r>
            <a:r>
              <a:rPr b="0" i="1" lang="en-US" sz="1800" spc="-1" strike="noStrike">
                <a:solidFill>
                  <a:srgbClr val="21b2c9"/>
                </a:solidFill>
                <a:latin typeface="Constantia"/>
              </a:rPr>
              <a:t>III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85840" y="57168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Оксид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азота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IV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Рисунок 2" descr="NO2.png"/>
          <p:cNvPicPr/>
          <p:nvPr/>
        </p:nvPicPr>
        <p:blipFill>
          <a:blip r:embed="rId2"/>
          <a:stretch/>
        </p:blipFill>
        <p:spPr>
          <a:xfrm>
            <a:off x="4500720" y="214200"/>
            <a:ext cx="4357440" cy="3232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285840" y="58579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«Лисий хвост»  Ядовитый газ бурого цвета, имеет характерный запах.  Хорошо растворяется в вод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Рисунок 4" descr="N2O4.png"/>
          <p:cNvPicPr/>
          <p:nvPr/>
        </p:nvPicPr>
        <p:blipFill>
          <a:blip r:embed="rId3"/>
          <a:stretch/>
        </p:blipFill>
        <p:spPr>
          <a:xfrm>
            <a:off x="6929280" y="4138560"/>
            <a:ext cx="2214720" cy="19195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500040" y="12142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285840" y="1643040"/>
            <a:ext cx="3714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                     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+3           +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+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H2O = HNO2 + 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42920" y="24289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заимодействие с водой происходит таким образом, так как это смешанный оксид, которому соответствует две кисл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42920" y="35719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 +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aOH = NaNO3 + NaNO2 +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0" y="407196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Ниже 22 С молекулы оксида азота(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IV)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легко соединяются попарно и образуют бесцветную жидкость состава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4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, которая при охлаждении до -10,2 С превращается в бесцветные кристалл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5072040" y="40719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 === N2O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2928960" y="571680"/>
            <a:ext cx="264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      III   III     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=N-N=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642960" y="6429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Оксид азота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V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00040" y="4500720"/>
            <a:ext cx="778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е  прозрачные кристаллы, хорошо растворяющиеся в воде с образованием азотной кислоты :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5  + H2O ==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Нестойкие кристаллы: </a:t>
            </a:r>
            <a:r>
              <a:rPr b="0" i="1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5 ==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O2 + 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7" name="Прямая со стрелкой 4"/>
          <p:cNvCxnSpPr/>
          <p:nvPr/>
        </p:nvCxnSpPr>
        <p:spPr>
          <a:xfrm flipV="1">
            <a:off x="5357880" y="5357160"/>
            <a:ext cx="2160" cy="214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8" name="TextBox 5"/>
          <p:cNvSpPr/>
          <p:nvPr/>
        </p:nvSpPr>
        <p:spPr>
          <a:xfrm>
            <a:off x="714240" y="1214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14240" y="192888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5 + H2O =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42960" y="58579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Как и оксид азота(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III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) практического значения не име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00040" y="2857680"/>
            <a:ext cx="71438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   </a:t>
            </a: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Легко разлагается (при нагревании – со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взрывом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2N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5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== 4N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+ 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571680" y="5716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Обобщающие зад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571680" y="1285920"/>
            <a:ext cx="807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ме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закрытых цилиндра: с оксидом азот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IV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с азотом, с аммиак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28760" y="2143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ак проще всего узнать, в каком цилиндре какой газ содержитс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285840" y="25718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 каких цилиндрах и как изменится окраска влажной фиолетовой лакмусовой бумажк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Рисунок 6" descr="пробирка.jpg"/>
          <p:cNvPicPr/>
          <p:nvPr/>
        </p:nvPicPr>
        <p:blipFill>
          <a:blip r:embed="rId2"/>
          <a:stretch/>
        </p:blipFill>
        <p:spPr>
          <a:xfrm>
            <a:off x="1403280" y="407664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пробирка.jpg"/>
          <p:cNvPicPr/>
          <p:nvPr/>
        </p:nvPicPr>
        <p:blipFill>
          <a:blip r:embed="rId3"/>
          <a:stretch/>
        </p:blipFill>
        <p:spPr>
          <a:xfrm>
            <a:off x="3851280" y="407664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8" descr="пробирка.jpg"/>
          <p:cNvPicPr/>
          <p:nvPr/>
        </p:nvPicPr>
        <p:blipFill>
          <a:blip r:embed="rId4"/>
          <a:stretch/>
        </p:blipFill>
        <p:spPr>
          <a:xfrm>
            <a:off x="6643800" y="4214880"/>
            <a:ext cx="1571400" cy="1913040"/>
          </a:xfrm>
          <a:prstGeom prst="rect">
            <a:avLst/>
          </a:prstGeom>
          <a:ln w="0">
            <a:noFill/>
          </a:ln>
        </p:spPr>
      </p:pic>
      <p:sp>
        <p:nvSpPr>
          <p:cNvPr id="259" name="Диагональная полоса 11"/>
          <p:cNvSpPr/>
          <p:nvPr/>
        </p:nvSpPr>
        <p:spPr>
          <a:xfrm>
            <a:off x="2050920" y="3645000"/>
            <a:ext cx="928800" cy="428400"/>
          </a:xfrm>
          <a:prstGeom prst="pie">
            <a:avLst/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Диагональная полоса 12"/>
          <p:cNvSpPr/>
          <p:nvPr/>
        </p:nvSpPr>
        <p:spPr>
          <a:xfrm>
            <a:off x="4427640" y="3573360"/>
            <a:ext cx="1000080" cy="500040"/>
          </a:xfrm>
          <a:prstGeom prst="pie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Диагональная полоса 13"/>
          <p:cNvSpPr/>
          <p:nvPr/>
        </p:nvSpPr>
        <p:spPr>
          <a:xfrm>
            <a:off x="7286760" y="3571920"/>
            <a:ext cx="1071360" cy="642960"/>
          </a:xfrm>
          <a:prstGeom prst="pie">
            <a:avLst/>
          </a:prstGeom>
          <a:solidFill>
            <a:srgbClr val="a5002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6858000" y="5500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16"/>
          <p:cNvSpPr/>
          <p:nvPr/>
        </p:nvSpPr>
        <p:spPr>
          <a:xfrm>
            <a:off x="1547640" y="5373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H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642960" y="64296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Цилиндр с оксидом азота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был закрыт пластинкой. Как только пластинку сняли, в верхней части цилиндра появились бурые пары. Чем это объясняетс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Рисунок 2" descr="пробирка.jpg"/>
          <p:cNvPicPr/>
          <p:nvPr/>
        </p:nvPicPr>
        <p:blipFill>
          <a:blip r:embed="rId2"/>
          <a:stretch/>
        </p:blipFill>
        <p:spPr>
          <a:xfrm>
            <a:off x="2786040" y="2643120"/>
            <a:ext cx="2928960" cy="3565440"/>
          </a:xfrm>
          <a:prstGeom prst="rect">
            <a:avLst/>
          </a:prstGeom>
          <a:ln w="0">
            <a:noFill/>
          </a:ln>
        </p:spPr>
      </p:pic>
      <p:sp>
        <p:nvSpPr>
          <p:cNvPr id="266" name="Блок-схема: данные 3"/>
          <p:cNvSpPr/>
          <p:nvPr/>
        </p:nvSpPr>
        <p:spPr>
          <a:xfrm>
            <a:off x="3000240" y="2500200"/>
            <a:ext cx="1785960" cy="500040"/>
          </a:xfrm>
          <a:prstGeom prst="flowChartInputOutpu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3429000" y="51436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3571920" y="385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3571920" y="2071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Облако 7"/>
          <p:cNvSpPr/>
          <p:nvPr/>
        </p:nvSpPr>
        <p:spPr>
          <a:xfrm rot="18339000">
            <a:off x="3508200" y="3119040"/>
            <a:ext cx="1000080" cy="660600"/>
          </a:xfrm>
          <a:prstGeom prst="pie">
            <a:avLst/>
          </a:prstGeom>
          <a:solidFill>
            <a:srgbClr val="b5691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9-02-03T11:46:36Z</dcterms:modified>
  <cp:revision>42</cp:revision>
  <dc:subject/>
  <dc:title>Соединения азота.</dc:title>
</cp:coreProperties>
</file>