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53C-E812-4980-BAE5-32B246B5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4DC-1B6F-43C0-9DD9-29C5893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30A-FBFE-4361-A148-4F8D32F2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42B-2448-40C9-9B63-21BD4999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5F6F-150D-4295-BC0A-DD7BF128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221-79DE-4B8C-9B55-880629E4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5B4-C2BB-4DE3-8301-65E42E6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34D-50D8-4A71-A268-D6E39CF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0FE-E348-4653-A0EB-53A5018E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584-AD70-4FA5-9748-32730CB7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0096-1C8B-46C8-9343-686DB94D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DAE-AAEF-49A4-B3E2-0467F6E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7D1B-179D-4D99-9B42-34CDF37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652-BE6B-4101-9605-02C4E62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E39-0E0B-4F6D-ABAA-197149F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C0F-C504-4377-AC0A-8B03172D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78E-DC52-4639-B0A2-2932C98D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237C-51FF-41D5-9AF0-B506ABF0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7104-5F1C-44B2-A44E-4027F36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F088-D942-48D1-92CB-290BC229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B733-3050-446F-90DD-FA5B1C5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B981-A2CD-4B89-9D09-38C96A7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B4B-691B-437A-8C08-DB8493C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CB8A-FF2E-4A26-BD4F-533422E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39FD-C67E-4738-B874-778E84B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54AB-4287-424C-980B-CB9EB8E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1AF1-5F73-4BFA-A7D8-C7A65AC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708E-8359-49F0-BD87-0BF3A93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0FDD-8120-496C-89C7-FDF067A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53B7-FEFF-4DD7-A92F-E28CA28C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6E3B-4483-4DD9-BA70-9335E00D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151F-82DC-4808-8F8A-46EC669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B11F-8282-43E4-B9EE-01ECE22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B92-8275-4165-9DC1-1A410F7B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B8AD-0CC6-4C8A-B503-52DD6E55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8092-AA03-40EF-9DDD-95BCFC9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0B44-C65B-45E0-B5C9-C94140A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85D0-1B29-4642-9994-E81739E7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A43F-6437-4FF5-9A75-91FC914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CA92-654F-4209-8FE0-1F30C96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BE6C-7669-4B56-9E40-59527658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184F-ADE7-4E94-B61F-04C14184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BC3E-555C-4B09-A343-14912A52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CE9-F6D5-407D-B8A4-6A5837F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892-C2D4-482C-B7C7-2BD3C78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9CA-DB80-43F2-A820-F5C5F05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EA9-C211-4F4F-B7D8-97C9FC5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D33-A86B-4FA2-88AB-F546FA2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97F6-8C99-415A-B6DF-D0D8CCF2BC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FB1-76EB-463D-92FD-2888D1248A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772-FE29-4CE3-8C93-1B9AB7EAD3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BCAE-3B27-4046-BBC1-EB73FDDBD4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Оксиды азот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5" descr="красиво3.jpg"/>
          <p:cNvPicPr/>
          <p:nvPr/>
        </p:nvPicPr>
        <p:blipFill>
          <a:blip r:embed="rId3"/>
          <a:stretch/>
        </p:blipFill>
        <p:spPr>
          <a:xfrm>
            <a:off x="428760" y="3143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85840" y="9288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Азот способен проявлять несколько степеней окисления от -3 до +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357120" y="171468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Известны несколько оксидов азо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+1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+2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+3   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+4       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+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500040" y="2928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Солеобразующие:  </a:t>
            </a: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N2O3     NO2     N2O4       N2O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                                                                </a:t>
            </a: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димер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387026"/>
                </a:solidFill>
                <a:latin typeface="Constantia"/>
              </a:rPr>
              <a:t>оксида азота(</a:t>
            </a:r>
            <a:r>
              <a:rPr b="0" i="1" lang="en-US" sz="1400" spc="-1" strike="noStrike">
                <a:solidFill>
                  <a:srgbClr val="387026"/>
                </a:solidFill>
                <a:latin typeface="Constantia"/>
              </a:rPr>
              <a:t>IV)</a:t>
            </a: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214200" y="43578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87026"/>
                </a:solidFill>
                <a:latin typeface="Constantia"/>
              </a:rPr>
              <a:t>Несолеобразующие:  </a:t>
            </a:r>
            <a:r>
              <a:rPr b="0" i="1" lang="en-US" sz="1800" spc="-1" strike="noStrike">
                <a:solidFill>
                  <a:srgbClr val="387026"/>
                </a:solidFill>
                <a:latin typeface="Constantia"/>
              </a:rPr>
              <a:t>N2O     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285840" y="521496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Все оксиды азота, кроме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N2O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, ядовитые веще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000760" y="23572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28584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128592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2143080" y="2357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3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3571920" y="235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N2O.png"/>
          <p:cNvPicPr/>
          <p:nvPr/>
        </p:nvPicPr>
        <p:blipFill>
          <a:blip r:embed="rId2"/>
          <a:stretch/>
        </p:blipFill>
        <p:spPr>
          <a:xfrm>
            <a:off x="3822840" y="1214280"/>
            <a:ext cx="5321160" cy="32814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285840" y="8571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N2O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-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оксид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 азота </a:t>
            </a: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214200" y="1643040"/>
            <a:ext cx="328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I       IV      I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=N=O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461960" y="214308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Против всех прави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28584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тепень окисления не всегда совпадает с валентность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85840" y="385776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+2     -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=N=O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степень окисления распределяется на два атома азота и равна для обоих +2, а для одного +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5643720" y="4500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олекула линей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285840" y="53578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й газ со слабым запахом и сладковатым вкусом, хорошо растворим в воде, но не взаимодействует с ней. В смеси с кислородом используется в медицине для слабого наркоза. («веселящий» газ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При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700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С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разлагается: </a:t>
            </a:r>
            <a:r>
              <a:rPr b="0" i="1" lang="ru-RU" sz="24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= </a:t>
            </a:r>
            <a:r>
              <a:rPr b="0" i="1" lang="en-US" sz="24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 + 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928800" y="8571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NO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-оксид азота (</a:t>
            </a:r>
            <a:r>
              <a:rPr b="0" lang="en-US" sz="2400" spc="-1" strike="noStrike">
                <a:solidFill>
                  <a:srgbClr val="546422"/>
                </a:solidFill>
                <a:latin typeface="Constantia"/>
              </a:rPr>
              <a:t>II</a:t>
            </a:r>
            <a:r>
              <a:rPr b="0" lang="ru-RU" sz="2400" spc="-1" strike="noStrike">
                <a:solidFill>
                  <a:srgbClr val="546422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00040" y="4857840"/>
            <a:ext cx="81439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й газ, не имеет запаха. В воде малорастворим. Образуется из азота и кислорода при сильных электрических разрядах (например, во время грозы в воздухе) или при высокой температур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                       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 + O2 </a:t>
            </a:r>
            <a:r>
              <a:rPr b="0" i="1" lang="en-US" sz="1800" spc="-1" strike="noStrike">
                <a:solidFill>
                  <a:srgbClr val="546422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В лаборатории: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 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С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u +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HNO3 ==   Cu(NO3)2  +   NO + 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разб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642960" y="128592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       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лекула линейна, имеет неспаренный электрон, поэтому является радикалом, используется как донор электронов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42960" y="24289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Окислительно-восстановительная двойствен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42960" y="3000240"/>
            <a:ext cx="350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Восстановител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 + O2 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 (легко!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так как радикал, очень легко подвергается окислени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286160" y="3000240"/>
            <a:ext cx="4500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Окислитель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 +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SO2 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SO3 + N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Нитрозный способ получения серной кисл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2214720" y="614376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6a3"/>
                </a:solidFill>
                <a:latin typeface="Constant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2786040" y="6143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3857760" y="607212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5286240" y="60721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5929200" y="60721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6a3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2960" y="7858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N2O3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-оксид азота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III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Рисунок 2" descr="N2O3.png"/>
          <p:cNvPicPr/>
          <p:nvPr/>
        </p:nvPicPr>
        <p:blipFill>
          <a:blip r:embed="rId2"/>
          <a:stretch/>
        </p:blipFill>
        <p:spPr>
          <a:xfrm>
            <a:off x="4572000" y="428760"/>
            <a:ext cx="4613400" cy="4037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571680" y="5286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жидкость, темно – синего цвета, неустойчива при низких температурах и разлагается: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3 = NO + 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642960" y="15001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1680" y="32148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2O3 + H2O =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71680" y="3929040"/>
            <a:ext cx="3714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2O3 +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OH =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NO2 =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714240" y="200016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b2c9"/>
                </a:solidFill>
                <a:latin typeface="Constantia"/>
              </a:rPr>
              <a:t>Приведите примеры реакций, доказывающих кислотные свойства оксида азота(</a:t>
            </a:r>
            <a:r>
              <a:rPr b="0" i="1" lang="en-US" sz="1800" spc="-1" strike="noStrike">
                <a:solidFill>
                  <a:srgbClr val="21b2c9"/>
                </a:solidFill>
                <a:latin typeface="Constantia"/>
              </a:rPr>
              <a:t>III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85840" y="57168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Оксид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азота</a:t>
            </a: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IV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Рисунок 2" descr="NO2.png"/>
          <p:cNvPicPr/>
          <p:nvPr/>
        </p:nvPicPr>
        <p:blipFill>
          <a:blip r:embed="rId2"/>
          <a:stretch/>
        </p:blipFill>
        <p:spPr>
          <a:xfrm>
            <a:off x="4500720" y="214200"/>
            <a:ext cx="4357440" cy="3232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285840" y="58579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«Лисий хвост»  Ядовитый газ бурого цвета, имеет характерный запах.  Хорошо растворяется в вод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Рисунок 4" descr="N2O4.png"/>
          <p:cNvPicPr/>
          <p:nvPr/>
        </p:nvPicPr>
        <p:blipFill>
          <a:blip r:embed="rId3"/>
          <a:stretch/>
        </p:blipFill>
        <p:spPr>
          <a:xfrm>
            <a:off x="6929280" y="4138560"/>
            <a:ext cx="2214720" cy="19195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500040" y="12142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285840" y="1643040"/>
            <a:ext cx="3714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                               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+3           +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+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H2O = HNO2 + 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42920" y="242892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заимодействие с водой происходит таким образом, так как это смешанный оксид, которому соответствует две кисло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42920" y="35719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 +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aOH = NaNO3 + NaNO2 + H2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0" y="407196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Ниже 22 С молекулы оксида азота(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IV)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 легко соединяются попарно и образуют бесцветную жидкость состава 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4 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, которая при охлаждении до -10,2 С превращается в бесцветные кристалл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5072040" y="40719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O2 === N2O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2928960" y="571680"/>
            <a:ext cx="2643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      III   III     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=N-N=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642960" y="6429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422"/>
                </a:solidFill>
                <a:latin typeface="Constantia"/>
              </a:rPr>
              <a:t>Оксид азота (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V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500040" y="4500720"/>
            <a:ext cx="778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Бесцветные  прозрачные кристаллы, хорошо растворяющиеся в воде с образованием азотной кислоты :  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5  + H2O == 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46422"/>
                </a:solidFill>
                <a:latin typeface="Constantia"/>
              </a:rPr>
              <a:t>Нестойкие кристаллы: </a:t>
            </a:r>
            <a:r>
              <a:rPr b="0" i="1" lang="ru-RU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2O5 ==</a:t>
            </a:r>
            <a:r>
              <a:rPr b="0" i="1" lang="en-US" sz="2800" spc="-1" strike="noStrike">
                <a:solidFill>
                  <a:srgbClr val="546422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546422"/>
                </a:solidFill>
                <a:latin typeface="Constantia"/>
              </a:rPr>
              <a:t>NO2 + 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7" name="Прямая со стрелкой 4"/>
          <p:cNvCxnSpPr/>
          <p:nvPr/>
        </p:nvCxnSpPr>
        <p:spPr>
          <a:xfrm flipV="1">
            <a:off x="5357880" y="5357160"/>
            <a:ext cx="2160" cy="214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8" name="TextBox 5"/>
          <p:cNvSpPr/>
          <p:nvPr/>
        </p:nvSpPr>
        <p:spPr>
          <a:xfrm>
            <a:off x="714240" y="1214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Кислотный оксид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14240" y="192888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N2O5 + H2O == </a:t>
            </a:r>
            <a:r>
              <a:rPr b="0" lang="en-US" sz="2800" spc="-1" strike="noStrike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HNO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42960" y="58579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Как и оксид азота(</a:t>
            </a:r>
            <a:r>
              <a:rPr b="0" lang="en-US" sz="1800" spc="-1" strike="noStrike">
                <a:solidFill>
                  <a:srgbClr val="546422"/>
                </a:solidFill>
                <a:latin typeface="Constantia"/>
              </a:rPr>
              <a:t>III</a:t>
            </a:r>
            <a:r>
              <a:rPr b="0" lang="ru-RU" sz="1800" spc="-1" strike="noStrike">
                <a:solidFill>
                  <a:srgbClr val="546422"/>
                </a:solidFill>
                <a:latin typeface="Constantia"/>
              </a:rPr>
              <a:t>) практического значения не име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00040" y="2857680"/>
            <a:ext cx="71438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   </a:t>
            </a: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Легко разлагается (при нагревании – со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взрывом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6422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2N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5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== 4N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546422"/>
                </a:solidFill>
                <a:latin typeface="Constantia"/>
              </a:rPr>
              <a:t> + O</a:t>
            </a:r>
            <a:r>
              <a:rPr b="0" lang="en-US" sz="2000" spc="-1" strike="noStrike" baseline="-25000">
                <a:solidFill>
                  <a:srgbClr val="546422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571680" y="5716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Обобщающие зад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571680" y="1285920"/>
            <a:ext cx="807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ме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закрытых цилиндра: с оксидом азота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IV)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с азотом, с аммиак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28760" y="2143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ак проще всего узнать, в каком цилиндре какой газ содержитс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285840" y="25718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 каких цилиндрах и как изменится окраска влажной фиолетовой лакмусовой бумажк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Рисунок 6" descr="пробирка.jpg"/>
          <p:cNvPicPr/>
          <p:nvPr/>
        </p:nvPicPr>
        <p:blipFill>
          <a:blip r:embed="rId2"/>
          <a:stretch/>
        </p:blipFill>
        <p:spPr>
          <a:xfrm>
            <a:off x="1403280" y="407664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пробирка.jpg"/>
          <p:cNvPicPr/>
          <p:nvPr/>
        </p:nvPicPr>
        <p:blipFill>
          <a:blip r:embed="rId3"/>
          <a:stretch/>
        </p:blipFill>
        <p:spPr>
          <a:xfrm>
            <a:off x="3851280" y="407664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8" descr="пробирка.jpg"/>
          <p:cNvPicPr/>
          <p:nvPr/>
        </p:nvPicPr>
        <p:blipFill>
          <a:blip r:embed="rId4"/>
          <a:stretch/>
        </p:blipFill>
        <p:spPr>
          <a:xfrm>
            <a:off x="6643800" y="4214880"/>
            <a:ext cx="1571400" cy="1913040"/>
          </a:xfrm>
          <a:prstGeom prst="rect">
            <a:avLst/>
          </a:prstGeom>
          <a:ln w="0">
            <a:noFill/>
          </a:ln>
        </p:spPr>
      </p:pic>
      <p:sp>
        <p:nvSpPr>
          <p:cNvPr id="259" name="Диагональная полоса 11"/>
          <p:cNvSpPr/>
          <p:nvPr/>
        </p:nvSpPr>
        <p:spPr>
          <a:xfrm>
            <a:off x="2050920" y="3645000"/>
            <a:ext cx="928800" cy="428400"/>
          </a:xfrm>
          <a:prstGeom prst="pie">
            <a:avLst/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Диагональная полоса 12"/>
          <p:cNvSpPr/>
          <p:nvPr/>
        </p:nvSpPr>
        <p:spPr>
          <a:xfrm>
            <a:off x="4427640" y="3573360"/>
            <a:ext cx="1000080" cy="500040"/>
          </a:xfrm>
          <a:prstGeom prst="pie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Диагональная полоса 13"/>
          <p:cNvSpPr/>
          <p:nvPr/>
        </p:nvSpPr>
        <p:spPr>
          <a:xfrm>
            <a:off x="7286760" y="3571920"/>
            <a:ext cx="1071360" cy="642960"/>
          </a:xfrm>
          <a:prstGeom prst="pie">
            <a:avLst/>
          </a:prstGeom>
          <a:solidFill>
            <a:srgbClr val="a5002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6858000" y="5500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16"/>
          <p:cNvSpPr/>
          <p:nvPr/>
        </p:nvSpPr>
        <p:spPr>
          <a:xfrm>
            <a:off x="1547640" y="5373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H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642960" y="64296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Цилиндр с оксидом азота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 был закрыт пластинкой. Как только пластинку сняли, в верхней части цилиндра появились бурые пары. Чем это объясняетс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Рисунок 2" descr="пробирка.jpg"/>
          <p:cNvPicPr/>
          <p:nvPr/>
        </p:nvPicPr>
        <p:blipFill>
          <a:blip r:embed="rId2"/>
          <a:stretch/>
        </p:blipFill>
        <p:spPr>
          <a:xfrm>
            <a:off x="2786040" y="2643120"/>
            <a:ext cx="2928960" cy="3565440"/>
          </a:xfrm>
          <a:prstGeom prst="rect">
            <a:avLst/>
          </a:prstGeom>
          <a:ln w="0">
            <a:noFill/>
          </a:ln>
        </p:spPr>
      </p:pic>
      <p:sp>
        <p:nvSpPr>
          <p:cNvPr id="266" name="Блок-схема: данные 3"/>
          <p:cNvSpPr/>
          <p:nvPr/>
        </p:nvSpPr>
        <p:spPr>
          <a:xfrm>
            <a:off x="3000240" y="2500200"/>
            <a:ext cx="1785960" cy="500040"/>
          </a:xfrm>
          <a:prstGeom prst="flowChartInputOutpu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3429000" y="51436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3571920" y="385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3571920" y="2071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Constantia"/>
              </a:rPr>
              <a:t>N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Облако 7"/>
          <p:cNvSpPr/>
          <p:nvPr/>
        </p:nvSpPr>
        <p:spPr>
          <a:xfrm rot="18339000">
            <a:off x="3508200" y="3119040"/>
            <a:ext cx="1000080" cy="660600"/>
          </a:xfrm>
          <a:prstGeom prst="pie">
            <a:avLst/>
          </a:prstGeom>
          <a:solidFill>
            <a:srgbClr val="b5691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9-02-03T11:46:36Z</dcterms:modified>
  <cp:revision>42</cp:revision>
  <dc:subject/>
  <dc:title>Соединения азота.</dc:title>
</cp:coreProperties>
</file>