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029A-19AF-4151-A42C-1EF2B9F5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3060-72CA-4D5C-92E2-B6F56A00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E447-AE5F-438F-AA11-0A0ADFA7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4615-92C1-4DD3-8671-909353BA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FED3-4B3F-420D-8F76-C62EC3D6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A62B-3440-4B89-8499-53E2CF48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8A9B-8CA2-436D-9758-6C7E604F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AB83-EA50-48A4-81C4-A2836B37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2153-F998-44A8-9EB1-867E72E9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B1B1-2AC4-425B-80FD-46400BDD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3730-3445-442D-9B06-6A1E84AD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909D-3F04-412A-B63C-51C23D1A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2F1F-D6F0-4FBA-BBD1-A020FBC199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xn----8sbnlabhce1bwkeefm9e.xn--p1ai/data/textimages/che/weapon6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xn----8sbnlabhce1bwkeefm9e.xn--p1ai/data/textimages/che/weapon7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xn----8sbnlabhce1bwkeefm9e.xn--p1ai/data/textimages/che/weapon8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xn----8sbnlabhce1bwkeefm9e.xn--p1ai/data/textimages/che/weapon9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xn----8sbnlabhce1bwkeefm9e.xn--p1ai/data/textimages/che/weapon10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xn----8sbnlabhce1bwkeefm9e.xn--p1ai/data/textimages/che/weapon11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xn----8sbnlabhce1bwkeefm9e.xn--p1ai/data/textimages/che/weapon12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60;&#1088;&#1072;&#1085;&#1094;&#1091;&#1079;&#1089;&#1082;&#1080;&#1081;_&#1103;&#1079;&#1099;&#1082;" TargetMode="External"/><Relationship Id="rId2" Type="http://schemas.openxmlformats.org/officeDocument/2006/relationships/hyperlink" Target="https://ru.wikipedia.org/wiki/&#1050;&#1072;&#1074;&#1072;&#1083;&#1077;&#1088;&#1080;&#1103;" TargetMode="External"/><Relationship Id="rId3" Type="http://schemas.openxmlformats.org/officeDocument/2006/relationships/hyperlink" Target="https://ru.wikipedia.org/wiki/&#1050;&#1080;&#1088;&#1072;&#1089;&#1072;" TargetMode="External"/><Relationship Id="rId4" Type="http://schemas.openxmlformats.org/officeDocument/2006/relationships/hyperlink" Target="https://ru.wikipedia.org/wiki/&#1058;&#1103;&#1078;&#1105;&#1083;&#1072;&#1103;_&#1082;&#1072;&#1074;&#1072;&#1083;&#1077;&#1088;&#1080;&#1103;" TargetMode="External"/><Relationship Id="rId5" Type="http://schemas.openxmlformats.org/officeDocument/2006/relationships/hyperlink" Target="https://ru.wikipedia.org/wiki/&#1056;&#1099;&#1094;&#1072;&#1088;&#1100;" TargetMode="External"/><Relationship Id="rId6" Type="http://schemas.openxmlformats.org/officeDocument/2006/relationships/hyperlink" Target="https://ru.wikipedia.org/wiki/&#1050;&#1072;&#1074;&#1072;&#1083;&#1077;&#1088;&#1080;&#1103;" TargetMode="External"/><Relationship Id="rId7" Type="http://schemas.openxmlformats.org/officeDocument/2006/relationships/hyperlink" Target="https://ru.wikipedia.org/wiki/&#1051;&#1072;&#1090;&#1099;" TargetMode="External"/><Relationship Id="rId8" Type="http://schemas.openxmlformats.org/officeDocument/2006/relationships/hyperlink" Target="https://ru.wikipedia.org/wiki/&#1050;&#1080;&#1088;&#1072;&#1089;&#1080;&#1088;&#1089;&#1082;&#1080;&#1081;_&#1076;&#1086;&#1089;&#1087;&#1077;&#1093;" TargetMode="External"/><Relationship Id="rId9" Type="http://schemas.openxmlformats.org/officeDocument/2006/relationships/hyperlink" Target="https://ru.wikipedia.org/wiki/XIX_&#1074;&#1077;&#1082;" TargetMode="External"/><Relationship Id="rId10" Type="http://schemas.openxmlformats.org/officeDocument/2006/relationships/hyperlink" Target="https://ru.wikipedia.org/wiki/&#1064;&#1083;&#1077;&#1084;_(&#1076;&#1086;&#1089;&#1087;&#1077;&#1093;&#1080;)" TargetMode="External"/><Relationship Id="rId11" Type="http://schemas.openxmlformats.org/officeDocument/2006/relationships/hyperlink" Target="https://ru.wikipedia.org/wiki/&#1050;&#1080;&#1088;&#1072;&#1089;&#1072;" TargetMode="External"/><Relationship Id="rId12" Type="http://schemas.openxmlformats.org/officeDocument/2006/relationships/hyperlink" Target="https://ru.wikipedia.org/wiki/&#1052;&#1077;&#1095;" TargetMode="External"/><Relationship Id="rId13" Type="http://schemas.openxmlformats.org/officeDocument/2006/relationships/hyperlink" Target="https://ru.wikipedia.org/wiki/&#1055;&#1072;&#1083;&#1072;&#1096;" TargetMode="External"/><Relationship Id="rId14" Type="http://schemas.openxmlformats.org/officeDocument/2006/relationships/hyperlink" Target="https://ru.wikipedia.org/wiki/&#1057;&#1072;&#1073;&#1083;&#1103;" TargetMode="External"/><Relationship Id="rId15" Type="http://schemas.openxmlformats.org/officeDocument/2006/relationships/hyperlink" Target="https://ru.wikipedia.org/wiki/&#1053;&#1072;&#1087;&#1086;&#1083;&#1077;&#1086;&#1085;_&#1041;&#1086;&#1085;&#1072;&#1087;&#1072;&#1088;&#1090;" TargetMode="External"/><Relationship Id="rId1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xn----8sbnlabhce1bwkeefm9e.xn--p1ai/data/textimages/che/weapon13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xn----8sbnlabhce1bwkeefm9e.xn--p1ai/data/textimages/che/weapon14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xn----8sbnlabhce1bwkeefm9e.xn--p1ai/data/textimages/che/weapon1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xn----8sbnlabhce1bwkeefm9e.xn--p1ai/data/textimages/che/weapon4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xn----8sbnlabhce1bwkeefm9e.xn--p1ai/data/textimages/che/weapon5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32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униципальное автономное обще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Средняя общеобразовательная школа №2»</a:t>
            </a:r>
            <a:br>
              <a:rPr sz="1800"/>
            </a:br>
            <a:br>
              <a:rPr sz="18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ружие Отечественной войны 1812 год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Подготови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Учитель русского языка и литературы, Кузьмина Татьяна Георгиевн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Учитель истории и обществознания, педагог-психолог, Кузьмина Ольга Владимиро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г. Троиц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2015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абля обр. 1798 г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weapon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071720"/>
            <a:ext cx="8358120" cy="53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абля обр. 1809 г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weapon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1071720"/>
            <a:ext cx="82868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ривые сабли казачьих войск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weapon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928800"/>
            <a:ext cx="85010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Холодное оружие 1812 г с прямым клинко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weapon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57160" y="1571760"/>
            <a:ext cx="750096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Тесак обр. 1807 г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3" descr="weapon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2920" y="1428840"/>
            <a:ext cx="87868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елковое оруж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1812 году стрелковое оружие русской армии не было единообразным, к началу войны на вооружении пехоты находились русские и иностранные ружья 28 разных калибров. Пехотное ружье образца 1808 года с трехгранным штыком являлось лучшим из отечественных ружей такого типа. Его максимальная дальность стрельбы составляла 300 шагов, средняя скорострельность - выстрел в минуту. Но некоторые стрелки-виртуозы выпускали, не целясь до шести пуль в минут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елковое оруж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егерских полках все еще применялся штуцер образца 1805 года с кортиком, отмененный в 1808 году. Им были вооружены унтер-офицеры и лучшие стрелки (12 человек от каждой роты). По дальнобойности он втрое превосходил гладкоствольное ружье, но уступал ему в скорострельности (выстрел за три минуты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елковое оруж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кирасирских, драгунских и уланских полках 16 человек каждого эскадрона были вооружены кавалерийским штуцером образца 1803 года. В гусарских полках мушкетоны и карабины также были оставлены только у 16 человек из эскадрона. Кавалеристы, конные артиллеристы, пионеры и офицеры всех родов войск имели пистолеты различных образцов. Дальнобойность этого оружия не превышала 30 </a:t>
            </a:r>
            <a:r>
              <a:rPr b="0" lang="ru-RU" sz="3000" spc="-1" strike="noStrike">
                <a:solidFill>
                  <a:srgbClr val="ffffff"/>
                </a:solidFill>
                <a:latin typeface="Calibri"/>
              </a:rPr>
              <a:t>шаг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Русское 7-линейное (17,8-мм) пехотное ружье обр. 1808 г. Вес 4,47 кг, длина без штыка 145,8 см, со штыком 188,8 см, вес порохового заряда 10 гр, вес пули 25,5 гр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weapon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3586320"/>
            <a:ext cx="82152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Английский пехотный 19-мм мушкет «Энфилд» обр. 1802 г. Вес 4,5 кг, длина без штыка 148,6 см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weapon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3525840"/>
            <a:ext cx="814392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85840" y="428400"/>
            <a:ext cx="84009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Кираси́ры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(в буквальном переводе — 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ла́тники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фр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cuirasse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— латы) — род тяжелой 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кавалерии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одетой в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кирасы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 Появились в XVI веке во многих странах Европы как 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тяжёлая кавалерия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созданная в целях компенсации малочисленности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ыцарской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кавалерии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и одетая в относительно недорогие неполные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латы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покрывавшие две трети тела — с головы до колен, и называвшиеся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кирасирскими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от которых к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XIX веку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постепенно остались только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шлем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кирас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 Первоначально, во время их параллельного сосуществования с рыцарями, основным вооружением кирасиров был рыцарский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меч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но затем он сменился на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палаш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а в некоторых армиях — на тяжёлую 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саблю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 Использовали коней тяжёлых пород весом 600—700 кг. В кирасиры набирали лишь рослых и сильных всадников (170—180 см ростом во времена </a:t>
            </a:r>
            <a:r>
              <a:rPr b="0" lang="ru-RU" sz="27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Наполеон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Австрийское пехотное 17,6-мм ружье обр. 1807 г. Вес 4,2 кг, длина без штыка 150,6 см, со штыком 198 см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3" descr="weapon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2357280"/>
            <a:ext cx="807264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Штуцер обр. 1805 г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3" descr="weapon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2286000"/>
            <a:ext cx="8072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Драгунские и кирасирские ружь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weapon15"/>
          <p:cNvPicPr/>
          <p:nvPr/>
        </p:nvPicPr>
        <p:blipFill>
          <a:blip r:embed="rId1"/>
          <a:stretch/>
        </p:blipFill>
        <p:spPr>
          <a:xfrm>
            <a:off x="571680" y="1857240"/>
            <a:ext cx="80722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арезной штуцер обр. 1803 г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weapon16"/>
          <p:cNvPicPr/>
          <p:nvPr/>
        </p:nvPicPr>
        <p:blipFill>
          <a:blip r:embed="rId1"/>
          <a:stretch/>
        </p:blipFill>
        <p:spPr>
          <a:xfrm>
            <a:off x="142920" y="3220920"/>
            <a:ext cx="8715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едельный пистоле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3" descr="weapon17"/>
          <p:cNvPicPr/>
          <p:nvPr/>
        </p:nvPicPr>
        <p:blipFill>
          <a:blip r:embed="rId1"/>
          <a:stretch/>
        </p:blipFill>
        <p:spPr>
          <a:xfrm>
            <a:off x="428760" y="2714760"/>
            <a:ext cx="8358120" cy="17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Русский 7-линейный (17,8-мм) кавалерийский солдатский пистолет обр. 1809 года. Вес 1,4 кг, длина 40 см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3" descr="weapon18"/>
          <p:cNvPicPr/>
          <p:nvPr/>
        </p:nvPicPr>
        <p:blipFill>
          <a:blip r:embed="rId1"/>
          <a:stretch/>
        </p:blipFill>
        <p:spPr>
          <a:xfrm>
            <a:off x="642960" y="2967120"/>
            <a:ext cx="76438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Русский 7-линейный (17,8-мм) кавалерийский офицерский пистоле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Содержимое 3" descr="weapon19"/>
          <p:cNvPicPr/>
          <p:nvPr/>
        </p:nvPicPr>
        <p:blipFill>
          <a:blip r:embed="rId1"/>
          <a:stretch/>
        </p:blipFill>
        <p:spPr>
          <a:xfrm>
            <a:off x="428760" y="2500200"/>
            <a:ext cx="785808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Казачий пистолет, изготовлен в 1800 году. Общая длина 45 см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Содержимое 3" descr="weapon20"/>
          <p:cNvPicPr/>
          <p:nvPr/>
        </p:nvPicPr>
        <p:blipFill>
          <a:blip r:embed="rId1"/>
          <a:stretch/>
        </p:blipFill>
        <p:spPr>
          <a:xfrm>
            <a:off x="500040" y="2071800"/>
            <a:ext cx="8215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ртиллер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5840" y="1214280"/>
            <a:ext cx="85723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звание "единорог« пушки получили по изображенному на гербе Шувалова мифическому животному, которое выбивалось на казенной части орудия. Объединяя в себе качества пушек и гаубиц, единороги успешно стреляли ядрами и картечью. Единственным недостатком единорогов было отсутствие железных осей. Деревянные оси часто ломались, нуждались в постоянной смазке. Для этого при каждом орудии имелось ведро со смазкой. При орудии находилось и ведро с водой, для смачивания банника. Максимальная дальность стрельбы 1/2-пудового единорога - 2300 м, 1/4-пудового - 1500 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ртиллер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2920" y="1000080"/>
            <a:ext cx="88581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1805 года на вооружении осадной артиллерии состояли: 5-, 2-пудовыс и 6-фунтовая мортиры. Осадная артиллерия сводилась в батальоны по пять рот в каждом. Максимальная дальность стрельбы при угле возвышения 25° 5-пудовой мортиры - 2600 м. Стрельба из мортир производилась из специальных окопов. Скорострельность мортир - один выстрел за 5-7 минут. Стреляли бомбами и зажигательными снарядами. Перевозили мортиры на специальных четырехколесных дрогах. Мортиры широко применялись в кампании 1813 года, например, при осаде Данциг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Администратор\Мои документы\Downloads\266755_640.jpg"/>
          <p:cNvPicPr/>
          <p:nvPr/>
        </p:nvPicPr>
        <p:blipFill>
          <a:blip r:embed="rId1"/>
          <a:stretch/>
        </p:blipFill>
        <p:spPr>
          <a:xfrm>
            <a:off x="714240" y="428760"/>
            <a:ext cx="793620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12-фунтовая пушка малой пропорции образца 1805 года. Масса орудия — 1,2 т. Длина ствола — 13 калибр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3" descr="weapon21"/>
          <p:cNvPicPr/>
          <p:nvPr/>
        </p:nvPicPr>
        <p:blipFill>
          <a:blip r:embed="rId1"/>
          <a:stretch/>
        </p:blipFill>
        <p:spPr>
          <a:xfrm>
            <a:off x="642960" y="3143160"/>
            <a:ext cx="8072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24-фунтовая пушка образца 1801 года в походном положении. Масса орудия - 5,3 т, длина ствола - 21 калибр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Содержимое 3" descr="weapon22"/>
          <p:cNvPicPr/>
          <p:nvPr/>
        </p:nvPicPr>
        <p:blipFill>
          <a:blip r:embed="rId1"/>
          <a:stretch/>
        </p:blipFill>
        <p:spPr>
          <a:xfrm>
            <a:off x="571680" y="2286000"/>
            <a:ext cx="800100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Полупудовый единорог образца 1805 г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3" descr="weapon23"/>
          <p:cNvPicPr/>
          <p:nvPr/>
        </p:nvPicPr>
        <p:blipFill>
          <a:blip r:embed="rId1"/>
          <a:stretch/>
        </p:blipFill>
        <p:spPr>
          <a:xfrm>
            <a:off x="1785960" y="1571760"/>
            <a:ext cx="60008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Двухпудовая мортира образца 1805 г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Содержимое 3" descr="weapon24"/>
          <p:cNvPicPr/>
          <p:nvPr/>
        </p:nvPicPr>
        <p:blipFill>
          <a:blip r:embed="rId1"/>
          <a:stretch/>
        </p:blipFill>
        <p:spPr>
          <a:xfrm>
            <a:off x="1500120" y="1214280"/>
            <a:ext cx="50007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ередок артиллерийского оруд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Содержимое 3" descr="weapon25"/>
          <p:cNvPicPr/>
          <p:nvPr/>
        </p:nvPicPr>
        <p:blipFill>
          <a:blip r:embed="rId1"/>
          <a:stretch/>
        </p:blipFill>
        <p:spPr>
          <a:xfrm>
            <a:off x="2643120" y="928800"/>
            <a:ext cx="37148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исок используемой литерату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 Отечественная война 1812 года. Биографический словарь. 2011. С. 331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 ГОСТ Р 51215-98 «Холодное оружие. Термины и определения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Федеральный закон «Об оружии» № 150-ФЗ от 13 декабря 1996 года // Российская газета. - № 241. - 18 декабря 1996 года. (С изм. и доп. на 4 марта 2008 года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4. Памятники вооружения русской армии 1812 г. в собрании Государственного Исторического музе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ttp://www.ballion.ru/pamyatniki-vooruzheniya-russkoy-armii-1812-g-v-sobranii-gosudarstvennogo-istoricheskogo-muzeya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5. П.- фон Винклер Оружие. Руководство к истории, описанию и изображению ручного оружия с древнейших времен до начала XIX века. - М., 1992. – С. 22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6. Обмундирование кавалерии Отечественной войны 1812 года. http://zealot.h1.ru/history/rushist/uniformacaval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7. Соколов О. Армия Наполеона. – Санкт-Петербург, 1999. – 585 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8. Материально-техническое обеспечение русской армии перед войной 1812 года. http://topwar.ru/15213-materialno-tehnicheskoe-obespechenie-russkoy-armii-pered-voynoy-1812-goda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9. Википедия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s://ru.wikipedia.org/wiki/%CA%E8%F0%E0%F1%E8%F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лодное оруж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усская тяжелая кавалерии в 1812 году в качестве строевого холодного оружия имела несколько образцов палашей с однолезвийными клинками. У драгун наиболее распространенным был палаш образца 1806 года. Длина клинка 89 см, ширина до 38 мм, масса 1,65 кг. Кирасиры имели на вооружении армейские и гвардейские палаши. Палаш 1798 года состоял из клинка длиной 40 см, шириной около 4 см и эфеса, имевшего гарду с чашкой и четырьмя защитными дужками и головку в виде птичьей головы. Кирасирский палаш 1810 года отличался от предыдущего образца большей длиной и формой эфес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абля легкокавалерийская обр. 1809 г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3" descr="weapon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1214280"/>
            <a:ext cx="80726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Шпага И. С. Дорохова; сабля Я. П. Кульнев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Содержимое 3" descr="weapon2"/>
          <p:cNvPicPr/>
          <p:nvPr/>
        </p:nvPicPr>
        <p:blipFill>
          <a:blip r:embed="rId1"/>
          <a:stretch/>
        </p:blipFill>
        <p:spPr>
          <a:xfrm>
            <a:off x="428760" y="1357200"/>
            <a:ext cx="82864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Шпага Д. В. Голицына; гравировка на шпаге Д. В. Голицына;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шпага А. А. Закревског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weapon3"/>
          <p:cNvPicPr/>
          <p:nvPr/>
        </p:nvPicPr>
        <p:blipFill>
          <a:blip r:embed="rId1"/>
          <a:stretch/>
        </p:blipFill>
        <p:spPr>
          <a:xfrm>
            <a:off x="357120" y="1928880"/>
            <a:ext cx="80726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ямые палаши с однолезвийными клинкам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3" descr="weapon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28920" y="3487680"/>
            <a:ext cx="4286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алаш обр. 1810 г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weapon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1285920"/>
            <a:ext cx="77155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11:53:52Z</dcterms:created>
  <dc:creator>xozain</dc:creator>
  <dc:description/>
  <dc:language>en-US</dc:language>
  <cp:lastModifiedBy>xozain</cp:lastModifiedBy>
  <dcterms:modified xsi:type="dcterms:W3CDTF">2015-01-22T11:37:56Z</dcterms:modified>
  <cp:revision>5</cp:revision>
  <dc:subject/>
  <dc:title>Слайд 1</dc:title>
</cp:coreProperties>
</file>