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11.gif" ContentType="image/gif"/>
  <Override PartName="/ppt/media/image14.png" ContentType="image/png"/>
  <Override PartName="/ppt/media/image7.png" ContentType="image/png"/>
  <Override PartName="/ppt/media/image22.jpeg" ContentType="image/jpeg"/>
  <Override PartName="/ppt/media/image1.jpeg" ContentType="image/jpeg"/>
  <Override PartName="/ppt/media/image8.png" ContentType="image/png"/>
  <Override PartName="/ppt/media/image30.gif" ContentType="image/gif"/>
  <Override PartName="/ppt/media/image13.png" ContentType="image/png"/>
  <Override PartName="/ppt/media/image10.gif" ContentType="image/gif"/>
  <Override PartName="/ppt/media/image12.gif" ContentType="image/gif"/>
  <Override PartName="/ppt/media/image9.jpeg" ContentType="image/jpeg"/>
  <Override PartName="/ppt/media/image2.png" ContentType="image/png"/>
  <Override PartName="/ppt/media/image25.png" ContentType="image/png"/>
  <Override PartName="/ppt/media/image32.gif" ContentType="image/gif"/>
  <Override PartName="/ppt/media/image5.png" ContentType="image/png"/>
  <Override PartName="/ppt/media/image28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3.jpeg" ContentType="image/jpeg"/>
  <Override PartName="/ppt/media/image31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38ED-C7B9-4290-B9FA-3AD92DDCFC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C584-43F7-4D80-9E4F-EA22C3AF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9BAC-A357-4794-A944-6FC15BD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608C-D731-442A-AC4C-5FACF9F23E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30C6-4208-4D2F-BD41-814A6DFE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9CED-338D-40AE-9E67-4A9A026D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3E9D-61F4-4F5D-8679-7108178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6560-EE2A-478D-850B-B4610348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1DAE-ABDB-4366-ADE7-CA710744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75D58-9B8F-4C89-ABC4-FF004515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DF34-E09E-498D-9841-F98C1361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335C-2914-4796-B9D5-E267BC55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A7B2BE-EB1B-4425-BB6A-AE54546CE6BA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2130480" cy="2406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914400" y="1085760"/>
            <a:ext cx="7454880" cy="932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8000" y="2637000"/>
            <a:ext cx="5400720" cy="576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ружающий мир, 3 класс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5661000"/>
            <a:ext cx="4343400" cy="6998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№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 Батурина Гал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0720" y="165240"/>
            <a:ext cx="8266320" cy="761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916360" y="1341360"/>
            <a:ext cx="257148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539640" y="1628640"/>
            <a:ext cx="2880000" cy="432000"/>
          </a:xfrm>
          <a:prstGeom prst="wedgeRoundRectCallout">
            <a:avLst>
              <a:gd name="adj1" fmla="val 43101"/>
              <a:gd name="adj2" fmla="val 79513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чему её нужно береч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1052640"/>
            <a:ext cx="3095640" cy="792000"/>
          </a:xfrm>
          <a:prstGeom prst="wedgeRoundRectCallout">
            <a:avLst>
              <a:gd name="adj1" fmla="val -62398"/>
              <a:gd name="adj2" fmla="val 44532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а, энергию нужно беречь! Ты опять забыла выключи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, уходя из комна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5013360"/>
            <a:ext cx="561672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энергия и почему её нужно береч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709000" y="4292640"/>
            <a:ext cx="337824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sq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вы узнаете на уро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805360"/>
            <a:ext cx="698508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акое энергия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836640"/>
            <a:ext cx="8229600" cy="57214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чем человек и животные едя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работает утюг или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нужно сделать для того, чтобы автомобиль поеха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16720" y="126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89880" y="1335240"/>
            <a:ext cx="1346040" cy="96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56440" y="2487600"/>
            <a:ext cx="122544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35640" y="4508640"/>
            <a:ext cx="1859040" cy="139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"/>
          <p:cNvSpPr/>
          <p:nvPr/>
        </p:nvSpPr>
        <p:spPr>
          <a:xfrm>
            <a:off x="468360" y="0"/>
            <a:ext cx="8229600" cy="71928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76360" y="3284640"/>
            <a:ext cx="64292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84280"/>
            <a:ext cx="8143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работы любого организма или механизма нуж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8760" y="4357800"/>
            <a:ext cx="1552320" cy="141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211640" y="5229360"/>
            <a:ext cx="743040" cy="79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7143840" y="4714920"/>
            <a:ext cx="1071360" cy="64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250560" y="1197000"/>
            <a:ext cx="861156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sq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те свои предположения, прочитав текст учебника на стр.18 (1 абзац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052640"/>
            <a:ext cx="892800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 источники энергии для автомобиля, коровы, человека и телевиз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800100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4000" y="4365720"/>
            <a:ext cx="188568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556000" y="4365720"/>
            <a:ext cx="189864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" descr=""/>
          <p:cNvPicPr/>
          <p:nvPr/>
        </p:nvPicPr>
        <p:blipFill>
          <a:blip r:embed="rId5"/>
          <a:srcRect l="2578" t="0" r="0" b="0"/>
          <a:stretch/>
        </p:blipFill>
        <p:spPr>
          <a:xfrm>
            <a:off x="4788000" y="4365720"/>
            <a:ext cx="187956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948360" y="4365720"/>
            <a:ext cx="1919520" cy="221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"/>
          <p:cNvSpPr/>
          <p:nvPr/>
        </p:nvSpPr>
        <p:spPr>
          <a:xfrm>
            <a:off x="755640" y="3933720"/>
            <a:ext cx="9410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3933720"/>
            <a:ext cx="9410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933720"/>
            <a:ext cx="219708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3933720"/>
            <a:ext cx="111636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"/>
          <p:cNvCxnSpPr>
            <a:stCxn id="72" idx="0"/>
          </p:cNvCxnSpPr>
          <p:nvPr/>
        </p:nvCxnSpPr>
        <p:spPr>
          <a:xfrm flipV="1">
            <a:off x="1225440" y="3141360"/>
            <a:ext cx="4787280" cy="792720"/>
          </a:xfrm>
          <a:prstGeom prst="straightConnector1">
            <a:avLst/>
          </a:prstGeom>
          <a:ln cap="sq"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73" idx="0"/>
          </p:cNvCxnSpPr>
          <p:nvPr/>
        </p:nvCxnSpPr>
        <p:spPr>
          <a:xfrm flipH="1" flipV="1">
            <a:off x="4571280" y="3141360"/>
            <a:ext cx="3351960" cy="792720"/>
          </a:xfrm>
          <a:prstGeom prst="straightConnector1">
            <a:avLst/>
          </a:prstGeom>
          <a:ln cap="sq"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74" idx="0"/>
          </p:cNvCxnSpPr>
          <p:nvPr/>
        </p:nvCxnSpPr>
        <p:spPr>
          <a:xfrm flipV="1">
            <a:off x="3510000" y="3571200"/>
            <a:ext cx="4015440" cy="361080"/>
          </a:xfrm>
          <a:prstGeom prst="straightConnector1">
            <a:avLst/>
          </a:prstGeom>
          <a:ln cap="sq"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75" idx="0"/>
          </p:cNvCxnSpPr>
          <p:nvPr/>
        </p:nvCxnSpPr>
        <p:spPr>
          <a:xfrm flipH="1" flipV="1">
            <a:off x="1618560" y="3428640"/>
            <a:ext cx="4088520" cy="50544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plus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2205000"/>
            <a:ext cx="5113440" cy="566640"/>
          </a:xfrm>
          <a:prstGeom prst="rect">
            <a:avLst/>
          </a:prstGeom>
          <a:solidFill>
            <a:srgbClr val="c4bd97"/>
          </a:solidFill>
          <a:ln cap="sq"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 энер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860640"/>
            <a:ext cx="1714680" cy="785880"/>
          </a:xfrm>
          <a:prstGeom prst="rect">
            <a:avLst/>
          </a:prstGeom>
          <a:solidFill>
            <a:srgbClr val="c4bd97"/>
          </a:solidFill>
          <a:ln cap="sq"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3860640"/>
            <a:ext cx="2000520" cy="764280"/>
          </a:xfrm>
          <a:prstGeom prst="rect">
            <a:avLst/>
          </a:prstGeom>
          <a:solidFill>
            <a:srgbClr val="c4bd97"/>
          </a:solidFill>
          <a:ln cap="sq"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н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3860640"/>
            <a:ext cx="4071960" cy="764280"/>
          </a:xfrm>
          <a:prstGeom prst="rect">
            <a:avLst/>
          </a:prstGeom>
          <a:solidFill>
            <a:srgbClr val="c4bd97"/>
          </a:solidFill>
          <a:ln cap="sq"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ктри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"/>
          <p:cNvCxnSpPr>
            <a:stCxn id="80" idx="2"/>
          </p:cNvCxnSpPr>
          <p:nvPr/>
        </p:nvCxnSpPr>
        <p:spPr>
          <a:xfrm flipH="1">
            <a:off x="1476000" y="2771280"/>
            <a:ext cx="3061440" cy="1018440"/>
          </a:xfrm>
          <a:prstGeom prst="straightConnector1">
            <a:avLst/>
          </a:prstGeom>
          <a:ln cap="sq" w="572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2"/>
          </p:cNvCxnSpPr>
          <p:nvPr/>
        </p:nvCxnSpPr>
        <p:spPr>
          <a:xfrm>
            <a:off x="4536720" y="2771280"/>
            <a:ext cx="2870640" cy="950040"/>
          </a:xfrm>
          <a:prstGeom prst="straightConnector1">
            <a:avLst/>
          </a:prstGeom>
          <a:ln cap="sq" w="572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0" idx="2"/>
          </p:cNvCxnSpPr>
          <p:nvPr/>
        </p:nvCxnSpPr>
        <p:spPr>
          <a:xfrm flipH="1">
            <a:off x="3708000" y="2771280"/>
            <a:ext cx="829440" cy="1018440"/>
          </a:xfrm>
          <a:prstGeom prst="straightConnector1">
            <a:avLst/>
          </a:prstGeom>
          <a:ln cap="sq" w="57240">
            <a:solidFill>
              <a:srgbClr val="002060"/>
            </a:solidFill>
            <a:miter/>
            <a:tailEnd len="med" type="triangle" w="med"/>
          </a:ln>
        </p:spPr>
      </p:cxn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00360" y="4797360"/>
            <a:ext cx="214308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867280" y="4797360"/>
            <a:ext cx="200052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221436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981000"/>
            <a:ext cx="8713800" cy="1465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это способность совершать работу, источник движ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115920"/>
            <a:ext cx="8229600" cy="71928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яем зн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752400" y="981000"/>
            <a:ext cx="804600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в рабочей тетради задание №1(П) стр.5. Проверьте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773360"/>
            <a:ext cx="5903640" cy="1038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а рубил дрова и устал. Он решил поесть, чтобы восстановить запасы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500280"/>
            <a:ext cx="5256000" cy="143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а поняла, что для освещения комнаты нужна электрическая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включила шнур от лампы в розет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300640"/>
            <a:ext cx="655164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а знал, что для лампочки в фонарике нужна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поэтому вставил в него батарей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1871640" cy="12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3"/>
          <a:srcRect l="54356" t="0" r="0" b="0"/>
          <a:stretch/>
        </p:blipFill>
        <p:spPr>
          <a:xfrm>
            <a:off x="7667640" y="4797360"/>
            <a:ext cx="655560" cy="18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4"/>
          <a:srcRect l="5200" t="10215" r="5200" b="14193"/>
          <a:stretch/>
        </p:blipFill>
        <p:spPr>
          <a:xfrm>
            <a:off x="6156360" y="3068640"/>
            <a:ext cx="2663640" cy="158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lus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115920"/>
            <a:ext cx="8229600" cy="71928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яем зн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752400" y="981000"/>
            <a:ext cx="808884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в рабочей тетради задание №4(М) стр.6. Проверьте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2160360" cy="16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19640" y="2060640"/>
            <a:ext cx="2116080" cy="16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217476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971640" y="4005360"/>
            <a:ext cx="2160360" cy="162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419640" y="4005360"/>
            <a:ext cx="2089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5796000" y="4005360"/>
            <a:ext cx="210168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"/>
          <p:cNvSpPr/>
          <p:nvPr/>
        </p:nvSpPr>
        <p:spPr>
          <a:xfrm>
            <a:off x="2843280" y="1484280"/>
            <a:ext cx="304272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эне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dur="indefinite" fill="hold">
                      <p:stCondLst>
                        <p:cond delay="indefinite"/>
                      </p:stCondLst>
                      <p:childTnLst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 -6 L -1.48148 -6 L 0.2677 -0.28357 E">
                                      <p:cBhvr>
                                        <p:cTn id="37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 -6 L -7.40741 -7 L 0.26771 -0.28357 E">
                                      <p:cBhvr>
                                        <p:cTn id="37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907920"/>
            <a:ext cx="8229600" cy="1143000"/>
          </a:xfrm>
          <a:prstGeom prst="rect">
            <a:avLst/>
          </a:prstGeom>
          <a:solidFill>
            <a:srgbClr val="c4bd97"/>
          </a:solidFill>
          <a:ln cap="sq"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ое определение энергии является наиболее правиль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276640"/>
            <a:ext cx="7329600" cy="876240"/>
          </a:xfrm>
          <a:prstGeom prst="rect">
            <a:avLst/>
          </a:prstGeom>
          <a:solidFill>
            <a:srgbClr val="ffff00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– свойство живых организмов, помогающее им двига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6084720" cy="947160"/>
          </a:xfrm>
          <a:prstGeom prst="rect">
            <a:avLst/>
          </a:prstGeom>
          <a:solidFill>
            <a:srgbClr val="00b0f0"/>
          </a:solidFill>
          <a:ln cap="sq"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– источник движения, способность совершать рабо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437000"/>
            <a:ext cx="6072120" cy="947160"/>
          </a:xfrm>
          <a:prstGeom prst="rect">
            <a:avLst/>
          </a:prstGeom>
          <a:solidFill>
            <a:srgbClr val="00b050"/>
          </a:solidFill>
          <a:ln cap="sq"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– то, из чего состоят все ве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516640"/>
            <a:ext cx="6072120" cy="947160"/>
          </a:xfrm>
          <a:prstGeom prst="rect">
            <a:avLst/>
          </a:prstGeom>
          <a:solidFill>
            <a:srgbClr val="ffc000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– присущий неживым предметам источник дви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101080" y="2276640"/>
            <a:ext cx="857160" cy="107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500960" y="3786120"/>
            <a:ext cx="70488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358040" y="5000760"/>
            <a:ext cx="114300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"/>
          <p:cNvSpPr/>
          <p:nvPr/>
        </p:nvSpPr>
        <p:spPr>
          <a:xfrm>
            <a:off x="468360" y="115920"/>
            <a:ext cx="8229600" cy="71928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яем зн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dur="indefinite" fill="hold">
                      <p:stCondLst>
                        <p:cond delay="indefinite"/>
                      </p:stCondLst>
                      <p:childTnLst>
                        <p:par>
                          <p:cTn id="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4:13:12Z</dcterms:created>
  <dc:creator>Val</dc:creator>
  <dc:description/>
  <dc:language>en-US</dc:language>
  <cp:lastModifiedBy>Пользователь</cp:lastModifiedBy>
  <dcterms:modified xsi:type="dcterms:W3CDTF">2013-08-02T11:15:35Z</dcterms:modified>
  <cp:revision>28</cp:revision>
  <dc:subject/>
  <dc:title>Окружающий мир (3 класс)</dc:title>
</cp:coreProperties>
</file>