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8DA-97F9-4FB4-85AE-07101692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79B-EBE1-46F3-A40E-93D0B3D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353-E81A-4305-B14F-DF4AFC3E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80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72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62F-28DF-45D8-A8DC-1ECFD820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D51B-D5EE-4A56-BE58-3C49E4FB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E490-3FE9-479F-B76A-99146DF0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B1FA-4C72-444C-B9D8-6D4241F3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DF11-D54F-47F5-AEEF-82BECF5B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A4B-293A-4163-AB1A-8E33F521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D52-B1B2-4E96-BFEA-ED934AED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751-24E8-4063-B405-4083E6B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854-A411-4420-943F-0B0DA847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803D-3FFC-48C2-A62D-C9DDE15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68F4-DC7D-4C2D-9C93-825838B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B10-7C17-447A-96CE-2B42A3A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B06A-1278-410E-9FEA-FB4CFA6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720" y="2017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80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720" y="4420440"/>
            <a:ext cx="25012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54B4-E67E-4B50-A65F-D7116C0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333-8E3B-4E47-8147-B0FD8EFA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4B4-8206-4E04-B404-DCE9B81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31B-738F-4739-82BC-95CE68C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2760"/>
            <a:ext cx="77900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5DF-D510-4C14-9E33-561C5E0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0D7-942C-4705-AFF5-5EE1279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480" y="4420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D59-4CEF-4E66-AAA1-8AF5D1F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480" y="2017440"/>
            <a:ext cx="379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420440"/>
            <a:ext cx="7769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CDC-3D7D-4EA4-AFCE-CE441D8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2760"/>
            <a:ext cx="77900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9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7A1E-3376-4C42-8D93-F271763CBD3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5760" cy="1049400"/>
            <a:chOff x="0" y="2438280"/>
            <a:chExt cx="9005760" cy="104940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8120" cy="471600"/>
              <a:chOff x="290520" y="2546280"/>
              <a:chExt cx="708120" cy="47160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4880" cy="47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544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4760" cy="471600"/>
              <a:chOff x="414360" y="2968560"/>
              <a:chExt cx="7347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160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576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7280" cy="419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8440" cy="10494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968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37CC2-4BBE-4092-B5BE-EAF39B6A4241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9120" y="1306440"/>
            <a:ext cx="761364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грессия детей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100" spc="-1" strike="noStrike">
                <a:solidFill>
                  <a:srgbClr val="333399"/>
                </a:solidFill>
                <a:latin typeface="Tahoma"/>
              </a:rPr>
              <a:t>Причины </a:t>
            </a:r>
            <a:br>
              <a:rPr sz="3100"/>
            </a:br>
            <a:r>
              <a:rPr b="1" lang="ru-RU" sz="3100" spc="-1" strike="noStrike">
                <a:solidFill>
                  <a:srgbClr val="333399"/>
                </a:solidFill>
                <a:latin typeface="Tahoma"/>
              </a:rPr>
              <a:t> и предупреждение.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98320" y="3886200"/>
            <a:ext cx="45500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БОУ СОШ № 10 «ПЕРЕСВЕ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7.12.2013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к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6240" y="2076480"/>
            <a:ext cx="501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-20 баллов – высокая 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-14 баллов – средня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-6 баллов – низка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в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88000" y="2016000"/>
            <a:ext cx="29415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 помочь агрессивному ребенку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 с гне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и способности к эмпатии, доверию, сочувствию, сопережив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гнев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зывал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снять словесную агрессию, помочь ребенку выплеснуть гнев в приемлемой фор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Мешочек для криков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избавление от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Физическое снятие агресси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научить детей справиться со своей физической агресси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565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бучение навыкам распознавания и контроля негативных эмоци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880" y="2076120"/>
            <a:ext cx="54691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«Камушек в ботинк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научить распознавать собственные эмоции и говорить о н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собенно полезно д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тревожных де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27640" y="3168720"/>
            <a:ext cx="381636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-63720"/>
            <a:ext cx="77565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Формирование способности к эмпатии, доверию, сочувствию, сопереживанию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1640" y="2087640"/>
            <a:ext cx="440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«Я –сообщение»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версальная опер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у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 в провозглашении взрослого своего самочувствия, состояния, мыслей в ответ на факт как некое явление жизни позитивного или негативного  пла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829480" y="2017800"/>
            <a:ext cx="312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0000" y="2232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 заключение…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360" y="2017440"/>
            <a:ext cx="540072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 раздражаться, когда  ребенок  необъяснимо  дурно  ведет себя,  нужно  поставить перед  собою 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Интересно, что  с  ним  сейчас  происходит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16720" y="374328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08080" y="1871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я (лат.)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начает «нападение», «приступ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9280" y="3354480"/>
            <a:ext cx="381636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сихологический 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грессия – деструктивное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ановление агрессивного повед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сходитель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г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32360" y="2232000"/>
            <a:ext cx="27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3800" y="3456000"/>
            <a:ext cx="4660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трет агрессивного ребе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38160" y="1979640"/>
            <a:ext cx="6461640" cy="4875120"/>
            <a:chOff x="1838160" y="1979640"/>
            <a:chExt cx="6461640" cy="4875120"/>
          </a:xfrm>
        </p:grpSpPr>
        <p:sp>
          <p:nvSpPr>
            <p:cNvPr id="113" name=""/>
            <p:cNvSpPr/>
            <p:nvPr/>
          </p:nvSpPr>
          <p:spPr>
            <a:xfrm>
              <a:off x="2926800" y="2089080"/>
              <a:ext cx="4284000" cy="3155400"/>
            </a:xfrm>
            <a:custGeom>
              <a:avLst/>
              <a:gdLst>
                <a:gd name="textAreaLeft" fmla="*/ 0 w 4284000"/>
                <a:gd name="textAreaRight" fmla="*/ 4284360 w 4284000"/>
                <a:gd name="textAreaTop" fmla="*/ 0 h 3155400"/>
                <a:gd name="textAreaBottom" fmla="*/ 3155760 h 31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7200000">
              <a:off x="4078080" y="2275200"/>
              <a:ext cx="3155400" cy="4284000"/>
            </a:xfrm>
            <a:custGeom>
              <a:avLst/>
              <a:gdLst>
                <a:gd name="textAreaLeft" fmla="*/ 0 w 3155400"/>
                <a:gd name="textAreaRight" fmla="*/ 3155760 w 3155400"/>
                <a:gd name="textAreaTop" fmla="*/ 0 h 4284000"/>
                <a:gd name="textAreaBottom" fmla="*/ 4284360 h 42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4400000">
              <a:off x="2904120" y="2274840"/>
              <a:ext cx="3155400" cy="4284000"/>
            </a:xfrm>
            <a:custGeom>
              <a:avLst/>
              <a:gdLst>
                <a:gd name="textAreaLeft" fmla="*/ 0 w 3155400"/>
                <a:gd name="textAreaRight" fmla="*/ 3155760 w 3155400"/>
                <a:gd name="textAreaTop" fmla="*/ 0 h 4284000"/>
                <a:gd name="textAreaBottom" fmla="*/ 4284360 h 42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e4a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3480" y="2665800"/>
              <a:ext cx="1717560" cy="12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оязнь и ненави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окружающ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2000" y="5262840"/>
              <a:ext cx="171576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оязнь и ненави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агрессив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я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3320" y="2667600"/>
              <a:ext cx="171756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грессив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му, папу, потому что они ругаются, бьют, деру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ейцев, бандитов, охотников, потому что они убивают людей и живот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2920" y="176040"/>
            <a:ext cx="717084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к бы ты поступил, если бы встретился с агрессивным ребенком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 Начал бы драть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и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ачка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ызгал б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6280" y="2017440"/>
            <a:ext cx="379872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шел бы мим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вал на помощ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ше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беж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итаешь ли ты себя агрессивным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итерии агрессивности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ено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завислив, мстителе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15:10Z</dcterms:created>
  <dc:creator>Л.С.П</dc:creator>
  <dc:description/>
  <dc:language>en-US</dc:language>
  <cp:lastModifiedBy>SamLab.ws</cp:lastModifiedBy>
  <dcterms:modified xsi:type="dcterms:W3CDTF">2013-12-17T05:48:48Z</dcterms:modified>
  <cp:revision>8</cp:revision>
  <dc:subject/>
  <dc:title>Агрессия детей.  Причины   и предупреждение</dc:title>
</cp:coreProperties>
</file>