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E58-1D72-4323-BB74-10B7D2A0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161-2FE5-40C2-BD1C-FB2489FA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557-A0EC-4B07-A6AF-EC98E2D4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948-AC56-4B15-A7B8-B981634F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C96D-6BF4-4E0D-97A6-BF6E9328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0FE1-2452-42CF-8468-359DDEA5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3971-04D2-48C7-B1DF-B439E606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3FF0-0DD8-4682-990F-B2B31E7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70C6-8C19-4F65-886A-A5B72638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E3FA-4AF4-41F2-AC7F-C968A7C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BD92-02AD-4084-B412-72C58DF0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4AC-E255-4F86-A10D-A0A4EC1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6CE1-0B11-46B8-B4FF-C9E79FF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6762-44BF-4E80-99AF-B70C745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EED-6C3E-416B-9177-AA1D228F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12EC-72CF-487B-A322-FE95FB7B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030B-3BBD-4327-A897-4C4A0302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A1A-1C0B-4C15-A9D3-3792F456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46B-72B5-4DC0-82DE-ADB05BDF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775-941A-4BBB-9B09-D542A0D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AF5-1F42-472A-B7D6-05557D7B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583-4F12-4DD0-991C-73A3A7F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30D-E404-49E8-8274-E831793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527-C238-4BFF-A7D6-485CC19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3D9E5-1C50-450B-8282-7B798CED867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27A39-60AF-45B5-BCE9-651A24CEE0E7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9120" y="1306440"/>
            <a:ext cx="761364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грессия детей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100" spc="-1" strike="noStrike">
                <a:solidFill>
                  <a:srgbClr val="333399"/>
                </a:solidFill>
                <a:latin typeface="Tahoma"/>
              </a:rPr>
              <a:t>Причины </a:t>
            </a:r>
            <a:br>
              <a:rPr sz="3100"/>
            </a:br>
            <a:r>
              <a:rPr b="1" lang="ru-RU" sz="3100" spc="-1" strike="noStrike">
                <a:solidFill>
                  <a:srgbClr val="333399"/>
                </a:solidFill>
                <a:latin typeface="Tahoma"/>
              </a:rPr>
              <a:t> и предупреждение.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98320" y="3886200"/>
            <a:ext cx="45500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БОУ СОШ № 10 «ПЕРЕСВЕ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7.12.2013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к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6240" y="2076480"/>
            <a:ext cx="501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5-20 баллов – высокая агрессив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-14 баллов – средня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в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-6 баллов – низка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в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88000" y="2016000"/>
            <a:ext cx="29415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 помочь агрессивному ребенку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а с гне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учение детей навыкам распознавания и контроля, умению владеть собой в ситуациях, провоцирующих вспышки гн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и способности к эмпатии, доверию, сочувствию, сопережив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бота с гнев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зывал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снять словесную агрессию, помочь ребенку выплеснуть гнев в приемлемой фор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«Мешочек для криков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избавление от гн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«Физическое снятие агресси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научить детей справиться со своей физической агресси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756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бучение навыкам распознавания и контроля негативных эмоци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4880" y="2076120"/>
            <a:ext cx="54691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«Камушек в ботинк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научить распознавать собственные эмоции и говорить о н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собенно полезно д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тревожных де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27640" y="3168720"/>
            <a:ext cx="381636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-63720"/>
            <a:ext cx="77565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Формирование способности к эмпатии, доверию, сочувствию, сопереживанию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1640" y="2087640"/>
            <a:ext cx="440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«Я –сообщение»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версальная опер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Су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 в провозглашении взрослого своего самочувствия, состояния, мыслей в ответ на факт как некое явление жизни позитивного или негативного  пла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829480" y="2017800"/>
            <a:ext cx="312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0000" y="2232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 заключение…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360" y="2017440"/>
            <a:ext cx="540072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е  раздражаться, когда  ребенок  необъяснимо  дурно  ведет себя,  нужно  поставить перед  собою  вопрос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Интересно, что  с  ним  сейчас  происходит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16720" y="374328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08080" y="1871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лов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я (лат.)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начает «нападение», «приступ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9280" y="3354480"/>
            <a:ext cx="381636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сихологический слов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я – деструктивное поведение, противоречащее нормам и правилам существования людей в обществе, приносящее физический или моральный ущерб людям, или вызывающий у них психологический дискомфор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ановление агрессивного повед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сходитель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г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32360" y="2232000"/>
            <a:ext cx="27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3800" y="3456000"/>
            <a:ext cx="466092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трет агрессивного ребе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38160" y="1979640"/>
            <a:ext cx="6461640" cy="4875120"/>
            <a:chOff x="1838160" y="1979640"/>
            <a:chExt cx="6461640" cy="4875120"/>
          </a:xfrm>
        </p:grpSpPr>
        <p:sp>
          <p:nvSpPr>
            <p:cNvPr id="113" name=""/>
            <p:cNvSpPr/>
            <p:nvPr/>
          </p:nvSpPr>
          <p:spPr>
            <a:xfrm>
              <a:off x="2926800" y="2089080"/>
              <a:ext cx="4284000" cy="3155400"/>
            </a:xfrm>
            <a:custGeom>
              <a:avLst/>
              <a:gdLst>
                <a:gd name="textAreaLeft" fmla="*/ 0 w 4284000"/>
                <a:gd name="textAreaRight" fmla="*/ 4284360 w 4284000"/>
                <a:gd name="textAreaTop" fmla="*/ 0 h 3155400"/>
                <a:gd name="textAreaBottom" fmla="*/ 3155760 h 31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e4a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7200000">
              <a:off x="4078080" y="2275200"/>
              <a:ext cx="3155400" cy="4284000"/>
            </a:xfrm>
            <a:custGeom>
              <a:avLst/>
              <a:gdLst>
                <a:gd name="textAreaLeft" fmla="*/ 0 w 3155400"/>
                <a:gd name="textAreaRight" fmla="*/ 3155760 w 3155400"/>
                <a:gd name="textAreaTop" fmla="*/ 0 h 4284000"/>
                <a:gd name="textAreaBottom" fmla="*/ 4284360 h 42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e4a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4400000">
              <a:off x="2904120" y="2274840"/>
              <a:ext cx="3155400" cy="4284000"/>
            </a:xfrm>
            <a:custGeom>
              <a:avLst/>
              <a:gdLst>
                <a:gd name="textAreaLeft" fmla="*/ 0 w 3155400"/>
                <a:gd name="textAreaRight" fmla="*/ 3155760 w 3155400"/>
                <a:gd name="textAreaTop" fmla="*/ 0 h 4284000"/>
                <a:gd name="textAreaBottom" fmla="*/ 4284360 h 42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e4a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3480" y="2665800"/>
              <a:ext cx="171756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оязнь и ненави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окружающ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2000" y="5262840"/>
              <a:ext cx="171576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оязнь и ненави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агрессив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3320" y="2667600"/>
              <a:ext cx="171756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грессив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му, папу, потому что они ругаются, бьют, деру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ейцев, бандитов, охотников, потому что они убивают людей и живот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2920" y="176040"/>
            <a:ext cx="717084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к бы ты поступил, если бы встретился с агрессивным ребенком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 Начал бы дратьс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и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ачка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ызгал б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6280" y="2017440"/>
            <a:ext cx="379872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шел бы мим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ал на помощ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ше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беж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читаешь ли ты себя агрессивным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итерии агрессивности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ено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теряет контроль над соб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ециально раздражает люд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винит других в своих ошиб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завислив, мстителе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5:15:10Z</dcterms:created>
  <dc:creator>Л.С.П</dc:creator>
  <dc:description/>
  <dc:language>en-US</dc:language>
  <cp:lastModifiedBy>SamLab.ws</cp:lastModifiedBy>
  <dcterms:modified xsi:type="dcterms:W3CDTF">2013-12-17T05:48:48Z</dcterms:modified>
  <cp:revision>8</cp:revision>
  <dc:subject/>
  <dc:title>Агрессия детей.  Причины   и предупреждение</dc:title>
</cp:coreProperties>
</file>