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CE6-7E66-4187-8547-7FD66524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F71-1E1A-4838-A8BA-CDE9CA5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2983C-E868-411D-98F4-B5AB0B2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F5749-5E19-4AA1-A3D3-DE4EA548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55E1B-1E5D-4D8B-9911-BEDACA3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B431-AA6E-4F7A-97C2-026761A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D3366-23BE-4C26-A283-631999BA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312D0-90FD-41D0-939F-2A7FD86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3DCDB-CA9C-4E16-A79C-057CD52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CDCD2-857F-4309-AF7B-5ED6552C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2166A-BFE5-4776-91FC-7245DC94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298-DBB3-448A-AD98-5AFBB51D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53E-EB0A-48B6-B865-570DA79E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A21-3964-46EE-BBA9-4E47CCC8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7250-DB5C-4CD2-B43A-2282269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9E4-5E20-4524-ABEA-065BA3C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8DD-FB0A-47A4-B867-09DF7FF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01C2-C8E6-4357-BA6F-AD23EAC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9DD-FB78-4476-8885-6C31508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B06-7BA0-4452-AFCE-56C2481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34F-1352-40D2-BCFB-73210F6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1078-62C1-4760-AA1D-E93AE96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B175-6548-4A64-806A-FCD1AA6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68A-C390-4F0D-A0D3-B18C92BE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A3F-A611-4B55-9D64-A955C8E7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AE65-BF29-449A-A186-FB12346D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6D0B-7A57-4EBF-A2D8-E9FA4012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C0DF-1B8F-4413-92AE-8403FD6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7B9E-C7DC-4CF4-9E5C-2A406C0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0893-BADD-4366-A6F3-F3C00242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5DD2-90B2-418D-81B8-430A4D2D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337-94B8-42FF-A886-A3E01811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D510-4AF9-4231-979B-4A2F51F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FCDD-780C-4B2B-AD78-13694AA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F696-F718-44BE-9329-9ADEB52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407E-3122-4CDC-81B9-1D5E08B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1EB5-AF6B-4894-9207-4004EF8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BA1B-6046-4314-AE6C-568A5EA7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F08E-A7E1-4D9B-8E56-E54461CC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D1F0-D4ED-4423-A21C-79204299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404E-0225-43C6-9AE5-999B43C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26E4-8E76-4838-A0C2-8187CC65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77F-8F51-4656-A18B-F34D23F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6AF0-4718-4D0C-8E76-E8719697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A73C-599B-45DD-9039-896FB95D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0ACC-CEE2-4C20-BDE1-0A35685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20A3-343B-46A1-8B75-7D4ED85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EE4A-4E01-40BA-A44E-61A1A19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D9D2-767C-4C29-8818-3589F50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0F83-B2C3-4F78-BBFF-E7C8364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64A0-AD03-40D6-85D8-8AA6FAAB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4B47-5334-441B-AC74-04A8A010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577B-1DDF-4B2F-A6B1-03F5E5ED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854-C725-4CA5-87AA-13FF0943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267C-FA37-422F-BA1B-D376C73E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8F3E-BDBB-4A31-A06F-3F63C65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5A7C-FBF7-4C23-A5EF-4591CDC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E884-3B6C-4786-880D-9E3F70F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B332-8E5F-46B9-9A19-180869E0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5F30-FD51-47C2-9F91-1D1E0772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12E7-36C5-4C8C-B6A5-1664512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6DDB-3F69-4B8C-9BC1-4B00A0C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ED7CD-75A0-41AB-BFC3-C01B7F07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40DD-7AEE-4918-B4EA-29E4F086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968-2773-4EB3-A7BB-EE786F1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4E049-AAB9-49EE-BE2D-820E070C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BF833-66D6-4F5C-9E3F-DFC8B4B2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6B47-DDB8-4614-AF3C-78EC195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466B-5DC7-4622-8848-9FB729FB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476A-4AF5-4CFE-8042-D46F9C4A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E98F-048C-408C-BE06-F5C0FB49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AD729-9784-4102-A512-E30BA805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4B13-0E11-4AD4-8F4C-33CF1B6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470C-A635-4D04-9B49-8962A4C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74249-294B-4D67-8CBF-6AA595E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03B-0007-4AD5-B793-73D09DE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E1F0-F8CA-4205-B9F5-720FCD41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EE2D5-8C2F-4CEF-9101-03819670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6565-68A9-4BCF-A5CA-39B26B97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4BA2-D4B7-4896-8921-423714CB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DA56-C7E5-4C82-AA3A-77ED6EDE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49C4-ACB6-4D56-8FB4-9C6655E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56C0-1846-48B0-9A5D-3DF5E8A3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AC109-852A-4AC8-9064-F0DE2E1F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4A776-8906-46B6-A535-8503713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76122-2BF4-4BBB-B78F-9A18D24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545-E468-4F1C-AB93-550D10C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289B-4251-464C-98F1-93BD92B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F630-73C7-44EB-8CCF-A5A5405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383BE-C935-495B-B635-80194156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3918-4871-488C-8A87-065EAA79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2181-F032-4784-8BBE-44D11414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6475-7EBE-4D65-ADDF-0788C8AF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A315-6283-4A61-AAF8-23754CE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601B-27EF-4028-AA29-F31FB0A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FC14-6D40-4380-854A-01273D5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9A23-2A30-4EBC-B7B6-8CC038D4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196-F031-4D5F-8A55-AF9F72C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A0D97-B561-4306-A35C-734C9C9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86E9-1653-4670-BFF9-5B1ABA9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8258-72DD-4F50-9863-DC8E81B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1B11E-94D8-4C9D-988E-C232B02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0DB4-119C-43CF-80C0-E98F015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4A877-E83C-4390-A180-2A27C28B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E253-B7CB-4A78-9B8B-0C1FC904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13B79-C8FD-4733-BA2E-0858384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22556-784A-4538-8B4E-A3C93D7A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52AD8-0B82-432B-A62B-06A53CB0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63A-E340-4847-B677-E9BAF83CCC86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598-9966-4699-88E3-0612C9A47E10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94B2-D53E-4793-9BA8-DA6812CD2F27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607-79A9-42D4-8B73-400C4B9753B7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3A7C-D795-4C0E-89E0-9C5F55915A0B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2DE-53CF-4229-8CD9-F214209085B1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9A2-DDB9-40E6-8BE4-9953B234B8B5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DE7-4932-4192-B465-7FDE6D18913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41F-0008-4065-8EF2-726951B4B039}" type="slidenum">
              <a:rPr b="0" lang="ru-RU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566640"/>
            <a:ext cx="8601120" cy="2578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14880" y="3786120"/>
            <a:ext cx="427176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44f61"/>
                </a:solidFill>
                <a:latin typeface="Verdana"/>
              </a:rPr>
              <a:t>Подготовила:</a:t>
            </a:r>
            <a:r>
              <a:rPr b="0" i="1" lang="ru-RU" sz="1700" spc="-1" strike="noStrike">
                <a:solidFill>
                  <a:srgbClr val="444f61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Чернышова Оксана Бикаировна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Учитель немецкого языка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Муниципального бюджетного образовательного учреждения «Средняя общеобразовательная школа № 2 п. Переволоцкий» 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44f61"/>
                </a:solidFill>
                <a:latin typeface="Times New Roman"/>
                <a:ea typeface="Times New Roman"/>
              </a:rPr>
              <a:t>Оренбургской области</a:t>
            </a:r>
            <a:endParaRPr b="0" lang="en-US" sz="17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1" name="Picture 1" descr="P1010038"/>
          <p:cNvPicPr/>
          <p:nvPr/>
        </p:nvPicPr>
        <p:blipFill>
          <a:blip r:embed="rId2"/>
          <a:stretch/>
        </p:blipFill>
        <p:spPr>
          <a:xfrm>
            <a:off x="142920" y="3286080"/>
            <a:ext cx="3571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2"/>
          <p:cNvSpPr/>
          <p:nvPr/>
        </p:nvSpPr>
        <p:spPr>
          <a:xfrm>
            <a:off x="428760" y="3571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ieht schematisch das deutsche Bildungssystem aus. Lest bitte von oben nach unten und kommentiert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3"/>
          <p:cNvSpPr/>
          <p:nvPr/>
        </p:nvSpPr>
        <p:spPr>
          <a:xfrm>
            <a:off x="3571920" y="135720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rund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4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5"/>
          <p:cNvSpPr/>
          <p:nvPr/>
        </p:nvSpPr>
        <p:spPr>
          <a:xfrm flipH="1">
            <a:off x="2357280" y="1714680"/>
            <a:ext cx="1285920" cy="428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7"/>
          <p:cNvSpPr/>
          <p:nvPr/>
        </p:nvSpPr>
        <p:spPr>
          <a:xfrm flipH="1">
            <a:off x="4785840" y="1857240"/>
            <a:ext cx="1800" cy="571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9"/>
          <p:cNvSpPr/>
          <p:nvPr/>
        </p:nvSpPr>
        <p:spPr>
          <a:xfrm>
            <a:off x="6000840" y="1714680"/>
            <a:ext cx="1143000" cy="5000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0"/>
          <p:cNvSpPr/>
          <p:nvPr/>
        </p:nvSpPr>
        <p:spPr>
          <a:xfrm>
            <a:off x="1285920" y="22147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Haupt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5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1"/>
          <p:cNvSpPr/>
          <p:nvPr/>
        </p:nvSpPr>
        <p:spPr>
          <a:xfrm>
            <a:off x="3929040" y="2214720"/>
            <a:ext cx="1857240" cy="5713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Realsch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2"/>
          <p:cNvSpPr/>
          <p:nvPr/>
        </p:nvSpPr>
        <p:spPr>
          <a:xfrm>
            <a:off x="6500880" y="221472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a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5"/>
          <p:cNvSpPr/>
          <p:nvPr/>
        </p:nvSpPr>
        <p:spPr>
          <a:xfrm flipH="1">
            <a:off x="2286000" y="2786040"/>
            <a:ext cx="1440" cy="7142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285920" y="3500280"/>
            <a:ext cx="20001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Lehr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Berufs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8"/>
          <p:cNvSpPr/>
          <p:nvPr/>
        </p:nvSpPr>
        <p:spPr>
          <a:xfrm flipH="1">
            <a:off x="2284560" y="4286160"/>
            <a:ext cx="1440" cy="57312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9"/>
          <p:cNvSpPr/>
          <p:nvPr/>
        </p:nvSpPr>
        <p:spPr>
          <a:xfrm>
            <a:off x="1285920" y="4643280"/>
            <a:ext cx="2071800" cy="6429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2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21"/>
          <p:cNvSpPr/>
          <p:nvPr/>
        </p:nvSpPr>
        <p:spPr>
          <a:xfrm flipH="1">
            <a:off x="4212720" y="2786040"/>
            <a:ext cx="1800" cy="7160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22"/>
          <p:cNvSpPr/>
          <p:nvPr/>
        </p:nvSpPr>
        <p:spPr>
          <a:xfrm>
            <a:off x="3429000" y="35002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Ober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24"/>
          <p:cNvSpPr/>
          <p:nvPr/>
        </p:nvSpPr>
        <p:spPr>
          <a:xfrm flipH="1">
            <a:off x="5643720" y="2857680"/>
            <a:ext cx="1440" cy="644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25"/>
          <p:cNvSpPr/>
          <p:nvPr/>
        </p:nvSpPr>
        <p:spPr>
          <a:xfrm>
            <a:off x="5214960" y="350028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7"/>
          <p:cNvSpPr/>
          <p:nvPr/>
        </p:nvSpPr>
        <p:spPr>
          <a:xfrm flipH="1">
            <a:off x="6571800" y="2857680"/>
            <a:ext cx="1800" cy="715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29"/>
          <p:cNvSpPr/>
          <p:nvPr/>
        </p:nvSpPr>
        <p:spPr>
          <a:xfrm flipH="1">
            <a:off x="8071920" y="2857680"/>
            <a:ext cx="1800" cy="715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ый прямоугольник 30"/>
          <p:cNvSpPr/>
          <p:nvPr/>
        </p:nvSpPr>
        <p:spPr>
          <a:xfrm>
            <a:off x="7358040" y="350028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Gy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Oberstu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(3 Jahr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32"/>
          <p:cNvSpPr/>
          <p:nvPr/>
        </p:nvSpPr>
        <p:spPr>
          <a:xfrm flipH="1">
            <a:off x="4214520" y="4286160"/>
            <a:ext cx="34920" cy="10000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ый прямоугольник 33"/>
          <p:cNvSpPr/>
          <p:nvPr/>
        </p:nvSpPr>
        <p:spPr>
          <a:xfrm>
            <a:off x="3500280" y="528624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Fach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35"/>
          <p:cNvSpPr/>
          <p:nvPr/>
        </p:nvSpPr>
        <p:spPr>
          <a:xfrm>
            <a:off x="2320200" y="5286240"/>
            <a:ext cx="36360" cy="3574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37"/>
          <p:cNvSpPr/>
          <p:nvPr/>
        </p:nvSpPr>
        <p:spPr>
          <a:xfrm flipV="1">
            <a:off x="2357280" y="5571720"/>
            <a:ext cx="1143000" cy="7164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ый прямоугольник 38"/>
          <p:cNvSpPr/>
          <p:nvPr/>
        </p:nvSpPr>
        <p:spPr>
          <a:xfrm>
            <a:off x="6215040" y="4929120"/>
            <a:ext cx="2500200" cy="1000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Hoch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Universi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 Ja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40"/>
          <p:cNvSpPr/>
          <p:nvPr/>
        </p:nvSpPr>
        <p:spPr>
          <a:xfrm flipH="1">
            <a:off x="6571800" y="4073400"/>
            <a:ext cx="1800" cy="85752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42"/>
          <p:cNvSpPr/>
          <p:nvPr/>
        </p:nvSpPr>
        <p:spPr>
          <a:xfrm>
            <a:off x="8143920" y="4286160"/>
            <a:ext cx="0" cy="64476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44"/>
          <p:cNvSpPr/>
          <p:nvPr/>
        </p:nvSpPr>
        <p:spPr>
          <a:xfrm>
            <a:off x="5429160" y="5572080"/>
            <a:ext cx="857520" cy="18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928800" y="1785960"/>
            <a:ext cx="7143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Die Stunde ist zu End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uf Wiedersehen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Alles Gute!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642960" y="785880"/>
            <a:ext cx="757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им.И.Л. Шаги 3: Учеб. нем.яз. для 8 класса  общеобразоват. учреждений/ М.: Просвещение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им.И.Л. Шаги 3: рабочая тетрадь к учеб. нем.яз. для 8 класса  общеобразоват. учреждений/ М.: Просвещение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нтернет ресурс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: //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deutschlands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214200"/>
            <a:ext cx="840600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Heute ist der 14. November.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Montag</a:t>
            </a: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Thema: </a:t>
            </a:r>
            <a:r>
              <a:rPr b="1" lang="ru-RU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Aber jetzt ist schon längst wieder Schule!</a:t>
            </a:r>
            <a:r>
              <a:rPr b="1" lang="ru-RU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Das Schulsystem in Deutschland.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928800" y="2082960"/>
            <a:ext cx="750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ie Schule ist ein lustig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rin lernt man schöne Sac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Das ABC,  das Einmalein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Es gibt auch viel zu l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42960" y="5716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Wir wiederholen das Ged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Мои документы\немецкий\CCI25012012_00003.bmp"/>
          <p:cNvPicPr/>
          <p:nvPr/>
        </p:nvPicPr>
        <p:blipFill>
          <a:blip r:embed="rId1"/>
          <a:stretch/>
        </p:blipFill>
        <p:spPr>
          <a:xfrm>
            <a:off x="1357200" y="1411200"/>
            <a:ext cx="5643720" cy="51087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428760" y="57168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as Schulsystem in Deutsch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714240" y="5000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er 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C:\Documents and Settings\Admin\Мои документы\детсад.jpeg"/>
          <p:cNvPicPr/>
          <p:nvPr/>
        </p:nvPicPr>
        <p:blipFill>
          <a:blip r:embed="rId1"/>
          <a:stretch/>
        </p:blipFill>
        <p:spPr>
          <a:xfrm>
            <a:off x="714240" y="1428840"/>
            <a:ext cx="2637000" cy="1771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Documents and Settings\Admin\Мои документы\детсад 2.jpeg"/>
          <p:cNvPicPr/>
          <p:nvPr/>
        </p:nvPicPr>
        <p:blipFill>
          <a:blip r:embed="rId2"/>
          <a:stretch/>
        </p:blipFill>
        <p:spPr>
          <a:xfrm>
            <a:off x="714240" y="3786120"/>
            <a:ext cx="2643480" cy="19828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72000" y="2786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Kinder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500040" y="42876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Grundsch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C:\Documents and Settings\Admin\Мои документы\Мои рисунки\100OLYMP\P3160063.JPG"/>
          <p:cNvPicPr/>
          <p:nvPr/>
        </p:nvPicPr>
        <p:blipFill>
          <a:blip r:embed="rId1"/>
          <a:stretch/>
        </p:blipFill>
        <p:spPr>
          <a:xfrm>
            <a:off x="428760" y="1428840"/>
            <a:ext cx="2730240" cy="20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C:\Documents and Settings\Admin\Мои документы\нач школа 3.jpeg"/>
          <p:cNvPicPr/>
          <p:nvPr/>
        </p:nvPicPr>
        <p:blipFill>
          <a:blip r:embed="rId2"/>
          <a:stretch/>
        </p:blipFill>
        <p:spPr>
          <a:xfrm>
            <a:off x="500040" y="4071960"/>
            <a:ext cx="2625840" cy="19288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4000680" y="2857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Grund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Sch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500040" y="428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Haupschule, die Realschule, das Gymna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C:\Documents and Settings\Admin\Мои документы\Мои рисунки\Новая папка\DCIM\101MSDCF\DSC01301.JPG"/>
          <p:cNvPicPr/>
          <p:nvPr/>
        </p:nvPicPr>
        <p:blipFill>
          <a:blip r:embed="rId1"/>
          <a:stretch/>
        </p:blipFill>
        <p:spPr>
          <a:xfrm>
            <a:off x="428760" y="171468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Documents and Settings\Admin\Мои документы\реальная.jpeg"/>
          <p:cNvPicPr/>
          <p:nvPr/>
        </p:nvPicPr>
        <p:blipFill>
          <a:blip r:embed="rId2"/>
          <a:stretch/>
        </p:blipFill>
        <p:spPr>
          <a:xfrm>
            <a:off x="5572080" y="185724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C:\Documents and Settings\Admin\Мои документы\реальная 3.jpeg"/>
          <p:cNvPicPr/>
          <p:nvPr/>
        </p:nvPicPr>
        <p:blipFill>
          <a:blip r:embed="rId3"/>
          <a:stretch/>
        </p:blipFill>
        <p:spPr>
          <a:xfrm>
            <a:off x="579600" y="4214880"/>
            <a:ext cx="2492280" cy="1714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Admin\Мои документы\гимназия.jpeg"/>
          <p:cNvPicPr/>
          <p:nvPr/>
        </p:nvPicPr>
        <p:blipFill>
          <a:blip r:embed="rId4"/>
          <a:stretch/>
        </p:blipFill>
        <p:spPr>
          <a:xfrm>
            <a:off x="5643720" y="4214880"/>
            <a:ext cx="24285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285840" y="2858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Die Gesamtschule umfasst alle Schultyp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C:\Documents and Settings\Admin\Мои документы\реальная 3.jpeg"/>
          <p:cNvPicPr/>
          <p:nvPr/>
        </p:nvPicPr>
        <p:blipFill>
          <a:blip r:embed="rId1"/>
          <a:stretch/>
        </p:blipFill>
        <p:spPr>
          <a:xfrm>
            <a:off x="571680" y="4214880"/>
            <a:ext cx="2571480" cy="1768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C:\Documents and Settings\Admin\Мои документы\гимназия.jpeg"/>
          <p:cNvPicPr/>
          <p:nvPr/>
        </p:nvPicPr>
        <p:blipFill>
          <a:blip r:embed="rId2"/>
          <a:stretch/>
        </p:blipFill>
        <p:spPr>
          <a:xfrm>
            <a:off x="5214960" y="4071960"/>
            <a:ext cx="2457360" cy="1843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Documents and Settings\Admin\Мои документы\нач школа 3.jpeg"/>
          <p:cNvPicPr/>
          <p:nvPr/>
        </p:nvPicPr>
        <p:blipFill>
          <a:blip r:embed="rId3"/>
          <a:stretch/>
        </p:blipFill>
        <p:spPr>
          <a:xfrm>
            <a:off x="5143680" y="1857240"/>
            <a:ext cx="2528640" cy="1857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Мои документы\Мои рисунки\Новая папка\DCIM\101MSDCF\DSC01301.JPG"/>
          <p:cNvPicPr/>
          <p:nvPr/>
        </p:nvPicPr>
        <p:blipFill>
          <a:blip r:embed="rId4"/>
          <a:stretch/>
        </p:blipFill>
        <p:spPr>
          <a:xfrm>
            <a:off x="500040" y="1785960"/>
            <a:ext cx="2637000" cy="1977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9"/>
          <p:cNvSpPr/>
          <p:nvPr/>
        </p:nvSpPr>
        <p:spPr>
          <a:xfrm>
            <a:off x="3428280" y="785880"/>
            <a:ext cx="1714680" cy="200016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1"/>
          <p:cNvSpPr/>
          <p:nvPr/>
        </p:nvSpPr>
        <p:spPr>
          <a:xfrm flipH="1">
            <a:off x="2786040" y="785880"/>
            <a:ext cx="571680" cy="10000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3"/>
          <p:cNvSpPr/>
          <p:nvPr/>
        </p:nvSpPr>
        <p:spPr>
          <a:xfrm>
            <a:off x="3357000" y="785880"/>
            <a:ext cx="1857240" cy="420840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5"/>
          <p:cNvSpPr/>
          <p:nvPr/>
        </p:nvSpPr>
        <p:spPr>
          <a:xfrm flipH="1">
            <a:off x="3143160" y="857160"/>
            <a:ext cx="214560" cy="4000680"/>
          </a:xfrm>
          <a:prstGeom prst="line">
            <a:avLst/>
          </a:prstGeom>
          <a:ln w="10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500040" y="150012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as Schul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Grund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Haupt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Real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as Gymna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Die Gesamt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"/>
          <p:cNvSpPr/>
          <p:nvPr/>
        </p:nvSpPr>
        <p:spPr>
          <a:xfrm>
            <a:off x="50004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Wir wiederhilen die neuen 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5:36:34Z</dcterms:created>
  <dc:creator>Admin</dc:creator>
  <dc:description/>
  <dc:language>en-US</dc:language>
  <cp:lastModifiedBy>user</cp:lastModifiedBy>
  <dcterms:modified xsi:type="dcterms:W3CDTF">2015-01-26T04:28:43Z</dcterms:modified>
  <cp:revision>14</cp:revision>
  <dc:subject/>
  <dc:title>Слайд 1</dc:title>
</cp:coreProperties>
</file>