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A967-1474-4450-BA81-2315E7FD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DDA7-F2A1-416A-9B43-340BED71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4945F-0535-4EE2-8002-767EC1EB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9C1D6-EC7A-4447-9EC3-108FDFA3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F9BB2-F901-4B82-8290-95B4CACF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C32C0-70AC-4C37-9DDD-15211FDF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FD9BD-D9B5-4BC0-92FB-F9958800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FC077-6459-47C8-994E-E9537469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25B13-0F3A-4A2F-BCA4-5D426B26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69E08-5B31-4558-BFAD-108A51A3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EBD5E-1C76-41B2-9FDC-0BC84C0D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E7E2-606D-4A75-BCB1-C1D531728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12AE-131A-4A83-8145-46A50020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AA6A-B4DD-4601-9726-30BC19EA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DD09-75BD-426C-84BC-4600198D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DCF6-137F-4799-862A-6AE92CEF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2384-145B-45EA-816F-8BAC9F9A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5F07-7966-4FC3-8893-644DE2E2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BCA0-CBA3-41D2-AB6E-F1FDC208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4F91-4137-48BB-B829-BCAFD1DD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BE2E-1812-43FF-93B2-94AD1121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FE88-DE9C-4B36-BD26-8B7EDDDE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3EC1-2371-408E-BD6B-83789725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6243-4595-45F1-9E11-A8392C60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7E52-9C12-48C1-B50C-1BE86141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16B8-DA0F-4EE7-A037-2168140A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703F1-0361-4187-9E1F-1821C2B9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A6FB7-33C1-4188-B0CB-AE66037E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54D8E-3767-4E38-AE39-3D003878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795FB-E8D3-4D54-A878-250A81F5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70498-EC38-47B6-843F-D7E1A610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6989-5BD9-41D1-9768-662896DD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27C92-BD65-4CBA-BB86-49974776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33ABD-71F0-4D35-A266-0E50E494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F746B-020E-4239-9CEF-3203BEBB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073CD-9AC7-48D5-9541-CD8800D4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29EFF-298C-43A4-8F9E-8FC1AC9F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EAC6C-74F1-4BAB-99AA-274A9BD7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8E7E0-D3AF-4034-A43F-59348884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A72FB-C4FE-454B-B2E5-AA507E26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42F02-F653-48CC-95A5-D249B5CB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D86FF-6145-4D1A-8580-5FD207C7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2C7D-C555-42AC-A76B-C21B63AB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F9C03-B0A0-4AB1-975F-A22B34C5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A76F7-6524-45D1-9ACF-F0C56154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B2A8B-FE2D-4F39-96A2-98EA5D6F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DE6B2-36A8-4F9F-9178-998C205C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41AE2-3149-46A2-80B3-01035EFB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36C26-47EE-41D2-9624-128809A6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AD457-E8CE-465A-8910-F2CCC09C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B2BBE-74DF-48B8-8552-4CC89A54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B8C9D-FB7A-49C0-94FF-8D87B2AA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D7E6A-09DF-4376-ADE9-6127754B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7C47-7BD0-4EF7-8A58-3DEC9BC9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FDA27-5BC1-4C7F-8BD5-4F9B45CF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B226E-9D72-4786-BFA0-51A4F0A1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12D98-AAAB-4026-AEB2-82AE742E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D4E3A-44C0-4D8A-A42C-9B02D537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3B6A1-A589-4BF7-A17D-1911CF60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3C21A-FED1-4C93-8300-976CF7DD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E8D61-BC04-43BE-A60B-FCCCE5B7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4E3FE-C25E-42CF-B6F9-463D9B90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FC630-62B8-4790-AA10-FCF5B330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E9C07-8157-4E1E-B2A3-8F8A27AD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A16E-3E47-4B4E-AD8F-FE9148C8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02A32-DFD0-4869-BEBE-EF956972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7EC2D-8EBD-4068-A6B5-42A50424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7D23E-5547-4D4D-A08C-046FFB84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2016E-29A9-4568-80FC-C1C53BD3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0DB3F-BB69-4B63-8C44-4F4D2769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8E10C-9412-4F3C-94C6-DB302CE9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249A2-4414-49F5-BD09-9C752B4B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F0FB2-A528-4E24-9CB3-2DDDCB1D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04BEF-66BB-4BC6-B9F5-BFAF65A2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6AE1E-B708-4B85-894F-73628B05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B4D8-9850-4B74-8464-266E3B29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D0C82-6C05-4DD9-9E39-E4897F80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05630-A3A6-4BB5-A2EC-62EA04DC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7423D-94BF-4B7F-B26C-369DBA03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AEE1C-79A1-4808-A396-B074B1B6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CABA1-F76C-425A-8174-F02EFCFE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A6A5E-B364-42D8-A7D3-C786E891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5CBD2-C7CF-4611-B18A-4EAC60EE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D77B6-9FB4-4174-9B1E-817B1CA9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2B0AC-C64C-494D-B812-8B25A785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5F5A4-B1C7-4FAE-8C49-B62BC0B1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15BA-364E-4885-8E4B-44B05FFA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423E3-21DF-45D7-9D50-004035D0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4E891-9BCE-4DEF-B3C5-97C5FC44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57E7B-CED3-40B8-8035-71298F74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F3177-C411-415E-908D-E105C89C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F300B-2325-4738-81D2-0B4C9F2A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B95D1-3ECB-468E-946B-8715631A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AF08F-046D-4098-9089-59EF1327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DEBCA-9E15-4504-927C-516CE107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249E0-C6D4-4BCB-AAD6-21B4C560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D7AD7-744A-403A-B91C-8D6D95AD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EC86-69FF-49AA-AD6D-5781FB1E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34718-4C3D-4B6D-AC97-5BA49A11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AE9BF-2C2D-4ADD-8D0B-B89C5469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32202-5284-41A2-AA53-6CDD4C8F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35F05-C0B2-4E70-AC41-5A6C27ED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2C610-939E-4ECD-A4A5-1BBAE505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B4A96-394F-451F-98A1-EAD0C402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EE04C-5D89-4D32-91FF-44F1E3ED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9DE00-C8BB-4A96-8E66-12591EF3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C1CB6-AA40-4C61-8AE2-E19C9A00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D2254-FC76-4744-8E94-0BD90A34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C298-6A2D-4677-B62A-0658DA14FE27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9A41-3C6E-4A8E-AF52-380B00A9CD8A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5248-E265-43AB-8505-D2E045FE86AD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A047-ED51-4C12-8530-FB6EF9435957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A027-A391-4EC9-8672-78BA9EE48E4E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E583-9CCD-4F74-BA66-A031647FCBC2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C4C6-1EE3-4DFA-A126-1301E85041CC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4706-0D99-49C7-9B7B-544600EB8F72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6250-67A8-4C60-8A90-60223C5BBBCA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1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53880" y="566640"/>
            <a:ext cx="8601120" cy="25783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214880" y="3786120"/>
            <a:ext cx="4271760" cy="20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444f61"/>
                </a:solidFill>
                <a:latin typeface="Verdana"/>
              </a:rPr>
              <a:t>Подготовила:</a:t>
            </a:r>
            <a:r>
              <a:rPr b="0" i="1" lang="ru-RU" sz="1700" spc="-1" strike="noStrike">
                <a:solidFill>
                  <a:srgbClr val="444f61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444f61"/>
                </a:solidFill>
                <a:latin typeface="Times New Roman"/>
                <a:ea typeface="Times New Roman"/>
              </a:rPr>
              <a:t>Чернышова Оксана Бикаировна</a:t>
            </a:r>
            <a:endParaRPr b="0" lang="en-US" sz="17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444f61"/>
                </a:solidFill>
                <a:latin typeface="Times New Roman"/>
                <a:ea typeface="Times New Roman"/>
              </a:rPr>
              <a:t>Учитель немецкого языка </a:t>
            </a:r>
            <a:endParaRPr b="0" lang="en-US" sz="17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444f61"/>
                </a:solidFill>
                <a:latin typeface="Times New Roman"/>
                <a:ea typeface="Times New Roman"/>
              </a:rPr>
              <a:t>Муниципального бюджетного образовательного учреждения «Средняя общеобразовательная школа № 2 п. Переволоцкий» </a:t>
            </a:r>
            <a:endParaRPr b="0" lang="en-US" sz="17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444f61"/>
                </a:solidFill>
                <a:latin typeface="Times New Roman"/>
                <a:ea typeface="Times New Roman"/>
              </a:rPr>
              <a:t>Оренбургской области</a:t>
            </a:r>
            <a:endParaRPr b="0" lang="en-US" sz="17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401" name="Picture 1" descr="P1010038"/>
          <p:cNvPicPr/>
          <p:nvPr/>
        </p:nvPicPr>
        <p:blipFill>
          <a:blip r:embed="rId2"/>
          <a:stretch/>
        </p:blipFill>
        <p:spPr>
          <a:xfrm>
            <a:off x="142920" y="3286080"/>
            <a:ext cx="3571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Box 2"/>
          <p:cNvSpPr/>
          <p:nvPr/>
        </p:nvSpPr>
        <p:spPr>
          <a:xfrm>
            <a:off x="428760" y="35712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sieht schematisch das deutsche Bildungssystem aus. Lest bitte von oben nach unten und kommentiert 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Скругленный прямоугольник 3"/>
          <p:cNvSpPr/>
          <p:nvPr/>
        </p:nvSpPr>
        <p:spPr>
          <a:xfrm>
            <a:off x="3571920" y="1357200"/>
            <a:ext cx="2428920" cy="50004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Grundschu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(4 Jah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ая соединительная линия 5"/>
          <p:cNvSpPr/>
          <p:nvPr/>
        </p:nvSpPr>
        <p:spPr>
          <a:xfrm flipH="1">
            <a:off x="2357280" y="1714680"/>
            <a:ext cx="1285920" cy="42840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ая соединительная линия 7"/>
          <p:cNvSpPr/>
          <p:nvPr/>
        </p:nvSpPr>
        <p:spPr>
          <a:xfrm flipH="1">
            <a:off x="4785840" y="1857240"/>
            <a:ext cx="1800" cy="57168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ая соединительная линия 9"/>
          <p:cNvSpPr/>
          <p:nvPr/>
        </p:nvSpPr>
        <p:spPr>
          <a:xfrm>
            <a:off x="6000840" y="1714680"/>
            <a:ext cx="1143000" cy="50004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Скругленный прямоугольник 10"/>
          <p:cNvSpPr/>
          <p:nvPr/>
        </p:nvSpPr>
        <p:spPr>
          <a:xfrm>
            <a:off x="1285920" y="2214720"/>
            <a:ext cx="2143080" cy="64296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Hauptschu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(5 Jah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Скругленный прямоугольник 11"/>
          <p:cNvSpPr/>
          <p:nvPr/>
        </p:nvSpPr>
        <p:spPr>
          <a:xfrm>
            <a:off x="3929040" y="2214720"/>
            <a:ext cx="1857240" cy="57132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Realschu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(6 Jah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Скругленный прямоугольник 12"/>
          <p:cNvSpPr/>
          <p:nvPr/>
        </p:nvSpPr>
        <p:spPr>
          <a:xfrm>
            <a:off x="6500880" y="2214720"/>
            <a:ext cx="1928880" cy="64296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Gymna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(6 Jah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ая соединительная линия 15"/>
          <p:cNvSpPr/>
          <p:nvPr/>
        </p:nvSpPr>
        <p:spPr>
          <a:xfrm flipH="1">
            <a:off x="2286000" y="2786040"/>
            <a:ext cx="1440" cy="71424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Скругленный прямоугольник 16"/>
          <p:cNvSpPr/>
          <p:nvPr/>
        </p:nvSpPr>
        <p:spPr>
          <a:xfrm>
            <a:off x="1285920" y="3500280"/>
            <a:ext cx="2000160" cy="78588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Lehre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Berufssch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(3 Jah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ая соединительная линия 18"/>
          <p:cNvSpPr/>
          <p:nvPr/>
        </p:nvSpPr>
        <p:spPr>
          <a:xfrm flipH="1">
            <a:off x="2284560" y="4286160"/>
            <a:ext cx="1440" cy="57312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кругленный прямоугольник 19"/>
          <p:cNvSpPr/>
          <p:nvPr/>
        </p:nvSpPr>
        <p:spPr>
          <a:xfrm>
            <a:off x="1285920" y="4643280"/>
            <a:ext cx="2071800" cy="64296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Fachsch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(2 Jah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ая соединительная линия 21"/>
          <p:cNvSpPr/>
          <p:nvPr/>
        </p:nvSpPr>
        <p:spPr>
          <a:xfrm flipH="1">
            <a:off x="4212720" y="2786040"/>
            <a:ext cx="1800" cy="71604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кругленный прямоугольник 22"/>
          <p:cNvSpPr/>
          <p:nvPr/>
        </p:nvSpPr>
        <p:spPr>
          <a:xfrm>
            <a:off x="3429000" y="3500280"/>
            <a:ext cx="1643040" cy="78588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Fach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Obersch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(3 Jah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ая соединительная линия 24"/>
          <p:cNvSpPr/>
          <p:nvPr/>
        </p:nvSpPr>
        <p:spPr>
          <a:xfrm flipH="1">
            <a:off x="5643720" y="2857680"/>
            <a:ext cx="1440" cy="64440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Скругленный прямоугольник 25"/>
          <p:cNvSpPr/>
          <p:nvPr/>
        </p:nvSpPr>
        <p:spPr>
          <a:xfrm>
            <a:off x="5214960" y="3500280"/>
            <a:ext cx="1785960" cy="78588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Fach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Gy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(3 Jahr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ая соединительная линия 27"/>
          <p:cNvSpPr/>
          <p:nvPr/>
        </p:nvSpPr>
        <p:spPr>
          <a:xfrm flipH="1">
            <a:off x="6571800" y="2857680"/>
            <a:ext cx="1800" cy="71568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ая соединительная линия 29"/>
          <p:cNvSpPr/>
          <p:nvPr/>
        </p:nvSpPr>
        <p:spPr>
          <a:xfrm flipH="1">
            <a:off x="8071920" y="2857680"/>
            <a:ext cx="1800" cy="71568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Скругленный прямоугольник 30"/>
          <p:cNvSpPr/>
          <p:nvPr/>
        </p:nvSpPr>
        <p:spPr>
          <a:xfrm>
            <a:off x="7358040" y="3500280"/>
            <a:ext cx="1571760" cy="78588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Gy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Oberstu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(3 Jahr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ая соединительная линия 32"/>
          <p:cNvSpPr/>
          <p:nvPr/>
        </p:nvSpPr>
        <p:spPr>
          <a:xfrm flipH="1">
            <a:off x="4214520" y="4286160"/>
            <a:ext cx="34920" cy="100008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Скругленный прямоугольник 33"/>
          <p:cNvSpPr/>
          <p:nvPr/>
        </p:nvSpPr>
        <p:spPr>
          <a:xfrm>
            <a:off x="3500280" y="528624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Fachhochsch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ая соединительная линия 35"/>
          <p:cNvSpPr/>
          <p:nvPr/>
        </p:nvSpPr>
        <p:spPr>
          <a:xfrm>
            <a:off x="2320200" y="5286240"/>
            <a:ext cx="36360" cy="35748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ая соединительная линия 37"/>
          <p:cNvSpPr/>
          <p:nvPr/>
        </p:nvSpPr>
        <p:spPr>
          <a:xfrm flipV="1">
            <a:off x="2357280" y="5571720"/>
            <a:ext cx="1143000" cy="7164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Скругленный прямоугольник 38"/>
          <p:cNvSpPr/>
          <p:nvPr/>
        </p:nvSpPr>
        <p:spPr>
          <a:xfrm>
            <a:off x="6215040" y="4929120"/>
            <a:ext cx="2500200" cy="100008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Hochsch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Universi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6 Jah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ая соединительная линия 40"/>
          <p:cNvSpPr/>
          <p:nvPr/>
        </p:nvSpPr>
        <p:spPr>
          <a:xfrm flipH="1">
            <a:off x="6571800" y="4073400"/>
            <a:ext cx="1800" cy="85752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ая соединительная линия 42"/>
          <p:cNvSpPr/>
          <p:nvPr/>
        </p:nvSpPr>
        <p:spPr>
          <a:xfrm>
            <a:off x="8143920" y="4286160"/>
            <a:ext cx="0" cy="64476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ая соединительная линия 44"/>
          <p:cNvSpPr/>
          <p:nvPr/>
        </p:nvSpPr>
        <p:spPr>
          <a:xfrm>
            <a:off x="5429160" y="5572080"/>
            <a:ext cx="857520" cy="180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Box 1"/>
          <p:cNvSpPr/>
          <p:nvPr/>
        </p:nvSpPr>
        <p:spPr>
          <a:xfrm>
            <a:off x="928800" y="1785960"/>
            <a:ext cx="7143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Die Stunde ist zu End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Auf Wiedersehen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Alles Gute!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1"/>
          <p:cNvSpPr/>
          <p:nvPr/>
        </p:nvSpPr>
        <p:spPr>
          <a:xfrm>
            <a:off x="642960" y="785880"/>
            <a:ext cx="7572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Используемая 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Бим.И.Л. Шаги 3: Учеб. нем.яз. для 8 класса  общеобразоват. учреждений/ М.: Просвещение, 200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Бим.И.Л. Шаги 3: рабочая тетрадь к учеб. нем.яз. для 8 класса  общеобразоват. учреждений/ М.: Просвещение, 200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Интернет ресурс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http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: //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www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deutschlands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ru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57120" y="214200"/>
            <a:ext cx="8406000" cy="59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Heute ist der 14. November.</a:t>
            </a:r>
            <a:endParaRPr b="0" lang="en-US" sz="28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                                                                       </a:t>
            </a:r>
            <a:r>
              <a:rPr b="0" lang="en-US" sz="2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Montag</a:t>
            </a:r>
            <a:endParaRPr b="0" lang="en-US" sz="28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Thema: </a:t>
            </a:r>
            <a:r>
              <a:rPr b="1" lang="ru-RU" sz="36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«</a:t>
            </a:r>
            <a:r>
              <a:rPr b="1" lang="en-US" sz="36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Aber jetzt ist schon längst wieder Schule!</a:t>
            </a:r>
            <a:r>
              <a:rPr b="1" lang="ru-RU" sz="36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»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6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Das Schulsystem in Deutschland.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"/>
          <p:cNvSpPr/>
          <p:nvPr/>
        </p:nvSpPr>
        <p:spPr>
          <a:xfrm>
            <a:off x="928800" y="2082960"/>
            <a:ext cx="7500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Die Schule ist ein lustig Ha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Drin lernt man schöne Sach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Das ABC,  das Einmalein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Es gibt auch viel zu lach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2"/>
          <p:cNvSpPr/>
          <p:nvPr/>
        </p:nvSpPr>
        <p:spPr>
          <a:xfrm>
            <a:off x="642960" y="57168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Wir wiederholen das Gedic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C:\Documents and Settings\Admin\Мои документы\немецкий\CCI25012012_00003.bmp"/>
          <p:cNvPicPr/>
          <p:nvPr/>
        </p:nvPicPr>
        <p:blipFill>
          <a:blip r:embed="rId1"/>
          <a:stretch/>
        </p:blipFill>
        <p:spPr>
          <a:xfrm>
            <a:off x="1357200" y="1411200"/>
            <a:ext cx="5643720" cy="5108760"/>
          </a:xfrm>
          <a:prstGeom prst="rect">
            <a:avLst/>
          </a:prstGeom>
          <a:ln w="0">
            <a:noFill/>
          </a:ln>
        </p:spPr>
      </p:pic>
      <p:sp>
        <p:nvSpPr>
          <p:cNvPr id="406" name="TextBox 2"/>
          <p:cNvSpPr/>
          <p:nvPr/>
        </p:nvSpPr>
        <p:spPr>
          <a:xfrm>
            <a:off x="428760" y="57168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Das Schulsystem in Deutschl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Box 1"/>
          <p:cNvSpPr/>
          <p:nvPr/>
        </p:nvSpPr>
        <p:spPr>
          <a:xfrm>
            <a:off x="714240" y="500040"/>
            <a:ext cx="78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Der Kindergar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3" descr="C:\Documents and Settings\Admin\Мои документы\детсад.jpeg"/>
          <p:cNvPicPr/>
          <p:nvPr/>
        </p:nvPicPr>
        <p:blipFill>
          <a:blip r:embed="rId1"/>
          <a:stretch/>
        </p:blipFill>
        <p:spPr>
          <a:xfrm>
            <a:off x="714240" y="1428840"/>
            <a:ext cx="2637000" cy="17715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C:\Documents and Settings\Admin\Мои документы\детсад 2.jpeg"/>
          <p:cNvPicPr/>
          <p:nvPr/>
        </p:nvPicPr>
        <p:blipFill>
          <a:blip r:embed="rId2"/>
          <a:stretch/>
        </p:blipFill>
        <p:spPr>
          <a:xfrm>
            <a:off x="714240" y="3786120"/>
            <a:ext cx="2643480" cy="198288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4572000" y="278604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 Kinder +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 Gar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1"/>
          <p:cNvSpPr/>
          <p:nvPr/>
        </p:nvSpPr>
        <p:spPr>
          <a:xfrm>
            <a:off x="500040" y="42876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Die Grundsch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C:\Documents and Settings\Admin\Мои документы\Мои рисунки\100OLYMP\P3160063.JPG"/>
          <p:cNvPicPr/>
          <p:nvPr/>
        </p:nvPicPr>
        <p:blipFill>
          <a:blip r:embed="rId1"/>
          <a:stretch/>
        </p:blipFill>
        <p:spPr>
          <a:xfrm>
            <a:off x="428760" y="1428840"/>
            <a:ext cx="2730240" cy="20476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C:\Documents and Settings\Admin\Мои документы\нач школа 3.jpeg"/>
          <p:cNvPicPr/>
          <p:nvPr/>
        </p:nvPicPr>
        <p:blipFill>
          <a:blip r:embed="rId2"/>
          <a:stretch/>
        </p:blipFill>
        <p:spPr>
          <a:xfrm>
            <a:off x="500040" y="4071960"/>
            <a:ext cx="2625840" cy="1928880"/>
          </a:xfrm>
          <a:prstGeom prst="rect">
            <a:avLst/>
          </a:prstGeom>
          <a:ln w="0">
            <a:noFill/>
          </a:ln>
        </p:spPr>
      </p:pic>
      <p:sp>
        <p:nvSpPr>
          <p:cNvPr id="414" name="TextBox 4"/>
          <p:cNvSpPr/>
          <p:nvPr/>
        </p:nvSpPr>
        <p:spPr>
          <a:xfrm>
            <a:off x="4000680" y="2857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 Grund +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Sch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Box 1"/>
          <p:cNvSpPr/>
          <p:nvPr/>
        </p:nvSpPr>
        <p:spPr>
          <a:xfrm>
            <a:off x="500040" y="42876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Die Haupschule, die Realschule, das Gymnas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4" descr="C:\Documents and Settings\Admin\Мои документы\Мои рисунки\Новая папка\DCIM\101MSDCF\DSC01301.JPG"/>
          <p:cNvPicPr/>
          <p:nvPr/>
        </p:nvPicPr>
        <p:blipFill>
          <a:blip r:embed="rId1"/>
          <a:stretch/>
        </p:blipFill>
        <p:spPr>
          <a:xfrm>
            <a:off x="428760" y="1714680"/>
            <a:ext cx="2762280" cy="20714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C:\Documents and Settings\Admin\Мои документы\реальная.jpeg"/>
          <p:cNvPicPr/>
          <p:nvPr/>
        </p:nvPicPr>
        <p:blipFill>
          <a:blip r:embed="rId2"/>
          <a:stretch/>
        </p:blipFill>
        <p:spPr>
          <a:xfrm>
            <a:off x="5572080" y="1857240"/>
            <a:ext cx="2533680" cy="18576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6" descr="C:\Documents and Settings\Admin\Мои документы\реальная 3.jpeg"/>
          <p:cNvPicPr/>
          <p:nvPr/>
        </p:nvPicPr>
        <p:blipFill>
          <a:blip r:embed="rId3"/>
          <a:stretch/>
        </p:blipFill>
        <p:spPr>
          <a:xfrm>
            <a:off x="579600" y="4214880"/>
            <a:ext cx="2492280" cy="17143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C:\Documents and Settings\Admin\Мои документы\гимназия.jpeg"/>
          <p:cNvPicPr/>
          <p:nvPr/>
        </p:nvPicPr>
        <p:blipFill>
          <a:blip r:embed="rId4"/>
          <a:stretch/>
        </p:blipFill>
        <p:spPr>
          <a:xfrm>
            <a:off x="5643720" y="4214880"/>
            <a:ext cx="242856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1"/>
          <p:cNvSpPr/>
          <p:nvPr/>
        </p:nvSpPr>
        <p:spPr>
          <a:xfrm>
            <a:off x="285840" y="28584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Die Gesamtschule umfasst alle Schultyp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6" descr="C:\Documents and Settings\Admin\Мои документы\реальная 3.jpeg"/>
          <p:cNvPicPr/>
          <p:nvPr/>
        </p:nvPicPr>
        <p:blipFill>
          <a:blip r:embed="rId1"/>
          <a:stretch/>
        </p:blipFill>
        <p:spPr>
          <a:xfrm>
            <a:off x="571680" y="4214880"/>
            <a:ext cx="2571480" cy="17683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7" descr="C:\Documents and Settings\Admin\Мои документы\гимназия.jpeg"/>
          <p:cNvPicPr/>
          <p:nvPr/>
        </p:nvPicPr>
        <p:blipFill>
          <a:blip r:embed="rId2"/>
          <a:stretch/>
        </p:blipFill>
        <p:spPr>
          <a:xfrm>
            <a:off x="5214960" y="4071960"/>
            <a:ext cx="2457360" cy="1843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C:\Documents and Settings\Admin\Мои документы\нач школа 3.jpeg"/>
          <p:cNvPicPr/>
          <p:nvPr/>
        </p:nvPicPr>
        <p:blipFill>
          <a:blip r:embed="rId3"/>
          <a:stretch/>
        </p:blipFill>
        <p:spPr>
          <a:xfrm>
            <a:off x="5143680" y="1857240"/>
            <a:ext cx="2528640" cy="18576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Documents and Settings\Admin\Мои документы\Мои рисунки\Новая папка\DCIM\101MSDCF\DSC01301.JPG"/>
          <p:cNvPicPr/>
          <p:nvPr/>
        </p:nvPicPr>
        <p:blipFill>
          <a:blip r:embed="rId4"/>
          <a:stretch/>
        </p:blipFill>
        <p:spPr>
          <a:xfrm>
            <a:off x="500040" y="1785960"/>
            <a:ext cx="2637000" cy="197784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ая соединительная линия 9"/>
          <p:cNvSpPr/>
          <p:nvPr/>
        </p:nvSpPr>
        <p:spPr>
          <a:xfrm>
            <a:off x="3428280" y="785880"/>
            <a:ext cx="1714680" cy="200016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ая соединительная линия 11"/>
          <p:cNvSpPr/>
          <p:nvPr/>
        </p:nvSpPr>
        <p:spPr>
          <a:xfrm flipH="1">
            <a:off x="2786040" y="785880"/>
            <a:ext cx="571680" cy="100008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ая соединительная линия 13"/>
          <p:cNvSpPr/>
          <p:nvPr/>
        </p:nvSpPr>
        <p:spPr>
          <a:xfrm>
            <a:off x="3357000" y="785880"/>
            <a:ext cx="1857240" cy="420840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ая соединительная линия 15"/>
          <p:cNvSpPr/>
          <p:nvPr/>
        </p:nvSpPr>
        <p:spPr>
          <a:xfrm flipH="1">
            <a:off x="3143160" y="857160"/>
            <a:ext cx="214560" cy="400068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2"/>
          <p:cNvSpPr/>
          <p:nvPr/>
        </p:nvSpPr>
        <p:spPr>
          <a:xfrm>
            <a:off x="500040" y="1500120"/>
            <a:ext cx="8143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Das Schul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Die Grundsch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Die Hauptsch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Die Realsch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Das Gymnas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Die Gesamtsch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3"/>
          <p:cNvSpPr/>
          <p:nvPr/>
        </p:nvSpPr>
        <p:spPr>
          <a:xfrm>
            <a:off x="500040" y="42876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Wir wiederhilen die neuen 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r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15:36:34Z</dcterms:created>
  <dc:creator>Admin</dc:creator>
  <dc:description/>
  <dc:language>en-US</dc:language>
  <cp:lastModifiedBy>user</cp:lastModifiedBy>
  <dcterms:modified xsi:type="dcterms:W3CDTF">2015-01-26T04:28:43Z</dcterms:modified>
  <cp:revision>14</cp:revision>
  <dc:subject/>
  <dc:title>Слайд 1</dc:title>
</cp:coreProperties>
</file>