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094-3B9F-463E-86B0-CB4509ED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C81-6432-4129-AD76-363820C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B02-4CE7-4EBC-92FE-DB339053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D99-5415-4CE9-B851-D966D1D7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3398-C0E7-4CF3-B80D-964166B7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B2AF-682F-4CDD-9222-D2198060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EFA-3C22-4376-9FD6-1C2117C6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B756-5588-4FCF-9B3D-DCBF3C82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CCB4-8C69-4A36-8242-5DC99657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4B9E-E949-44A3-99DE-5F55AED8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1612-B907-4498-B6D3-C76CCDE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A69-5F1C-46C4-AD09-74DF2975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AAD4-8726-406C-B2B6-320FB35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F81C-F01F-4F94-83EB-3B0A4F9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7541-8440-41D6-98A9-00E34345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3EAE-2016-40C8-BD2F-0E3AB7BD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5948-CE74-4DCB-8005-7F570505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8C9-0718-4B0F-B6C3-772BAE1B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4DC-10A7-4E40-AFBD-3774A798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4C4-6539-4649-8B0E-518DE8E2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252-1A59-400D-8EAD-3F519D4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A51-A2A2-4AFB-8E13-748774E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71B-DC9D-4291-AF58-D0A7DDB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BDC-47F3-421C-8785-1C9D060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BC35-C37E-4784-B46D-A8BC07484C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B03-4A4A-4E9E-9E48-8CFEB8BA76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bcbcb"/>
                </a:solidFill>
                <a:latin typeface="Times New Roman"/>
              </a:rPr>
              <a:t>Презентация спортивного календаря «Искусство быть здоровым» в рамках проекта «Олимпионик».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16000" y="4437000"/>
            <a:ext cx="611172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БДОУ №26 Калининского р-на г. Санкт-Петербург. 2014 г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и: Васильева В. 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ванова С. В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аничка лыжного спор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2" name="Объект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671640" cy="5160960"/>
          </a:xfrm>
          <a:prstGeom prst="rect">
            <a:avLst/>
          </a:prstGeom>
          <a:ln w="0">
            <a:noFill/>
          </a:ln>
        </p:spPr>
      </p:pic>
      <p:pic>
        <p:nvPicPr>
          <p:cNvPr id="93" name="Объект 5" descr=""/>
          <p:cNvPicPr/>
          <p:nvPr/>
        </p:nvPicPr>
        <p:blipFill>
          <a:blip r:embed="rId2"/>
          <a:stretch/>
        </p:blipFill>
        <p:spPr>
          <a:xfrm>
            <a:off x="4859280" y="1273320"/>
            <a:ext cx="3672000" cy="518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лимпийская страничк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5" name="Объект 8" descr=""/>
          <p:cNvPicPr/>
          <p:nvPr/>
        </p:nvPicPr>
        <p:blipFill>
          <a:blip r:embed="rId1"/>
          <a:stretch/>
        </p:blipFill>
        <p:spPr>
          <a:xfrm>
            <a:off x="755640" y="1239840"/>
            <a:ext cx="3816360" cy="5383080"/>
          </a:xfrm>
          <a:prstGeom prst="rect">
            <a:avLst/>
          </a:prstGeom>
          <a:ln w="0">
            <a:noFill/>
          </a:ln>
        </p:spPr>
      </p:pic>
      <p:pic>
        <p:nvPicPr>
          <p:cNvPr id="96" name="Объект 12" descr=""/>
          <p:cNvPicPr/>
          <p:nvPr/>
        </p:nvPicPr>
        <p:blipFill>
          <a:blip r:embed="rId2"/>
          <a:stretch/>
        </p:blipFill>
        <p:spPr>
          <a:xfrm>
            <a:off x="4746600" y="1252440"/>
            <a:ext cx="378612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Хоккей бывает разный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21040" cy="537516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7" descr=""/>
          <p:cNvPicPr/>
          <p:nvPr/>
        </p:nvPicPr>
        <p:blipFill>
          <a:blip r:embed="rId2"/>
          <a:stretch/>
        </p:blipFill>
        <p:spPr>
          <a:xfrm>
            <a:off x="4572000" y="1176480"/>
            <a:ext cx="3887640" cy="542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адионы и ледовые арен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1" name="Объект 6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3816360" cy="536112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9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778200" cy="53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33:17Z</dcterms:created>
  <dc:creator>пользователь</dc:creator>
  <dc:description/>
  <dc:language>en-US</dc:language>
  <cp:lastModifiedBy>1</cp:lastModifiedBy>
  <dcterms:modified xsi:type="dcterms:W3CDTF">2015-01-26T17:41:28Z</dcterms:modified>
  <cp:revision>25</cp:revision>
  <dc:subject/>
  <dc:title>Откуда в наш дом приходит вода и куда она уходит.</dc:title>
</cp:coreProperties>
</file>