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49D-EEA3-496F-9FCB-F376BAC7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D87-7FA9-460C-BF23-BE46EA8A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C57-7356-447C-AB6C-09917F97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01E-81F7-4D4B-BB48-D6627884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E831-FC51-41A6-BAE7-332058F1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3BF8-44A8-4EC0-8CDA-98CED3C1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7ED5-ECAE-4CFB-9F5F-3A701B58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858E-25E3-4DB2-AB60-3608071B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3E80-FA6D-4B32-B998-A49328E3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E82-1433-4187-B034-C4B093C9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2F7B-753E-4B26-A7B1-8972B3CE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02E-CACD-433D-A686-6BBCAF1C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CC8-1DAD-40B9-9011-B65B0CD5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001A-DE4F-48EF-93B4-79BB8053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2D34-AF79-48C8-80EF-2EA2B6BA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5C68-212B-45CE-8998-54955907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4E2-928A-43E3-B2E0-6FB7CEC6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A2B-E3D8-467F-A18B-1538C56E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D76-95A1-43F7-BC24-8E164132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D8E-2690-42C7-B4AC-8BC66F49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E63-9133-41B6-BE2F-E38C8B31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98D-1FB2-48E9-B664-249CCD8C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7CE-6CD4-40AE-AF29-F212AE3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01F-EDEA-4CE4-AB9E-23695E6B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6583-6AE8-43F7-BFF5-7FDEAAE403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1D6D-568E-4167-AE36-297C77EDB5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bcbcb"/>
                </a:solidFill>
                <a:latin typeface="Times New Roman"/>
              </a:rPr>
              <a:t>Презентация спортивного календаря «Искусство быть здоровым» в рамках проекта «Олимпионик».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16000" y="4437000"/>
            <a:ext cx="611172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БДОУ №26 Калининского р-на г. Санкт-Петербург. 2014 г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и: Васильева В. 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ванова С. В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аничка лыжного спор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2" name="Объект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671640" cy="5160960"/>
          </a:xfrm>
          <a:prstGeom prst="rect">
            <a:avLst/>
          </a:prstGeom>
          <a:ln w="0">
            <a:noFill/>
          </a:ln>
        </p:spPr>
      </p:pic>
      <p:pic>
        <p:nvPicPr>
          <p:cNvPr id="93" name="Объект 5" descr=""/>
          <p:cNvPicPr/>
          <p:nvPr/>
        </p:nvPicPr>
        <p:blipFill>
          <a:blip r:embed="rId2"/>
          <a:stretch/>
        </p:blipFill>
        <p:spPr>
          <a:xfrm>
            <a:off x="4859280" y="1273320"/>
            <a:ext cx="3672000" cy="518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лимпийская страничк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5" name="Объект 8" descr=""/>
          <p:cNvPicPr/>
          <p:nvPr/>
        </p:nvPicPr>
        <p:blipFill>
          <a:blip r:embed="rId1"/>
          <a:stretch/>
        </p:blipFill>
        <p:spPr>
          <a:xfrm>
            <a:off x="755640" y="1239840"/>
            <a:ext cx="3816360" cy="5383080"/>
          </a:xfrm>
          <a:prstGeom prst="rect">
            <a:avLst/>
          </a:prstGeom>
          <a:ln w="0">
            <a:noFill/>
          </a:ln>
        </p:spPr>
      </p:pic>
      <p:pic>
        <p:nvPicPr>
          <p:cNvPr id="96" name="Объект 12" descr=""/>
          <p:cNvPicPr/>
          <p:nvPr/>
        </p:nvPicPr>
        <p:blipFill>
          <a:blip r:embed="rId2"/>
          <a:stretch/>
        </p:blipFill>
        <p:spPr>
          <a:xfrm>
            <a:off x="4746600" y="1252440"/>
            <a:ext cx="378612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Хоккей бывает разный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21040" cy="5375160"/>
          </a:xfrm>
          <a:prstGeom prst="rect">
            <a:avLst/>
          </a:prstGeom>
          <a:ln w="0">
            <a:noFill/>
          </a:ln>
        </p:spPr>
      </p:pic>
      <p:pic>
        <p:nvPicPr>
          <p:cNvPr id="99" name="Объект 7" descr=""/>
          <p:cNvPicPr/>
          <p:nvPr/>
        </p:nvPicPr>
        <p:blipFill>
          <a:blip r:embed="rId2"/>
          <a:stretch/>
        </p:blipFill>
        <p:spPr>
          <a:xfrm>
            <a:off x="4572000" y="1176480"/>
            <a:ext cx="3887640" cy="5421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адионы и ледовые арен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1" name="Объект 6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3816360" cy="536112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9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778200" cy="53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33:17Z</dcterms:created>
  <dc:creator>пользователь</dc:creator>
  <dc:description/>
  <dc:language>en-US</dc:language>
  <cp:lastModifiedBy>1</cp:lastModifiedBy>
  <dcterms:modified xsi:type="dcterms:W3CDTF">2015-01-26T17:41:28Z</dcterms:modified>
  <cp:revision>25</cp:revision>
  <dc:subject/>
  <dc:title>Откуда в наш дом приходит вода и куда она уходит.</dc:title>
</cp:coreProperties>
</file>