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0FA-FBD3-4F6E-ABD1-B62BC1A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626-D325-4696-B1E0-3EBC9DA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30FBA-F2F1-4E14-9DD0-9AE317F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846D-BB2A-4D85-A210-C6A1EE1C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963A7-8148-4150-B15F-28E7CA3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37E99-FA10-4F47-B1D9-6A78D7E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F2E3-D83C-4F36-8F3D-655D070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38C97-AD1C-4F4E-82F6-F538D2A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588C8-B16F-420B-9170-F63BA77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8148B-E2D7-4FE6-92C2-AC1D2B1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52908-A9B5-4E50-922F-67E1D6B1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F71F5-E3F5-48C0-BC45-5EE4748C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6AC-B991-4C8D-B7E8-2E20E5FF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E6ED11-5F0E-4C25-B8BF-D437135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5AB74-3BA3-4AA7-98AD-F3D29E0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567186-918B-492E-943B-EEF12B69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4485B-77C2-4CA4-A3A3-379A111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332287-8036-44BB-A4DF-2C172CB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61AF3E-8099-44A1-9B93-C86DD56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7775F6-B88A-4F7E-9EAB-D3988BA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D25463-689D-475D-97B6-F23BBED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3B0BB2-0119-45B6-93D9-A6DB91BA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49C234-5AC1-4C62-8444-1BB348B0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DDE-0848-43B8-B859-A058ACFF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3B68F-F2E5-4D73-8D59-907992DC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AEFFC-6799-45BC-82D6-3247D9C6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EFB3-2305-45A0-8ACD-D67C40C5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8FD6-FBD7-44C7-B21E-526FE8CF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3403-4260-48BB-81A1-E05D099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79819-73EF-41F5-ACA1-589A7BB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8A2B-FFB5-4ED1-9B86-7E0E109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0BA4-87A3-4E68-BAB0-F55FD57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414D-CC1E-4FE5-ABBE-75B31F7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25AF-B242-4A5E-B099-62520AC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CD7-00C5-4C38-8301-E65E7D89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5628-F490-416B-B05D-AA8939B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7F6D-974C-44BE-86C6-E21ABB36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C991D-7D27-4C72-B7A6-54A9F5FA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9EE28-DFAB-4AD4-A09C-69468266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DA9DE-F5BB-4059-A7D5-55551A0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0F44F-2A45-4B0D-AB6D-05670E3B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BA7A9-86E2-41BE-AB6C-0C5A7ED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7845B-4D86-40A7-BFBC-FAEE7AA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A24DB-C47C-46E2-BA58-89CF3CF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80C72-28AD-4D3B-915D-F9B2233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D8C8-3B70-48A3-A43D-9BE5EE00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D3633-C462-4546-969D-6CACF9E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5863B-7FF6-4F20-A377-47F50FA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A946B-6E3C-4C4B-9180-2E6C1F7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CF50F-A0D3-4F97-B1B7-A2DD22C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2FF8B-1F79-423B-BE00-84116069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1D425-BBFD-4781-890C-48F5BFAA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7FDF4-D8C4-4019-944E-9240D699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BC17F-A0E8-44C4-B679-F92839EF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6A342-12A7-4D60-918F-2A02782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72E6F-A98F-471D-BA51-A5E7083C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D24-79CF-46F5-A51B-46A8B687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E5395-E85B-4054-A659-3DEAF847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FD1C9-55A3-4C3B-8F5F-B98BD0A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3520C-FBDA-429F-997F-E21AFF3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77609-FD18-4FA2-BABF-57322CD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07E9E-1A6C-4051-A740-650B1A29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B48BE-B827-400A-B32B-9E0528C5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6F12C-A5B6-4959-9F80-5D768EBD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2FE9A-9263-427F-B6F6-9D9B6B64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97115-DF26-425B-A1AF-1732D879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C4956-8C9A-4C06-A736-C28C9C0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612-66A9-4804-97FB-3E67EE81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81314-BB49-4AD6-BBD0-AA20A9A1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2A675-8A3B-42D3-8682-409AA8D4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C5E1C-8147-4452-B055-A638A57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E33B9-92D6-493E-AE1A-232C5EB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B0F55-0029-4E55-AB41-9C37FBB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62776-C3A2-48AB-8B4B-0F255305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BE58B-C569-4480-A29F-A794761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0BE5B-7EC9-4D78-9BE0-720822D5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CF780-396C-4B96-8B0C-21BA6389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D237A-0349-48BC-A3E8-D4DF3021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CFE9-CCF8-43BB-BDF6-D2935B5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69042-3B32-444D-8C22-0AE42CF2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94090-277D-4870-967D-D8969E77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8358D-84A9-4C0C-B555-BB11AF6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D57A5-962F-42C6-B63B-0C7D835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39083-99AC-4F95-9C4C-D562418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C5944-5FAF-47A6-9BC8-4151386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C39BF-CB9F-46A2-B589-9214ACB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C3C4B-5836-4319-BBF5-6958678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21051-2BAE-4B58-9494-F431D3E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3F187-39CB-45F5-8010-3CB39D6D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B37-8C12-4B54-830E-B5BA4BB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AAA7D-5DB7-4002-886D-8D4E639A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64F0D-34F5-45B4-8D28-2E55D8DC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48015-B1D0-4301-8175-9EB6D268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9BAA3-5CD8-49B1-9086-097CC7C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80AC9-29E3-460C-A77E-CB471E56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704C3-7B80-41F1-B4A4-821CD33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F421-D7A2-4058-BD95-2A91566C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25F8C-C7AB-4D40-8D7E-B07FAC5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67102-CFC6-4DE4-9BE4-9C5B780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5942C-8480-4A3E-B547-B386C69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C071-7766-4DE7-93FF-0B71C5D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27582-6E32-4DB6-A08D-604C0390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83973-583E-44DC-BE10-D829BCE5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71315-C38E-4067-A2CC-3E939882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CADAD1-FA93-4F5E-B918-3F3C3FDB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8C46A-9B81-4F1A-AD44-F62503C8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0FDA5-4752-4A76-87C4-4AADCEE0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2AD96-B071-4198-844B-B059EB0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1FD7B-ED0B-43C9-B30A-C7935B6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4F25C-3796-4250-8164-0BBC42D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1893F-8226-4F68-B636-F0CA2A1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A6E-E564-43B6-A3BF-D837A677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8232-2AE4-44D8-A553-667EEF4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A197E-6E30-4677-AD47-B5BB040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ED005-963D-4738-97AC-1B5AE4B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F9C8D-595D-488F-981F-91E01C73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EF177-1D0A-48F5-8ACF-1A4B3826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FD2DD-B33C-4967-9001-F9DFFFBE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0DA1E-E315-4150-B1F0-F56E96E3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3D063-60E3-4451-AFBC-A48FBEAD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A5D64-0D7A-450D-BE4D-DB3BB24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22591-CDC5-4D61-8A67-5B9C0B81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F5331-260B-4C0D-AEF7-3D7CB5F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AE01-29AB-4A4D-AFAC-A21D2C2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02609-50BB-4E27-9BC0-1B20AB9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393B3-1B0E-4095-9DD0-13B8603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32F7F-19BC-45E5-9768-598B4E85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D4B56-0CC9-476F-9289-909571A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58E5A-6A7D-4F91-B77D-88614DC0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22828-F30A-4708-A34B-989326E9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8BF16-6439-4F22-9585-E504D3A6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988C7E-6C6D-4132-B2A1-3FFC2A20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DCCDD4-E134-4DD1-B64A-86EFE23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74DD18-F8AE-4C0C-ABE9-A0C2B1F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FF1-CADA-4BDC-8794-F11AFC2C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C0BDEF-BEFF-4987-B473-F3C758B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B5B328-BD11-4DC6-B60F-F9F34BE1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8B7B6F-DA07-464D-BE5D-C2C1F882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EBAE7D-0DB6-4261-A3EC-73D0162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57234C-4776-4298-9F45-5E9FD02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797BEA-3B0F-4107-85AE-683A04D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B7A22A-863A-4C46-B7FB-D22C5F1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FC0F7A-27EB-44CF-BB2D-C6E1AB1F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1D1CAF-5118-4AB2-9631-8BC28E8E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C78343-23D0-42AB-9269-9E09D418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552-C257-403E-9D85-9EF714E2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6CA6EB-3A11-43BB-9E2B-32043D1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DF74F6-B06B-40EE-8520-BC490440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E91C78-2738-4757-B7D9-7C2813EC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A1250A-EC78-425D-8C8A-576638F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F6D04CB-0103-4AB0-8B43-08478BD3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5603FE-52FF-4A1C-AA49-018863F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D183B2-6971-4DCB-8B66-8D6502F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25E341-1EAB-4F4D-AC20-37582B9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99C990-539A-47CC-B1B4-2AFA4DA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78DB71-6197-49DB-92CD-0E718DB8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0AAD-A7A1-4375-97A6-1C8F4CB1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4F7608-EA49-421A-8D52-91226D6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4B361-B0F0-40EF-B084-8EA2B1C5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07EED-F4EF-4233-9F85-F03BA9FF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4359B-9000-4B63-882F-1475FD3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BE7F1-C891-4F7B-926B-8D1BA84A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84F08-DF99-4D01-BC5E-7DD6150F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FFFAF-3E50-452D-B2D4-6ADC038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C02C6-2629-4A29-8B4A-F4C1C5A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0C674-6043-4EF0-A337-C294057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C1C43-1CE3-4348-ADF4-600C3B3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F89F-AE33-48F5-9621-F096F75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17A33-01ED-4F78-BEBE-71AE4AEA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BA795-F59E-401F-A065-26B48481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B060F-AFC2-4E0C-A031-3E0A3A34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7747BB-D742-4DF7-BAD6-BAD56961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DE339C-7F54-4249-AC23-A365B76B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971D4B5-2A84-44E5-8CE1-0847FB7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9B8F7E-9503-4EDA-8EB3-800E212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3A5698-5ED5-49B7-897D-06BDE71C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AD480C-C7C4-4590-92DB-A430DCF4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0E4296-F55E-40F5-BAE2-5DBA472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3831-3A10-4071-BB92-21B5A68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4A24A6-D7D2-4640-865B-5BD8E90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4D4CD00-EDB2-443E-8654-8B5D8AC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BCA5E1-D969-45C6-94B6-39D1181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AD3870-1B80-46C8-B5F0-B7B6A761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EBCFAF-46B5-4FFB-B8C1-051ACE67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7483-F967-4C8D-B8F8-2B2FB6D9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7016-E2AA-42D6-BCF2-A732AF2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5E75-6312-4482-9FA4-CF633F0F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1D-5471-47F1-A817-29CA237E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AA4D-A844-49A0-ACBA-73152080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DA21-B748-439C-AF2C-91E6234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8E27-A8F5-4C86-8B59-11FA74CA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F966-01B2-4E01-826D-2AC182D2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B3FA-8A84-4595-B741-38DA0A4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D833-6F63-4B6E-8FC8-E8F8C695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3460-A789-48B1-A063-AEA3F7E0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26DB-717D-44C6-A415-2EB17043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B7D2-C405-4BC8-B6B2-6DC82212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F8B6-75C5-462F-9AB5-2D111EF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EF6-C144-4329-B031-8A489FF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E515-B6CC-4AAC-9F35-35E550F6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9F30C-E479-49BC-9414-26507365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4337-9044-4D9F-84AF-24693C31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9160-1060-4877-92A5-EA1E525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D835-CF1D-43DF-8EBB-C3DCA7B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B141-E8E0-4DD0-ABC4-F05ECE5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A8F4-BB09-4D1B-9190-5FDC41F5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15C7-3AF4-49A7-AA03-3DFB7E0F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22C0-75A8-4E84-A724-748A3D85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F9E0-0980-4020-AF5C-379CE77E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84E-ECCA-47F7-83BF-2DBE500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5FEE-5116-47E3-8D91-DAD9EF0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DD33-F120-4176-B4E9-8675BC1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CFDB-4D02-4BFD-86F1-9D73C28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B507-82A9-4226-A52F-BA7CE1F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83ADD-C403-475F-B8A6-4BA50FC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811C-A7E6-4335-A32D-37A8683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F5CB-3E55-4D6A-86C7-37FC04C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86E0-C324-4A22-BA5D-BD555986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D9B9-4FAB-46E9-A36A-39A01A6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A690-093D-4B10-BD33-23B2750A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D4A-12C6-4159-B870-5DB1B317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F06B9-D693-45E3-9F1F-57BCC4D6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157BF-F894-4320-9EF1-38156FB9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23C8-DE43-4471-ABE9-E050047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5680-F22B-4741-880D-1553382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E72C-58A4-404F-BB09-F66ABBB5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04FB-8618-4B93-A6FC-50CBB1E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92186-04CE-4663-940E-731295C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6776-05B1-4482-A23B-D15B4C0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43A4-55CB-4CD2-A134-E7289D9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22F2-0594-415D-B1CA-6882B36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8CD-629C-4126-A3A9-7FC3FF9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EF1B-BF67-4B1D-B35F-CA9AA444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B51D-1FBD-456D-A324-8435B529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056E-D949-4DDC-B1A5-1666FBF2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0E4A-90A3-496F-883C-DB36C6A2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67EA-4010-488B-BE22-8A8C89B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D091-F68C-4D29-BCB7-5E3E934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65E5-7420-4429-9A70-5792D8F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D458-41A7-4337-8B9B-C8A0EAE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D933-4E3D-4870-A2EC-4661B728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3CD64-54CA-4F44-9326-DE371FE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ED2-D948-4931-8BCB-8923838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A763-6514-446E-AC0D-674266E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ACA48-C60F-4923-82B1-4E593A5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B6E8-F1F4-491F-8202-827A3161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DE9B-A753-466F-9BC0-7E5EEB0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4228-1528-4342-91C0-A3DD8668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ACBB-EB59-411E-B1B8-C653136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E010-8615-4328-9AE9-7FB4B40C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888B-11E0-4835-B586-0E187C5B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658E-03E0-49E6-B709-1B7AB65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8D15-2F3F-4B8D-82F8-24DF626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605-888B-4577-9607-3DC925D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1AA3-565D-4065-8CC4-C5608A9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ECDD-86D7-47F1-8854-7480509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6DB95-5102-4F0F-AF4C-05FBB6C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83F7-FF03-4E1D-BF01-7DC467C2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CF0C-105E-4471-AAB3-234E917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CEB0D-21E4-4EFD-A2EE-4F424EC1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14CC-0309-4A3F-92DB-74E5886F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E8041-F019-4DFE-BD66-9EA8C010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272FA-AC2A-462F-BA2F-CB57DA9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C334-7252-4D44-961C-64C8E869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C07-C1BE-4486-9E11-9FEC6E1B92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2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09D-7AEA-4F94-8B2E-D0AFE9F9AE8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3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4547-FFC8-4E9C-9C27-5EDE1855593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1CF-9706-44A4-B375-57D540E6B22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D6B-9E01-4E51-BC0F-A417BD90F7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586E-B2E7-44B0-9ED7-A6B0A253E43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E81-BCAF-44A9-85A0-679716191E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6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7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8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9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0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1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4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438-0534-487B-9D7E-2B5AC9F5F7A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5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A71-A97F-4BE1-8BF4-F97CACE8047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7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5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970-8DF0-44EA-BC66-EC67851EF8D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2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3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4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7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8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9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0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5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A3BB-BA61-46EE-ADD1-C37072C84B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ftr" idx="5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4BF-54C8-4BB3-B3BF-A41B24E181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Num" idx="5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3C1A-0417-4909-B17C-3BE75CD6A74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dt" idx="5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ftr" idx="6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5C51-4344-4E0E-8B8C-84E1A3E1E14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9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0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1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2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sldNum" idx="6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7F0-B637-4961-92BD-E492B8BBCC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dt" idx="6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ftr" idx="6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65B9-E08C-4AE8-85E6-BDE2B155AA3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EDF-056A-4CE5-9DB1-BCDE0950831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E0E-B71F-4021-9FFB-0D69911330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656F-9F9F-4337-B275-A1B05A7A9FB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2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33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3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850-E638-4FBF-9E64-165D7E416AB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9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9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92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9849-386A-401A-A211-B09E39C0E01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5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6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7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3F1A-FDE6-46C6-BEC6-1B2D94F8432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5e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 txBox="1"/>
          <p:nvPr/>
        </p:nvSpPr>
        <p:spPr>
          <a:xfrm>
            <a:off x="896760" y="820440"/>
            <a:ext cx="7350480" cy="290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клоняющееся поведение детей, как нарушение процесса социализац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285480" y="214200"/>
            <a:ext cx="866916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держки из писем-обращений к самым близким и дорогим людям, моим родител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отвечайте на мои глупые и бессмысленные вопросы. Я просто хочу обратить на себя ваше внимани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беспокойтесь о том, что мы проводим слишком мало времени вместе. Стоит побеспокоиться о том, как мы его с вами проводим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забывайте о том, что мне нужны ваши понимание и поддержка. Я думаю, что вы и без меня это знает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Относитесь ко мне так, как вы относитесь к своим друзьям. Я тоже хочу быть вашим лучшим другом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МНИТЕ, что у вас есть самое великое чудо на свете. Это чудо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– ВАШ РЕБЁНОК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Не забывайте, уважаемые родители, ваши добрые мысли и тёплые пожелания, которые вы дарите детям щедро каждый день, если не сейчас, то через годы, вернутся вам сториц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риска  в воспитании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00040" y="928440"/>
            <a:ext cx="8454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онимание личностного развития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риятие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соответствие ожиданий родителей возможностям ребе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гибкость в отношения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равномерность отношений родителей в различные годы жизни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последовательность в отношении с деть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риска  в воспитании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28400" y="1071360"/>
            <a:ext cx="8429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согласованность отношений между родителями; 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тревож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оминан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гиперсоциа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доверие к возможностям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недостаточная отзывчивость, нечуткость род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противоречив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веты родителям подростка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0" y="785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Любите своего ребенка и дорожите его любовью к вам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унижайте своего ребенк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угрожайте своему ребенк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налагайте запрето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опекайте своего ребенка там, где можно обойтись без опек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идите на поводу у своего ребенк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звивайте в себе чувство юмор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читайте своему ребенку бесконечные нотаци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удьте всегда последовательны в своих требования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е лишайте своего ребенка права быть ребенк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ак сохранить хорошие отношения со взрослыми детьми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лушать и слыш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вашего реб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сегда быть честны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меть увлечь ребенка каким-то полезным и интересным занятием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йти общие интересы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ужно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-настоящему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есоваться их жизнью,  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читать нравоуч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 обсуждать волнующие их вопрос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ть учебную мотив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ерпение, терпение и еще раз  терпение и …. люб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веты наших взрослых дете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2876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гать во всех начинан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веря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носиться как к взрослы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 общие интересы, разделять мо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держивать в трудных ситуац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ешить выглядеть как я хоч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юбить меня и говорить об э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олить самим решать свои пробл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а и обязанности в равной мере(работа-отды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ушать то, что говорят дети и не воспринимать в шты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веты наших взрослых дете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8584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вторгаться в личное простра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читать нота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рать постоянно и по пустяк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наказывать за оценки, относиться спокой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делать выводы, пока всё не выясня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попрека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приводить в пример себя, брата, сестру, друз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бнимать, не целовать, не просить рассказать что-нибудь новень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rebuchet MS"/>
              </a:rPr>
              <a:t>КАК </a:t>
            </a:r>
            <a:r>
              <a:rPr b="1" lang="ru-RU" sz="4000" spc="-1" strike="noStrike">
                <a:solidFill>
                  <a:srgbClr val="00b0f0"/>
                </a:solidFill>
                <a:latin typeface="Trebuchet MS"/>
              </a:rPr>
              <a:t>ОБЩАТЬСЯ</a:t>
            </a:r>
            <a:r>
              <a:rPr b="1" lang="ru-RU" sz="4400" spc="-1" strike="noStrike">
                <a:solidFill>
                  <a:srgbClr val="00b0f0"/>
                </a:solidFill>
                <a:latin typeface="Trebuchet MS"/>
              </a:rPr>
              <a:t> С РЕБЁНКОМ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1680" y="1676520"/>
            <a:ext cx="8540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Разговаривать с детьми, ДИСКУТИРОВАТЬ, спорить, задавать вопросы, создавать ситуации морального выбора, говорить о реальной жизни, о здесь и сейчас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10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езультаты воспитания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Социальные знания, которые накапливает младший школьни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луче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пыта переживания и позитивного отношения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базовым ценностям(семья, труд, любовь к родному краю, сохранение его богатств, соблюдение законов и правил)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луче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пыта самостоятельного общественного действи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Теперь  определите, на какой ступени воспитания находится ваш ребёнок и ученик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Если мы ничего не изменим…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Нас ждёт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ания инерции </a:t>
            </a: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со стороны молодёжи,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мания пассивности, наплевательства и бесконечного недовольства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оциально-педагогическая запущ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глубокий психический дискомфорт, вызванный неблагополучием семейных взаимо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тклонения в состоянии психического и физического здоровья и развития, возрастные кризы, акцентуации характе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надзорность, отрицательное влияние окружающей сред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2" descr="C:\Users\психолог\Desktop\дневник наркоманки\дневник наркоманки книга.jpg"/>
          <p:cNvPicPr/>
          <p:nvPr/>
        </p:nvPicPr>
        <p:blipFill>
          <a:blip r:embed="rId1"/>
          <a:stretch/>
        </p:blipFill>
        <p:spPr>
          <a:xfrm>
            <a:off x="285840" y="34920"/>
            <a:ext cx="4189320" cy="682308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3" descr="C:\Users\психолог\Desktop\дневник наркоманки\дневник книга.jpg"/>
          <p:cNvPicPr/>
          <p:nvPr/>
        </p:nvPicPr>
        <p:blipFill>
          <a:blip r:embed="rId2"/>
          <a:stretch/>
        </p:blipFill>
        <p:spPr>
          <a:xfrm>
            <a:off x="4714920" y="0"/>
            <a:ext cx="40258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210" name="Picture 2" descr="http://azbez.com/sites/azbez.com/files/images/zvereva_v._lic._166-11_3.preview.jpg"/>
          <p:cNvPicPr/>
          <p:nvPr/>
        </p:nvPicPr>
        <p:blipFill>
          <a:blip r:embed="rId1"/>
          <a:stretch/>
        </p:blipFill>
        <p:spPr>
          <a:xfrm>
            <a:off x="5868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РУШЕНИЕ ПРОЦЕССА СОЦИАЛИЗ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71320" y="2017440"/>
            <a:ext cx="83833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Неподготовленность к жизни в обществе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-это неумение принять его ценности, государственность, правовую и нравственную позици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99"/>
                </a:solidFill>
                <a:latin typeface="Arial"/>
              </a:rPr>
              <a:t>Последстви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Чувствительн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Раним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Жестокост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 txBox="1"/>
          <p:nvPr/>
        </p:nvSpPr>
        <p:spPr>
          <a:xfrm>
            <a:off x="566280" y="571680"/>
            <a:ext cx="8001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Georgia"/>
              </a:rPr>
              <a:t>Если бы мы, дорогие родители и педагоги</a:t>
            </a:r>
            <a:r>
              <a:rPr b="1" i="1" lang="ru-RU" sz="3600" spc="-1" strike="noStrike">
                <a:solidFill>
                  <a:srgbClr val="00b0f0"/>
                </a:solidFill>
                <a:latin typeface="Georgia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умели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прислушиваться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к детям.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Не воспринимать враждебно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их ошибки, умели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прощать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даже постыдные поступки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мы были бы прекрасными воспитателям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183" name="Picture 4" descr=""/>
          <p:cNvPicPr/>
          <p:nvPr/>
        </p:nvPicPr>
        <p:blipFill>
          <a:blip r:embed="rId1"/>
          <a:srcRect l="2637" t="18230" r="34609" b="11457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56760" y="213840"/>
            <a:ext cx="834084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ы родителям младших школь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1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авное в ваших взаимоотношениях с ребёнком – взаимопонимание. Чтобы его установить, вы должны проявлять инициативу и не таить обид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2 –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жизнь родителей, их привычки, взгляды оказывают гораздо большее влияние на ребёнка, чем долгие нравоучительные бесе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3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лько физические упражнения, в том числе и на уроках физкультуры, могут смягчить вред  от  многочасового сидения за партой. Так что не спешите освобождать ребёнка от физкуль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4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олько времени в неделю вы проводите со своими детьми?  Полтора часа в неделю?! Обязательно подумайте, чем будет заниматься ваш ребёнок в часы, свободные  от  учёбы  и приготовления уроков. Ребёнок должен твёрдо знать: времени на безделье  и скуку  у него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285480" y="0"/>
            <a:ext cx="84121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ы родителям младших школь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5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елание взрослых избежать разговоров с детьми на некоторые темы приучает их к мысли , что эти темы запретны. Уклончивая или искажённая информация вызывает у детей необоснованную тревог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6 –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ебёнку необходимы положительные и отрицательные эмоции. Для успешного развития ребёнка полезно изредка отказывать ему в чём-то, ограничивать его желания, тем самым подготавливая его к преодолению подобных ситуаций в будущ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ет 7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вы уже успели наделать ошибок в воспитании, вам будет труднее, чем в начале пути. Но если в своём ребёнке вы выделите хотя бы капельку хорошего и будете потом опираться на это хорошее в процессе воспитания, то получите ключ к его душе и достигнете хороши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4438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ыдержки из писем-обращений к самым близким и дорогим людям, моим родителя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14200" y="128556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ортите меня. Я прекрасно знаю, что я не должен получать всего, о чём прошу. Я просто проверяю вас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обращайте внимания на мои глупые выходки. Ваше повышенное внимание поможет их закрепи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делайте мне замечания в присутствии других людей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ытайтесь меня всё время поучать. Вы удивились бы, узнав, как  хорошо я знаю, что такое «хорошо» и что такое «плохо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придирайтесь ко мне и не ворчите. Иначе мне придётся притвориться глухим, чтобы как-то защитить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Не требуйте от меня объяснений по поводу плохого поведения. Я не смогу его сразу объяснить. Я попытаюсь сам себе и вам объяснить своё поведение, но на это нужно врем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 Не испытывайте слишком сильно мою честность. Меня легко испугать, при этом я начинаю вра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5-01-26T06:53:53Z</dcterms:modified>
  <cp:revision>49</cp:revision>
  <dc:subject/>
  <dc:title>PowerPoint Presentation</dc:title>
</cp:coreProperties>
</file>