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C60-2DF8-4DB9-A443-3E305476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445-4A33-4903-99C2-A7C022CB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C61E2-F652-43E7-BB15-C3F8A5C7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8E007-B81A-4720-BA67-4231A85E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1F5A3-9A5E-49A1-B58A-6799A7B1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AAE6E-76DF-4981-B9BF-67EA059B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5CF66-F6CD-4100-AFC3-857F319E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4375E-03B7-4361-8CD8-5A35160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57017-DD4B-4DF6-A922-4812E551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6AF5D-3686-4555-BD6B-5F6B0807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815D1-5A98-4646-9CCE-CBBA830B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976688-FB0E-400D-9FC1-FE00D362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305-043D-4C70-9B83-15C0D985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075618-CAB0-4950-9075-FD16058F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91BD3-4EDB-401F-869D-79EFCCA9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43AF52-3D27-4BCA-BC68-E6192E43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79D7BD-CF0F-417C-9040-0FAE7F1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D442F7-66DC-4E9F-B210-7DC2FE9C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C48CAD-9949-4154-8058-73AE501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791A36-2456-4407-B8B6-DD4577C2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AF4331-ECEE-4505-A37B-06BEC756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817027-19CD-49AE-A5A4-A0CBB7AB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0BB7F7-FD22-4EE8-98E0-FFF5638B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B8F-3332-48F3-8359-ACD6C817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DC1DD6-52DD-4F35-A7C0-FABD708C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E47EC-1609-4C00-9218-3E5F61F2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36BB9-8C04-4B66-997A-B08670CC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38595-B795-44F1-A7C3-A441F6C0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20C3C-7D0A-4AAD-81FF-F4F30D6C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70A80-8297-4EDF-B1AE-507167FD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34C0-7D77-4956-A0BC-DD37CCE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A151A-5A32-4657-A7D0-249D36A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98A66-3B8E-4F6F-BB9B-C631339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D403B-48B6-4934-9A5E-A92E1113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EC47-F4C9-4E95-A1C9-77412B86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16877-3B46-4407-8311-F7488C7B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8B956-4A85-4B05-A8A3-9BE95715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44EAC-80F5-47BD-B955-41887F22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29A8A-708C-4B84-8668-E94F1DBC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95978-ECF9-4C1A-B03C-3978C275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99631-0418-4949-B52D-6C3FBEAC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FCC10-AEF9-47CC-9054-C22660C9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E8C2F-B712-49FA-9A97-DACAE8CC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B4E6C-6D73-4307-AD16-6E25EE7E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E3DFD-81C3-4E99-A8FF-38D18881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AAAF-0FF8-453E-AFB4-1649135F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A36F2-8250-4088-9B53-AC5B0652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3B7D2-B1EE-4AF6-A60A-E1ABAA0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BCF6C-AAF7-4F33-893B-702691C6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00C51-9123-4BB2-887A-82AFC47F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07FB5-0693-4F51-B1DD-E7264035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BFEC0-E795-4371-9C17-6EF83B11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77A59-E745-4C25-9D24-9CA938EE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3657F-2ED0-4723-828D-3C76906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08E62-DB5E-439A-95C2-F8FD2131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F4E24-72DF-4527-A63D-B40D1914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E402-A1C4-4B5C-B176-226048E0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880A9-559D-4C56-9D92-E1D21F09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E9239-E206-470B-BAAE-F5837B8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782E4-C17C-4260-B34B-8716923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3F141-E5F3-47CB-8C87-EC562DB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7F0D0-F7C0-46FB-8C94-D4292EF1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BC2D2-8C5F-46C4-82EA-0E871AED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16694-3981-4134-9748-D22500FC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D98CD-5786-4196-A75D-3833F29E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A93FA-8948-49BB-84BC-B96B5FC6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96357-B169-4870-9BC5-F8BD7ADF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B6F5-C2EF-436A-871F-FDDB7488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A688D-0536-4F74-87BB-4827C056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EA99D-F1F6-4A23-B59A-0E687A1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80F39-D3CF-4D24-B8FC-95AE7369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1498C-E545-4FD1-B8CB-B2DFB4FC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42E1E-334B-4B1C-83D0-BD31A78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B7A97-B5FF-483A-9331-755F319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2EB01-2FCF-4451-BD28-E2C48687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761E7-3F91-4BD4-B034-B5163885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42F16-2B4B-4C43-8F66-BD36ACF7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3448B-D7AD-45BF-AB25-76E7A751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876A-E8E8-42ED-AE85-66E265DC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5608F-437A-4685-95FE-7DDEAD13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386F2-4664-4621-ACD0-2337F386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8F893-B1C2-49E0-98EA-C13282C4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6F550-CFFB-4A96-ADDB-08161553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22BDB-940F-43AE-AEB6-1A3173C4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0A140-B5E0-4EC4-8315-9BCA0A5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C02B3-C9FA-4617-BC94-F1E00B1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04E70-177D-48A7-8DDA-6E91FD80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EF4AA-2FA8-48E8-9D4B-4D689C0C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C3145-F109-4F3B-8838-80C2A001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3DFB-4C21-4914-A21B-6E3CDB46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15E3A-9C18-4370-96F8-BE19730B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EBF8B-F2FB-491E-90B4-4082658E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57184-3ACA-4C2B-A86E-F8583E15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0A447-62E3-4B2F-AF8C-4D1E0BC5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5D8B8-18AC-4305-AA16-A7AFF37B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30BB3-1B4C-42EB-BE0A-36E5214F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A019F-9C1E-441C-A840-2E3DA9A0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9E711-9225-44FC-8120-EC3C9DA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66938-6679-4F9E-A90C-F17D25D4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CDD96-E790-4C7C-A172-1B57CC22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6727-ADCF-41CA-BDFC-207CF362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B9283-1DEC-4D6F-8C74-EAFFDBA4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AB01E-2498-4303-AF70-36116C79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B00F6-4C44-4E38-AA25-CB538D8B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16E7A-41BC-461A-81DF-52CFC866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644C17-BA21-4906-ABB0-87A3DAA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84760-073C-4751-9A99-E5F55581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F4DDB-9490-4555-B38E-8B24054F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A62EB2-DDB1-4387-9EC0-940790C4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D9976-FE24-4A6F-A312-926863EF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D837D-F5D2-4368-8F1C-C8B09558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694-3DDF-42F3-8456-7D154C11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0293-BABC-45DA-8C1F-93BF50EA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FD402-2E79-47B4-A2F7-DD3F85A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73B93-4FE4-4E06-9FF4-1E704ED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D904A-3461-49A6-9CCC-018C2937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2ECBC8-C964-4F07-9EB4-9E47107A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2C87A-1F02-4DFE-B29D-82AA66F8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F2310-AA2B-4C39-B1E6-C50E27F9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16EC61-6F52-44E9-945A-E4170A1C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2334B-5D8E-4BD2-AEAB-00B0B58A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B969A-224C-49F5-B09A-222F33F5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6C28D-0941-49A5-BFCF-A0846026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75C7-B075-43BC-93ED-2458D8A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DC3DC-8DB4-499E-AEFE-AFA466C5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AAAD1-526C-48D0-B6DC-4C90336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565D0-7C9B-44F2-B0AB-771834A9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EFBEA-B6B4-4B47-822A-C38BAA0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0599B-7C35-44DD-AA59-387AB335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BDEE5-31A4-4BC5-B7C3-594CE0F0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BA3CA-D22F-41DC-A7B9-C1DFDE6A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C23C567-C904-472C-AAF9-D8F895EE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0A0B2C-D331-4DB9-B89E-0A56921D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027597-BB19-4AC7-B6A9-AC392A4C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FDA7-A9E9-4EB5-9345-4222A43A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EA81D9-E237-4805-BE7A-9D40381F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B6C39C-06B5-427B-9C04-6D43D52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6E0D47-A81E-4BBB-BC32-EE713146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B0E1374-0ECB-41EC-845D-677E673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2115A0-28EB-4945-885A-49A864AC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90D5D0C-B15D-4EA6-8675-3E9EB51E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2D3D649-5B82-4DBE-9EC0-27CB7B18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2670302-D259-4633-819B-3788AA9A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DF5003-B148-4B5B-A73B-AD77F33A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1FD96B-BAA8-43F3-811F-1B6E6EFE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7FA4-4195-499D-8052-03F61F63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7F6124-CD3D-4C02-8C3C-675A797C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5C99CD5-BF5E-4513-85F2-C209CCD6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D7B00E-4E79-4D7F-9CD1-1B9D0FED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0AB1AB3-6E7C-49CB-AA55-ECFB042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D42931F-2D70-4BDA-AFE9-7E335745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77B0B1-2529-421B-B2E3-1D3311A3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0BDB98-E06C-4CE9-86CD-A3898060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22BA9C8-719A-40AB-8760-5AA892E4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F41EFCF-CA73-4C08-9C27-553AA0F8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71BE8C-3635-4FF1-9F56-3036761A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6193-83D5-45BE-90AF-B07E2D72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1EA2ED-ED7D-40F8-86E1-447C13C2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B1F9A-06A8-4036-B0C6-2C357E84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E09B83-ACE3-4FDF-9878-4F00266A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98BB05-7772-4595-B6C6-08E10908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4E7E97-CA27-4B52-B82A-88D83887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88D238-4228-4507-BAF3-30579EE6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A8C658-DD14-4ABE-A6C8-946117DD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C374E-E4EB-4447-84C0-C552C440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A9A9B-E45F-407E-8303-0F68D2C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6288DB-6A9B-4924-BC90-311F3A17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83C0F-6D41-4EFF-A23F-7797978C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CD1D9-C806-41D5-99EB-65AAAAAC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4494D0-47DF-4BE7-B97A-43E33A60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3B49F-C4D4-4CD5-A818-61CA6FCF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B8EC886-ADE5-4AF9-AC6E-857132E7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3789734-A2AA-4AA9-8693-6A38786F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9FF413C-F8B2-4BCC-A287-3A17333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6153899-2557-4B04-A489-D471BDFB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C3C83EC-4FB0-40E5-89AD-2C49C3C6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666AC2-9DA5-42F9-9AB2-C2980AEF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CC79EAC-CE25-493E-A508-2D15B258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7400-1399-411F-BF97-747CA486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3D7C381-3DA0-4996-B6EE-6C43F91E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9B438B7-8C68-43E7-AAB1-59C7CAD5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861FC1-8819-4DAB-A062-05BD5471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9BD301-957A-4BD0-A7A8-6DCC1574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7359B1F-C222-4573-AF59-1A35E52D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FC97-A3A9-4BC1-8FFC-740F92B8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690C-632D-4C48-994D-2A8C443B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604B-A137-46CA-A39D-2DFBD3A5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7D5-181B-405C-A281-7304DA67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12CDA-8957-48B1-8A58-712CB4B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9E4B0-A7ED-4142-806F-A1DF99AD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5566-4A63-452B-8AA7-191012DE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E13A-36C3-4364-8B2C-FAD1463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051C-B393-446E-B5E2-68ECA37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06F6F-F702-4F3D-B695-25E93E0E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7311-C20A-4A07-982C-183E4C90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19E58-D414-4275-A4D5-E3892DD7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E514-0D28-407A-8283-67E7E50D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995C-4BC5-4EF2-A65E-01C90736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EC7-E39C-46A6-B359-98DE0459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80EAB-1D46-4F8B-940F-887A59D4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202A-F8E0-487F-B452-714052AF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733CC-17E2-4B6A-97C1-084D2FF9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48AD-558C-4C49-9B8A-FE4164E2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FF07-1BFB-42C2-B988-1BB12AE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E91D-EFBA-4834-A70C-6E49F593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5D26-674E-4163-A108-27FD1C40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2B3E1-C749-48F6-AD19-BE11F32C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34D4-E96D-463B-BF54-2E26D54F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CC74A-3676-464A-B766-69F0B35D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13E-5309-4780-B77E-406B3D5D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A39E-1EBC-4FDA-8028-25D8BCE7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7252-86E4-4AD2-954B-4B3DD6E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49C47-5396-4CD0-AFDC-036E371C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0D8EA-69EB-406B-AFCB-381E42BD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EF024-D16C-4907-8C04-BAD135C5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EAF86-98FB-4A9E-B180-D34CDDC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C92E8-548F-476A-8011-ED850CD5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560E7-84D1-43B0-8B94-C33FFEB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3AD84-CAE3-4182-B421-C304809C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D7264-0C5F-4E38-93DC-FF78E884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105-7837-40AF-B4AE-2F14BEE0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82EA2-EF3B-497B-9BEB-35A50D61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02CC-4D0F-4A27-A77A-EDDA1E7B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8DB7-5D67-486B-A498-2C0358E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2B9CF-FCAF-430C-A3C0-421D5F80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6A7DC-D46D-4195-9349-995617AA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50D6E-D24A-4E86-95AC-A8C553CD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FADF4-0457-4121-B0BE-E63027B9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C2E81-CC97-4AA4-A1C3-08BE770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A8CDE-67E8-4EEF-8C0F-BA89F8F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FB81-2956-482A-958B-790D3733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957-4D1B-49F7-824E-CCC4CC93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22DD6-287F-4223-A140-4382C1B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83589-59C0-47A8-BCC5-9FF2F39D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07FAF-2814-4206-BA57-5496BB2A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08D78-FCE7-42C1-8EFE-2D36784C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B54C-374F-4D39-A8FB-08D59D61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1CA2-952E-45B6-B23B-74B4613A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E2252-21AF-4EDE-8A73-125A69DE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71CB7-2334-4F92-9030-5FFCA83E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51C92-D266-4509-8AA1-207148DD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57292-9D37-43C6-95B1-216DE65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AD8-A8AF-46DE-8BCD-29C0FC4B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00F77-BA17-43A1-A492-703CC46C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78DB9-5768-42F6-88B5-CB4DB41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F295E-0452-4ABA-9D31-26C20295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247CA-B325-4D7A-A02C-C88910F5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1E38D-31BE-4F67-BD03-0CF38B4A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EA9BC-0770-4AB0-93EB-55799294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EB26D-6236-4C54-A13B-96F74819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B2C13-9AE2-4216-99E3-5809CF53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1D216-0896-4EAC-A978-B0141B4F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782B9-9266-44C6-B7EB-A2B22E69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826-6BC6-42B7-9BB1-AC6002B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27F64-69BD-4297-8320-7DBBF6F5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EA98F-D91E-4E0B-BA6C-C42A463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19CC7-45F2-4963-A710-4080CFCF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FDF3-3A79-42D3-89E3-CE89831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EACA2-E492-476A-BB67-68C079EE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721B-C56D-4A87-BF97-7DC32A86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5B86B-DB3D-4C64-847B-EA544350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3A02F-DAA0-4CAB-A669-CB1BC519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DFA6E-6873-443A-BE98-D5525192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CABCA-1F50-4DBA-A53F-C31BB5DF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43F3-55D0-40B7-9C8D-E26AF23FC5D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2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5B2F-B132-4EB0-9E1A-4ADAD43EB7B5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3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60B-741E-4F14-929D-5C3AA4497DD8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2669-6E4C-4D62-BFAE-6C1155DB373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3556-680F-467C-B086-12E9CA01E71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4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57E0-DFCD-42B3-BB5F-7948614A75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C2B7-87D3-424E-A893-68B5FA33595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2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3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5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6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7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8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9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0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1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4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5664-6E7D-4EBF-9A3C-A6E4937A02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5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6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5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031D-4419-4818-A5E5-63826A77F15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4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5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7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8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5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CBE5-ABC1-43D2-89D4-04DE2F1B357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2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3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4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5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7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8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9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0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5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A929-0697-4B07-9218-0C63740C298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ftr" idx="5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1BE0-5EF5-4FCD-A681-656D6091E1E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5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7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9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sldNum" idx="5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F4CF-BCF1-4473-8EB9-2E8B6D7ACE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dt" idx="5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ftr" idx="6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A242-C45E-4F73-A899-09D8746F221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5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6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7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8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9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0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1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2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sldNum" idx="6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63CD-3617-4423-B9BA-47C2A2531F7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dt" idx="6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ftr" idx="6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E3EF-F0F1-4D7F-8D40-9A11F6F9AD8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0C1C-A7D6-4E21-9CB0-2F7F8ADC0C5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87FB-EB4D-4A3E-80D8-8BDAC50774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8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D99D-0E4E-4E3D-BB1E-AB60DFB9ED7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2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33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3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CCD1-8C0D-4758-9E04-DAE63A2A137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9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9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92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2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9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1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DE7C-4119-4459-9D91-CE1D4F207D5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5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6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7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1E5E-CF2E-4675-A53B-2CDD4839A79B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5e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 txBox="1"/>
          <p:nvPr/>
        </p:nvSpPr>
        <p:spPr>
          <a:xfrm>
            <a:off x="896760" y="820440"/>
            <a:ext cx="7350480" cy="290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клоняющееся поведение детей, как нарушение процесса социализац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285480" y="214200"/>
            <a:ext cx="866916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держки из писем-обращений к самым близким и дорогим людям, моим родител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Не отвечайте на мои глупые и бессмысленные вопросы. Я просто хочу обратить на себя ваше внимание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Не беспокойтесь о том, что мы проводим слишком мало времени вместе. Стоит побеспокоиться о том, как мы его с вами проводим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Не забывайте о том, что мне нужны ваши понимание и поддержка. Я думаю, что вы и без меня это знаете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Относитесь ко мне так, как вы относитесь к своим друзьям. Я тоже хочу быть вашим лучшим другом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МНИТЕ, что у вас есть самое великое чудо на свете. Это чудо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 – ВАШ РЕБЁНОК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Не забывайте, уважаемые родители, ваши добрые мысли и тёплые пожелания, которые вы дарите детям щедро каждый день, если не сейчас, то через годы, вернутся вам сториц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риска  в воспитании подрост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00040" y="928440"/>
            <a:ext cx="8454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понимание личностного развития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приятие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соответствие ожиданий родителей возможностям ребен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гибкость в отношения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равномерность отношений родителей в различные годы жизни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последовательность в отношении с деть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риска  в воспитании подрост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28400" y="1071360"/>
            <a:ext cx="8429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согласованность отношений между родителями; 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тревож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доминан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гиперсоциа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доверие к возможностям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достаточная отзывчивость, нечуткость родител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противоречив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оветы родителям подростка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0" y="785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юбите своего ребенка и дорожите его любовью к вам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унижайте своего ребенк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угрожайте своему ребенк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налагайте запретов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опекайте своего ребенка там, где можно обойтись без опек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идите на поводу у своего ребенк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Развивайте в себе чувство юмор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читайте своему ребенку бесконечные нотаци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Будьте всегда последовательны в своих требования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лишайте своего ребенка права быть ребенко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Как сохранить хорошие отношения со взрослыми детьми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лушать и слыш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вашего реб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сегда быть честны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уметь увлечь ребенка каким-то полезным и интересным занятием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йти общие интересы.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ужно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-настоящему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есоваться их жизнью,  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читать нравоуч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 обсуждать волнующие их вопрос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ть учебную мотива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рпение, терпение и еще раз  терпение и …. любов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оветы наших взрослых дете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28760" y="7855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гать во всех начинан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веря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носиться как к взрослы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 общие интересы, разделять мо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держивать в трудных ситуац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ешить выглядеть как я хоч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юбить меня и говорить об э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волить самим решать свои пробл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ва и обязанности в равной мере(работа-отдых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ушать то, что говорят дети и не воспринимать в шты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оветы наших взрослых дете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28584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вторгаться в личное простран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читать нота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орать постоянно и по пустяк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наказывать за оценки, относиться спокой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делать выводы, пока всё не выясня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попрек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приводить в пример себя, брата, сестру, друз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обнимать, не целовать, не просить рассказать что-нибудь новень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rebuchet MS"/>
              </a:rPr>
              <a:t>КАК </a:t>
            </a:r>
            <a:r>
              <a:rPr b="1" lang="ru-RU" sz="4000" spc="-1" strike="noStrike">
                <a:solidFill>
                  <a:srgbClr val="00b0f0"/>
                </a:solidFill>
                <a:latin typeface="Trebuchet MS"/>
              </a:rPr>
              <a:t>ОБЩАТЬСЯ</a:t>
            </a:r>
            <a:r>
              <a:rPr b="1" lang="ru-RU" sz="4400" spc="-1" strike="noStrike">
                <a:solidFill>
                  <a:srgbClr val="00b0f0"/>
                </a:solidFill>
                <a:latin typeface="Trebuchet MS"/>
              </a:rPr>
              <a:t> С РЕБЁНКОМ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01680" y="1676520"/>
            <a:ext cx="8540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Разговаривать с детьми, ДИСКУТИРОВАТЬ, спорить, задавать вопросы, создавать ситуации морального выбора, говорить о реальной жизни, о здесь и сейчас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10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езультаты воспитания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Социальные знания, которые накапливает младший школьник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олуче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опыта переживания и позитивного отношения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базовым ценностям(семья, труд, любовь к родному краю, сохранение его богатств, соблюдение законов и правил)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олуче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опыта самостоятельного общественного действия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Теперь  определите, на какой ступени воспитания находится ваш ребёнок и ученик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Если мы ничего не изменим…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Georgia"/>
              </a:rPr>
              <a:t>Нас ждёт 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мания инерции </a:t>
            </a:r>
            <a:r>
              <a:rPr b="0" i="1" lang="ru-RU" sz="4400" spc="-1" strike="noStrike">
                <a:solidFill>
                  <a:srgbClr val="000000"/>
                </a:solidFill>
                <a:latin typeface="Georgia"/>
              </a:rPr>
              <a:t>со стороны молодёжи,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мания пассивности, наплевательства и бесконечного недовольства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оциально-педагогическая запущ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глубокий психический дискомфорт, вызванный неблагополучием семейных взаимо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тклонения в состоянии психического и физического здоровья и развития, возрастные кризы, акцентуации характе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надзорность, отрицательное влияние окружающей сред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2" descr="C:\Users\психолог\Desktop\дневник наркоманки\дневник наркоманки книга.jpg"/>
          <p:cNvPicPr/>
          <p:nvPr/>
        </p:nvPicPr>
        <p:blipFill>
          <a:blip r:embed="rId1"/>
          <a:stretch/>
        </p:blipFill>
        <p:spPr>
          <a:xfrm>
            <a:off x="285840" y="34920"/>
            <a:ext cx="4189320" cy="682308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3" descr="C:\Users\психолог\Desktop\дневник наркоманки\дневник книга.jpg"/>
          <p:cNvPicPr/>
          <p:nvPr/>
        </p:nvPicPr>
        <p:blipFill>
          <a:blip r:embed="rId2"/>
          <a:stretch/>
        </p:blipFill>
        <p:spPr>
          <a:xfrm>
            <a:off x="4714920" y="0"/>
            <a:ext cx="40258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210" name="Picture 2" descr="http://azbez.com/sites/azbez.com/files/images/zvereva_v._lic._166-11_3.preview.jpg"/>
          <p:cNvPicPr/>
          <p:nvPr/>
        </p:nvPicPr>
        <p:blipFill>
          <a:blip r:embed="rId1"/>
          <a:stretch/>
        </p:blipFill>
        <p:spPr>
          <a:xfrm>
            <a:off x="5868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РУШЕНИЕ ПРОЦЕССА СОЦИАЛИЗ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571320" y="2017440"/>
            <a:ext cx="83833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Неподготовленность к жизни в обществе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-это неумение принять его ценности, государственность, правовую и нравственную позицию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99"/>
                </a:solidFill>
                <a:latin typeface="Arial"/>
              </a:rPr>
              <a:t>Последствия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Чувствительность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Ранимость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Жестокость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 txBox="1"/>
          <p:nvPr/>
        </p:nvSpPr>
        <p:spPr>
          <a:xfrm>
            <a:off x="566280" y="571680"/>
            <a:ext cx="8001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Если бы мы, дорогие родители и педагоги</a:t>
            </a:r>
            <a:r>
              <a:rPr b="1" i="1" lang="ru-RU" sz="3600" spc="-1" strike="noStrike">
                <a:solidFill>
                  <a:srgbClr val="00b0f0"/>
                </a:solidFill>
                <a:latin typeface="Georgia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умели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прислушиваться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к детям.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Не воспринимать враждебно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их ошибки, умели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прощать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даже постыдные поступки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мы были бы прекрасными воспитателям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183" name="Picture 4" descr=""/>
          <p:cNvPicPr/>
          <p:nvPr/>
        </p:nvPicPr>
        <p:blipFill>
          <a:blip r:embed="rId1"/>
          <a:srcRect l="2637" t="18230" r="34609" b="11457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56760" y="213840"/>
            <a:ext cx="834084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ы родителям младших школьн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1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авное в ваших взаимоотношениях с ребёнком – взаимопонимание. Чтобы его установить, вы должны проявлять инициативу и не таить обид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2 –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жизнь родителей, их привычки, взгляды оказывают гораздо большее влияние на ребёнка, чем долгие нравоучительные бесе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3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лько физические упражнения, в том числе и на уроках физкультуры, могут смягчить вред  от  многочасового сидения за партой. Так что не спешите освобождать ребёнка от физкуль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4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олько времени в неделю вы проводите со своими детьми?  Полтора часа в неделю?! Обязательно подумайте, чем будет заниматься ваш ребёнок в часы, свободные  от  учёбы  и приготовления уроков. Ребёнок должен твёрдо знать: времени на безделье  и скуку  у него н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285480" y="0"/>
            <a:ext cx="84121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ы родителям младших школьн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5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елание взрослых избежать разговоров с детьми на некоторые темы приучает их к мысли , что эти темы запретны. Уклончивая или искажённая информация вызывает у детей необоснованную тревог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6 –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ребёнку необходимы положительные и отрицательные эмоции. Для успешного развития ребёнка полезно изредка отказывать ему в чём-то, ограничивать его желания, тем самым подготавливая его к преодолению подобных ситуаций в будущ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7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вы уже успели наделать ошибок в воспитании, вам будет труднее, чем в начале пути. Но если в своём ребёнке вы выделите хотя бы капельку хорошего и будете потом опираться на это хорошее в процессе воспитания, то получите ключ к его душе и достигнете хороши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4438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ыдержки из писем-обращений к самым близким и дорогим людям, моим родителям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14200" y="128556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портите меня. Я прекрасно знаю, что я не должен получать всего, о чём прошу. Я просто проверяю вас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обращайте внимания на мои глупые выходки. Ваше повышенное внимание поможет их закрепить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делайте мне замечания в присутствии других людей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пытайтесь меня всё время поучать. Вы удивились бы, узнав, как  хорошо я знаю, что такое «хорошо» и что такое «плохо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придирайтесь ко мне и не ворчите. Иначе мне придётся притвориться глухим, чтобы как-то защитить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требуйте от меня объяснений по поводу плохого поведения. Я не смогу его сразу объяснить. Я попытаюсь сам себе и вам объяснить своё поведение, но на это нужно врем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Не испытывайте слишком сильно мою честность. Меня легко испугать, при этом я начинаю врать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5-01-26T06:53:53Z</dcterms:modified>
  <cp:revision>49</cp:revision>
  <dc:subject/>
  <dc:title>PowerPoint Presentation</dc:title>
</cp:coreProperties>
</file>