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8E0-9B9C-46E9-82DB-AA5B54A24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D2B-E21B-462E-901F-568A2BF6A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C4E-DFFB-46E2-B430-AECB410D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527-9BBF-4641-9C92-481B60B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AA0-B7E7-40F4-B0D3-61AB89C3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F88-11CA-4D84-A46F-1824825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C96-1D07-4479-A793-FB792151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AAE-0E96-45F9-ADDA-BC88021F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F4B-3AF7-40DC-B7A1-81D8A9A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01E-91BD-4F68-8ABA-A54C3E7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AC5-0703-4F41-8309-B53C7285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A02-AE34-4531-A03B-49F4AE9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BAC-8F36-467E-B5D7-B299E4C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024-0490-4968-91FC-5A91693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Проектно-исследовательская работа МОУ СОШ № 31                                           г. Новочеркасска</a:t>
            </a:r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43B-1C0C-4CCA-8D18-255E281C04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0;&#1086;&#1084;&#1085;&#1072;&#1090;&#1085;&#1099;&#1077;%20&#1088;&#1072;&#1089;&#1090;&#1077;&#1085;&#1080;&#1103;%20&#1052;&#1054;&#1059;%20&#1057;&#1054;&#1064;%20&#8470;%2031%20(3).pp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71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ма учебного проект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5900" spc="-1" strike="noStrike">
                <a:solidFill>
                  <a:srgbClr val="33cc33"/>
                </a:solidFill>
                <a:latin typeface="Calibri"/>
              </a:rPr>
              <a:t>Комнатные растения </a:t>
            </a:r>
            <a:br>
              <a:rPr sz="5900"/>
            </a:br>
            <a:r>
              <a:rPr b="1" lang="ru-RU" sz="5900" spc="-1" strike="noStrike">
                <a:solidFill>
                  <a:srgbClr val="33cc33"/>
                </a:solidFill>
                <a:latin typeface="Calibri"/>
              </a:rPr>
              <a:t>нашей школы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5157360"/>
            <a:ext cx="75610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8989"/>
                </a:solidFill>
                <a:latin typeface="Calibri"/>
              </a:rPr>
              <a:t>Выполнили:5,7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0520" y="2997360"/>
            <a:ext cx="2140200" cy="2840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 rot="20139600">
            <a:off x="159840" y="96480"/>
            <a:ext cx="1860840" cy="2292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"/>
          <p:cNvPicPr/>
          <p:nvPr/>
        </p:nvPicPr>
        <p:blipFill>
          <a:blip r:embed="rId3"/>
          <a:stretch/>
        </p:blipFill>
        <p:spPr>
          <a:xfrm>
            <a:off x="7182000" y="252360"/>
            <a:ext cx="1981080" cy="1811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"/>
          <p:cNvPicPr/>
          <p:nvPr/>
        </p:nvPicPr>
        <p:blipFill>
          <a:blip r:embed="rId4"/>
          <a:stretch/>
        </p:blipFill>
        <p:spPr>
          <a:xfrm>
            <a:off x="1608120" y="4037040"/>
            <a:ext cx="2286000" cy="2127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"/>
          <p:cNvPicPr/>
          <p:nvPr/>
        </p:nvPicPr>
        <p:blipFill>
          <a:blip r:embed="rId5"/>
          <a:stretch/>
        </p:blipFill>
        <p:spPr>
          <a:xfrm>
            <a:off x="6786720" y="2844720"/>
            <a:ext cx="2163600" cy="225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разец страницы ката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33cc33"/>
                </a:solidFill>
                <a:latin typeface="Calibri"/>
              </a:rPr>
              <a:t>10.Бегония борщевиколистная</a:t>
            </a:r>
            <a:br>
              <a:rPr sz="1800"/>
            </a:br>
            <a:r>
              <a:rPr b="0" lang="ru-RU" sz="1800" spc="-1" strike="noStrike">
                <a:solidFill>
                  <a:srgbClr val="33cc33"/>
                </a:solidFill>
                <a:latin typeface="Calibri"/>
              </a:rPr>
              <a:t>Begonia heracleifol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Температур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ая лет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не ниже 15 °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Освещ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ркое с прите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прямых солнечных луч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ограничен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риодически горшок  с растением став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лажный торф,  опрыскивать водой нельз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Размнож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стовыми черенками, или делением корнев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1" descr="комнатные растения 024"/>
          <p:cNvPicPr/>
          <p:nvPr/>
        </p:nvPicPr>
        <p:blipFill>
          <a:blip r:embed="rId1"/>
          <a:stretch/>
        </p:blipFill>
        <p:spPr>
          <a:xfrm>
            <a:off x="4971960" y="1603440"/>
            <a:ext cx="3390840" cy="452448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D7BB-2263-4EE1-AFBC-34F43E9B546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02" name="Рисунок 14" descr="WHICHB"/>
          <p:cNvPicPr/>
          <p:nvPr/>
        </p:nvPicPr>
        <p:blipFill>
          <a:blip r:embed="rId2"/>
          <a:stretch/>
        </p:blipFill>
        <p:spPr>
          <a:xfrm>
            <a:off x="3635280" y="5589720"/>
            <a:ext cx="609840" cy="36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пы   и сроки проведения проект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новка проблемы, формирование группы, распределение обязанностей – 09.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редств и методов выполнения проекта, подбор литературы - внеурочное время – 09.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ая работа (обзор литературы, практическая работа- перепись растений, фотографирование растений, проведение соцопроса)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9- 10. 2012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ка рекомендаций по уходу за растениями и оформление школьниками каталога - 10 -11. 2012г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ка плана действий по реализации программы по улучшению состояния комнатных растений  –11.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я каталога, результатов и выводов – 04.201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29F-6AA8-4A55-A882-F4FA268FAB5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Аннотация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Для того чтобы состав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«Каталог комнатных растений нашей школы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нам понадоби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сти инвентаризацию растений в нашей школе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накомиться с постановлениями СанПиНа о комнатных растениях в школе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работать со специальной литературо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ить консультацию у учителя биолог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работать рекомендации по уходу за растениям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сти социологический опрос среди учащихся по вопросу о значении комнатных растений в школ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E5F-25D4-44D3-BBFE-CD11D3FFFF4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33cc"/>
                </a:solidFill>
                <a:uFillTx/>
                <a:latin typeface="Calibri"/>
              </a:rPr>
              <a:t>Обоснование выбора темы проект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ния, окружающие человека на протяжении большей части суток, обладают способностью не только дарить эстетическое наслаждение, но и благоприятно воздействовать на нервную систему, улучшать настроение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ния повышают влажность воздуха в квартирах, что особенно важно зимой; они защищают от пыли и микроскопических вредных частиц, ионизируют воздух и обогащают его кислородом. В последнее время большую популярность приобрели растения, которые очищают и оздоравливают воздух в помещ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правильно подобранное растение станет прекрасным дополнением к интерьеру и источником здоро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ый уход за комнатными растениями не требует профессиональных знаний, этому не надо специально учиться, как, скажем, иностранному языку. Свет, соответствующая температура, вода и состав подкормки - вот четыре важнейших фактора, от которых зависит жизнь наших комнатных растений. Однако и хорошо знакомые растения могут доставлять массу хлоп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680-E11A-4933-A53B-11BC2AD4A65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ff33cc"/>
                </a:solidFill>
                <a:uFillTx/>
                <a:latin typeface="Calibri"/>
              </a:rPr>
              <a:t>Обоснование выбора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ff99ff"/>
                </a:solidFill>
                <a:latin typeface="Calibri"/>
              </a:rPr>
              <a:t>(продолжени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шу школу украшают и декоративные растения - новинки, но есть и «старые знакомые», например, традесканции, папоротники, хлорофитум и др. И если даже от специалиста нельзя требовать, чтобы он помнил наизусть индивидуальные особенности и каждого растения, то уж любителю, конечно, не обойтись без помощи соответствующей литерату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многим учащимся и учителям эту литературу необходимо специально искать и многие растения в школе выращиваются по принципу «Авось не пропадет». </a:t>
            </a:r>
            <a:r>
              <a:rPr b="0" i="1" lang="ru-RU" sz="2100" spc="-1" strike="noStrike">
                <a:solidFill>
                  <a:srgbClr val="ff0066"/>
                </a:solidFill>
                <a:latin typeface="Calibri"/>
              </a:rPr>
              <a:t>Вот мы и решили создать школьный каталог комнатных растений, чтобы все желающие могли обратиться к нему в случае необходим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Calibri"/>
              </a:rPr>
              <a:t>В данной работе можно будет найти советы по уходу за растениями, описание комнатных растений нашей школ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cc33"/>
                </a:solidFill>
                <a:latin typeface="Calibri"/>
              </a:rPr>
              <a:t>В работе будут содержатся рекомендации по правильному размещению растений в кабинет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99ff"/>
                </a:solidFill>
                <a:latin typeface="Calibri"/>
              </a:rPr>
              <a:t>Большое количество красочных иллюстраций поможет составить представление о внешнем виде культу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476-77E2-4594-8024-2EDC44C540A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ru-RU" sz="2800" spc="-1" strike="noStrike">
                <a:solidFill>
                  <a:srgbClr val="33cc33"/>
                </a:solidFill>
                <a:latin typeface="Calibri"/>
              </a:rPr>
              <a:t>«Каталога комнатных растений нашей школы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каталог будет  содержать перечень всех комнатных растений , их фотографии, а также основные вопросы ухода за этими растениями: требования к освещенности, температуре, влажности воздуха, поливу, и способам  размн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BD6-1293-481D-9E02-89C8F4BA26A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Calibri"/>
              </a:rPr>
              <a:t>Планирование работы по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ланирование плана действий для достижения резуль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Выбор средств и методов выполнения проекта, подбор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Выбор способов оформления результатов и их през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Фотографирование растений и классов и спа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ознакомиться с постановлениями СанПиНа о комнатных растениях в школ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онсультация по уходу за раст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Проведение социологического опроса среди учащихся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бработка результатов социологического о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формление электронного каталога «Комнатные растения наше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ыработка плана действий по реализации программы по улучшению состояния комнат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формление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Работа по подготовки защит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Презентация ката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41960" y="404280"/>
            <a:ext cx="3682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ые </a:t>
            </a:r>
            <a:r>
              <a:rPr b="0" lang="ru-RU" sz="2500" spc="-1" strike="noStrike">
                <a:solidFill>
                  <a:srgbClr val="33cc33"/>
                </a:solidFill>
                <a:latin typeface="Calibri"/>
              </a:rPr>
              <a:t>«зелёные»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кабинеты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кол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12" descr="SAM_5912.JPG"/>
          <p:cNvPicPr/>
          <p:nvPr/>
        </p:nvPicPr>
        <p:blipFill>
          <a:blip r:embed="rId1"/>
          <a:stretch/>
        </p:blipFill>
        <p:spPr>
          <a:xfrm>
            <a:off x="395280" y="260280"/>
            <a:ext cx="354024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3" descr="SAM_5922.JPG"/>
          <p:cNvPicPr/>
          <p:nvPr/>
        </p:nvPicPr>
        <p:blipFill>
          <a:blip r:embed="rId2"/>
          <a:stretch/>
        </p:blipFill>
        <p:spPr>
          <a:xfrm>
            <a:off x="5796000" y="162864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14" descr="SAM_5929.JPG"/>
          <p:cNvPicPr/>
          <p:nvPr/>
        </p:nvPicPr>
        <p:blipFill>
          <a:blip r:embed="rId3"/>
          <a:stretch/>
        </p:blipFill>
        <p:spPr>
          <a:xfrm>
            <a:off x="4067280" y="1341360"/>
            <a:ext cx="1643040" cy="262116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11" descr="SAM_5921.JPG"/>
          <p:cNvPicPr/>
          <p:nvPr/>
        </p:nvPicPr>
        <p:blipFill>
          <a:blip r:embed="rId4"/>
          <a:stretch/>
        </p:blipFill>
        <p:spPr>
          <a:xfrm>
            <a:off x="4788000" y="4149720"/>
            <a:ext cx="3660840" cy="21891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3DE6-A7A3-4E88-9CF8-2D890D98EB0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Поле 21"/>
          <p:cNvSpPr/>
          <p:nvPr/>
        </p:nvSpPr>
        <p:spPr>
          <a:xfrm>
            <a:off x="539640" y="59500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3" name="Прямоуг. 24"/>
          <p:cNvSpPr/>
          <p:nvPr/>
        </p:nvSpPr>
        <p:spPr>
          <a:xfrm>
            <a:off x="7373520" y="5300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4" name="Рисунок 15" descr="SAM_5902.JPG"/>
          <p:cNvPicPr/>
          <p:nvPr/>
        </p:nvPicPr>
        <p:blipFill>
          <a:blip r:embed="rId5"/>
          <a:stretch/>
        </p:blipFill>
        <p:spPr>
          <a:xfrm>
            <a:off x="395280" y="400536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9640" y="1052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ак вы считаете, наша школа достаточно «зелена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 каком классе, спальне вам уютнее всего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 каком классе на ваш взгляд больше всего комнатных растен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ы можете назвать какие-нибудь комнатные раст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ак вы думаете, для чего нужны комнатные растения вообще, и в школе, в част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Что, по-вашему, нужно сделать, чтобы в школе стало уютне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586F-A38B-485F-A006-41832314821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8" name="Прямоуг. 4"/>
          <p:cNvSpPr/>
          <p:nvPr/>
        </p:nvSpPr>
        <p:spPr>
          <a:xfrm>
            <a:off x="1975680" y="26028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Социологический о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Прямоуг. 145"/>
          <p:cNvSpPr/>
          <p:nvPr/>
        </p:nvSpPr>
        <p:spPr>
          <a:xfrm>
            <a:off x="2050920" y="5411880"/>
            <a:ext cx="6842160" cy="33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Консультант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SAM_5918.JPG"/>
          <p:cNvPicPr/>
          <p:nvPr/>
        </p:nvPicPr>
        <p:blipFill>
          <a:blip r:embed="rId1"/>
          <a:stretch/>
        </p:blipFill>
        <p:spPr>
          <a:xfrm>
            <a:off x="179280" y="1197000"/>
            <a:ext cx="200196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9" descr="Фото1119А.jpg"/>
          <p:cNvPicPr/>
          <p:nvPr/>
        </p:nvPicPr>
        <p:blipFill>
          <a:blip r:embed="rId2"/>
          <a:stretch/>
        </p:blipFill>
        <p:spPr>
          <a:xfrm>
            <a:off x="2268360" y="119700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яминова Галина Нимя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ямин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джиева Мацак Санджи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туева Элистина Васи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1979640" y="62485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ерхне-Яшкульская санаторная школа-интернат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8CA-57C6-4C07-A568-A6E83C17860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61" name="Рисунок 11" descr="Фото1787.jpg"/>
          <p:cNvPicPr/>
          <p:nvPr/>
        </p:nvPicPr>
        <p:blipFill>
          <a:blip r:embed="rId3"/>
          <a:stretch/>
        </p:blipFill>
        <p:spPr>
          <a:xfrm>
            <a:off x="4716360" y="1268280"/>
            <a:ext cx="215928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Фото1740.jpg"/>
          <p:cNvPicPr/>
          <p:nvPr/>
        </p:nvPicPr>
        <p:blipFill>
          <a:blip r:embed="rId4"/>
          <a:stretch/>
        </p:blipFill>
        <p:spPr>
          <a:xfrm>
            <a:off x="7020000" y="1268280"/>
            <a:ext cx="190800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ализ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остояния комнатных растений нашей шко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колько видов растений в шко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облюдение требований СанПиНа 2.4.2.1178-02 пункт 2.6.1. по размещению комнатных растений в классах и спаль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Наличие ядовитых растений в шк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Наличие  больных растений в классах и спаль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Рекомендации по уходу за комнатными растениями, исходя из их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A6C0-17BF-4B1F-BCEC-1AA5985BF73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ив результаты инвентаризации комнатных растений в виде таблицы, разработав рекомендации по уходу за растениями, проанализировав состояние комнатных растений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создать электро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талог комнатных растений нашей школы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ющим этапом работы являлось довести результаты наших исследований и наши рекомендации до сведения  администрации, учителей и учащихся, осуществляющих уход за растениями. Разработка дальнейшего плана по созданию уюта и озеленения нашей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41F-B1DB-4CF4-868A-7EBB6EB672D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Рисунок 3" descr="SAM_5904.JPG"/>
          <p:cNvPicPr/>
          <p:nvPr/>
        </p:nvPicPr>
        <p:blipFill>
          <a:blip r:embed="rId1"/>
          <a:stretch/>
        </p:blipFill>
        <p:spPr>
          <a:xfrm>
            <a:off x="0" y="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SAM_5905.JPG"/>
          <p:cNvPicPr/>
          <p:nvPr/>
        </p:nvPicPr>
        <p:blipFill>
          <a:blip r:embed="rId2"/>
          <a:stretch/>
        </p:blipFill>
        <p:spPr>
          <a:xfrm>
            <a:off x="0" y="2757600"/>
            <a:ext cx="3076560" cy="4100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AM_5910.JPG"/>
          <p:cNvPicPr/>
          <p:nvPr/>
        </p:nvPicPr>
        <p:blipFill>
          <a:blip r:embed="rId3"/>
          <a:stretch/>
        </p:blipFill>
        <p:spPr>
          <a:xfrm>
            <a:off x="3924360" y="0"/>
            <a:ext cx="341928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SAM_5915.JPG"/>
          <p:cNvPicPr/>
          <p:nvPr/>
        </p:nvPicPr>
        <p:blipFill>
          <a:blip r:embed="rId4"/>
          <a:stretch/>
        </p:blipFill>
        <p:spPr>
          <a:xfrm>
            <a:off x="6427800" y="0"/>
            <a:ext cx="2716200" cy="3621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SAM_5919.JPG"/>
          <p:cNvPicPr/>
          <p:nvPr/>
        </p:nvPicPr>
        <p:blipFill>
          <a:blip r:embed="rId5"/>
          <a:stretch/>
        </p:blipFill>
        <p:spPr>
          <a:xfrm>
            <a:off x="5796000" y="3284640"/>
            <a:ext cx="3348000" cy="3573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SAM_5925.JPG"/>
          <p:cNvPicPr/>
          <p:nvPr/>
        </p:nvPicPr>
        <p:blipFill>
          <a:blip r:embed="rId6"/>
          <a:stretch/>
        </p:blipFill>
        <p:spPr>
          <a:xfrm>
            <a:off x="2916360" y="2637000"/>
            <a:ext cx="3290760" cy="43891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9" descr=""/>
          <p:cNvPicPr/>
          <p:nvPr/>
        </p:nvPicPr>
        <p:blipFill>
          <a:blip r:embed="rId7"/>
          <a:stretch/>
        </p:blipFill>
        <p:spPr>
          <a:xfrm>
            <a:off x="987480" y="2103480"/>
            <a:ext cx="7169040" cy="236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72723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cc"/>
                </a:solidFill>
                <a:latin typeface="Calibri"/>
              </a:rPr>
              <a:t>Основной вопрос:</a:t>
            </a:r>
            <a:br>
              <a:rPr sz="29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комнатные раст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речаются у нас в школе?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условия необходимо соблюдать дл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успешного выращивани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2924280"/>
            <a:ext cx="753768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опросы учебной темы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Проблемы (темы) самостоятельных исследований)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ff99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ие растения есть в нашей школе?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 ухаживать за комнатными растениями?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 сделать школьные помещения уютнее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21DC-F120-4436-A2E5-96EC3870ACA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7" name="Поле 10"/>
          <p:cNvSpPr/>
          <p:nvPr/>
        </p:nvSpPr>
        <p:spPr>
          <a:xfrm>
            <a:off x="447840" y="236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68" name="Рисунок 8" descr="SAM_5930.JPG"/>
          <p:cNvPicPr/>
          <p:nvPr/>
        </p:nvPicPr>
        <p:blipFill>
          <a:blip r:embed="rId1"/>
          <a:stretch/>
        </p:blipFill>
        <p:spPr>
          <a:xfrm>
            <a:off x="4716360" y="189000"/>
            <a:ext cx="414036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остав проектно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84344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растений, инвентаризация растений, выработка рекомендаций по уходу за растениями, оформление каталога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1" descr="SAM_5904.JPG"/>
          <p:cNvPicPr/>
          <p:nvPr/>
        </p:nvPicPr>
        <p:blipFill>
          <a:blip r:embed="rId1"/>
          <a:stretch/>
        </p:blipFill>
        <p:spPr>
          <a:xfrm>
            <a:off x="4602240" y="1243080"/>
            <a:ext cx="4114800" cy="274932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2" descr="SAM_5911.JPG"/>
          <p:cNvPicPr/>
          <p:nvPr/>
        </p:nvPicPr>
        <p:blipFill>
          <a:blip r:embed="rId2"/>
          <a:stretch/>
        </p:blipFill>
        <p:spPr>
          <a:xfrm>
            <a:off x="3876840" y="3846600"/>
            <a:ext cx="4913280" cy="280980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B723-CF56-474B-B848-E67B9D34C5D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Поле 5"/>
          <p:cNvSpPr/>
          <p:nvPr/>
        </p:nvSpPr>
        <p:spPr>
          <a:xfrm>
            <a:off x="250920" y="3645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графии 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мпьютерный дизайн -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тельский,                     практико-ориентирова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A43-DC7D-4B5A-879E-2DD2950630E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78" name="Рисунок 6" descr="SAM_5909.JPG"/>
          <p:cNvPicPr/>
          <p:nvPr/>
        </p:nvPicPr>
        <p:blipFill>
          <a:blip r:embed="rId1"/>
          <a:stretch/>
        </p:blipFill>
        <p:spPr>
          <a:xfrm>
            <a:off x="250920" y="292428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SAM_5903.JPG"/>
          <p:cNvPicPr/>
          <p:nvPr/>
        </p:nvPicPr>
        <p:blipFill>
          <a:blip r:embed="rId2"/>
          <a:stretch/>
        </p:blipFill>
        <p:spPr>
          <a:xfrm>
            <a:off x="4427640" y="2997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дактические це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навыков самостоятельной работы с большими объёмами информации и живыми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DE5-61D1-45E3-9CDE-46798BBFB57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4" name="Поле 4"/>
          <p:cNvSpPr/>
          <p:nvPr/>
        </p:nvSpPr>
        <p:spPr>
          <a:xfrm>
            <a:off x="539640" y="1484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Создание электронной презентации «Комнатные растения нашей школы»</a:t>
            </a: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cc"/>
                </a:solidFill>
                <a:uFillTx/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ктическая: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оить представление о размножении растений, условиях выращивания комнатных раст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применять полученные навыки в повседневной жизн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ить навык  пользован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оформления результат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кратко излагать свои мысли устно и письм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ответственности за социальную и экологическую обстановку в своей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6E2-8BF1-4989-A4A2-0301ABF6BEE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Задачи проекта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ть ключевые умения и компетенц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проектировоч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ие цели, разработка проектного задания, планирование работы и распределение обязанностей, реализация проекта, оформление результатов, общественная презентация, рефлекс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познаватель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самостоятельного конструирования знания, применения к решению новых познавательных зада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исследовательские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явление проблем, сбор информации, построение гипотез, экспериментирование, обобщ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коммуникатив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дача информации, умение слушать и понимать друг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социальные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мение сотрудничать в групповом общении и принятии решений, принимать собственные решения и брать на себя ответственность, регулировать конфлик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FD4-4BD6-4DFE-9B6C-BD3AB7F4F68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cc"/>
                </a:solidFill>
                <a:uFillTx/>
                <a:latin typeface="Calibri"/>
              </a:rPr>
              <a:t>Продукт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Calibri"/>
              </a:rPr>
              <a:t>«Каталог комнатных раст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Calibri"/>
              </a:rPr>
              <a:t>Нашей школы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лайдов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ариант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также выработанные рекомендации по уходу за растениями и условиям выращивания раст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F6C1-C68B-4238-B27B-0D54EFDA745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9:36:59Z</dcterms:created>
  <dc:creator>Кравченко В. Ф.</dc:creator>
  <dc:description/>
  <dc:language>en-US</dc:language>
  <cp:lastModifiedBy>User</cp:lastModifiedBy>
  <dcterms:modified xsi:type="dcterms:W3CDTF">2015-01-26T15:37:20Z</dcterms:modified>
  <cp:revision>66</cp:revision>
  <dc:subject/>
  <dc:title>Тема учебного проекта:</dc:title>
</cp:coreProperties>
</file>