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9331-DD96-42FC-9EF2-13345F653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89D-79EF-4052-B081-B9CABEB7D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618-9BCB-42A1-8FA7-767EFDC6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B88-6CA8-40BB-A8AF-7E6D4CA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F24-0D2B-477E-A591-55DE0CAF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CD9-E170-4808-8CAC-9DDCB71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C3E-83A6-45D6-9BB1-34B5AB7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841-C2CD-404B-AE1B-27DC807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525-29F8-4301-AEB4-B6E0BD0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088-F6A5-4139-BD95-1977DAF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351-DEA1-4FC0-A328-9AE21CF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02E-8D4E-4A4F-B5DF-2163B2A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AAE-55F2-40B1-AF61-47BFF46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377-86C0-48B1-A53D-BA12146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Проектно-исследовательская работа МОУ СОШ № 31                                           г. Новочеркасска</a:t>
            </a:r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8A5C-1F79-4AA2-9DE9-65FDFF1922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0;&#1086;&#1084;&#1085;&#1072;&#1090;&#1085;&#1099;&#1077;%20&#1088;&#1072;&#1089;&#1090;&#1077;&#1085;&#1080;&#1103;%20&#1052;&#1054;&#1059;%20&#1057;&#1054;&#1064;%20&#8470;%2031%20(3).pp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71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ма учебного проект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5900" spc="-1" strike="noStrike">
                <a:solidFill>
                  <a:srgbClr val="33cc33"/>
                </a:solidFill>
                <a:latin typeface="Calibri"/>
              </a:rPr>
              <a:t>Комнатные растения </a:t>
            </a:r>
            <a:br>
              <a:rPr sz="5900"/>
            </a:br>
            <a:r>
              <a:rPr b="1" lang="ru-RU" sz="5900" spc="-1" strike="noStrike">
                <a:solidFill>
                  <a:srgbClr val="33cc33"/>
                </a:solidFill>
                <a:latin typeface="Calibri"/>
              </a:rPr>
              <a:t>нашей школы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5157360"/>
            <a:ext cx="756108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8989"/>
                </a:solidFill>
                <a:latin typeface="Calibri"/>
              </a:rPr>
              <a:t>Выполнили:5,7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0520" y="2997360"/>
            <a:ext cx="2140200" cy="2840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 rot="20139600">
            <a:off x="159840" y="96480"/>
            <a:ext cx="1860840" cy="2292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"/>
          <p:cNvPicPr/>
          <p:nvPr/>
        </p:nvPicPr>
        <p:blipFill>
          <a:blip r:embed="rId3"/>
          <a:stretch/>
        </p:blipFill>
        <p:spPr>
          <a:xfrm>
            <a:off x="7182000" y="252360"/>
            <a:ext cx="1981080" cy="1811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"/>
          <p:cNvPicPr/>
          <p:nvPr/>
        </p:nvPicPr>
        <p:blipFill>
          <a:blip r:embed="rId4"/>
          <a:stretch/>
        </p:blipFill>
        <p:spPr>
          <a:xfrm>
            <a:off x="1608120" y="4037040"/>
            <a:ext cx="2286000" cy="2127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"/>
          <p:cNvPicPr/>
          <p:nvPr/>
        </p:nvPicPr>
        <p:blipFill>
          <a:blip r:embed="rId5"/>
          <a:stretch/>
        </p:blipFill>
        <p:spPr>
          <a:xfrm>
            <a:off x="6786720" y="2844720"/>
            <a:ext cx="2163600" cy="225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разец страницы ката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33cc33"/>
                </a:solidFill>
                <a:latin typeface="Calibri"/>
              </a:rPr>
              <a:t>10.Бегония борщевиколистная</a:t>
            </a:r>
            <a:br>
              <a:rPr sz="1800"/>
            </a:br>
            <a:r>
              <a:rPr b="0" lang="ru-RU" sz="1800" spc="-1" strike="noStrike">
                <a:solidFill>
                  <a:srgbClr val="33cc33"/>
                </a:solidFill>
                <a:latin typeface="Calibri"/>
              </a:rPr>
              <a:t>Begonia heracleifol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Температур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ая лет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не ниже 15 °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Освещ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ркое с прите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прямых солнечных луч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етом обильный,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ой ограничен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риодически горшок  с растением став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лажный торф,  опрыскивать водой нельз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alibri"/>
              </a:rPr>
              <a:t>Размноже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стовыми черенками, или делением корнев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1" descr="комнатные растения 024"/>
          <p:cNvPicPr/>
          <p:nvPr/>
        </p:nvPicPr>
        <p:blipFill>
          <a:blip r:embed="rId1"/>
          <a:stretch/>
        </p:blipFill>
        <p:spPr>
          <a:xfrm>
            <a:off x="4971960" y="1603440"/>
            <a:ext cx="3390840" cy="452448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E3B-34A3-4BE6-A829-4D8DEF365A5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02" name="Рисунок 14" descr="WHICHB"/>
          <p:cNvPicPr/>
          <p:nvPr/>
        </p:nvPicPr>
        <p:blipFill>
          <a:blip r:embed="rId2"/>
          <a:stretch/>
        </p:blipFill>
        <p:spPr>
          <a:xfrm>
            <a:off x="3635280" y="5589720"/>
            <a:ext cx="609840" cy="36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пы   и сроки проведения проекта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новка проблемы, формирование группы, распределение обязанностей – 09.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редств и методов выполнения проекта, подбор литературы - внеурочное время – 09.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ьская работа (обзор литературы, практическая работа- перепись растений, фотографирование растений, проведение соцопроса)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9- 10. 2012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ка рекомендаций по уходу за растениями и оформление школьниками каталога - 10 -11. 2012г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отка плана действий по реализации программы по улучшению состояния комнатных растений  –11.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я каталога, результатов и выводов – 04.201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1B0-EDEE-4FA5-970F-399FF1AF789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Аннотация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Для того чтобы состави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«Каталог комнатных растений нашей школы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alibri"/>
              </a:rPr>
              <a:t>нам понадоби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сти инвентаризацию растений в нашей школе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накомиться с постановлениями СанПиНа о комнатных растениях в школе,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работать со специальной литературо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ить консультацию у учителя биолог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работать рекомендации по уходу за растениям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сти социологический опрос среди учащихся по вопросу о значении комнатных растений в школ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AB0-A7B7-4DAA-8AA9-2E5FE0D5CA9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33cc"/>
                </a:solidFill>
                <a:uFillTx/>
                <a:latin typeface="Calibri"/>
              </a:rPr>
              <a:t>Обоснование выбора темы проект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ния, окружающие человека на протяжении большей части суток, обладают способностью не только дарить эстетическое наслаждение, но и благоприятно воздействовать на нервную систему, улучшать настроение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ения повышают влажность воздуха в квартирах, что особенно важно зимой; они защищают от пыли и микроскопических вредных частиц, ионизируют воздух и обогащают его кислородом. В последнее время большую популярность приобрели растения, которые очищают и оздоравливают воздух в помещ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правильно подобранное растение станет прекрасным дополнением к интерьеру и источником здоро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льный уход за комнатными растениями не требует профессиональных знаний, этому не надо специально учиться, как, скажем, иностранному языку. Свет, соответствующая температура, вода и состав подкормки - вот четыре важнейших фактора, от которых зависит жизнь наших комнатных растений. Однако и хорошо знакомые растения могут доставлять массу хлоп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6CF9-B001-408C-942F-DC342EA61D1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ff33cc"/>
                </a:solidFill>
                <a:uFillTx/>
                <a:latin typeface="Calibri"/>
              </a:rPr>
              <a:t>Обоснование выбора</a:t>
            </a: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ff99ff"/>
                </a:solidFill>
                <a:latin typeface="Calibri"/>
              </a:rPr>
              <a:t>(продолжени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шу школу украшают и декоративные растения - новинки, но есть и «старые знакомые», например, традесканции, папоротники, хлорофитум и др. И если даже от специалиста нельзя требовать, чтобы он помнил наизусть индивидуальные особенности и каждого растения, то уж любителю, конечно, не обойтись без помощи соответствующей литерату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многим учащимся и учителям эту литературу необходимо специально искать и многие растения в школе выращиваются по принципу «Авось не пропадет». </a:t>
            </a:r>
            <a:r>
              <a:rPr b="0" i="1" lang="ru-RU" sz="2100" spc="-1" strike="noStrike">
                <a:solidFill>
                  <a:srgbClr val="ff0066"/>
                </a:solidFill>
                <a:latin typeface="Calibri"/>
              </a:rPr>
              <a:t>Вот мы и решили создать школьный каталог комнатных растений, чтобы все желающие могли обратиться к нему в случае необходим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Calibri"/>
              </a:rPr>
              <a:t>В данной работе можно будет найти советы по уходу за растениями, описание комнатных растений нашей школ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cc33"/>
                </a:solidFill>
                <a:latin typeface="Calibri"/>
              </a:rPr>
              <a:t>В работе будут содержатся рекомендации по правильному размещению растений в кабинет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99ff"/>
                </a:solidFill>
                <a:latin typeface="Calibri"/>
              </a:rPr>
              <a:t>Большое количество красочных иллюстраций поможет составить представление о внешнем виде культу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228-D7D1-4D07-B788-B46BC1F0C47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ru-RU" sz="2800" spc="-1" strike="noStrike">
                <a:solidFill>
                  <a:srgbClr val="33cc33"/>
                </a:solidFill>
                <a:latin typeface="Calibri"/>
              </a:rPr>
              <a:t>«Каталога комнатных растений нашей школы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каталог будет  содержать перечень всех комнатных растений , их фотографии, а также основные вопросы ухода за этими растениями: требования к освещенности, температуре, влажности воздуха, поливу, и способам  размн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CD1-4172-4AA3-84A7-6A3AA69FC50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Calibri"/>
              </a:rPr>
              <a:t>Планирование работы по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ланирование плана действий для достижения резуль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Выбор средств и методов выполнения проекта, подбор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Выбор способов оформления результатов и их през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Фотографирование растений и классов и спа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70d"/>
                </a:solidFill>
                <a:latin typeface="Calibri"/>
              </a:rPr>
              <a:t>Познакомиться с постановлениями СанПиНа о комнатных растениях в школ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онсультация по уходу за раст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Проведение социологического опроса среди учащихся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бработка результатов социологического о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формление электронного каталога «Комнатные растения наше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ыработка плана действий по реализации программы по улучшению состояния комнат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Оформление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Работа по подготовки защиты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307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Презентация ката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41960" y="404280"/>
            <a:ext cx="3682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ые </a:t>
            </a:r>
            <a:r>
              <a:rPr b="0" lang="ru-RU" sz="2500" spc="-1" strike="noStrike">
                <a:solidFill>
                  <a:srgbClr val="33cc33"/>
                </a:solidFill>
                <a:latin typeface="Calibri"/>
              </a:rPr>
              <a:t>«зелёные»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кабинеты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кол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12" descr="SAM_5912.JPG"/>
          <p:cNvPicPr/>
          <p:nvPr/>
        </p:nvPicPr>
        <p:blipFill>
          <a:blip r:embed="rId1"/>
          <a:stretch/>
        </p:blipFill>
        <p:spPr>
          <a:xfrm>
            <a:off x="395280" y="260280"/>
            <a:ext cx="354024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3" descr="SAM_5922.JPG"/>
          <p:cNvPicPr/>
          <p:nvPr/>
        </p:nvPicPr>
        <p:blipFill>
          <a:blip r:embed="rId2"/>
          <a:stretch/>
        </p:blipFill>
        <p:spPr>
          <a:xfrm>
            <a:off x="5796000" y="162864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14" descr="SAM_5929.JPG"/>
          <p:cNvPicPr/>
          <p:nvPr/>
        </p:nvPicPr>
        <p:blipFill>
          <a:blip r:embed="rId3"/>
          <a:stretch/>
        </p:blipFill>
        <p:spPr>
          <a:xfrm>
            <a:off x="4067280" y="1341360"/>
            <a:ext cx="1643040" cy="262116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11" descr="SAM_5921.JPG"/>
          <p:cNvPicPr/>
          <p:nvPr/>
        </p:nvPicPr>
        <p:blipFill>
          <a:blip r:embed="rId4"/>
          <a:stretch/>
        </p:blipFill>
        <p:spPr>
          <a:xfrm>
            <a:off x="4788000" y="4149720"/>
            <a:ext cx="3660840" cy="21891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99F-DBEE-41C0-AFEF-6D4718C55FB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2" name="Поле 21"/>
          <p:cNvSpPr/>
          <p:nvPr/>
        </p:nvSpPr>
        <p:spPr>
          <a:xfrm>
            <a:off x="539640" y="59500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3" name="Прямоуг. 24"/>
          <p:cNvSpPr/>
          <p:nvPr/>
        </p:nvSpPr>
        <p:spPr>
          <a:xfrm>
            <a:off x="7373520" y="5300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4" name="Рисунок 15" descr="SAM_5902.JPG"/>
          <p:cNvPicPr/>
          <p:nvPr/>
        </p:nvPicPr>
        <p:blipFill>
          <a:blip r:embed="rId5"/>
          <a:stretch/>
        </p:blipFill>
        <p:spPr>
          <a:xfrm>
            <a:off x="395280" y="4005360"/>
            <a:ext cx="3803760" cy="285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9640" y="105228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ак вы считаете, наша школа достаточно «зелена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 каком классе, спальне вам уютнее всего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 каком классе на ваш взгляд больше всего комнатных растен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Вы можете назвать какие-нибудь комнатные раст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Как вы думаете, для чего нужны комнатные растения вообще, и в школе, в част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070d"/>
                </a:solidFill>
                <a:latin typeface="Calibri"/>
              </a:rPr>
              <a:t>Что, по-вашему, нужно сделать, чтобы в школе стало уютне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6246-E73E-4C6D-91CC-9AC499FBED5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8" name="Прямоуг. 4"/>
          <p:cNvSpPr/>
          <p:nvPr/>
        </p:nvSpPr>
        <p:spPr>
          <a:xfrm>
            <a:off x="1975680" y="26028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Социологический о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Прямоуг. 145"/>
          <p:cNvSpPr/>
          <p:nvPr/>
        </p:nvSpPr>
        <p:spPr>
          <a:xfrm>
            <a:off x="2050920" y="5411880"/>
            <a:ext cx="6842160" cy="33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Консультант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SAM_5918.JPG"/>
          <p:cNvPicPr/>
          <p:nvPr/>
        </p:nvPicPr>
        <p:blipFill>
          <a:blip r:embed="rId1"/>
          <a:stretch/>
        </p:blipFill>
        <p:spPr>
          <a:xfrm>
            <a:off x="179280" y="1197000"/>
            <a:ext cx="200196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9" descr="Фото1119А.jpg"/>
          <p:cNvPicPr/>
          <p:nvPr/>
        </p:nvPicPr>
        <p:blipFill>
          <a:blip r:embed="rId2"/>
          <a:stretch/>
        </p:blipFill>
        <p:spPr>
          <a:xfrm>
            <a:off x="2268360" y="119700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яминова Галина Нимя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ямин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джиева Мацак Санджи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туева Элистина Васи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1979640" y="624852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ерхне-Яшкульская санаторная школа-интернат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948-ACFE-4DBE-8C71-193B50BAC7E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61" name="Рисунок 11" descr="Фото1787.jpg"/>
          <p:cNvPicPr/>
          <p:nvPr/>
        </p:nvPicPr>
        <p:blipFill>
          <a:blip r:embed="rId3"/>
          <a:stretch/>
        </p:blipFill>
        <p:spPr>
          <a:xfrm>
            <a:off x="4716360" y="1268280"/>
            <a:ext cx="215928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Фото1740.jpg"/>
          <p:cNvPicPr/>
          <p:nvPr/>
        </p:nvPicPr>
        <p:blipFill>
          <a:blip r:embed="rId4"/>
          <a:stretch/>
        </p:blipFill>
        <p:spPr>
          <a:xfrm>
            <a:off x="7020000" y="1268280"/>
            <a:ext cx="190800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ализ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остояния комнатных растений нашей шко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колько видов растений в шко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облюдение требований СанПиНа 2.4.2.1178-02 пункт 2.6.1. по размещению комнатных растений в классах и спаль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Наличие ядовитых растений в шк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Наличие  больных растений в классах и спаль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Рекомендации по уходу за комнатными растениями, исходя из их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F34-E996-4B0C-9AE8-F4BD97B4FA0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ив результаты инвентаризации комнатных растений в виде таблицы, разработав рекомендации по уходу за растениями, проанализировав состояние комнатных растений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создать электро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талог комнатных растений нашей школы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ющим этапом работы являлось довести результаты наших исследований и наши рекомендации до сведения  администрации, учителей и учащихся, осуществляющих уход за растениями. Разработка дальнейшего плана по созданию уюта и озеленения нашей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DA3-BC53-4FDD-BD5B-A6354096F1C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" name="Рисунок 3" descr="SAM_5904.JPG"/>
          <p:cNvPicPr/>
          <p:nvPr/>
        </p:nvPicPr>
        <p:blipFill>
          <a:blip r:embed="rId1"/>
          <a:stretch/>
        </p:blipFill>
        <p:spPr>
          <a:xfrm>
            <a:off x="0" y="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SAM_5905.JPG"/>
          <p:cNvPicPr/>
          <p:nvPr/>
        </p:nvPicPr>
        <p:blipFill>
          <a:blip r:embed="rId2"/>
          <a:stretch/>
        </p:blipFill>
        <p:spPr>
          <a:xfrm>
            <a:off x="0" y="2757600"/>
            <a:ext cx="3076560" cy="4100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AM_5910.JPG"/>
          <p:cNvPicPr/>
          <p:nvPr/>
        </p:nvPicPr>
        <p:blipFill>
          <a:blip r:embed="rId3"/>
          <a:stretch/>
        </p:blipFill>
        <p:spPr>
          <a:xfrm>
            <a:off x="3924360" y="0"/>
            <a:ext cx="341928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SAM_5915.JPG"/>
          <p:cNvPicPr/>
          <p:nvPr/>
        </p:nvPicPr>
        <p:blipFill>
          <a:blip r:embed="rId4"/>
          <a:stretch/>
        </p:blipFill>
        <p:spPr>
          <a:xfrm>
            <a:off x="6427800" y="0"/>
            <a:ext cx="2716200" cy="3621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SAM_5919.JPG"/>
          <p:cNvPicPr/>
          <p:nvPr/>
        </p:nvPicPr>
        <p:blipFill>
          <a:blip r:embed="rId5"/>
          <a:stretch/>
        </p:blipFill>
        <p:spPr>
          <a:xfrm>
            <a:off x="5796000" y="3284640"/>
            <a:ext cx="3348000" cy="3573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SAM_5925.JPG"/>
          <p:cNvPicPr/>
          <p:nvPr/>
        </p:nvPicPr>
        <p:blipFill>
          <a:blip r:embed="rId6"/>
          <a:stretch/>
        </p:blipFill>
        <p:spPr>
          <a:xfrm>
            <a:off x="2916360" y="2637000"/>
            <a:ext cx="3290760" cy="43891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9" descr=""/>
          <p:cNvPicPr/>
          <p:nvPr/>
        </p:nvPicPr>
        <p:blipFill>
          <a:blip r:embed="rId7"/>
          <a:stretch/>
        </p:blipFill>
        <p:spPr>
          <a:xfrm>
            <a:off x="987480" y="2103480"/>
            <a:ext cx="7169040" cy="236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981000"/>
            <a:ext cx="72723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cc"/>
                </a:solidFill>
                <a:latin typeface="Calibri"/>
              </a:rPr>
              <a:t>Основной вопрос:</a:t>
            </a:r>
            <a:br>
              <a:rPr sz="29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комнатные раст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речаются у нас в школе?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условия необходимо соблюдать дл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успешного выращивани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2924280"/>
            <a:ext cx="753768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опросы учебной темы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(Проблемы (темы) самостоятельных исследований)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ff99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ие растения есть в нашей школе?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 ухаживать за комнатными растениями?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Как сделать школьные помещения уютнее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6E5-F001-4A26-9259-A89AB318C7B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7" name="Поле 10"/>
          <p:cNvSpPr/>
          <p:nvPr/>
        </p:nvSpPr>
        <p:spPr>
          <a:xfrm>
            <a:off x="447840" y="236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68" name="Рисунок 8" descr="SAM_5930.JPG"/>
          <p:cNvPicPr/>
          <p:nvPr/>
        </p:nvPicPr>
        <p:blipFill>
          <a:blip r:embed="rId1"/>
          <a:stretch/>
        </p:blipFill>
        <p:spPr>
          <a:xfrm>
            <a:off x="4716360" y="189000"/>
            <a:ext cx="4140360" cy="201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остав проектной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84344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растений, инвентаризация растений, выработка рекомендаций по уходу за растениями, оформление каталога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1" descr="SAM_5904.JPG"/>
          <p:cNvPicPr/>
          <p:nvPr/>
        </p:nvPicPr>
        <p:blipFill>
          <a:blip r:embed="rId1"/>
          <a:stretch/>
        </p:blipFill>
        <p:spPr>
          <a:xfrm>
            <a:off x="4602240" y="1243080"/>
            <a:ext cx="4114800" cy="274932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2" descr="SAM_5911.JPG"/>
          <p:cNvPicPr/>
          <p:nvPr/>
        </p:nvPicPr>
        <p:blipFill>
          <a:blip r:embed="rId2"/>
          <a:stretch/>
        </p:blipFill>
        <p:spPr>
          <a:xfrm>
            <a:off x="3876840" y="3846600"/>
            <a:ext cx="4913280" cy="280980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B62-0C2A-42C6-8F4C-4958065F13C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Поле 5"/>
          <p:cNvSpPr/>
          <p:nvPr/>
        </p:nvSpPr>
        <p:spPr>
          <a:xfrm>
            <a:off x="250920" y="3645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графии 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мпьютерный дизайн -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тельский,                     практико-ориентирован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487A-133A-4207-9BC2-07C7D6CAB7F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78" name="Рисунок 6" descr="SAM_5909.JPG"/>
          <p:cNvPicPr/>
          <p:nvPr/>
        </p:nvPicPr>
        <p:blipFill>
          <a:blip r:embed="rId1"/>
          <a:stretch/>
        </p:blipFill>
        <p:spPr>
          <a:xfrm>
            <a:off x="250920" y="292428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SAM_5903.JPG"/>
          <p:cNvPicPr/>
          <p:nvPr/>
        </p:nvPicPr>
        <p:blipFill>
          <a:blip r:embed="rId2"/>
          <a:stretch/>
        </p:blipFill>
        <p:spPr>
          <a:xfrm>
            <a:off x="4427640" y="2997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дактические цел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навыков самостоятельной работы с большими объёмами информации и живыми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437-D7F3-4B25-9021-A6F5697AB38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4" name="Поле 4"/>
          <p:cNvSpPr/>
          <p:nvPr/>
        </p:nvSpPr>
        <p:spPr>
          <a:xfrm>
            <a:off x="539640" y="1484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Создание электронной презентации «Комнатные растения нашей школы»</a:t>
            </a: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cc"/>
                </a:solidFill>
                <a:uFillTx/>
                <a:latin typeface="Calibri"/>
              </a:rPr>
              <a:t>Цель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ктическая: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оить представление о размножении растений, условиях выращивания комнатных растен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применять полученные навыки в повседневной жизн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ить навык  пользован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оформления результат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кратко излагать свои мысли устно и письм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ответственности за социальную и экологическую обстановку в своей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572-9941-451B-875B-4F4A596D360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Задачи проекта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ть ключевые умения и компетенц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проектировоч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ение цели, разработка проектного задания, планирование работы и распределение обязанностей, реализация проекта, оформление результатов, общественная презентация, рефлекс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познаватель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самостоятельного конструирования знания, применения к решению новых познавательных зада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исследовательские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явление проблем, сбор информации, построение гипотез, экспериментирование, обобщени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коммуникативные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дача информации, умение слушать и понимать друг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ff33cc"/>
                </a:solidFill>
                <a:latin typeface="Calibri"/>
              </a:rPr>
              <a:t>социальные: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мение сотрудничать в групповом общении и принятии решений, принимать собственные решения и брать на себя ответственность, регулировать конфлик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CDD-E921-4AD1-B6C9-1AF946B3C5A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33cc"/>
                </a:solidFill>
                <a:uFillTx/>
                <a:latin typeface="Calibri"/>
              </a:rPr>
              <a:t>Продукт проек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Calibri"/>
              </a:rPr>
              <a:t>«Каталог комнатных растен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Calibri"/>
              </a:rPr>
              <a:t>Нашей школы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лайдов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арианты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также выработанные рекомендации по уходу за растениями и условиям выращивания раст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42B-5885-42A6-ACA3-FC746A26197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9:36:59Z</dcterms:created>
  <dc:creator>Кравченко В. Ф.</dc:creator>
  <dc:description/>
  <dc:language>en-US</dc:language>
  <cp:lastModifiedBy>User</cp:lastModifiedBy>
  <dcterms:modified xsi:type="dcterms:W3CDTF">2015-01-26T15:37:20Z</dcterms:modified>
  <cp:revision>66</cp:revision>
  <dc:subject/>
  <dc:title>Тема учебного проекта:</dc:title>
</cp:coreProperties>
</file>