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527-60AB-4811-93FE-BC29BF73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DA6-B2D0-445C-856B-0942686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631-3F0A-4EC1-BC96-6216EC57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BDC-E103-487E-A958-D40E17E5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19A7-FACF-4195-9B8F-FB189E7A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2ED0-6E34-439B-ABB3-78E0A92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534-76E0-4BFF-81F3-0D6DFB5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24E-090D-4599-9443-1332244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6C3D-00F9-4203-A58F-48EDCF07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99C-89B0-494C-8698-71CEBCD1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0432-0D77-44A2-8606-9CC21B8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A81-CBAF-48EC-94B6-406744C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D10F-3486-4FF6-9E03-2743C3AE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60CA-64BF-4C13-9D99-B06C880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E740-95AB-4BF3-80C4-0795F8F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11B2-B2C0-496F-86B0-AABFF613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B0C6-1829-4463-A1A0-14C8F550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A9A8C-26CF-43DB-8DD8-EBCFE2E9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71817-7FE6-43BE-B73A-4A437082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440CA-4A07-4D80-9FBA-00F823F2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B3258-4F6B-4C98-8A70-6B5B09A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D1ED1-B7F8-4B28-B806-E373BCB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220-F878-4B6D-AAC7-CB3EBDCE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75BC8-513C-453B-8DA7-C6E6F6F2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E6A0C-53AC-4C4B-BC6B-1C7FC65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27707-1EBB-46C8-AFA8-3C77BCC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EAC1E-8BE6-41D3-A519-AB684E1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E05B9-2321-44C3-9ECB-BCE4C9B7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6BF20-6984-473E-BE14-5AF8A320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15A56-3BF1-4489-B043-4A3CEF72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DEB9B-4CE7-4C2C-A063-29F1988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0199D-E6B9-4DE3-836E-415AD91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85D2D-D0C5-4C51-B496-1D02069B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0F4-7EC5-4F4D-9983-8149588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AFE80-EB46-4BC1-B118-5D8EC6D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2D3A1-2AE4-4A9B-9A31-CD4A376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6C80F-156B-423F-B55C-1C948E8B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30BD8-9C63-486C-A597-2CFA5B1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BE356D-C8C6-48AD-93B0-7C0A9CD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F3A7D-D808-4691-A79F-E62FE6B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61A11-E4A8-46E8-B755-0BC8C23A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4B07D-9FBB-4418-8034-33D336C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56CE9-8B00-4129-9F87-EB90DC07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70EA9-6BD8-4926-9FA1-12BB75AD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215-74E7-45CA-8A14-D3618EA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780BF-2D1C-4DD5-A7B5-2CE4CFBD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C0971-9021-4207-B6F4-F8CFD65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7F89E-8169-421B-8957-AE5E6616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4CE7C-4B7E-409F-BB38-2309209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3F863-C636-4A06-A3A4-F025DD75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2504B-1910-438F-95DC-710498E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50E2D-1A05-48BE-B847-B2DBF7D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A46D8-E377-49DF-8ED3-2051E02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E2C9A-0D4F-4343-B9D9-5E5738D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7DC24-8603-4555-B2D7-4628AA45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57D-E806-45B5-AEAA-0183374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4AF6C-1FF5-4382-BC22-7656A17F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471F-1016-40AE-8B30-D5D8C314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DDD3-0BC0-4EEB-838C-25C4DC13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D90B1-4A35-45D8-AED6-156ED5B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76C2-0302-4B15-9C33-BFD4FDD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BB69-961D-410D-9FC7-E703ECDD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DEFD9-0F62-4DAB-AA0D-CA19B6ED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0EAD9-6FFB-48B7-AB5B-7556C776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A4CB-EDF8-4169-8806-44A68FC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83AC-E4CF-49AA-B7D4-E1F542E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E86-5537-428A-8D4E-0246E04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1816-E948-4F25-A53A-6C609364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7762A-9217-439E-8DA5-01209C66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75DA-10AD-479F-80A5-C01590C1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6CA2B-20CF-46D9-8E26-223C4DC6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F56FE-B44B-40CC-BCB1-A3EE3AA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A120B-F2F8-4FC0-B32A-DDC236A8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BB81D-C36F-476F-BFB2-B494F0F5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C93F3-23CF-4D28-B893-92F4D75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10D03-FD71-4D7E-8095-4B45A31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67336-0CA5-4B91-9898-D2E4C9E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997-C44E-4D06-9EDE-CABB4FD4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978DB-FA81-4580-91FB-A9EDBFB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BEB4B-3E29-4DA0-92DB-1819905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13D71-FE26-42BB-94A3-EE706BDA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2B681-1D81-4C48-BD46-C7DC8CC1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5739B-8982-4529-A289-E7D9EBB2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51E4-3CD0-4504-A2C0-EDD155B3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A1F9-26CD-40F5-9733-B7F43548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1109-85C0-4393-9744-AE21F9EE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B8004-78AB-457E-A059-53D2BDE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AEB46-81F9-49C5-8BCF-F7E175CF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C99-2B5B-45E4-98DC-49787D2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2F5C-E5C8-4742-AE38-0E8CE2B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B380-A19E-4EF8-8F62-136433E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D2DB-7803-4611-AAA1-3DE2D27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8AEBD-2DED-44B8-ACB0-A821B36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863E-8703-4C00-BEFF-E6116DC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3EF8-FC02-4A88-BC77-2175BA1F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B971-6497-4F0B-B38B-84B8064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635-14AA-42E3-9BD6-363D789E07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52CD-01B9-49A8-A3B8-96F6E860C9C9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58A8-9534-4D55-8D22-9F31CC3F486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E3C-2374-404F-9F2B-E389CD7B96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1E2-C90D-44F1-AC93-371ACB65C9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1D5C-9073-4FF4-B6E6-7BF894B86177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A99-241E-433C-B112-70B8E1A4919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82D-0428-4B2D-9199-B1BCAFA507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ПРОГРАММНАЯ ОБРАБОТКА ДАННЫХ НА КОМПЬЮТЕРЕ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цессор устанавливается в специальный разъем на системной пла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 системной плате реализована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магистра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бмена информацией, имеются разъемы для установки процессора и модулей оперативной памяти, разъемы для подключения внешних устрой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Устройства ввода информаци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виатура – устройство для ввода числовой и текстовой информа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4 клави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световых индика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лфавитно-цифровые клавиши (49 клавиш, в т.ч.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бел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Enter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лавиши редактирования и листания документа  (7 клавиш, в т.ч.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Insert}, {Backspace}, {Delete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лавиши управления курсором (4 клавиши со стрелкам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альные клавиши (12 клавиш, в т.ч.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CapsLock}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Shift}, {Esc}, {Pause}, {Ctrl}, {Alt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ункциональные клавиши (12 клавиш от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F1}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{F12}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ndow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клавиши ( 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3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лавиш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ифровой блок (17 клавиш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ыш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енсорная панел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афические планше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кане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ифровые каме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овая карта и микрофо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жойст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исловая, текстовая, графическая и звуковая информация может обрабатываться компьютером в двоичной знаковой систем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Данны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это информация, представленная в компьютере в виде двоичного компьютерного ко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201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это алгоритм, который записан на языке программирования и выполняется компьютер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9" name="Объект 3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816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цессор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центральное устройство компьютера, которое обрабатывает данные в соответствии с заданной программ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стройство ввода и вывода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устройства, которые «переводят» информацию с языка человека и наобор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перативная памя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память, которая временно хранит информа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олговременная памят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память, предназначенная для долговременного хранения файл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агистрал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осуществляет пересылку данных и  программ между отдельными устройствами компьюте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оцесс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изводительность процессора характеризует скорость выполнения програм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изводительность процессора зависит от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ядности процессо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оты процессо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хитектуры процессо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рядность процессора определяется количеством двоичных разрядов, которое процессор обрабатывает одновременн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астота процессора (МГц) – количество тактов обработки данных, которые процессор производит за секунду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эш-памят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это память с большей скоростью доступа, предназначенная для ускорения обращения к данным, содержащимся постоянно в памяти с меньшей скоростью доступ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21:08:32Z</dcterms:created>
  <dc:creator>Oksana</dc:creator>
  <dc:description/>
  <dc:language>en-US</dc:language>
  <cp:lastModifiedBy>Oksana</cp:lastModifiedBy>
  <dcterms:modified xsi:type="dcterms:W3CDTF">2013-10-08T21:54:37Z</dcterms:modified>
  <cp:revision>5</cp:revision>
  <dc:subject/>
  <dc:title>Программная обработка данных на компьютере</dc:title>
</cp:coreProperties>
</file>