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3A99-EC1F-4F8E-876F-90896F91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362D-BC84-4689-9B22-2942E8D4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4A4-10AF-4500-B451-265A658B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CB7-93CB-4F2F-8591-0DFC6B80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0A89-CC8C-44B3-9761-EDF55071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C475-992C-4433-A103-91BE37F0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3E4F-4EA0-4594-AD00-A6060784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AB8B-1DEA-4FC5-B7CF-5E8CA57E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DFD8-A467-46A2-90E9-ADFB875E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6FDC-1C9B-418E-A680-618A0D49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54FC-BCDA-417E-90EB-04DCD6BB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B0F-619E-4FA6-B2BD-C83FF2D6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9D95-D74F-416F-9201-6FA4FB49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4BE9-426D-4726-8029-9611D946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8060-4A8F-410D-82D5-FF007C9C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70AE-169A-4515-A9F4-A9E2339F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31AC-7FAC-4F8D-BBA9-F0027A89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76B30-6F12-44F4-B118-A462C35D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9E332-DE20-4694-BFB2-0C82E912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0DEF3-3DB7-43EF-9538-045D392B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665DB-E956-4B19-8FAB-97573617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6E5EF-A812-418C-B424-2A4F959B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6F49-0272-4B3B-AE5D-96097E9B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AC6EED-5AD3-44C1-9E74-E02E8221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9E69B-0303-44D9-ACC6-B3BB7014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CB6F57-45A0-4904-9AD0-70EC5D56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FCFD7-C3CF-4346-ACD1-96928F47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C9B0A-028F-4CC9-9538-ED9DFBC5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881D8D-D7D3-41D8-8DED-B2A425C7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D5287-EBF3-4E09-9CE5-35B833A3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02F1E3-6CB9-4603-9D68-FF694051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1B2175-F58A-4CE3-AC2C-5BD310C6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1CA09C-1F11-47BA-B8B1-CD8F7B40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727-14B6-4809-8535-01C981DE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458989-82DB-4315-9723-43619E4A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A8484C-69E5-4BF9-9C84-1183CEBD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C682AB-D641-429D-B08A-990E37A7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8D271F-C4E3-4D96-8909-78688498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34D979-6D79-4BC3-8BD2-C2877CB1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C3C711-4BC4-4C52-8706-47E59965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A47CF5-83BC-4691-9E95-7D3A655C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D3BAB9-DCC6-4CA7-98E5-5E5D3127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EA0318-9763-4996-91B2-1421652D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6AE346-167E-4BA7-8442-69993916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0D6D-E1CE-4FEB-8933-6752322A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62E96-52A5-446B-8A26-35AD0C83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D7E460-1225-4D21-9139-CED24E45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73B7A7-99FA-4586-B152-9640CEA9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DBAFD-5CEC-4B63-B119-E5FB4E13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354AE6-5131-4E99-8885-0F07E14C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352DAF-4CC6-44CE-9728-C805CE00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CD9B24-A346-4573-A39E-4B533109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06814B-9B5A-4E8C-B4DB-E5DE089B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123A46-B922-4694-9E04-D86A566A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B32FEA-356C-4132-8F8C-95C6B614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DDBF-A037-4598-A28B-A87FB494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3E96B9-F18B-498E-B4B5-162CA856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3DFAA-5A74-4EC2-89C2-68FEBF30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DEF5C-0E84-4EE0-A0AD-BCC7B3FD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6D78B-C9EA-4855-81EF-0E502FEC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9DF95-EDC2-4E24-9140-9B73D825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0CEC0-9EB4-46D3-AE95-8B582428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D596F-D482-4B09-9BD7-18D25C52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5881F-AAAB-4290-B7BE-B3DC1B2B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43704-3DAE-4A0C-8468-66CF61EA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05FCC-9785-43B5-AD27-66EDB6B2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37F0-D512-457D-ADD5-297922C2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4EB87-2A34-44FD-973C-72444447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F31C4-FBE3-49AF-9256-6314A308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93C49-90EB-4138-8EEB-D310F401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251C09-3EC7-4646-B2E8-84B94AD8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FBA6BE-7EC7-4FB3-9BFE-25AE78DE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F795B6-E13D-4332-BE05-7C1B1D55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957C75-B0D1-408F-A8D3-9D733F3E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EC3EEB-8B85-4683-BA3B-75A2A9A8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9BA572-C7EF-4014-A108-8C5C831B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943E55-BAB9-4696-9CE7-92255354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056-6CC8-46AE-816A-D5E8CBE6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F002B9-060D-44D8-ADE6-1C420D22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C3383C-0EC5-4FC2-BA0E-D15B14F9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C9EBF1-0F9D-4AA2-AA4B-7C3981DA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8B87FC-A8A0-42FD-A042-B8F686D7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1DE893-670F-4E65-BC8E-6C404CC6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3B37A-9B61-4A3B-A77C-7928F493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E60F0-EA7E-4A50-8EE3-1A18B5A5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84C1E-4287-4AAE-AB70-1C1CC0C6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5CC0F-FAE2-4300-820B-4EC2A474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94938-D042-43FA-A781-63D7DC5B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B51-A46E-429E-8261-7A966980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91CD5-21EC-40A3-8C8C-FB605B0E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F3CC1-489C-455D-9D8B-015CB435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3B905-BA91-473B-B2BB-68925E98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65588-0E5D-4108-B767-4443F5E0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33090-6027-4B75-A2A1-D796D605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9CBB6-9883-4757-847A-C4B3B0B2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C206F-6A3C-43A5-834B-C0AA0C6E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2858-A0CE-4288-BC7F-6B02A4CAFE7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CDF9-05A4-4C6D-9E0C-1B55C80FE61F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7C7A-9E4E-48E6-B507-43F2CD2068AC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CEF0-D57A-4BDC-8DBC-FC98A2C7B4A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2ECA-B5AE-4916-854E-379DB52F0D5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4AF4-7956-4936-8571-0E7634E29D8F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FED9-A060-4C29-A607-D4DBA6F994E0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9A04-E2B6-4A08-9D71-BADA7D751C3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dc3"/>
                </a:solidFill>
                <a:latin typeface="Calibri"/>
              </a:rPr>
              <a:t>ПРОГРАММНАЯ ОБРАБОТКА ДАННЫХ НА КОМПЬЮТЕРЕ</a:t>
            </a: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цессор устанавливается в специальный разъем на системной плат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а системной плате реализована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магистраль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обмена информацией, имеются разъемы для установки процессора и модулей оперативной памяти, разъемы для подключения внешних устройст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Устройства ввода информации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лавиатура – устройство для ввода числовой и текстовой информац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4 клавиш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 световых индикато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лфавитно-цифровые клавиши (49 клавиш, в т.ч. 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{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бел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}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{Enter}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лавиши редактирования и листания документа  (7 клавиш, в т.ч. 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{Insert}, {Backspace}, {Delete}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лавиши управления курсором (4 клавиши со стрелками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пециальные клавиши (12 клавиш, в т.ч. 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{CapsLock},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{Shift}, {Esc}, {Pause}, {Ctrl}, {Alt}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ункциональные клавиши (12 клавиш от 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{F1}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{F12}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indow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клавиши ( 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3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лавиши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Цифровой блок (17 клавиш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ышь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енсорная панель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Графические планшет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канер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Цифровые камер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вуковая карта и микрофон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жойсти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Числовая, текстовая, графическая и звуковая информация может обрабатываться компьютером в двоичной знаковой систем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Данные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– это информация, представленная в компьютере в виде двоичного компьютерного код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5" name="Объект 3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72010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ограмма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– это алгоритм, который записан на языке программирования и выполняется компьютеро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9" name="Объект 3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816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центральное устройство компьютера, которое обрабатывает данные в соответствии с заданной программо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Устройство ввода и вывода информаци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устройства, которые «переводят» информацию с языка человека и наоборо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память, которая временно хранит информацию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Долговременная память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– память, предназначенная для долговременного хранения файл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агистраль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осуществляет пересылку данных и  программ между отдельными устройствами компьютер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роцессор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изводительность процессора характеризует скорость выполнения програм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изводительность процессора зависит от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рядности процессор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оты процессор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рхитектуры процессор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зрядность процессора определяется количеством двоичных разрядов, которое процессор обрабатывает одновременно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Частота процессора (МГц) – количество тактов обработки данных, которые процессор производит за секунду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Кэш-память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это память с большей скоростью доступа, предназначенная для ускорения обращения к данным, содержащимся постоянно в памяти с меньшей скоростью доступ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8T21:08:32Z</dcterms:created>
  <dc:creator>Oksana</dc:creator>
  <dc:description/>
  <dc:language>en-US</dc:language>
  <cp:lastModifiedBy>Oksana</cp:lastModifiedBy>
  <dcterms:modified xsi:type="dcterms:W3CDTF">2013-10-08T21:54:37Z</dcterms:modified>
  <cp:revision>5</cp:revision>
  <dc:subject/>
  <dc:title>Программная обработка данных на компьютере</dc:title>
</cp:coreProperties>
</file>