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9CE3-2EFB-4DE1-B9BA-6A15BEA3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74B-2FB9-4CF7-8D1F-7C6419334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7C26-B73F-409A-A2D8-58DF8B01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0D5-0264-43E0-AA37-16679D83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B7A3-0063-4339-9B0B-57BC3F41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FDF-537C-4245-BE87-7F03594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588-8657-42F9-89A6-3AA54D69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63BD-6FFD-47FC-9AEB-A05F2A0B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80E-AD78-4549-9A56-9D0AE674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E228-7D3F-4C98-816D-B50E54B9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E95-63D9-4845-8AFA-BEB5D0D0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AB6-9D9C-43D1-8707-F43549C4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5C03-BB08-404C-A7A4-1F21DED29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250920" y="1353960"/>
            <a:ext cx="4223880" cy="3514680"/>
            <a:chOff x="250920" y="1353960"/>
            <a:chExt cx="4223880" cy="3514680"/>
          </a:xfrm>
        </p:grpSpPr>
        <p:sp>
          <p:nvSpPr>
            <p:cNvPr id="42" name="AutoShape 5"/>
            <p:cNvSpPr/>
            <p:nvPr/>
          </p:nvSpPr>
          <p:spPr>
            <a:xfrm>
              <a:off x="2489760" y="161136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6"/>
            <p:cNvSpPr/>
            <p:nvPr/>
          </p:nvSpPr>
          <p:spPr>
            <a:xfrm>
              <a:off x="3317760" y="155268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7"/>
            <p:cNvSpPr/>
            <p:nvPr/>
          </p:nvSpPr>
          <p:spPr>
            <a:xfrm>
              <a:off x="2043360" y="210492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250920" y="1728720"/>
              <a:ext cx="2297520" cy="3082680"/>
            </a:xfrm>
            <a:custGeom>
              <a:avLst/>
              <a:gdLst>
                <a:gd name="textAreaLeft" fmla="*/ 0 w 2297520"/>
                <a:gd name="textAreaRight" fmla="*/ 2297880 w 2297520"/>
                <a:gd name="textAreaTop" fmla="*/ 0 h 3082680"/>
                <a:gd name="textAreaBottom" fmla="*/ 3083040 h 308268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931040" y="1658520"/>
              <a:ext cx="1420920" cy="3210120"/>
            </a:xfrm>
            <a:custGeom>
              <a:avLst/>
              <a:gdLst>
                <a:gd name="textAreaLeft" fmla="*/ 0 w 1420920"/>
                <a:gd name="textAreaRight" fmla="*/ 1421280 w 1420920"/>
                <a:gd name="textAreaTop" fmla="*/ 0 h 3210120"/>
                <a:gd name="textAreaBottom" fmla="*/ 3210480 h 3210120"/>
              </a:gdLst>
              <a:ahLst/>
              <a:rect l="textAreaLeft" t="textAreaTop" r="textAreaRight" b="textAreaBottom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276200" y="1353960"/>
              <a:ext cx="3198600" cy="955080"/>
            </a:xfrm>
            <a:custGeom>
              <a:avLst/>
              <a:gdLst>
                <a:gd name="textAreaLeft" fmla="*/ 0 w 3198600"/>
                <a:gd name="textAreaRight" fmla="*/ 3198960 w 3198600"/>
                <a:gd name="textAreaTop" fmla="*/ 0 h 955080"/>
                <a:gd name="textAreaBottom" fmla="*/ 955440 h 955080"/>
              </a:gdLst>
              <a:ahLst/>
              <a:rect l="textAreaLeft" t="textAreaTop" r="textAreaRight" b="textAreaBottom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12"/>
          <p:cNvSpPr/>
          <p:nvPr/>
        </p:nvSpPr>
        <p:spPr>
          <a:xfrm>
            <a:off x="287280" y="135396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287280" y="338472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5"/>
          <p:cNvGrpSpPr/>
          <p:nvPr/>
        </p:nvGrpSpPr>
        <p:grpSpPr>
          <a:xfrm>
            <a:off x="2193840" y="3357720"/>
            <a:ext cx="2005200" cy="2714040"/>
            <a:chOff x="2193840" y="3357720"/>
            <a:chExt cx="2005200" cy="2714040"/>
          </a:xfrm>
        </p:grpSpPr>
        <p:sp>
          <p:nvSpPr>
            <p:cNvPr id="52" name="Freeform 16"/>
            <p:cNvSpPr/>
            <p:nvPr/>
          </p:nvSpPr>
          <p:spPr>
            <a:xfrm>
              <a:off x="3191760" y="3437280"/>
              <a:ext cx="1007280" cy="1420200"/>
            </a:xfrm>
            <a:custGeom>
              <a:avLst/>
              <a:gdLst>
                <a:gd name="textAreaLeft" fmla="*/ 0 w 1007280"/>
                <a:gd name="textAreaRight" fmla="*/ 1007640 w 1007280"/>
                <a:gd name="textAreaTop" fmla="*/ 0 h 1420200"/>
                <a:gd name="textAreaBottom" fmla="*/ 1420560 h 142020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7"/>
            <p:cNvSpPr/>
            <p:nvPr/>
          </p:nvSpPr>
          <p:spPr>
            <a:xfrm>
              <a:off x="2193840" y="3437280"/>
              <a:ext cx="1141560" cy="263448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34480"/>
                <a:gd name="textAreaBottom" fmla="*/ 2634840 h 263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18"/>
            <p:cNvSpPr/>
            <p:nvPr/>
          </p:nvSpPr>
          <p:spPr>
            <a:xfrm>
              <a:off x="3190680" y="364428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19"/>
            <p:cNvSpPr/>
            <p:nvPr/>
          </p:nvSpPr>
          <p:spPr>
            <a:xfrm>
              <a:off x="3287160" y="335772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0"/>
          <p:cNvGrpSpPr/>
          <p:nvPr/>
        </p:nvGrpSpPr>
        <p:grpSpPr>
          <a:xfrm>
            <a:off x="5997600" y="3429000"/>
            <a:ext cx="1527120" cy="1384200"/>
            <a:chOff x="5997600" y="3429000"/>
            <a:chExt cx="1527120" cy="1384200"/>
          </a:xfrm>
        </p:grpSpPr>
        <p:sp>
          <p:nvSpPr>
            <p:cNvPr id="57" name="Freeform 21"/>
            <p:cNvSpPr/>
            <p:nvPr/>
          </p:nvSpPr>
          <p:spPr>
            <a:xfrm>
              <a:off x="6708600" y="3466440"/>
              <a:ext cx="816120" cy="133848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1338480"/>
                <a:gd name="textAreaBottom" fmla="*/ 1338480 h 133848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2"/>
            <p:cNvSpPr/>
            <p:nvPr/>
          </p:nvSpPr>
          <p:spPr>
            <a:xfrm>
              <a:off x="5997600" y="3474360"/>
              <a:ext cx="816120" cy="1338840"/>
            </a:xfrm>
            <a:custGeom>
              <a:avLst/>
              <a:gdLst>
                <a:gd name="textAreaLeft" fmla="*/ 0 w 816120"/>
                <a:gd name="textAreaRight" fmla="*/ 816480 w 816120"/>
                <a:gd name="textAreaTop" fmla="*/ 0 h 1338840"/>
                <a:gd name="textAreaBottom" fmla="*/ 1339200 h 1338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3"/>
            <p:cNvSpPr/>
            <p:nvPr/>
          </p:nvSpPr>
          <p:spPr>
            <a:xfrm>
              <a:off x="6536520" y="3429000"/>
              <a:ext cx="91080" cy="88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4"/>
            <p:cNvSpPr/>
            <p:nvPr/>
          </p:nvSpPr>
          <p:spPr>
            <a:xfrm>
              <a:off x="7213680" y="3429720"/>
              <a:ext cx="91080" cy="89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5"/>
          <p:cNvGrpSpPr/>
          <p:nvPr/>
        </p:nvGrpSpPr>
        <p:grpSpPr>
          <a:xfrm>
            <a:off x="3996000" y="3368520"/>
            <a:ext cx="1112760" cy="1560960"/>
            <a:chOff x="3996000" y="3368520"/>
            <a:chExt cx="1112760" cy="1560960"/>
          </a:xfrm>
        </p:grpSpPr>
        <p:sp>
          <p:nvSpPr>
            <p:cNvPr id="62" name="Oval 26"/>
            <p:cNvSpPr/>
            <p:nvPr/>
          </p:nvSpPr>
          <p:spPr>
            <a:xfrm rot="1367400">
              <a:off x="4250880" y="3428640"/>
              <a:ext cx="602280" cy="1440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27"/>
            <p:cNvSpPr/>
            <p:nvPr/>
          </p:nvSpPr>
          <p:spPr>
            <a:xfrm>
              <a:off x="4903200" y="3657240"/>
              <a:ext cx="10044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8"/>
          <p:cNvGrpSpPr/>
          <p:nvPr/>
        </p:nvGrpSpPr>
        <p:grpSpPr>
          <a:xfrm>
            <a:off x="7424640" y="3500280"/>
            <a:ext cx="819360" cy="1332000"/>
            <a:chOff x="7424640" y="3500280"/>
            <a:chExt cx="819360" cy="1332000"/>
          </a:xfrm>
        </p:grpSpPr>
        <p:sp>
          <p:nvSpPr>
            <p:cNvPr id="65" name="Freeform 29"/>
            <p:cNvSpPr/>
            <p:nvPr/>
          </p:nvSpPr>
          <p:spPr>
            <a:xfrm>
              <a:off x="7424640" y="3500280"/>
              <a:ext cx="819360" cy="1332000"/>
            </a:xfrm>
            <a:custGeom>
              <a:avLst/>
              <a:gdLst>
                <a:gd name="textAreaLeft" fmla="*/ 0 w 819360"/>
                <a:gd name="textAreaRight" fmla="*/ 819720 w 81936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30"/>
            <p:cNvSpPr/>
            <p:nvPr/>
          </p:nvSpPr>
          <p:spPr>
            <a:xfrm>
              <a:off x="8100720" y="3870720"/>
              <a:ext cx="90360" cy="90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31"/>
          <p:cNvGrpSpPr/>
          <p:nvPr/>
        </p:nvGrpSpPr>
        <p:grpSpPr>
          <a:xfrm>
            <a:off x="4788000" y="3419640"/>
            <a:ext cx="1428120" cy="1412280"/>
            <a:chOff x="4788000" y="3419640"/>
            <a:chExt cx="1428120" cy="1412280"/>
          </a:xfrm>
        </p:grpSpPr>
        <p:sp>
          <p:nvSpPr>
            <p:cNvPr id="68" name="Freeform 32"/>
            <p:cNvSpPr/>
            <p:nvPr/>
          </p:nvSpPr>
          <p:spPr>
            <a:xfrm>
              <a:off x="4788000" y="3449880"/>
              <a:ext cx="587880" cy="134856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348560"/>
                <a:gd name="textAreaBottom" fmla="*/ 1348920 h 1348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3"/>
            <p:cNvSpPr/>
            <p:nvPr/>
          </p:nvSpPr>
          <p:spPr>
            <a:xfrm>
              <a:off x="5329080" y="3419640"/>
              <a:ext cx="9288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4"/>
            <p:cNvSpPr/>
            <p:nvPr/>
          </p:nvSpPr>
          <p:spPr>
            <a:xfrm>
              <a:off x="5236200" y="3449880"/>
              <a:ext cx="979920" cy="1382040"/>
            </a:xfrm>
            <a:custGeom>
              <a:avLst/>
              <a:gdLst>
                <a:gd name="textAreaLeft" fmla="*/ 0 w 979920"/>
                <a:gd name="textAreaRight" fmla="*/ 980280 w 979920"/>
                <a:gd name="textAreaTop" fmla="*/ 0 h 1382040"/>
                <a:gd name="textAreaBottom" fmla="*/ 1382400 h 138204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AutoShape 35"/>
            <p:cNvSpPr/>
            <p:nvPr/>
          </p:nvSpPr>
          <p:spPr>
            <a:xfrm>
              <a:off x="5236200" y="3696480"/>
              <a:ext cx="9252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Freeform 36"/>
          <p:cNvSpPr/>
          <p:nvPr/>
        </p:nvSpPr>
        <p:spPr>
          <a:xfrm>
            <a:off x="8223120" y="3449520"/>
            <a:ext cx="525600" cy="1289160"/>
          </a:xfrm>
          <a:custGeom>
            <a:avLst/>
            <a:gdLst>
              <a:gd name="textAreaLeft" fmla="*/ 0 w 525600"/>
              <a:gd name="textAreaRight" fmla="*/ 525960 w 525600"/>
              <a:gd name="textAreaTop" fmla="*/ 0 h 1289160"/>
              <a:gd name="textAreaBottom" fmla="*/ 1289520 h 1289160"/>
            </a:gdLst>
            <a:ahLst/>
            <a:rect l="textAreaLeft" t="textAreaTop" r="textAreaRight" b="textAreaBottom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95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2"/>
          <p:cNvGrpSpPr/>
          <p:nvPr/>
        </p:nvGrpSpPr>
        <p:grpSpPr>
          <a:xfrm>
            <a:off x="2367000" y="527040"/>
            <a:ext cx="2685960" cy="4241880"/>
            <a:chOff x="2367000" y="527040"/>
            <a:chExt cx="2685960" cy="4241880"/>
          </a:xfrm>
        </p:grpSpPr>
        <p:sp>
          <p:nvSpPr>
            <p:cNvPr id="199" name="Freeform 11"/>
            <p:cNvSpPr/>
            <p:nvPr/>
          </p:nvSpPr>
          <p:spPr>
            <a:xfrm>
              <a:off x="2367000" y="527040"/>
              <a:ext cx="2685960" cy="42418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4241880"/>
                <a:gd name="textAreaBottom" fmla="*/ 4242240 h 4241880"/>
              </a:gdLst>
              <a:ahLst/>
              <a:rect l="textAreaLeft" t="textAreaTop" r="textAreaRight" b="textAreaBottom"/>
              <a:pathLst>
                <a:path w="1692" h="2672">
                  <a:moveTo>
                    <a:pt x="27" y="2254"/>
                  </a:moveTo>
                  <a:cubicBezTo>
                    <a:pt x="25" y="2276"/>
                    <a:pt x="3" y="2329"/>
                    <a:pt x="9" y="2386"/>
                  </a:cubicBezTo>
                  <a:cubicBezTo>
                    <a:pt x="15" y="2443"/>
                    <a:pt x="0" y="2550"/>
                    <a:pt x="65" y="2594"/>
                  </a:cubicBezTo>
                  <a:cubicBezTo>
                    <a:pt x="130" y="2638"/>
                    <a:pt x="289" y="2672"/>
                    <a:pt x="399" y="2650"/>
                  </a:cubicBezTo>
                  <a:cubicBezTo>
                    <a:pt x="509" y="2628"/>
                    <a:pt x="608" y="2584"/>
                    <a:pt x="723" y="2464"/>
                  </a:cubicBezTo>
                  <a:cubicBezTo>
                    <a:pt x="838" y="2344"/>
                    <a:pt x="1031" y="2090"/>
                    <a:pt x="1089" y="1930"/>
                  </a:cubicBezTo>
                  <a:cubicBezTo>
                    <a:pt x="1147" y="1770"/>
                    <a:pt x="1116" y="1599"/>
                    <a:pt x="1071" y="1504"/>
                  </a:cubicBezTo>
                  <a:cubicBezTo>
                    <a:pt x="1026" y="1409"/>
                    <a:pt x="886" y="1378"/>
                    <a:pt x="821" y="1358"/>
                  </a:cubicBezTo>
                  <a:cubicBezTo>
                    <a:pt x="756" y="1338"/>
                    <a:pt x="636" y="1424"/>
                    <a:pt x="681" y="1384"/>
                  </a:cubicBezTo>
                  <a:cubicBezTo>
                    <a:pt x="726" y="1344"/>
                    <a:pt x="948" y="1232"/>
                    <a:pt x="1089" y="1120"/>
                  </a:cubicBezTo>
                  <a:cubicBezTo>
                    <a:pt x="1230" y="1008"/>
                    <a:pt x="1429" y="841"/>
                    <a:pt x="1527" y="712"/>
                  </a:cubicBezTo>
                  <a:cubicBezTo>
                    <a:pt x="1625" y="583"/>
                    <a:pt x="1666" y="454"/>
                    <a:pt x="1679" y="344"/>
                  </a:cubicBezTo>
                  <a:cubicBezTo>
                    <a:pt x="1692" y="234"/>
                    <a:pt x="1681" y="97"/>
                    <a:pt x="1605" y="52"/>
                  </a:cubicBezTo>
                  <a:cubicBezTo>
                    <a:pt x="1529" y="7"/>
                    <a:pt x="1340" y="0"/>
                    <a:pt x="1221" y="76"/>
                  </a:cubicBezTo>
                  <a:cubicBezTo>
                    <a:pt x="1102" y="152"/>
                    <a:pt x="960" y="418"/>
                    <a:pt x="891" y="50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9"/>
            <p:cNvSpPr/>
            <p:nvPr/>
          </p:nvSpPr>
          <p:spPr>
            <a:xfrm>
              <a:off x="3708360" y="12682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6"/>
          <p:cNvGrpSpPr/>
          <p:nvPr/>
        </p:nvGrpSpPr>
        <p:grpSpPr>
          <a:xfrm>
            <a:off x="4572000" y="2565360"/>
            <a:ext cx="2808360" cy="4249440"/>
            <a:chOff x="4572000" y="2565360"/>
            <a:chExt cx="2808360" cy="4249440"/>
          </a:xfrm>
        </p:grpSpPr>
        <p:sp>
          <p:nvSpPr>
            <p:cNvPr id="202" name="Freeform 14"/>
            <p:cNvSpPr/>
            <p:nvPr/>
          </p:nvSpPr>
          <p:spPr>
            <a:xfrm>
              <a:off x="4572000" y="2565360"/>
              <a:ext cx="2808360" cy="4249440"/>
            </a:xfrm>
            <a:custGeom>
              <a:avLst/>
              <a:gdLst>
                <a:gd name="textAreaLeft" fmla="*/ 0 w 2808360"/>
                <a:gd name="textAreaRight" fmla="*/ 2808720 w 2808360"/>
                <a:gd name="textAreaTop" fmla="*/ 0 h 4249440"/>
                <a:gd name="textAreaBottom" fmla="*/ 4249440 h 4249440"/>
              </a:gdLst>
              <a:ahLst/>
              <a:rect l="textAreaLeft" t="textAreaTop" r="textAreaRight" b="textAreaBottom"/>
              <a:pathLst>
                <a:path w="1769" h="2677">
                  <a:moveTo>
                    <a:pt x="1769" y="1034"/>
                  </a:moveTo>
                  <a:cubicBezTo>
                    <a:pt x="1516" y="1224"/>
                    <a:pt x="502" y="1907"/>
                    <a:pt x="251" y="2174"/>
                  </a:cubicBezTo>
                  <a:cubicBezTo>
                    <a:pt x="0" y="2441"/>
                    <a:pt x="197" y="2595"/>
                    <a:pt x="263" y="2636"/>
                  </a:cubicBezTo>
                  <a:cubicBezTo>
                    <a:pt x="329" y="2677"/>
                    <a:pt x="537" y="2544"/>
                    <a:pt x="647" y="2420"/>
                  </a:cubicBezTo>
                  <a:cubicBezTo>
                    <a:pt x="757" y="2296"/>
                    <a:pt x="866" y="2056"/>
                    <a:pt x="923" y="1892"/>
                  </a:cubicBezTo>
                  <a:cubicBezTo>
                    <a:pt x="980" y="1728"/>
                    <a:pt x="1014" y="1534"/>
                    <a:pt x="989" y="1436"/>
                  </a:cubicBezTo>
                  <a:cubicBezTo>
                    <a:pt x="964" y="1338"/>
                    <a:pt x="833" y="1320"/>
                    <a:pt x="774" y="1302"/>
                  </a:cubicBezTo>
                  <a:cubicBezTo>
                    <a:pt x="715" y="1284"/>
                    <a:pt x="594" y="1372"/>
                    <a:pt x="634" y="1328"/>
                  </a:cubicBezTo>
                  <a:cubicBezTo>
                    <a:pt x="674" y="1284"/>
                    <a:pt x="885" y="1159"/>
                    <a:pt x="1013" y="1040"/>
                  </a:cubicBezTo>
                  <a:cubicBezTo>
                    <a:pt x="1141" y="921"/>
                    <a:pt x="1312" y="739"/>
                    <a:pt x="1403" y="614"/>
                  </a:cubicBezTo>
                  <a:cubicBezTo>
                    <a:pt x="1494" y="489"/>
                    <a:pt x="1547" y="386"/>
                    <a:pt x="1559" y="290"/>
                  </a:cubicBezTo>
                  <a:cubicBezTo>
                    <a:pt x="1571" y="194"/>
                    <a:pt x="1530" y="76"/>
                    <a:pt x="1475" y="38"/>
                  </a:cubicBezTo>
                  <a:cubicBezTo>
                    <a:pt x="1420" y="0"/>
                    <a:pt x="1305" y="25"/>
                    <a:pt x="1229" y="62"/>
                  </a:cubicBezTo>
                  <a:cubicBezTo>
                    <a:pt x="1153" y="99"/>
                    <a:pt x="1063" y="219"/>
                    <a:pt x="1019" y="26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5"/>
            <p:cNvSpPr/>
            <p:nvPr/>
          </p:nvSpPr>
          <p:spPr>
            <a:xfrm>
              <a:off x="6156360" y="285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208760" y="19332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32562E-008 L 0.01788 -0.04556 L 0.04305 -0.08765 L 0.06979 -0.11957 L 0.10382 -0.12465 L 0.12795 -0.11124 L 0.1368 -0.08765 L 0.1368 -0.03862 L 0.12795 0.00185 L 0.10764 0.05227 L 0.06718 0.10291 L -0.0467 0.20236 L -0.02136 0.19565 L 0.00382 0.20074 L 0.02916 0.21762 L 0.04184 0.25301 L 0.0368 0.31545 L 0.01146 0.37789 L -0.02778 0.44195 L -0.05313 0.47734 L -0.08351 0.49237 L -0.11389 0.49422 L -0.14167 0.48242 L -0.15174 0.46716 L -0.15313 0.39801 E">
                                      <p:cBhvr>
                                        <p:cTn id="104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4 0.2308 L 0.3026 0.18871 L 0.33177 0.17183 L 0.35955 0.17368 L 0.371 0.19889 L 0.37222 0.23265 L 0.3533 0.29163 L 0.29757 0.37766 L 0.25208 0.43316 L 0.2026 0.48034 L 0.23298 0.4704 L 0.24826 0.47363 L 0.26093 0.48219 L 0.271 0.50231 L 0.2684 0.55296 L 0.26093 0.60361 L 0.24184 0.66605 L 0.21267 0.72826 L 0.1875 0.75694 L 0.16093 0.78053 L 0.14305 0.77729 L 0.12413 0.75694 L 0.12031 0.73173 L 0.1217 0.69796 L 0.15573 0.65078 L 0.21649 0.5851 L 0.40642 0.40633 E">
                                      <p:cBhvr>
                                        <p:cTn id="108" dur="5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06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2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10" name="Freeform 15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0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1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24"/>
          <p:cNvGrpSpPr/>
          <p:nvPr/>
        </p:nvGrpSpPr>
        <p:grpSpPr>
          <a:xfrm>
            <a:off x="1619280" y="504720"/>
            <a:ext cx="3097080" cy="4345200"/>
            <a:chOff x="1619280" y="504720"/>
            <a:chExt cx="3097080" cy="4345200"/>
          </a:xfrm>
        </p:grpSpPr>
        <p:sp>
          <p:nvSpPr>
            <p:cNvPr id="215" name="Freeform 14"/>
            <p:cNvSpPr/>
            <p:nvPr/>
          </p:nvSpPr>
          <p:spPr>
            <a:xfrm>
              <a:off x="1668600" y="504720"/>
              <a:ext cx="1714320" cy="434520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4345200"/>
                <a:gd name="textAreaBottom" fmla="*/ 4345560 h 4345200"/>
              </a:gdLst>
              <a:ahLst/>
              <a:rect l="textAreaLeft" t="textAreaTop" r="textAreaRight" b="textAreaBottom"/>
              <a:pathLst>
                <a:path w="1080" h="2737">
                  <a:moveTo>
                    <a:pt x="894" y="2330"/>
                  </a:moveTo>
                  <a:cubicBezTo>
                    <a:pt x="788" y="2392"/>
                    <a:pt x="396" y="2669"/>
                    <a:pt x="259" y="2703"/>
                  </a:cubicBezTo>
                  <a:cubicBezTo>
                    <a:pt x="122" y="2737"/>
                    <a:pt x="60" y="2688"/>
                    <a:pt x="74" y="2537"/>
                  </a:cubicBezTo>
                  <a:cubicBezTo>
                    <a:pt x="88" y="2386"/>
                    <a:pt x="193" y="2138"/>
                    <a:pt x="344" y="1797"/>
                  </a:cubicBezTo>
                  <a:cubicBezTo>
                    <a:pt x="495" y="1456"/>
                    <a:pt x="878" y="783"/>
                    <a:pt x="979" y="493"/>
                  </a:cubicBezTo>
                  <a:cubicBezTo>
                    <a:pt x="1080" y="203"/>
                    <a:pt x="1023" y="112"/>
                    <a:pt x="951" y="56"/>
                  </a:cubicBezTo>
                  <a:cubicBezTo>
                    <a:pt x="879" y="0"/>
                    <a:pt x="707" y="82"/>
                    <a:pt x="549" y="157"/>
                  </a:cubicBezTo>
                  <a:cubicBezTo>
                    <a:pt x="391" y="232"/>
                    <a:pt x="114" y="433"/>
                    <a:pt x="0" y="50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9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138560"/>
                <a:gd name="textAreaBottom" fmla="*/ 4138920 h 4138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9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062440" y="1202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46068E-006 L 0.03542 -0.03701 L 0.07205 -0.06406 L 0.11007 -0.09274 L 0.13663 -0.10615 L 0.15937 -0.11124 L 0.1684 -0.09945 L 0.17587 -0.07586 C 0.17674 -0.06684 0.17743 -0.05782 0.17847 -0.0488 C 0.17864 -0.04695 0.17969 -0.04371 0.17969 -0.04348 L 0.1684 -0.00324 L 0.02778 0.38274 L 0.01389 0.44519 L 0.01267 0.49075 L 0.01389 0.50601 L 0.02535 0.51595 L 0.04809 0.51087 L 0.1493 0.42507 E">
                                      <p:cBhvr>
                                        <p:cTn id="114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125 -0.07586 L 0.18438 0.33881 L 0.15278 0.44681 L 0.14896 0.48057 L 0.15278 0.51434 L 0.17934 0.51596 L 0.20712 0.50416 L 0.29323 0.42831 E">
                                      <p:cBhvr>
                                        <p:cTn id="117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796 0.19935 L 0.43108 0.33094 L 0.39445 0.42877 L 0.37917 0.47086 L 0.37796 0.49954 L 0.38941 0.50971 L 0.41598 0.50971 L 0.50712 0.42877 L 0.52223 0.40518 L 0.56268 0.31568 L 0.60452 0.19611 L 0.50452 0.47086 L 0.50191 0.49283 L 0.50834 0.50786 L 0.52987 0.51133 L 0.57796 0.48612 L 0.64115 0.41697 E">
                                      <p:cBhvr>
                                        <p:cTn id="121" dur="5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21" name="Line 3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6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25" name="Freeform 7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8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40200"/>
                <a:gd name="textAreaBottom" fmla="*/ 2140560 h 21402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9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0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8"/>
          <p:cNvGrpSpPr/>
          <p:nvPr/>
        </p:nvGrpSpPr>
        <p:grpSpPr>
          <a:xfrm>
            <a:off x="1619280" y="534960"/>
            <a:ext cx="3097080" cy="4314960"/>
            <a:chOff x="1619280" y="534960"/>
            <a:chExt cx="3097080" cy="4314960"/>
          </a:xfrm>
        </p:grpSpPr>
        <p:sp>
          <p:nvSpPr>
            <p:cNvPr id="230" name="Freeform 12"/>
            <p:cNvSpPr/>
            <p:nvPr/>
          </p:nvSpPr>
          <p:spPr>
            <a:xfrm>
              <a:off x="1668600" y="534960"/>
              <a:ext cx="1736640" cy="431496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4314960"/>
                <a:gd name="textAreaBottom" fmla="*/ 4315320 h 4314960"/>
              </a:gdLst>
              <a:ahLst/>
              <a:rect l="textAreaLeft" t="textAreaTop" r="textAreaRight" b="textAreaBottom"/>
              <a:pathLst>
                <a:path w="1094" h="2718">
                  <a:moveTo>
                    <a:pt x="894" y="2311"/>
                  </a:moveTo>
                  <a:cubicBezTo>
                    <a:pt x="788" y="2373"/>
                    <a:pt x="396" y="2650"/>
                    <a:pt x="259" y="2684"/>
                  </a:cubicBezTo>
                  <a:cubicBezTo>
                    <a:pt x="122" y="2718"/>
                    <a:pt x="60" y="2669"/>
                    <a:pt x="74" y="2518"/>
                  </a:cubicBezTo>
                  <a:cubicBezTo>
                    <a:pt x="88" y="2367"/>
                    <a:pt x="191" y="2128"/>
                    <a:pt x="344" y="1778"/>
                  </a:cubicBezTo>
                  <a:cubicBezTo>
                    <a:pt x="497" y="1428"/>
                    <a:pt x="894" y="710"/>
                    <a:pt x="994" y="421"/>
                  </a:cubicBezTo>
                  <a:cubicBezTo>
                    <a:pt x="1094" y="132"/>
                    <a:pt x="1020" y="94"/>
                    <a:pt x="946" y="47"/>
                  </a:cubicBezTo>
                  <a:cubicBezTo>
                    <a:pt x="872" y="0"/>
                    <a:pt x="707" y="65"/>
                    <a:pt x="549" y="138"/>
                  </a:cubicBezTo>
                  <a:cubicBezTo>
                    <a:pt x="391" y="211"/>
                    <a:pt x="114" y="414"/>
                    <a:pt x="0" y="48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3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4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138560"/>
                <a:gd name="textAreaBottom" fmla="*/ 4138920 h 4138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Freeform 16"/>
          <p:cNvSpPr/>
          <p:nvPr/>
        </p:nvSpPr>
        <p:spPr>
          <a:xfrm>
            <a:off x="6138720" y="2308320"/>
            <a:ext cx="727200" cy="239760"/>
          </a:xfrm>
          <a:custGeom>
            <a:avLst/>
            <a:gdLst>
              <a:gd name="textAreaLeft" fmla="*/ 0 w 727200"/>
              <a:gd name="textAreaRight" fmla="*/ 727560 w 72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7"/>
          <p:cNvSpPr/>
          <p:nvPr/>
        </p:nvSpPr>
        <p:spPr>
          <a:xfrm>
            <a:off x="3438360" y="309600"/>
            <a:ext cx="727200" cy="239760"/>
          </a:xfrm>
          <a:custGeom>
            <a:avLst/>
            <a:gdLst>
              <a:gd name="textAreaLeft" fmla="*/ 0 w 727200"/>
              <a:gd name="textAreaRight" fmla="*/ 727560 w 72720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22200" y="1206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4.29232E-006 L 0.04549 -0.04394 L 0.08976 -0.07747 L 0.13924 -0.10453 L 0.1658 -0.10291 L 0.17726 -0.07261 L 0.17465 -0.02035 L 0.13542 0.07748 L 0.04931 0.31522 L 0.02778 0.39293 L 0.01389 0.44334 L 0.01007 0.48567 L 0.01649 0.50764 L 0.03038 0.51758 L 0.07205 0.49399 L 0.12153 0.44843 L 0.15816 0.4149 L 0.32899 -0.11124 L 0.14931 0.44334 L 0.14306 0.4822 L 0.15313 0.51249 L 0.17083 0.50925 L 0.21267 0.48728 L 0.28733 0.41814 E">
                                      <p:cBhvr>
                                        <p:cTn id="127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757 -0.13645 L 0.21788 -0.12142 L 0.23802 -0.11124 L 0.27483 -0.145 E">
                                      <p:cBhvr>
                                        <p:cTn id="130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014 0.2056 L 0.40556 0.39269 L 0.37014 0.48381 L 0.37136 0.5074 L 0.39288 0.51758 L 0.4283 0.50231 L 0.52066 0.41651 L 0.5967 0.19889 L 0.49913 0.47549 L 0.4967 0.50416 L 0.50938 0.51411 L 0.53594 0.50925 L 0.63455 0.42137 E">
                                      <p:cBhvr>
                                        <p:cTn id="134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889 0.15217 C 0.49445 0.15449 0.49445 0.15957 0.50035 0.16235 C 0.5033 0.16374 0.5092 0.16559 0.5092 0.16582 L 0.53438 0.17923 L 0.5724 0.142 E">
                                      <p:cBhvr>
                                        <p:cTn id="137" dur="5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14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>
              <a:gd name="textAreaLeft" fmla="*/ 0 w 958680"/>
              <a:gd name="textAreaRight" fmla="*/ 959040 w 95868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39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Group 20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243" name="Freeform 13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>
                <a:gd name="textAreaLeft" fmla="*/ 0 w 3746520"/>
                <a:gd name="textAreaRight" fmla="*/ 3746880 w 374652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2197080"/>
                <a:gd name="textAreaBottom" fmla="*/ 2197440 h 2197080"/>
              </a:gdLst>
              <a:ahLst/>
              <a:rect l="textAreaLeft" t="textAreaTop" r="textAreaRight" b="textAreaBottom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10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9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11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217520"/>
              <a:gd name="textAreaBottom" fmla="*/ 1217880 h 1217520"/>
            </a:gdLst>
            <a:ahLst/>
            <a:rect l="textAreaLeft" t="textAreaTop" r="textAreaRight" b="textAreaBottom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3044160" y="2253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62627E-006 C 0.00052 -0.00185 0.00105 -0.00347 0.00138 -0.00532 C 0.0019 -0.00764 0.00261 -0.0118 0.00261 -0.01157 L 0.10382 -0.1383 L -0.07587 0.44195 L -0.09236 0.48219 L -0.11893 0.50069 L -0.13039 0.49745 L -0.14046 0.48219 L -0.13924 0.43501 L -0.12535 0.39801 L -0.00122 0.18871 L 0.16337 -0.05898 L 0.20001 -0.10777 L 0.22153 -0.12304 L 0.23681 -0.12628 L 0.24428 -0.11286 L 0.25313 -0.05227 E">
                                      <p:cBhvr>
                                        <p:cTn id="143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18409 C 0.00521 0.18409 0.00816 0.18409 0.01111 0.18409 L 0.06684 0.179 L 0.09583 0.18085 L 0.1099 0.21948 L 0.10226 0.30042 L 0.06927 0.44219 L 0.06806 0.4741 L 0.07431 0.49098 L 0.09722 0.48936 L 0.12378 0.47919 L 0.16545 0.43039 L 0.21111 0.37466 E">
                                      <p:cBhvr>
                                        <p:cTn id="146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514 0.17854 L 0.2901 0.5007 L 0.35851 0.31013 L 0.41285 0.24954 L 0.45712 0.19727 L 0.47621 0.18363 L 0.49132 0.19219 L 0.49392 0.20907 L 0.4901 0.23936 E">
                                      <p:cBhvr>
                                        <p:cTn id="150" dur="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66 0.32077 C 0.35833 0.3173 0.36163 0.3106 0.36163 0.31083 L 0.40729 0.30736 L 0.43246 0.30736 L 0.44774 0.3291 L 0.44514 0.37304 L 0.4224 0.45907 L 0.4224 0.48104 L 0.43385 0.49098 L 0.45538 0.47248 L 0.54514 0.37466 E">
                                      <p:cBhvr>
                                        <p:cTn id="153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5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17"/>
          <p:cNvGrpSpPr/>
          <p:nvPr/>
        </p:nvGrpSpPr>
        <p:grpSpPr>
          <a:xfrm>
            <a:off x="932040" y="527040"/>
            <a:ext cx="3639960" cy="4219560"/>
            <a:chOff x="932040" y="527040"/>
            <a:chExt cx="3639960" cy="4219560"/>
          </a:xfrm>
        </p:grpSpPr>
        <p:sp>
          <p:nvSpPr>
            <p:cNvPr id="257" name="Freeform 11"/>
            <p:cNvSpPr/>
            <p:nvPr/>
          </p:nvSpPr>
          <p:spPr>
            <a:xfrm>
              <a:off x="934920" y="527040"/>
              <a:ext cx="3637080" cy="4219560"/>
            </a:xfrm>
            <a:custGeom>
              <a:avLst/>
              <a:gdLst>
                <a:gd name="textAreaLeft" fmla="*/ 0 w 3637080"/>
                <a:gd name="textAreaRight" fmla="*/ 3637440 w 3637080"/>
                <a:gd name="textAreaTop" fmla="*/ 0 h 4219560"/>
                <a:gd name="textAreaBottom" fmla="*/ 4219920 h 4219560"/>
              </a:gdLst>
              <a:ahLst/>
              <a:rect l="textAreaLeft" t="textAreaTop" r="textAreaRight" b="textAreaBottom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2"/>
            <p:cNvSpPr/>
            <p:nvPr/>
          </p:nvSpPr>
          <p:spPr>
            <a:xfrm>
              <a:off x="2927520" y="527040"/>
              <a:ext cx="1644480" cy="42195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19560"/>
                <a:gd name="textAreaBottom" fmla="*/ 4219920 h 42195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9"/>
            <p:cNvSpPr/>
            <p:nvPr/>
          </p:nvSpPr>
          <p:spPr>
            <a:xfrm>
              <a:off x="932040" y="39988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6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1" name="Freeform 13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4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>
                <a:gd name="textAreaLeft" fmla="*/ 0 w 2089440"/>
                <a:gd name="textAreaRight" fmla="*/ 2089440 w 2089440"/>
                <a:gd name="textAreaTop" fmla="*/ 0 h 2027880"/>
                <a:gd name="textAreaBottom" fmla="*/ 2028240 h 2027880"/>
              </a:gdLst>
              <a:ahLst/>
              <a:rect l="textAreaLeft" t="textAreaTop" r="textAreaRight" b="textAreaBottom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10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9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5" name="Freeform 20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355840"/>
                <a:gd name="textAreaBottom" fmla="*/ 2356200 h 2355840"/>
              </a:gdLst>
              <a:ahLst/>
              <a:rect l="textAreaLeft" t="textAreaTop" r="textAreaRight" b="textAreaBottom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1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>
                <a:gd name="textAreaLeft" fmla="*/ 0 w 2089440"/>
                <a:gd name="textAreaRight" fmla="*/ 2089440 w 2089440"/>
                <a:gd name="textAreaTop" fmla="*/ 0 h 2027880"/>
                <a:gd name="textAreaBottom" fmla="*/ 2028240 h 2027880"/>
              </a:gdLst>
              <a:ahLst/>
              <a:rect l="textAreaLeft" t="textAreaTop" r="textAreaRight" b="textAreaBottom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2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369440" y="28526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14616E-006 L -0.00261 0.02868 L 0.00243 0.05065 L 0.00885 0.0673 L 0.01649 0.08603 L 0.0342 0.09436 L 0.06076 0.08765 L 0.08854 0.05736 L 0.11128 0.03192 L 0.15312 -0.05065 L 0.35052 -0.47895 L 0.39618 -0.52775 L 0.22534 -0.00509 L 0.21649 0.04718 L 0.21892 0.08095 L 0.22639 0.09436 L 0.24045 0.09274 L 0.28611 0.06059 L 0.36076 -2.14616E-006 E">
                                      <p:cBhvr>
                                        <p:cTn id="159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476 0.01041 L 0.46094 0.04764 L 0.46597 0.07632 L 0.46719 0.09644 L 0.48628 0.10315 L 0.51146 0.09644 L 0.53941 0.07285 L 0.56476 0.0407 L 0.69878 -0.21207 L 0.62413 0.00717 L 0.60521 0.08118 L 0.60642 0.10315 L 0.61285 0.11494 L 0.63559 0.11332 L 0.67101 0.09135 L 0.72917 0.03585 E">
                                      <p:cBhvr>
                                        <p:cTn id="163" dur="5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14"/>
          <p:cNvSpPr/>
          <p:nvPr/>
        </p:nvSpPr>
        <p:spPr>
          <a:xfrm>
            <a:off x="3214800" y="546120"/>
            <a:ext cx="1782720" cy="4298760"/>
          </a:xfrm>
          <a:custGeom>
            <a:avLst/>
            <a:gdLst>
              <a:gd name="textAreaLeft" fmla="*/ 0 w 1782720"/>
              <a:gd name="textAreaRight" fmla="*/ 1783080 w 1782720"/>
              <a:gd name="textAreaTop" fmla="*/ 0 h 4298760"/>
              <a:gd name="textAreaBottom" fmla="*/ 4299120 h 4298760"/>
            </a:gdLst>
            <a:ahLst/>
            <a:rect l="textAreaLeft" t="textAreaTop" r="textAreaRight" b="textAreaBottom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7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AutoShape 10"/>
          <p:cNvSpPr/>
          <p:nvPr/>
        </p:nvSpPr>
        <p:spPr>
          <a:xfrm>
            <a:off x="4853160" y="585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2"/>
          <p:cNvSpPr/>
          <p:nvPr/>
        </p:nvSpPr>
        <p:spPr>
          <a:xfrm>
            <a:off x="71280" y="546120"/>
            <a:ext cx="3637080" cy="421956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19560"/>
              <a:gd name="textAreaBottom" fmla="*/ 4219920 h 4219560"/>
            </a:gdLst>
            <a:ahLst/>
            <a:rect l="textAreaLeft" t="textAreaTop" r="textAreaRight" b="textAreaBottom"/>
            <a:pathLst>
              <a:path w="2200" h="2567">
                <a:moveTo>
                  <a:pt x="23" y="2132"/>
                </a:moveTo>
                <a:cubicBezTo>
                  <a:pt x="11" y="2211"/>
                  <a:pt x="0" y="2291"/>
                  <a:pt x="23" y="2359"/>
                </a:cubicBezTo>
                <a:cubicBezTo>
                  <a:pt x="46" y="2427"/>
                  <a:pt x="98" y="2517"/>
                  <a:pt x="159" y="2540"/>
                </a:cubicBezTo>
                <a:cubicBezTo>
                  <a:pt x="220" y="2563"/>
                  <a:pt x="285" y="2567"/>
                  <a:pt x="386" y="2495"/>
                </a:cubicBezTo>
                <a:cubicBezTo>
                  <a:pt x="487" y="2423"/>
                  <a:pt x="570" y="2385"/>
                  <a:pt x="767" y="2105"/>
                </a:cubicBezTo>
                <a:cubicBezTo>
                  <a:pt x="964" y="1825"/>
                  <a:pt x="1369" y="1135"/>
                  <a:pt x="1565" y="817"/>
                </a:cubicBezTo>
                <a:cubicBezTo>
                  <a:pt x="1761" y="499"/>
                  <a:pt x="1838" y="335"/>
                  <a:pt x="1944" y="199"/>
                </a:cubicBezTo>
                <a:cubicBezTo>
                  <a:pt x="2050" y="63"/>
                  <a:pt x="2147" y="42"/>
                  <a:pt x="2200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13"/>
          <p:cNvSpPr/>
          <p:nvPr/>
        </p:nvSpPr>
        <p:spPr>
          <a:xfrm>
            <a:off x="1919160" y="585720"/>
            <a:ext cx="1789200" cy="4283280"/>
          </a:xfrm>
          <a:custGeom>
            <a:avLst/>
            <a:gdLst>
              <a:gd name="textAreaLeft" fmla="*/ 0 w 1789200"/>
              <a:gd name="textAreaRight" fmla="*/ 1789560 w 1789200"/>
              <a:gd name="textAreaTop" fmla="*/ 0 h 4283280"/>
              <a:gd name="textAreaBottom" fmla="*/ 4283280 h 4283280"/>
            </a:gdLst>
            <a:ahLst/>
            <a:rect l="textAreaLeft" t="textAreaTop" r="textAreaRight" b="textAreaBottom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9"/>
          <p:cNvSpPr/>
          <p:nvPr/>
        </p:nvSpPr>
        <p:spPr>
          <a:xfrm>
            <a:off x="0" y="4076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9"/>
          <p:cNvGrpSpPr/>
          <p:nvPr/>
        </p:nvGrpSpPr>
        <p:grpSpPr>
          <a:xfrm>
            <a:off x="4600440" y="2720880"/>
            <a:ext cx="3549600" cy="2232000"/>
            <a:chOff x="4600440" y="2720880"/>
            <a:chExt cx="3549600" cy="2232000"/>
          </a:xfrm>
        </p:grpSpPr>
        <p:sp>
          <p:nvSpPr>
            <p:cNvPr id="279" name="Freeform 15"/>
            <p:cNvSpPr/>
            <p:nvPr/>
          </p:nvSpPr>
          <p:spPr>
            <a:xfrm>
              <a:off x="5749920" y="2720880"/>
              <a:ext cx="1305000" cy="223200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232000"/>
                <a:gd name="textAreaBottom" fmla="*/ 2232360 h 223200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6845400" y="2720880"/>
              <a:ext cx="1304640" cy="2207880"/>
            </a:xfrm>
            <a:custGeom>
              <a:avLst/>
              <a:gdLst>
                <a:gd name="textAreaLeft" fmla="*/ 0 w 1304640"/>
                <a:gd name="textAreaRight" fmla="*/ 1305000 w 1304640"/>
                <a:gd name="textAreaTop" fmla="*/ 0 h 2207880"/>
                <a:gd name="textAreaBottom" fmla="*/ 2208240 h 220788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4606920" y="2725560"/>
              <a:ext cx="2084400" cy="2111400"/>
            </a:xfrm>
            <a:custGeom>
              <a:avLst/>
              <a:gdLst>
                <a:gd name="textAreaLeft" fmla="*/ 0 w 2084400"/>
                <a:gd name="textAreaRight" fmla="*/ 2084760 w 2084400"/>
                <a:gd name="textAreaTop" fmla="*/ 0 h 2111400"/>
                <a:gd name="textAreaBottom" fmla="*/ 2111760 h 2111400"/>
              </a:gdLst>
              <a:ahLst/>
              <a:rect l="textAreaLeft" t="textAreaTop" r="textAreaRight" b="textAreaBottom"/>
              <a:pathLst>
                <a:path w="1222" h="1284">
                  <a:moveTo>
                    <a:pt x="27" y="828"/>
                  </a:moveTo>
                  <a:cubicBezTo>
                    <a:pt x="15" y="907"/>
                    <a:pt x="0" y="980"/>
                    <a:pt x="27" y="1055"/>
                  </a:cubicBezTo>
                  <a:cubicBezTo>
                    <a:pt x="54" y="1130"/>
                    <a:pt x="104" y="1284"/>
                    <a:pt x="189" y="1280"/>
                  </a:cubicBezTo>
                  <a:cubicBezTo>
                    <a:pt x="274" y="1276"/>
                    <a:pt x="365" y="1246"/>
                    <a:pt x="537" y="1033"/>
                  </a:cubicBezTo>
                  <a:cubicBezTo>
                    <a:pt x="709" y="820"/>
                    <a:pt x="1079" y="215"/>
                    <a:pt x="12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11"/>
            <p:cNvSpPr/>
            <p:nvPr/>
          </p:nvSpPr>
          <p:spPr>
            <a:xfrm>
              <a:off x="4600440" y="41176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18"/>
            <p:cNvSpPr/>
            <p:nvPr/>
          </p:nvSpPr>
          <p:spPr>
            <a:xfrm>
              <a:off x="7708680" y="27208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02920" y="30020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10083E-006 L 0.00121 0.03885 L 0.00625 0.06244 L 0.02014 0.08418 L 0.03663 0.09274 L 0.05312 0.09112 L 0.07847 0.06915 L 0.10121 0.04209 L 0.14305 -0.0303 L 0.24548 -0.26804 L 0.33542 -0.46878 L 0.4 -0.53631 L 0.21007 0.02012 L 0.20382 0.07585 L 0.21267 0.09944 L 0.2342 0.10615 L 0.28976 0.06406 L 0.35816 0.00347 L 0.54305 -0.53122 L 0.34548 0.04394 L 0.34809 0.08765 L 0.35816 0.09944 L 0.38732 0.09782 L 0.50121 0.00671 E">
                                      <p:cBhvr>
                                        <p:cTn id="169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121 0.0067 L 0.50746 0.0747 L 0.52135 0.10337 L 0.53906 0.11655 L 0.57465 0.09135 L 0.72778 -0.19612 L 0.62899 0.09297 L 0.6316 0.12025 L 0.65434 0.12881 L 0.69739 0.10175 L 0.76944 0.02729 L 0.8493 -0.20283 L 0.7493 0.08649 L 0.75052 0.12025 L 0.77326 0.12187 L 0.79861 0.11355 L 0.88594 0.0289 E">
                                      <p:cBhvr>
                                        <p:cTn id="173" dur="5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8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1"/>
          <p:cNvGrpSpPr/>
          <p:nvPr/>
        </p:nvGrpSpPr>
        <p:grpSpPr>
          <a:xfrm>
            <a:off x="1336680" y="453960"/>
            <a:ext cx="3306600" cy="4654440"/>
            <a:chOff x="1336680" y="453960"/>
            <a:chExt cx="3306600" cy="4654440"/>
          </a:xfrm>
        </p:grpSpPr>
        <p:sp>
          <p:nvSpPr>
            <p:cNvPr id="290" name="Freeform 14"/>
            <p:cNvSpPr/>
            <p:nvPr/>
          </p:nvSpPr>
          <p:spPr>
            <a:xfrm>
              <a:off x="1336680" y="453960"/>
              <a:ext cx="2371680" cy="4654440"/>
            </a:xfrm>
            <a:custGeom>
              <a:avLst/>
              <a:gdLst>
                <a:gd name="textAreaLeft" fmla="*/ 0 w 2371680"/>
                <a:gd name="textAreaRight" fmla="*/ 2372040 w 2371680"/>
                <a:gd name="textAreaTop" fmla="*/ 0 h 4654440"/>
                <a:gd name="textAreaBottom" fmla="*/ 4654800 h 4654440"/>
              </a:gdLst>
              <a:ahLst/>
              <a:rect l="textAreaLeft" t="textAreaTop" r="textAreaRight" b="textAreaBottom"/>
              <a:pathLst>
                <a:path w="1627" h="2932">
                  <a:moveTo>
                    <a:pt x="1627" y="1471"/>
                  </a:moveTo>
                  <a:cubicBezTo>
                    <a:pt x="1485" y="1500"/>
                    <a:pt x="1030" y="1499"/>
                    <a:pt x="773" y="1646"/>
                  </a:cubicBezTo>
                  <a:cubicBezTo>
                    <a:pt x="516" y="1793"/>
                    <a:pt x="176" y="2182"/>
                    <a:pt x="88" y="2355"/>
                  </a:cubicBezTo>
                  <a:cubicBezTo>
                    <a:pt x="0" y="2528"/>
                    <a:pt x="80" y="2932"/>
                    <a:pt x="243" y="2684"/>
                  </a:cubicBezTo>
                  <a:cubicBezTo>
                    <a:pt x="406" y="2436"/>
                    <a:pt x="878" y="1297"/>
                    <a:pt x="1066" y="869"/>
                  </a:cubicBezTo>
                  <a:cubicBezTo>
                    <a:pt x="1254" y="441"/>
                    <a:pt x="1333" y="230"/>
                    <a:pt x="1368" y="115"/>
                  </a:cubicBezTo>
                  <a:cubicBezTo>
                    <a:pt x="1403" y="0"/>
                    <a:pt x="1373" y="91"/>
                    <a:pt x="1277" y="179"/>
                  </a:cubicBezTo>
                  <a:cubicBezTo>
                    <a:pt x="1181" y="267"/>
                    <a:pt x="893" y="548"/>
                    <a:pt x="792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2927520" y="566640"/>
              <a:ext cx="1644480" cy="430236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02360"/>
                <a:gd name="textAreaBottom" fmla="*/ 4302720 h 43023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9"/>
            <p:cNvSpPr/>
            <p:nvPr/>
          </p:nvSpPr>
          <p:spPr>
            <a:xfrm>
              <a:off x="248292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10"/>
            <p:cNvSpPr/>
            <p:nvPr/>
          </p:nvSpPr>
          <p:spPr>
            <a:xfrm>
              <a:off x="4498920" y="45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20"/>
          <p:cNvGrpSpPr/>
          <p:nvPr/>
        </p:nvGrpSpPr>
        <p:grpSpPr>
          <a:xfrm>
            <a:off x="5241960" y="2630880"/>
            <a:ext cx="2564280" cy="2238120"/>
            <a:chOff x="5241960" y="2630880"/>
            <a:chExt cx="2564280" cy="2238120"/>
          </a:xfrm>
        </p:grpSpPr>
        <p:sp>
          <p:nvSpPr>
            <p:cNvPr id="295" name="Freeform 17"/>
            <p:cNvSpPr/>
            <p:nvPr/>
          </p:nvSpPr>
          <p:spPr>
            <a:xfrm>
              <a:off x="5241960" y="2637000"/>
              <a:ext cx="914400" cy="223200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232000"/>
                <a:gd name="textAreaBottom" fmla="*/ 2232000 h 223200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8"/>
            <p:cNvSpPr/>
            <p:nvPr/>
          </p:nvSpPr>
          <p:spPr>
            <a:xfrm rot="21390000">
              <a:off x="6437160" y="2668320"/>
              <a:ext cx="1305000" cy="213192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31920"/>
                <a:gd name="textAreaBottom" fmla="*/ 2132280 h 21319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utoShape 11"/>
            <p:cNvSpPr/>
            <p:nvPr/>
          </p:nvSpPr>
          <p:spPr>
            <a:xfrm>
              <a:off x="6067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AutoShape 12"/>
            <p:cNvSpPr/>
            <p:nvPr/>
          </p:nvSpPr>
          <p:spPr>
            <a:xfrm>
              <a:off x="723600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"/>
            <p:cNvSpPr/>
            <p:nvPr/>
          </p:nvSpPr>
          <p:spPr>
            <a:xfrm>
              <a:off x="5681520" y="3559320"/>
              <a:ext cx="1290960" cy="312480"/>
            </a:xfrm>
            <a:custGeom>
              <a:avLst/>
              <a:gdLst>
                <a:gd name="textAreaLeft" fmla="*/ 0 w 1290960"/>
                <a:gd name="textAreaRight" fmla="*/ 1291320 w 129096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813" h="197">
                  <a:moveTo>
                    <a:pt x="0" y="134"/>
                  </a:moveTo>
                  <a:cubicBezTo>
                    <a:pt x="67" y="139"/>
                    <a:pt x="256" y="197"/>
                    <a:pt x="391" y="175"/>
                  </a:cubicBezTo>
                  <a:cubicBezTo>
                    <a:pt x="526" y="153"/>
                    <a:pt x="725" y="36"/>
                    <a:pt x="81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13"/>
            <p:cNvSpPr/>
            <p:nvPr/>
          </p:nvSpPr>
          <p:spPr>
            <a:xfrm>
              <a:off x="5651640" y="371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Полилиния 2"/>
          <p:cNvSpPr/>
          <p:nvPr/>
        </p:nvSpPr>
        <p:spPr>
          <a:xfrm>
            <a:off x="3692520" y="482760"/>
            <a:ext cx="1303200" cy="2341440"/>
          </a:xfrm>
          <a:custGeom>
            <a:avLst/>
            <a:gdLst/>
            <a:ahLst/>
            <a:rect l="l" t="t" r="r" b="b"/>
            <a:pathLst>
              <a:path w="1303868" h="2341512">
                <a:moveTo>
                  <a:pt x="0" y="2341512"/>
                </a:moveTo>
                <a:cubicBezTo>
                  <a:pt x="194840" y="2245056"/>
                  <a:pt x="389681" y="2148601"/>
                  <a:pt x="544010" y="1982697"/>
                </a:cubicBezTo>
                <a:cubicBezTo>
                  <a:pt x="698339" y="1816793"/>
                  <a:pt x="804441" y="1573725"/>
                  <a:pt x="925975" y="1346089"/>
                </a:cubicBezTo>
                <a:cubicBezTo>
                  <a:pt x="1047509" y="1118453"/>
                  <a:pt x="1217271" y="823299"/>
                  <a:pt x="1273215" y="616884"/>
                </a:cubicBezTo>
                <a:cubicBezTo>
                  <a:pt x="1329159" y="410469"/>
                  <a:pt x="1298294" y="209841"/>
                  <a:pt x="1261641" y="107598"/>
                </a:cubicBezTo>
                <a:cubicBezTo>
                  <a:pt x="1224988" y="5355"/>
                  <a:pt x="1109240" y="15001"/>
                  <a:pt x="1053296" y="3426"/>
                </a:cubicBezTo>
                <a:cubicBezTo>
                  <a:pt x="997352" y="-8149"/>
                  <a:pt x="960699" y="11143"/>
                  <a:pt x="925975" y="38150"/>
                </a:cubicBezTo>
                <a:cubicBezTo>
                  <a:pt x="891251" y="65157"/>
                  <a:pt x="868101" y="115314"/>
                  <a:pt x="844952" y="165471"/>
                </a:cubicBezTo>
              </a:path>
            </a:pathLst>
          </a:custGeom>
          <a:noFill/>
          <a:ln w="1332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901600" y="2667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9.06568E-007 L 0.09444 -0.12604 L -0.09445 0.49283 L -0.10243 0.51388 L -0.11806 0.50347 L -0.12604 0.48242 L -0.12604 0.45097 L -0.12604 0.41952 L -0.11024 0.38807 L -0.06302 0.31452 L -0.03142 0.27267 L 8.33333E-007 0.24121 L 0.02361 0.23057 L 0.06302 0.22017 L 0.11805 0.20976 L 0.14965 0.19912 L 0.18108 0.16767 L 0.22049 0.09436 L 0.26771 -0.04209 L 0.26771 -0.09459 L 0.25191 -0.12604 L 0.23628 -0.12604 L 0.22049 -0.1154 L 0.19687 -0.04209 L 0.05503 0.40911 L 0.04722 0.45097 L 0.04722 0.48242 L 0.04722 0.50347 L 0.07083 0.51388 L 0.09444 0.50347 L 0.18108 0.41952 E">
                                      <p:cBhvr>
                                        <p:cTn id="179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164 0.16813 L 0.30921 0.49283 L 0.35643 0.33626 L 0.39584 0.34713 L 0.44306 0.33626 L 0.45886 0.3247 L 0.49827 0.30273 L 0.53768 0.15726 L 0.45886 0.44773 L 0.45886 0.48126 L 0.46667 0.49283 L 0.50608 0.48126 L 0.59271 0.38066 E">
                                      <p:cBhvr>
                                        <p:cTn id="183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04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14"/>
          <p:cNvGrpSpPr/>
          <p:nvPr/>
        </p:nvGrpSpPr>
        <p:grpSpPr>
          <a:xfrm>
            <a:off x="1203840" y="165960"/>
            <a:ext cx="3529080" cy="4940280"/>
            <a:chOff x="1203840" y="165960"/>
            <a:chExt cx="3529080" cy="4940280"/>
          </a:xfrm>
        </p:grpSpPr>
        <p:sp>
          <p:nvSpPr>
            <p:cNvPr id="308" name="Oval 12"/>
            <p:cNvSpPr/>
            <p:nvPr/>
          </p:nvSpPr>
          <p:spPr>
            <a:xfrm rot="1367400">
              <a:off x="2010960" y="358920"/>
              <a:ext cx="1914480" cy="4554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9"/>
            <p:cNvSpPr/>
            <p:nvPr/>
          </p:nvSpPr>
          <p:spPr>
            <a:xfrm>
              <a:off x="1619280" y="4076640"/>
              <a:ext cx="135360" cy="1375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3"/>
          <p:cNvGrpSpPr/>
          <p:nvPr/>
        </p:nvGrpSpPr>
        <p:grpSpPr>
          <a:xfrm>
            <a:off x="5495760" y="2561040"/>
            <a:ext cx="1662480" cy="2392920"/>
            <a:chOff x="5495760" y="2561040"/>
            <a:chExt cx="1662480" cy="2392920"/>
          </a:xfrm>
        </p:grpSpPr>
        <p:sp>
          <p:nvSpPr>
            <p:cNvPr id="311" name="Oval 11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10"/>
            <p:cNvSpPr/>
            <p:nvPr/>
          </p:nvSpPr>
          <p:spPr>
            <a:xfrm>
              <a:off x="5672160" y="429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24360" y="2995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2951E-007 L 0.00781 0.04209 L 0.02361 0.07354 L 0.03142 0.08372 L 0.05503 0.09436 L 0.07083 0.09436 L 0.09444 0.08372 L 0.12587 0.05227 L 0.17326 -0.02081 L 0.2283 -0.13645 L 0.25191 -0.2204 L 0.27552 -0.32516 L 0.27552 -0.37766 L 0.27552 -0.44033 L 0.26771 -0.48242 L 0.2441 -0.52428 L 0.22048 -0.53492 L 0.18889 -0.52428 L 0.16528 -0.50347 L 0.12587 -0.45097 L 0.06302 -0.32516 L 0.02361 -0.18871 L 0.00781 -0.10476 L 1.38889E-006 1.2951E-007 Z">
                                      <p:cBhvr>
                                        <p:cTn id="189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931 0.02198 L 0.44931 0.05343 L 0.45712 0.07424 L 0.47292 0.09529 L 0.48872 0.08488 L 0.52014 0.05343 L 0.55157 -0.00948 L 0.56737 -0.07261 L 0.58316 -0.13552 L 0.58316 -0.18802 L 0.56737 -0.21947 L 0.55955 -0.22987 L 0.53594 -0.21947 L 0.50435 -0.18802 L 0.47292 -0.11447 L 0.45712 -0.05157 L 0.44931 0.02198 Z">
                                      <p:cBhvr>
                                        <p:cTn id="193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4"/>
          <p:cNvGrpSpPr/>
          <p:nvPr/>
        </p:nvGrpSpPr>
        <p:grpSpPr>
          <a:xfrm>
            <a:off x="412920" y="476280"/>
            <a:ext cx="8605800" cy="4392720"/>
            <a:chOff x="412920" y="476280"/>
            <a:chExt cx="8605800" cy="4392720"/>
          </a:xfrm>
        </p:grpSpPr>
        <p:sp>
          <p:nvSpPr>
            <p:cNvPr id="315" name="Line 5"/>
            <p:cNvSpPr/>
            <p:nvPr/>
          </p:nvSpPr>
          <p:spPr>
            <a:xfrm>
              <a:off x="412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"/>
            <p:cNvSpPr/>
            <p:nvPr/>
          </p:nvSpPr>
          <p:spPr>
            <a:xfrm>
              <a:off x="449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412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24"/>
          <p:cNvGrpSpPr/>
          <p:nvPr/>
        </p:nvGrpSpPr>
        <p:grpSpPr>
          <a:xfrm>
            <a:off x="744480" y="449280"/>
            <a:ext cx="5256360" cy="4383000"/>
            <a:chOff x="744480" y="449280"/>
            <a:chExt cx="5256360" cy="4383000"/>
          </a:xfrm>
        </p:grpSpPr>
        <p:sp>
          <p:nvSpPr>
            <p:cNvPr id="319" name="AutoShape 13"/>
            <p:cNvSpPr/>
            <p:nvPr/>
          </p:nvSpPr>
          <p:spPr>
            <a:xfrm>
              <a:off x="2975040" y="1384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4"/>
            <p:cNvSpPr/>
            <p:nvPr/>
          </p:nvSpPr>
          <p:spPr>
            <a:xfrm>
              <a:off x="744480" y="915840"/>
              <a:ext cx="2859120" cy="39164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3916440"/>
                <a:gd name="textAreaBottom" fmla="*/ 3916800 h 39164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"/>
            <p:cNvSpPr/>
            <p:nvPr/>
          </p:nvSpPr>
          <p:spPr>
            <a:xfrm>
              <a:off x="2835360" y="828720"/>
              <a:ext cx="1768320" cy="399564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3995640"/>
                <a:gd name="textAreaBottom" fmla="*/ 3996000 h 3995640"/>
              </a:gdLst>
              <a:ahLst/>
              <a:rect l="textAreaLeft" t="textAreaTop" r="textAreaRight" b="textAreaBottom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6"/>
            <p:cNvSpPr/>
            <p:nvPr/>
          </p:nvSpPr>
          <p:spPr>
            <a:xfrm>
              <a:off x="2020680" y="449280"/>
              <a:ext cx="3980160" cy="1189080"/>
            </a:xfrm>
            <a:custGeom>
              <a:avLst/>
              <a:gdLst>
                <a:gd name="textAreaLeft" fmla="*/ 0 w 3980160"/>
                <a:gd name="textAreaRight" fmla="*/ 3980520 w 398016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9"/>
            <p:cNvSpPr/>
            <p:nvPr/>
          </p:nvSpPr>
          <p:spPr>
            <a:xfrm>
              <a:off x="3530520" y="8431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AutoShape 10"/>
            <p:cNvSpPr/>
            <p:nvPr/>
          </p:nvSpPr>
          <p:spPr>
            <a:xfrm>
              <a:off x="4530600" y="8287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3"/>
          <p:cNvGrpSpPr/>
          <p:nvPr/>
        </p:nvGrpSpPr>
        <p:grpSpPr>
          <a:xfrm>
            <a:off x="5529240" y="2637000"/>
            <a:ext cx="2220840" cy="2232000"/>
            <a:chOff x="5529240" y="2637000"/>
            <a:chExt cx="2220840" cy="2232000"/>
          </a:xfrm>
        </p:grpSpPr>
        <p:sp>
          <p:nvSpPr>
            <p:cNvPr id="326" name="Freeform 19"/>
            <p:cNvSpPr/>
            <p:nvPr/>
          </p:nvSpPr>
          <p:spPr>
            <a:xfrm>
              <a:off x="5529240" y="2684520"/>
              <a:ext cx="914400" cy="21844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2"/>
            <p:cNvSpPr/>
            <p:nvPr/>
          </p:nvSpPr>
          <p:spPr>
            <a:xfrm>
              <a:off x="637056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6226200" y="2684520"/>
              <a:ext cx="1523880" cy="21477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147760"/>
                <a:gd name="textAreaBottom" fmla="*/ 2148120 h 214776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1"/>
            <p:cNvSpPr/>
            <p:nvPr/>
          </p:nvSpPr>
          <p:spPr>
            <a:xfrm>
              <a:off x="6226200" y="3067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19760" y="-2570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21924E-006 L -0.18107 0.45121 L -0.2125 0.51411 L -0.24409 0.54556 L -0.2677 0.56661 L -0.2835 0.55597 L -0.29913 0.55597 L -0.30711 0.53516 L -0.31493 0.47225 E">
                                      <p:cBhvr>
                                        <p:cTn id="19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917 -0.02567 L -0.01267 0.33095 L -0.0677 0.49885 L -0.07569 0.55111 L -0.05989 0.57216 L -0.04409 0.57216 L 0.00313 0.5407 L 0.06615 0.48821 E">
                                      <p:cBhvr>
                                        <p:cTn id="202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86 0.07909 L -0.09947 0.08973 L -0.12309 0.10014 L -0.13871 0.10014 L -0.15451 0.08973 L -0.17031 0.06869 L -0.17812 0.03724 L -0.17812 0.01619 L -0.17031 -0.00486 L -0.15451 -0.03631 L -0.12309 -0.05712 L -0.09149 -0.05712 L 0.24705 -0.05712 E">
                                      <p:cBhvr>
                                        <p:cTn id="205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789 0.247 L 0.21563 0.56175 L 0.30226 0.29949 L 0.3415 0.26804 L 0.37309 0.247 L 0.38889 0.247 L 0.39671 0.26804 L 0.40452 0.29949 L 0.37309 0.39385 L 0.3573 0.42553 L 0.3415 0.49885 L 0.3415 0.5303 L 0.34948 0.55134 L 0.36528 0.55134 L 0.40452 0.51989 L 0.46754 0.44635 E">
                                      <p:cBhvr>
                                        <p:cTn id="209" dur="5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32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Group 17"/>
          <p:cNvGrpSpPr/>
          <p:nvPr/>
        </p:nvGrpSpPr>
        <p:grpSpPr>
          <a:xfrm>
            <a:off x="4707000" y="2563920"/>
            <a:ext cx="3033720" cy="4105080"/>
            <a:chOff x="4707000" y="2563920"/>
            <a:chExt cx="3033720" cy="4105080"/>
          </a:xfrm>
        </p:grpSpPr>
        <p:sp>
          <p:nvSpPr>
            <p:cNvPr id="336" name="Freeform 15"/>
            <p:cNvSpPr/>
            <p:nvPr/>
          </p:nvSpPr>
          <p:spPr>
            <a:xfrm>
              <a:off x="6216840" y="2684520"/>
              <a:ext cx="1523880" cy="214776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2147760"/>
                <a:gd name="textAreaBottom" fmla="*/ 2148120 h 2147760"/>
              </a:gdLst>
              <a:ahLst/>
              <a:rect l="textAreaLeft" t="textAreaTop" r="textAreaRight" b="textAreaBottom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6"/>
            <p:cNvSpPr/>
            <p:nvPr/>
          </p:nvSpPr>
          <p:spPr>
            <a:xfrm>
              <a:off x="4707000" y="2684520"/>
              <a:ext cx="1727280" cy="3984480"/>
            </a:xfrm>
            <a:custGeom>
              <a:avLst/>
              <a:gdLst>
                <a:gd name="textAreaLeft" fmla="*/ 0 w 1727280"/>
                <a:gd name="textAreaRight" fmla="*/ 1727640 w 1727280"/>
                <a:gd name="textAreaTop" fmla="*/ 0 h 3984480"/>
                <a:gd name="textAreaBottom" fmla="*/ 3984480 h 39844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"/>
            <p:cNvSpPr/>
            <p:nvPr/>
          </p:nvSpPr>
          <p:spPr>
            <a:xfrm>
              <a:off x="6361200" y="256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18"/>
          <p:cNvGrpSpPr/>
          <p:nvPr/>
        </p:nvGrpSpPr>
        <p:grpSpPr>
          <a:xfrm>
            <a:off x="755640" y="471600"/>
            <a:ext cx="4421160" cy="4308480"/>
            <a:chOff x="755640" y="471600"/>
            <a:chExt cx="4421160" cy="4308480"/>
          </a:xfrm>
        </p:grpSpPr>
        <p:sp>
          <p:nvSpPr>
            <p:cNvPr id="340" name="Freeform 13"/>
            <p:cNvSpPr/>
            <p:nvPr/>
          </p:nvSpPr>
          <p:spPr>
            <a:xfrm>
              <a:off x="755640" y="942840"/>
              <a:ext cx="2859120" cy="38372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3837240"/>
                <a:gd name="textAreaBottom" fmla="*/ 3837600 h 38372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4"/>
            <p:cNvSpPr/>
            <p:nvPr/>
          </p:nvSpPr>
          <p:spPr>
            <a:xfrm>
              <a:off x="2070000" y="471600"/>
              <a:ext cx="3106800" cy="1735200"/>
            </a:xfrm>
            <a:custGeom>
              <a:avLst/>
              <a:gdLst>
                <a:gd name="textAreaLeft" fmla="*/ 0 w 3106800"/>
                <a:gd name="textAreaRight" fmla="*/ 3107160 w 3106800"/>
                <a:gd name="textAreaTop" fmla="*/ 0 h 1735200"/>
                <a:gd name="textAreaBottom" fmla="*/ 1735560 h 1735200"/>
              </a:gdLst>
              <a:ahLst/>
              <a:rect l="textAreaLeft" t="textAreaTop" r="textAreaRight" b="textAreaBottom"/>
              <a:pathLst>
                <a:path w="1957" h="1093">
                  <a:moveTo>
                    <a:pt x="525" y="690"/>
                  </a:moveTo>
                  <a:cubicBezTo>
                    <a:pt x="475" y="705"/>
                    <a:pt x="305" y="805"/>
                    <a:pt x="223" y="791"/>
                  </a:cubicBezTo>
                  <a:cubicBezTo>
                    <a:pt x="141" y="777"/>
                    <a:pt x="57" y="687"/>
                    <a:pt x="31" y="608"/>
                  </a:cubicBezTo>
                  <a:cubicBezTo>
                    <a:pt x="5" y="529"/>
                    <a:pt x="0" y="403"/>
                    <a:pt x="67" y="316"/>
                  </a:cubicBezTo>
                  <a:cubicBezTo>
                    <a:pt x="134" y="229"/>
                    <a:pt x="210" y="137"/>
                    <a:pt x="436" y="88"/>
                  </a:cubicBezTo>
                  <a:cubicBezTo>
                    <a:pt x="662" y="39"/>
                    <a:pt x="1181" y="0"/>
                    <a:pt x="1421" y="23"/>
                  </a:cubicBezTo>
                  <a:cubicBezTo>
                    <a:pt x="1661" y="46"/>
                    <a:pt x="1799" y="128"/>
                    <a:pt x="1878" y="224"/>
                  </a:cubicBezTo>
                  <a:cubicBezTo>
                    <a:pt x="1957" y="320"/>
                    <a:pt x="1940" y="483"/>
                    <a:pt x="1896" y="599"/>
                  </a:cubicBezTo>
                  <a:cubicBezTo>
                    <a:pt x="1852" y="715"/>
                    <a:pt x="1785" y="837"/>
                    <a:pt x="1613" y="919"/>
                  </a:cubicBezTo>
                  <a:cubicBezTo>
                    <a:pt x="1441" y="1001"/>
                    <a:pt x="1019" y="1057"/>
                    <a:pt x="863" y="109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0"/>
            <p:cNvSpPr/>
            <p:nvPr/>
          </p:nvSpPr>
          <p:spPr>
            <a:xfrm>
              <a:off x="2771640" y="1555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9"/>
            <p:cNvSpPr/>
            <p:nvPr/>
          </p:nvSpPr>
          <p:spPr>
            <a:xfrm>
              <a:off x="3541680" y="9079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36680" y="-166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49769E-007 L -0.16528 0.41952 L -0.20469 0.50347 L -0.23611 0.54533 L -0.2599 0.55597 L -0.27552 0.55597 L -0.29913 0.54533 L -0.31493 0.51388 L -0.31493 0.46161 E">
                                      <p:cBhvr>
                                        <p:cTn id="215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466 0.08395 L -0.11407 0.09436 L -0.13768 0.09436 L -0.16129 0.0629 L -0.16927 0.03145 L -0.16129 -2.49769E-007 L -0.14549 -0.03145 L -0.11407 -0.0629 L -0.04323 -0.07331 L 0.075 -0.08395 L 0.11423 -0.07331 L 0.14583 -0.0525 L 0.16944 -0.03145 L 0.16944 0.01064 L 0.16944 0.04209 L 0.15364 0.09436 L 0.13003 0.12581 L 0.08281 0.14686 L -0.01962 0.1679 E">
                                      <p:cBhvr>
                                        <p:cTn id="218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225 0.24121 C 0.30139 0.24352 0.30034 0.24584 0.29965 0.24815 C 0.29913 0.24977 0.29895 0.25139 0.29843 0.25301 C 0.29774 0.25532 0.29583 0.25994 0.29583 0.26018 L 0.11423 0.8284 L 0.2875 0.30389 L 0.31892 0.27243 L 0.35052 0.25139 L 0.37413 0.25139 L 0.38194 0.27243 L 0.38194 0.28284 L 0.38194 0.31452 L 0.35833 0.36679 L 0.34253 0.41929 L 0.32673 0.48219 L 0.31892 0.52428 L 0.31892 0.55574 L 0.33472 0.56614 L 0.35052 0.55574 L 0.44496 0.45074 E">
                                      <p:cBhvr>
                                        <p:cTn id="222" dur="5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74" name="Line 7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8"/>
          <p:cNvGrpSpPr/>
          <p:nvPr/>
        </p:nvGrpSpPr>
        <p:grpSpPr>
          <a:xfrm>
            <a:off x="1405080" y="544680"/>
            <a:ext cx="3673080" cy="4323960"/>
            <a:chOff x="1405080" y="544680"/>
            <a:chExt cx="3673080" cy="4323960"/>
          </a:xfrm>
        </p:grpSpPr>
        <p:sp>
          <p:nvSpPr>
            <p:cNvPr id="78" name="Freeform 17"/>
            <p:cNvSpPr/>
            <p:nvPr/>
          </p:nvSpPr>
          <p:spPr>
            <a:xfrm>
              <a:off x="1476720" y="544680"/>
              <a:ext cx="3601440" cy="4323960"/>
            </a:xfrm>
            <a:custGeom>
              <a:avLst/>
              <a:gdLst>
                <a:gd name="textAreaLeft" fmla="*/ 0 w 3601440"/>
                <a:gd name="textAreaRight" fmla="*/ 3601800 w 3601440"/>
                <a:gd name="textAreaTop" fmla="*/ 0 h 4323960"/>
                <a:gd name="textAreaBottom" fmla="*/ 4324320 h 4323960"/>
              </a:gdLst>
              <a:ahLst/>
              <a:rect l="textAreaLeft" t="textAreaTop" r="textAreaRight" b="textAreaBottom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4"/>
            <p:cNvSpPr/>
            <p:nvPr/>
          </p:nvSpPr>
          <p:spPr>
            <a:xfrm>
              <a:off x="3465000" y="544680"/>
              <a:ext cx="1613160" cy="4312800"/>
            </a:xfrm>
            <a:custGeom>
              <a:avLst/>
              <a:gdLst>
                <a:gd name="textAreaLeft" fmla="*/ 0 w 1613160"/>
                <a:gd name="textAreaRight" fmla="*/ 1613520 w 1613160"/>
                <a:gd name="textAreaTop" fmla="*/ 0 h 4312800"/>
                <a:gd name="textAreaBottom" fmla="*/ 4313160 h 43128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AutoShape 13"/>
            <p:cNvSpPr/>
            <p:nvPr/>
          </p:nvSpPr>
          <p:spPr>
            <a:xfrm>
              <a:off x="1405080" y="4109040"/>
              <a:ext cx="141480" cy="1465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6"/>
            <p:cNvSpPr/>
            <p:nvPr/>
          </p:nvSpPr>
          <p:spPr>
            <a:xfrm rot="3607800">
              <a:off x="3366360" y="1964520"/>
              <a:ext cx="806040" cy="1496160"/>
            </a:xfrm>
            <a:custGeom>
              <a:avLst/>
              <a:gdLst>
                <a:gd name="textAreaLeft" fmla="*/ 0 w 806040"/>
                <a:gd name="textAreaRight" fmla="*/ 806400 w 80604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29"/>
          <p:cNvGrpSpPr/>
          <p:nvPr/>
        </p:nvGrpSpPr>
        <p:grpSpPr>
          <a:xfrm>
            <a:off x="5613120" y="2567160"/>
            <a:ext cx="2190600" cy="2392560"/>
            <a:chOff x="5613120" y="2567160"/>
            <a:chExt cx="2190600" cy="2392560"/>
          </a:xfrm>
        </p:grpSpPr>
        <p:sp>
          <p:nvSpPr>
            <p:cNvPr id="83" name="Oval 25"/>
            <p:cNvSpPr/>
            <p:nvPr/>
          </p:nvSpPr>
          <p:spPr>
            <a:xfrm rot="1367400">
              <a:off x="6011280" y="2647440"/>
              <a:ext cx="86544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7"/>
            <p:cNvSpPr/>
            <p:nvPr/>
          </p:nvSpPr>
          <p:spPr>
            <a:xfrm rot="21321000">
              <a:off x="6559200" y="2636640"/>
              <a:ext cx="1155600" cy="223164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2231640"/>
                <a:gd name="textAreaBottom" fmla="*/ 2231640 h 22316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5"/>
            <p:cNvSpPr/>
            <p:nvPr/>
          </p:nvSpPr>
          <p:spPr>
            <a:xfrm>
              <a:off x="5796000" y="4265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6"/>
            <p:cNvSpPr/>
            <p:nvPr/>
          </p:nvSpPr>
          <p:spPr>
            <a:xfrm>
              <a:off x="7208640" y="2637000"/>
              <a:ext cx="14472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AutoShape 14"/>
          <p:cNvSpPr/>
          <p:nvPr/>
        </p:nvSpPr>
        <p:spPr>
          <a:xfrm>
            <a:off x="2927520" y="2614680"/>
            <a:ext cx="144360" cy="1555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978920" y="303516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5 3.51526E-006 L -0.02309 0.02359 L -0.02188 0.03885 L -0.02066 0.05226 L -0.01563 0.06915 L -0.01302 0.08094 L -0.00677 0.09112 L 0.00729 0.10291 L 0.01857 0.11124 L 0.03246 0.11124 L 0.0427 0.108 L 0.05902 0.09782 L 0.0717 0.08094 L 0.1059 0.03885 L 0.17812 -0.10616 L 0.27934 -0.34737 L 0.34132 -0.48381 L 0.35659 -0.50417 L 0.36423 -0.50764 L 0.36041 -0.48566 L 0.21475 -0.0303 L 0.20208 0.0185 L 0.19583 0.05573 L 0.19461 0.08094 L 0.20347 0.10129 L 0.22118 0.10453 L 0.2401 0.10291 L 0.26545 0.0895 L 0.35277 0.01341 E">
                                      <p:cBhvr>
                                        <p:cTn id="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97 -0.22248 L 0.33559 -0.2241 E">
                                      <p:cBhvr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632 0.03376 L 0.46632 0.06568 L 0.47014 0.08765 L 0.47899 0.10291 L 0.4967 0.11124 L 0.51562 0.108 L 0.53593 0.08418 L 0.56371 0.04047 L 0.58906 -0.02359 L 0.60937 -0.10454 L 0.6118 -0.1568 L 0.59913 -0.20236 L 0.58663 -0.22248 L 0.57014 -0.22086 L 0.54218 -0.20236 L 0.5309 -0.18895 L 0.50677 -0.14848 L 0.48663 -0.09274 L 0.47014 -0.03539 L 0.4651 0.0185 L 0.46632 0.06406 E">
                                      <p:cBhvr>
                                        <p:cTn id="1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61354 -0.23705 L 0.58958 -0.10777 L 0.56041 0.02914 L 0.54913 0.08742 L 0.55034 0.10569 L 0.56163 0.11124 L 0.57309 0.11124 L 0.58836 0.11124 L 0.60729 0.09829 L 0.63003 0.0673 L 0.6743 0.00347 E">
                                      <p:cBhvr>
                                        <p:cTn id="1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4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Group 12"/>
          <p:cNvGrpSpPr/>
          <p:nvPr/>
        </p:nvGrpSpPr>
        <p:grpSpPr>
          <a:xfrm>
            <a:off x="250920" y="428760"/>
            <a:ext cx="8605800" cy="4392360"/>
            <a:chOff x="250920" y="428760"/>
            <a:chExt cx="8605800" cy="4392360"/>
          </a:xfrm>
        </p:grpSpPr>
        <p:sp>
          <p:nvSpPr>
            <p:cNvPr id="350" name="Line 13"/>
            <p:cNvSpPr/>
            <p:nvPr/>
          </p:nvSpPr>
          <p:spPr>
            <a:xfrm>
              <a:off x="250920" y="4287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4"/>
            <p:cNvSpPr/>
            <p:nvPr/>
          </p:nvSpPr>
          <p:spPr>
            <a:xfrm>
              <a:off x="287280" y="25891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5"/>
            <p:cNvSpPr/>
            <p:nvPr/>
          </p:nvSpPr>
          <p:spPr>
            <a:xfrm>
              <a:off x="250920" y="48211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19"/>
          <p:cNvGrpSpPr/>
          <p:nvPr/>
        </p:nvGrpSpPr>
        <p:grpSpPr>
          <a:xfrm>
            <a:off x="2201760" y="547560"/>
            <a:ext cx="2514600" cy="4265640"/>
            <a:chOff x="2201760" y="547560"/>
            <a:chExt cx="2514600" cy="4265640"/>
          </a:xfrm>
        </p:grpSpPr>
        <p:sp>
          <p:nvSpPr>
            <p:cNvPr id="354" name="Freeform 17"/>
            <p:cNvSpPr/>
            <p:nvPr/>
          </p:nvSpPr>
          <p:spPr>
            <a:xfrm>
              <a:off x="2201760" y="547560"/>
              <a:ext cx="2428920" cy="4265640"/>
            </a:xfrm>
            <a:custGeom>
              <a:avLst/>
              <a:gdLst>
                <a:gd name="textAreaLeft" fmla="*/ 0 w 2428920"/>
                <a:gd name="textAreaRight" fmla="*/ 2429280 w 2428920"/>
                <a:gd name="textAreaTop" fmla="*/ 0 h 4265640"/>
                <a:gd name="textAreaBottom" fmla="*/ 4266000 h 4265640"/>
              </a:gdLst>
              <a:ahLst/>
              <a:rect l="textAreaLeft" t="textAreaTop" r="textAreaRight" b="textAreaBottom"/>
              <a:pathLst>
                <a:path w="1530" h="2687">
                  <a:moveTo>
                    <a:pt x="1146" y="2242"/>
                  </a:moveTo>
                  <a:cubicBezTo>
                    <a:pt x="1087" y="2286"/>
                    <a:pt x="930" y="2434"/>
                    <a:pt x="789" y="2508"/>
                  </a:cubicBezTo>
                  <a:cubicBezTo>
                    <a:pt x="648" y="2582"/>
                    <a:pt x="422" y="2685"/>
                    <a:pt x="300" y="2686"/>
                  </a:cubicBezTo>
                  <a:cubicBezTo>
                    <a:pt x="178" y="2687"/>
                    <a:pt x="101" y="2657"/>
                    <a:pt x="58" y="2517"/>
                  </a:cubicBezTo>
                  <a:cubicBezTo>
                    <a:pt x="15" y="2377"/>
                    <a:pt x="0" y="2090"/>
                    <a:pt x="39" y="1849"/>
                  </a:cubicBezTo>
                  <a:cubicBezTo>
                    <a:pt x="78" y="1608"/>
                    <a:pt x="164" y="1335"/>
                    <a:pt x="295" y="1072"/>
                  </a:cubicBezTo>
                  <a:cubicBezTo>
                    <a:pt x="426" y="809"/>
                    <a:pt x="670" y="446"/>
                    <a:pt x="824" y="272"/>
                  </a:cubicBezTo>
                  <a:cubicBezTo>
                    <a:pt x="978" y="98"/>
                    <a:pt x="1120" y="60"/>
                    <a:pt x="1219" y="30"/>
                  </a:cubicBezTo>
                  <a:cubicBezTo>
                    <a:pt x="1318" y="0"/>
                    <a:pt x="1371" y="51"/>
                    <a:pt x="1420" y="94"/>
                  </a:cubicBezTo>
                  <a:cubicBezTo>
                    <a:pt x="1469" y="137"/>
                    <a:pt x="1493" y="199"/>
                    <a:pt x="1511" y="286"/>
                  </a:cubicBezTo>
                  <a:cubicBezTo>
                    <a:pt x="1529" y="373"/>
                    <a:pt x="1526" y="547"/>
                    <a:pt x="1530" y="61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"/>
            <p:cNvSpPr/>
            <p:nvPr/>
          </p:nvSpPr>
          <p:spPr>
            <a:xfrm>
              <a:off x="457200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18"/>
          <p:cNvGrpSpPr/>
          <p:nvPr/>
        </p:nvGrpSpPr>
        <p:grpSpPr>
          <a:xfrm>
            <a:off x="4861080" y="2692440"/>
            <a:ext cx="1307880" cy="2128680"/>
            <a:chOff x="4861080" y="2692440"/>
            <a:chExt cx="1307880" cy="2128680"/>
          </a:xfrm>
        </p:grpSpPr>
        <p:sp>
          <p:nvSpPr>
            <p:cNvPr id="357" name="Freeform 11"/>
            <p:cNvSpPr/>
            <p:nvPr/>
          </p:nvSpPr>
          <p:spPr>
            <a:xfrm>
              <a:off x="4861080" y="2692440"/>
              <a:ext cx="1307880" cy="212868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2128680"/>
                <a:gd name="textAreaBottom" fmla="*/ 2129040 h 2128680"/>
              </a:gdLst>
              <a:ahLst/>
              <a:rect l="textAreaLeft" t="textAreaTop" r="textAreaRight" b="textAreaBottom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0"/>
            <p:cNvSpPr/>
            <p:nvPr/>
          </p:nvSpPr>
          <p:spPr>
            <a:xfrm>
              <a:off x="594036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9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046480" y="3128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33025E-006 L 2.5E-006 -0.04186 L 2.5E-006 -0.08395 L -0.00781 -0.11541 L -0.02361 -0.12581 L -0.03924 -0.13622 L -0.05504 -0.12581 L -0.07865 -0.12581 L -0.12587 -0.08395 L -0.17327 3.33025E-006 L -0.2283 0.13644 L -0.25191 0.2308 L -0.26771 0.3358 L -0.26771 0.3987 L -0.25972 0.46161 L -0.23611 0.49306 L -0.22049 0.49306 L -0.18889 0.48265 L -0.11806 0.44056 L -0.07084 0.38829 L -0.06302 0.38829 E">
                                      <p:cBhvr>
                                        <p:cTn id="228" dur="5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0.27637 L 0.15348 0.21346 L 0.14566 0.18201 L 0.12986 0.17137 L 0.10625 0.18201 L 0.08264 0.21346 L 0.05903 0.27637 L 0.03542 0.37072 L 0.02743 0.42322 L 0.02743 0.45467 L 0.04323 0.48613 L 0.06684 0.47572 L 0.10625 0.45467 L 0.16927 0.38136 E">
                                      <p:cBhvr>
                                        <p:cTn id="232" dur="5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6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6"/>
          <p:cNvGrpSpPr/>
          <p:nvPr/>
        </p:nvGrpSpPr>
        <p:grpSpPr>
          <a:xfrm>
            <a:off x="5529240" y="2597040"/>
            <a:ext cx="3578400" cy="2187720"/>
            <a:chOff x="5529240" y="2597040"/>
            <a:chExt cx="3578400" cy="2187720"/>
          </a:xfrm>
        </p:grpSpPr>
        <p:sp>
          <p:nvSpPr>
            <p:cNvPr id="365" name="Freeform 20"/>
            <p:cNvSpPr/>
            <p:nvPr/>
          </p:nvSpPr>
          <p:spPr>
            <a:xfrm>
              <a:off x="5529240" y="2684520"/>
              <a:ext cx="914400" cy="2095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95560"/>
                <a:gd name="textAreaBottom" fmla="*/ 2095560 h 2095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1"/>
            <p:cNvSpPr/>
            <p:nvPr/>
          </p:nvSpPr>
          <p:spPr>
            <a:xfrm>
              <a:off x="6183360" y="2597040"/>
              <a:ext cx="1262160" cy="2149560"/>
            </a:xfrm>
            <a:custGeom>
              <a:avLst/>
              <a:gdLst>
                <a:gd name="textAreaLeft" fmla="*/ 0 w 1262160"/>
                <a:gd name="textAreaRight" fmla="*/ 1262520 w 1262160"/>
                <a:gd name="textAreaTop" fmla="*/ 0 h 2149560"/>
                <a:gd name="textAreaBottom" fmla="*/ 2149920 h 2149560"/>
              </a:gdLst>
              <a:ahLst/>
              <a:rect l="textAreaLeft" t="textAreaTop" r="textAreaRight" b="textAreaBottom"/>
              <a:pathLst>
                <a:path w="795" h="1354">
                  <a:moveTo>
                    <a:pt x="320" y="1354"/>
                  </a:moveTo>
                  <a:cubicBezTo>
                    <a:pt x="352" y="1276"/>
                    <a:pt x="439" y="1060"/>
                    <a:pt x="512" y="887"/>
                  </a:cubicBezTo>
                  <a:cubicBezTo>
                    <a:pt x="585" y="714"/>
                    <a:pt x="723" y="447"/>
                    <a:pt x="759" y="315"/>
                  </a:cubicBezTo>
                  <a:cubicBezTo>
                    <a:pt x="795" y="183"/>
                    <a:pt x="768" y="139"/>
                    <a:pt x="731" y="96"/>
                  </a:cubicBezTo>
                  <a:cubicBezTo>
                    <a:pt x="694" y="53"/>
                    <a:pt x="661" y="0"/>
                    <a:pt x="539" y="59"/>
                  </a:cubicBezTo>
                  <a:cubicBezTo>
                    <a:pt x="417" y="118"/>
                    <a:pt x="112" y="368"/>
                    <a:pt x="0" y="44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22"/>
            <p:cNvSpPr/>
            <p:nvPr/>
          </p:nvSpPr>
          <p:spPr>
            <a:xfrm>
              <a:off x="7308720" y="2600280"/>
              <a:ext cx="1798920" cy="2184480"/>
            </a:xfrm>
            <a:custGeom>
              <a:avLst/>
              <a:gdLst>
                <a:gd name="textAreaLeft" fmla="*/ 0 w 1798920"/>
                <a:gd name="textAreaRight" fmla="*/ 1799280 w 179892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1092" h="1376">
                  <a:moveTo>
                    <a:pt x="1092" y="907"/>
                  </a:moveTo>
                  <a:cubicBezTo>
                    <a:pt x="1011" y="973"/>
                    <a:pt x="727" y="1235"/>
                    <a:pt x="608" y="1301"/>
                  </a:cubicBezTo>
                  <a:cubicBezTo>
                    <a:pt x="489" y="1367"/>
                    <a:pt x="402" y="1376"/>
                    <a:pt x="379" y="1301"/>
                  </a:cubicBezTo>
                  <a:cubicBezTo>
                    <a:pt x="356" y="1226"/>
                    <a:pt x="413" y="1018"/>
                    <a:pt x="471" y="853"/>
                  </a:cubicBezTo>
                  <a:cubicBezTo>
                    <a:pt x="529" y="688"/>
                    <a:pt x="689" y="440"/>
                    <a:pt x="727" y="313"/>
                  </a:cubicBezTo>
                  <a:cubicBezTo>
                    <a:pt x="765" y="186"/>
                    <a:pt x="736" y="137"/>
                    <a:pt x="699" y="94"/>
                  </a:cubicBezTo>
                  <a:cubicBezTo>
                    <a:pt x="662" y="51"/>
                    <a:pt x="623" y="0"/>
                    <a:pt x="507" y="57"/>
                  </a:cubicBezTo>
                  <a:cubicBezTo>
                    <a:pt x="391" y="114"/>
                    <a:pt x="106" y="358"/>
                    <a:pt x="0" y="43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14"/>
            <p:cNvSpPr/>
            <p:nvPr/>
          </p:nvSpPr>
          <p:spPr>
            <a:xfrm>
              <a:off x="637236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Group 24"/>
          <p:cNvGrpSpPr/>
          <p:nvPr/>
        </p:nvGrpSpPr>
        <p:grpSpPr>
          <a:xfrm>
            <a:off x="142920" y="476280"/>
            <a:ext cx="5991120" cy="4437000"/>
            <a:chOff x="142920" y="476280"/>
            <a:chExt cx="5991120" cy="4437000"/>
          </a:xfrm>
        </p:grpSpPr>
        <p:sp>
          <p:nvSpPr>
            <p:cNvPr id="370" name="Freeform 16"/>
            <p:cNvSpPr/>
            <p:nvPr/>
          </p:nvSpPr>
          <p:spPr>
            <a:xfrm>
              <a:off x="142920" y="835200"/>
              <a:ext cx="2484360" cy="3981240"/>
            </a:xfrm>
            <a:custGeom>
              <a:avLst/>
              <a:gdLst>
                <a:gd name="textAreaLeft" fmla="*/ 0 w 2484360"/>
                <a:gd name="textAreaRight" fmla="*/ 2484720 w 2484360"/>
                <a:gd name="textAreaTop" fmla="*/ 0 h 3981240"/>
                <a:gd name="textAreaBottom" fmla="*/ 3981600 h 398124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7"/>
            <p:cNvSpPr/>
            <p:nvPr/>
          </p:nvSpPr>
          <p:spPr>
            <a:xfrm>
              <a:off x="2170080" y="907920"/>
              <a:ext cx="1609920" cy="3961080"/>
            </a:xfrm>
            <a:custGeom>
              <a:avLst/>
              <a:gdLst>
                <a:gd name="textAreaLeft" fmla="*/ 0 w 1609920"/>
                <a:gd name="textAreaRight" fmla="*/ 1610280 w 1609920"/>
                <a:gd name="textAreaTop" fmla="*/ 0 h 3961080"/>
                <a:gd name="textAreaBottom" fmla="*/ 3961440 h 396108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8"/>
            <p:cNvSpPr/>
            <p:nvPr/>
          </p:nvSpPr>
          <p:spPr>
            <a:xfrm>
              <a:off x="3492360" y="979560"/>
              <a:ext cx="2159280" cy="3933720"/>
            </a:xfrm>
            <a:custGeom>
              <a:avLst/>
              <a:gdLst>
                <a:gd name="textAreaLeft" fmla="*/ 0 w 2159280"/>
                <a:gd name="textAreaRight" fmla="*/ 2159640 w 2159280"/>
                <a:gd name="textAreaTop" fmla="*/ 0 h 3933720"/>
                <a:gd name="textAreaBottom" fmla="*/ 3934080 h 39337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9"/>
            <p:cNvSpPr/>
            <p:nvPr/>
          </p:nvSpPr>
          <p:spPr>
            <a:xfrm>
              <a:off x="1177920" y="476280"/>
              <a:ext cx="4956120" cy="1200240"/>
            </a:xfrm>
            <a:custGeom>
              <a:avLst/>
              <a:gdLst>
                <a:gd name="textAreaLeft" fmla="*/ 0 w 4956120"/>
                <a:gd name="textAreaRight" fmla="*/ 4956480 w 4956120"/>
                <a:gd name="textAreaTop" fmla="*/ 0 h 1200240"/>
                <a:gd name="textAreaBottom" fmla="*/ 1200600 h 1200240"/>
              </a:gdLst>
              <a:ahLst/>
              <a:rect l="textAreaLeft" t="textAreaTop" r="textAreaRight" b="textAreaBottom"/>
              <a:pathLst>
                <a:path w="3122" h="756">
                  <a:moveTo>
                    <a:pt x="446" y="738"/>
                  </a:moveTo>
                  <a:cubicBezTo>
                    <a:pt x="415" y="737"/>
                    <a:pt x="328" y="756"/>
                    <a:pt x="260" y="732"/>
                  </a:cubicBezTo>
                  <a:cubicBezTo>
                    <a:pt x="192" y="708"/>
                    <a:pt x="76" y="669"/>
                    <a:pt x="38" y="594"/>
                  </a:cubicBezTo>
                  <a:cubicBezTo>
                    <a:pt x="0" y="519"/>
                    <a:pt x="1" y="368"/>
                    <a:pt x="32" y="282"/>
                  </a:cubicBezTo>
                  <a:cubicBezTo>
                    <a:pt x="63" y="196"/>
                    <a:pt x="93" y="118"/>
                    <a:pt x="224" y="78"/>
                  </a:cubicBezTo>
                  <a:cubicBezTo>
                    <a:pt x="355" y="38"/>
                    <a:pt x="335" y="55"/>
                    <a:pt x="818" y="42"/>
                  </a:cubicBezTo>
                  <a:cubicBezTo>
                    <a:pt x="1301" y="29"/>
                    <a:pt x="2642" y="9"/>
                    <a:pt x="31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9"/>
            <p:cNvSpPr/>
            <p:nvPr/>
          </p:nvSpPr>
          <p:spPr>
            <a:xfrm>
              <a:off x="255420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10"/>
            <p:cNvSpPr/>
            <p:nvPr/>
          </p:nvSpPr>
          <p:spPr>
            <a:xfrm>
              <a:off x="3706920" y="8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11"/>
            <p:cNvSpPr/>
            <p:nvPr/>
          </p:nvSpPr>
          <p:spPr>
            <a:xfrm>
              <a:off x="5003640" y="9064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15"/>
            <p:cNvSpPr/>
            <p:nvPr/>
          </p:nvSpPr>
          <p:spPr>
            <a:xfrm>
              <a:off x="1763640" y="16034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3054600" y="-333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8.60315E-007 L -0.14965 0.46161 L -0.18889 0.55597 L -0.22048 0.58742 L -0.24409 0.58742 L -0.25989 0.56637 L -0.26771 0.54556 L -0.26771 0.48266 E">
                                      <p:cBhvr>
                                        <p:cTn id="238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594 -0.02267 L -0.05295 0.57516 E">
                                      <p:cBhvr>
                                        <p:cTn id="241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996 -0.01226 L 0.0967 0.51225 L 0.0967 0.5437 L 0.10451 0.56475 L 0.12031 0.57516 L 0.15174 0.57516 L 0.19115 0.5437 L 0.325 0.40726 E">
                                      <p:cBhvr>
                                        <p:cTn id="244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121 0.12904 L -0.13264 0.11864 L -0.15625 0.10823 L -0.17205 0.07678 L -0.17205 0.03469 L -0.16423 -0.00717 L -0.14045 -0.02822 L -0.10121 -0.04926 L 0.36337 -0.05967 E">
                                      <p:cBhvr>
                                        <p:cTn id="247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059 0.26549 L 0.30833 0.58025 L 0.38698 0.34944 L 0.44219 0.28654 L 0.4816 0.25509 L 0.50521 0.25509 L 0.51302 0.28654 L 0.51302 0.30758 L 0.50521 0.34944 L 0.4342 0.58025 L 0.50521 0.33904 L 0.57604 0.27613 L 0.60747 0.25509 L 0.63108 0.25509 L 0.64688 0.26549 L 0.64688 0.32863 L 0.59965 0.46484 L 0.57604 0.53839 L 0.58386 0.56984 L 0.60747 0.56984 L 0.70208 0.46484 E">
                                      <p:cBhvr>
                                        <p:cTn id="251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80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21"/>
          <p:cNvGrpSpPr/>
          <p:nvPr/>
        </p:nvGrpSpPr>
        <p:grpSpPr>
          <a:xfrm>
            <a:off x="2362320" y="515880"/>
            <a:ext cx="2570040" cy="4297320"/>
            <a:chOff x="2362320" y="515880"/>
            <a:chExt cx="2570040" cy="4297320"/>
          </a:xfrm>
        </p:grpSpPr>
        <p:sp>
          <p:nvSpPr>
            <p:cNvPr id="384" name="Freeform 17"/>
            <p:cNvSpPr/>
            <p:nvPr/>
          </p:nvSpPr>
          <p:spPr>
            <a:xfrm>
              <a:off x="2362320" y="515880"/>
              <a:ext cx="2570040" cy="42973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4297320"/>
                <a:gd name="textAreaBottom" fmla="*/ 4297680 h 4297320"/>
              </a:gdLst>
              <a:ahLst/>
              <a:rect l="textAreaLeft" t="textAreaTop" r="textAreaRight" b="textAreaBottom"/>
              <a:pathLst>
                <a:path w="1619" h="2707">
                  <a:moveTo>
                    <a:pt x="18" y="2246"/>
                  </a:moveTo>
                  <a:cubicBezTo>
                    <a:pt x="9" y="2329"/>
                    <a:pt x="0" y="2414"/>
                    <a:pt x="18" y="2486"/>
                  </a:cubicBezTo>
                  <a:cubicBezTo>
                    <a:pt x="36" y="2558"/>
                    <a:pt x="76" y="2654"/>
                    <a:pt x="124" y="2678"/>
                  </a:cubicBezTo>
                  <a:cubicBezTo>
                    <a:pt x="172" y="2703"/>
                    <a:pt x="222" y="2707"/>
                    <a:pt x="301" y="2631"/>
                  </a:cubicBezTo>
                  <a:cubicBezTo>
                    <a:pt x="380" y="2554"/>
                    <a:pt x="445" y="2514"/>
                    <a:pt x="598" y="2217"/>
                  </a:cubicBezTo>
                  <a:cubicBezTo>
                    <a:pt x="752" y="1920"/>
                    <a:pt x="1068" y="1188"/>
                    <a:pt x="1221" y="851"/>
                  </a:cubicBezTo>
                  <a:cubicBezTo>
                    <a:pt x="1374" y="513"/>
                    <a:pt x="1450" y="337"/>
                    <a:pt x="1516" y="195"/>
                  </a:cubicBezTo>
                  <a:cubicBezTo>
                    <a:pt x="1582" y="53"/>
                    <a:pt x="1598" y="41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14"/>
            <p:cNvSpPr/>
            <p:nvPr/>
          </p:nvSpPr>
          <p:spPr>
            <a:xfrm>
              <a:off x="4788000" y="5158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9080" y="515880"/>
              <a:ext cx="1645920" cy="2190960"/>
            </a:xfrm>
            <a:custGeom>
              <a:avLst/>
              <a:gdLst>
                <a:gd name="textAreaLeft" fmla="*/ 0 w 1645920"/>
                <a:gd name="textAreaRight" fmla="*/ 1646280 w 1645920"/>
                <a:gd name="textAreaTop" fmla="*/ 0 h 2190960"/>
                <a:gd name="textAreaBottom" fmla="*/ 2191320 h 2190960"/>
              </a:gdLst>
              <a:ahLst/>
              <a:rect l="textAreaLeft" t="textAreaTop" r="textAreaRight" b="textAreaBottom"/>
              <a:pathLst>
                <a:path w="1037" h="1380">
                  <a:moveTo>
                    <a:pt x="1037" y="912"/>
                  </a:moveTo>
                  <a:cubicBezTo>
                    <a:pt x="956" y="978"/>
                    <a:pt x="672" y="1240"/>
                    <a:pt x="553" y="1306"/>
                  </a:cubicBezTo>
                  <a:cubicBezTo>
                    <a:pt x="434" y="1372"/>
                    <a:pt x="343" y="1380"/>
                    <a:pt x="324" y="1306"/>
                  </a:cubicBezTo>
                  <a:cubicBezTo>
                    <a:pt x="305" y="1232"/>
                    <a:pt x="379" y="1026"/>
                    <a:pt x="437" y="861"/>
                  </a:cubicBezTo>
                  <a:cubicBezTo>
                    <a:pt x="495" y="696"/>
                    <a:pt x="638" y="445"/>
                    <a:pt x="672" y="318"/>
                  </a:cubicBezTo>
                  <a:cubicBezTo>
                    <a:pt x="706" y="191"/>
                    <a:pt x="681" y="142"/>
                    <a:pt x="644" y="99"/>
                  </a:cubicBezTo>
                  <a:cubicBezTo>
                    <a:pt x="607" y="56"/>
                    <a:pt x="559" y="0"/>
                    <a:pt x="452" y="62"/>
                  </a:cubicBezTo>
                  <a:cubicBezTo>
                    <a:pt x="345" y="124"/>
                    <a:pt x="94" y="387"/>
                    <a:pt x="0" y="47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13"/>
            <p:cNvSpPr/>
            <p:nvPr/>
          </p:nvSpPr>
          <p:spPr>
            <a:xfrm>
              <a:off x="25560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22"/>
          <p:cNvGrpSpPr/>
          <p:nvPr/>
        </p:nvGrpSpPr>
        <p:grpSpPr>
          <a:xfrm>
            <a:off x="3922560" y="2604960"/>
            <a:ext cx="3025800" cy="4267440"/>
            <a:chOff x="3922560" y="2604960"/>
            <a:chExt cx="3025800" cy="4267440"/>
          </a:xfrm>
        </p:grpSpPr>
        <p:sp>
          <p:nvSpPr>
            <p:cNvPr id="389" name="Freeform 19"/>
            <p:cNvSpPr/>
            <p:nvPr/>
          </p:nvSpPr>
          <p:spPr>
            <a:xfrm>
              <a:off x="4576680" y="2678040"/>
              <a:ext cx="1346400" cy="2230560"/>
            </a:xfrm>
            <a:custGeom>
              <a:avLst/>
              <a:gdLst>
                <a:gd name="textAreaLeft" fmla="*/ 0 w 1346400"/>
                <a:gd name="textAreaRight" fmla="*/ 1346760 w 1346400"/>
                <a:gd name="textAreaTop" fmla="*/ 0 h 2230560"/>
                <a:gd name="textAreaBottom" fmla="*/ 2230920 h 2230560"/>
              </a:gdLst>
              <a:ahLst/>
              <a:rect l="textAreaLeft" t="textAreaTop" r="textAreaRight" b="textAreaBottom"/>
              <a:pathLst>
                <a:path w="848" h="1405">
                  <a:moveTo>
                    <a:pt x="848" y="912"/>
                  </a:moveTo>
                  <a:cubicBezTo>
                    <a:pt x="770" y="982"/>
                    <a:pt x="501" y="1261"/>
                    <a:pt x="376" y="1332"/>
                  </a:cubicBezTo>
                  <a:cubicBezTo>
                    <a:pt x="251" y="1405"/>
                    <a:pt x="146" y="1391"/>
                    <a:pt x="95" y="1341"/>
                  </a:cubicBezTo>
                  <a:cubicBezTo>
                    <a:pt x="44" y="1291"/>
                    <a:pt x="0" y="1253"/>
                    <a:pt x="69" y="1030"/>
                  </a:cubicBezTo>
                  <a:cubicBezTo>
                    <a:pt x="138" y="807"/>
                    <a:pt x="419" y="215"/>
                    <a:pt x="51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3922560" y="2678040"/>
              <a:ext cx="3025800" cy="4194360"/>
            </a:xfrm>
            <a:custGeom>
              <a:avLst/>
              <a:gdLst>
                <a:gd name="textAreaLeft" fmla="*/ 0 w 3025800"/>
                <a:gd name="textAreaRight" fmla="*/ 3026160 w 3025800"/>
                <a:gd name="textAreaTop" fmla="*/ 0 h 4194360"/>
                <a:gd name="textAreaBottom" fmla="*/ 4194720 h 4194360"/>
              </a:gdLst>
              <a:ahLst/>
              <a:rect l="textAreaLeft" t="textAreaTop" r="textAreaRight" b="textAreaBottom"/>
              <a:pathLst>
                <a:path w="1906" h="2642">
                  <a:moveTo>
                    <a:pt x="1906" y="882"/>
                  </a:moveTo>
                  <a:cubicBezTo>
                    <a:pt x="1637" y="1078"/>
                    <a:pt x="586" y="1777"/>
                    <a:pt x="293" y="2057"/>
                  </a:cubicBezTo>
                  <a:cubicBezTo>
                    <a:pt x="0" y="2337"/>
                    <a:pt x="117" y="2486"/>
                    <a:pt x="150" y="2564"/>
                  </a:cubicBezTo>
                  <a:cubicBezTo>
                    <a:pt x="183" y="2642"/>
                    <a:pt x="384" y="2623"/>
                    <a:pt x="492" y="2526"/>
                  </a:cubicBezTo>
                  <a:cubicBezTo>
                    <a:pt x="600" y="2429"/>
                    <a:pt x="653" y="2288"/>
                    <a:pt x="799" y="1979"/>
                  </a:cubicBezTo>
                  <a:cubicBezTo>
                    <a:pt x="945" y="1670"/>
                    <a:pt x="1231" y="1003"/>
                    <a:pt x="1371" y="673"/>
                  </a:cubicBezTo>
                  <a:cubicBezTo>
                    <a:pt x="1511" y="343"/>
                    <a:pt x="1595" y="112"/>
                    <a:pt x="16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5"/>
            <p:cNvSpPr/>
            <p:nvPr/>
          </p:nvSpPr>
          <p:spPr>
            <a:xfrm>
              <a:off x="529128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6"/>
            <p:cNvSpPr/>
            <p:nvPr/>
          </p:nvSpPr>
          <p:spPr>
            <a:xfrm>
              <a:off x="644220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69120" y="-322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528 0.05643 L -0.08438 -0.03793 L -0.06407 -0.04626 L -0.04254 -0.03284 L -0.0375 -0.00925 L -0.04375 0.02451 L -0.09063 0.17113 L -0.1033 0.22502 L -0.1033 0.25046 L -0.09705 0.2604 L -0.07934 0.25878 L -0.05643 0.23866 L -0.01598 0.19981 L 0.01441 0.16605 L 0.08663 -0.05135 L -0.09566 0.48658 L -0.12223 0.54209 L -0.14636 0.56753 L -0.15782 0.57076 L -0.16667 0.56059 L -0.17796 0.54717 L -0.18681 0.5185 L -0.1882 0.5 L -0.18438 0.4697 E">
                                      <p:cBhvr>
                                        <p:cTn id="257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847 0.27474 L 0.05243 0.51757 L 0.05503 0.56822 L 0.08663 0.58857 L 0.10937 0.57678 L 0.19166 0.48566 L 0.26128 0.26133 L 0.07395 0.83811 L 0.03854 0.87511 L 0.01701 0.8802 L -0.00191 0.86332 L -0.00695 0.81938 L 0.00052 0.7722 L 0.04618 0.71993 L 0.13732 0.62904 L 0.30191 0.47201 E">
                                      <p:cBhvr>
                                        <p:cTn id="261" dur="5000" fill="hold"/>
                                        <p:tgtEl>
                                          <p:spTgt spid="3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Oval 15"/>
          <p:cNvSpPr/>
          <p:nvPr/>
        </p:nvSpPr>
        <p:spPr>
          <a:xfrm rot="1620600">
            <a:off x="633528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8"/>
          <p:cNvSpPr/>
          <p:nvPr/>
        </p:nvSpPr>
        <p:spPr>
          <a:xfrm>
            <a:off x="4933800" y="2666880"/>
            <a:ext cx="1657440" cy="407700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4077000"/>
              <a:gd name="textAreaBottom" fmla="*/ 4077000 h 4077000"/>
            </a:gdLst>
            <a:ahLst/>
            <a:rect l="textAreaLeft" t="textAreaTop" r="textAreaRight" b="textAreaBottom"/>
            <a:pathLst>
              <a:path w="1044" h="2568">
                <a:moveTo>
                  <a:pt x="0" y="2568"/>
                </a:moveTo>
                <a:cubicBezTo>
                  <a:pt x="90" y="2374"/>
                  <a:pt x="351" y="1820"/>
                  <a:pt x="525" y="1392"/>
                </a:cubicBezTo>
                <a:cubicBezTo>
                  <a:pt x="699" y="964"/>
                  <a:pt x="936" y="290"/>
                  <a:pt x="104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97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Freeform 13"/>
          <p:cNvSpPr/>
          <p:nvPr/>
        </p:nvSpPr>
        <p:spPr>
          <a:xfrm>
            <a:off x="2079720" y="476280"/>
            <a:ext cx="2606760" cy="4359240"/>
          </a:xfrm>
          <a:custGeom>
            <a:avLst/>
            <a:gdLst>
              <a:gd name="textAreaLeft" fmla="*/ 0 w 2606760"/>
              <a:gd name="textAreaRight" fmla="*/ 2607120 w 2606760"/>
              <a:gd name="textAreaTop" fmla="*/ 0 h 4359240"/>
              <a:gd name="textAreaBottom" fmla="*/ 4359600 h 4359240"/>
            </a:gdLst>
            <a:ahLst/>
            <a:rect l="textAreaLeft" t="textAreaTop" r="textAreaRight" b="textAreaBottom"/>
            <a:pathLst>
              <a:path w="1642" h="2746">
                <a:moveTo>
                  <a:pt x="10" y="2328"/>
                </a:moveTo>
                <a:cubicBezTo>
                  <a:pt x="14" y="2360"/>
                  <a:pt x="0" y="2452"/>
                  <a:pt x="34" y="2520"/>
                </a:cubicBezTo>
                <a:cubicBezTo>
                  <a:pt x="68" y="2588"/>
                  <a:pt x="118" y="2746"/>
                  <a:pt x="214" y="2736"/>
                </a:cubicBezTo>
                <a:cubicBezTo>
                  <a:pt x="310" y="2726"/>
                  <a:pt x="452" y="2696"/>
                  <a:pt x="610" y="2460"/>
                </a:cubicBezTo>
                <a:cubicBezTo>
                  <a:pt x="768" y="2224"/>
                  <a:pt x="990" y="1730"/>
                  <a:pt x="1162" y="1320"/>
                </a:cubicBezTo>
                <a:cubicBezTo>
                  <a:pt x="1334" y="910"/>
                  <a:pt x="1542" y="275"/>
                  <a:pt x="1642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 rot="1620600">
            <a:off x="517320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6"/>
          <p:cNvSpPr/>
          <p:nvPr/>
        </p:nvSpPr>
        <p:spPr>
          <a:xfrm rot="1620600">
            <a:off x="3300120" y="47592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17"/>
          <p:cNvSpPr/>
          <p:nvPr/>
        </p:nvSpPr>
        <p:spPr>
          <a:xfrm rot="1620600">
            <a:off x="4289400" y="43776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0"/>
          <p:cNvSpPr/>
          <p:nvPr/>
        </p:nvSpPr>
        <p:spPr>
          <a:xfrm>
            <a:off x="4613400" y="4748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9"/>
          <p:cNvSpPr/>
          <p:nvPr/>
        </p:nvSpPr>
        <p:spPr>
          <a:xfrm>
            <a:off x="4282920" y="9795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2"/>
          <p:cNvSpPr/>
          <p:nvPr/>
        </p:nvSpPr>
        <p:spPr>
          <a:xfrm>
            <a:off x="651528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11"/>
          <p:cNvSpPr/>
          <p:nvPr/>
        </p:nvSpPr>
        <p:spPr>
          <a:xfrm>
            <a:off x="6227640" y="3139920"/>
            <a:ext cx="1447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815720" y="-950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7.40056E-007 L 0.00382 -0.04209 L -0.01025 -0.07424 L -0.03681 -0.07424 L -0.05834 -0.06244 L -0.10139 0.00671 L -0.12795 0.07424 L -0.14184 0.13483 L -0.14306 0.18224 L -0.13299 0.21415 L -0.11528 0.22086 L -0.08229 0.20236 L -0.0507 0.16697 L -0.02535 0.11795 L 0.00382 -0.00833 L 0.03403 -0.04371 L 0.06441 -0.07748 L 0.08732 -0.08094 L 0.10503 -0.06568 L 0.11389 -0.02868 L 0.09739 0.04903 L 0.07465 0.12303 L 0.03541 0.18894 L 0.00503 0.21415 L -0.01025 0.21415 L -0.02656 0.19889 L -0.03177 0.16351 L -0.02656 0.12303 L 0.03038 -0.08418 L -0.11771 0.41142 L -0.14809 0.49075 L -0.17483 0.52937 L -0.20643 0.54625 L -0.22656 0.54301 L -0.24445 0.50578 L -0.25452 0.45028 E">
                                      <p:cBhvr>
                                        <p:cTn id="267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545 0.31013 L 0.20781 0.25277 L 0.17621 0.23242 L 0.13559 0.25786 L 0.09757 0.33372 L 0.06979 0.41628 L 0.06597 0.49052 L 0.07621 0.52243 L 0.09896 0.52937 L 0.13681 0.50393 L 0.18507 0.42137 L 0.25208 0.27983 L 0.29757 0.23427 L 0.33316 0.2426 C 0.33524 0.26341 0.33871 0.28399 0.33941 0.30504 C 0.33993 0.3203 0.33802 0.33533 0.33681 0.3506 C 0.33628 0.358 0.33056 0.35522 0.33056 0.36077 L 0.30278 0.42969 L 0.26476 0.50069 L 0.22795 0.5259 L 0.20399 0.51249 L 0.1901 0.45004 L 0.24201 0.2241 L 0.06354 0.821 E">
                                      <p:cBhvr>
                                        <p:cTn id="271" dur="50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10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23"/>
          <p:cNvGrpSpPr/>
          <p:nvPr/>
        </p:nvGrpSpPr>
        <p:grpSpPr>
          <a:xfrm>
            <a:off x="5796000" y="2712960"/>
            <a:ext cx="2243160" cy="2178000"/>
            <a:chOff x="5796000" y="2712960"/>
            <a:chExt cx="2243160" cy="2178000"/>
          </a:xfrm>
        </p:grpSpPr>
        <p:grpSp>
          <p:nvGrpSpPr>
            <p:cNvPr id="414" name="Group 13"/>
            <p:cNvGrpSpPr/>
            <p:nvPr/>
          </p:nvGrpSpPr>
          <p:grpSpPr>
            <a:xfrm>
              <a:off x="6731280" y="2712960"/>
              <a:ext cx="1307880" cy="2128680"/>
              <a:chOff x="6731280" y="2712960"/>
              <a:chExt cx="1307880" cy="2128680"/>
            </a:xfrm>
          </p:grpSpPr>
          <p:sp>
            <p:nvSpPr>
              <p:cNvPr id="415" name="Freeform 14"/>
              <p:cNvSpPr/>
              <p:nvPr/>
            </p:nvSpPr>
            <p:spPr>
              <a:xfrm>
                <a:off x="6731280" y="2712960"/>
                <a:ext cx="1307880" cy="2128680"/>
              </a:xfrm>
              <a:custGeom>
                <a:avLst/>
                <a:gdLst>
                  <a:gd name="textAreaLeft" fmla="*/ 0 w 1307880"/>
                  <a:gd name="textAreaRight" fmla="*/ 1307880 w 1307880"/>
                  <a:gd name="textAreaTop" fmla="*/ 0 h 2128680"/>
                  <a:gd name="textAreaBottom" fmla="*/ 2129040 h 2128680"/>
                </a:gdLst>
                <a:ahLst/>
                <a:rect l="textAreaLeft" t="textAreaTop" r="textAreaRight" b="textAreaBottom"/>
                <a:pathLst>
                  <a:path w="824" h="1341">
                    <a:moveTo>
                      <a:pt x="824" y="919"/>
                    </a:moveTo>
                    <a:cubicBezTo>
                      <a:pt x="778" y="963"/>
                      <a:pt x="654" y="1118"/>
                      <a:pt x="540" y="1184"/>
                    </a:cubicBezTo>
                    <a:cubicBezTo>
                      <a:pt x="426" y="1250"/>
                      <a:pt x="228" y="1341"/>
                      <a:pt x="138" y="1312"/>
                    </a:cubicBezTo>
                    <a:cubicBezTo>
                      <a:pt x="48" y="1283"/>
                      <a:pt x="2" y="1142"/>
                      <a:pt x="1" y="1010"/>
                    </a:cubicBezTo>
                    <a:cubicBezTo>
                      <a:pt x="0" y="878"/>
                      <a:pt x="67" y="662"/>
                      <a:pt x="129" y="517"/>
                    </a:cubicBezTo>
                    <a:cubicBezTo>
                      <a:pt x="191" y="372"/>
                      <a:pt x="289" y="221"/>
                      <a:pt x="376" y="142"/>
                    </a:cubicBezTo>
                    <a:cubicBezTo>
                      <a:pt x="463" y="63"/>
                      <a:pt x="591" y="0"/>
                      <a:pt x="650" y="41"/>
                    </a:cubicBezTo>
                    <a:cubicBezTo>
                      <a:pt x="709" y="82"/>
                      <a:pt x="715" y="317"/>
                      <a:pt x="732" y="38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AutoShape 15"/>
              <p:cNvSpPr/>
              <p:nvPr/>
            </p:nvSpPr>
            <p:spPr>
              <a:xfrm>
                <a:off x="7810560" y="330516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9"/>
            <p:cNvGrpSpPr/>
            <p:nvPr/>
          </p:nvGrpSpPr>
          <p:grpSpPr>
            <a:xfrm>
              <a:off x="5796000" y="2735280"/>
              <a:ext cx="1162080" cy="2155680"/>
              <a:chOff x="5796000" y="2735280"/>
              <a:chExt cx="1162080" cy="2155680"/>
            </a:xfrm>
          </p:grpSpPr>
          <p:sp>
            <p:nvSpPr>
              <p:cNvPr id="418" name="Freeform 17"/>
              <p:cNvSpPr/>
              <p:nvPr/>
            </p:nvSpPr>
            <p:spPr>
              <a:xfrm>
                <a:off x="5796000" y="2735280"/>
                <a:ext cx="1162080" cy="2155680"/>
              </a:xfrm>
              <a:custGeom>
                <a:avLst/>
                <a:gdLst>
                  <a:gd name="textAreaLeft" fmla="*/ 0 w 1162080"/>
                  <a:gd name="textAreaRight" fmla="*/ 1162440 w 1162080"/>
                  <a:gd name="textAreaTop" fmla="*/ 0 h 2155680"/>
                  <a:gd name="textAreaBottom" fmla="*/ 2156040 h 2155680"/>
                </a:gdLst>
                <a:ahLst/>
                <a:rect l="textAreaLeft" t="textAreaTop" r="textAreaRight" b="textAreaBottom"/>
                <a:pathLst>
                  <a:path w="732" h="1358">
                    <a:moveTo>
                      <a:pt x="183" y="266"/>
                    </a:moveTo>
                    <a:cubicBezTo>
                      <a:pt x="218" y="234"/>
                      <a:pt x="323" y="111"/>
                      <a:pt x="391" y="74"/>
                    </a:cubicBezTo>
                    <a:cubicBezTo>
                      <a:pt x="459" y="37"/>
                      <a:pt x="537" y="0"/>
                      <a:pt x="594" y="46"/>
                    </a:cubicBezTo>
                    <a:cubicBezTo>
                      <a:pt x="651" y="92"/>
                      <a:pt x="730" y="216"/>
                      <a:pt x="731" y="348"/>
                    </a:cubicBezTo>
                    <a:cubicBezTo>
                      <a:pt x="732" y="480"/>
                      <a:pt x="665" y="696"/>
                      <a:pt x="603" y="841"/>
                    </a:cubicBezTo>
                    <a:cubicBezTo>
                      <a:pt x="541" y="986"/>
                      <a:pt x="443" y="1137"/>
                      <a:pt x="356" y="1216"/>
                    </a:cubicBezTo>
                    <a:cubicBezTo>
                      <a:pt x="269" y="1295"/>
                      <a:pt x="141" y="1358"/>
                      <a:pt x="82" y="1317"/>
                    </a:cubicBezTo>
                    <a:cubicBezTo>
                      <a:pt x="23" y="1276"/>
                      <a:pt x="17" y="1041"/>
                      <a:pt x="0" y="96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AutoShape 18"/>
              <p:cNvSpPr/>
              <p:nvPr/>
            </p:nvSpPr>
            <p:spPr>
              <a:xfrm flipH="1">
                <a:off x="6081120" y="301608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0" name="Freeform 29"/>
          <p:cNvSpPr/>
          <p:nvPr/>
        </p:nvSpPr>
        <p:spPr>
          <a:xfrm>
            <a:off x="765000" y="469800"/>
            <a:ext cx="2635560" cy="4280040"/>
          </a:xfrm>
          <a:custGeom>
            <a:avLst/>
            <a:gdLst>
              <a:gd name="textAreaLeft" fmla="*/ 0 w 2635560"/>
              <a:gd name="textAreaRight" fmla="*/ 2635920 w 2635560"/>
              <a:gd name="textAreaTop" fmla="*/ 0 h 4280040"/>
              <a:gd name="textAreaBottom" fmla="*/ 4280400 h 4280040"/>
            </a:gdLst>
            <a:ahLst/>
            <a:rect l="textAreaLeft" t="textAreaTop" r="textAreaRight" b="textAreaBottom"/>
            <a:pathLst>
              <a:path w="1660" h="2696">
                <a:moveTo>
                  <a:pt x="718" y="508"/>
                </a:moveTo>
                <a:cubicBezTo>
                  <a:pt x="784" y="444"/>
                  <a:pt x="986" y="192"/>
                  <a:pt x="1114" y="124"/>
                </a:cubicBezTo>
                <a:cubicBezTo>
                  <a:pt x="1242" y="56"/>
                  <a:pt x="1399" y="0"/>
                  <a:pt x="1486" y="100"/>
                </a:cubicBezTo>
                <a:cubicBezTo>
                  <a:pt x="1573" y="200"/>
                  <a:pt x="1660" y="458"/>
                  <a:pt x="1637" y="726"/>
                </a:cubicBezTo>
                <a:cubicBezTo>
                  <a:pt x="1614" y="994"/>
                  <a:pt x="1504" y="1407"/>
                  <a:pt x="1349" y="1709"/>
                </a:cubicBezTo>
                <a:cubicBezTo>
                  <a:pt x="1194" y="2011"/>
                  <a:pt x="901" y="2378"/>
                  <a:pt x="706" y="2536"/>
                </a:cubicBezTo>
                <a:cubicBezTo>
                  <a:pt x="511" y="2694"/>
                  <a:pt x="294" y="2696"/>
                  <a:pt x="178" y="2658"/>
                </a:cubicBezTo>
                <a:cubicBezTo>
                  <a:pt x="62" y="2620"/>
                  <a:pt x="24" y="2452"/>
                  <a:pt x="12" y="2310"/>
                </a:cubicBezTo>
                <a:cubicBezTo>
                  <a:pt x="0" y="2168"/>
                  <a:pt x="84" y="1912"/>
                  <a:pt x="103" y="1807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9"/>
          <p:cNvSpPr/>
          <p:nvPr/>
        </p:nvSpPr>
        <p:spPr>
          <a:xfrm>
            <a:off x="1835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26"/>
          <p:cNvSpPr/>
          <p:nvPr/>
        </p:nvSpPr>
        <p:spPr>
          <a:xfrm>
            <a:off x="2833560" y="541440"/>
            <a:ext cx="2557440" cy="4294080"/>
          </a:xfrm>
          <a:custGeom>
            <a:avLst/>
            <a:gdLst>
              <a:gd name="textAreaLeft" fmla="*/ 0 w 2557440"/>
              <a:gd name="textAreaRight" fmla="*/ 2557800 w 2557440"/>
              <a:gd name="textAreaTop" fmla="*/ 0 h 4294080"/>
              <a:gd name="textAreaBottom" fmla="*/ 4294440 h 4294080"/>
            </a:gdLst>
            <a:ahLst/>
            <a:rect l="textAreaLeft" t="textAreaTop" r="textAreaRight" b="textAreaBottom"/>
            <a:pathLst>
              <a:path w="1611" h="2705">
                <a:moveTo>
                  <a:pt x="1228" y="2320"/>
                </a:moveTo>
                <a:cubicBezTo>
                  <a:pt x="1058" y="2375"/>
                  <a:pt x="409" y="2705"/>
                  <a:pt x="207" y="2647"/>
                </a:cubicBezTo>
                <a:cubicBezTo>
                  <a:pt x="5" y="2589"/>
                  <a:pt x="0" y="2249"/>
                  <a:pt x="16" y="1973"/>
                </a:cubicBezTo>
                <a:cubicBezTo>
                  <a:pt x="32" y="1697"/>
                  <a:pt x="165" y="1279"/>
                  <a:pt x="304" y="990"/>
                </a:cubicBezTo>
                <a:cubicBezTo>
                  <a:pt x="443" y="701"/>
                  <a:pt x="701" y="406"/>
                  <a:pt x="859" y="242"/>
                </a:cubicBezTo>
                <a:cubicBezTo>
                  <a:pt x="1017" y="78"/>
                  <a:pt x="1138" y="14"/>
                  <a:pt x="1251" y="7"/>
                </a:cubicBezTo>
                <a:cubicBezTo>
                  <a:pt x="1364" y="0"/>
                  <a:pt x="1479" y="113"/>
                  <a:pt x="1539" y="199"/>
                </a:cubicBezTo>
                <a:cubicBezTo>
                  <a:pt x="1599" y="285"/>
                  <a:pt x="1596" y="456"/>
                  <a:pt x="1611" y="5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0"/>
          <p:cNvSpPr/>
          <p:nvPr/>
        </p:nvSpPr>
        <p:spPr>
          <a:xfrm>
            <a:off x="5291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408040" y="19368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0.02452 L 0.05695 -0.1006 L 0.08976 -0.12234 L 0.11771 -0.12072 L 0.13403 -0.11055 L 0.15313 -0.03145 L 0.15816 0.04949 L 0.10365 0.27729 L 0.03924 0.39361 L -0.01528 0.46785 L -0.06719 0.48797 L -0.11267 0.47456 L -0.12535 0.4105 L -0.12153 0.34297 L -0.10885 0.28399 L -0.12795 0.39176 L -0.11528 0.47965 L -0.05694 0.49306 L -0.01024 0.466 L 0.10625 0.27891 L 0.16962 0.05458 L 0.25816 -0.08372 L 0.29861 -0.11725 L 0.33038 -0.12419 L 0.3658 -0.08534 L 0.37465 -0.05157 L 0.37847 -0.00093 L 0.36702 -0.08187 L 0.33403 -0.1191 L 0.2974 -0.12581 L 0.21268 -0.01272 L 0.15313 0.08834 L 0.10122 0.28723 L 0.1 0.40541 L 0.11129 0.47109 L 0.13542 0.49653 L 0.17465 0.48959 L 0.31389 0.41559 E">
                                      <p:cBhvr>
                                        <p:cTn id="277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583 0.24699 L 0.48646 0.19149 L 0.5066 0.19149 L 0.52952 0.22178 L 0.53958 0.28584 L 0.50156 0.43432 L 0.4599 0.48982 L 0.43316 0.49653 L 0.42049 0.48982 L 0.41042 0.4105 L 0.42309 0.49491 L 0.45226 0.49653 L 0.49913 0.44264 L 0.5599 0.23867 L 0.59271 0.19819 L 0.62309 0.18455 L 0.63455 0.21161 L 0.63958 0.27405 L 0.63455 0.21323 L 0.61806 0.18455 L 0.58264 0.20999 L 0.52049 0.34644 L 0.51302 0.43917 L 0.53316 0.48982 L 0.56875 0.48982 L 0.60799 0.46276 L 0.63577 0.43432 L 0.65851 0.39708 E">
                                      <p:cBhvr>
                                        <p:cTn id="281" dur="5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26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Group 21"/>
          <p:cNvGrpSpPr/>
          <p:nvPr/>
        </p:nvGrpSpPr>
        <p:grpSpPr>
          <a:xfrm>
            <a:off x="1668600" y="485640"/>
            <a:ext cx="2974680" cy="5456520"/>
            <a:chOff x="1668600" y="485640"/>
            <a:chExt cx="2974680" cy="5456520"/>
          </a:xfrm>
        </p:grpSpPr>
        <p:sp>
          <p:nvSpPr>
            <p:cNvPr id="430" name="Freeform 13"/>
            <p:cNvSpPr/>
            <p:nvPr/>
          </p:nvSpPr>
          <p:spPr>
            <a:xfrm>
              <a:off x="1668600" y="558720"/>
              <a:ext cx="1769760" cy="4291200"/>
            </a:xfrm>
            <a:custGeom>
              <a:avLst/>
              <a:gdLst>
                <a:gd name="textAreaLeft" fmla="*/ 0 w 1769760"/>
                <a:gd name="textAreaRight" fmla="*/ 1770120 w 1769760"/>
                <a:gd name="textAreaTop" fmla="*/ 0 h 4291200"/>
                <a:gd name="textAreaBottom" fmla="*/ 4291560 h 4291200"/>
              </a:gdLst>
              <a:ahLst/>
              <a:rect l="textAreaLeft" t="textAreaTop" r="textAreaRight" b="textAreaBottom"/>
              <a:pathLst>
                <a:path w="1115" h="2703">
                  <a:moveTo>
                    <a:pt x="894" y="2296"/>
                  </a:moveTo>
                  <a:cubicBezTo>
                    <a:pt x="788" y="2358"/>
                    <a:pt x="396" y="2635"/>
                    <a:pt x="259" y="2669"/>
                  </a:cubicBezTo>
                  <a:cubicBezTo>
                    <a:pt x="122" y="2703"/>
                    <a:pt x="60" y="2654"/>
                    <a:pt x="74" y="2503"/>
                  </a:cubicBezTo>
                  <a:cubicBezTo>
                    <a:pt x="88" y="2352"/>
                    <a:pt x="184" y="2128"/>
                    <a:pt x="344" y="1763"/>
                  </a:cubicBezTo>
                  <a:cubicBezTo>
                    <a:pt x="504" y="1398"/>
                    <a:pt x="953" y="604"/>
                    <a:pt x="1034" y="315"/>
                  </a:cubicBezTo>
                  <a:cubicBezTo>
                    <a:pt x="1115" y="26"/>
                    <a:pt x="913" y="64"/>
                    <a:pt x="832" y="32"/>
                  </a:cubicBezTo>
                  <a:cubicBezTo>
                    <a:pt x="751" y="0"/>
                    <a:pt x="688" y="50"/>
                    <a:pt x="549" y="123"/>
                  </a:cubicBezTo>
                  <a:cubicBezTo>
                    <a:pt x="410" y="196"/>
                    <a:pt x="114" y="399"/>
                    <a:pt x="0" y="471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"/>
            <p:cNvSpPr/>
            <p:nvPr/>
          </p:nvSpPr>
          <p:spPr>
            <a:xfrm>
              <a:off x="2927520" y="558720"/>
              <a:ext cx="1644480" cy="425124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51240"/>
                <a:gd name="textAreaBottom" fmla="*/ 4251240 h 4251240"/>
              </a:gdLst>
              <a:ahLst/>
              <a:rect l="textAreaLeft" t="textAreaTop" r="textAreaRight" b="textAreaBottom"/>
              <a:pathLst>
                <a:path w="1036" h="2678">
                  <a:moveTo>
                    <a:pt x="606" y="2437"/>
                  </a:moveTo>
                  <a:cubicBezTo>
                    <a:pt x="540" y="2475"/>
                    <a:pt x="298" y="2658"/>
                    <a:pt x="199" y="2668"/>
                  </a:cubicBezTo>
                  <a:cubicBezTo>
                    <a:pt x="100" y="2678"/>
                    <a:pt x="0" y="2652"/>
                    <a:pt x="14" y="2496"/>
                  </a:cubicBezTo>
                  <a:cubicBezTo>
                    <a:pt x="28" y="2339"/>
                    <a:pt x="114" y="2144"/>
                    <a:pt x="284" y="1728"/>
                  </a:cubicBezTo>
                  <a:cubicBezTo>
                    <a:pt x="454" y="1313"/>
                    <a:pt x="879" y="360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9"/>
            <p:cNvSpPr/>
            <p:nvPr/>
          </p:nvSpPr>
          <p:spPr>
            <a:xfrm>
              <a:off x="3143160" y="4397400"/>
              <a:ext cx="1139760" cy="154476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8" y="973"/>
                    <a:pt x="206" y="850"/>
                  </a:cubicBezTo>
                  <a:cubicBezTo>
                    <a:pt x="284" y="727"/>
                    <a:pt x="415" y="177"/>
                    <a:pt x="47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AutoShape 9"/>
            <p:cNvSpPr/>
            <p:nvPr/>
          </p:nvSpPr>
          <p:spPr>
            <a:xfrm>
              <a:off x="16686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AutoShape 10"/>
            <p:cNvSpPr/>
            <p:nvPr/>
          </p:nvSpPr>
          <p:spPr>
            <a:xfrm>
              <a:off x="4498920" y="4856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Group 22"/>
          <p:cNvGrpSpPr/>
          <p:nvPr/>
        </p:nvGrpSpPr>
        <p:grpSpPr>
          <a:xfrm>
            <a:off x="5051520" y="2576520"/>
            <a:ext cx="2444760" cy="3438360"/>
            <a:chOff x="5051520" y="2576520"/>
            <a:chExt cx="2444760" cy="3438360"/>
          </a:xfrm>
        </p:grpSpPr>
        <p:sp>
          <p:nvSpPr>
            <p:cNvPr id="436" name="Freeform 15"/>
            <p:cNvSpPr/>
            <p:nvPr/>
          </p:nvSpPr>
          <p:spPr>
            <a:xfrm>
              <a:off x="6140520" y="2709720"/>
              <a:ext cx="954000" cy="21416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141640"/>
                <a:gd name="textAreaBottom" fmla="*/ 2142000 h 2141640"/>
              </a:gdLst>
              <a:ahLst/>
              <a:rect l="textAreaLeft" t="textAreaTop" r="textAreaRight" b="textAreaBottom"/>
              <a:pathLst>
                <a:path w="601" h="1349">
                  <a:moveTo>
                    <a:pt x="594" y="1118"/>
                  </a:moveTo>
                  <a:cubicBezTo>
                    <a:pt x="545" y="1151"/>
                    <a:pt x="397" y="1278"/>
                    <a:pt x="301" y="1305"/>
                  </a:cubicBezTo>
                  <a:cubicBezTo>
                    <a:pt x="205" y="1332"/>
                    <a:pt x="42" y="1349"/>
                    <a:pt x="21" y="1279"/>
                  </a:cubicBezTo>
                  <a:cubicBezTo>
                    <a:pt x="0" y="1209"/>
                    <a:pt x="78" y="1098"/>
                    <a:pt x="174" y="886"/>
                  </a:cubicBezTo>
                  <a:cubicBezTo>
                    <a:pt x="271" y="672"/>
                    <a:pt x="512" y="184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6"/>
            <p:cNvSpPr/>
            <p:nvPr/>
          </p:nvSpPr>
          <p:spPr>
            <a:xfrm>
              <a:off x="5051520" y="2649600"/>
              <a:ext cx="1305000" cy="21603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2160360"/>
                <a:gd name="textAreaBottom" fmla="*/ 2160720 h 21603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7"/>
            <p:cNvSpPr/>
            <p:nvPr/>
          </p:nvSpPr>
          <p:spPr>
            <a:xfrm>
              <a:off x="6356520" y="4470480"/>
              <a:ext cx="1139760" cy="154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544400"/>
                <a:gd name="textAreaBottom" fmla="*/ 1544760 h 1544400"/>
              </a:gdLst>
              <a:ahLst/>
              <a:rect l="textAreaLeft" t="textAreaTop" r="textAreaRight" b="textAreaBottom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9" y="973"/>
                    <a:pt x="206" y="850"/>
                  </a:cubicBezTo>
                  <a:cubicBezTo>
                    <a:pt x="283" y="727"/>
                    <a:pt x="413" y="177"/>
                    <a:pt x="46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11"/>
            <p:cNvSpPr/>
            <p:nvPr/>
          </p:nvSpPr>
          <p:spPr>
            <a:xfrm>
              <a:off x="5938920" y="25765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12"/>
            <p:cNvSpPr/>
            <p:nvPr/>
          </p:nvSpPr>
          <p:spPr>
            <a:xfrm>
              <a:off x="7021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109600" y="1224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29232E-006 L 0.07847 -0.06914 L 0.12014 -0.10129 L 0.1493 -0.10453 L 0.17847 -0.08603 L 0.1809 -0.06914 L 0.17725 -0.02705 L 0.04045 0.33395 L 0.00885 0.45028 L 0.00625 0.49399 L 0.01649 0.51596 L 0.03663 0.51596 L 0.14427 0.42831 L 0.3151 -0.11124 L 0.14045 0.44519 L 0.13923 0.49237 L 0.1493 0.50925 L 0.17083 0.50255 L 0.24166 0.4519 L 0.22152 0.55481 L 0.19618 0.65079 L 0.1809 0.6575 L 0.17204 0.65264 L 0.16302 0.63576 L 0.15816 0.61217 L 0.17465 0.5784 L 0.28472 0.4519 E">
                                      <p:cBhvr>
                                        <p:cTn id="287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396 0.18525 L 0.37778 0.45514 L 0.36893 0.48543 L 0.38542 0.50231 L 0.41823 0.49214 L 0.51823 0.39778 L 0.59288 0.19033 L 0.49045 0.47364 L 0.49045 0.49399 L 0.5158 0.50578 L 0.56007 0.48543 L 0.58907 0.44843 L 0.5474 0.65241 L 0.53212 0.65749 L 0.51702 0.64732 L 0.51059 0.62026 L 0.52205 0.59181 L 0.55365 0.54625 L 0.63594 0.45352 E">
                                      <p:cBhvr>
                                        <p:cTn id="291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4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Group 16"/>
          <p:cNvGrpSpPr/>
          <p:nvPr/>
        </p:nvGrpSpPr>
        <p:grpSpPr>
          <a:xfrm>
            <a:off x="5500800" y="2637000"/>
            <a:ext cx="1663560" cy="2157120"/>
            <a:chOff x="5500800" y="2637000"/>
            <a:chExt cx="1663560" cy="2157120"/>
          </a:xfrm>
        </p:grpSpPr>
        <p:sp>
          <p:nvSpPr>
            <p:cNvPr id="447" name="Freeform 14"/>
            <p:cNvSpPr/>
            <p:nvPr/>
          </p:nvSpPr>
          <p:spPr>
            <a:xfrm>
              <a:off x="6140520" y="2637000"/>
              <a:ext cx="1023840" cy="215712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2157120"/>
                <a:gd name="textAreaBottom" fmla="*/ 2157480 h 215712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5573880" y="2637000"/>
              <a:ext cx="1211040" cy="314280"/>
            </a:xfrm>
            <a:custGeom>
              <a:avLst/>
              <a:gdLst>
                <a:gd name="textAreaLeft" fmla="*/ 0 w 1211040"/>
                <a:gd name="textAreaRight" fmla="*/ 1211400 w 12110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AutoShape 11"/>
            <p:cNvSpPr/>
            <p:nvPr/>
          </p:nvSpPr>
          <p:spPr>
            <a:xfrm>
              <a:off x="550080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17"/>
          <p:cNvGrpSpPr/>
          <p:nvPr/>
        </p:nvGrpSpPr>
        <p:grpSpPr>
          <a:xfrm>
            <a:off x="2174760" y="476280"/>
            <a:ext cx="2468520" cy="4317840"/>
            <a:chOff x="2174760" y="476280"/>
            <a:chExt cx="2468520" cy="4317840"/>
          </a:xfrm>
        </p:grpSpPr>
        <p:sp>
          <p:nvSpPr>
            <p:cNvPr id="451" name="Freeform 12"/>
            <p:cNvSpPr/>
            <p:nvPr/>
          </p:nvSpPr>
          <p:spPr>
            <a:xfrm>
              <a:off x="2247840" y="504720"/>
              <a:ext cx="1760760" cy="2179800"/>
            </a:xfrm>
            <a:custGeom>
              <a:avLst/>
              <a:gdLst>
                <a:gd name="textAreaLeft" fmla="*/ 0 w 1760760"/>
                <a:gd name="textAreaRight" fmla="*/ 1761120 w 1760760"/>
                <a:gd name="textAreaTop" fmla="*/ 0 h 2179800"/>
                <a:gd name="textAreaBottom" fmla="*/ 2180160 h 2179800"/>
              </a:gdLst>
              <a:ahLst/>
              <a:rect l="textAreaLeft" t="textAreaTop" r="textAreaRight" b="textAreaBottom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3"/>
            <p:cNvSpPr/>
            <p:nvPr/>
          </p:nvSpPr>
          <p:spPr>
            <a:xfrm>
              <a:off x="2927520" y="479520"/>
              <a:ext cx="1644480" cy="431460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314600"/>
                <a:gd name="textAreaBottom" fmla="*/ 4314960 h 431460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AutoShape 9"/>
            <p:cNvSpPr/>
            <p:nvPr/>
          </p:nvSpPr>
          <p:spPr>
            <a:xfrm>
              <a:off x="2174760" y="112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10"/>
            <p:cNvSpPr/>
            <p:nvPr/>
          </p:nvSpPr>
          <p:spPr>
            <a:xfrm>
              <a:off x="4498920" y="47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676240" y="810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42276E-007 L 0.07083 -0.09112 L 0.09739 -0.10291 L 0.1151 -0.09274 L 0.12395 -0.07262 L 0.11892 -0.03377 L 0.05312 0.14339 L 0.0493 0.18039 L 0.06458 0.20745 L 0.10243 0.2056 L 0.1493 0.15333 L 0.18732 0.08765 L 0.25312 -0.10615 L 0.08472 0.42322 L 0.07725 0.47895 L 0.08229 0.50578 L 0.09739 0.52266 L 0.12152 0.51087 L 0.2177 0.42322 E">
                                      <p:cBhvr>
                                        <p:cTn id="297" dur="5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07 0.24722 L 0.4007 0.19496 L 0.4158 0.23034 L 0.42969 0.24052 L 0.45 0.23219 L 0.49931 0.19843 L 0.51077 0.19681 L 0.43351 0.48335 L 0.43872 0.51202 L 0.46007 0.50532 L 0.49045 0.48011 L 0.53993 0.41767 E">
                                      <p:cBhvr>
                                        <p:cTn id="301" dur="5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57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23"/>
          <p:cNvGrpSpPr/>
          <p:nvPr/>
        </p:nvGrpSpPr>
        <p:grpSpPr>
          <a:xfrm>
            <a:off x="5138640" y="2635200"/>
            <a:ext cx="3387960" cy="2141640"/>
            <a:chOff x="5138640" y="2635200"/>
            <a:chExt cx="3387960" cy="2141640"/>
          </a:xfrm>
        </p:grpSpPr>
        <p:sp>
          <p:nvSpPr>
            <p:cNvPr id="461" name="Freeform 18"/>
            <p:cNvSpPr/>
            <p:nvPr/>
          </p:nvSpPr>
          <p:spPr>
            <a:xfrm>
              <a:off x="6156360" y="2637000"/>
              <a:ext cx="1289160" cy="213984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139840"/>
                <a:gd name="textAreaBottom" fmla="*/ 2140200 h 213984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9"/>
            <p:cNvSpPr/>
            <p:nvPr/>
          </p:nvSpPr>
          <p:spPr>
            <a:xfrm>
              <a:off x="5138640" y="2708280"/>
              <a:ext cx="1289160" cy="206856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068560"/>
                <a:gd name="textAreaBottom" fmla="*/ 2068920 h 20685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1"/>
            <p:cNvSpPr/>
            <p:nvPr/>
          </p:nvSpPr>
          <p:spPr>
            <a:xfrm>
              <a:off x="7237440" y="2708280"/>
              <a:ext cx="1289160" cy="2068560"/>
            </a:xfrm>
            <a:custGeom>
              <a:avLst/>
              <a:gdLst>
                <a:gd name="textAreaLeft" fmla="*/ 0 w 1289160"/>
                <a:gd name="textAreaRight" fmla="*/ 1289520 w 1289160"/>
                <a:gd name="textAreaTop" fmla="*/ 0 h 2068560"/>
                <a:gd name="textAreaBottom" fmla="*/ 2068920 h 2068560"/>
              </a:gdLst>
              <a:ahLst/>
              <a:rect l="textAreaLeft" t="textAreaTop" r="textAreaRight" b="textAreaBottom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12"/>
            <p:cNvSpPr/>
            <p:nvPr/>
          </p:nvSpPr>
          <p:spPr>
            <a:xfrm>
              <a:off x="601200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3"/>
            <p:cNvSpPr/>
            <p:nvPr/>
          </p:nvSpPr>
          <p:spPr>
            <a:xfrm>
              <a:off x="694692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4"/>
            <p:cNvSpPr/>
            <p:nvPr/>
          </p:nvSpPr>
          <p:spPr>
            <a:xfrm>
              <a:off x="810108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2"/>
          <p:cNvGrpSpPr/>
          <p:nvPr/>
        </p:nvGrpSpPr>
        <p:grpSpPr>
          <a:xfrm>
            <a:off x="382680" y="447840"/>
            <a:ext cx="4332240" cy="4372920"/>
            <a:chOff x="382680" y="447840"/>
            <a:chExt cx="4332240" cy="4372920"/>
          </a:xfrm>
        </p:grpSpPr>
        <p:sp>
          <p:nvSpPr>
            <p:cNvPr id="468" name="Freeform 15"/>
            <p:cNvSpPr/>
            <p:nvPr/>
          </p:nvSpPr>
          <p:spPr>
            <a:xfrm>
              <a:off x="455760" y="461880"/>
              <a:ext cx="1795320" cy="4358880"/>
            </a:xfrm>
            <a:custGeom>
              <a:avLst/>
              <a:gdLst>
                <a:gd name="textAreaLeft" fmla="*/ 0 w 1795320"/>
                <a:gd name="textAreaRight" fmla="*/ 1795680 w 1795320"/>
                <a:gd name="textAreaTop" fmla="*/ 0 h 4358880"/>
                <a:gd name="textAreaBottom" fmla="*/ 4359240 h 4358880"/>
              </a:gdLst>
              <a:ahLst/>
              <a:rect l="textAreaLeft" t="textAreaTop" r="textAreaRight" b="textAreaBottom"/>
              <a:pathLst>
                <a:path w="1131" h="2746">
                  <a:moveTo>
                    <a:pt x="888" y="2341"/>
                  </a:moveTo>
                  <a:cubicBezTo>
                    <a:pt x="784" y="2403"/>
                    <a:pt x="395" y="2678"/>
                    <a:pt x="259" y="2712"/>
                  </a:cubicBezTo>
                  <a:cubicBezTo>
                    <a:pt x="123" y="2746"/>
                    <a:pt x="60" y="2697"/>
                    <a:pt x="74" y="2546"/>
                  </a:cubicBezTo>
                  <a:cubicBezTo>
                    <a:pt x="88" y="2395"/>
                    <a:pt x="184" y="2171"/>
                    <a:pt x="344" y="1806"/>
                  </a:cubicBezTo>
                  <a:cubicBezTo>
                    <a:pt x="504" y="1441"/>
                    <a:pt x="937" y="654"/>
                    <a:pt x="1034" y="358"/>
                  </a:cubicBezTo>
                  <a:cubicBezTo>
                    <a:pt x="1131" y="62"/>
                    <a:pt x="1008" y="64"/>
                    <a:pt x="927" y="32"/>
                  </a:cubicBezTo>
                  <a:cubicBezTo>
                    <a:pt x="846" y="0"/>
                    <a:pt x="703" y="86"/>
                    <a:pt x="549" y="166"/>
                  </a:cubicBezTo>
                  <a:cubicBezTo>
                    <a:pt x="395" y="246"/>
                    <a:pt x="114" y="442"/>
                    <a:pt x="0" y="514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7"/>
            <p:cNvSpPr/>
            <p:nvPr/>
          </p:nvSpPr>
          <p:spPr>
            <a:xfrm>
              <a:off x="2998800" y="529920"/>
              <a:ext cx="1644480" cy="428904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89040"/>
                <a:gd name="textAreaBottom" fmla="*/ 4289040 h 428904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9"/>
            <p:cNvSpPr/>
            <p:nvPr/>
          </p:nvSpPr>
          <p:spPr>
            <a:xfrm>
              <a:off x="382680" y="116820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0"/>
            <p:cNvSpPr/>
            <p:nvPr/>
          </p:nvSpPr>
          <p:spPr>
            <a:xfrm>
              <a:off x="457056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6"/>
            <p:cNvSpPr/>
            <p:nvPr/>
          </p:nvSpPr>
          <p:spPr>
            <a:xfrm>
              <a:off x="1785960" y="529920"/>
              <a:ext cx="1644480" cy="4279680"/>
            </a:xfrm>
            <a:custGeom>
              <a:avLst/>
              <a:gdLst>
                <a:gd name="textAreaLeft" fmla="*/ 0 w 1644480"/>
                <a:gd name="textAreaRight" fmla="*/ 1644840 w 1644480"/>
                <a:gd name="textAreaTop" fmla="*/ 0 h 4279680"/>
                <a:gd name="textAreaBottom" fmla="*/ 4280040 h 427968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AutoShape 11"/>
            <p:cNvSpPr/>
            <p:nvPr/>
          </p:nvSpPr>
          <p:spPr>
            <a:xfrm>
              <a:off x="335772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958320" y="9360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944E-006 L 0.11771 -0.09274 L 0.1658 -0.10777 L 0.18351 -0.08765 L 0.18611 -0.05389 L 0.13924 0.07932 L 0.06337 0.29509 L 0.01389 0.44704 L 0.01528 0.50925 L 0.03542 0.51942 L 0.09618 0.48057 L 0.15694 0.4216 L 0.32917 -0.10939 L 0.14931 0.45698 L 0.15573 0.51272 L 0.17465 0.51434 L 0.22778 0.48566 L 0.29479 0.4216 L 0.45955 -0.11286 L 0.27847 0.46878 L 0.28229 0.5111 L 0.30365 0.52289 L 0.33802 0.49745 L 0.42535 0.42507 E">
                                      <p:cBhvr>
                                        <p:cTn id="30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771 0.19819 L 0.51389 0.47317 L 0.53039 0.50509 L 0.5658 0.47988 L 0.64931 0.40564 L 0.71893 0.19496 L 0.62657 0.47641 L 0.64289 0.50694 L 0.68091 0.48497 L 0.77084 0.39732 L 0.84289 0.19149 L 0.74167 0.47317 L 0.74931 0.50185 L 0.77466 0.50185 L 0.82014 0.46808 L 0.88091 0.41235 E">
                                      <p:cBhvr>
                                        <p:cTn id="311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76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Group 22"/>
          <p:cNvGrpSpPr/>
          <p:nvPr/>
        </p:nvGrpSpPr>
        <p:grpSpPr>
          <a:xfrm>
            <a:off x="5138640" y="2635200"/>
            <a:ext cx="3532320" cy="3408480"/>
            <a:chOff x="5138640" y="2635200"/>
            <a:chExt cx="3532320" cy="3408480"/>
          </a:xfrm>
        </p:grpSpPr>
        <p:grpSp>
          <p:nvGrpSpPr>
            <p:cNvPr id="480" name="Group 6"/>
            <p:cNvGrpSpPr/>
            <p:nvPr/>
          </p:nvGrpSpPr>
          <p:grpSpPr>
            <a:xfrm>
              <a:off x="5138640" y="2635200"/>
              <a:ext cx="3387960" cy="2141640"/>
              <a:chOff x="5138640" y="2635200"/>
              <a:chExt cx="3387960" cy="2141640"/>
            </a:xfrm>
          </p:grpSpPr>
          <p:sp>
            <p:nvSpPr>
              <p:cNvPr id="481" name="Freeform 7"/>
              <p:cNvSpPr/>
              <p:nvPr/>
            </p:nvSpPr>
            <p:spPr>
              <a:xfrm>
                <a:off x="6156360" y="2637000"/>
                <a:ext cx="1289160" cy="213984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139840"/>
                  <a:gd name="textAreaBottom" fmla="*/ 2140200 h 213984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8"/>
              <p:cNvSpPr/>
              <p:nvPr/>
            </p:nvSpPr>
            <p:spPr>
              <a:xfrm>
                <a:off x="51386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9"/>
              <p:cNvSpPr/>
              <p:nvPr/>
            </p:nvSpPr>
            <p:spPr>
              <a:xfrm>
                <a:off x="7237440" y="2708280"/>
                <a:ext cx="1289160" cy="2068560"/>
              </a:xfrm>
              <a:custGeom>
                <a:avLst/>
                <a:gdLst>
                  <a:gd name="textAreaLeft" fmla="*/ 0 w 1289160"/>
                  <a:gd name="textAreaRight" fmla="*/ 1289520 w 1289160"/>
                  <a:gd name="textAreaTop" fmla="*/ 0 h 2068560"/>
                  <a:gd name="textAreaBottom" fmla="*/ 2068920 h 2068560"/>
                </a:gdLst>
                <a:ahLst/>
                <a:rect l="textAreaLeft" t="textAreaTop" r="textAreaRight" b="textAreaBottom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AutoShape 10"/>
              <p:cNvSpPr/>
              <p:nvPr/>
            </p:nvSpPr>
            <p:spPr>
              <a:xfrm>
                <a:off x="6012000" y="26352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11"/>
              <p:cNvSpPr/>
              <p:nvPr/>
            </p:nvSpPr>
            <p:spPr>
              <a:xfrm>
                <a:off x="694692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2"/>
              <p:cNvSpPr/>
              <p:nvPr/>
            </p:nvSpPr>
            <p:spPr>
              <a:xfrm>
                <a:off x="810108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Freeform 20"/>
            <p:cNvSpPr/>
            <p:nvPr/>
          </p:nvSpPr>
          <p:spPr>
            <a:xfrm>
              <a:off x="7531200" y="4229280"/>
              <a:ext cx="1139760" cy="181440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1814400"/>
                <a:gd name="textAreaBottom" fmla="*/ 1814760 h 1814400"/>
              </a:gdLst>
              <a:ahLst/>
              <a:rect l="textAreaLeft" t="textAreaTop" r="textAreaRight" b="textAreaBottom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Group 23"/>
          <p:cNvGrpSpPr/>
          <p:nvPr/>
        </p:nvGrpSpPr>
        <p:grpSpPr>
          <a:xfrm>
            <a:off x="382680" y="447840"/>
            <a:ext cx="4332240" cy="5608440"/>
            <a:chOff x="382680" y="447840"/>
            <a:chExt cx="4332240" cy="5608440"/>
          </a:xfrm>
        </p:grpSpPr>
        <p:grpSp>
          <p:nvGrpSpPr>
            <p:cNvPr id="489" name="Group 13"/>
            <p:cNvGrpSpPr/>
            <p:nvPr/>
          </p:nvGrpSpPr>
          <p:grpSpPr>
            <a:xfrm>
              <a:off x="382680" y="447840"/>
              <a:ext cx="4332240" cy="4372920"/>
              <a:chOff x="382680" y="447840"/>
              <a:chExt cx="4332240" cy="4372920"/>
            </a:xfrm>
          </p:grpSpPr>
          <p:sp>
            <p:nvSpPr>
              <p:cNvPr id="490" name="Freeform 14"/>
              <p:cNvSpPr/>
              <p:nvPr/>
            </p:nvSpPr>
            <p:spPr>
              <a:xfrm>
                <a:off x="455760" y="461880"/>
                <a:ext cx="1795320" cy="4358880"/>
              </a:xfrm>
              <a:custGeom>
                <a:avLst/>
                <a:gdLst>
                  <a:gd name="textAreaLeft" fmla="*/ 0 w 1795320"/>
                  <a:gd name="textAreaRight" fmla="*/ 1795680 w 1795320"/>
                  <a:gd name="textAreaTop" fmla="*/ 0 h 4358880"/>
                  <a:gd name="textAreaBottom" fmla="*/ 4359240 h 4358880"/>
                </a:gdLst>
                <a:ahLst/>
                <a:rect l="textAreaLeft" t="textAreaTop" r="textAreaRight" b="textAreaBottom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5"/>
              <p:cNvSpPr/>
              <p:nvPr/>
            </p:nvSpPr>
            <p:spPr>
              <a:xfrm>
                <a:off x="2998800" y="529920"/>
                <a:ext cx="1644480" cy="428904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89040"/>
                  <a:gd name="textAreaBottom" fmla="*/ 4289040 h 428904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16"/>
              <p:cNvSpPr/>
              <p:nvPr/>
            </p:nvSpPr>
            <p:spPr>
              <a:xfrm>
                <a:off x="382680" y="116820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AutoShape 17"/>
              <p:cNvSpPr/>
              <p:nvPr/>
            </p:nvSpPr>
            <p:spPr>
              <a:xfrm>
                <a:off x="457056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"/>
              <p:cNvSpPr/>
              <p:nvPr/>
            </p:nvSpPr>
            <p:spPr>
              <a:xfrm>
                <a:off x="1785960" y="529920"/>
                <a:ext cx="1644480" cy="4279680"/>
              </a:xfrm>
              <a:custGeom>
                <a:avLst/>
                <a:gdLst>
                  <a:gd name="textAreaLeft" fmla="*/ 0 w 1644480"/>
                  <a:gd name="textAreaRight" fmla="*/ 1644840 w 1644480"/>
                  <a:gd name="textAreaTop" fmla="*/ 0 h 4279680"/>
                  <a:gd name="textAreaBottom" fmla="*/ 4280040 h 4279680"/>
                </a:gdLst>
                <a:ahLst/>
                <a:rect l="textAreaLeft" t="textAreaTop" r="textAreaRight" b="textAreaBottom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AutoShape 19"/>
              <p:cNvSpPr/>
              <p:nvPr/>
            </p:nvSpPr>
            <p:spPr>
              <a:xfrm>
                <a:off x="335772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Freeform 21"/>
            <p:cNvSpPr/>
            <p:nvPr/>
          </p:nvSpPr>
          <p:spPr>
            <a:xfrm>
              <a:off x="3430440" y="4229280"/>
              <a:ext cx="1140120" cy="1827000"/>
            </a:xfrm>
            <a:custGeom>
              <a:avLst/>
              <a:gdLst>
                <a:gd name="textAreaLeft" fmla="*/ 0 w 1140120"/>
                <a:gd name="textAreaRight" fmla="*/ 1140480 w 1140120"/>
                <a:gd name="textAreaTop" fmla="*/ 0 h 1827000"/>
                <a:gd name="textAreaBottom" fmla="*/ 1827360 h 1827000"/>
              </a:gdLst>
              <a:ahLst/>
              <a:rect l="textAreaLeft" t="textAreaTop" r="textAreaRight" b="textAreaBottom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7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888480" y="9360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42276E-007 C 0.004 -0.00786 0.00955 -0.00856 0.0165 -0.00856 L 0.12275 -0.09436 L 0.15573 -0.10453 L 0.18108 -0.09945 L 0.18733 -0.05735 L 0.16198 0.0185 L 0.01146 0.44334 L 0.01007 0.49561 L 0.02031 0.52104 L 0.04809 0.52104 L 0.15434 0.43339 L 0.32535 -0.10615 L 0.14809 0.4586 L 0.14931 0.50416 L 0.17847 0.51596 L 0.28993 0.42484 L 0.45955 -0.108 L 0.28229 0.46531 L 0.28108 0.5074 L 0.31007 0.52266 L 0.42031 0.43501 L 0.3632 0.66605 L 0.34427 0.67623 L 0.33299 0.65079 L 0.34306 0.59852 L 0.4507 0.4771 E">
                                      <p:cBhvr>
                                        <p:cTn id="317" dur="5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291 0.20166 L 0.52152 0.47317 L 0.52673 0.49491 L 0.571 0.49491 L 0.65572 0.4142 L 0.72795 0.20004 L 0.63941 0.46138 L 0.6368 0.49491 L 0.66718 0.49838 L 0.77343 0.40564 L 0.85329 0.20004 L 0.75191 0.46461 L 0.74826 0.49167 L 0.76458 0.50185 L 0.79253 0.49329 L 0.88871 0.41582 L 0.82291 0.64176 L 0.80902 0.66535 L 0.78871 0.64176 L 0.79375 0.59621 L 0.90138 0.45282 E">
                                      <p:cBhvr>
                                        <p:cTn id="321" dur="5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Freeform 17"/>
          <p:cNvSpPr/>
          <p:nvPr/>
        </p:nvSpPr>
        <p:spPr>
          <a:xfrm>
            <a:off x="826920" y="2637000"/>
            <a:ext cx="1316160" cy="2070000"/>
          </a:xfrm>
          <a:custGeom>
            <a:avLst/>
            <a:gdLst>
              <a:gd name="textAreaLeft" fmla="*/ 0 w 1316160"/>
              <a:gd name="textAreaRight" fmla="*/ 1316520 w 1316160"/>
              <a:gd name="textAreaTop" fmla="*/ 0 h 2070000"/>
              <a:gd name="textAreaBottom" fmla="*/ 2070360 h 2070000"/>
            </a:gdLst>
            <a:ahLst/>
            <a:rect l="textAreaLeft" t="textAreaTop" r="textAreaRight" b="textAreaBottom"/>
            <a:pathLst>
              <a:path w="829" h="1304">
                <a:moveTo>
                  <a:pt x="498" y="759"/>
                </a:moveTo>
                <a:cubicBezTo>
                  <a:pt x="523" y="748"/>
                  <a:pt x="596" y="689"/>
                  <a:pt x="648" y="693"/>
                </a:cubicBezTo>
                <a:cubicBezTo>
                  <a:pt x="700" y="697"/>
                  <a:pt x="791" y="715"/>
                  <a:pt x="810" y="783"/>
                </a:cubicBezTo>
                <a:cubicBezTo>
                  <a:pt x="829" y="851"/>
                  <a:pt x="812" y="1015"/>
                  <a:pt x="762" y="1101"/>
                </a:cubicBezTo>
                <a:cubicBezTo>
                  <a:pt x="712" y="1187"/>
                  <a:pt x="585" y="1294"/>
                  <a:pt x="510" y="1299"/>
                </a:cubicBezTo>
                <a:cubicBezTo>
                  <a:pt x="435" y="1304"/>
                  <a:pt x="315" y="1232"/>
                  <a:pt x="312" y="1131"/>
                </a:cubicBezTo>
                <a:cubicBezTo>
                  <a:pt x="309" y="1030"/>
                  <a:pt x="419" y="866"/>
                  <a:pt x="494" y="690"/>
                </a:cubicBezTo>
                <a:cubicBezTo>
                  <a:pt x="569" y="514"/>
                  <a:pt x="759" y="150"/>
                  <a:pt x="762" y="75"/>
                </a:cubicBezTo>
                <a:cubicBezTo>
                  <a:pt x="765" y="0"/>
                  <a:pt x="584" y="236"/>
                  <a:pt x="510" y="237"/>
                </a:cubicBezTo>
                <a:cubicBezTo>
                  <a:pt x="436" y="238"/>
                  <a:pt x="403" y="44"/>
                  <a:pt x="318" y="81"/>
                </a:cubicBezTo>
                <a:cubicBezTo>
                  <a:pt x="233" y="118"/>
                  <a:pt x="66" y="380"/>
                  <a:pt x="0" y="4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8"/>
          <p:cNvSpPr/>
          <p:nvPr/>
        </p:nvSpPr>
        <p:spPr>
          <a:xfrm>
            <a:off x="6986520" y="2714760"/>
            <a:ext cx="825480" cy="2023920"/>
          </a:xfrm>
          <a:custGeom>
            <a:avLst/>
            <a:gdLst>
              <a:gd name="textAreaLeft" fmla="*/ 0 w 825480"/>
              <a:gd name="textAreaRight" fmla="*/ 825840 w 825480"/>
              <a:gd name="textAreaTop" fmla="*/ 0 h 2023920"/>
              <a:gd name="textAreaBottom" fmla="*/ 2024280 h 2023920"/>
            </a:gdLst>
            <a:ahLst/>
            <a:rect l="textAreaLeft" t="textAreaTop" r="textAreaRight" b="textAreaBottom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01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AutoShape 11"/>
          <p:cNvSpPr/>
          <p:nvPr/>
        </p:nvSpPr>
        <p:spPr>
          <a:xfrm>
            <a:off x="754200" y="328284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5"/>
          <p:cNvSpPr/>
          <p:nvPr/>
        </p:nvSpPr>
        <p:spPr>
          <a:xfrm>
            <a:off x="7667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23"/>
          <p:cNvGrpSpPr/>
          <p:nvPr/>
        </p:nvGrpSpPr>
        <p:grpSpPr>
          <a:xfrm>
            <a:off x="3386160" y="2755800"/>
            <a:ext cx="2376360" cy="2001960"/>
            <a:chOff x="3386160" y="2755800"/>
            <a:chExt cx="2376360" cy="2001960"/>
          </a:xfrm>
        </p:grpSpPr>
        <p:sp>
          <p:nvSpPr>
            <p:cNvPr id="507" name="Freeform 16"/>
            <p:cNvSpPr/>
            <p:nvPr/>
          </p:nvSpPr>
          <p:spPr>
            <a:xfrm>
              <a:off x="3386160" y="2771640"/>
              <a:ext cx="825480" cy="195120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520" h="1229">
                  <a:moveTo>
                    <a:pt x="189" y="684"/>
                  </a:moveTo>
                  <a:cubicBezTo>
                    <a:pt x="214" y="673"/>
                    <a:pt x="287" y="614"/>
                    <a:pt x="339" y="618"/>
                  </a:cubicBezTo>
                  <a:cubicBezTo>
                    <a:pt x="391" y="622"/>
                    <a:pt x="482" y="640"/>
                    <a:pt x="501" y="708"/>
                  </a:cubicBezTo>
                  <a:cubicBezTo>
                    <a:pt x="520" y="776"/>
                    <a:pt x="503" y="940"/>
                    <a:pt x="453" y="1026"/>
                  </a:cubicBezTo>
                  <a:cubicBezTo>
                    <a:pt x="403" y="1112"/>
                    <a:pt x="276" y="1219"/>
                    <a:pt x="201" y="1224"/>
                  </a:cubicBezTo>
                  <a:cubicBezTo>
                    <a:pt x="126" y="1229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9"/>
            <p:cNvSpPr/>
            <p:nvPr/>
          </p:nvSpPr>
          <p:spPr>
            <a:xfrm>
              <a:off x="4572000" y="2755800"/>
              <a:ext cx="1190520" cy="200196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2001960"/>
                <a:gd name="textAreaBottom" fmla="*/ 2002320 h 2001960"/>
              </a:gdLst>
              <a:ahLst/>
              <a:rect l="textAreaLeft" t="textAreaTop" r="textAreaRight" b="textAreaBottom"/>
              <a:pathLst>
                <a:path w="750" h="1261">
                  <a:moveTo>
                    <a:pt x="750" y="832"/>
                  </a:moveTo>
                  <a:cubicBezTo>
                    <a:pt x="659" y="896"/>
                    <a:pt x="325" y="1187"/>
                    <a:pt x="201" y="1224"/>
                  </a:cubicBezTo>
                  <a:cubicBezTo>
                    <a:pt x="77" y="1261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0"/>
            <p:cNvSpPr/>
            <p:nvPr/>
          </p:nvSpPr>
          <p:spPr>
            <a:xfrm>
              <a:off x="4000680" y="4000680"/>
              <a:ext cx="752400" cy="552240"/>
            </a:xfrm>
            <a:custGeom>
              <a:avLst/>
              <a:gdLst>
                <a:gd name="textAreaLeft" fmla="*/ 0 w 752400"/>
                <a:gd name="textAreaRight" fmla="*/ 752760 w 75240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474" h="348">
                  <a:moveTo>
                    <a:pt x="474" y="0"/>
                  </a:moveTo>
                  <a:cubicBezTo>
                    <a:pt x="395" y="58"/>
                    <a:pt x="99" y="276"/>
                    <a:pt x="0" y="34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AutoShape 12"/>
          <p:cNvSpPr/>
          <p:nvPr/>
        </p:nvSpPr>
        <p:spPr>
          <a:xfrm>
            <a:off x="4000680" y="440856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5219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3"/>
          <p:cNvSpPr/>
          <p:nvPr/>
        </p:nvSpPr>
        <p:spPr>
          <a:xfrm>
            <a:off x="4067280" y="268272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317240" y="22082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5097E-006 L 0.06337 -0.09112 L 0.08108 -0.05412 L 0.09757 -0.05065 L 0.14566 -0.09945 L 0.06719 0.11124 C 0.05538 0.1561 0.05573 0.13968 0.05573 0.15842 L 0.07083 0.19218 L 0.09115 0.19218 L 0.11649 0.17368 L 0.14427 0.12974 L 0.14688 0.07585 L 0.12535 0.05041 L 0.08351 0.06221 E">
                                      <p:cBhvr>
                                        <p:cTn id="327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129 -0.1013 L 0.28785 0.10962 L 0.27778 0.15841 L 0.2941 0.18709 L 0.31701 0.19033 L 0.34358 0.1753 L 0.3651 0.12303 L 0.36372 0.07747 L 0.35243 0.05226 L 0.32205 0.05388 L 0.30174 0.07238 L 0.27899 0.15009 L 0.29045 0.182 L 0.31563 0.19033 L 0.42708 0.09273 L 0.48785 -0.10801 L 0.40938 0.15333 L 0.41181 0.18709 L 0.42587 0.19218 L 0.44601 0.18871 L 0.53715 0.10106 E">
                                      <p:cBhvr>
                                        <p:cTn id="331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705 -0.09922 C 0.73854 -0.09737 0.74045 -0.09945 0.73438 -0.09251 C 0.73299 -0.09089 0.73056 -0.08742 0.73056 -0.08719 L 0.6559 0.15865 L 0.66094 0.18732 L 0.68889 0.20767 L 0.72049 0.19079 L 0.74462 0.14176 L 0.75087 0.08279 L 0.7382 0.06244 L 0.71285 0.0592 L 0.69392 0.06753 L 0.675 0.08626 E">
                                      <p:cBhvr>
                                        <p:cTn id="335" dur="5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8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0" name="Line 9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0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1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13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4" name="Line 14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5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6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7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8" name="Line 18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9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0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0"/>
          <p:cNvGrpSpPr/>
          <p:nvPr/>
        </p:nvGrpSpPr>
        <p:grpSpPr>
          <a:xfrm>
            <a:off x="1395360" y="509760"/>
            <a:ext cx="3670200" cy="4476600"/>
            <a:chOff x="1395360" y="509760"/>
            <a:chExt cx="3670200" cy="4476600"/>
          </a:xfrm>
        </p:grpSpPr>
        <p:sp>
          <p:nvSpPr>
            <p:cNvPr id="102" name="AutoShape 21"/>
            <p:cNvSpPr/>
            <p:nvPr/>
          </p:nvSpPr>
          <p:spPr>
            <a:xfrm>
              <a:off x="363528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22"/>
            <p:cNvSpPr/>
            <p:nvPr/>
          </p:nvSpPr>
          <p:spPr>
            <a:xfrm>
              <a:off x="2916360" y="155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6"/>
            <p:cNvSpPr/>
            <p:nvPr/>
          </p:nvSpPr>
          <p:spPr>
            <a:xfrm>
              <a:off x="1395360" y="855720"/>
              <a:ext cx="2251080" cy="4130640"/>
            </a:xfrm>
            <a:custGeom>
              <a:avLst/>
              <a:gdLst>
                <a:gd name="textAreaLeft" fmla="*/ 0 w 2251080"/>
                <a:gd name="textAreaRight" fmla="*/ 2251080 w 2251080"/>
                <a:gd name="textAreaTop" fmla="*/ 0 h 4130640"/>
                <a:gd name="textAreaBottom" fmla="*/ 4131000 h 4130640"/>
              </a:gdLst>
              <a:ahLst/>
              <a:rect l="textAreaLeft" t="textAreaTop" r="textAreaRight" b="textAreaBottom"/>
              <a:pathLst>
                <a:path w="1418" h="2602">
                  <a:moveTo>
                    <a:pt x="575" y="2231"/>
                  </a:moveTo>
                  <a:cubicBezTo>
                    <a:pt x="581" y="2269"/>
                    <a:pt x="552" y="2426"/>
                    <a:pt x="611" y="2460"/>
                  </a:cubicBezTo>
                  <a:cubicBezTo>
                    <a:pt x="670" y="2494"/>
                    <a:pt x="814" y="2523"/>
                    <a:pt x="931" y="2432"/>
                  </a:cubicBezTo>
                  <a:cubicBezTo>
                    <a:pt x="1048" y="2341"/>
                    <a:pt x="1237" y="2095"/>
                    <a:pt x="1315" y="1911"/>
                  </a:cubicBezTo>
                  <a:cubicBezTo>
                    <a:pt x="1393" y="1727"/>
                    <a:pt x="1418" y="1451"/>
                    <a:pt x="1398" y="1326"/>
                  </a:cubicBezTo>
                  <a:cubicBezTo>
                    <a:pt x="1378" y="1201"/>
                    <a:pt x="1309" y="1159"/>
                    <a:pt x="1196" y="1162"/>
                  </a:cubicBezTo>
                  <a:cubicBezTo>
                    <a:pt x="1083" y="1165"/>
                    <a:pt x="902" y="1192"/>
                    <a:pt x="721" y="1344"/>
                  </a:cubicBezTo>
                  <a:cubicBezTo>
                    <a:pt x="540" y="1496"/>
                    <a:pt x="216" y="1882"/>
                    <a:pt x="108" y="2076"/>
                  </a:cubicBezTo>
                  <a:cubicBezTo>
                    <a:pt x="0" y="2270"/>
                    <a:pt x="17" y="2488"/>
                    <a:pt x="72" y="2506"/>
                  </a:cubicBezTo>
                  <a:cubicBezTo>
                    <a:pt x="127" y="2524"/>
                    <a:pt x="219" y="2602"/>
                    <a:pt x="441" y="2184"/>
                  </a:cubicBezTo>
                  <a:cubicBezTo>
                    <a:pt x="663" y="1766"/>
                    <a:pt x="1206" y="455"/>
                    <a:pt x="140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7"/>
            <p:cNvSpPr/>
            <p:nvPr/>
          </p:nvSpPr>
          <p:spPr>
            <a:xfrm>
              <a:off x="2092320" y="509760"/>
              <a:ext cx="2973240" cy="1301400"/>
            </a:xfrm>
            <a:custGeom>
              <a:avLst/>
              <a:gdLst>
                <a:gd name="textAreaLeft" fmla="*/ 0 w 2973240"/>
                <a:gd name="textAreaRight" fmla="*/ 2973600 w 2973240"/>
                <a:gd name="textAreaTop" fmla="*/ 0 h 1301400"/>
                <a:gd name="textAreaBottom" fmla="*/ 1301760 h 1301400"/>
              </a:gdLst>
              <a:ahLst/>
              <a:rect l="textAreaLeft" t="textAreaTop" r="textAreaRight" b="textAreaBottom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29"/>
          <p:cNvGrpSpPr/>
          <p:nvPr/>
        </p:nvGrpSpPr>
        <p:grpSpPr>
          <a:xfrm>
            <a:off x="4667040" y="476280"/>
            <a:ext cx="3827520" cy="4452480"/>
            <a:chOff x="4667040" y="476280"/>
            <a:chExt cx="3827520" cy="4452480"/>
          </a:xfrm>
        </p:grpSpPr>
        <p:sp>
          <p:nvSpPr>
            <p:cNvPr id="107" name="Oval 25"/>
            <p:cNvSpPr/>
            <p:nvPr/>
          </p:nvSpPr>
          <p:spPr>
            <a:xfrm rot="1367400">
              <a:off x="5065560" y="2616120"/>
              <a:ext cx="86508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8"/>
            <p:cNvSpPr/>
            <p:nvPr/>
          </p:nvSpPr>
          <p:spPr>
            <a:xfrm>
              <a:off x="6002280" y="476280"/>
              <a:ext cx="2492280" cy="3111480"/>
            </a:xfrm>
            <a:custGeom>
              <a:avLst/>
              <a:gdLst>
                <a:gd name="textAreaLeft" fmla="*/ 0 w 2492280"/>
                <a:gd name="textAreaRight" fmla="*/ 2492640 w 2492280"/>
                <a:gd name="textAreaTop" fmla="*/ 0 h 3111480"/>
                <a:gd name="textAreaBottom" fmla="*/ 3111840 h 3111480"/>
              </a:gdLst>
              <a:ahLst/>
              <a:rect l="textAreaLeft" t="textAreaTop" r="textAreaRight" b="textAreaBottom"/>
              <a:pathLst>
                <a:path w="1570" h="1960">
                  <a:moveTo>
                    <a:pt x="0" y="1960"/>
                  </a:moveTo>
                  <a:cubicBezTo>
                    <a:pt x="124" y="1686"/>
                    <a:pt x="562" y="630"/>
                    <a:pt x="733" y="315"/>
                  </a:cubicBezTo>
                  <a:cubicBezTo>
                    <a:pt x="904" y="0"/>
                    <a:pt x="886" y="111"/>
                    <a:pt x="1025" y="68"/>
                  </a:cubicBezTo>
                  <a:cubicBezTo>
                    <a:pt x="1164" y="25"/>
                    <a:pt x="1457" y="58"/>
                    <a:pt x="1570" y="5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3"/>
            <p:cNvSpPr/>
            <p:nvPr/>
          </p:nvSpPr>
          <p:spPr>
            <a:xfrm>
              <a:off x="5929200" y="34430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739000">
            <a:off x="4108320" y="-30636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1.2766E-006 L -0.06129 0.1383 L -0.11024 0.29856 L -0.15313 0.43848 L -0.19115 0.54463 L -0.20677 0.57331 L -0.22344 0.58349 L -0.23438 0.58349 L -0.2474 0.57493 L -0.25104 0.56152 L -0.25451 0.5414 L -0.25208 0.49907 L -0.24271 0.46531 L -0.21754 0.41813 L -0.19011 0.36424 L -0.14219 0.2951 L -0.10417 0.26133 L -0.06597 0.24792 L -0.03125 0.24445 L -0.0158 0.25809 L -0.00504 0.28839 L -0.00382 0.34227 L -0.00747 0.4098 L -0.02899 0.48913 L -0.06823 0.55134 L -0.09583 0.58002 L -0.13056 0.57678 L -0.14358 0.55319 L -0.14479 0.51272 E">
                                      <p:cBhvr>
                                        <p:cTn id="22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91 0.09991 L -0.08681 0.1117 L -0.10712 0.11494 L -0.12344 0.11679 L -0.13872 0.10661 L -0.15764 0.07285 L -0.16528 0.03076 L -0.15903 0.00046 L -0.15017 -0.01318 L -0.12986 -0.03677 L -0.10191 -0.05019 L -0.06788 -0.05689 L -0.03229 -0.06198 L 0.15746 -0.0636 E">
                                      <p:cBhvr>
                                        <p:cTn id="25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2 0.39639 L 0.26667 0.36424 L 0.27049 0.32377 L 0.26805 0.28492 L 0.2592 0.26642 L 0.24774 0.25462 L 0.23767 0.25139 L 0.22882 0.25462 L 0.20469 0.27313 L 0.18073 0.31036 L 0.16042 0.35916 L 0.14514 0.41142 L 0.13385 0.46045 L 0.13003 0.51434 L 0.13628 0.55828 L 0.15278 0.58349 L 0.16424 0.58187 L 0.18819 0.5599 L 0.21996 0.52104 L 0.24896 0.45028 L 0.27187 0.3728 L 0.39583 -0.00324 L 0.40972 -0.02359 L 0.41858 -0.03192 L 0.44774 -0.04047 L 0.52882 -0.04371 E">
                                      <p:cBhvr>
                                        <p:cTn id="29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Freeform 21"/>
          <p:cNvSpPr/>
          <p:nvPr/>
        </p:nvSpPr>
        <p:spPr>
          <a:xfrm>
            <a:off x="3708360" y="2638440"/>
            <a:ext cx="1252440" cy="936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789" h="6">
                <a:moveTo>
                  <a:pt x="0" y="0"/>
                </a:moveTo>
                <a:cubicBezTo>
                  <a:pt x="132" y="1"/>
                  <a:pt x="625" y="5"/>
                  <a:pt x="789" y="6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11"/>
          <p:cNvSpPr/>
          <p:nvPr/>
        </p:nvSpPr>
        <p:spPr>
          <a:xfrm>
            <a:off x="5724360" y="29973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23"/>
          <p:cNvGrpSpPr/>
          <p:nvPr/>
        </p:nvGrpSpPr>
        <p:grpSpPr>
          <a:xfrm>
            <a:off x="5318280" y="2576520"/>
            <a:ext cx="1276200" cy="2178000"/>
            <a:chOff x="5318280" y="2576520"/>
            <a:chExt cx="1276200" cy="2178000"/>
          </a:xfrm>
        </p:grpSpPr>
        <p:grpSp>
          <p:nvGrpSpPr>
            <p:cNvPr id="517" name="Group 18"/>
            <p:cNvGrpSpPr/>
            <p:nvPr/>
          </p:nvGrpSpPr>
          <p:grpSpPr>
            <a:xfrm>
              <a:off x="5318280" y="2576520"/>
              <a:ext cx="1276200" cy="2178000"/>
              <a:chOff x="5318280" y="2576520"/>
              <a:chExt cx="1276200" cy="2178000"/>
            </a:xfrm>
          </p:grpSpPr>
          <p:sp>
            <p:nvSpPr>
              <p:cNvPr id="518" name="Freeform 14"/>
              <p:cNvSpPr/>
              <p:nvPr/>
            </p:nvSpPr>
            <p:spPr>
              <a:xfrm>
                <a:off x="5318280" y="2576520"/>
                <a:ext cx="1276200" cy="2178000"/>
              </a:xfrm>
              <a:custGeom>
                <a:avLst/>
                <a:gdLst>
                  <a:gd name="textAreaLeft" fmla="*/ 0 w 1276200"/>
                  <a:gd name="textAreaRight" fmla="*/ 1276560 w 1276200"/>
                  <a:gd name="textAreaTop" fmla="*/ 0 h 2178000"/>
                  <a:gd name="textAreaBottom" fmla="*/ 2178360 h 2178000"/>
                </a:gdLst>
                <a:ahLst/>
                <a:rect l="textAreaLeft" t="textAreaTop" r="textAreaRight" b="textAreaBottom"/>
                <a:pathLst>
                  <a:path w="804" h="1372">
                    <a:moveTo>
                      <a:pt x="279" y="345"/>
                    </a:moveTo>
                    <a:cubicBezTo>
                      <a:pt x="328" y="296"/>
                      <a:pt x="495" y="86"/>
                      <a:pt x="576" y="43"/>
                    </a:cubicBezTo>
                    <a:cubicBezTo>
                      <a:pt x="657" y="0"/>
                      <a:pt x="730" y="10"/>
                      <a:pt x="764" y="86"/>
                    </a:cubicBezTo>
                    <a:cubicBezTo>
                      <a:pt x="798" y="162"/>
                      <a:pt x="804" y="358"/>
                      <a:pt x="783" y="499"/>
                    </a:cubicBezTo>
                    <a:cubicBezTo>
                      <a:pt x="762" y="640"/>
                      <a:pt x="706" y="802"/>
                      <a:pt x="639" y="931"/>
                    </a:cubicBezTo>
                    <a:cubicBezTo>
                      <a:pt x="572" y="1060"/>
                      <a:pt x="469" y="1203"/>
                      <a:pt x="383" y="1273"/>
                    </a:cubicBezTo>
                    <a:cubicBezTo>
                      <a:pt x="297" y="1343"/>
                      <a:pt x="186" y="1372"/>
                      <a:pt x="125" y="1353"/>
                    </a:cubicBezTo>
                    <a:cubicBezTo>
                      <a:pt x="64" y="1334"/>
                      <a:pt x="30" y="1231"/>
                      <a:pt x="15" y="1161"/>
                    </a:cubicBezTo>
                    <a:cubicBezTo>
                      <a:pt x="0" y="1091"/>
                      <a:pt x="30" y="982"/>
                      <a:pt x="34" y="935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6"/>
              <p:cNvSpPr/>
              <p:nvPr/>
            </p:nvSpPr>
            <p:spPr>
              <a:xfrm flipV="1" rot="1212000">
                <a:off x="5740200" y="3501000"/>
                <a:ext cx="792000" cy="288720"/>
              </a:xfrm>
              <a:custGeom>
                <a:avLst/>
                <a:gdLst>
                  <a:gd name="textAreaLeft" fmla="*/ 0 w 792000"/>
                  <a:gd name="textAreaRight" fmla="*/ 792360 w 792000"/>
                  <a:gd name="textAreaTop" fmla="*/ 360 h 288720"/>
                  <a:gd name="textAreaBottom" fmla="*/ 289440 h 288720"/>
                </a:gdLst>
                <a:ahLst/>
                <a:rect l="textAreaLeft" t="textAreaTop" r="textAreaRight" b="textAreaBottom"/>
                <a:pathLst>
                  <a:path w="231" h="11">
                    <a:moveTo>
                      <a:pt x="0" y="0"/>
                    </a:moveTo>
                    <a:cubicBezTo>
                      <a:pt x="40" y="2"/>
                      <a:pt x="193" y="9"/>
                      <a:pt x="231" y="11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AutoShape 12"/>
            <p:cNvSpPr/>
            <p:nvPr/>
          </p:nvSpPr>
          <p:spPr>
            <a:xfrm>
              <a:off x="5724360" y="3571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15"/>
            <p:cNvSpPr/>
            <p:nvPr/>
          </p:nvSpPr>
          <p:spPr>
            <a:xfrm flipH="1" flipV="1">
              <a:off x="5724360" y="29966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2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grpSp>
          <p:nvGrpSpPr>
            <p:cNvPr id="523" name="Group 4"/>
            <p:cNvGrpSpPr/>
            <p:nvPr/>
          </p:nvGrpSpPr>
          <p:grpSpPr>
            <a:xfrm>
              <a:off x="250920" y="476280"/>
              <a:ext cx="8605800" cy="4392720"/>
              <a:chOff x="250920" y="476280"/>
              <a:chExt cx="8605800" cy="4392720"/>
            </a:xfrm>
          </p:grpSpPr>
          <p:sp>
            <p:nvSpPr>
              <p:cNvPr id="524" name="Line 5"/>
              <p:cNvSpPr/>
              <p:nvPr/>
            </p:nvSpPr>
            <p:spPr>
              <a:xfrm>
                <a:off x="250920" y="47628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6"/>
              <p:cNvSpPr/>
              <p:nvPr/>
            </p:nvSpPr>
            <p:spPr>
              <a:xfrm>
                <a:off x="287280" y="2637000"/>
                <a:ext cx="856944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7"/>
              <p:cNvSpPr/>
              <p:nvPr/>
            </p:nvSpPr>
            <p:spPr>
              <a:xfrm>
                <a:off x="250920" y="486900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AutoShape 10"/>
            <p:cNvSpPr/>
            <p:nvPr/>
          </p:nvSpPr>
          <p:spPr>
            <a:xfrm>
              <a:off x="3708360" y="2563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0"/>
            <p:cNvSpPr/>
            <p:nvPr/>
          </p:nvSpPr>
          <p:spPr>
            <a:xfrm>
              <a:off x="2533680" y="507960"/>
              <a:ext cx="2543040" cy="4295880"/>
            </a:xfrm>
            <a:custGeom>
              <a:avLst/>
              <a:gdLst>
                <a:gd name="textAreaLeft" fmla="*/ 0 w 2543040"/>
                <a:gd name="textAreaRight" fmla="*/ 2543400 w 2543040"/>
                <a:gd name="textAreaTop" fmla="*/ 0 h 4295880"/>
                <a:gd name="textAreaBottom" fmla="*/ 4296240 h 4295880"/>
              </a:gdLst>
              <a:ahLst/>
              <a:rect l="textAreaLeft" t="textAreaTop" r="textAreaRight" b="textAreaBottom"/>
              <a:pathLst>
                <a:path w="1602" h="2706">
                  <a:moveTo>
                    <a:pt x="672" y="436"/>
                  </a:moveTo>
                  <a:cubicBezTo>
                    <a:pt x="747" y="372"/>
                    <a:pt x="983" y="114"/>
                    <a:pt x="1124" y="67"/>
                  </a:cubicBezTo>
                  <a:cubicBezTo>
                    <a:pt x="1265" y="20"/>
                    <a:pt x="1447" y="0"/>
                    <a:pt x="1518" y="153"/>
                  </a:cubicBezTo>
                  <a:cubicBezTo>
                    <a:pt x="1589" y="307"/>
                    <a:pt x="1602" y="702"/>
                    <a:pt x="1558" y="986"/>
                  </a:cubicBezTo>
                  <a:cubicBezTo>
                    <a:pt x="1514" y="1271"/>
                    <a:pt x="1397" y="1597"/>
                    <a:pt x="1256" y="1858"/>
                  </a:cubicBezTo>
                  <a:cubicBezTo>
                    <a:pt x="1116" y="2118"/>
                    <a:pt x="890" y="2415"/>
                    <a:pt x="720" y="2547"/>
                  </a:cubicBezTo>
                  <a:cubicBezTo>
                    <a:pt x="550" y="2679"/>
                    <a:pt x="354" y="2706"/>
                    <a:pt x="234" y="2650"/>
                  </a:cubicBezTo>
                  <a:cubicBezTo>
                    <a:pt x="114" y="2594"/>
                    <a:pt x="49" y="2303"/>
                    <a:pt x="0" y="221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AutoShape 9"/>
            <p:cNvSpPr/>
            <p:nvPr/>
          </p:nvSpPr>
          <p:spPr>
            <a:xfrm>
              <a:off x="3564000" y="11224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066920" y="3816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47549E-007 L 0.06077 -0.07239 L 0.09237 -0.09274 L 0.12153 -0.09089 L 0.14185 -0.08603 L 0.15452 -0.04371 L 0.15955 0.06244 L 0.13421 0.23451 L 0.0658 0.40819 L 0.00261 0.49584 L -0.04045 0.51943 L -0.06319 0.51596 L -0.08611 0.49908 L -0.1177 0.40981 E">
                                      <p:cBhvr>
                                        <p:cTn id="341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0"/>
                            </p:stCondLst>
                            <p:childTnLst>
                              <p:par>
                                <p:cTn id="3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51 0.20121 L 0.13629 0.20444 E">
                                      <p:cBhvr>
                                        <p:cTn id="344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028 0.27544 L 0.28959 0.20283 L 0.31372 0.20121 L 0.32761 0.23497 L 0.32761 0.30921 L 0.31494 0.37813 L 0.27188 0.47595 L 0.23386 0.5148 L 0.2073 0.5081 L 0.18959 0.48451 L 0.19098 0.42045 E">
                                      <p:cBhvr>
                                        <p:cTn id="348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68 0.34991 L 0.32761 0.34806 E">
                                      <p:cBhvr>
                                        <p:cTn id="351" dur="5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32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Freeform 14"/>
          <p:cNvSpPr/>
          <p:nvPr/>
        </p:nvSpPr>
        <p:spPr>
          <a:xfrm>
            <a:off x="1044720" y="333360"/>
            <a:ext cx="2190600" cy="4687920"/>
          </a:xfrm>
          <a:custGeom>
            <a:avLst/>
            <a:gdLst>
              <a:gd name="textAreaLeft" fmla="*/ 0 w 2190600"/>
              <a:gd name="textAreaRight" fmla="*/ 2190960 w 2190600"/>
              <a:gd name="textAreaTop" fmla="*/ 0 h 4687920"/>
              <a:gd name="textAreaBottom" fmla="*/ 4688280 h 4687920"/>
            </a:gdLst>
            <a:ahLst/>
            <a:rect l="textAreaLeft" t="textAreaTop" r="textAreaRight" b="textAreaBottom"/>
            <a:pathLst>
              <a:path w="1380" h="2953">
                <a:moveTo>
                  <a:pt x="1216" y="1463"/>
                </a:moveTo>
                <a:cubicBezTo>
                  <a:pt x="1108" y="1504"/>
                  <a:pt x="739" y="1600"/>
                  <a:pt x="567" y="1710"/>
                </a:cubicBezTo>
                <a:cubicBezTo>
                  <a:pt x="395" y="1820"/>
                  <a:pt x="276" y="1980"/>
                  <a:pt x="183" y="2121"/>
                </a:cubicBezTo>
                <a:cubicBezTo>
                  <a:pt x="90" y="2262"/>
                  <a:pt x="0" y="2469"/>
                  <a:pt x="9" y="2560"/>
                </a:cubicBezTo>
                <a:cubicBezTo>
                  <a:pt x="18" y="2651"/>
                  <a:pt x="64" y="2953"/>
                  <a:pt x="239" y="2669"/>
                </a:cubicBezTo>
                <a:cubicBezTo>
                  <a:pt x="414" y="2385"/>
                  <a:pt x="874" y="1282"/>
                  <a:pt x="1062" y="854"/>
                </a:cubicBezTo>
                <a:cubicBezTo>
                  <a:pt x="1250" y="426"/>
                  <a:pt x="1348" y="200"/>
                  <a:pt x="1364" y="100"/>
                </a:cubicBezTo>
                <a:cubicBezTo>
                  <a:pt x="1380" y="0"/>
                  <a:pt x="1257" y="168"/>
                  <a:pt x="1161" y="256"/>
                </a:cubicBezTo>
                <a:cubicBezTo>
                  <a:pt x="1065" y="344"/>
                  <a:pt x="866" y="552"/>
                  <a:pt x="788" y="63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val 17"/>
          <p:cNvSpPr/>
          <p:nvPr/>
        </p:nvSpPr>
        <p:spPr>
          <a:xfrm rot="1367400">
            <a:off x="3058920" y="406440"/>
            <a:ext cx="1928520" cy="44593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9"/>
          <p:cNvSpPr/>
          <p:nvPr/>
        </p:nvSpPr>
        <p:spPr>
          <a:xfrm>
            <a:off x="2268360" y="119700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12"/>
          <p:cNvSpPr/>
          <p:nvPr/>
        </p:nvSpPr>
        <p:spPr>
          <a:xfrm>
            <a:off x="514836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Group 19"/>
          <p:cNvGrpSpPr/>
          <p:nvPr/>
        </p:nvGrpSpPr>
        <p:grpSpPr>
          <a:xfrm>
            <a:off x="5410080" y="2592720"/>
            <a:ext cx="2298960" cy="2392920"/>
            <a:chOff x="5410080" y="2592720"/>
            <a:chExt cx="2298960" cy="2392920"/>
          </a:xfrm>
        </p:grpSpPr>
        <p:sp>
          <p:nvSpPr>
            <p:cNvPr id="540" name="Freeform 16"/>
            <p:cNvSpPr/>
            <p:nvPr/>
          </p:nvSpPr>
          <p:spPr>
            <a:xfrm>
              <a:off x="5410080" y="2673360"/>
              <a:ext cx="914400" cy="209556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2095560"/>
                <a:gd name="textAreaBottom" fmla="*/ 2095560 h 2095560"/>
              </a:gdLst>
              <a:ahLst/>
              <a:rect l="textAreaLeft" t="textAreaTop" r="textAreaRight" b="textAreaBottom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8"/>
            <p:cNvSpPr/>
            <p:nvPr/>
          </p:nvSpPr>
          <p:spPr>
            <a:xfrm>
              <a:off x="5834160" y="3730680"/>
              <a:ext cx="538200" cy="33120"/>
            </a:xfrm>
            <a:custGeom>
              <a:avLst/>
              <a:gdLst>
                <a:gd name="textAreaLeft" fmla="*/ 0 w 538200"/>
                <a:gd name="textAreaRight" fmla="*/ 538560 w 538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339" h="21">
                  <a:moveTo>
                    <a:pt x="0" y="18"/>
                  </a:moveTo>
                  <a:cubicBezTo>
                    <a:pt x="29" y="18"/>
                    <a:pt x="109" y="21"/>
                    <a:pt x="165" y="18"/>
                  </a:cubicBezTo>
                  <a:cubicBezTo>
                    <a:pt x="221" y="15"/>
                    <a:pt x="303" y="4"/>
                    <a:pt x="3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15"/>
            <p:cNvSpPr/>
            <p:nvPr/>
          </p:nvSpPr>
          <p:spPr>
            <a:xfrm rot="1367400">
              <a:off x="6445080" y="267300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11"/>
            <p:cNvSpPr/>
            <p:nvPr/>
          </p:nvSpPr>
          <p:spPr>
            <a:xfrm>
              <a:off x="5834160" y="36576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AutoShape 13"/>
            <p:cNvSpPr/>
            <p:nvPr/>
          </p:nvSpPr>
          <p:spPr>
            <a:xfrm>
              <a:off x="7381800" y="299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10"/>
            <p:cNvSpPr/>
            <p:nvPr/>
          </p:nvSpPr>
          <p:spPr>
            <a:xfrm>
              <a:off x="6251400" y="26352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774520" y="5544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72803E-006 L 0.10243 -0.12974 L 0.07465 -0.02174 L -0.08368 0.45721 L -0.10764 0.50948 L -0.12292 0.5074 L -0.13559 0.47571 L -0.13802 0.42853 L -0.11025 0.3543 L -0.05573 0.27659 L 0.07968 0.1975 L 0.05555 0.32053 L 0.05434 0.42668 L 0.07847 0.4926 L 0.11128 0.51272 L 0.1658 0.48589 L 0.22274 0.41489 L 0.2835 0.27497 L 0.32656 0.08788 L 0.32153 -0.03354 L 0.30121 -0.09436 L 0.25816 -0.10939 L 0.20885 -0.0791 L 0.1658 -0.03354 L 0.11267 0.08279 L 0.07708 0.20767 E">
                                      <p:cBhvr>
                                        <p:cTn id="357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42 0.20883 L 0.32656 0.52243 L 0.38593 0.35222 L 0.45312 0.3506 L 0.43541 0.41119 L 0.42656 0.46508 L 0.43784 0.52081 L 0.45434 0.52081 L 0.48229 0.50231 L 0.51892 0.44819 L 0.55052 0.34713 L 0.55937 0.26619 L 0.54305 0.21554 L 0.51128 0.22225 L 0.48472 0.25786 L 0.44809 0.36401 E">
                                      <p:cBhvr>
                                        <p:cTn id="361" dur="5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48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1547640" y="395640"/>
            <a:ext cx="3456000" cy="4473360"/>
            <a:chOff x="1547640" y="395640"/>
            <a:chExt cx="3456000" cy="4473360"/>
          </a:xfrm>
        </p:grpSpPr>
        <p:sp>
          <p:nvSpPr>
            <p:cNvPr id="552" name="Freeform 13"/>
            <p:cNvSpPr/>
            <p:nvPr/>
          </p:nvSpPr>
          <p:spPr>
            <a:xfrm>
              <a:off x="1547640" y="620640"/>
              <a:ext cx="3456000" cy="4248360"/>
            </a:xfrm>
            <a:custGeom>
              <a:avLst/>
              <a:gdLst>
                <a:gd name="textAreaLeft" fmla="*/ 0 w 3456000"/>
                <a:gd name="textAreaRight" fmla="*/ 3456360 w 3456000"/>
                <a:gd name="textAreaTop" fmla="*/ 0 h 4248360"/>
                <a:gd name="textAreaBottom" fmla="*/ 4248720 h 4248360"/>
              </a:gdLst>
              <a:ahLst/>
              <a:rect l="textAreaLeft" t="textAreaTop" r="textAreaRight" b="textAreaBottom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4"/>
            <p:cNvSpPr/>
            <p:nvPr/>
          </p:nvSpPr>
          <p:spPr>
            <a:xfrm rot="1367400">
              <a:off x="3492360" y="4759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5"/>
            <p:cNvSpPr/>
            <p:nvPr/>
          </p:nvSpPr>
          <p:spPr>
            <a:xfrm>
              <a:off x="3214800" y="566640"/>
              <a:ext cx="1788840" cy="4302360"/>
            </a:xfrm>
            <a:custGeom>
              <a:avLst/>
              <a:gdLst>
                <a:gd name="textAreaLeft" fmla="*/ 0 w 1788840"/>
                <a:gd name="textAreaRight" fmla="*/ 1789200 w 1788840"/>
                <a:gd name="textAreaTop" fmla="*/ 0 h 4302360"/>
                <a:gd name="textAreaBottom" fmla="*/ 4302720 h 4302360"/>
              </a:gdLst>
              <a:ahLst/>
              <a:rect l="textAreaLeft" t="textAreaTop" r="textAreaRight" b="textAreaBottom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AutoShape 10"/>
          <p:cNvSpPr/>
          <p:nvPr/>
        </p:nvSpPr>
        <p:spPr>
          <a:xfrm>
            <a:off x="4930920" y="49356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1547640" y="407664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21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58" name="Freeform 18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2127240"/>
                <a:gd name="textAreaBottom" fmla="*/ 2127600 h 2127240"/>
              </a:gdLst>
              <a:ahLst/>
              <a:rect l="textAreaLeft" t="textAreaTop" r="textAreaRight" b="textAreaBottom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Oval 19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184480"/>
                <a:gd name="textAreaBottom" fmla="*/ 2184480 h 2184480"/>
              </a:gdLst>
              <a:ahLst/>
              <a:rect l="textAreaLeft" t="textAreaTop" r="textAreaRight" b="textAreaBottom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23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62" name="Freeform 24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>
                <a:gd name="textAreaLeft" fmla="*/ 0 w 1809720"/>
                <a:gd name="textAreaRight" fmla="*/ 1810080 w 1809720"/>
                <a:gd name="textAreaTop" fmla="*/ 0 h 2127240"/>
                <a:gd name="textAreaBottom" fmla="*/ 2127600 h 2127240"/>
              </a:gdLst>
              <a:ahLst/>
              <a:rect l="textAreaLeft" t="textAreaTop" r="textAreaRight" b="textAreaBottom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25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6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>
                <a:gd name="textAreaLeft" fmla="*/ 0 w 1198800"/>
                <a:gd name="textAreaRight" fmla="*/ 1199160 w 1198800"/>
                <a:gd name="textAreaTop" fmla="*/ 0 h 2184480"/>
                <a:gd name="textAreaBottom" fmla="*/ 2184480 h 2184480"/>
              </a:gdLst>
              <a:ahLst/>
              <a:rect l="textAreaLeft" t="textAreaTop" r="textAreaRight" b="textAreaBottom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2017440" y="30020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566" name="AutoShape 12"/>
          <p:cNvSpPr/>
          <p:nvPr/>
        </p:nvSpPr>
        <p:spPr>
          <a:xfrm>
            <a:off x="738036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11"/>
          <p:cNvSpPr/>
          <p:nvPr/>
        </p:nvSpPr>
        <p:spPr>
          <a:xfrm>
            <a:off x="5578560" y="4076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951E-007 L -0.00121 0.06059 L 0.01771 0.08927 L 0.04809 0.09598 L 0.08993 0.08094 L 0.15313 -0.01526 L 0.26337 -0.25139 L 0.31528 -0.40981 L 0.32031 -0.46878 L 0.31389 -0.51434 L 0.29375 -0.53469 L 0.25834 -0.5111 L 0.22535 -0.45028 L 0.19618 -0.35916 L 0.1849 -0.29001 L 0.19375 -0.24121 L 0.21146 -0.22942 L 0.24306 -0.24792 L 0.28108 -0.29857 L 0.37466 -0.53284 L 0.2165 -0.08279 L 0.17986 0.05227 L 0.18108 0.08094 L 0.19618 0.09944 L 0.2316 0.09089 L 0.32413 0.00833 E">
                                      <p:cBhvr>
                                        <p:cTn id="367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573 -0.01642 L 0.45313 0.05782 L 0.46823 0.09158 L 0.50747 0.06799 L 0.57205 -0.04672 L 0.62014 -0.16304 L 0.61511 -0.21369 L 0.57848 -0.21878 L 0.55052 -0.18825 L 0.53542 -0.13275 L 0.53785 -0.0821 L 0.55573 -0.07031 L 0.58091 -0.07377 L 0.65573 -0.2271 L 0.57709 -0.00786 L 0.55816 0.0444 L 0.55938 0.07632 L 0.57205 0.09158 L 0.60243 0.0932 L 0.68854 -0.00116 E">
                                      <p:cBhvr>
                                        <p:cTn id="371" dur="5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reeform 14"/>
          <p:cNvSpPr/>
          <p:nvPr/>
        </p:nvSpPr>
        <p:spPr>
          <a:xfrm>
            <a:off x="1589040" y="466560"/>
            <a:ext cx="3149640" cy="464040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4640400"/>
              <a:gd name="textAreaBottom" fmla="*/ 4640400 h 4640400"/>
            </a:gdLst>
            <a:ahLst/>
            <a:rect l="textAreaLeft" t="textAreaTop" r="textAreaRight" b="textAreaBottom"/>
            <a:pathLst>
              <a:path w="1984" h="2923">
                <a:moveTo>
                  <a:pt x="553" y="2513"/>
                </a:moveTo>
                <a:cubicBezTo>
                  <a:pt x="562" y="2540"/>
                  <a:pt x="557" y="2639"/>
                  <a:pt x="608" y="2677"/>
                </a:cubicBezTo>
                <a:cubicBezTo>
                  <a:pt x="659" y="2715"/>
                  <a:pt x="766" y="2768"/>
                  <a:pt x="859" y="2742"/>
                </a:cubicBezTo>
                <a:cubicBezTo>
                  <a:pt x="952" y="2716"/>
                  <a:pt x="1066" y="2658"/>
                  <a:pt x="1165" y="2520"/>
                </a:cubicBezTo>
                <a:cubicBezTo>
                  <a:pt x="1264" y="2382"/>
                  <a:pt x="1405" y="2065"/>
                  <a:pt x="1453" y="1914"/>
                </a:cubicBezTo>
                <a:cubicBezTo>
                  <a:pt x="1501" y="1763"/>
                  <a:pt x="1473" y="1694"/>
                  <a:pt x="1453" y="1614"/>
                </a:cubicBezTo>
                <a:cubicBezTo>
                  <a:pt x="1433" y="1534"/>
                  <a:pt x="1382" y="1473"/>
                  <a:pt x="1333" y="1434"/>
                </a:cubicBezTo>
                <a:cubicBezTo>
                  <a:pt x="1284" y="1395"/>
                  <a:pt x="1216" y="1393"/>
                  <a:pt x="1159" y="1380"/>
                </a:cubicBezTo>
                <a:cubicBezTo>
                  <a:pt x="1102" y="1367"/>
                  <a:pt x="929" y="1411"/>
                  <a:pt x="991" y="1356"/>
                </a:cubicBezTo>
                <a:cubicBezTo>
                  <a:pt x="1053" y="1301"/>
                  <a:pt x="1380" y="1180"/>
                  <a:pt x="1532" y="1050"/>
                </a:cubicBezTo>
                <a:cubicBezTo>
                  <a:pt x="1684" y="920"/>
                  <a:pt x="1841" y="733"/>
                  <a:pt x="1906" y="575"/>
                </a:cubicBezTo>
                <a:cubicBezTo>
                  <a:pt x="1971" y="417"/>
                  <a:pt x="1984" y="169"/>
                  <a:pt x="1925" y="99"/>
                </a:cubicBezTo>
                <a:cubicBezTo>
                  <a:pt x="1866" y="29"/>
                  <a:pt x="1737" y="0"/>
                  <a:pt x="1550" y="154"/>
                </a:cubicBezTo>
                <a:cubicBezTo>
                  <a:pt x="1363" y="308"/>
                  <a:pt x="1022" y="718"/>
                  <a:pt x="800" y="1023"/>
                </a:cubicBezTo>
                <a:cubicBezTo>
                  <a:pt x="578" y="1328"/>
                  <a:pt x="343" y="1723"/>
                  <a:pt x="215" y="1983"/>
                </a:cubicBezTo>
                <a:cubicBezTo>
                  <a:pt x="87" y="2243"/>
                  <a:pt x="0" y="2499"/>
                  <a:pt x="32" y="2586"/>
                </a:cubicBezTo>
                <a:cubicBezTo>
                  <a:pt x="64" y="2673"/>
                  <a:pt x="169" y="2923"/>
                  <a:pt x="407" y="2504"/>
                </a:cubicBezTo>
                <a:cubicBezTo>
                  <a:pt x="645" y="2085"/>
                  <a:pt x="1239" y="579"/>
                  <a:pt x="1458" y="72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250920" y="476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287280" y="263700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1"/>
          <p:cNvSpPr/>
          <p:nvPr/>
        </p:nvSpPr>
        <p:spPr>
          <a:xfrm>
            <a:off x="3774960" y="54612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6"/>
          <p:cNvGrpSpPr/>
          <p:nvPr/>
        </p:nvGrpSpPr>
        <p:grpSpPr>
          <a:xfrm>
            <a:off x="4951440" y="479520"/>
            <a:ext cx="2503440" cy="4393440"/>
            <a:chOff x="4951440" y="479520"/>
            <a:chExt cx="2503440" cy="4393440"/>
          </a:xfrm>
        </p:grpSpPr>
        <p:sp>
          <p:nvSpPr>
            <p:cNvPr id="117" name="AutoShape 12"/>
            <p:cNvSpPr/>
            <p:nvPr/>
          </p:nvSpPr>
          <p:spPr>
            <a:xfrm>
              <a:off x="4951440" y="335268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3"/>
            <p:cNvSpPr/>
            <p:nvPr/>
          </p:nvSpPr>
          <p:spPr>
            <a:xfrm rot="1367400">
              <a:off x="5384520" y="2560680"/>
              <a:ext cx="86508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"/>
            <p:cNvSpPr/>
            <p:nvPr/>
          </p:nvSpPr>
          <p:spPr>
            <a:xfrm>
              <a:off x="5060880" y="479520"/>
              <a:ext cx="2394000" cy="2903400"/>
            </a:xfrm>
            <a:custGeom>
              <a:avLst/>
              <a:gdLst>
                <a:gd name="textAreaLeft" fmla="*/ 0 w 2394000"/>
                <a:gd name="textAreaRight" fmla="*/ 2394360 w 2394000"/>
                <a:gd name="textAreaTop" fmla="*/ 0 h 2903400"/>
                <a:gd name="textAreaBottom" fmla="*/ 2903400 h 2903400"/>
              </a:gdLst>
              <a:ahLst/>
              <a:rect l="textAreaLeft" t="textAreaTop" r="textAreaRight" b="textAreaBottom"/>
              <a:pathLst>
                <a:path w="1508" h="1829">
                  <a:moveTo>
                    <a:pt x="0" y="1829"/>
                  </a:moveTo>
                  <a:cubicBezTo>
                    <a:pt x="192" y="1653"/>
                    <a:pt x="910" y="1018"/>
                    <a:pt x="1153" y="774"/>
                  </a:cubicBezTo>
                  <a:cubicBezTo>
                    <a:pt x="1396" y="530"/>
                    <a:pt x="1410" y="486"/>
                    <a:pt x="1459" y="365"/>
                  </a:cubicBezTo>
                  <a:cubicBezTo>
                    <a:pt x="1508" y="244"/>
                    <a:pt x="1490" y="98"/>
                    <a:pt x="1450" y="49"/>
                  </a:cubicBezTo>
                  <a:cubicBezTo>
                    <a:pt x="1410" y="0"/>
                    <a:pt x="1308" y="9"/>
                    <a:pt x="1218" y="68"/>
                  </a:cubicBezTo>
                  <a:cubicBezTo>
                    <a:pt x="1128" y="127"/>
                    <a:pt x="1066" y="118"/>
                    <a:pt x="911" y="403"/>
                  </a:cubicBezTo>
                  <a:cubicBezTo>
                    <a:pt x="756" y="688"/>
                    <a:pt x="419" y="1491"/>
                    <a:pt x="289" y="177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0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508000">
            <a:off x="4349520" y="-7520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54 -2.59944E-006 L -0.14132 0.46046 L -0.17309 0.57493 L -0.20504 0.62234 L -0.22726 0.62558 L -0.23802 0.61541 L -0.24618 0.60199 L -0.24965 0.58858 L -0.25191 0.56823 L -0.25191 0.54973 L -0.24618 0.51943 L -0.23195 0.46716 L -0.18959 0.35084 L -0.12014 0.19889 L -0.04931 0.07771 L 0.0059 -0.00162 L 0.03767 -0.02359 L 0.06736 -0.01688 L 0.07205 0.01527 L 0.07205 0.06406 L 0.06736 0.10615 L 0.04844 0.16536 L 0.01649 0.21578 L -0.00573 0.23936 L -0.07049 0.28677 L -0.08247 0.2951 L -0.04931 0.29348 L -0.02361 0.30528 L -0.0165 0.3136 L -0.00712 0.33557 L 2.22222E-006 0.36517 L 0.00121 0.39454 L -0.00573 0.44519 L -0.03993 0.54973 L -0.06719 0.60199 L -0.09184 0.62049 L -0.10834 0.62396 L -0.12709 0.62558 L -0.14601 0.61726 L -0.15538 0.60037 L -0.16129 0.56152 E">
                                      <p:cBhvr>
                                        <p:cTn id="35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146 0.42438 L 0.25069 0.26735 L 0.32413 0.17484 L 0.35191 0.13414 L 0.3658 0.10916 L 0.37604 0.06522 L 0.37604 0.02822 L 0.36719 0.00625 L 0.34566 -0.00231 L 0.32291 0.00787 L 0.29375 0.03816 L 0.271 0.08048 L 0.14809 0.44635 L 0.13541 0.48335 L 0.12795 0.53562 L 0.12413 0.58788 L 0.1368 0.63182 L 0.14809 0.63668 L 0.171 0.63344 L 0.19375 0.60454 L 0.2191 0.55921 L 0.24444 0.5 L 0.25833 0.44797 L 0.26962 0.40033 L 0.26962 0.36009 L 0.26215 0.31985 L 0.24687 0.30643 L 0.22916 0.30435 L 0.20503 0.318 E">
                                      <p:cBhvr>
                                        <p:cTn id="39" dur="5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22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16"/>
          <p:cNvGrpSpPr/>
          <p:nvPr/>
        </p:nvGrpSpPr>
        <p:grpSpPr>
          <a:xfrm>
            <a:off x="1547640" y="498600"/>
            <a:ext cx="3996000" cy="4421160"/>
            <a:chOff x="1547640" y="498600"/>
            <a:chExt cx="3996000" cy="4421160"/>
          </a:xfrm>
        </p:grpSpPr>
        <p:sp>
          <p:nvSpPr>
            <p:cNvPr id="126" name="Freeform 12"/>
            <p:cNvSpPr/>
            <p:nvPr/>
          </p:nvSpPr>
          <p:spPr>
            <a:xfrm>
              <a:off x="1547640" y="830160"/>
              <a:ext cx="2570400" cy="4089600"/>
            </a:xfrm>
            <a:custGeom>
              <a:avLst/>
              <a:gdLst>
                <a:gd name="textAreaLeft" fmla="*/ 0 w 2570400"/>
                <a:gd name="textAreaRight" fmla="*/ 2570760 w 2570400"/>
                <a:gd name="textAreaTop" fmla="*/ 0 h 4089600"/>
                <a:gd name="textAreaBottom" fmla="*/ 4089960 h 4089600"/>
              </a:gdLst>
              <a:ahLst/>
              <a:rect l="textAreaLeft" t="textAreaTop" r="textAreaRight" b="textAreaBottom"/>
              <a:pathLst>
                <a:path w="1619" h="2576">
                  <a:moveTo>
                    <a:pt x="0" y="2057"/>
                  </a:moveTo>
                  <a:cubicBezTo>
                    <a:pt x="9" y="2110"/>
                    <a:pt x="17" y="2301"/>
                    <a:pt x="55" y="2377"/>
                  </a:cubicBezTo>
                  <a:cubicBezTo>
                    <a:pt x="93" y="2453"/>
                    <a:pt x="148" y="2524"/>
                    <a:pt x="229" y="2515"/>
                  </a:cubicBezTo>
                  <a:cubicBezTo>
                    <a:pt x="310" y="2506"/>
                    <a:pt x="382" y="2576"/>
                    <a:pt x="540" y="2323"/>
                  </a:cubicBezTo>
                  <a:cubicBezTo>
                    <a:pt x="698" y="2070"/>
                    <a:pt x="1000" y="1384"/>
                    <a:pt x="1180" y="997"/>
                  </a:cubicBezTo>
                  <a:cubicBezTo>
                    <a:pt x="1360" y="610"/>
                    <a:pt x="1528" y="208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2570040" y="498600"/>
              <a:ext cx="2973600" cy="1301760"/>
            </a:xfrm>
            <a:custGeom>
              <a:avLst/>
              <a:gdLst>
                <a:gd name="textAreaLeft" fmla="*/ 0 w 2973600"/>
                <a:gd name="textAreaRight" fmla="*/ 2973960 w 2973600"/>
                <a:gd name="textAreaTop" fmla="*/ 0 h 1301760"/>
                <a:gd name="textAreaBottom" fmla="*/ 1302120 h 1301760"/>
              </a:gdLst>
              <a:ahLst/>
              <a:rect l="textAreaLeft" t="textAreaTop" r="textAreaRight" b="textAreaBottom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9"/>
            <p:cNvSpPr/>
            <p:nvPr/>
          </p:nvSpPr>
          <p:spPr>
            <a:xfrm>
              <a:off x="4057560" y="7524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0"/>
            <p:cNvSpPr/>
            <p:nvPr/>
          </p:nvSpPr>
          <p:spPr>
            <a:xfrm>
              <a:off x="3265560" y="1546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7"/>
          <p:cNvGrpSpPr/>
          <p:nvPr/>
        </p:nvGrpSpPr>
        <p:grpSpPr>
          <a:xfrm>
            <a:off x="5021280" y="2724120"/>
            <a:ext cx="1859040" cy="2216160"/>
            <a:chOff x="5021280" y="2724120"/>
            <a:chExt cx="1859040" cy="2216160"/>
          </a:xfrm>
        </p:grpSpPr>
        <p:sp>
          <p:nvSpPr>
            <p:cNvPr id="131" name="Freeform 14"/>
            <p:cNvSpPr/>
            <p:nvPr/>
          </p:nvSpPr>
          <p:spPr>
            <a:xfrm>
              <a:off x="5021280" y="2724120"/>
              <a:ext cx="1859040" cy="2216160"/>
            </a:xfrm>
            <a:custGeom>
              <a:avLst/>
              <a:gdLst>
                <a:gd name="textAreaLeft" fmla="*/ 0 w 1859040"/>
                <a:gd name="textAreaRight" fmla="*/ 1859400 w 1859040"/>
                <a:gd name="textAreaTop" fmla="*/ 0 h 2216160"/>
                <a:gd name="textAreaBottom" fmla="*/ 2216520 h 2216160"/>
              </a:gdLst>
              <a:ahLst/>
              <a:rect l="textAreaLeft" t="textAreaTop" r="textAreaRight" b="textAreaBottom"/>
              <a:pathLst>
                <a:path w="1171" h="1396">
                  <a:moveTo>
                    <a:pt x="1171" y="899"/>
                  </a:moveTo>
                  <a:cubicBezTo>
                    <a:pt x="1075" y="974"/>
                    <a:pt x="725" y="1316"/>
                    <a:pt x="596" y="1356"/>
                  </a:cubicBezTo>
                  <a:cubicBezTo>
                    <a:pt x="467" y="1396"/>
                    <a:pt x="361" y="1330"/>
                    <a:pt x="394" y="1137"/>
                  </a:cubicBezTo>
                  <a:cubicBezTo>
                    <a:pt x="427" y="944"/>
                    <a:pt x="772" y="376"/>
                    <a:pt x="796" y="195"/>
                  </a:cubicBezTo>
                  <a:cubicBezTo>
                    <a:pt x="820" y="14"/>
                    <a:pt x="673" y="0"/>
                    <a:pt x="540" y="49"/>
                  </a:cubicBezTo>
                  <a:cubicBezTo>
                    <a:pt x="407" y="98"/>
                    <a:pt x="112" y="396"/>
                    <a:pt x="0" y="48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5021280" y="3355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93960" y="-38844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64385E-006 L -0.0823 0.25971 L -0.15955 0.48219 L -0.18993 0.56313 L -0.2 0.57839 L -0.20764 0.5851 L -0.22153 0.59528 L -0.2507 0.59528 L -0.26337 0.58672 L -0.27605 0.57169 L -0.28351 0.55134 L -0.29375 0.4771 E">
                                      <p:cBhvr>
                                        <p:cTn id="45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0.11911 L -0.10382 0.12928 L -0.12413 0.1309 L -0.14444 0.11078 L -0.15833 0.07355 L -0.15451 0.02128 L -0.13177 -0.01734 L -0.09635 -0.03769 L 0.15816 -0.04093 E">
                                      <p:cBhvr>
                                        <p:cTn id="48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052 0.37812 L 0.13733 0.32586 L 0.15747 0.30065 L 0.17657 0.28215 L 0.19809 0.27035 L 0.21702 0.27359 L 0.23473 0.28886 L 0.23733 0.30065 L 0.23733 0.32933 L 0.22726 0.36633 L 0.16771 0.53331 L 0.17014 0.5636 L 0.17657 0.58557 C 0.18195 0.59968 0.17761 0.59575 0.19046 0.59575 L 0.21823 0.59066 L 0.30313 0.49445 E">
                                      <p:cBhvr>
                                        <p:cTn id="52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4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35" name="Line 5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6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7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15"/>
          <p:cNvGrpSpPr/>
          <p:nvPr/>
        </p:nvGrpSpPr>
        <p:grpSpPr>
          <a:xfrm>
            <a:off x="1854360" y="563400"/>
            <a:ext cx="3276360" cy="4480200"/>
            <a:chOff x="1854360" y="563400"/>
            <a:chExt cx="3276360" cy="4480200"/>
          </a:xfrm>
        </p:grpSpPr>
        <p:sp>
          <p:nvSpPr>
            <p:cNvPr id="139" name="Freeform 12"/>
            <p:cNvSpPr/>
            <p:nvPr/>
          </p:nvSpPr>
          <p:spPr>
            <a:xfrm>
              <a:off x="1854360" y="563400"/>
              <a:ext cx="3276360" cy="4480200"/>
            </a:xfrm>
            <a:custGeom>
              <a:avLst/>
              <a:gdLst>
                <a:gd name="textAreaLeft" fmla="*/ 0 w 3276360"/>
                <a:gd name="textAreaRight" fmla="*/ 3276720 w 3276360"/>
                <a:gd name="textAreaTop" fmla="*/ 0 h 4480200"/>
                <a:gd name="textAreaBottom" fmla="*/ 4480560 h 4480200"/>
              </a:gdLst>
              <a:ahLst/>
              <a:rect l="textAreaLeft" t="textAreaTop" r="textAreaRight" b="textAreaBottom"/>
              <a:pathLst>
                <a:path w="2064" h="2822">
                  <a:moveTo>
                    <a:pt x="926" y="669"/>
                  </a:moveTo>
                  <a:cubicBezTo>
                    <a:pt x="921" y="642"/>
                    <a:pt x="886" y="576"/>
                    <a:pt x="898" y="504"/>
                  </a:cubicBezTo>
                  <a:cubicBezTo>
                    <a:pt x="910" y="432"/>
                    <a:pt x="943" y="309"/>
                    <a:pt x="999" y="239"/>
                  </a:cubicBezTo>
                  <a:cubicBezTo>
                    <a:pt x="1055" y="169"/>
                    <a:pt x="1112" y="104"/>
                    <a:pt x="1237" y="84"/>
                  </a:cubicBezTo>
                  <a:cubicBezTo>
                    <a:pt x="1362" y="64"/>
                    <a:pt x="1621" y="0"/>
                    <a:pt x="1749" y="120"/>
                  </a:cubicBezTo>
                  <a:cubicBezTo>
                    <a:pt x="1877" y="240"/>
                    <a:pt x="2064" y="417"/>
                    <a:pt x="2005" y="806"/>
                  </a:cubicBezTo>
                  <a:cubicBezTo>
                    <a:pt x="1946" y="1195"/>
                    <a:pt x="1605" y="2135"/>
                    <a:pt x="1392" y="2452"/>
                  </a:cubicBezTo>
                  <a:cubicBezTo>
                    <a:pt x="1179" y="2769"/>
                    <a:pt x="918" y="2719"/>
                    <a:pt x="725" y="2708"/>
                  </a:cubicBezTo>
                  <a:cubicBezTo>
                    <a:pt x="532" y="2697"/>
                    <a:pt x="351" y="2405"/>
                    <a:pt x="231" y="2388"/>
                  </a:cubicBezTo>
                  <a:cubicBezTo>
                    <a:pt x="111" y="2371"/>
                    <a:pt x="0" y="2548"/>
                    <a:pt x="2" y="2607"/>
                  </a:cubicBezTo>
                  <a:cubicBezTo>
                    <a:pt x="4" y="2666"/>
                    <a:pt x="152" y="2776"/>
                    <a:pt x="240" y="2744"/>
                  </a:cubicBezTo>
                  <a:cubicBezTo>
                    <a:pt x="328" y="2712"/>
                    <a:pt x="327" y="2822"/>
                    <a:pt x="533" y="2415"/>
                  </a:cubicBezTo>
                  <a:cubicBezTo>
                    <a:pt x="739" y="2008"/>
                    <a:pt x="1278" y="743"/>
                    <a:pt x="1474" y="30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9"/>
            <p:cNvSpPr/>
            <p:nvPr/>
          </p:nvSpPr>
          <p:spPr>
            <a:xfrm>
              <a:off x="4140360" y="981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6"/>
          <p:cNvGrpSpPr/>
          <p:nvPr/>
        </p:nvGrpSpPr>
        <p:grpSpPr>
          <a:xfrm>
            <a:off x="4848120" y="2561040"/>
            <a:ext cx="2800440" cy="4274640"/>
            <a:chOff x="4848120" y="2561040"/>
            <a:chExt cx="2800440" cy="4274640"/>
          </a:xfrm>
        </p:grpSpPr>
        <p:sp>
          <p:nvSpPr>
            <p:cNvPr id="142" name="Freeform 14"/>
            <p:cNvSpPr/>
            <p:nvPr/>
          </p:nvSpPr>
          <p:spPr>
            <a:xfrm>
              <a:off x="4848120" y="2757600"/>
              <a:ext cx="2800440" cy="4078080"/>
            </a:xfrm>
            <a:custGeom>
              <a:avLst/>
              <a:gdLst>
                <a:gd name="textAreaLeft" fmla="*/ 0 w 2800440"/>
                <a:gd name="textAreaRight" fmla="*/ 2800800 w 2800440"/>
                <a:gd name="textAreaTop" fmla="*/ 0 h 4078080"/>
                <a:gd name="textAreaBottom" fmla="*/ 4078440 h 4078080"/>
              </a:gdLst>
              <a:ahLst/>
              <a:rect l="textAreaLeft" t="textAreaTop" r="textAreaRight" b="textAreaBottom"/>
              <a:pathLst>
                <a:path w="1764" h="2569">
                  <a:moveTo>
                    <a:pt x="1764" y="741"/>
                  </a:moveTo>
                  <a:cubicBezTo>
                    <a:pt x="1529" y="915"/>
                    <a:pt x="647" y="1509"/>
                    <a:pt x="356" y="1783"/>
                  </a:cubicBezTo>
                  <a:cubicBezTo>
                    <a:pt x="65" y="2057"/>
                    <a:pt x="0" y="2301"/>
                    <a:pt x="18" y="2386"/>
                  </a:cubicBezTo>
                  <a:cubicBezTo>
                    <a:pt x="36" y="2471"/>
                    <a:pt x="267" y="2569"/>
                    <a:pt x="466" y="2295"/>
                  </a:cubicBezTo>
                  <a:cubicBezTo>
                    <a:pt x="665" y="2021"/>
                    <a:pt x="1032" y="1126"/>
                    <a:pt x="1210" y="744"/>
                  </a:cubicBezTo>
                  <a:cubicBezTo>
                    <a:pt x="1388" y="362"/>
                    <a:pt x="1468" y="155"/>
                    <a:pt x="15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1"/>
            <p:cNvSpPr/>
            <p:nvPr/>
          </p:nvSpPr>
          <p:spPr>
            <a:xfrm>
              <a:off x="7236000" y="27097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3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0"/>
            <p:cNvSpPr/>
            <p:nvPr/>
          </p:nvSpPr>
          <p:spPr>
            <a:xfrm>
              <a:off x="687708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4569120" y="-32220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2174 L -0.17118 0.56313 L -0.18316 0.58834 L -0.19879 0.5969 L -0.22014 0.5969 L -0.23473 0.59181 L -0.24896 0.57331 L -0.25608 0.55643 L -0.25365 0.52937 L -0.24167 0.51248 L -0.22865 0.50069 L -0.21424 0.4956 L -0.19879 0.4956 L -0.18421 0.5074 L -0.16025 0.54278 L -0.13403 0.5851 L -0.09948 0.59181 L -0.06355 0.58672 L -0.02865 0.55458 L -0.0073 0.51433 L 0.02031 0.4401 L 0.08246 0.1938 L 0.09461 0.09944 L 0.08368 0.02867 L 0.05382 -0.02706 L 0.01545 -0.05065 L -0.04063 -0.04556 L -0.06459 -0.03886 L -0.09115 -0.0118 L -0.10643 0.03538 L -0.1125 0.06914 L -0.10782 0.11794 E">
                                      <p:cBhvr>
                                        <p:cTn id="58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093 0.37951 L 0.30972 0.33048 L 0.3059 0.29671 L 0.29826 0.27983 L 0.28437 0.26803 L 0.26284 0.26803 L 0.24392 0.2833 L 0.21475 0.32539 L 0.18698 0.39454 L 0.16545 0.47895 L 0.16284 0.5481 L 0.1717 0.58348 L 0.17934 0.59528 L 0.19826 0.5969 L 0.22239 0.59019 L 0.24514 0.55481 L 0.34635 0.27821 L 0.15659 0.82793 L 0.13507 0.8617 L 0.10329 0.8684 L 0.09323 0.8684 L 0.08177 0.85661 L 0.0717 0.84135 L 0.0717 0.81776 L 0.07812 0.78237 L 0.09583 0.74352 L 0.11736 0.70814 L 0.16666 0.65263 L 0.37812 0.44865 E">
                                      <p:cBhvr>
                                        <p:cTn id="62" dur="5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48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Freeform 12"/>
          <p:cNvSpPr/>
          <p:nvPr/>
        </p:nvSpPr>
        <p:spPr>
          <a:xfrm>
            <a:off x="2373480" y="463680"/>
            <a:ext cx="2666880" cy="430668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4306680"/>
              <a:gd name="textAreaBottom" fmla="*/ 4307040 h 4306680"/>
            </a:gdLst>
            <a:ahLst/>
            <a:rect l="textAreaLeft" t="textAreaTop" r="textAreaRight" b="textAreaBottom"/>
            <a:pathLst>
              <a:path w="1680" h="2713">
                <a:moveTo>
                  <a:pt x="1550" y="485"/>
                </a:moveTo>
                <a:cubicBezTo>
                  <a:pt x="1566" y="455"/>
                  <a:pt x="1638" y="369"/>
                  <a:pt x="1649" y="302"/>
                </a:cubicBezTo>
                <a:cubicBezTo>
                  <a:pt x="1660" y="235"/>
                  <a:pt x="1680" y="116"/>
                  <a:pt x="1619" y="80"/>
                </a:cubicBezTo>
                <a:cubicBezTo>
                  <a:pt x="1558" y="44"/>
                  <a:pt x="1414" y="0"/>
                  <a:pt x="1283" y="86"/>
                </a:cubicBezTo>
                <a:cubicBezTo>
                  <a:pt x="1152" y="172"/>
                  <a:pt x="922" y="421"/>
                  <a:pt x="833" y="596"/>
                </a:cubicBezTo>
                <a:cubicBezTo>
                  <a:pt x="744" y="771"/>
                  <a:pt x="744" y="1016"/>
                  <a:pt x="749" y="1136"/>
                </a:cubicBezTo>
                <a:cubicBezTo>
                  <a:pt x="754" y="1256"/>
                  <a:pt x="826" y="1272"/>
                  <a:pt x="863" y="1316"/>
                </a:cubicBezTo>
                <a:cubicBezTo>
                  <a:pt x="900" y="1360"/>
                  <a:pt x="1029" y="1368"/>
                  <a:pt x="974" y="1399"/>
                </a:cubicBezTo>
                <a:cubicBezTo>
                  <a:pt x="919" y="1430"/>
                  <a:pt x="676" y="1406"/>
                  <a:pt x="533" y="1502"/>
                </a:cubicBezTo>
                <a:cubicBezTo>
                  <a:pt x="390" y="1598"/>
                  <a:pt x="207" y="1838"/>
                  <a:pt x="119" y="1976"/>
                </a:cubicBezTo>
                <a:cubicBezTo>
                  <a:pt x="31" y="2114"/>
                  <a:pt x="10" y="2225"/>
                  <a:pt x="5" y="2330"/>
                </a:cubicBezTo>
                <a:cubicBezTo>
                  <a:pt x="0" y="2435"/>
                  <a:pt x="10" y="2550"/>
                  <a:pt x="89" y="2606"/>
                </a:cubicBezTo>
                <a:cubicBezTo>
                  <a:pt x="168" y="2662"/>
                  <a:pt x="309" y="2713"/>
                  <a:pt x="479" y="2666"/>
                </a:cubicBezTo>
                <a:cubicBezTo>
                  <a:pt x="649" y="2619"/>
                  <a:pt x="979" y="2394"/>
                  <a:pt x="1111" y="23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4"/>
          <p:cNvSpPr/>
          <p:nvPr/>
        </p:nvSpPr>
        <p:spPr>
          <a:xfrm>
            <a:off x="4905360" y="2665440"/>
            <a:ext cx="1838520" cy="2163600"/>
          </a:xfrm>
          <a:custGeom>
            <a:avLst/>
            <a:gdLst>
              <a:gd name="textAreaLeft" fmla="*/ 0 w 1838520"/>
              <a:gd name="textAreaRight" fmla="*/ 1838880 w 1838520"/>
              <a:gd name="textAreaTop" fmla="*/ 0 h 2163600"/>
              <a:gd name="textAreaBottom" fmla="*/ 2163960 h 2163600"/>
            </a:gdLst>
            <a:ahLst/>
            <a:rect l="textAreaLeft" t="textAreaTop" r="textAreaRight" b="textAreaBottom"/>
            <a:pathLst>
              <a:path w="1158" h="1363">
                <a:moveTo>
                  <a:pt x="0" y="1171"/>
                </a:moveTo>
                <a:cubicBezTo>
                  <a:pt x="155" y="1053"/>
                  <a:pt x="752" y="649"/>
                  <a:pt x="930" y="463"/>
                </a:cubicBezTo>
                <a:cubicBezTo>
                  <a:pt x="1108" y="277"/>
                  <a:pt x="1100" y="110"/>
                  <a:pt x="1068" y="55"/>
                </a:cubicBezTo>
                <a:cubicBezTo>
                  <a:pt x="1036" y="0"/>
                  <a:pt x="856" y="4"/>
                  <a:pt x="738" y="133"/>
                </a:cubicBezTo>
                <a:cubicBezTo>
                  <a:pt x="620" y="262"/>
                  <a:pt x="420" y="642"/>
                  <a:pt x="360" y="829"/>
                </a:cubicBezTo>
                <a:cubicBezTo>
                  <a:pt x="300" y="1016"/>
                  <a:pt x="326" y="1177"/>
                  <a:pt x="378" y="1255"/>
                </a:cubicBezTo>
                <a:cubicBezTo>
                  <a:pt x="430" y="1333"/>
                  <a:pt x="542" y="1363"/>
                  <a:pt x="672" y="1297"/>
                </a:cubicBezTo>
                <a:cubicBezTo>
                  <a:pt x="802" y="1231"/>
                  <a:pt x="1057" y="950"/>
                  <a:pt x="1158" y="8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4788000" y="44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>
            <a:off x="478800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408280" y="49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58927E-006 L 0.01528 -0.04209 L 0.02031 -0.07586 L 0.01389 -0.09945 L -0.00625 -0.11471 L -0.03663 -0.11286 L -0.05695 -0.09436 L -0.08091 -0.06406 L -0.10747 -0.02521 L -0.12396 0.0067 L -0.13542 0.037 L -0.14306 0.08441 L -0.14427 0.13668 L -0.14045 0.16327 L -0.09861 0.20744 L -0.129 0.21068 L -0.1632 0.21762 L -0.19861 0.24283 L -0.22535 0.28492 L -0.2467 0.3203 L -0.26702 0.36748 L -0.27344 0.40125 L -0.27587 0.43339 L -0.27205 0.47386 L -0.25938 0.49075 L -0.2342 0.5074 L -0.20625 0.51087 L -0.17205 0.50069 L -0.07709 0.42322 E">
                                      <p:cBhvr>
                                        <p:cTn id="68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45514 L 0.12847 0.34552 L 0.17534 0.29672 L 0.19305 0.26295 L 0.19948 0.22757 L 0.19427 0.18872 L 0.16024 0.18201 L 0.13107 0.20236 L 0.11336 0.23428 L 0.07152 0.33048 L 0.05382 0.39616 L 0.05503 0.46369 L 0.07534 0.5007 L 0.09948 0.51087 L 0.1184 0.50417 L 0.1677 0.45699 L 0.21076 0.39454 E">
                                      <p:cBhvr>
                                        <p:cTn id="72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57" name="Line 3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4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5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7"/>
          <p:cNvGrpSpPr/>
          <p:nvPr/>
        </p:nvGrpSpPr>
        <p:grpSpPr>
          <a:xfrm>
            <a:off x="4713120" y="2276640"/>
            <a:ext cx="1955880" cy="2552400"/>
            <a:chOff x="4713120" y="2276640"/>
            <a:chExt cx="1955880" cy="2552400"/>
          </a:xfrm>
        </p:grpSpPr>
        <p:sp>
          <p:nvSpPr>
            <p:cNvPr id="161" name="Freeform 7"/>
            <p:cNvSpPr/>
            <p:nvPr/>
          </p:nvSpPr>
          <p:spPr>
            <a:xfrm>
              <a:off x="4830480" y="2665440"/>
              <a:ext cx="1838520" cy="2163600"/>
            </a:xfrm>
            <a:custGeom>
              <a:avLst/>
              <a:gdLst>
                <a:gd name="textAreaLeft" fmla="*/ 0 w 1838520"/>
                <a:gd name="textAreaRight" fmla="*/ 1838880 w 1838520"/>
                <a:gd name="textAreaTop" fmla="*/ 0 h 2163600"/>
                <a:gd name="textAreaBottom" fmla="*/ 2163960 h 2163600"/>
              </a:gdLst>
              <a:ahLst/>
              <a:rect l="textAreaLeft" t="textAreaTop" r="textAreaRight" b="textAreaBottom"/>
              <a:pathLst>
                <a:path w="1158" h="1363">
                  <a:moveTo>
                    <a:pt x="0" y="1171"/>
                  </a:moveTo>
                  <a:cubicBezTo>
                    <a:pt x="155" y="1053"/>
                    <a:pt x="752" y="649"/>
                    <a:pt x="930" y="463"/>
                  </a:cubicBezTo>
                  <a:cubicBezTo>
                    <a:pt x="1108" y="277"/>
                    <a:pt x="1100" y="110"/>
                    <a:pt x="1068" y="55"/>
                  </a:cubicBezTo>
                  <a:cubicBezTo>
                    <a:pt x="1036" y="0"/>
                    <a:pt x="856" y="4"/>
                    <a:pt x="738" y="133"/>
                  </a:cubicBezTo>
                  <a:cubicBezTo>
                    <a:pt x="620" y="262"/>
                    <a:pt x="420" y="642"/>
                    <a:pt x="360" y="829"/>
                  </a:cubicBezTo>
                  <a:cubicBezTo>
                    <a:pt x="300" y="1016"/>
                    <a:pt x="326" y="1177"/>
                    <a:pt x="378" y="1255"/>
                  </a:cubicBezTo>
                  <a:cubicBezTo>
                    <a:pt x="430" y="1333"/>
                    <a:pt x="542" y="1363"/>
                    <a:pt x="672" y="1297"/>
                  </a:cubicBezTo>
                  <a:cubicBezTo>
                    <a:pt x="802" y="1231"/>
                    <a:pt x="1057" y="950"/>
                    <a:pt x="1158" y="85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4713120" y="44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608148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644184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6"/>
          <p:cNvGrpSpPr/>
          <p:nvPr/>
        </p:nvGrpSpPr>
        <p:grpSpPr>
          <a:xfrm>
            <a:off x="2336760" y="189000"/>
            <a:ext cx="2666880" cy="4593960"/>
            <a:chOff x="2336760" y="189000"/>
            <a:chExt cx="2666880" cy="4593960"/>
          </a:xfrm>
        </p:grpSpPr>
        <p:sp>
          <p:nvSpPr>
            <p:cNvPr id="166" name="Freeform 6"/>
            <p:cNvSpPr/>
            <p:nvPr/>
          </p:nvSpPr>
          <p:spPr>
            <a:xfrm>
              <a:off x="2336760" y="476280"/>
              <a:ext cx="2666880" cy="430668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4306680"/>
                <a:gd name="textAreaBottom" fmla="*/ 4307040 h 4306680"/>
              </a:gdLst>
              <a:ahLst/>
              <a:rect l="textAreaLeft" t="textAreaTop" r="textAreaRight" b="textAreaBottom"/>
              <a:pathLst>
                <a:path w="1680" h="2713">
                  <a:moveTo>
                    <a:pt x="1550" y="485"/>
                  </a:moveTo>
                  <a:cubicBezTo>
                    <a:pt x="1566" y="455"/>
                    <a:pt x="1638" y="369"/>
                    <a:pt x="1649" y="302"/>
                  </a:cubicBezTo>
                  <a:cubicBezTo>
                    <a:pt x="1660" y="235"/>
                    <a:pt x="1680" y="116"/>
                    <a:pt x="1619" y="80"/>
                  </a:cubicBezTo>
                  <a:cubicBezTo>
                    <a:pt x="1558" y="44"/>
                    <a:pt x="1414" y="0"/>
                    <a:pt x="1283" y="86"/>
                  </a:cubicBezTo>
                  <a:cubicBezTo>
                    <a:pt x="1152" y="172"/>
                    <a:pt x="922" y="421"/>
                    <a:pt x="833" y="596"/>
                  </a:cubicBezTo>
                  <a:cubicBezTo>
                    <a:pt x="744" y="771"/>
                    <a:pt x="744" y="1016"/>
                    <a:pt x="749" y="1136"/>
                  </a:cubicBezTo>
                  <a:cubicBezTo>
                    <a:pt x="754" y="1256"/>
                    <a:pt x="826" y="1272"/>
                    <a:pt x="863" y="1316"/>
                  </a:cubicBezTo>
                  <a:cubicBezTo>
                    <a:pt x="900" y="1360"/>
                    <a:pt x="1029" y="1368"/>
                    <a:pt x="974" y="1399"/>
                  </a:cubicBezTo>
                  <a:cubicBezTo>
                    <a:pt x="919" y="1430"/>
                    <a:pt x="676" y="1406"/>
                    <a:pt x="533" y="1502"/>
                  </a:cubicBezTo>
                  <a:cubicBezTo>
                    <a:pt x="390" y="1598"/>
                    <a:pt x="207" y="1838"/>
                    <a:pt x="119" y="1976"/>
                  </a:cubicBezTo>
                  <a:cubicBezTo>
                    <a:pt x="31" y="2114"/>
                    <a:pt x="10" y="2225"/>
                    <a:pt x="5" y="2330"/>
                  </a:cubicBezTo>
                  <a:cubicBezTo>
                    <a:pt x="0" y="2435"/>
                    <a:pt x="10" y="2550"/>
                    <a:pt x="89" y="2606"/>
                  </a:cubicBezTo>
                  <a:cubicBezTo>
                    <a:pt x="168" y="2662"/>
                    <a:pt x="309" y="2713"/>
                    <a:pt x="479" y="2666"/>
                  </a:cubicBezTo>
                  <a:cubicBezTo>
                    <a:pt x="649" y="2619"/>
                    <a:pt x="979" y="2394"/>
                    <a:pt x="1111" y="232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10"/>
            <p:cNvSpPr/>
            <p:nvPr/>
          </p:nvSpPr>
          <p:spPr>
            <a:xfrm>
              <a:off x="4713120" y="1197000"/>
              <a:ext cx="14400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13"/>
            <p:cNvSpPr/>
            <p:nvPr/>
          </p:nvSpPr>
          <p:spPr>
            <a:xfrm>
              <a:off x="442404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4"/>
            <p:cNvSpPr/>
            <p:nvPr/>
          </p:nvSpPr>
          <p:spPr>
            <a:xfrm>
              <a:off x="478440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5"/>
          <p:cNvSpPr/>
          <p:nvPr/>
        </p:nvSpPr>
        <p:spPr>
          <a:xfrm>
            <a:off x="2698920" y="-1898640"/>
            <a:ext cx="144360" cy="1443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5216760" y="188640"/>
            <a:ext cx="24382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13506E-006 L 0.01389 -0.02359 L 0.02153 -0.05388 L 0.02153 -0.08094 L 0.00121 -0.108 L -0.02396 -0.108 L -0.04688 -0.10106 L -0.07465 -0.06753 L -0.09879 -0.03214 L -0.12917 0.02521 L -0.13924 0.06568 L -0.14045 0.11124 L -0.13802 0.15842 L -0.12153 0.19057 L -0.09618 0.20583 L -0.12396 0.21069 L -0.16076 0.21925 L -0.2 0.2463 L -0.2342 0.30343 L -0.26319 0.35754 L -0.27344 0.4149 L -0.26962 0.45537 L -0.26198 0.48728 L -0.24045 0.50255 L -0.20885 0.50764 L -0.17587 0.49584 L -0.07969 0.42322 E">
                                      <p:cBhvr>
                                        <p:cTn id="7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837 -0.16975 L -0.02813 -0.16975 L -0.03455 -0.15957 L -0.03837 -0.16975 Z">
                                      <p:cBhvr>
                                        <p:cTn id="81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-0.16466 L 0.03142 -0.17645 L 0.03264 -0.16304 L 0.02517 -0.16466 Z">
                                      <p:cBhvr>
                                        <p:cTn id="8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53 0.4593 L 0.0658 0.41883 L 0.12917 0.35639 L 0.18611 0.29394 L 0.20503 0.25347 L 0.21007 0.21971 L 0.2 0.18941 L 0.17847 0.18779 L 0.15955 0.1945 L 0.14184 0.20791 L 0.12396 0.24677 L 0.09358 0.32933 L 0.07465 0.38668 L 0.07465 0.40703 L 0.07465 0.44566 L 0.07847 0.47433 L 0.09236 0.49307 L 0.1151 0.49468 L 0.13802 0.47618 L 0.21771 0.38345 E">
                                      <p:cBhvr>
                                        <p:cTn id="88" dur="5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4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73" name="Line 5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7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Line 17"/>
          <p:cNvSpPr/>
          <p:nvPr/>
        </p:nvSpPr>
        <p:spPr>
          <a:xfrm>
            <a:off x="219564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5"/>
          <p:cNvGrpSpPr/>
          <p:nvPr/>
        </p:nvGrpSpPr>
        <p:grpSpPr>
          <a:xfrm>
            <a:off x="179280" y="417600"/>
            <a:ext cx="5400720" cy="4497480"/>
            <a:chOff x="179280" y="417600"/>
            <a:chExt cx="5400720" cy="4497480"/>
          </a:xfrm>
        </p:grpSpPr>
        <p:grpSp>
          <p:nvGrpSpPr>
            <p:cNvPr id="178" name="Group 19"/>
            <p:cNvGrpSpPr/>
            <p:nvPr/>
          </p:nvGrpSpPr>
          <p:grpSpPr>
            <a:xfrm>
              <a:off x="179280" y="417600"/>
              <a:ext cx="5326200" cy="4497480"/>
              <a:chOff x="179280" y="417600"/>
              <a:chExt cx="5326200" cy="4497480"/>
            </a:xfrm>
          </p:grpSpPr>
          <p:sp>
            <p:nvSpPr>
              <p:cNvPr id="179" name="Freeform 15"/>
              <p:cNvSpPr/>
              <p:nvPr/>
            </p:nvSpPr>
            <p:spPr>
              <a:xfrm>
                <a:off x="3059280" y="531720"/>
                <a:ext cx="2446200" cy="4380120"/>
              </a:xfrm>
              <a:custGeom>
                <a:avLst/>
                <a:gdLst>
                  <a:gd name="textAreaLeft" fmla="*/ 0 w 2446200"/>
                  <a:gd name="textAreaRight" fmla="*/ 2446560 w 2446200"/>
                  <a:gd name="textAreaTop" fmla="*/ 0 h 4380120"/>
                  <a:gd name="textAreaBottom" fmla="*/ 4380120 h 4380120"/>
                </a:gdLst>
                <a:ahLst/>
                <a:rect l="textAreaLeft" t="textAreaTop" r="textAreaRight" b="textAreaBottom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6"/>
              <p:cNvSpPr/>
              <p:nvPr/>
            </p:nvSpPr>
            <p:spPr>
              <a:xfrm>
                <a:off x="179280" y="417600"/>
                <a:ext cx="2521080" cy="4354560"/>
              </a:xfrm>
              <a:custGeom>
                <a:avLst/>
                <a:gdLst>
                  <a:gd name="textAreaLeft" fmla="*/ 0 w 2521080"/>
                  <a:gd name="textAreaRight" fmla="*/ 2521440 w 2521080"/>
                  <a:gd name="textAreaTop" fmla="*/ 0 h 4354560"/>
                  <a:gd name="textAreaBottom" fmla="*/ 4354920 h 4354560"/>
                </a:gdLst>
                <a:ahLst/>
                <a:rect l="textAreaLeft" t="textAreaTop" r="textAreaRight" b="textAreaBottom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8"/>
              <p:cNvSpPr/>
              <p:nvPr/>
            </p:nvSpPr>
            <p:spPr>
              <a:xfrm>
                <a:off x="1905120" y="571680"/>
                <a:ext cx="1809720" cy="4343400"/>
              </a:xfrm>
              <a:custGeom>
                <a:avLst/>
                <a:gdLst>
                  <a:gd name="textAreaLeft" fmla="*/ 0 w 1809720"/>
                  <a:gd name="textAreaRight" fmla="*/ 1810080 w 1809720"/>
                  <a:gd name="textAreaTop" fmla="*/ 0 h 4343400"/>
                  <a:gd name="textAreaBottom" fmla="*/ 4343760 h 4343400"/>
                </a:gdLst>
                <a:ahLst/>
                <a:rect l="textAreaLeft" t="textAreaTop" r="textAreaRight" b="textAreaBottom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AutoShape 9"/>
            <p:cNvSpPr/>
            <p:nvPr/>
          </p:nvSpPr>
          <p:spPr>
            <a:xfrm>
              <a:off x="97164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0"/>
            <p:cNvSpPr/>
            <p:nvPr/>
          </p:nvSpPr>
          <p:spPr>
            <a:xfrm>
              <a:off x="2409840" y="2419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543564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24"/>
          <p:cNvGrpSpPr/>
          <p:nvPr/>
        </p:nvGrpSpPr>
        <p:grpSpPr>
          <a:xfrm>
            <a:off x="5492880" y="2687760"/>
            <a:ext cx="3327120" cy="2135160"/>
            <a:chOff x="5492880" y="2687760"/>
            <a:chExt cx="3327120" cy="2135160"/>
          </a:xfrm>
        </p:grpSpPr>
        <p:grpSp>
          <p:nvGrpSpPr>
            <p:cNvPr id="186" name="Group 20"/>
            <p:cNvGrpSpPr/>
            <p:nvPr/>
          </p:nvGrpSpPr>
          <p:grpSpPr>
            <a:xfrm>
              <a:off x="5492880" y="2687760"/>
              <a:ext cx="3239640" cy="2135160"/>
              <a:chOff x="5492880" y="2687760"/>
              <a:chExt cx="3239640" cy="2135160"/>
            </a:xfrm>
          </p:grpSpPr>
          <p:sp>
            <p:nvSpPr>
              <p:cNvPr id="187" name="Freeform 21"/>
              <p:cNvSpPr/>
              <p:nvPr/>
            </p:nvSpPr>
            <p:spPr>
              <a:xfrm>
                <a:off x="7244640" y="2741760"/>
                <a:ext cx="1487880" cy="2079360"/>
              </a:xfrm>
              <a:custGeom>
                <a:avLst/>
                <a:gdLst>
                  <a:gd name="textAreaLeft" fmla="*/ 0 w 1487880"/>
                  <a:gd name="textAreaRight" fmla="*/ 1488240 w 1487880"/>
                  <a:gd name="textAreaTop" fmla="*/ 0 h 2079360"/>
                  <a:gd name="textAreaBottom" fmla="*/ 2079720 h 2079360"/>
                </a:gdLst>
                <a:ahLst/>
                <a:rect l="textAreaLeft" t="textAreaTop" r="textAreaRight" b="textAreaBottom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2"/>
              <p:cNvSpPr/>
              <p:nvPr/>
            </p:nvSpPr>
            <p:spPr>
              <a:xfrm>
                <a:off x="5492880" y="2687760"/>
                <a:ext cx="1533600" cy="2067480"/>
              </a:xfrm>
              <a:custGeom>
                <a:avLst/>
                <a:gdLst>
                  <a:gd name="textAreaLeft" fmla="*/ 0 w 1533600"/>
                  <a:gd name="textAreaRight" fmla="*/ 1533960 w 1533600"/>
                  <a:gd name="textAreaTop" fmla="*/ 0 h 2067480"/>
                  <a:gd name="textAreaBottom" fmla="*/ 2067840 h 2067480"/>
                </a:gdLst>
                <a:ahLst/>
                <a:rect l="textAreaLeft" t="textAreaTop" r="textAreaRight" b="textAreaBottom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3"/>
              <p:cNvSpPr/>
              <p:nvPr/>
            </p:nvSpPr>
            <p:spPr>
              <a:xfrm>
                <a:off x="6542640" y="2760840"/>
                <a:ext cx="1100880" cy="2062080"/>
              </a:xfrm>
              <a:custGeom>
                <a:avLst/>
                <a:gdLst>
                  <a:gd name="textAreaLeft" fmla="*/ 0 w 1100880"/>
                  <a:gd name="textAreaRight" fmla="*/ 1100880 w 1100880"/>
                  <a:gd name="textAreaTop" fmla="*/ 0 h 2062080"/>
                  <a:gd name="textAreaBottom" fmla="*/ 2062440 h 2062080"/>
                </a:gdLst>
                <a:ahLst/>
                <a:rect l="textAreaLeft" t="textAreaTop" r="textAreaRight" b="textAreaBottom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AutoShape 13"/>
            <p:cNvSpPr/>
            <p:nvPr/>
          </p:nvSpPr>
          <p:spPr>
            <a:xfrm>
              <a:off x="6805440" y="356868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2"/>
            <p:cNvSpPr/>
            <p:nvPr/>
          </p:nvSpPr>
          <p:spPr>
            <a:xfrm>
              <a:off x="6014880" y="299088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8677440" y="3063960"/>
              <a:ext cx="14256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32" descr="http://lirikalux.com/uploads/image/psiholog/krasnaya_ruchka.png"/>
          <p:cNvPicPr/>
          <p:nvPr/>
        </p:nvPicPr>
        <p:blipFill>
          <a:blip r:embed="rId1"/>
          <a:stretch/>
        </p:blipFill>
        <p:spPr>
          <a:xfrm rot="2831400">
            <a:off x="1480680" y="33804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43293E-006 L 0.02396 -0.05897 L 0.0658 -0.11286 L 0.10243 -0.13321 L 0.129 -0.14315 L 0.16198 -0.11794 L 0.17847 -0.0555 L 0.18472 0.00509 L 0.17466 0.09274 L 0.14931 0.19195 L 0.11632 0.29348 L 0.0632 0.38275 L 0.01893 0.44681 L -0.01267 0.4704 L -0.03923 0.47387 L -0.05833 0.46369 L -0.08107 0.42507 L -0.08993 0.35245 L -0.08611 0.42322 L -0.06076 0.46878 L -0.02153 0.48404 L 0.02518 0.44681 L 0.09115 0.33904 L 0.13924 0.23613 L 0.16441 0.14848 L 0.30243 -0.14824 L 0.1 0.49746 L 0.2658 0.12489 L 0.32657 -0.01341 L 0.37847 -0.09274 L 0.43785 -0.1383 L 0.47205 -0.12465 L 0.48976 -0.07909 L 0.49479 -0.00994 L 0.49479 0.00347 L 0.48733 -0.09944 L 0.46441 -0.13483 L 0.42657 -0.13483 L 0.37205 -0.09089 L 0.31632 -0.0067 L 0.27084 0.108 L 0.23785 0.23451 L 0.22657 0.34066 L 0.229 0.39963 L 0.25695 0.47225 L 0.27344 0.48404 L 0.30886 0.48404 L 0.34306 0.46369 L 0.39861 0.38969 E">
                                      <p:cBhvr>
                                        <p:cTn id="94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16 0.2352 L 0.59236 0.18455 L 0.62153 0.16929 L 0.65313 0.17623 L 0.6632 0.2167 L 0.6658 0.27729 L 0.63403 0.36494 L 0.6 0.41559 L 0.56823 0.45768 L 0.54427 0.47133 L 0.51771 0.46277 L 0.5 0.44265 L 0.49479 0.4105 L 0.50747 0.45768 L 0.53038 0.46277 L 0.56441 0.4593 L 0.60122 0.41559 L 0.63663 0.35153 L 0.66077 0.29579 L 0.74288 0.16097 L 0.61129 0.48312 L 0.71893 0.29418 L 0.73924 0.25208 L 0.77084 0.20814 L 0.80504 0.17623 L 0.83924 0.17276 L 0.85556 0.23335 L 0.84549 0.18617 L 0.8125 0.17276 L 0.77084 0.20491 L 0.729 0.27891 L 0.71129 0.32123 L 0.69358 0.38691 L 0.69236 0.42392 L 0.71389 0.47618 L 0.73038 0.47618 L 0.75816 0.46439 L 0.7974 0.42392 E">
                                      <p:cBhvr>
                                        <p:cTn id="98" dur="5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3:37:40Z</dcterms:created>
  <dc:creator>1</dc:creator>
  <dc:description/>
  <dc:language>en-US</dc:language>
  <cp:lastModifiedBy>Admin</cp:lastModifiedBy>
  <dcterms:modified xsi:type="dcterms:W3CDTF">2015-01-25T15:26:46Z</dcterms:modified>
  <cp:revision>42</cp:revision>
  <dc:subject/>
  <dc:title>Слайд 1</dc:title>
</cp:coreProperties>
</file>