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6.png" ContentType="image/png"/>
  <Override PartName="/ppt/media/chimes.wav" ContentType="audio/x-wav"/>
  <Override PartName="/ppt/media/image14.wmf" ContentType="image/x-wmf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053A-F0D5-4F5B-9871-55E29A75E3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1DC8-9E8F-4A6F-9205-5A93E5D45D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D78-3C8C-4CD7-B8E7-FA988B8856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418-BDD3-49DA-BF79-7F7DB441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7BA-FE84-4D11-BD35-61F051C7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BC4-4E4B-4F6A-8C1E-80A4B124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066-1FA9-485C-A6DF-AD2C220C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091-D7E4-4AD6-974F-AA39CB4A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5A32-144A-43D4-A862-91A380CC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5C7B-DAC9-4E15-8F98-0719B7A8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B1A9-648F-4A2B-88ED-23D9E8C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1167-ED42-45AC-B582-E231C6A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05C9-9EE0-46B5-87AD-A6106DC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BB95-6472-4F72-B59D-1456735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A93-A379-4691-9C76-EDD761F6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55A-2416-430A-9CAE-47ACA83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6E90-C03C-4E46-8E42-1D04CED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0D7-006C-43E1-AD38-0384404B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ADF5-7B3A-4896-AC16-89076417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0DDD-88B0-441C-BF51-03C7328D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C2E4-37A5-44CF-947C-A1057E1D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0772-739F-43EC-8DD1-BD83A83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48A7-224A-42C8-9A57-E2F91948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6B69-2809-4976-8A42-86B33CAC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D9F8-D385-441F-BFBB-A13A1D31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DB0-F883-419F-8DCE-B4FAF874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D041-11F1-470D-BE60-DCA14428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1992-3124-4171-8D52-425E3A6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83B8-9163-4076-BD6E-7E296FE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1F10-1847-4DD1-A8B1-2C410F8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855B-A358-4EF9-BD20-2D6755BA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637A-DA9C-41EB-8A0C-23904AC1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108C-43E3-4545-8598-0B21F860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3227-8C6D-4051-9BDE-2B6044E3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84D2-8EFD-43BD-993B-8496359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592F-FEAC-4A8F-BB3A-2A2F940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C40-3EF8-4E24-905D-46583A34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7D20-9778-4F13-9D1F-49817D5A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12E0-24B0-4EA1-A7FB-231597A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CD80-A1C2-4F23-A3B2-0DA449D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1ACB6-2211-48F2-8C58-36D1DE9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4E054-56CA-426D-AEE9-44CEE5F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FF3C2-79A8-41E7-8BDC-E4209DE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E3E3-9767-44F5-BDF8-BF2CD9C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B8B7-4F4F-4F95-829B-BECD9D2D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E9505-AD29-48AD-ABF3-212E615F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10EA0-EF3B-493B-BE11-4ED25C5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D83-D9C0-4379-8AB9-B86DDA01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1BA96-1A58-44F6-B434-CD9299AD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AEEB-4C98-4A98-96D8-0F6C625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D761-C2D4-4DA3-91CB-97638842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9890-AA78-4E7B-99C2-06BCF31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4F0A2-C633-4768-AE84-1A48700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37AC-CA12-48C9-85F7-30F0A7C0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9178-E972-445E-ADDA-E618D4B2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2613-4344-4EDF-853C-FA28544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0C54-5414-4343-AD08-7205E975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0880-7F95-479B-836C-8DB668BE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FD6-6A44-44B2-A340-0D0014D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699C-23A3-453E-8CF6-4F878319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8C7A-A172-4E15-BB21-6BF457DF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6A68-0D6B-4111-8D37-155DAFAA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878A-6235-4E70-82E6-13043F38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9B17-C8D1-4639-B55B-6A9BAF27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112C-90A2-482E-89A0-5C64CC83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2C3AF-37DA-4FFD-888D-A08E0A03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E1451-814A-4364-918E-5FEA89E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7AC1-811C-484E-A3E8-53BB536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3298-E10A-4C52-A553-F64E57B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6D5-8514-4EB0-A63F-B99C5403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F1EF-B9C6-430E-8B6D-D2F4DD7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99C2-F114-4924-B2C7-764AED25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22794-477A-4D5E-A5D0-FEDB9F5D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1DC0B-4994-4926-855A-8DE27766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0261-A95B-4E4E-BBF3-CA3E9B4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C5349-3BFD-43C3-9EAF-420D5CF0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C47C-BB1B-4D85-962E-559DA26E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D4870-77AB-432B-8556-E21FC5DF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6541-BD99-447F-8389-1066EC14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5B1B-5878-46F4-B60A-A475585B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777-5BB4-479F-8E21-13CFFCB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0F6D-C15B-46D2-ACCF-5DE8E2F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907B-8230-4D98-87B3-6BAB362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0D055-91FB-4743-A5E2-2D282C9D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6A79-FC0E-4248-B3DE-2D4BF729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96FB-A05B-42DD-8398-AEE26986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F76-94F4-479B-8EA2-ADB736F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067F-8F2F-49AC-8F75-869B885138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18A-9E5A-44AA-BECE-0ABBB2E3A00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F79-A2EA-47E2-AAF8-130D73A7E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7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91BC-2C03-4CB1-8C71-63E6D253551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E699-FABC-4A44-86D8-DE063AD9420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4DF-8A1D-4F85-A461-D532073D468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AE9E-3732-473B-B0FA-7196CA3ED20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8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8.wm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7" descr="Kartinochki (15)"/>
          <p:cNvPicPr/>
          <p:nvPr/>
        </p:nvPicPr>
        <p:blipFill>
          <a:blip r:embed="rId1"/>
          <a:stretch/>
        </p:blipFill>
        <p:spPr>
          <a:xfrm>
            <a:off x="684360" y="1844640"/>
            <a:ext cx="1481040" cy="295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Alien_6"/>
          <p:cNvPicPr/>
          <p:nvPr/>
        </p:nvPicPr>
        <p:blipFill>
          <a:blip r:embed="rId2"/>
          <a:stretch/>
        </p:blipFill>
        <p:spPr>
          <a:xfrm>
            <a:off x="6804000" y="2781360"/>
            <a:ext cx="2013120" cy="3352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Documents and Settings\Пользователь\Local Settings\Temporary Internet Files\Content.IE5\BJAM0DKJ\MC900344513[1].wmf"/>
          <p:cNvPicPr/>
          <p:nvPr/>
        </p:nvPicPr>
        <p:blipFill>
          <a:blip r:embed="rId3"/>
          <a:stretch/>
        </p:blipFill>
        <p:spPr>
          <a:xfrm>
            <a:off x="5148360" y="589608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Documents and Settings\Пользователь\Local Settings\Temporary Internet Files\Content.IE5\BJAM0DKJ\MC900344513[1].wmf"/>
          <p:cNvPicPr/>
          <p:nvPr/>
        </p:nvPicPr>
        <p:blipFill>
          <a:blip r:embed="rId4"/>
          <a:stretch/>
        </p:blipFill>
        <p:spPr>
          <a:xfrm>
            <a:off x="6443640" y="583416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Documents and Settings\Пользователь\Local Settings\Temporary Internet Files\Content.IE5\BJAM0DKJ\MC900344513[1].wmf"/>
          <p:cNvPicPr/>
          <p:nvPr/>
        </p:nvPicPr>
        <p:blipFill>
          <a:blip r:embed="rId5"/>
          <a:stretch/>
        </p:blipFill>
        <p:spPr>
          <a:xfrm>
            <a:off x="7748640" y="5867280"/>
            <a:ext cx="1419120" cy="966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C:\Documents and Settings\Пользователь\Local Settings\Temporary Internet Files\Content.IE5\BJAM0DKJ\MC900344513[1].wmf"/>
          <p:cNvPicPr/>
          <p:nvPr/>
        </p:nvPicPr>
        <p:blipFill>
          <a:blip r:embed="rId6"/>
          <a:stretch/>
        </p:blipFill>
        <p:spPr>
          <a:xfrm>
            <a:off x="2903400" y="586728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Пользователь\Local Settings\Temporary Internet Files\Content.IE5\BJAM0DKJ\MC900344513[1].wmf"/>
          <p:cNvPicPr/>
          <p:nvPr/>
        </p:nvPicPr>
        <p:blipFill>
          <a:blip r:embed="rId7"/>
          <a:stretch/>
        </p:blipFill>
        <p:spPr>
          <a:xfrm>
            <a:off x="4067280" y="589104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Documents and Settings\Пользователь\Local Settings\Temporary Internet Files\Content.IE5\BJAM0DKJ\MC900344513[1].wmf"/>
          <p:cNvPicPr/>
          <p:nvPr/>
        </p:nvPicPr>
        <p:blipFill>
          <a:blip r:embed="rId8"/>
          <a:stretch/>
        </p:blipFill>
        <p:spPr>
          <a:xfrm>
            <a:off x="2124000" y="589104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Documents and Settings\Пользователь\Local Settings\Temporary Internet Files\Content.IE5\BJAM0DKJ\MC900344513[1].wmf"/>
          <p:cNvPicPr/>
          <p:nvPr/>
        </p:nvPicPr>
        <p:blipFill>
          <a:blip r:embed="rId9"/>
          <a:stretch/>
        </p:blipFill>
        <p:spPr>
          <a:xfrm>
            <a:off x="1042920" y="589104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C:\Documents and Settings\Пользователь\Local Settings\Temporary Internet Files\Content.IE5\BJAM0DKJ\MC900344513[1].wmf"/>
          <p:cNvPicPr/>
          <p:nvPr/>
        </p:nvPicPr>
        <p:blipFill>
          <a:blip r:embed="rId10"/>
          <a:stretch/>
        </p:blipFill>
        <p:spPr>
          <a:xfrm>
            <a:off x="-149400" y="5862600"/>
            <a:ext cx="1419480" cy="96696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2"/>
          <p:cNvSpPr/>
          <p:nvPr/>
        </p:nvSpPr>
        <p:spPr>
          <a:xfrm>
            <a:off x="2340000" y="333360"/>
            <a:ext cx="559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атематику,  друзья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любить никак нельзя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чень строгая наука,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чень точная наука,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тересная наука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то математика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1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Alien_6"/>
          <p:cNvPicPr/>
          <p:nvPr/>
        </p:nvPicPr>
        <p:blipFill>
          <a:blip r:embed="rId1"/>
          <a:stretch/>
        </p:blipFill>
        <p:spPr>
          <a:xfrm>
            <a:off x="7405560" y="2725560"/>
            <a:ext cx="2013120" cy="33530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2"/>
          <p:cNvSpPr/>
          <p:nvPr/>
        </p:nvSpPr>
        <p:spPr>
          <a:xfrm>
            <a:off x="826920" y="981000"/>
            <a:ext cx="3889440" cy="2952720"/>
          </a:xfrm>
          <a:prstGeom prst="rect">
            <a:avLst/>
          </a:prstGeom>
          <a:solidFill>
            <a:srgbClr val="b5cee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1835280" y="981000"/>
            <a:ext cx="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Овальная выноска 6"/>
          <p:cNvSpPr/>
          <p:nvPr/>
        </p:nvSpPr>
        <p:spPr>
          <a:xfrm>
            <a:off x="5508720" y="476280"/>
            <a:ext cx="3311280" cy="2844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5796000" y="1341360"/>
            <a:ext cx="326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прямоугольни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вадра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3" descr="C:\Documents and Settings\Пользователь\Local Settings\Temporary Internet Files\Content.IE5\4LK10RT2\MC900344463[1].wmf"/>
          <p:cNvPicPr/>
          <p:nvPr/>
        </p:nvPicPr>
        <p:blipFill>
          <a:blip r:embed="rId2"/>
          <a:stretch/>
        </p:blipFill>
        <p:spPr>
          <a:xfrm>
            <a:off x="6912000" y="5033880"/>
            <a:ext cx="1343160" cy="1824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:\Documents and Settings\Пользователь\Local Settings\Temporary Internet Files\Content.IE5\E9262TSG\MC900344513[1].wmf"/>
          <p:cNvPicPr/>
          <p:nvPr/>
        </p:nvPicPr>
        <p:blipFill>
          <a:blip r:embed="rId3"/>
          <a:stretch/>
        </p:blipFill>
        <p:spPr>
          <a:xfrm>
            <a:off x="2916360" y="58532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7545240" y="592920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Пользователь\Local Settings\Temporary Internet Files\Content.IE5\E9262TSG\MC900344513[1].wmf"/>
          <p:cNvPicPr/>
          <p:nvPr/>
        </p:nvPicPr>
        <p:blipFill>
          <a:blip r:embed="rId5"/>
          <a:stretch/>
        </p:blipFill>
        <p:spPr>
          <a:xfrm>
            <a:off x="5743440" y="585324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C:\Documents and Settings\Пользователь\Local Settings\Temporary Internet Files\Content.IE5\E9262TSG\MC900344513[1].wmf"/>
          <p:cNvPicPr/>
          <p:nvPr/>
        </p:nvPicPr>
        <p:blipFill>
          <a:blip r:embed="rId6"/>
          <a:stretch/>
        </p:blipFill>
        <p:spPr>
          <a:xfrm>
            <a:off x="-181080" y="589104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C:\Documents and Settings\Пользователь\Local Settings\Temporary Internet Files\Content.IE5\BJAM0DKJ\MC900344485[1].wmf"/>
          <p:cNvPicPr/>
          <p:nvPr/>
        </p:nvPicPr>
        <p:blipFill>
          <a:blip r:embed="rId7"/>
          <a:stretch/>
        </p:blipFill>
        <p:spPr>
          <a:xfrm>
            <a:off x="1227240" y="5451480"/>
            <a:ext cx="1812960" cy="1461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:\Documents and Settings\Пользователь\Local Settings\Temporary Internet Files\Content.IE5\BJAM0DKJ\MC900344485[1].wmf"/>
          <p:cNvPicPr/>
          <p:nvPr/>
        </p:nvPicPr>
        <p:blipFill>
          <a:blip r:embed="rId8"/>
          <a:stretch/>
        </p:blipFill>
        <p:spPr>
          <a:xfrm>
            <a:off x="4211640" y="5451480"/>
            <a:ext cx="181296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Таблица 1" descr=""/>
          <p:cNvPicPr/>
          <p:nvPr/>
        </p:nvPicPr>
        <p:blipFill>
          <a:blip r:embed="rId1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Alien_6"/>
          <p:cNvPicPr/>
          <p:nvPr/>
        </p:nvPicPr>
        <p:blipFill>
          <a:blip r:embed="rId2"/>
          <a:stretch/>
        </p:blipFill>
        <p:spPr>
          <a:xfrm>
            <a:off x="7048440" y="3121200"/>
            <a:ext cx="2013120" cy="3352680"/>
          </a:xfrm>
          <a:prstGeom prst="rect">
            <a:avLst/>
          </a:prstGeom>
          <a:ln w="0">
            <a:noFill/>
          </a:ln>
        </p:spPr>
      </p:pic>
      <p:sp>
        <p:nvSpPr>
          <p:cNvPr id="412" name="Овальная выноска 3"/>
          <p:cNvSpPr/>
          <p:nvPr/>
        </p:nvSpPr>
        <p:spPr>
          <a:xfrm>
            <a:off x="6227640" y="692280"/>
            <a:ext cx="2916360" cy="259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Сколько квадра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7013520" y="8109000"/>
          <a:ext cx="576360" cy="2376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414" name="Таблица 10" descr=""/>
          <p:cNvPicPr/>
          <p:nvPr/>
        </p:nvPicPr>
        <p:blipFill>
          <a:blip r:embed="rId3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pic>
        <p:nvPicPr>
          <p:cNvPr id="415" name="Таблица 11" descr=""/>
          <p:cNvPicPr/>
          <p:nvPr/>
        </p:nvPicPr>
        <p:blipFill>
          <a:blip r:embed="rId4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1258920" y="1405080"/>
          <a:ext cx="3746520" cy="3760560"/>
        </p:xfrm>
        <a:graphic>
          <a:graphicData uri="http://schemas.openxmlformats.org/drawingml/2006/table">
            <a:tbl>
              <a:tblPr/>
              <a:tblGrid>
                <a:gridCol w="1249200"/>
                <a:gridCol w="1247760"/>
                <a:gridCol w="1249560"/>
              </a:tblGrid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258920" y="1405080"/>
          <a:ext cx="3746520" cy="3760560"/>
        </p:xfrm>
        <a:graphic>
          <a:graphicData uri="http://schemas.openxmlformats.org/drawingml/2006/table">
            <a:tbl>
              <a:tblPr/>
              <a:tblGrid>
                <a:gridCol w="1224000"/>
                <a:gridCol w="1272960"/>
                <a:gridCol w="1249560"/>
              </a:tblGrid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</a:tr>
            </a:tbl>
          </a:graphicData>
        </a:graphic>
      </p:graphicFrame>
      <p:pic>
        <p:nvPicPr>
          <p:cNvPr id="418" name="Таблица 14" descr=""/>
          <p:cNvPicPr/>
          <p:nvPr/>
        </p:nvPicPr>
        <p:blipFill>
          <a:blip r:embed="rId5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Пользователь\Local Settings\Temporary Internet Files\Content.IE5\BJAM0DKJ\MC900344485[1].wmf"/>
          <p:cNvPicPr/>
          <p:nvPr/>
        </p:nvPicPr>
        <p:blipFill>
          <a:blip r:embed="rId6"/>
          <a:stretch/>
        </p:blipFill>
        <p:spPr>
          <a:xfrm>
            <a:off x="5264280" y="5448240"/>
            <a:ext cx="1811160" cy="1463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Пользователь\Local Settings\Temporary Internet Files\Content.IE5\E9262TSG\MC900344513[1].wmf"/>
          <p:cNvPicPr/>
          <p:nvPr/>
        </p:nvPicPr>
        <p:blipFill>
          <a:blip r:embed="rId7"/>
          <a:stretch/>
        </p:blipFill>
        <p:spPr>
          <a:xfrm>
            <a:off x="2987640" y="586728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Пользователь\Local Settings\Temporary Internet Files\Content.IE5\E9262TSG\MC900344513[1].wmf"/>
          <p:cNvPicPr/>
          <p:nvPr/>
        </p:nvPicPr>
        <p:blipFill>
          <a:blip r:embed="rId8"/>
          <a:stretch/>
        </p:blipFill>
        <p:spPr>
          <a:xfrm>
            <a:off x="6875640" y="5867280"/>
            <a:ext cx="1420560" cy="968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C:\Documents and Settings\Пользователь\Local Settings\Temporary Internet Files\Content.IE5\E9262TSG\MC900344513[1].wmf"/>
          <p:cNvPicPr/>
          <p:nvPr/>
        </p:nvPicPr>
        <p:blipFill>
          <a:blip r:embed="rId9"/>
          <a:stretch/>
        </p:blipFill>
        <p:spPr>
          <a:xfrm>
            <a:off x="4067280" y="588636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C:\Documents and Settings\Пользователь\Local Settings\Temporary Internet Files\Content.IE5\E9262TSG\MC900344513[1].wmf"/>
          <p:cNvPicPr/>
          <p:nvPr/>
        </p:nvPicPr>
        <p:blipFill>
          <a:blip r:embed="rId10"/>
          <a:stretch/>
        </p:blipFill>
        <p:spPr>
          <a:xfrm>
            <a:off x="-181080" y="5888160"/>
            <a:ext cx="1420920" cy="966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C:\Documents and Settings\Пользователь\Local Settings\Temporary Internet Files\Content.IE5\BJAM0DKJ\MC900344485[1].wmf"/>
          <p:cNvPicPr/>
          <p:nvPr/>
        </p:nvPicPr>
        <p:blipFill>
          <a:blip r:embed="rId11"/>
          <a:stretch/>
        </p:blipFill>
        <p:spPr>
          <a:xfrm>
            <a:off x="1239840" y="5448240"/>
            <a:ext cx="181116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12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133200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Найдите периметр фиг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826920" y="1700280"/>
            <a:ext cx="2953080" cy="187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5724360" y="1700280"/>
            <a:ext cx="2016360" cy="1873080"/>
          </a:xfrm>
          <a:prstGeom prst="rect">
            <a:avLst/>
          </a:prstGeom>
          <a:solidFill>
            <a:srgbClr val="fa8d3d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1187280" y="1116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6156360" y="1116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378000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1187280" y="3860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 = 4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   b= 12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395280" y="59500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133200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Найдите периметр фиг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826920" y="1700280"/>
            <a:ext cx="2953080" cy="187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3"/>
          <p:cNvSpPr/>
          <p:nvPr/>
        </p:nvSpPr>
        <p:spPr>
          <a:xfrm>
            <a:off x="5724360" y="1700280"/>
            <a:ext cx="2016360" cy="1873080"/>
          </a:xfrm>
          <a:prstGeom prst="rect">
            <a:avLst/>
          </a:prstGeom>
          <a:solidFill>
            <a:srgbClr val="fa8d3d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1187280" y="1116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6156360" y="1116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6"/>
          <p:cNvSpPr/>
          <p:nvPr/>
        </p:nvSpPr>
        <p:spPr>
          <a:xfrm>
            <a:off x="378000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1187280" y="3860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 = 4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   b= 12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1025640" y="4581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P=(a+b)∙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9"/>
          <p:cNvSpPr/>
          <p:nvPr/>
        </p:nvSpPr>
        <p:spPr>
          <a:xfrm>
            <a:off x="5759280" y="450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=a∙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10"/>
          <p:cNvSpPr/>
          <p:nvPr/>
        </p:nvSpPr>
        <p:spPr>
          <a:xfrm>
            <a:off x="395280" y="530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Р = (4+12)∙2=32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4859280" y="5300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Р = 4∙4=1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089920" cy="100044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2671920" y="981000"/>
            <a:ext cx="3840120" cy="792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9 и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2676600" y="1960560"/>
            <a:ext cx="3840120" cy="892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40 и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7"/>
          <p:cNvSpPr/>
          <p:nvPr/>
        </p:nvSpPr>
        <p:spPr>
          <a:xfrm>
            <a:off x="2682720" y="3141720"/>
            <a:ext cx="384048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3 и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2682720" y="4292640"/>
            <a:ext cx="384048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0 и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2671920" y="5408640"/>
            <a:ext cx="38401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50 и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10" descr="C:\Documents and Settings\Пользователь\Local Settings\Temporary Internet Files\Content.IE5\BJAM0DKJ\MC900344513[1].wmf"/>
          <p:cNvPicPr/>
          <p:nvPr/>
        </p:nvPicPr>
        <p:blipFill>
          <a:blip r:embed="rId2"/>
          <a:stretch/>
        </p:blipFill>
        <p:spPr>
          <a:xfrm>
            <a:off x="179280" y="90792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C:\Documents and Settings\Пользователь\Local Settings\Temporary Internet Files\Content.IE5\BJAM0DKJ\MC900344513[1].wmf"/>
          <p:cNvPicPr/>
          <p:nvPr/>
        </p:nvPicPr>
        <p:blipFill>
          <a:blip r:embed="rId3"/>
          <a:stretch/>
        </p:blipFill>
        <p:spPr>
          <a:xfrm>
            <a:off x="179280" y="1916280"/>
            <a:ext cx="1420920" cy="968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Пользователь\Local Settings\Temporary Internet Files\Content.IE5\BJAM0DKJ\MC900344513[1].wmf"/>
          <p:cNvPicPr/>
          <p:nvPr/>
        </p:nvPicPr>
        <p:blipFill>
          <a:blip r:embed="rId4"/>
          <a:stretch/>
        </p:blipFill>
        <p:spPr>
          <a:xfrm>
            <a:off x="324000" y="3141720"/>
            <a:ext cx="1419120" cy="966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C:\Documents and Settings\Пользователь\Local Settings\Temporary Internet Files\Content.IE5\BJAM0DKJ\MC900344513[1].wmf"/>
          <p:cNvPicPr/>
          <p:nvPr/>
        </p:nvPicPr>
        <p:blipFill>
          <a:blip r:embed="rId5"/>
          <a:stretch/>
        </p:blipFill>
        <p:spPr>
          <a:xfrm>
            <a:off x="250920" y="443700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C:\Documents and Settings\Пользователь\Local Settings\Temporary Internet Files\Content.IE5\BJAM0DKJ\MC900344513[1].wmf"/>
          <p:cNvPicPr/>
          <p:nvPr/>
        </p:nvPicPr>
        <p:blipFill>
          <a:blip r:embed="rId6"/>
          <a:stretch/>
        </p:blipFill>
        <p:spPr>
          <a:xfrm>
            <a:off x="395280" y="566100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:\Documents and Settings\Пользователь\Local Settings\Temporary Internet Files\Content.IE5\BJAM0DKJ\MC900344513[1].wmf"/>
          <p:cNvPicPr/>
          <p:nvPr/>
        </p:nvPicPr>
        <p:blipFill>
          <a:blip r:embed="rId7"/>
          <a:stretch/>
        </p:blipFill>
        <p:spPr>
          <a:xfrm>
            <a:off x="7164360" y="765000"/>
            <a:ext cx="1419120" cy="966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C:\Documents and Settings\Пользователь\Local Settings\Temporary Internet Files\Content.IE5\BJAM0DKJ\MC900344513[1].wmf"/>
          <p:cNvPicPr/>
          <p:nvPr/>
        </p:nvPicPr>
        <p:blipFill>
          <a:blip r:embed="rId8"/>
          <a:stretch/>
        </p:blipFill>
        <p:spPr>
          <a:xfrm>
            <a:off x="7164360" y="1844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C:\Documents and Settings\Пользователь\Local Settings\Temporary Internet Files\Content.IE5\BJAM0DKJ\MC900344513[1].wmf"/>
          <p:cNvPicPr/>
          <p:nvPr/>
        </p:nvPicPr>
        <p:blipFill>
          <a:blip r:embed="rId9"/>
          <a:stretch/>
        </p:blipFill>
        <p:spPr>
          <a:xfrm>
            <a:off x="7308720" y="3141720"/>
            <a:ext cx="1419480" cy="966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C:\Documents and Settings\Пользователь\Local Settings\Temporary Internet Files\Content.IE5\BJAM0DKJ\MC900344513[1].wmf"/>
          <p:cNvPicPr/>
          <p:nvPr/>
        </p:nvPicPr>
        <p:blipFill>
          <a:blip r:embed="rId10"/>
          <a:stretch/>
        </p:blipFill>
        <p:spPr>
          <a:xfrm>
            <a:off x="7308720" y="4292640"/>
            <a:ext cx="1419480" cy="968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C:\Documents and Settings\Пользователь\Local Settings\Temporary Internet Files\Content.IE5\BJAM0DKJ\MC900344513[1].wmf"/>
          <p:cNvPicPr/>
          <p:nvPr/>
        </p:nvPicPr>
        <p:blipFill>
          <a:blip r:embed="rId11"/>
          <a:stretch/>
        </p:blipFill>
        <p:spPr>
          <a:xfrm>
            <a:off x="7451640" y="5516640"/>
            <a:ext cx="1420920" cy="96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Пользователь\Local Settings\Temporary Internet Files\Content.IE5\BJAM0DKJ\MC900344513[1].wmf"/>
          <p:cNvPicPr/>
          <p:nvPr/>
        </p:nvPicPr>
        <p:blipFill>
          <a:blip r:embed="rId1"/>
          <a:stretch/>
        </p:blipFill>
        <p:spPr>
          <a:xfrm>
            <a:off x="395280" y="40464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C:\Documents and Settings\Пользователь\Local Settings\Temporary Internet Files\Content.IE5\BJAM0DKJ\MC900344513[1].wmf"/>
          <p:cNvPicPr/>
          <p:nvPr/>
        </p:nvPicPr>
        <p:blipFill>
          <a:blip r:embed="rId2"/>
          <a:stretch/>
        </p:blipFill>
        <p:spPr>
          <a:xfrm>
            <a:off x="324000" y="1844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C:\Documents and Settings\Пользователь\Local Settings\Temporary Internet Files\Content.IE5\BJAM0DKJ\MC900344513[1].wmf"/>
          <p:cNvPicPr/>
          <p:nvPr/>
        </p:nvPicPr>
        <p:blipFill>
          <a:blip r:embed="rId3"/>
          <a:stretch/>
        </p:blipFill>
        <p:spPr>
          <a:xfrm>
            <a:off x="395280" y="328464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Documents and Settings\Пользователь\Local Settings\Temporary Internet Files\Content.IE5\BJAM0DKJ\MC900344513[1].wmf"/>
          <p:cNvPicPr/>
          <p:nvPr/>
        </p:nvPicPr>
        <p:blipFill>
          <a:blip r:embed="rId4"/>
          <a:stretch/>
        </p:blipFill>
        <p:spPr>
          <a:xfrm>
            <a:off x="324000" y="486900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Documents and Settings\Пользователь\Local Settings\Temporary Internet Files\Content.IE5\BJAM0DKJ\MC900344513[1].wmf"/>
          <p:cNvPicPr/>
          <p:nvPr/>
        </p:nvPicPr>
        <p:blipFill>
          <a:blip r:embed="rId5"/>
          <a:stretch/>
        </p:blipFill>
        <p:spPr>
          <a:xfrm>
            <a:off x="4067280" y="5589720"/>
            <a:ext cx="1420560" cy="966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:\Documents and Settings\Пользователь\Local Settings\Temporary Internet Files\Content.IE5\BJAM0DKJ\MC900344513[1].wmf"/>
          <p:cNvPicPr/>
          <p:nvPr/>
        </p:nvPicPr>
        <p:blipFill>
          <a:blip r:embed="rId6"/>
          <a:stretch/>
        </p:blipFill>
        <p:spPr>
          <a:xfrm>
            <a:off x="1547640" y="5589720"/>
            <a:ext cx="1419480" cy="966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:\Documents and Settings\Пользователь\Local Settings\Temporary Internet Files\Content.IE5\BJAM0DKJ\MC900344513[1].wmf"/>
          <p:cNvPicPr/>
          <p:nvPr/>
        </p:nvPicPr>
        <p:blipFill>
          <a:blip r:embed="rId7"/>
          <a:stretch/>
        </p:blipFill>
        <p:spPr>
          <a:xfrm>
            <a:off x="7093080" y="333360"/>
            <a:ext cx="1419120" cy="966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C:\Documents and Settings\Пользователь\Local Settings\Temporary Internet Files\Content.IE5\BJAM0DKJ\MC900344513[1].wmf"/>
          <p:cNvPicPr/>
          <p:nvPr/>
        </p:nvPicPr>
        <p:blipFill>
          <a:blip r:embed="rId8"/>
          <a:stretch/>
        </p:blipFill>
        <p:spPr>
          <a:xfrm>
            <a:off x="7093080" y="1844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:\Documents and Settings\Пользователь\Local Settings\Temporary Internet Files\Content.IE5\BJAM0DKJ\MC900344513[1].wmf"/>
          <p:cNvPicPr/>
          <p:nvPr/>
        </p:nvPicPr>
        <p:blipFill>
          <a:blip r:embed="rId9"/>
          <a:stretch/>
        </p:blipFill>
        <p:spPr>
          <a:xfrm>
            <a:off x="7093080" y="4508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C:\Documents and Settings\Пользователь\Local Settings\Temporary Internet Files\Content.IE5\BJAM0DKJ\MC900344513[1].wmf"/>
          <p:cNvPicPr/>
          <p:nvPr/>
        </p:nvPicPr>
        <p:blipFill>
          <a:blip r:embed="rId10"/>
          <a:stretch/>
        </p:blipFill>
        <p:spPr>
          <a:xfrm>
            <a:off x="6948360" y="321300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Пользователь\Local Settings\Temporary Internet Files\Content.IE5\BJAM0DKJ\MC900344513[1].wmf"/>
          <p:cNvPicPr/>
          <p:nvPr/>
        </p:nvPicPr>
        <p:blipFill>
          <a:blip r:embed="rId11"/>
          <a:stretch/>
        </p:blipFill>
        <p:spPr>
          <a:xfrm>
            <a:off x="6443640" y="5516640"/>
            <a:ext cx="1420920" cy="9684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9"/>
          <p:cNvSpPr/>
          <p:nvPr/>
        </p:nvSpPr>
        <p:spPr>
          <a:xfrm>
            <a:off x="2500200" y="476280"/>
            <a:ext cx="4176720" cy="9367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00 и 3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20"/>
          <p:cNvSpPr/>
          <p:nvPr/>
        </p:nvSpPr>
        <p:spPr>
          <a:xfrm>
            <a:off x="2500200" y="1844640"/>
            <a:ext cx="4176720" cy="936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90 и 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1"/>
          <p:cNvSpPr/>
          <p:nvPr/>
        </p:nvSpPr>
        <p:spPr>
          <a:xfrm>
            <a:off x="2500200" y="3213000"/>
            <a:ext cx="4176720" cy="9367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8 и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2"/>
          <p:cNvSpPr/>
          <p:nvPr/>
        </p:nvSpPr>
        <p:spPr>
          <a:xfrm>
            <a:off x="2492280" y="4581360"/>
            <a:ext cx="4176720" cy="93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7 и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55640" y="620640"/>
            <a:ext cx="295272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9 : 13 =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755640" y="1916280"/>
            <a:ext cx="29527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40 : 40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755640" y="3068640"/>
            <a:ext cx="2952720" cy="8650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3 – 14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755640" y="4292640"/>
            <a:ext cx="29527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0 : 5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755640" y="5516640"/>
            <a:ext cx="29527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50 : 10 =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5364000" y="1125360"/>
            <a:ext cx="2953080" cy="86364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00 – 382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5364000" y="2637000"/>
            <a:ext cx="2953080" cy="8632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90 – 69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364000" y="4221000"/>
            <a:ext cx="2953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8 + 9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5364000" y="5516640"/>
            <a:ext cx="2953080" cy="865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7 ∙ 2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187280" y="1392120"/>
            <a:ext cx="2232360" cy="1657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Трапеция 2"/>
          <p:cNvSpPr/>
          <p:nvPr/>
        </p:nvSpPr>
        <p:spPr>
          <a:xfrm>
            <a:off x="657360" y="4149720"/>
            <a:ext cx="1657080" cy="1295280"/>
          </a:xfrm>
          <a:prstGeom prst="pie">
            <a:avLst/>
          </a:prstGeom>
          <a:solidFill>
            <a:srgbClr val="ff000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араллелограмм 3"/>
          <p:cNvSpPr/>
          <p:nvPr/>
        </p:nvSpPr>
        <p:spPr>
          <a:xfrm>
            <a:off x="3098880" y="4581360"/>
            <a:ext cx="1728720" cy="1584360"/>
          </a:xfrm>
          <a:prstGeom prst="parallelogram">
            <a:avLst>
              <a:gd name="adj" fmla="val 25000"/>
            </a:avLst>
          </a:prstGeom>
          <a:solidFill>
            <a:srgbClr val="d788a3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авильный пятиугольник 4"/>
          <p:cNvSpPr/>
          <p:nvPr/>
        </p:nvSpPr>
        <p:spPr>
          <a:xfrm>
            <a:off x="6561000" y="457200"/>
            <a:ext cx="2089440" cy="1871640"/>
          </a:xfrm>
          <a:prstGeom prst="pentagon">
            <a:avLst/>
          </a:prstGeom>
          <a:solidFill>
            <a:srgbClr val="00b0f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Ромб 5"/>
          <p:cNvSpPr/>
          <p:nvPr/>
        </p:nvSpPr>
        <p:spPr>
          <a:xfrm>
            <a:off x="4400640" y="1717560"/>
            <a:ext cx="2160360" cy="2519640"/>
          </a:xfrm>
          <a:prstGeom prst="diamond">
            <a:avLst/>
          </a:prstGeom>
          <a:solidFill>
            <a:srgbClr val="e36406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Alien_6"/>
          <p:cNvPicPr/>
          <p:nvPr/>
        </p:nvPicPr>
        <p:blipFill>
          <a:blip r:embed="rId1"/>
          <a:stretch/>
        </p:blipFill>
        <p:spPr>
          <a:xfrm>
            <a:off x="7048440" y="3121200"/>
            <a:ext cx="2013120" cy="3352680"/>
          </a:xfrm>
          <a:prstGeom prst="rect">
            <a:avLst/>
          </a:prstGeom>
          <a:ln w="0">
            <a:noFill/>
          </a:ln>
        </p:spPr>
      </p:pic>
      <p:pic>
        <p:nvPicPr>
          <p:cNvPr id="366" name="Заголовок 7" descr=""/>
          <p:cNvPicPr/>
          <p:nvPr/>
        </p:nvPicPr>
        <p:blipFill>
          <a:blip r:embed="rId2"/>
          <a:stretch/>
        </p:blipFill>
        <p:spPr>
          <a:xfrm>
            <a:off x="-371520" y="268200"/>
            <a:ext cx="8607600" cy="1158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Documents and Settings\Пользователь\Local Settings\Temporary Internet Files\Content.IE5\BJAM0DKJ\MC900344485[1].wmf"/>
          <p:cNvPicPr/>
          <p:nvPr/>
        </p:nvPicPr>
        <p:blipFill>
          <a:blip r:embed="rId3"/>
          <a:stretch/>
        </p:blipFill>
        <p:spPr>
          <a:xfrm>
            <a:off x="5940360" y="5478480"/>
            <a:ext cx="1811520" cy="1461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1486080" y="589104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Пользователь\Local Settings\Temporary Internet Files\Content.IE5\E9262TSG\MC900344513[1].wmf"/>
          <p:cNvPicPr/>
          <p:nvPr/>
        </p:nvPicPr>
        <p:blipFill>
          <a:blip r:embed="rId5"/>
          <a:stretch/>
        </p:blipFill>
        <p:spPr>
          <a:xfrm>
            <a:off x="-157320" y="589104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Documents and Settings\Пользователь\Local Settings\Temporary Internet Files\Content.IE5\E9262TSG\MC900344513[1].wmf"/>
          <p:cNvPicPr/>
          <p:nvPr/>
        </p:nvPicPr>
        <p:blipFill>
          <a:blip r:embed="rId6"/>
          <a:stretch/>
        </p:blipFill>
        <p:spPr>
          <a:xfrm>
            <a:off x="4089240" y="5891040"/>
            <a:ext cx="141948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3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39640" y="4869000"/>
            <a:ext cx="74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Четырехугольник, у которого все углы прям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187280" y="2492280"/>
            <a:ext cx="5113440" cy="1944720"/>
          </a:xfrm>
          <a:prstGeom prst="rect">
            <a:avLst/>
          </a:prstGeom>
          <a:solidFill>
            <a:srgbClr val="007635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5" descr="Alien_6"/>
          <p:cNvPicPr/>
          <p:nvPr/>
        </p:nvPicPr>
        <p:blipFill>
          <a:blip r:embed="rId2"/>
          <a:stretch/>
        </p:blipFill>
        <p:spPr>
          <a:xfrm>
            <a:off x="6875640" y="1515960"/>
            <a:ext cx="2012760" cy="3353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Пользователь\Local Settings\Temporary Internet Files\Content.IE5\E9262TSG\MC900344513[1].wmf"/>
          <p:cNvPicPr/>
          <p:nvPr/>
        </p:nvPicPr>
        <p:blipFill>
          <a:blip r:embed="rId3"/>
          <a:stretch/>
        </p:blipFill>
        <p:spPr>
          <a:xfrm>
            <a:off x="6456240" y="443700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7527960" y="4846680"/>
            <a:ext cx="141912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5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7255080" cy="138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257200" cy="20368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 flipH="1">
            <a:off x="4284000" y="17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rebuchet MS"/>
              </a:rPr>
              <a:t>P = 4</a:t>
            </a:r>
            <a:r>
              <a:rPr b="1" lang="ru-RU" sz="5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rebuchet MS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5"/>
          <p:cNvSpPr/>
          <p:nvPr/>
        </p:nvSpPr>
        <p:spPr>
          <a:xfrm>
            <a:off x="468360" y="393372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rebuchet MS"/>
              </a:rPr>
              <a:t>Квадрат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- прямоугольник,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у которого все стороны равны и углы прямые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28680" y="304920"/>
            <a:ext cx="7547040" cy="1225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944880" cy="2376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4"/>
          <p:cNvSpPr/>
          <p:nvPr/>
        </p:nvSpPr>
        <p:spPr>
          <a:xfrm>
            <a:off x="4572000" y="177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0f17"/>
                </a:solidFill>
                <a:latin typeface="Trebuchet MS"/>
              </a:rPr>
              <a:t>Р = 2 </a:t>
            </a:r>
            <a:r>
              <a:rPr b="1" lang="en-US" sz="36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10f17"/>
                </a:solidFill>
                <a:latin typeface="Trebuchet MS"/>
              </a:rPr>
              <a:t>( а + </a:t>
            </a:r>
            <a:r>
              <a:rPr b="1" lang="en-US" sz="3600" spc="-1" strike="noStrike">
                <a:solidFill>
                  <a:srgbClr val="210f17"/>
                </a:solidFill>
                <a:latin typeface="Trebuchet MS"/>
              </a:rPr>
              <a:t>b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5"/>
          <p:cNvSpPr/>
          <p:nvPr/>
        </p:nvSpPr>
        <p:spPr>
          <a:xfrm>
            <a:off x="684360" y="414972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Прямоугольник</a:t>
            </a: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- четырехугольник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у которого противоположные стороны равны и все угл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пря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 rot="1867800">
            <a:off x="363240" y="2370240"/>
            <a:ext cx="3889440" cy="165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2"/>
          <p:cNvSpPr/>
          <p:nvPr/>
        </p:nvSpPr>
        <p:spPr>
          <a:xfrm rot="1698600">
            <a:off x="6010200" y="2155680"/>
            <a:ext cx="2124000" cy="201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5" descr="Alien_6"/>
          <p:cNvPicPr/>
          <p:nvPr/>
        </p:nvPicPr>
        <p:blipFill>
          <a:blip r:embed="rId1"/>
          <a:stretch/>
        </p:blipFill>
        <p:spPr>
          <a:xfrm>
            <a:off x="3908520" y="3540240"/>
            <a:ext cx="2012760" cy="33526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6"/>
          <p:cNvSpPr/>
          <p:nvPr/>
        </p:nvSpPr>
        <p:spPr>
          <a:xfrm>
            <a:off x="250920" y="6660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ямоуголь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5657760" y="666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libri"/>
              </a:rPr>
              <a:t>квадра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C:\Documents and Settings\Пользователь\Local Settings\Temporary Internet Files\Content.IE5\4LK10RT2\MC900344463[1].wmf"/>
          <p:cNvPicPr/>
          <p:nvPr/>
        </p:nvPicPr>
        <p:blipFill>
          <a:blip r:embed="rId2"/>
          <a:stretch/>
        </p:blipFill>
        <p:spPr>
          <a:xfrm>
            <a:off x="3240" y="5021280"/>
            <a:ext cx="1344600" cy="1822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Documents and Settings\Пользователь\Local Settings\Temporary Internet Files\Content.IE5\E9262TSG\MC900344513[1].wmf"/>
          <p:cNvPicPr/>
          <p:nvPr/>
        </p:nvPicPr>
        <p:blipFill>
          <a:blip r:embed="rId3"/>
          <a:stretch/>
        </p:blipFill>
        <p:spPr>
          <a:xfrm>
            <a:off x="1967040" y="4950000"/>
            <a:ext cx="1420560" cy="966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5921280" y="4521240"/>
            <a:ext cx="1419480" cy="966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C:\Documents and Settings\Пользователь\Local Settings\Temporary Internet Files\Content.IE5\E9262TSG\MC900344513[1].wmf"/>
          <p:cNvPicPr/>
          <p:nvPr/>
        </p:nvPicPr>
        <p:blipFill>
          <a:blip r:embed="rId5"/>
          <a:stretch/>
        </p:blipFill>
        <p:spPr>
          <a:xfrm>
            <a:off x="2843280" y="584820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Documents and Settings\Пользователь\Local Settings\Temporary Internet Files\Content.IE5\E9262TSG\MC900344513[1].wmf"/>
          <p:cNvPicPr/>
          <p:nvPr/>
        </p:nvPicPr>
        <p:blipFill>
          <a:blip r:embed="rId6"/>
          <a:stretch/>
        </p:blipFill>
        <p:spPr>
          <a:xfrm>
            <a:off x="5505480" y="582768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Пользователь\Local Settings\Temporary Internet Files\Content.IE5\E9262TSG\MC900344513[1].wmf"/>
          <p:cNvPicPr/>
          <p:nvPr/>
        </p:nvPicPr>
        <p:blipFill>
          <a:blip r:embed="rId7"/>
          <a:stretch/>
        </p:blipFill>
        <p:spPr>
          <a:xfrm>
            <a:off x="7775640" y="582768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Documents and Settings\Пользователь\Local Settings\Temporary Internet Files\Content.IE5\4LK10RT2\MC900344463[1].wmf"/>
          <p:cNvPicPr/>
          <p:nvPr/>
        </p:nvPicPr>
        <p:blipFill>
          <a:blip r:embed="rId8"/>
          <a:stretch/>
        </p:blipFill>
        <p:spPr>
          <a:xfrm>
            <a:off x="6954840" y="4971960"/>
            <a:ext cx="1344600" cy="1824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:\Documents and Settings\Пользователь\Local Settings\Temporary Internet Files\Content.IE5\BJAM0DKJ\MC900344485[1].wmf"/>
          <p:cNvPicPr/>
          <p:nvPr/>
        </p:nvPicPr>
        <p:blipFill>
          <a:blip r:embed="rId9"/>
          <a:stretch/>
        </p:blipFill>
        <p:spPr>
          <a:xfrm>
            <a:off x="1135080" y="5487840"/>
            <a:ext cx="181296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0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Марина</cp:lastModifiedBy>
  <dcterms:modified xsi:type="dcterms:W3CDTF">2015-01-26T12:33:57Z</dcterms:modified>
  <cp:revision>58</cp:revision>
  <dc:subject/>
  <dc:title>Презентация PowerPoint</dc:title>
</cp:coreProperties>
</file>