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6.png" ContentType="image/png"/>
  <Override PartName="/ppt/media/chimes.wav" ContentType="audio/x-wav"/>
  <Override PartName="/ppt/media/image14.wmf" ContentType="image/x-wmf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9BD-01E6-49A3-BB3F-F799AAABE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2032-27E1-468B-982F-F5F2F0E176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6119-D610-4982-8C75-71D0B73813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7FA-FE85-4D36-9BFD-54FD3F78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D81-BD31-4846-8C9E-40B482D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EF7-CD32-49E9-8A2E-96F43FA3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D16-A886-4BC3-94BA-0BCC7A3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B9B2-7E4B-48EB-A59C-B13C2ABE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B68-DECA-4F66-97B3-FD90EEDF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546-BB81-4575-9DA1-DDD267C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2489-917F-4C5F-82C8-0EB0ACC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7CA-CBAF-45A0-B839-7124F9F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8BE9-F21C-4B70-A127-57EA793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100-0301-48AE-93FB-497514D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258-A019-417C-BF7D-DF96B8F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0ACF-9F36-4A5B-8AE1-9BB8AE2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CD2-9885-4619-9BF6-C65A26A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59BE-397A-4735-91CA-4F8E3003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572-E494-4DF2-B185-DE29F3A2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85C2-8355-4DC3-97BE-2623E26C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78FD-F269-4239-A77E-537051F2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05F7-817D-4E9E-A568-98318F1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C81E-D0A4-430F-83ED-563DD4B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5E84-9C4D-445B-8573-5A978D50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5D3D-7486-41C8-8899-0FC860DF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AC9-66B9-455C-AB1F-838FE91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D628-0A5E-449C-8EEF-6FD0C57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129D-AB0C-4B6E-8397-D0A3E80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D69E-04DB-4C97-9D9B-A664FD0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7244-0559-46EE-AA79-D1699E3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2F19-A742-48BA-861F-33E2EEDA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A4F6-01C9-45AC-B242-FDDE5F4B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4CFD-FE44-4731-891E-02F6E8DE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34B5-9322-44DE-B256-FC857E3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0B0BB-5093-446A-990B-A1FCA89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5A39-84BE-4951-BDC8-D463B9A7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36-9D25-4951-96BD-391A26C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CE5C-46A0-46C9-ADA5-52863FB7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E523-38BC-41AE-987D-C0FE747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C4BA-A220-411D-9843-3A32DD71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B02E-2DB6-451B-83CC-2561C8E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8301-7875-415A-9157-9048A3B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9A68-E82F-4816-AF14-E443F3C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D791-3292-4F92-8B8F-F34B9B08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BCD1-0E5C-4E1E-8C41-B8F12533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08EE-44C0-416D-A316-2B331E09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3056-B2C7-40D1-B1DB-E387EEFD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4B3-F654-471B-850B-92021536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2C0F4-AE61-4F8D-AD3B-91B1226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7260-6F97-4E74-BF22-8B13B45B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57FD-A822-46C6-AAEC-901EB32B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0E34-1A58-4060-9F02-9FF1FAE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3941-434B-4D83-9EC0-67217F7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3D72-560F-46AC-93B5-A052408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D97C-08A6-40E1-A6BF-2DEB23E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7970-D0C3-4F32-A625-F7813573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E0D8-A19A-49A7-B225-EAC2B5A1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6A3A-882E-4360-9A08-66AB879D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FF7-E2F7-405D-B6E2-20675ADC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A8C5-954B-4548-B5F8-973033E5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CF21-0D22-4702-86B1-1FFCBC35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242D-F3FE-468D-9839-A6C634B3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AB15-64CC-4EE4-8D15-0449518F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8ED6-B01C-4380-8A84-3DF743D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340C-96D8-48F0-879E-DBC46D7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862B-FB61-47D6-8F13-EBB8713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E727-81F3-4592-8AA6-84EDCC98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4A5B-0718-4AAC-B31B-A0BC3B1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9A3B-20BC-4814-8197-947749B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586-83BE-4AB2-B0DD-9562CE7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DAA0F-A41C-4B4A-9C0A-8D86F558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D2957-6A1B-4507-95D0-7456F4A2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2429-5B4D-44A6-B02E-4F47B75E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7B92-F886-437C-90F6-08CF0C03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FD76-9A52-476C-AFF6-71B56F4B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A0D4-2F5B-4486-B59E-758C452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FCCE-290C-48EA-9EDF-773A929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5941-E492-457B-A39D-B80607B8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325B-CFAF-4F2E-8DB4-BF17CF99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C2E2-150E-48B2-A65C-CC49FEA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C05-F81E-465D-B247-7A239C8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2D87-7646-4AF4-9F3B-98C5D6B7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4DE1-7164-4A51-8AD4-3A79B96E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1C956-601C-43E5-90B8-C32840E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EA18-50AE-479D-9AFD-D188E03E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19FD-FEFC-4522-A852-06E6939F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2C2-B1F3-40E2-8A2E-5F07F48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DB5-5C99-4430-9A33-EA8351D755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230-6C1C-4517-B451-F2D50877914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71DD-72A6-4190-9DD7-123F227B9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2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07CE-012C-4557-905F-D0B50DA6E17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55BC-B58B-4112-BD2D-C15673664D6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C00-42B8-438A-A347-1103F811389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693-68F9-4A8C-8857-7BEE730D313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8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8.wm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7" descr="Kartinochki (15)"/>
          <p:cNvPicPr/>
          <p:nvPr/>
        </p:nvPicPr>
        <p:blipFill>
          <a:blip r:embed="rId1"/>
          <a:stretch/>
        </p:blipFill>
        <p:spPr>
          <a:xfrm>
            <a:off x="684360" y="1844640"/>
            <a:ext cx="1481040" cy="295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Alien_6"/>
          <p:cNvPicPr/>
          <p:nvPr/>
        </p:nvPicPr>
        <p:blipFill>
          <a:blip r:embed="rId2"/>
          <a:stretch/>
        </p:blipFill>
        <p:spPr>
          <a:xfrm>
            <a:off x="6804000" y="2781360"/>
            <a:ext cx="2013120" cy="3352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5148360" y="58960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6443640" y="583416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7748640" y="586728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2903400" y="586728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4067280" y="589104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2124000" y="589104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1042920" y="58910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-149400" y="5862600"/>
            <a:ext cx="1419480" cy="96696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2"/>
          <p:cNvSpPr/>
          <p:nvPr/>
        </p:nvSpPr>
        <p:spPr>
          <a:xfrm>
            <a:off x="2340000" y="333360"/>
            <a:ext cx="559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атематику,  друзья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чень строгая наука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чень точная наука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тересная наука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о математика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1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Alien_6"/>
          <p:cNvPicPr/>
          <p:nvPr/>
        </p:nvPicPr>
        <p:blipFill>
          <a:blip r:embed="rId1"/>
          <a:stretch/>
        </p:blipFill>
        <p:spPr>
          <a:xfrm>
            <a:off x="7405560" y="2725560"/>
            <a:ext cx="2013120" cy="33530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2"/>
          <p:cNvSpPr/>
          <p:nvPr/>
        </p:nvSpPr>
        <p:spPr>
          <a:xfrm>
            <a:off x="826920" y="981000"/>
            <a:ext cx="3889440" cy="2952720"/>
          </a:xfrm>
          <a:prstGeom prst="rect">
            <a:avLst/>
          </a:prstGeom>
          <a:solidFill>
            <a:srgbClr val="b5cee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4"/>
          <p:cNvSpPr/>
          <p:nvPr/>
        </p:nvSpPr>
        <p:spPr>
          <a:xfrm>
            <a:off x="1835280" y="98100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Овальная выноска 6"/>
          <p:cNvSpPr/>
          <p:nvPr/>
        </p:nvSpPr>
        <p:spPr>
          <a:xfrm>
            <a:off x="5508720" y="476280"/>
            <a:ext cx="3311280" cy="2844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5796000" y="1341360"/>
            <a:ext cx="326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прямоугольн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вадра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3" descr="C:\Documents and Settings\Пользователь\Local Settings\Temporary Internet Files\Content.IE5\4LK10RT2\MC900344463[1].wmf"/>
          <p:cNvPicPr/>
          <p:nvPr/>
        </p:nvPicPr>
        <p:blipFill>
          <a:blip r:embed="rId2"/>
          <a:stretch/>
        </p:blipFill>
        <p:spPr>
          <a:xfrm>
            <a:off x="6912000" y="5033880"/>
            <a:ext cx="1343160" cy="1824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2916360" y="58532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7545240" y="592920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5743440" y="585324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-181080" y="58910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C:\Documents and Settings\Пользователь\Local Settings\Temporary Internet Files\Content.IE5\BJAM0DKJ\MC900344485[1].wmf"/>
          <p:cNvPicPr/>
          <p:nvPr/>
        </p:nvPicPr>
        <p:blipFill>
          <a:blip r:embed="rId7"/>
          <a:stretch/>
        </p:blipFill>
        <p:spPr>
          <a:xfrm>
            <a:off x="1227240" y="5451480"/>
            <a:ext cx="1812960" cy="1461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Пользователь\Local Settings\Temporary Internet Files\Content.IE5\BJAM0DKJ\MC900344485[1].wmf"/>
          <p:cNvPicPr/>
          <p:nvPr/>
        </p:nvPicPr>
        <p:blipFill>
          <a:blip r:embed="rId8"/>
          <a:stretch/>
        </p:blipFill>
        <p:spPr>
          <a:xfrm>
            <a:off x="4211640" y="5451480"/>
            <a:ext cx="181296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Таблица 1" descr=""/>
          <p:cNvPicPr/>
          <p:nvPr/>
        </p:nvPicPr>
        <p:blipFill>
          <a:blip r:embed="rId1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Alien_6"/>
          <p:cNvPicPr/>
          <p:nvPr/>
        </p:nvPicPr>
        <p:blipFill>
          <a:blip r:embed="rId2"/>
          <a:stretch/>
        </p:blipFill>
        <p:spPr>
          <a:xfrm>
            <a:off x="7048440" y="3121200"/>
            <a:ext cx="2013120" cy="3352680"/>
          </a:xfrm>
          <a:prstGeom prst="rect">
            <a:avLst/>
          </a:prstGeom>
          <a:ln w="0">
            <a:noFill/>
          </a:ln>
        </p:spPr>
      </p:pic>
      <p:sp>
        <p:nvSpPr>
          <p:cNvPr id="412" name="Овальная выноска 3"/>
          <p:cNvSpPr/>
          <p:nvPr/>
        </p:nvSpPr>
        <p:spPr>
          <a:xfrm>
            <a:off x="6227640" y="692280"/>
            <a:ext cx="2916360" cy="259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Сколько квадра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7013520" y="8109000"/>
          <a:ext cx="576360" cy="2376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414" name="Таблица 10" descr=""/>
          <p:cNvPicPr/>
          <p:nvPr/>
        </p:nvPicPr>
        <p:blipFill>
          <a:blip r:embed="rId3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5" name="Таблица 11" descr=""/>
          <p:cNvPicPr/>
          <p:nvPr/>
        </p:nvPicPr>
        <p:blipFill>
          <a:blip r:embed="rId4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1258920" y="1405080"/>
          <a:ext cx="3746520" cy="3760560"/>
        </p:xfrm>
        <a:graphic>
          <a:graphicData uri="http://schemas.openxmlformats.org/drawingml/2006/table">
            <a:tbl>
              <a:tblPr/>
              <a:tblGrid>
                <a:gridCol w="1249200"/>
                <a:gridCol w="1247760"/>
                <a:gridCol w="124956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258920" y="1405080"/>
          <a:ext cx="3746520" cy="3760560"/>
        </p:xfrm>
        <a:graphic>
          <a:graphicData uri="http://schemas.openxmlformats.org/drawingml/2006/table">
            <a:tbl>
              <a:tblPr/>
              <a:tblGrid>
                <a:gridCol w="1224000"/>
                <a:gridCol w="1272960"/>
                <a:gridCol w="124956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</a:tr>
            </a:tbl>
          </a:graphicData>
        </a:graphic>
      </p:graphicFrame>
      <p:pic>
        <p:nvPicPr>
          <p:cNvPr id="418" name="Таблица 14" descr=""/>
          <p:cNvPicPr/>
          <p:nvPr/>
        </p:nvPicPr>
        <p:blipFill>
          <a:blip r:embed="rId5"/>
          <a:stretch/>
        </p:blipFill>
        <p:spPr>
          <a:xfrm>
            <a:off x="1189080" y="1328760"/>
            <a:ext cx="3889440" cy="3908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Пользователь\Local Settings\Temporary Internet Files\Content.IE5\BJAM0DKJ\MC900344485[1].wmf"/>
          <p:cNvPicPr/>
          <p:nvPr/>
        </p:nvPicPr>
        <p:blipFill>
          <a:blip r:embed="rId6"/>
          <a:stretch/>
        </p:blipFill>
        <p:spPr>
          <a:xfrm>
            <a:off x="5264280" y="5448240"/>
            <a:ext cx="1811160" cy="1463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Пользователь\Local Settings\Temporary Internet Files\Content.IE5\E9262TSG\MC900344513[1].wmf"/>
          <p:cNvPicPr/>
          <p:nvPr/>
        </p:nvPicPr>
        <p:blipFill>
          <a:blip r:embed="rId7"/>
          <a:stretch/>
        </p:blipFill>
        <p:spPr>
          <a:xfrm>
            <a:off x="2987640" y="586728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Пользователь\Local Settings\Temporary Internet Files\Content.IE5\E9262TSG\MC900344513[1].wmf"/>
          <p:cNvPicPr/>
          <p:nvPr/>
        </p:nvPicPr>
        <p:blipFill>
          <a:blip r:embed="rId8"/>
          <a:stretch/>
        </p:blipFill>
        <p:spPr>
          <a:xfrm>
            <a:off x="6875640" y="5867280"/>
            <a:ext cx="1420560" cy="968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C:\Documents and Settings\Пользователь\Local Settings\Temporary Internet Files\Content.IE5\E9262TSG\MC900344513[1].wmf"/>
          <p:cNvPicPr/>
          <p:nvPr/>
        </p:nvPicPr>
        <p:blipFill>
          <a:blip r:embed="rId9"/>
          <a:stretch/>
        </p:blipFill>
        <p:spPr>
          <a:xfrm>
            <a:off x="4067280" y="588636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Documents and Settings\Пользователь\Local Settings\Temporary Internet Files\Content.IE5\E9262TSG\MC900344513[1].wmf"/>
          <p:cNvPicPr/>
          <p:nvPr/>
        </p:nvPicPr>
        <p:blipFill>
          <a:blip r:embed="rId10"/>
          <a:stretch/>
        </p:blipFill>
        <p:spPr>
          <a:xfrm>
            <a:off x="-181080" y="5888160"/>
            <a:ext cx="1420920" cy="966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C:\Documents and Settings\Пользователь\Local Settings\Temporary Internet Files\Content.IE5\BJAM0DKJ\MC900344485[1].wmf"/>
          <p:cNvPicPr/>
          <p:nvPr/>
        </p:nvPicPr>
        <p:blipFill>
          <a:blip r:embed="rId11"/>
          <a:stretch/>
        </p:blipFill>
        <p:spPr>
          <a:xfrm>
            <a:off x="1239840" y="5448240"/>
            <a:ext cx="181116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12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133200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Найдите периметр фиг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826920" y="1700280"/>
            <a:ext cx="2953080" cy="187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5724360" y="1700280"/>
            <a:ext cx="2016360" cy="1873080"/>
          </a:xfrm>
          <a:prstGeom prst="rect">
            <a:avLst/>
          </a:prstGeom>
          <a:solidFill>
            <a:srgbClr val="fa8d3d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1187280" y="1116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6156360" y="1116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378000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1187280" y="3860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 = 4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b= 12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395280" y="5950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1332000" y="1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Найдите периметр фиг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826920" y="1700280"/>
            <a:ext cx="2953080" cy="187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3"/>
          <p:cNvSpPr/>
          <p:nvPr/>
        </p:nvSpPr>
        <p:spPr>
          <a:xfrm>
            <a:off x="5724360" y="1700280"/>
            <a:ext cx="2016360" cy="1873080"/>
          </a:xfrm>
          <a:prstGeom prst="rect">
            <a:avLst/>
          </a:prstGeom>
          <a:solidFill>
            <a:srgbClr val="fa8d3d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1187280" y="1116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156360" y="1116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6"/>
          <p:cNvSpPr/>
          <p:nvPr/>
        </p:nvSpPr>
        <p:spPr>
          <a:xfrm>
            <a:off x="378000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1187280" y="3860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 = 4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   b= 12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1025640" y="4581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P=(a+b)∙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9"/>
          <p:cNvSpPr/>
          <p:nvPr/>
        </p:nvSpPr>
        <p:spPr>
          <a:xfrm>
            <a:off x="5759280" y="450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=a∙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10"/>
          <p:cNvSpPr/>
          <p:nvPr/>
        </p:nvSpPr>
        <p:spPr>
          <a:xfrm>
            <a:off x="395280" y="530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 = (4+12)∙2=3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4859280" y="5300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 = 4∙4=1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089920" cy="100044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2671920" y="981000"/>
            <a:ext cx="3840120" cy="792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9 и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2676600" y="1960560"/>
            <a:ext cx="3840120" cy="892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40 и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7"/>
          <p:cNvSpPr/>
          <p:nvPr/>
        </p:nvSpPr>
        <p:spPr>
          <a:xfrm>
            <a:off x="2682720" y="3141720"/>
            <a:ext cx="384048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3 и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8"/>
          <p:cNvSpPr/>
          <p:nvPr/>
        </p:nvSpPr>
        <p:spPr>
          <a:xfrm>
            <a:off x="2682720" y="4292640"/>
            <a:ext cx="384048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0 и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9"/>
          <p:cNvSpPr/>
          <p:nvPr/>
        </p:nvSpPr>
        <p:spPr>
          <a:xfrm>
            <a:off x="2671920" y="5408640"/>
            <a:ext cx="38401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50 и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0" descr="C:\Documents and Settings\Пользователь\Local Settings\Temporary Internet Files\Content.IE5\BJAM0DKJ\MC900344513[1].wmf"/>
          <p:cNvPicPr/>
          <p:nvPr/>
        </p:nvPicPr>
        <p:blipFill>
          <a:blip r:embed="rId2"/>
          <a:stretch/>
        </p:blipFill>
        <p:spPr>
          <a:xfrm>
            <a:off x="179280" y="90792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179280" y="1916280"/>
            <a:ext cx="1420920" cy="968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324000" y="3141720"/>
            <a:ext cx="1419120" cy="966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250920" y="443700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395280" y="566100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7164360" y="76500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716436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7308720" y="314172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7308720" y="4292640"/>
            <a:ext cx="1419480" cy="968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C:\Documents and Settings\Пользователь\Local Settings\Temporary Internet Files\Content.IE5\BJAM0DKJ\MC900344513[1].wmf"/>
          <p:cNvPicPr/>
          <p:nvPr/>
        </p:nvPicPr>
        <p:blipFill>
          <a:blip r:embed="rId11"/>
          <a:stretch/>
        </p:blipFill>
        <p:spPr>
          <a:xfrm>
            <a:off x="7451640" y="5516640"/>
            <a:ext cx="1420920" cy="9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Пользователь\Local Settings\Temporary Internet Files\Content.IE5\BJAM0DKJ\MC900344513[1].wmf"/>
          <p:cNvPicPr/>
          <p:nvPr/>
        </p:nvPicPr>
        <p:blipFill>
          <a:blip r:embed="rId1"/>
          <a:stretch/>
        </p:blipFill>
        <p:spPr>
          <a:xfrm>
            <a:off x="395280" y="40464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C:\Documents and Settings\Пользователь\Local Settings\Temporary Internet Files\Content.IE5\BJAM0DKJ\MC900344513[1].wmf"/>
          <p:cNvPicPr/>
          <p:nvPr/>
        </p:nvPicPr>
        <p:blipFill>
          <a:blip r:embed="rId2"/>
          <a:stretch/>
        </p:blipFill>
        <p:spPr>
          <a:xfrm>
            <a:off x="32400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C:\Documents and Settings\Пользователь\Local Settings\Temporary Internet Files\Content.IE5\BJAM0DKJ\MC900344513[1].wmf"/>
          <p:cNvPicPr/>
          <p:nvPr/>
        </p:nvPicPr>
        <p:blipFill>
          <a:blip r:embed="rId3"/>
          <a:stretch/>
        </p:blipFill>
        <p:spPr>
          <a:xfrm>
            <a:off x="395280" y="3284640"/>
            <a:ext cx="1420920" cy="968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Documents and Settings\Пользователь\Local Settings\Temporary Internet Files\Content.IE5\BJAM0DKJ\MC900344513[1].wmf"/>
          <p:cNvPicPr/>
          <p:nvPr/>
        </p:nvPicPr>
        <p:blipFill>
          <a:blip r:embed="rId4"/>
          <a:stretch/>
        </p:blipFill>
        <p:spPr>
          <a:xfrm>
            <a:off x="324000" y="486900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Documents and Settings\Пользователь\Local Settings\Temporary Internet Files\Content.IE5\BJAM0DKJ\MC900344513[1].wmf"/>
          <p:cNvPicPr/>
          <p:nvPr/>
        </p:nvPicPr>
        <p:blipFill>
          <a:blip r:embed="rId5"/>
          <a:stretch/>
        </p:blipFill>
        <p:spPr>
          <a:xfrm>
            <a:off x="4067280" y="5589720"/>
            <a:ext cx="1420560" cy="966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:\Documents and Settings\Пользователь\Local Settings\Temporary Internet Files\Content.IE5\BJAM0DKJ\MC900344513[1].wmf"/>
          <p:cNvPicPr/>
          <p:nvPr/>
        </p:nvPicPr>
        <p:blipFill>
          <a:blip r:embed="rId6"/>
          <a:stretch/>
        </p:blipFill>
        <p:spPr>
          <a:xfrm>
            <a:off x="1547640" y="558972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:\Documents and Settings\Пользователь\Local Settings\Temporary Internet Files\Content.IE5\BJAM0DKJ\MC900344513[1].wmf"/>
          <p:cNvPicPr/>
          <p:nvPr/>
        </p:nvPicPr>
        <p:blipFill>
          <a:blip r:embed="rId7"/>
          <a:stretch/>
        </p:blipFill>
        <p:spPr>
          <a:xfrm>
            <a:off x="7093080" y="333360"/>
            <a:ext cx="1419120" cy="966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C:\Documents and Settings\Пользователь\Local Settings\Temporary Internet Files\Content.IE5\BJAM0DKJ\MC900344513[1].wmf"/>
          <p:cNvPicPr/>
          <p:nvPr/>
        </p:nvPicPr>
        <p:blipFill>
          <a:blip r:embed="rId8"/>
          <a:stretch/>
        </p:blipFill>
        <p:spPr>
          <a:xfrm>
            <a:off x="7093080" y="1844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:\Documents and Settings\Пользователь\Local Settings\Temporary Internet Files\Content.IE5\BJAM0DKJ\MC900344513[1].wmf"/>
          <p:cNvPicPr/>
          <p:nvPr/>
        </p:nvPicPr>
        <p:blipFill>
          <a:blip r:embed="rId9"/>
          <a:stretch/>
        </p:blipFill>
        <p:spPr>
          <a:xfrm>
            <a:off x="7093080" y="450864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C:\Documents and Settings\Пользователь\Local Settings\Temporary Internet Files\Content.IE5\BJAM0DKJ\MC900344513[1].wmf"/>
          <p:cNvPicPr/>
          <p:nvPr/>
        </p:nvPicPr>
        <p:blipFill>
          <a:blip r:embed="rId10"/>
          <a:stretch/>
        </p:blipFill>
        <p:spPr>
          <a:xfrm>
            <a:off x="6948360" y="321300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C:\Documents and Settings\Пользователь\Local Settings\Temporary Internet Files\Content.IE5\BJAM0DKJ\MC900344513[1].wmf"/>
          <p:cNvPicPr/>
          <p:nvPr/>
        </p:nvPicPr>
        <p:blipFill>
          <a:blip r:embed="rId11"/>
          <a:stretch/>
        </p:blipFill>
        <p:spPr>
          <a:xfrm>
            <a:off x="6443640" y="5516640"/>
            <a:ext cx="1420920" cy="9684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9"/>
          <p:cNvSpPr/>
          <p:nvPr/>
        </p:nvSpPr>
        <p:spPr>
          <a:xfrm>
            <a:off x="2500200" y="476280"/>
            <a:ext cx="4176720" cy="93672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00 и 3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20"/>
          <p:cNvSpPr/>
          <p:nvPr/>
        </p:nvSpPr>
        <p:spPr>
          <a:xfrm>
            <a:off x="2500200" y="1844640"/>
            <a:ext cx="4176720" cy="936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90 и 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1"/>
          <p:cNvSpPr/>
          <p:nvPr/>
        </p:nvSpPr>
        <p:spPr>
          <a:xfrm>
            <a:off x="2500200" y="3213000"/>
            <a:ext cx="4176720" cy="9367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8 и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22"/>
          <p:cNvSpPr/>
          <p:nvPr/>
        </p:nvSpPr>
        <p:spPr>
          <a:xfrm>
            <a:off x="2492280" y="4581360"/>
            <a:ext cx="4176720" cy="93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7 и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55640" y="620640"/>
            <a:ext cx="295272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9 : 13 =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755640" y="191628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40 : 40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755640" y="3068640"/>
            <a:ext cx="2952720" cy="8650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3 – 14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755640" y="429264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0 : 5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755640" y="5516640"/>
            <a:ext cx="2952720" cy="86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50 : 10 =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5364000" y="1125360"/>
            <a:ext cx="2953080" cy="86364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00 – 382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5364000" y="2637000"/>
            <a:ext cx="2953080" cy="8632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90 – 69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364000" y="4221000"/>
            <a:ext cx="2953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8 + 9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5364000" y="5516640"/>
            <a:ext cx="2953080" cy="865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7 ∙ 2 =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1187280" y="1392120"/>
            <a:ext cx="2232360" cy="1657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Трапеция 2"/>
          <p:cNvSpPr/>
          <p:nvPr/>
        </p:nvSpPr>
        <p:spPr>
          <a:xfrm>
            <a:off x="657360" y="4149720"/>
            <a:ext cx="1657080" cy="1295280"/>
          </a:xfrm>
          <a:prstGeom prst="pie">
            <a:avLst/>
          </a:prstGeom>
          <a:solidFill>
            <a:srgbClr val="ff000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араллелограмм 3"/>
          <p:cNvSpPr/>
          <p:nvPr/>
        </p:nvSpPr>
        <p:spPr>
          <a:xfrm>
            <a:off x="3098880" y="4581360"/>
            <a:ext cx="1728720" cy="1584360"/>
          </a:xfrm>
          <a:prstGeom prst="parallelogram">
            <a:avLst>
              <a:gd name="adj" fmla="val 25000"/>
            </a:avLst>
          </a:prstGeom>
          <a:solidFill>
            <a:srgbClr val="d788a3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авильный пятиугольник 4"/>
          <p:cNvSpPr/>
          <p:nvPr/>
        </p:nvSpPr>
        <p:spPr>
          <a:xfrm>
            <a:off x="6561000" y="457200"/>
            <a:ext cx="2089440" cy="1871640"/>
          </a:xfrm>
          <a:prstGeom prst="pentagon">
            <a:avLst/>
          </a:prstGeom>
          <a:solidFill>
            <a:srgbClr val="00b0f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Ромб 5"/>
          <p:cNvSpPr/>
          <p:nvPr/>
        </p:nvSpPr>
        <p:spPr>
          <a:xfrm>
            <a:off x="4400640" y="1717560"/>
            <a:ext cx="2160360" cy="2519640"/>
          </a:xfrm>
          <a:prstGeom prst="diamond">
            <a:avLst/>
          </a:prstGeom>
          <a:solidFill>
            <a:srgbClr val="e36406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Alien_6"/>
          <p:cNvPicPr/>
          <p:nvPr/>
        </p:nvPicPr>
        <p:blipFill>
          <a:blip r:embed="rId1"/>
          <a:stretch/>
        </p:blipFill>
        <p:spPr>
          <a:xfrm>
            <a:off x="7048440" y="3121200"/>
            <a:ext cx="2013120" cy="3352680"/>
          </a:xfrm>
          <a:prstGeom prst="rect">
            <a:avLst/>
          </a:prstGeom>
          <a:ln w="0">
            <a:noFill/>
          </a:ln>
        </p:spPr>
      </p:pic>
      <p:pic>
        <p:nvPicPr>
          <p:cNvPr id="366" name="Заголовок 7" descr=""/>
          <p:cNvPicPr/>
          <p:nvPr/>
        </p:nvPicPr>
        <p:blipFill>
          <a:blip r:embed="rId2"/>
          <a:stretch/>
        </p:blipFill>
        <p:spPr>
          <a:xfrm>
            <a:off x="-371520" y="268200"/>
            <a:ext cx="8607600" cy="1158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Documents and Settings\Пользователь\Local Settings\Temporary Internet Files\Content.IE5\BJAM0DKJ\MC900344485[1].wmf"/>
          <p:cNvPicPr/>
          <p:nvPr/>
        </p:nvPicPr>
        <p:blipFill>
          <a:blip r:embed="rId3"/>
          <a:stretch/>
        </p:blipFill>
        <p:spPr>
          <a:xfrm>
            <a:off x="5940360" y="5478480"/>
            <a:ext cx="1811520" cy="1461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1486080" y="5891040"/>
            <a:ext cx="1420560" cy="966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-157320" y="589104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4089240" y="5891040"/>
            <a:ext cx="14194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3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39640" y="4869000"/>
            <a:ext cx="74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етырехугольник, у которого все углы прям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187280" y="2492280"/>
            <a:ext cx="5113440" cy="1944720"/>
          </a:xfrm>
          <a:prstGeom prst="rect">
            <a:avLst/>
          </a:prstGeom>
          <a:solidFill>
            <a:srgbClr val="007635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Alien_6"/>
          <p:cNvPicPr/>
          <p:nvPr/>
        </p:nvPicPr>
        <p:blipFill>
          <a:blip r:embed="rId2"/>
          <a:stretch/>
        </p:blipFill>
        <p:spPr>
          <a:xfrm>
            <a:off x="6875640" y="1515960"/>
            <a:ext cx="2012760" cy="3353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6456240" y="4437000"/>
            <a:ext cx="1419480" cy="966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7527960" y="4846680"/>
            <a:ext cx="141912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5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3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7255080" cy="138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257200" cy="20368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 flipH="1">
            <a:off x="4284000" y="1773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rebuchet MS"/>
              </a:rPr>
              <a:t>P = 4</a:t>
            </a:r>
            <a:r>
              <a:rPr b="1" lang="ru-RU" sz="5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rebuchet MS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468360" y="393372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rebuchet MS"/>
              </a:rPr>
              <a:t>Квадрат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- прямоугольник,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у которого все стороны равны и углы прямые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28680" y="304920"/>
            <a:ext cx="7547040" cy="1225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944880" cy="2376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4"/>
          <p:cNvSpPr/>
          <p:nvPr/>
        </p:nvSpPr>
        <p:spPr>
          <a:xfrm>
            <a:off x="4572000" y="17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0f17"/>
                </a:solidFill>
                <a:latin typeface="Trebuchet MS"/>
              </a:rPr>
              <a:t>Р = 2 </a:t>
            </a:r>
            <a:r>
              <a:rPr b="1" lang="en-US" sz="36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·</a:t>
            </a:r>
            <a:r>
              <a:rPr b="1" lang="ru-RU" sz="36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210f17"/>
                </a:solidFill>
                <a:latin typeface="Trebuchet MS"/>
              </a:rPr>
              <a:t>( а + </a:t>
            </a:r>
            <a:r>
              <a:rPr b="1" lang="en-US" sz="3600" spc="-1" strike="noStrike">
                <a:solidFill>
                  <a:srgbClr val="210f17"/>
                </a:solidFill>
                <a:latin typeface="Trebuchet MS"/>
              </a:rPr>
              <a:t>b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5"/>
          <p:cNvSpPr/>
          <p:nvPr/>
        </p:nvSpPr>
        <p:spPr>
          <a:xfrm>
            <a:off x="684360" y="414972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Прямоугольник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- четырехугольник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у которого противоположные стороны равны и все угл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 прям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 rot="1867800">
            <a:off x="363240" y="2370240"/>
            <a:ext cx="3889440" cy="165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2"/>
          <p:cNvSpPr/>
          <p:nvPr/>
        </p:nvSpPr>
        <p:spPr>
          <a:xfrm rot="1698600">
            <a:off x="6010200" y="2155680"/>
            <a:ext cx="2124000" cy="201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5" descr="Alien_6"/>
          <p:cNvPicPr/>
          <p:nvPr/>
        </p:nvPicPr>
        <p:blipFill>
          <a:blip r:embed="rId1"/>
          <a:stretch/>
        </p:blipFill>
        <p:spPr>
          <a:xfrm>
            <a:off x="3908520" y="3540240"/>
            <a:ext cx="2012760" cy="33526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6"/>
          <p:cNvSpPr/>
          <p:nvPr/>
        </p:nvSpPr>
        <p:spPr>
          <a:xfrm>
            <a:off x="250920" y="6660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ямоуголь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5657760" y="666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Calibri"/>
              </a:rPr>
              <a:t>квадра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C:\Documents and Settings\Пользователь\Local Settings\Temporary Internet Files\Content.IE5\4LK10RT2\MC900344463[1].wmf"/>
          <p:cNvPicPr/>
          <p:nvPr/>
        </p:nvPicPr>
        <p:blipFill>
          <a:blip r:embed="rId2"/>
          <a:stretch/>
        </p:blipFill>
        <p:spPr>
          <a:xfrm>
            <a:off x="3240" y="5021280"/>
            <a:ext cx="1344600" cy="1822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Documents and Settings\Пользователь\Local Settings\Temporary Internet Files\Content.IE5\E9262TSG\MC900344513[1].wmf"/>
          <p:cNvPicPr/>
          <p:nvPr/>
        </p:nvPicPr>
        <p:blipFill>
          <a:blip r:embed="rId3"/>
          <a:stretch/>
        </p:blipFill>
        <p:spPr>
          <a:xfrm>
            <a:off x="1967040" y="4950000"/>
            <a:ext cx="1420560" cy="96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Documents and Settings\Пользователь\Local Settings\Temporary Internet Files\Content.IE5\E9262TSG\MC900344513[1].wmf"/>
          <p:cNvPicPr/>
          <p:nvPr/>
        </p:nvPicPr>
        <p:blipFill>
          <a:blip r:embed="rId4"/>
          <a:stretch/>
        </p:blipFill>
        <p:spPr>
          <a:xfrm>
            <a:off x="5921280" y="4521240"/>
            <a:ext cx="1419480" cy="966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C:\Documents and Settings\Пользователь\Local Settings\Temporary Internet Files\Content.IE5\E9262TSG\MC900344513[1].wmf"/>
          <p:cNvPicPr/>
          <p:nvPr/>
        </p:nvPicPr>
        <p:blipFill>
          <a:blip r:embed="rId5"/>
          <a:stretch/>
        </p:blipFill>
        <p:spPr>
          <a:xfrm>
            <a:off x="2843280" y="5848200"/>
            <a:ext cx="1420920" cy="966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Пользователь\Local Settings\Temporary Internet Files\Content.IE5\E9262TSG\MC900344513[1].wmf"/>
          <p:cNvPicPr/>
          <p:nvPr/>
        </p:nvPicPr>
        <p:blipFill>
          <a:blip r:embed="rId6"/>
          <a:stretch/>
        </p:blipFill>
        <p:spPr>
          <a:xfrm>
            <a:off x="5505480" y="58276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Documents and Settings\Пользователь\Local Settings\Temporary Internet Files\Content.IE5\E9262TSG\MC900344513[1].wmf"/>
          <p:cNvPicPr/>
          <p:nvPr/>
        </p:nvPicPr>
        <p:blipFill>
          <a:blip r:embed="rId7"/>
          <a:stretch/>
        </p:blipFill>
        <p:spPr>
          <a:xfrm>
            <a:off x="7775640" y="5827680"/>
            <a:ext cx="1419120" cy="968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Documents and Settings\Пользователь\Local Settings\Temporary Internet Files\Content.IE5\4LK10RT2\MC900344463[1].wmf"/>
          <p:cNvPicPr/>
          <p:nvPr/>
        </p:nvPicPr>
        <p:blipFill>
          <a:blip r:embed="rId8"/>
          <a:stretch/>
        </p:blipFill>
        <p:spPr>
          <a:xfrm>
            <a:off x="6954840" y="4971960"/>
            <a:ext cx="1344600" cy="18241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:\Documents and Settings\Пользователь\Local Settings\Temporary Internet Files\Content.IE5\BJAM0DKJ\MC900344485[1].wmf"/>
          <p:cNvPicPr/>
          <p:nvPr/>
        </p:nvPicPr>
        <p:blipFill>
          <a:blip r:embed="rId9"/>
          <a:stretch/>
        </p:blipFill>
        <p:spPr>
          <a:xfrm>
            <a:off x="1135080" y="5487840"/>
            <a:ext cx="181296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0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Марина</cp:lastModifiedBy>
  <dcterms:modified xsi:type="dcterms:W3CDTF">2015-01-26T12:33:57Z</dcterms:modified>
  <cp:revision>58</cp:revision>
  <dc:subject/>
  <dc:title>Презентация PowerPoint</dc:title>
</cp:coreProperties>
</file>