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7B0-A263-41AA-B3B7-41318A77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23F-3AC5-4387-A2A7-08E3E5D7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B95-FD9F-4F64-9D1E-E23E9602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563-78DC-4708-BDC9-519BB218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3A6-0A41-4FFE-85C8-A9D534BF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1B6-6299-425C-ACB3-D03F8B84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305-3C3A-447E-B7AF-B8A30D8F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4E1-B8E1-4853-B147-04FA4157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386-7DAE-4195-B4F6-82976D3A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D76-3B50-48C4-986D-B9A0BB7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921-FF60-4E3A-8C8B-D77F9D7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CF9-0718-4FD4-AEEC-7F606002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8915-D1AA-48A4-9EBC-E3AF31487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nnats.narod.ru/photo/KK.jpg" TargetMode="External"/><Relationship Id="rId3" Type="http://schemas.openxmlformats.org/officeDocument/2006/relationships/hyperlink" Target="http://parnasse.ru/images/photos/medium/article136897.jpg" TargetMode="External"/><Relationship Id="rId4" Type="http://schemas.openxmlformats.org/officeDocument/2006/relationships/hyperlink" Target="http://cit.ua/images/news/2013-01/11/44975-res.jpg" TargetMode="External"/><Relationship Id="rId5" Type="http://schemas.openxmlformats.org/officeDocument/2006/relationships/hyperlink" Target="http://www.lepestok.kharkov.ua/forum/files/thumbs/t_28_541.jpg" TargetMode="External"/><Relationship Id="rId6" Type="http://schemas.openxmlformats.org/officeDocument/2006/relationships/hyperlink" Target="http://greef81.ucoz.ru/_si/0/s96432716.jpg" TargetMode="External"/><Relationship Id="rId7" Type="http://schemas.openxmlformats.org/officeDocument/2006/relationships/hyperlink" Target="http://ru.wikipedia.org/wiki/%CF%E5%F0%E2%EE%F6%E2%E5%F2_%E2%E5%F1%E5%ED%ED%E8%E9" TargetMode="External"/><Relationship Id="rId8" Type="http://schemas.openxmlformats.org/officeDocument/2006/relationships/hyperlink" Target="http://pensioner-ua.ucoz.ru/scr5/pervotsvet_vesenniy.jpg" TargetMode="External"/><Relationship Id="rId9" Type="http://schemas.openxmlformats.org/officeDocument/2006/relationships/hyperlink" Target="http://www.hint4.me/uploads/posts/2013-08/thumbs/1375798696_pervocvet-vesenniy.jpeg" TargetMode="External"/><Relationship Id="rId10" Type="http://schemas.openxmlformats.org/officeDocument/2006/relationships/hyperlink" Target="http://house-dacha.ru/tsvetyi/myishinyiy-giatsint-opisanie-vidyi.html" TargetMode="External"/><Relationship Id="rId11" Type="http://schemas.openxmlformats.org/officeDocument/2006/relationships/hyperlink" Target="http://cs316225.userapi.com/v316225893/41f4/Z1kGgEMh_yM.jpg" TargetMode="External"/><Relationship Id="rId12" Type="http://schemas.openxmlformats.org/officeDocument/2006/relationships/hyperlink" Target="http://www.gardenia.ru/pages/piony006.htm" TargetMode="External"/><Relationship Id="rId13" Type="http://schemas.openxmlformats.org/officeDocument/2006/relationships/hyperlink" Target="http://www.proflowers.ru/articles/rare_species/586.html" TargetMode="External"/><Relationship Id="rId14" Type="http://schemas.openxmlformats.org/officeDocument/2006/relationships/hyperlink" Target="http://www.profiland.ru/Paeon_tenuifolia1.jpg" TargetMode="External"/><Relationship Id="rId15" Type="http://schemas.openxmlformats.org/officeDocument/2006/relationships/hyperlink" Target="http://school3.yarono.ru/wp-content/uploads/2013/02/&#1053;&#1086;&#1074;&#1099;&#1081;-&#1088;&#1080;&#1089;&#1091;&#1085;&#1086;&#1082;-151.png" TargetMode="External"/><Relationship Id="rId16" Type="http://schemas.openxmlformats.org/officeDocument/2006/relationships/hyperlink" Target="http://molbiol.ru/forums/uploads/a003/b014/post-13249-1325718268.jpg" TargetMode="External"/><Relationship Id="rId17" Type="http://schemas.openxmlformats.org/officeDocument/2006/relationships/hyperlink" Target="http://pervozvety.narod.ru/pages/flower07.htm" TargetMode="External"/><Relationship Id="rId18" Type="http://schemas.openxmlformats.org/officeDocument/2006/relationships/hyperlink" Target="http://ozonit.ru/elr/adonis/adonis_opisanie.php" TargetMode="External"/><Relationship Id="rId19" Type="http://schemas.openxmlformats.org/officeDocument/2006/relationships/hyperlink" Target="http://imageshack.us/m/571/9711/1274577787adonisvesen.jpg" TargetMode="External"/><Relationship Id="rId20" Type="http://schemas.openxmlformats.org/officeDocument/2006/relationships/hyperlink" Target="http://macroid.ru/cache/200/94/74394.jpg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03640" y="1341360"/>
            <a:ext cx="52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Я  ИЗ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ОЙ КНИГ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ВРОПОЛЬСКОГО КР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2295360" cy="295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340000" y="4724280"/>
            <a:ext cx="61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Руководитель проекта:: Казак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КОУ СОШ № 8 с. Улья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инераловодского района Ставрополь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476280"/>
            <a:ext cx="7991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1b47"/>
                </a:solidFill>
                <a:latin typeface="Arial"/>
              </a:rPr>
              <a:t>Растения, занесённые в Красную  книгу Ставрополь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1b47"/>
                </a:solidFill>
                <a:latin typeface="Arial"/>
              </a:rPr>
              <a:t>Первоцветы нашего села Улья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ОЛУБАЯ ПРОЛЕСКА   ПЕРВОЦВЕТ ВЕСЕН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ДСНЕЖНИК        ГАДЮЧИЙ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hape 144"/>
          <p:cNvSpPr/>
          <p:nvPr/>
        </p:nvSpPr>
        <p:spPr>
          <a:xfrm>
            <a:off x="611280" y="2060640"/>
            <a:ext cx="2023920" cy="1830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hape 145"/>
          <p:cNvSpPr/>
          <p:nvPr/>
        </p:nvSpPr>
        <p:spPr>
          <a:xfrm>
            <a:off x="2771640" y="2060640"/>
            <a:ext cx="1914840" cy="180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hape 146"/>
          <p:cNvSpPr/>
          <p:nvPr/>
        </p:nvSpPr>
        <p:spPr>
          <a:xfrm>
            <a:off x="6732720" y="4221000"/>
            <a:ext cx="187776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hape 147"/>
          <p:cNvSpPr/>
          <p:nvPr/>
        </p:nvSpPr>
        <p:spPr>
          <a:xfrm>
            <a:off x="4572000" y="4221000"/>
            <a:ext cx="1933560" cy="18241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дон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40053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Гусиный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6093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ион узкол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Гадючий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476280"/>
            <a:ext cx="597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ичины сокращения численности рас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хозяйственная 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бор бук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еумеренный сбор лекарственных рас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ытапт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лошная распашка целинных земель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3456000" cy="23036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11280" y="47628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Давайте вместе Землю украшать,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ажать сады, цветы сажать повсюду.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Давайте вместе Землю уважать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 относиться с нежностью, как к чу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ы забываем, что она у нас одна –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еповторимая, ранимая, живая.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екрасная: хоть лето, хоть зима…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Она у нас одна, одна так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(Е. Смирн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4248000" cy="287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28760" y="500040"/>
            <a:ext cx="871524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Использованные 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unnats.narod.ru/photo/KK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обложка Красной книги Ставрополь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parnasse.ru/images/photos/medium/article13689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cit.ua/images/news/2013-01/11/44975-res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дснеж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lepestok.kharkov.ua/forum/files/thumbs/t_28_54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ка двулистая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greef81.ucoz.ru/_si/0/s964327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расная книга рису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ru.wikipedia.org/wiki/%CF%E5%F0%E2%EE%F6%E2%E5%F2_%E2%E5%F1%E5%ED%ED%E8%E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ервоцвет весенний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pensioner-ua.ucoz.ru/scr5/pervotsvet_vesenni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воцвет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hint4.me/uploads/posts/2013-08/thumbs/1375798696_pervocvet-vesenniy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воцвет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house-dacha.ru/tsvetyi/myishinyiy-giatsint-opisanie-vidyi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ышиный гиацинт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cs316225.userapi.com/v316225893/41f4/Z1kGgEMh_yM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ышиный гиацинт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gardenia.ru/pages/piony006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сведени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www.proflowers.ru/articles/rare_species/586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сведения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www.profiland.ru/Paeon_tenuifolia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school3.yarono.ru/wp-content/uploads/2013/02/%D0%9D%D0%BE%D0%B2%D1%8B%D0%B9-%D1%80%D0%B8%D1%81%D1%83%D0%BD%D0%BE%D0%BA-151.pn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ион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http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сезоны-года.рф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sites/default/files/iris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сатик фото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molbiol.ru/forums/uploads/a003/b014/post-13249-132571826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сатик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pervozvety.narod.ru/pages/flower07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асатик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ozonit.ru/elr/adonis/adonis_opisanie.ph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imageshack.us/m/571/9711/1274577787adonisvesen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macroid.ru/cache/200/94/7439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донис фото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ozonit.ru/elr/lyubka_dvulistnaya.php любка двулистая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ykrai.files.wordpress.com/2012/04/d0bbd18ed0b1d0bad0b0-d0b4d0b2d0bed0bbd0b8d181d182d0b0.jpg?w=336&amp;h=448 любка двулистая фото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kak.znate.ru/pars_docs/refs/42/41293/41293-11_2.jpg рису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340000" y="47628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Красная книга Ставропольского края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 —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официальный документ, содержащий свод сведений о состоянии, распространении и мерах охраны редких и находящихся под угрозой исчезновения видов(подвидов, популяций) диких животных и дикорастущих растений и грибов, обитающих (произрастающих) на территории Ставрополь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808360" cy="20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39640" y="5661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Адонис весе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564000" y="3429000"/>
            <a:ext cx="2592360" cy="20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492360" y="515772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372360" y="3429000"/>
            <a:ext cx="2232000" cy="2160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419640" y="5734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одсне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43640" y="5661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Любка двул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55640" y="836640"/>
            <a:ext cx="1455840" cy="1871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692280"/>
            <a:ext cx="705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В 2013 году министерством Ставропольского края  была подготовлена и издана Красная книга Ставропольского края в новой редакции. В нее занесены 179 видов животных и 333 вида растений, которые являются редкими, либо имеют тенденции к сокращению численности и  или находятся под угрозой исчезновения и нуждаются в охр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43280" y="242100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28760" y="214200"/>
            <a:ext cx="421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ервоцвет весенний или лекарствен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емейство Первоцветные. Другие русские названия: 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бара́нчики, бара́шки, бе́лая бу́квица, бо́жьи ру́чки, га́сник , у́шки, небе́сные клю́чики, золоты́е клю́чики, цветы́ Свято́го Петра́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. Соцветие первоцвета похоже на связку ключей, по легенде это ключи, которыми весна открывает двери в лето Многие виды этого рода цветут первыми рано весной. Цветки желтые, от корневища развиваются несколько роз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стение широко используется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 народной и научной медицине. В лекарственных целях используют лист первоцвета весен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://pensioner-ua.ucoz.ru/scr5/pervotsvet_vesenniy.jpg"/>
          <p:cNvPicPr/>
          <p:nvPr/>
        </p:nvPicPr>
        <p:blipFill>
          <a:blip r:embed="rId2"/>
          <a:stretch/>
        </p:blipFill>
        <p:spPr>
          <a:xfrm>
            <a:off x="4950000" y="493560"/>
            <a:ext cx="3578040" cy="532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hint4.me/uploads/posts/2013-08/thumbs/1375798696_pervocvet-vesenniy.jpeg"/>
          <p:cNvPicPr/>
          <p:nvPr/>
        </p:nvPicPr>
        <p:blipFill>
          <a:blip r:embed="rId3"/>
          <a:stretch/>
        </p:blipFill>
        <p:spPr>
          <a:xfrm>
            <a:off x="4937040" y="3645000"/>
            <a:ext cx="35956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428760" y="285840"/>
            <a:ext cx="82864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ышиный гиаци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нней весной, как только начинает пригревать солнышко и появляются первые проталины в саду, появляется неповторимый, удивительный цветок, синего цвета с волшебным, чарующим арома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ышиный гиацинт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 - род растений семейства Гиацинтовых. Другие названия – гадючий лук или мускари. Такое название это растение получило благодаря специфическому запаху, напоминающему запах мускуса. А благодаря маленькому размеру его называют мышиным гиацинтом. Растет гиацинт на склонах гор и лугах, в степях и в лесах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s316225.userapi.com/v316225893/41f4/Z1kGgEMh_yM.jpg"/>
          <p:cNvPicPr/>
          <p:nvPr/>
        </p:nvPicPr>
        <p:blipFill>
          <a:blip r:embed="rId2"/>
          <a:stretch/>
        </p:blipFill>
        <p:spPr>
          <a:xfrm>
            <a:off x="2843280" y="3141720"/>
            <a:ext cx="3672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050920" y="40464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ион узколистный или тонколистный (лохма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995640" y="836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зрослый куст пиона очень пышный, высотой 30- 50 см , с обилием цветоносных побегов. Цветки раскрываются почти одновременно, и в это время большой цветущий куст представляет собой поистине феерическое зрелище!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 его цветение, к сожалению, длится недолго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 народе пион тонколистный носит название воронца или лазоревого цветка. Ему посвящено множество легенд и сказаний. На Руси принято было считать, что если семена воронца держать дома, ему никогда не будет угрожать пожар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168720" cy="26816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3168720" cy="2880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755640" y="26028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Касатик  безл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xn----8sbiecm6bhdx8i.xn--p1ai/sites/default/files/iris.jpg"/>
          <p:cNvPicPr/>
          <p:nvPr/>
        </p:nvPicPr>
        <p:blipFill>
          <a:blip r:embed="rId2"/>
          <a:stretch/>
        </p:blipFill>
        <p:spPr>
          <a:xfrm>
            <a:off x="468360" y="907920"/>
            <a:ext cx="3747960" cy="298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molbiol.ru/forums/uploads/a003/b014/post-13249-1325718268.jpg"/>
          <p:cNvPicPr/>
          <p:nvPr/>
        </p:nvPicPr>
        <p:blipFill>
          <a:blip r:embed="rId3"/>
          <a:stretch/>
        </p:blipFill>
        <p:spPr>
          <a:xfrm>
            <a:off x="395280" y="3645000"/>
            <a:ext cx="3705120" cy="2955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84720" y="198900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ноголетник с коротким ползучим корневищем до 50 см высотой. Стебель крепкий, ветвистый. Прикорневые листья широкие. Цветки одиночные на концах веточек, почти сидячие, ярко фиолетовые, наружные и внутренние доли одинаково окрашенные. Цветет в мае-июн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0920" y="54936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Адонис весе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05264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тносится к семейству лютиковые, это наземное многолетнее травянистое растение достигающее 50см в высоту. Стебель прямостоячий, округлый, достаточно плотный, ветвистый. 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Листья простые, зелёного цвета.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Цветки Адониса (Горицвета) весеннего чаще крупные (до 7см), одиночные, ярко - желтого цвета. Цветение проходит с конца мая по июнь. Светолюбивое растение, из-за своего раннего появления (цветения) выдерживает сильные падения температуры воздуха, засухоустойчивое, не переносит избыточной влаги, растет на умеренных или богатых минеральными веществами плодородных землях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3048120" cy="2286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2951280" cy="2303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9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Любка двулистая (Ночная фиал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34136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редставляет собой наземное многолетнее травянистое растение достигающее 65см в высоту. Благодаря своим полезным целебным свойствами, относится к лекарственным растениям.   Стебель у Ночной фиалки как такового не отсутствует, им можно назвать цветочную стрелку на которой соответственно расположены цветки растения. У растения имеется два нижних основных, крупных листа (отсюда и название растения).Выше расположены мелкие листочки, на цветочной стрелке.  Цветки у Любки белого, зелено-белого цвета, неправильной формы, соцветие колоскового вида, рыхлые. Цветет с июня по июль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3200400" cy="42674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4-05-19T16:50:39Z</dcterms:modified>
  <cp:revision>19</cp:revision>
  <dc:subject/>
  <dc:title>Слайд 1</dc:title>
</cp:coreProperties>
</file>