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6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6F1-8FEC-4ABC-BDA3-2AE25852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BCE-5B77-4A1B-8163-D339BC8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7CE-E86B-42BA-B5C9-310774E4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F1F-5EE1-42BE-9173-F7896064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CD5-1A58-4E3B-B826-23C7429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DC1-6BD8-4C8F-8F96-B589907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3F0-B10B-4484-85AD-D44D82F8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C62-0480-4429-A1BF-07D48C0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F47-8ED9-4B41-A4D1-12AF7F07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F6D-3155-4FE4-9A09-C0770D11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C0A-282E-4A70-ABA6-07A6A3B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6DA-3CBB-4185-A7B7-56C9D4E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DE38-72D0-429C-9632-B1A6C5F17D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АЗ, ДВА, ТРИ,ЧЕТЫРЕ,ПЯТЬ…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же начали считат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3816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звезд на неб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травинок в пол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крошек в хлеб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капель в мор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просы эт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найти отве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сейчас вам, дети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м один совет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опытатьс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цифрами дружить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не боятьс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ть и не тужи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.Савичев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ath &amp; Math Helps"/>
          <p:cNvPicPr/>
          <p:nvPr/>
        </p:nvPicPr>
        <p:blipFill>
          <a:blip r:embed="rId1"/>
          <a:stretch/>
        </p:blipFill>
        <p:spPr>
          <a:xfrm>
            <a:off x="3492360" y="2141640"/>
            <a:ext cx="6102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ИМСКИЕ ЧИС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435640" y="836640"/>
            <a:ext cx="3097080" cy="27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– о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– д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- т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5" descr="C:\Documents and Settings\Admin\Рабочий стол\image015.jpg"/>
          <p:cNvPicPr/>
          <p:nvPr/>
        </p:nvPicPr>
        <p:blipFill>
          <a:blip r:embed="rId1"/>
          <a:stretch/>
        </p:blipFill>
        <p:spPr>
          <a:xfrm>
            <a:off x="755640" y="1773360"/>
            <a:ext cx="3816360" cy="3235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900000" y="5229360"/>
            <a:ext cx="360072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Tahoma"/>
              </a:rPr>
              <a:t>Цифры ПЯТЬ и ДЕСЯ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9" descr="Рисунок2"/>
          <p:cNvPicPr/>
          <p:nvPr/>
        </p:nvPicPr>
        <p:blipFill>
          <a:blip r:embed="rId2"/>
          <a:stretch/>
        </p:blipFill>
        <p:spPr>
          <a:xfrm>
            <a:off x="4629240" y="3645000"/>
            <a:ext cx="4514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имские цифры употребляют довольно часто в наши дн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4" descr="GAL_GENEVA"/>
          <p:cNvPicPr/>
          <p:nvPr/>
        </p:nvPicPr>
        <p:blipFill>
          <a:blip r:embed="rId1"/>
          <a:stretch/>
        </p:blipFill>
        <p:spPr>
          <a:xfrm>
            <a:off x="755640" y="1989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5776699-stack-of-old-books-with-roman-numbers"/>
          <p:cNvPicPr/>
          <p:nvPr/>
        </p:nvPicPr>
        <p:blipFill>
          <a:blip r:embed="rId2"/>
          <a:stretch/>
        </p:blipFill>
        <p:spPr>
          <a:xfrm rot="1102800">
            <a:off x="5076360" y="1988640"/>
            <a:ext cx="3152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ифры -  буквы греков и славя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щелкните, и изображение увеличится"/>
          <p:cNvPicPr/>
          <p:nvPr/>
        </p:nvPicPr>
        <p:blipFill>
          <a:blip r:embed="rId1"/>
          <a:srcRect l="54106" t="0" r="0" b="0"/>
          <a:stretch/>
        </p:blipFill>
        <p:spPr>
          <a:xfrm>
            <a:off x="4572000" y="1916280"/>
            <a:ext cx="4032360" cy="42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main1226295003"/>
          <p:cNvPicPr/>
          <p:nvPr/>
        </p:nvPicPr>
        <p:blipFill>
          <a:blip r:embed="rId2"/>
          <a:stretch/>
        </p:blipFill>
        <p:spPr>
          <a:xfrm>
            <a:off x="900000" y="1628640"/>
            <a:ext cx="3414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Арабские цифры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об записи чисел всего десятью знаками , который принят теперь во всем мире, был создан в </a:t>
            </a: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Древней Инд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дийская система счета распространилась затем по Европе, а цифры получили название арабски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правильнее их называть все-таки </a:t>
            </a:r>
            <a:r>
              <a:rPr b="1" i="1" lang="ru-RU" sz="3200" spc="-1" strike="noStrike">
                <a:solidFill>
                  <a:srgbClr val="99ccff"/>
                </a:solidFill>
                <a:latin typeface="Tahoma"/>
              </a:rPr>
              <a:t>индийск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9-22"/>
          <p:cNvPicPr/>
          <p:nvPr/>
        </p:nvPicPr>
        <p:blipFill>
          <a:blip r:embed="rId1"/>
          <a:stretch/>
        </p:blipFill>
        <p:spPr>
          <a:xfrm>
            <a:off x="4788000" y="1125360"/>
            <a:ext cx="2703240" cy="417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Рисунок1"/>
          <p:cNvPicPr/>
          <p:nvPr/>
        </p:nvPicPr>
        <p:blipFill>
          <a:blip r:embed="rId2"/>
          <a:stretch/>
        </p:blipFill>
        <p:spPr>
          <a:xfrm>
            <a:off x="3780000" y="5300640"/>
            <a:ext cx="5148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ЭТИМОЛОГИЯ СЛОВА 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ЦИФ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330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ль похож на букву </a:t>
            </a:r>
            <a:r>
              <a:rPr b="1" i="1" lang="ru-RU" sz="2000" spc="-1" strike="noStrike">
                <a:solidFill>
                  <a:srgbClr val="99cc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 не значит нич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любую цифру враз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величит в десять раз. </a:t>
            </a:r>
            <a:br>
              <a:rPr sz="2000"/>
            </a:b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f_16921527"/>
          <p:cNvPicPr/>
          <p:nvPr/>
        </p:nvPicPr>
        <p:blipFill>
          <a:blip r:embed="rId1"/>
          <a:stretch/>
        </p:blipFill>
        <p:spPr>
          <a:xfrm>
            <a:off x="4311720" y="184464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у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– очень важная персо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50920" y="1916280"/>
            <a:ext cx="14256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48436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3419640" y="4005360"/>
            <a:ext cx="12808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4500720" y="4005360"/>
            <a:ext cx="143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6804000" y="3933720"/>
            <a:ext cx="1366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1187280" y="1844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5508720" y="3860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1332000" y="1916280"/>
            <a:ext cx="15685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13"/>
          <p:cNvSpPr txBox="1"/>
          <p:nvPr/>
        </p:nvSpPr>
        <p:spPr>
          <a:xfrm>
            <a:off x="5580000" y="3860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чет на </a:t>
            </a: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АБАК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зграфленной дос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8" descr="Image663"/>
          <p:cNvPicPr/>
          <p:nvPr/>
        </p:nvPicPr>
        <p:blipFill>
          <a:blip r:embed="rId1"/>
          <a:stretch/>
        </p:blipFill>
        <p:spPr>
          <a:xfrm>
            <a:off x="3276720" y="1700280"/>
            <a:ext cx="5616360" cy="35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61E8AAA8D8199DFC47D42286EEA1E8"/>
          <p:cNvPicPr/>
          <p:nvPr/>
        </p:nvPicPr>
        <p:blipFill>
          <a:blip r:embed="rId2"/>
          <a:stretch/>
        </p:blipFill>
        <p:spPr>
          <a:xfrm rot="20981400">
            <a:off x="395280" y="1628640"/>
            <a:ext cx="3463920" cy="4896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1642680" y="5300280"/>
            <a:ext cx="78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На каждую графу абака клали кружо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с нужной цифр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а место нуля оставляли пуст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Потом это пустое место стали накрывать пустым же кружк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ЭТИМОЛОГИЯ СЛОВА 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ЦИФ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ЯЯ ИНДИЯ – </a:t>
            </a:r>
            <a:r>
              <a:rPr b="1" i="1" lang="ru-RU" sz="4800" spc="-1" strike="noStrike">
                <a:solidFill>
                  <a:srgbClr val="99ccff"/>
                </a:solidFill>
                <a:latin typeface="Tahoma"/>
              </a:rPr>
              <a:t>СУНЬ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Ы – </a:t>
            </a:r>
            <a:r>
              <a:rPr b="1" i="1" lang="ru-RU" sz="5400" spc="-1" strike="noStrike">
                <a:solidFill>
                  <a:srgbClr val="99ccff"/>
                </a:solidFill>
                <a:latin typeface="Tahoma"/>
              </a:rPr>
              <a:t>СИФ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ccff"/>
                </a:solidFill>
                <a:latin typeface="Tahoma"/>
              </a:rPr>
              <a:t>СИФР – «ЦИФР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лат.) -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7532f896536a"/>
          <p:cNvPicPr/>
          <p:nvPr/>
        </p:nvPicPr>
        <p:blipFill>
          <a:blip r:embed="rId1"/>
          <a:srcRect l="12189" t="3387" r="12189" b="14721"/>
          <a:stretch/>
        </p:blipFill>
        <p:spPr>
          <a:xfrm>
            <a:off x="0" y="0"/>
            <a:ext cx="506556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7532f896536a"/>
          <p:cNvPicPr/>
          <p:nvPr/>
        </p:nvPicPr>
        <p:blipFill>
          <a:blip r:embed="rId2"/>
          <a:srcRect l="12189" t="3387" r="12189" b="14721"/>
          <a:stretch/>
        </p:blipFill>
        <p:spPr>
          <a:xfrm>
            <a:off x="4078440" y="0"/>
            <a:ext cx="50655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7532f896536a"/>
          <p:cNvPicPr/>
          <p:nvPr/>
        </p:nvPicPr>
        <p:blipFill>
          <a:blip r:embed="rId3"/>
          <a:srcRect l="12189" t="3387" r="12189" b="14721"/>
          <a:stretch/>
        </p:blipFill>
        <p:spPr>
          <a:xfrm rot="21011400">
            <a:off x="971640" y="1413000"/>
            <a:ext cx="184284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7532f896536a"/>
          <p:cNvPicPr/>
          <p:nvPr/>
        </p:nvPicPr>
        <p:blipFill>
          <a:blip r:embed="rId4"/>
          <a:srcRect l="12189" t="3387" r="12189" b="14721"/>
          <a:stretch/>
        </p:blipFill>
        <p:spPr>
          <a:xfrm rot="21011400">
            <a:off x="3203640" y="259920"/>
            <a:ext cx="4627440" cy="6264360"/>
          </a:xfrm>
          <a:prstGeom prst="rect">
            <a:avLst/>
          </a:prstGeom>
          <a:ln w="0">
            <a:noFill/>
          </a:ln>
        </p:spPr>
      </p:pic>
      <p:pic>
        <p:nvPicPr>
          <p:cNvPr id="114" name="103 Evanescence - My immortal.mp3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492280"/>
            <a:ext cx="84358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Благодарность в подготовке проекта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выражаю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своим родителям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учителю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Окриковой Розалии Камильевне.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36280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Цель: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ить историю возникновения цифр и их значение в жизни челове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мотреть истор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новения чисел и цифр, их значение в жизн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 этимологию слова «цифр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комиться с разными видами циф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результаты,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56a7b0f49c364a125dabb38c6607dd29bc81cc88142840"/>
          <p:cNvPicPr/>
          <p:nvPr/>
        </p:nvPicPr>
        <p:blipFill>
          <a:blip r:embed="rId1"/>
          <a:stretch/>
        </p:blipFill>
        <p:spPr>
          <a:xfrm>
            <a:off x="6877080" y="5418000"/>
            <a:ext cx="2266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ЭТАПЫ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проектной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еятельност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материа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возникновении счета и циф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материала о науке нумер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ение наблюдений,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ение през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упление с проектом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2347181"/>
          <p:cNvPicPr/>
          <p:nvPr/>
        </p:nvPicPr>
        <p:blipFill>
          <a:blip r:embed="rId1"/>
          <a:stretch/>
        </p:blipFill>
        <p:spPr>
          <a:xfrm>
            <a:off x="6389640" y="189000"/>
            <a:ext cx="2525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8000" y="333000"/>
            <a:ext cx="35384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ервобытные люд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ак же как и современные маленькие дети, не знали счета, а  учиться им было не у кого.  Их учителем была сама жизнь, поэтому и обучение шло медл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250920" y="620640"/>
            <a:ext cx="5219640" cy="583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aveman07"/>
          <p:cNvPicPr/>
          <p:nvPr/>
        </p:nvPicPr>
        <p:blipFill>
          <a:blip r:embed="rId2"/>
          <a:stretch/>
        </p:blipFill>
        <p:spPr>
          <a:xfrm>
            <a:off x="4284720" y="5229360"/>
            <a:ext cx="15825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Наши  далекие предки  из множества различных предметов сначала научились выделять отдельные предме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01308"/>
          <p:cNvPicPr/>
          <p:nvPr/>
        </p:nvPicPr>
        <p:blipFill>
          <a:blip r:embed="rId1"/>
          <a:stretch/>
        </p:blipFill>
        <p:spPr>
          <a:xfrm>
            <a:off x="395280" y="2133720"/>
            <a:ext cx="3522600" cy="26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лр"/>
          <p:cNvPicPr/>
          <p:nvPr/>
        </p:nvPicPr>
        <p:blipFill>
          <a:blip r:embed="rId2"/>
          <a:stretch/>
        </p:blipFill>
        <p:spPr>
          <a:xfrm>
            <a:off x="2556000" y="2852640"/>
            <a:ext cx="3154320" cy="228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776"/>
          <p:cNvPicPr/>
          <p:nvPr/>
        </p:nvPicPr>
        <p:blipFill>
          <a:blip r:embed="rId3"/>
          <a:stretch/>
        </p:blipFill>
        <p:spPr>
          <a:xfrm>
            <a:off x="5219640" y="2276640"/>
            <a:ext cx="3264120" cy="2184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1763640" y="5445000"/>
            <a:ext cx="5400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ОДИН» и «МНОГ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4114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хота была удачной, нужно было уметь окружить зверя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старший ставил двух охотников за берлогой медведя, четырех с рогатинами — против берлоги, трех — с одной стороны и трех — с другой стороны берлог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этого он должен был уметь считать, а так как названий чисел тогда еще не было, он показывал число </a:t>
            </a:r>
            <a:r>
              <a:rPr b="1" lang="ru-RU" sz="3200" spc="-1" strike="noStrike">
                <a:solidFill>
                  <a:srgbClr val="99ccff"/>
                </a:solidFill>
                <a:latin typeface="Tahoma"/>
              </a:rPr>
              <a:t>на пальц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0006-010-V-protsesse-okhoty-i-truda-u-pervobytnykh-ljudej-voznikla-potrebnost-v"/>
          <p:cNvPicPr/>
          <p:nvPr/>
        </p:nvPicPr>
        <p:blipFill>
          <a:blip r:embed="rId1"/>
          <a:stretch/>
        </p:blipFill>
        <p:spPr>
          <a:xfrm>
            <a:off x="4140360" y="692280"/>
            <a:ext cx="4654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Пальцы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ыграли немалую роль в истории счета. Одна пятерня означала </a:t>
            </a: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 две</a:t>
            </a: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. Когда рук не хватало, в ход шли и ноги. Две руки и одна нога - 15, две руки и две ноги - 20.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7" descr="H:\счёты\с27.png"/>
          <p:cNvPicPr/>
          <p:nvPr/>
        </p:nvPicPr>
        <p:blipFill>
          <a:blip r:embed="rId1"/>
          <a:srcRect l="0" t="0" r="0" b="47868"/>
          <a:stretch/>
        </p:blipFill>
        <p:spPr>
          <a:xfrm>
            <a:off x="395280" y="2205000"/>
            <a:ext cx="561672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Admin\Рабочий стол\image002.gif"/>
          <p:cNvPicPr/>
          <p:nvPr/>
        </p:nvPicPr>
        <p:blipFill>
          <a:blip r:embed="rId2"/>
          <a:stretch/>
        </p:blipFill>
        <p:spPr>
          <a:xfrm>
            <a:off x="6156360" y="3068640"/>
            <a:ext cx="2681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85988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 разных странах люди по-разному записывали числа. Записи появлялись в виде  отложенных ракушек или камешков или в виде узелков, завязанных на ремне или веревке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H:\счёты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3708360" y="3645000"/>
            <a:ext cx="5257800" cy="27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:\счёты\с16.jpg"/>
          <p:cNvPicPr/>
          <p:nvPr/>
        </p:nvPicPr>
        <p:blipFill>
          <a:blip r:embed="rId2"/>
          <a:srcRect l="0" t="0" r="0" b="45497"/>
          <a:stretch/>
        </p:blipFill>
        <p:spPr>
          <a:xfrm rot="603600">
            <a:off x="0" y="2491920"/>
            <a:ext cx="39607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24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исла древних египтя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щелкните, и изображение увеличится"/>
          <p:cNvPicPr/>
          <p:nvPr/>
        </p:nvPicPr>
        <p:blipFill>
          <a:blip r:embed="rId1"/>
          <a:srcRect l="0" t="0" r="41593" b="0"/>
          <a:stretch/>
        </p:blipFill>
        <p:spPr>
          <a:xfrm>
            <a:off x="2700360" y="1700280"/>
            <a:ext cx="347508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щелкните, и изображение увеличится"/>
          <p:cNvPicPr/>
          <p:nvPr/>
        </p:nvPicPr>
        <p:blipFill>
          <a:blip r:embed="rId2"/>
          <a:srcRect l="15066" t="0" r="47896" b="71807"/>
          <a:stretch/>
        </p:blipFill>
        <p:spPr>
          <a:xfrm>
            <a:off x="179280" y="1341360"/>
            <a:ext cx="324036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щелкните, и изображение увеличится"/>
          <p:cNvPicPr/>
          <p:nvPr/>
        </p:nvPicPr>
        <p:blipFill>
          <a:blip r:embed="rId3"/>
          <a:srcRect l="9346" t="41049" r="79816" b="38451"/>
          <a:stretch/>
        </p:blipFill>
        <p:spPr>
          <a:xfrm>
            <a:off x="179280" y="2924280"/>
            <a:ext cx="157176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щелкните, и изображение увеличится"/>
          <p:cNvPicPr/>
          <p:nvPr/>
        </p:nvPicPr>
        <p:blipFill>
          <a:blip r:embed="rId4"/>
          <a:srcRect l="12421" t="23064" r="64280" b="59018"/>
          <a:stretch/>
        </p:blipFill>
        <p:spPr>
          <a:xfrm>
            <a:off x="179280" y="4869000"/>
            <a:ext cx="266400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щелкните, и изображение увеличится"/>
          <p:cNvPicPr/>
          <p:nvPr/>
        </p:nvPicPr>
        <p:blipFill>
          <a:blip r:embed="rId5"/>
          <a:srcRect l="20194" t="40999" r="65853" b="38502"/>
          <a:stretch/>
        </p:blipFill>
        <p:spPr>
          <a:xfrm>
            <a:off x="3059280" y="5192640"/>
            <a:ext cx="1871640" cy="16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щелкните, и изображение увеличится"/>
          <p:cNvPicPr/>
          <p:nvPr/>
        </p:nvPicPr>
        <p:blipFill>
          <a:blip r:embed="rId6"/>
          <a:srcRect l="34157" t="33305" r="50317" b="33356"/>
          <a:stretch/>
        </p:blipFill>
        <p:spPr>
          <a:xfrm>
            <a:off x="5219640" y="4699080"/>
            <a:ext cx="166212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щелкните, и изображение увеличится"/>
          <p:cNvPicPr/>
          <p:nvPr/>
        </p:nvPicPr>
        <p:blipFill>
          <a:blip r:embed="rId7"/>
          <a:srcRect l="0" t="61515" r="81359" b="0"/>
          <a:stretch/>
        </p:blipFill>
        <p:spPr>
          <a:xfrm>
            <a:off x="7236000" y="4797360"/>
            <a:ext cx="138420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щелкните, и изображение увеличится"/>
          <p:cNvPicPr/>
          <p:nvPr/>
        </p:nvPicPr>
        <p:blipFill>
          <a:blip r:embed="rId8"/>
          <a:srcRect l="18652" t="61515" r="62748" b="12840"/>
          <a:stretch/>
        </p:blipFill>
        <p:spPr>
          <a:xfrm>
            <a:off x="7128000" y="2924280"/>
            <a:ext cx="2016000" cy="168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щелкните, и изображение увеличится"/>
          <p:cNvPicPr/>
          <p:nvPr/>
        </p:nvPicPr>
        <p:blipFill>
          <a:blip r:embed="rId9"/>
          <a:srcRect l="34157" t="61566" r="41593" b="2598"/>
          <a:stretch/>
        </p:blipFill>
        <p:spPr>
          <a:xfrm>
            <a:off x="7020000" y="1268280"/>
            <a:ext cx="1800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17:53Z</dcterms:created>
  <dc:creator>123654</dc:creator>
  <dc:description/>
  <dc:language>en-US</dc:language>
  <cp:lastModifiedBy>Розалия</cp:lastModifiedBy>
  <dcterms:modified xsi:type="dcterms:W3CDTF">2014-02-14T05:28:00Z</dcterms:modified>
  <cp:revision>17</cp:revision>
  <dc:subject/>
  <dc:title>РАЗ, ДВА, ТРИ,ЧЕТЫРЕ,ПЯТЬ… Как же начали считать?</dc:title>
</cp:coreProperties>
</file>