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CEB-34C4-44DF-A54E-5B450FD8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9E1-B85C-4B12-A2D5-9D395AC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3FB-D846-4CA2-9988-8F1251AF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CA2-A83D-4258-B34B-3FBC2966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3B5-6EAC-41CD-BF69-C0328C5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542-313C-4782-A31F-3486D5AB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7AA-3390-4872-ADC2-BE43F65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5C1-118F-412A-8935-446126EE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946-590B-4E39-965D-440FA26D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BEA-19B2-45EC-B665-C812EF3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44F-A541-411A-B85E-3D53C47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BA3-9A7F-43D8-85A3-CC45651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E66-1F3D-4206-9FEC-5DA47B81D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yli.ru/smile/detia-569.html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ayli.ru/smile/detia-755.html" TargetMode="External"/><Relationship Id="rId2" Type="http://schemas.openxmlformats.org/officeDocument/2006/relationships/image" Target="../media/image4.gif"/><Relationship Id="rId3" Type="http://schemas.openxmlformats.org/officeDocument/2006/relationships/hyperlink" Target="http://smayli.ru/smile/detia-745.html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mayli.ru/smile/detia-423.html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-а класс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теме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уть к толерант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Шепова Еле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1052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испан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о означает способность признавать отличные от собственных идеи или м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 француз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ношение, при котором допускается, что другие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англи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готовность быть терпимым, снисходите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кита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зволять, принимать, быть по отношению к другим душ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араб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щение, снисходительность, мягкость, милосердие,  благосклонность, терпение, расположенность к друг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рус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пособность терпеть что-то или кого-то (быть выносливым, стойким, уметь мириться с существованием чего-либо, ко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рьте себя: насколько вы -  толерантный родитель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сегда ли Вы помните об индивидуальности ребенк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Учитываете ли Вы, что каждая новая ситуация требует нового решен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тараетесь ли Вы понять требования ребенк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Воспринимаете ли Вы противоречия с ребенком как факторы нор­мального развит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Даете ли Вы время ребенку для осмысления Ваших требовани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Пытаетесь ли Вы совместно с ребенком искать выход из конфликт­ной ситуаци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Предлагаете ли Вы выбор из нескольких решени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Стараетесь ли Вы ограниченно применять наказания, соблюдая при этом их справедливость и необходимос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Хватает ли у Вас терпения разъяснять ребенку возможности негатив­ных последствий его поступка или решени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Стараетесь ли Вы расширять диапазон моральных, а не материаль­ных поощрений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Используете ли положительные примеры выхода из конфликта дру­гих детей и родителей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туация 1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шему ребёнку прописали носить очки, но в первый же день дети его обсмеял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Анимашки Де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365720"/>
            <a:ext cx="1282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туация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ь вызвал ученика к доске решать уравнение. Ребенок постоял несколько секунд у доски и заплака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Анимашки Де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5013360"/>
            <a:ext cx="108756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Анимашки Дет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591080"/>
            <a:ext cx="1872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туация 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 отсчитала сына при всем классе за то, что у него под партой лежал его пиджак и спортивная форм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Анимашки Де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508640"/>
            <a:ext cx="3179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886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хема «Толерантный родитель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993600" y="2405160"/>
            <a:ext cx="1778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479760" y="2405160"/>
            <a:ext cx="19558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6156360" y="2405160"/>
            <a:ext cx="1778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1774800" y="4221000"/>
            <a:ext cx="19940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4932360" y="4221000"/>
            <a:ext cx="18493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0"/>
          <p:cNvSpPr/>
          <p:nvPr/>
        </p:nvSpPr>
        <p:spPr>
          <a:xfrm>
            <a:off x="2855880" y="2351160"/>
            <a:ext cx="401760" cy="1851120"/>
          </a:xfrm>
          <a:prstGeom prst="downArrow">
            <a:avLst>
              <a:gd name="adj1" fmla="val 50000"/>
              <a:gd name="adj2" fmla="val 500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1"/>
          <p:cNvSpPr/>
          <p:nvPr/>
        </p:nvSpPr>
        <p:spPr>
          <a:xfrm rot="3469800">
            <a:off x="2826720" y="922680"/>
            <a:ext cx="403200" cy="171288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3"/>
          <p:cNvSpPr/>
          <p:nvPr/>
        </p:nvSpPr>
        <p:spPr>
          <a:xfrm rot="18538800">
            <a:off x="5365440" y="969840"/>
            <a:ext cx="403200" cy="1650960"/>
          </a:xfrm>
          <a:prstGeom prst="downArrow">
            <a:avLst>
              <a:gd name="adj1" fmla="val 50000"/>
              <a:gd name="adj2" fmla="val 499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4"/>
          <p:cNvSpPr/>
          <p:nvPr/>
        </p:nvSpPr>
        <p:spPr>
          <a:xfrm>
            <a:off x="5567400" y="2370240"/>
            <a:ext cx="401760" cy="1850760"/>
          </a:xfrm>
          <a:prstGeom prst="downArrow">
            <a:avLst>
              <a:gd name="adj1" fmla="val 50000"/>
              <a:gd name="adj2" fmla="val 500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5"/>
          <p:cNvSpPr/>
          <p:nvPr/>
        </p:nvSpPr>
        <p:spPr>
          <a:xfrm>
            <a:off x="4255920" y="1268280"/>
            <a:ext cx="403560" cy="1082880"/>
          </a:xfrm>
          <a:prstGeom prst="downArrow">
            <a:avLst>
              <a:gd name="adj1" fmla="val 50000"/>
              <a:gd name="adj2" fmla="val 498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5:46:55Z</dcterms:created>
  <dc:creator>Admin</dc:creator>
  <dc:description/>
  <dc:language>en-US</dc:language>
  <cp:lastModifiedBy>АЛЁНА</cp:lastModifiedBy>
  <dcterms:modified xsi:type="dcterms:W3CDTF">2013-10-16T18:03:23Z</dcterms:modified>
  <cp:revision>13</cp:revision>
  <dc:subject/>
  <dc:title>Слайд 1</dc:title>
</cp:coreProperties>
</file>