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69B-9C03-4675-8475-09FD127C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B29-58FC-41E8-A579-EA1AA09F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7F8-3605-42F2-BD92-F7628FF3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140-5819-4A48-9977-6CB9F7EB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8C1-AEAC-4E7F-A1F0-BF7E9703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A30-0663-4CBA-B73A-BC965A76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4AE-BC41-42F3-9C25-DE9E019A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8F4-39D0-4DA9-814D-1CB894FA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66E-A46C-43EA-831F-8B3FB06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CF4-753E-4902-95A3-87317050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549-A415-43DC-A593-1941E197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104-BB6C-4118-94C0-A430AA10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BC62-1B96-44D4-BAA8-1BC4BA2F1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ayli.ru/smile/detia-569.html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ayli.ru/smile/detia-755.html" TargetMode="External"/><Relationship Id="rId2" Type="http://schemas.openxmlformats.org/officeDocument/2006/relationships/image" Target="../media/image4.gif"/><Relationship Id="rId3" Type="http://schemas.openxmlformats.org/officeDocument/2006/relationships/hyperlink" Target="http://smayli.ru/smile/detia-745.html" TargetMode="Externa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mayli.ru/smile/detia-423.html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дительское собрание в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-а класс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теме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уть к толерант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Шепова Еле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7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105264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испанском язы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о означает способность признавать отличные от собственных идеи или м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 француз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тношение, при котором допускается, что другие думать или действовать иначе, нежели ты с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англий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готовность быть терпимым, снисходите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китай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зволять, принимать, быть по отношению к другим душ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араб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щение, снисходительность, мягкость, милосердие,  благосклонность, терпение, расположенность к друг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рус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пособность терпеть что-то или кого-то (быть выносливым, стойким, уметь мириться с существованием чего-либо, кого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рьте себя: насколько вы -  толерантный родитель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сегда ли Вы помните об индивидуальности ребенка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Учитываете ли Вы, что каждая новая ситуация требует нового решени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тараетесь ли Вы понять требования ребенка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Воспринимаете ли Вы противоречия с ребенком как факторы нор­мального развити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Даете ли Вы время ребенку для осмысления Ваших требований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Пытаетесь ли Вы совместно с ребенком искать выход из конфликт­ной ситуаци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Предлагаете ли Вы выбор из нескольких решений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Стараетесь ли Вы ограниченно применять наказания, соблюдая при этом их справедливость и необходимост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Хватает ли у Вас терпения разъяснять ребенку возможности негатив­ных последствий его поступка или решени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Стараетесь ли Вы расширять диапазон моральных, а не материаль­ных поощрений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Используете ли положительные примеры выхода из конфликта дру­гих детей и родителей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туация 1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шему ребёнку прописали носить очки, но в первый же день дети его обсмеял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Анимашки Дет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365720"/>
            <a:ext cx="1282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туация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ель вызвал ученика к доске решать уравнение. Ребенок постоял несколько секунд у доски и заплака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Анимашки Дет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5013360"/>
            <a:ext cx="1087560" cy="1450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Анимашки Дет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591080"/>
            <a:ext cx="1872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туация 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 отсчитала сына при всем классе за то, что у него под партой лежал его пиджак и спортивная форм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Анимашки Дет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508640"/>
            <a:ext cx="3179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1886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хема «Толерантный родитель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993600" y="2405160"/>
            <a:ext cx="1778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479760" y="2405160"/>
            <a:ext cx="19558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6156360" y="2405160"/>
            <a:ext cx="1778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1774800" y="4221000"/>
            <a:ext cx="1994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4932360" y="4221000"/>
            <a:ext cx="18493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10"/>
          <p:cNvSpPr/>
          <p:nvPr/>
        </p:nvSpPr>
        <p:spPr>
          <a:xfrm>
            <a:off x="2855880" y="2351160"/>
            <a:ext cx="401760" cy="1851120"/>
          </a:xfrm>
          <a:prstGeom prst="downArrow">
            <a:avLst>
              <a:gd name="adj1" fmla="val 50000"/>
              <a:gd name="adj2" fmla="val 500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1"/>
          <p:cNvSpPr/>
          <p:nvPr/>
        </p:nvSpPr>
        <p:spPr>
          <a:xfrm rot="3469800">
            <a:off x="2826720" y="922680"/>
            <a:ext cx="403200" cy="171288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3"/>
          <p:cNvSpPr/>
          <p:nvPr/>
        </p:nvSpPr>
        <p:spPr>
          <a:xfrm rot="18538800">
            <a:off x="5365440" y="969840"/>
            <a:ext cx="403200" cy="1650960"/>
          </a:xfrm>
          <a:prstGeom prst="downArrow">
            <a:avLst>
              <a:gd name="adj1" fmla="val 50000"/>
              <a:gd name="adj2" fmla="val 499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4"/>
          <p:cNvSpPr/>
          <p:nvPr/>
        </p:nvSpPr>
        <p:spPr>
          <a:xfrm>
            <a:off x="5567400" y="2370240"/>
            <a:ext cx="401760" cy="1850760"/>
          </a:xfrm>
          <a:prstGeom prst="downArrow">
            <a:avLst>
              <a:gd name="adj1" fmla="val 50000"/>
              <a:gd name="adj2" fmla="val 500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5"/>
          <p:cNvSpPr/>
          <p:nvPr/>
        </p:nvSpPr>
        <p:spPr>
          <a:xfrm>
            <a:off x="4255920" y="1268280"/>
            <a:ext cx="403560" cy="1082880"/>
          </a:xfrm>
          <a:prstGeom prst="downArrow">
            <a:avLst>
              <a:gd name="adj1" fmla="val 50000"/>
              <a:gd name="adj2" fmla="val 498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5:46:55Z</dcterms:created>
  <dc:creator>Admin</dc:creator>
  <dc:description/>
  <dc:language>en-US</dc:language>
  <cp:lastModifiedBy>АЛЁНА</cp:lastModifiedBy>
  <dcterms:modified xsi:type="dcterms:W3CDTF">2013-10-16T18:03:23Z</dcterms:modified>
  <cp:revision>13</cp:revision>
  <dc:subject/>
  <dc:title>Слайд 1</dc:title>
</cp:coreProperties>
</file>