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click.wav" ContentType="audio/x-wav"/>
  <Override PartName="/ppt/media/image12.gif" ContentType="image/gif"/>
  <Override PartName="/ppt/media/image7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3.png" ContentType="image/png"/>
  <Override PartName="/ppt/media/image2.png" ContentType="image/png"/>
  <Override PartName="/ppt/media/image25.png" ContentType="image/png"/>
  <Override PartName="/ppt/media/image21.gif" ContentType="image/gi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7C6F-1911-454C-804F-0277312AB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B5AA-803D-4A6F-A260-116C7AE7664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0461-0394-4A78-BB13-797636BE6809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0E9D-409F-4CFC-AFB8-FE383E8E86E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F43-8C6A-4BA8-B6FF-092ECD88C506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1B2-E601-4C21-98BD-B621276B131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FF1B-53F0-4666-96E6-A343D4B67103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B76-CEA5-4DEC-BD4D-4E830728466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BC8-EFD3-4925-8E2F-52C056AFFE10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7D11-F2B8-405D-869F-F62B304E544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5AFD-2B65-4DE1-AE94-5A83BF1BF3DC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4F8-A891-4888-9E3A-A750EBBA817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4565-741A-4C40-B2DA-BC89BD359CF1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D49-1772-4067-850C-07CA2626B43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E6A-F544-4310-BF02-982A0CCCEBAC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5A6-9919-4255-A556-84228A76C98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D31-8D92-4A74-85CD-3976406C10C0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E6D4-CEB6-44FF-BA0D-8DF703FBD1A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7CE4-6842-4673-8205-B26FFCB28B99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CFF-772D-44A1-A504-30E9F90F795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34D0-297E-4F8D-9808-B31C286CEFD6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7D1F-34A5-4F8D-A27A-C4702EDA211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034-EC22-4A1B-9F00-5DC54C686D65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84E5-FD43-4576-8EA8-5EE69B241FE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A45-0EC9-4CB3-89B9-3F869D602C8A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9B1A-5446-48F0-B705-08F5BE39C14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C02-5A6D-4515-8527-895D6F8C0DAD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170-F59A-4750-B770-B7BD3136231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AA1-CECC-4584-B543-B9C48FB32BE0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2DB-751B-4F78-AB5C-F79BE344B64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D12-8AE2-4570-833E-FBDE7A1079BB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EF8-3BC5-49BF-8594-8B2793FD8D6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9149-CD9C-4295-8C74-726C47EC0B3C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653-81ED-41E7-B1EB-B6043A8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C1E-FAA0-47A4-A6DC-CB61972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69F-985B-424F-B46F-1FB91C3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170-005B-4B33-9FD2-C4AB138F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35B4-1B1A-4559-AABD-833FA941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EF7-AEE2-41A2-BE4D-D41281B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BC0-D903-4EE8-AC51-C5372959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3613-A41C-4433-BA84-1E8BAE9E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C387-A009-4B4A-959F-89BCE42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4AC-7848-477B-9CF7-643506E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A9F-57FE-4B29-9F9B-5AC1E1E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013-921B-4042-9874-78E14580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A78-0A00-4308-8F62-93885CA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6A3F-643C-470A-A95A-0D2F370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B145-3195-4B6D-BD5A-68021390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2482-F6F1-4168-B9D6-C506C152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498B-9201-47F6-BDF4-472B036E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D0A-9DDD-4CFA-A909-2E0546A2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4C1-9ECE-4AF3-8576-6870E23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5FA-5F49-4C73-9D44-504E273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6D9-3BF3-4297-9D8E-F85F63E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90A-09E2-411E-99E0-81A5682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BD1-2511-4684-A3C3-F42140A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8E7-7C6A-4459-8B3A-7C7556D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898-6AC4-48E5-BE3F-F1BB4331AD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40D-DCEF-49BA-9CA0-6E68B103035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0B9-9656-485D-A0A4-C35A372EEAE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87280" y="-36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364000" y="0"/>
            <a:ext cx="33703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3640" y="1916280"/>
            <a:ext cx="66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Телевидение, компьютер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овременных школьников»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1258920" y="4437000"/>
            <a:ext cx="403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дготовил классный руководитель 6 класса: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Макашева Галина Александров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5" name="Рисунок 3" descr="http://im0-tub.yandex.net/i?id=171186382&amp;tov=0"/>
          <p:cNvPicPr/>
          <p:nvPr/>
        </p:nvPicPr>
        <p:blipFill>
          <a:blip r:embed="rId2"/>
          <a:stretch/>
        </p:blipFill>
        <p:spPr>
          <a:xfrm>
            <a:off x="5267160" y="3365640"/>
            <a:ext cx="3840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1B95-5505-4673-846F-C29EBF0FC56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C57-0097-4574-8A65-32A2991E27D8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064-1CBD-4DC2-90AA-CF6499524BC9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Организация рабочего места шк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1364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76360" y="2362320"/>
          <a:ext cx="7272360" cy="4162320"/>
        </p:xfrm>
        <a:graphic>
          <a:graphicData uri="http://schemas.openxmlformats.org/drawingml/2006/table">
            <a:tbl>
              <a:tblPr/>
              <a:tblGrid>
                <a:gridCol w="1970280"/>
                <a:gridCol w="1380960"/>
                <a:gridCol w="2103480"/>
                <a:gridCol w="1817640"/>
              </a:tblGrid>
              <a:tr h="48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т учащегося см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Высота над полом, мм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Сто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ранство для ног,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у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-13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-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-1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-17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7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18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85"/>
          <p:cNvSpPr/>
          <p:nvPr/>
        </p:nvSpPr>
        <p:spPr>
          <a:xfrm>
            <a:off x="1187280" y="1371600"/>
            <a:ext cx="79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* Мебель (стол и стул) по своим размерам должны соответствовать росту ребенка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F14-84D2-47BE-8B07-2EB340383DC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B87F-C52A-43AC-97D4-0F11D6D46924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8648-8412-409C-BB6D-75043E4C26F9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32000" y="990360"/>
            <a:ext cx="7510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* Стол должен быть одноместным. Сиденье и спинки стульев должны быть полумягкими, покрытыми воздухопроницаемым, не электролизующимся и не скользким материалом, легко поддающимся очистке от загрязн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0" name="Picture 4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omputer"/>
          <p:cNvPicPr/>
          <p:nvPr/>
        </p:nvPicPr>
        <p:blipFill>
          <a:blip r:embed="rId2"/>
          <a:stretch/>
        </p:blipFill>
        <p:spPr>
          <a:xfrm>
            <a:off x="3276720" y="3733920"/>
            <a:ext cx="2971800" cy="2766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1AC-76FE-4EC8-839A-BEC3BA216BF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CE3-D8F9-4D2B-BF19-2C6AC7A317F5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A20-A3BB-4C7F-AC6A-A3CB38913735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45720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788000" y="1268280"/>
            <a:ext cx="412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*Горизонтальная поверхность стола для монитора и сидение стула должны поддаваться плавной, легкой и надежной регулировке по высоте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8" name="Picture 1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3209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C8E-C2DE-4A76-8EE0-4A5A80DCB59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4FF-4657-470D-B383-F471D02AC52C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5FB-0D67-4D39-8357-5985FFE47D6B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58560" y="1447560"/>
            <a:ext cx="338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* Удаленность экрана от переднего края стола равна 60-70 см, таким образом, будет соблюдаться требуемая зрительная дистанц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4572000" y="1447920"/>
            <a:ext cx="4266360" cy="3569400"/>
            <a:chOff x="4572000" y="1447920"/>
            <a:chExt cx="4266360" cy="3569400"/>
          </a:xfrm>
        </p:grpSpPr>
        <p:grpSp>
          <p:nvGrpSpPr>
            <p:cNvPr id="235" name="Group 8"/>
            <p:cNvGrpSpPr/>
            <p:nvPr/>
          </p:nvGrpSpPr>
          <p:grpSpPr>
            <a:xfrm>
              <a:off x="4572000" y="1447920"/>
              <a:ext cx="4266360" cy="3569400"/>
              <a:chOff x="4572000" y="1447920"/>
              <a:chExt cx="4266360" cy="3569400"/>
            </a:xfrm>
          </p:grpSpPr>
          <p:pic>
            <p:nvPicPr>
              <p:cNvPr id="236" name="Picture 9" descr="DSC01159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447920"/>
                <a:ext cx="4266360" cy="356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10"/>
              <p:cNvSpPr/>
              <p:nvPr/>
            </p:nvSpPr>
            <p:spPr>
              <a:xfrm>
                <a:off x="6329160" y="2597400"/>
                <a:ext cx="43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333300"/>
                    </a:solidFill>
                    <a:latin typeface="Arial Narrow"/>
                    <a:ea typeface="Arial"/>
                  </a:rPr>
                  <a:t>85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11"/>
            <p:cNvSpPr/>
            <p:nvPr/>
          </p:nvSpPr>
          <p:spPr>
            <a:xfrm flipV="1">
              <a:off x="5976720" y="2807640"/>
              <a:ext cx="1054080" cy="209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pic>
        <p:nvPicPr>
          <p:cNvPr id="239" name="Picture 12" descr="PKG9B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160-99A8-4588-BDBF-A1111624740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1528-5768-41E7-ADD7-7E3C6368C7CA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2A9-7C67-4D79-A3FD-C3E18CCB3932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67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Режим и длительность занятий </a:t>
            </a:r>
            <a:br>
              <a:rPr sz="3600"/>
            </a:b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с использованием П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2920" y="1980720"/>
            <a:ext cx="38163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ебенок ежедневно, особенно в учебном году, получает огромное количество разнообразной информации и основное восприятие окружающего мира идет через орган зрения.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5" name="Picture 11" descr="шк"/>
          <p:cNvPicPr/>
          <p:nvPr/>
        </p:nvPicPr>
        <p:blipFill>
          <a:blip r:embed="rId1"/>
          <a:stretch/>
        </p:blipFill>
        <p:spPr>
          <a:xfrm>
            <a:off x="5562720" y="1981080"/>
            <a:ext cx="2884320" cy="388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PKG9B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D51-F12D-49E2-8647-7E58C09AB14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0204-76D3-4EAF-B577-474AAF1BF8C8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026B-995F-4839-A25C-C27DAFEDF0DD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403280" y="685800"/>
            <a:ext cx="4392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Нагрузка на глаза в школе, дома для выполнения домашнего задания, увеличивается и дополняется просмотром телепередач, пользованием компьютером, компьютерными играми.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При всем этом глаза, как и тело постоянно вынуждены находиться в одном и том же положении. А недостаток движения ведет к возникновению многих проблем в растущем организме ребен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1" name="Picture 4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BD19582_"/>
          <p:cNvPicPr/>
          <p:nvPr/>
        </p:nvPicPr>
        <p:blipFill>
          <a:blip r:embed="rId2"/>
          <a:stretch/>
        </p:blipFill>
        <p:spPr>
          <a:xfrm>
            <a:off x="5943600" y="17524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FDF7-7A01-4214-BE83-6CD5288C9F5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E45-AB0C-4F0A-90D5-66C3187DC809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727C-7C0C-4E3E-BFD1-788B1D822C7F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04920" y="380880"/>
            <a:ext cx="8381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332000" y="457200"/>
            <a:ext cx="7812000" cy="75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Проблем помогут избежать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Четкое выполнени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режима дня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, труда и отдых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бязательны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прогулк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после школы на свежем воздухе, закаливающие процедуры для тела, проветривание комнаты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Правильная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санка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за столом и монитором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свещ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помещения предпочтительнее дневное. Стены комнаты спокойных тон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Время безопасной работы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за компьютером зависит от возраста ребенк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58" name="Picture 8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byd"/>
          <p:cNvPicPr/>
          <p:nvPr/>
        </p:nvPicPr>
        <p:blipFill>
          <a:blip r:embed="rId2"/>
          <a:stretch/>
        </p:blipFill>
        <p:spPr>
          <a:xfrm>
            <a:off x="3203640" y="1484280"/>
            <a:ext cx="86040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203-426D-4B14-95A9-787E5EBB03F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C1D-289E-4274-A8B2-D7F415D762F7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D43-4CC2-492A-BB47-3D4D1440D057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060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Длительность работы за ПК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ru-RU" sz="3100" spc="-1" strike="noStrike">
                <a:solidFill>
                  <a:srgbClr val="6600ff"/>
                </a:solidFill>
                <a:latin typeface="Times New Roman"/>
              </a:rPr>
              <a:t>не должна превышать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18288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4392720" y="19414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4392720" y="24382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4392720" y="293544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4392720" y="349416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4392720" y="39909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4392720" y="44877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876320"/>
          <a:ext cx="7848720" cy="4577040"/>
        </p:xfrm>
        <a:graphic>
          <a:graphicData uri="http://schemas.openxmlformats.org/drawingml/2006/table">
            <a:tbl>
              <a:tblPr/>
              <a:tblGrid>
                <a:gridCol w="3121200"/>
                <a:gridCol w="2382840"/>
                <a:gridCol w="234468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-6 лет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-5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-7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-9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-11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</a:tbl>
          </a:graphicData>
        </a:graphic>
      </p:graphicFrame>
      <p:sp>
        <p:nvSpPr>
          <p:cNvPr id="278" name="AutoShape 133"/>
          <p:cNvSpPr/>
          <p:nvPr/>
        </p:nvSpPr>
        <p:spPr>
          <a:xfrm>
            <a:off x="4191120" y="2057400"/>
            <a:ext cx="1904760" cy="3808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AutoShape 134"/>
          <p:cNvSpPr/>
          <p:nvPr/>
        </p:nvSpPr>
        <p:spPr>
          <a:xfrm>
            <a:off x="4267080" y="281952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AutoShape 135"/>
          <p:cNvSpPr/>
          <p:nvPr/>
        </p:nvSpPr>
        <p:spPr>
          <a:xfrm>
            <a:off x="4267080" y="3581280"/>
            <a:ext cx="1828800" cy="38124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AutoShape 136"/>
          <p:cNvSpPr/>
          <p:nvPr/>
        </p:nvSpPr>
        <p:spPr>
          <a:xfrm>
            <a:off x="4267080" y="4267080"/>
            <a:ext cx="1752840" cy="45720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AutoShape 137"/>
          <p:cNvSpPr/>
          <p:nvPr/>
        </p:nvSpPr>
        <p:spPr>
          <a:xfrm>
            <a:off x="4267080" y="502920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AutoShape 138"/>
          <p:cNvSpPr/>
          <p:nvPr/>
        </p:nvSpPr>
        <p:spPr>
          <a:xfrm>
            <a:off x="4267080" y="5638680"/>
            <a:ext cx="1752840" cy="38124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Picture 141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8A96-4393-4F7A-8186-2BBF4762EDC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BCA1-EA37-400C-BB56-3AC49A012BA3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F4B6-8ADB-4FBD-9528-6757ADE0B6C8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5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Общее время работы с компьютером в течение дн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85800" y="1828800"/>
            <a:ext cx="22096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8-10 ле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581280" y="1828800"/>
            <a:ext cx="20574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11-13 ле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400800" y="1828800"/>
            <a:ext cx="220968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14-16 ле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 rot="16200000">
            <a:off x="129204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 rot="16200000">
            <a:off x="418788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 rot="16200000">
            <a:off x="7083360" y="35082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1219320" y="304812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4114800" y="29718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7010280" y="28954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Oval 13"/>
          <p:cNvSpPr/>
          <p:nvPr/>
        </p:nvSpPr>
        <p:spPr>
          <a:xfrm>
            <a:off x="685800" y="4648320"/>
            <a:ext cx="1905120" cy="1676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3505320" y="4572000"/>
            <a:ext cx="20574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6477120" y="4495680"/>
            <a:ext cx="2057400" cy="1752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1050840" y="4789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43000" y="50292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30-35 мин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3809880" y="4952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35-45 мин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8032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85800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45 м. -  1 час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6" name="Picture 29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A535-64E8-404B-B8F1-CF449C14D0B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145C-7F16-42CF-BFAF-C5152D88CBC7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B657-34E5-4F2D-B412-A7725FD3867B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Профилактика зрительного и общего утом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6920" y="1828440"/>
            <a:ext cx="54723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роведение упражнений для глаз, физкультминутки улучшают функциональное состояние зрительного анализатора, центральной нервной, сердечно-сосудистой, дыхательной, мышечной и других систем организма, способствует ликвидации застойных явлений в нижней половине тела и ног, образующихся при работе в положении сидя, улучшают кровоснабжение мозга, снимают зрительное утомлени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2" name="Picture 10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Дети-Индиго"/>
          <p:cNvPicPr/>
          <p:nvPr/>
        </p:nvPicPr>
        <p:blipFill>
          <a:blip r:embed="rId2"/>
          <a:stretch/>
        </p:blipFill>
        <p:spPr>
          <a:xfrm>
            <a:off x="6629400" y="2193840"/>
            <a:ext cx="2362320" cy="1997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4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46D-98A7-46B7-B5B8-9B600237DCD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-11520"/>
            <a:ext cx="8777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42920" y="571320"/>
            <a:ext cx="7948800" cy="55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левид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должно быть не целью,а средством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 передачи «Культурная революция»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мпьютер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может быть не только другом,     но и превратиться в злейшего врага,    который мстит потерей здоровья и интеллекта.                                   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нение врач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Рисунок 3" descr="http://im3-tub.yandex.net/i?id=116380452&amp;tov=3"/>
          <p:cNvPicPr/>
          <p:nvPr/>
        </p:nvPicPr>
        <p:blipFill>
          <a:blip r:embed="rId1"/>
          <a:stretch/>
        </p:blipFill>
        <p:spPr>
          <a:xfrm>
            <a:off x="682560" y="4054320"/>
            <a:ext cx="3481560" cy="28036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http://im8-tub.yandex.net/i?id=71021445&amp;tov=8"/>
          <p:cNvPicPr/>
          <p:nvPr/>
        </p:nvPicPr>
        <p:blipFill>
          <a:blip r:embed="rId2"/>
          <a:stretch/>
        </p:blipFill>
        <p:spPr>
          <a:xfrm>
            <a:off x="5394240" y="4151160"/>
            <a:ext cx="3640320" cy="3005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E1F-EAB6-4750-AB82-57A73DEE846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E99-1028-420B-877F-0C0B7785E2D2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A57-F585-476A-9BE0-9935D46C8DD5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ПОМНИТ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416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полнение рекомендаций и несложных упражнений поможет сохранить здоровье вашего ребенка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20" name="Picture 1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main_pict"/>
          <p:cNvPicPr/>
          <p:nvPr/>
        </p:nvPicPr>
        <p:blipFill>
          <a:blip r:embed="rId2"/>
          <a:stretch/>
        </p:blipFill>
        <p:spPr>
          <a:xfrm>
            <a:off x="3276720" y="4419720"/>
            <a:ext cx="3352680" cy="2139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E94-5EA3-46FB-8124-71131EAF013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054080" y="-231840"/>
            <a:ext cx="5827680" cy="20113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Возможно, стоит просто запретить                             просмотр телепередач или                      ограничить ребёнка определёнными программами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А что даёт ребёнку телевизор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Если что-то в просмотре телепередач, особенно для пятиклассников нечто положительное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Возможно, стоит запретить играть на компьютере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А что может дать для ребёнка общение с компьютером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25" name="Picture 4" descr="smile49"/>
          <p:cNvPicPr/>
          <p:nvPr/>
        </p:nvPicPr>
        <p:blipFill>
          <a:blip r:embed="rId2"/>
          <a:stretch/>
        </p:blipFill>
        <p:spPr>
          <a:xfrm>
            <a:off x="0" y="4746600"/>
            <a:ext cx="2357280" cy="211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52F-58C8-4990-AF10-A7E875A5225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58920" y="357120"/>
            <a:ext cx="773280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3300"/>
                </a:solidFill>
                <a:latin typeface="Arial"/>
              </a:rPr>
              <a:t>Учеба с помощью компьютера</a:t>
            </a:r>
            <a:r>
              <a:rPr b="0" lang="ru-RU" sz="2300" spc="-1" strike="noStrike">
                <a:solidFill>
                  <a:srgbClr val="333300"/>
                </a:solidFill>
                <a:latin typeface="Arial"/>
              </a:rPr>
              <a:t> — это:</a:t>
            </a:r>
            <a:endParaRPr b="1" lang="en-US" sz="23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1.Написание текстов и упражнений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2.Составление таблиц и диаграмм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3.Сканирование текстов, рисунков для подготовки уроков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4.Использование учебных дисков по различным предметам для расширения своих знаний и кругозора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5.Использование компьютерного лексикона и словарей для выполнения домашних заданий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6.Возможность эстетичного оформления сочинений, научных работ, докладов, рефератов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7.Возможность поиска информации по определенной учебной теме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8.Возможность участия в олимпиадах различного уровн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Компьютер даст школьнику возможность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-- находить себе друзей, единомышленников в различных странах, городах и поселках;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– бесплатно заказывать необходимые материалы для удовлетворения собственных знаний и интересов;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-- досылать и получать электронные письма, развивать в себе умения писать письм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29" name="Picture 4" descr="v25ani"/>
          <p:cNvPicPr/>
          <p:nvPr/>
        </p:nvPicPr>
        <p:blipFill>
          <a:blip r:embed="rId1"/>
          <a:stretch/>
        </p:blipFill>
        <p:spPr>
          <a:xfrm>
            <a:off x="7667640" y="3645000"/>
            <a:ext cx="2136600" cy="215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38A-8B49-4FF2-A98A-A70184C378E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8020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Телевизор даст школьнику возмож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331640" y="1197000"/>
            <a:ext cx="7497720" cy="50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сслабиться, забыть ежедневные проблемы, уйти от страхов и переживаний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нять с помощью телевизора, что такое «хорошо» и что такое «плохо»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нахождения ответа на вопросы, ответы на которые не может получить от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зрослых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из-за их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занятости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звитие познания, повышение культурного уровня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Знакомство с различными 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явлениями в разных областях знаний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звитие воображения,                            фантазии, эмоциональной сферы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E94B-5B66-4FD6-A925-110D9E7D070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1725480" y="450720"/>
            <a:ext cx="727236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116000" y="1267920"/>
            <a:ext cx="7578720" cy="530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333300"/>
                </a:solidFill>
                <a:latin typeface="Arial"/>
              </a:rPr>
              <a:t>- Как сделать так, чтобы эта проблем решилась?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Установить определённое время на просмотр и игры.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Соблюдать режим дня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няться любимым делом, спортом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интересовать кружками, секциями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интересовать книгами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Давать задания по дому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Уделять 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 ребёнку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ольше внимание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общаться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 с ним,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ыть рядом 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с ним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Гулять на воздухе, чаще выезжать с ребёнком в город, кино, театр, отдыхать  на природе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7" descr="slide0033_image280"/>
          <p:cNvPicPr/>
          <p:nvPr/>
        </p:nvPicPr>
        <p:blipFill>
          <a:blip r:embed="rId2"/>
          <a:stretch/>
        </p:blipFill>
        <p:spPr>
          <a:xfrm>
            <a:off x="7153200" y="1773360"/>
            <a:ext cx="1990800" cy="14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8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47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5D27-4373-4558-85AD-91334675782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767040" y="5456160"/>
            <a:ext cx="5578560" cy="170028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2" descr=""/>
          <p:cNvPicPr/>
          <p:nvPr/>
        </p:nvPicPr>
        <p:blipFill>
          <a:blip r:embed="rId2"/>
          <a:stretch/>
        </p:blipFill>
        <p:spPr>
          <a:xfrm>
            <a:off x="212760" y="1487520"/>
            <a:ext cx="8821800" cy="45352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-122400"/>
            <a:ext cx="7435800" cy="3511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slide0033_image280"/>
          <p:cNvPicPr/>
          <p:nvPr/>
        </p:nvPicPr>
        <p:blipFill>
          <a:blip r:embed="rId4"/>
          <a:stretch/>
        </p:blipFill>
        <p:spPr>
          <a:xfrm>
            <a:off x="5500800" y="785880"/>
            <a:ext cx="2340000" cy="175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2CD4-975F-487F-AD25-80A1922E3A8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Считаете ли Вы, что телевизор, компьютер должны быть  в  числе главных предметов обихода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Какие передачи, на Ваш взгляд, формирует личность ребёнка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очему дети зачастую охотнее общаются с компьютером, а не со своими сверстниками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Как, на Ваш взгляд, необходимо организовать общение ребёнка с  телевизором, компьютером.    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Назовите возможные варианты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6D6D-9997-4E61-83DA-CE786AFE894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333000"/>
            <a:ext cx="7732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логи выявляют компьютерную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зависимость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даже  у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шестилетних детей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, однако наиболее подвержены ей подростки в возрасте 12-15 лет. Около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 современных школьников, отвечая на вопрос о своих интересах, увлечениях и хобби, упоминают компьютер практически наравне с занятиями спортом, прогулками и общением с друзья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0AC8-3056-40B6-AB49-FFA1F548415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699760" cy="115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question_md_wht"/>
          <p:cNvPicPr/>
          <p:nvPr/>
        </p:nvPicPr>
        <p:blipFill>
          <a:blip r:embed="rId2"/>
          <a:stretch/>
        </p:blipFill>
        <p:spPr>
          <a:xfrm>
            <a:off x="6670800" y="3716280"/>
            <a:ext cx="2473200" cy="31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332000" y="856800"/>
            <a:ext cx="6624720" cy="628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1. Сколько времени проводит ваш ребёнок у телевизора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2. Сколько времени проводит ваш ребёнок у компьютера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3. Какие передачи предпочитает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4. Задаёт ли ребёнок вопросы после просмотра передач,  хочет ли обсудить с вами передачу? 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5. Изменилось ли поведение вашего ребёнка после того, как он   начал  активно   общаться с компьютером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6. Как вы относитесь к увлечению детей компьютерными    играми?  В какие игры играет? 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7. Боитесь ли вы общения ребёнка с компьютером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Вызывает ли это у вас тревогу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C7A-DFE4-44C8-B75E-7608E652B19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гласно исследованиям гигиенистов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даже не очень продолжительная работа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за компьютером (не боле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-2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асов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ывает общее и зрительное утомление у 73%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дростков.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А непрерывное сидение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 компьютером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ежедневно более двух часов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день ребенка в возрасте д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-15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лет приводит к развитию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лизорукости.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томление глаз вызывают прежде всего недостаточная резкость изображения на экране и мерцание изображения. Эту проблему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астично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можно решить, купив ЖК-монитор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Picture 7" descr="J0223740"/>
          <p:cNvPicPr/>
          <p:nvPr/>
        </p:nvPicPr>
        <p:blipFill>
          <a:blip r:embed="rId1"/>
          <a:stretch/>
        </p:blipFill>
        <p:spPr>
          <a:xfrm flipH="1">
            <a:off x="0" y="2708280"/>
            <a:ext cx="21067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95E-850E-4CA2-8F3F-7FC8D1FAB4C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Можно выделить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4 основных типа </a:t>
            </a: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проявления «компьютерной» усталости: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 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1) потеря контроля над собой (ребенок часто трогает лицо, сосет палец, гримасничает, кричит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2) потеря интереса к компьютеру (ребенок часто отвлекается, вступает в разговоры, обращает внимание на другие предметы, не желая продолжать работу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3) «утомленная» поза (ребенок склоняется то в одну, то в другую сторону, откидывается на спинку стула, задирает ноги, упираясь в край стола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4) эмоционально-невротическая реакция (крик, подпрыгивания, пританцовывания,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истерический смех).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482-54A4-461D-9C19-30DBD0FA780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9" name="Picture 4" descr="smile49"/>
          <p:cNvPicPr/>
          <p:nvPr/>
        </p:nvPicPr>
        <p:blipFill>
          <a:blip r:embed="rId1"/>
          <a:stretch/>
        </p:blipFill>
        <p:spPr>
          <a:xfrm>
            <a:off x="4067280" y="4221000"/>
            <a:ext cx="2355840" cy="21099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http://im7-tub.yandex.net/i?id=70388047&amp;tov=7"/>
          <p:cNvPicPr/>
          <p:nvPr/>
        </p:nvPicPr>
        <p:blipFill>
          <a:blip r:embed="rId2"/>
          <a:stretch/>
        </p:blipFill>
        <p:spPr>
          <a:xfrm>
            <a:off x="176040" y="0"/>
            <a:ext cx="254340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2484360" y="1773360"/>
            <a:ext cx="504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равила работы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за компьютером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476-18A8-4A43-9C1F-240DE9A340D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DEB-D80B-44C6-AF57-06F084FCDB7E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14E-F8DD-40BA-967B-381473E18ED0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31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990720"/>
            <a:ext cx="638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Компьютеры занимают все больше места и времени в распорядке жизни взрослых и детей, 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о 60% российских подростков чрезмерно увлекаются компьютерными играми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Увеличивается не только количество ПК, но происходит также их качественное измен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7760" y="26665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Современный ребенок существенно отличается от сверстника, например, двадцатилетней давности более низкими показателями здоровья и уровня сопротивляемости неблагоприятным факторам среды.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менно поэтому, соблюдение правил работы с ПК на данном этапе развития компьютерных технологий является актуальны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7" name="Picture 5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3:57:35Z</dcterms:created>
  <dc:creator>User</dc:creator>
  <dc:description/>
  <dc:language>en-US</dc:language>
  <cp:lastModifiedBy>user</cp:lastModifiedBy>
  <dcterms:modified xsi:type="dcterms:W3CDTF">2015-01-25T21:02:01Z</dcterms:modified>
  <cp:revision>11</cp:revision>
  <dc:subject/>
  <dc:title>Слайд 1</dc:title>
</cp:coreProperties>
</file>