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8.gif" ContentType="image/gif"/>
  <Override PartName="/ppt/media/image18.jpeg" ContentType="image/jpeg"/>
  <Override PartName="/ppt/media/click.wav" ContentType="audio/x-wav"/>
  <Override PartName="/ppt/media/image12.gif" ContentType="image/gif"/>
  <Override PartName="/ppt/media/image7.gif" ContentType="image/gif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3.png" ContentType="image/png"/>
  <Override PartName="/ppt/media/image2.png" ContentType="image/png"/>
  <Override PartName="/ppt/media/image25.png" ContentType="image/png"/>
  <Override PartName="/ppt/media/image21.gif" ContentType="image/gif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37E6-30B2-43CC-B90E-E489194AC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F51B-7765-4C33-9311-C93CA18D985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E6C8-CE58-4519-81F2-6A964C6D9CEC}" type="slidenum">
              <a:rPr b="0" lang="ru-RU" sz="1200" spc="-1" strike="noStrike">
                <a:solidFill>
                  <a:srgbClr val="3333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3E15-8905-4E99-9AD3-F53E049733D7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DCA1-0137-440B-9816-598D35A18FE9}" type="slidenum">
              <a:rPr b="0" lang="ru-RU" sz="1200" spc="-1" strike="noStrike">
                <a:solidFill>
                  <a:srgbClr val="3333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99EF-43BF-4F97-8921-782E1B90693C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5DA1-5A40-473C-8581-6EAE8BFFFB5A}" type="slidenum">
              <a:rPr b="0" lang="ru-RU" sz="1200" spc="-1" strike="noStrike">
                <a:solidFill>
                  <a:srgbClr val="3333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FB8E-4A5A-492D-9918-D49702AF1648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C152-FAEC-4CD6-A6A7-AC6BA559D7F6}" type="slidenum">
              <a:rPr b="0" lang="ru-RU" sz="1200" spc="-1" strike="noStrike">
                <a:solidFill>
                  <a:srgbClr val="3333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E88D-8C70-42C6-AA03-14C4A4D95C79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9160-1F82-4275-A7EC-F5186BBCFA59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6954-6AA4-4342-9E72-3DCCB88044A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2FEC-3111-49F0-9F5F-EF0A6A9B2933}" type="slidenum">
              <a:rPr b="0" lang="ru-RU" sz="1200" spc="-1" strike="noStrike">
                <a:solidFill>
                  <a:srgbClr val="3333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D481-1456-43C4-9705-A6247F956EDE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1922-3A50-470B-B579-09C4AA2E8536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CEB2-6C3E-449E-B21F-E8F8024EF56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DD9B-55C2-4F5A-9C8B-7CBA9F7B8C0A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76DF-58F6-4BB9-B036-0176C2383E05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690D-3491-414E-B1DA-B9CAA3E1C1F9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765B-8CB9-4C0F-B3F1-835F715955B8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10A9-6F33-4EC1-91EA-D2550B576288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C1D9-3683-4B83-821D-A27BCD3B07A0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E005-950F-4A2E-AEEF-92454CC42424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B735-71CB-45F5-BDDE-6F35FEC80EB8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8EEA-BA39-4E0E-965A-1296BD6C200E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3675-B906-46B7-B1DC-D255F87CBE4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6D48-AE8F-429F-BC80-E4B9FB6B6DAC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35ED-837E-4D37-8378-A1BBFD8D679F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8BC6-D056-48A7-9C46-E16B56B3034D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DE01-0C46-4386-A40D-7F2AEEFF7719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A689-F6C7-4B3E-9FFF-2E8838B18C8C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71F5-8274-4E0A-8A92-73E0FECF79A9}" type="slidenum">
              <a:rPr b="0" lang="ru-RU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6B30-2477-4F08-A0F9-35CCA09DB3D2}" type="slidenum">
              <a:rPr b="0" lang="ru-RU" sz="1200" spc="-1" strike="noStrike">
                <a:solidFill>
                  <a:srgbClr val="33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89A-2AA8-454E-BC6C-7E200DB2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A6B-42E2-4F79-9D6A-B8EF1D47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EEA-15E6-4FE3-B29B-8DEEC484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EFA-EAD9-474F-BFF6-D98D1DEC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DD89-577F-4D29-B000-2E7503AE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7CC0-C8A8-4726-B920-6EC01E2B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EA65-FB78-42B5-9AF7-190F08C0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E2E0-ED2B-4E1F-A996-DBF34ED0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E25E-59EA-44FB-BFD4-1C1A318F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7936-9F23-4062-928F-1F21A27B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A009-A6FF-4F50-A2ED-6FD92FD6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DE5-1AA8-4368-AB50-C57A9862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1B6E-E0F3-4035-BDBD-6D887B61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5406-4E55-4F80-9BB2-71E8AC00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B893-CFD6-4EE6-A406-E2D8DCAD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C9C5-CA56-41CB-A90A-5CEA5A27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4D10-E61A-4635-AF48-E2ED72A4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DA5-048B-4BB9-8060-85CC29E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FA3-6468-49F2-9E89-3587A95D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6B5-964F-40D6-B8FC-EC40674C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449-E068-4DE0-9A32-02C5B55A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C36-192E-42FA-B41D-1BA90D65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9C3-D698-45DD-8046-644924D7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6F4-B8C5-4AD2-AC8C-069FA6BB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FFC1-DBC4-42EC-8A2D-568D8EF617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DBBD-C600-45C9-A5F7-B58A8A0BE3B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C815-F189-4E4C-97AE-6F13426C32F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87280" y="-360"/>
            <a:ext cx="34560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5364000" y="0"/>
            <a:ext cx="337032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3640" y="1916280"/>
            <a:ext cx="66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«Телевидение, компьютер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в мире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овременных школьников»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1258920" y="4437000"/>
            <a:ext cx="403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одготовил классный руководитель 6 класса: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Макашева Галина Александровн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5" name="Рисунок 3" descr="http://im0-tub.yandex.net/i?id=171186382&amp;tov=0"/>
          <p:cNvPicPr/>
          <p:nvPr/>
        </p:nvPicPr>
        <p:blipFill>
          <a:blip r:embed="rId2"/>
          <a:stretch/>
        </p:blipFill>
        <p:spPr>
          <a:xfrm>
            <a:off x="5267160" y="3365640"/>
            <a:ext cx="38404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0D23-2CE5-45B0-8281-CDFF88EB7F99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E18D-4873-43B4-9428-5056DDC4B80D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C0CD-2A52-47B2-B440-1B8DA530F221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29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Lucida Sans Unicode"/>
              </a:rPr>
              <a:t>Организация рабочего места школьн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1364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476360" y="2362320"/>
          <a:ext cx="7272360" cy="4162320"/>
        </p:xfrm>
        <a:graphic>
          <a:graphicData uri="http://schemas.openxmlformats.org/drawingml/2006/table">
            <a:tbl>
              <a:tblPr/>
              <a:tblGrid>
                <a:gridCol w="1970280"/>
                <a:gridCol w="1380960"/>
                <a:gridCol w="2103480"/>
                <a:gridCol w="1817640"/>
              </a:tblGrid>
              <a:tr h="484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ст учащегося см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Высота над полом, мм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Сто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ранство для ног,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ул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6-13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-14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-16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1-17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е 17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182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85"/>
          <p:cNvSpPr/>
          <p:nvPr/>
        </p:nvSpPr>
        <p:spPr>
          <a:xfrm>
            <a:off x="1187280" y="1371600"/>
            <a:ext cx="79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* Мебель (стол и стул) по своим размерам должны соответствовать росту ребенка.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C0F9-B149-43A1-9438-25BACC96DF0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1525-7ED0-40F4-957B-5E7CBECB7473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A644-5A14-42C1-AA82-1BCDB744D911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29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332000" y="990360"/>
            <a:ext cx="7510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* Стол должен быть одноместным. Сиденье и спинки стульев должны быть полумягкими, покрытыми воздухопроницаемым, не электролизующимся и не скользким материалом, легко поддающимся очистке от загрязне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0" name="Picture 4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computer"/>
          <p:cNvPicPr/>
          <p:nvPr/>
        </p:nvPicPr>
        <p:blipFill>
          <a:blip r:embed="rId2"/>
          <a:stretch/>
        </p:blipFill>
        <p:spPr>
          <a:xfrm>
            <a:off x="3276720" y="3733920"/>
            <a:ext cx="2971800" cy="2766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A449-3F82-40CB-A98A-69DE4A450E98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8D72-DE67-444D-8384-C81A8CB8BEAE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947D-15C9-488D-9C59-FFA4193C5E03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29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457200"/>
            <a:ext cx="815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788000" y="1268280"/>
            <a:ext cx="4127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*Горизонтальная поверхность стола для монитора и сидение стула должны поддаваться плавной, легкой и надежной регулировке по высоте.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8" name="Picture 12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"/>
          <p:cNvPicPr/>
          <p:nvPr/>
        </p:nvPicPr>
        <p:blipFill>
          <a:blip r:embed="rId2"/>
          <a:stretch/>
        </p:blipFill>
        <p:spPr>
          <a:xfrm>
            <a:off x="1258920" y="2781360"/>
            <a:ext cx="32097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48C1-5998-4218-BC6D-B000565EB93B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22ED-7502-4978-B035-1E2295EB908B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9681-4641-4149-883F-40A6E32E4EE6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29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258560" y="1447560"/>
            <a:ext cx="338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* Удаленность экрана от переднего края стола равна 60-70 см, таким образом, будет соблюдаться требуемая зрительная дистанц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34" name="Group 7"/>
          <p:cNvGrpSpPr/>
          <p:nvPr/>
        </p:nvGrpSpPr>
        <p:grpSpPr>
          <a:xfrm>
            <a:off x="4572000" y="1447920"/>
            <a:ext cx="4266360" cy="3569400"/>
            <a:chOff x="4572000" y="1447920"/>
            <a:chExt cx="4266360" cy="3569400"/>
          </a:xfrm>
        </p:grpSpPr>
        <p:grpSp>
          <p:nvGrpSpPr>
            <p:cNvPr id="235" name="Group 8"/>
            <p:cNvGrpSpPr/>
            <p:nvPr/>
          </p:nvGrpSpPr>
          <p:grpSpPr>
            <a:xfrm>
              <a:off x="4572000" y="1447920"/>
              <a:ext cx="4266360" cy="3569400"/>
              <a:chOff x="4572000" y="1447920"/>
              <a:chExt cx="4266360" cy="3569400"/>
            </a:xfrm>
          </p:grpSpPr>
          <p:pic>
            <p:nvPicPr>
              <p:cNvPr id="236" name="Picture 9" descr="DSC01159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1447920"/>
                <a:ext cx="4266360" cy="356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10"/>
              <p:cNvSpPr/>
              <p:nvPr/>
            </p:nvSpPr>
            <p:spPr>
              <a:xfrm>
                <a:off x="6329160" y="2597400"/>
                <a:ext cx="43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333300"/>
                    </a:solidFill>
                    <a:latin typeface="Arial Narrow"/>
                    <a:ea typeface="Arial"/>
                  </a:rPr>
                  <a:t>85</a:t>
                </a:r>
                <a:endParaRPr b="0" lang="en-US" sz="1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11"/>
            <p:cNvSpPr/>
            <p:nvPr/>
          </p:nvSpPr>
          <p:spPr>
            <a:xfrm flipV="1">
              <a:off x="5976720" y="2807640"/>
              <a:ext cx="1054080" cy="20952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pic>
        <p:nvPicPr>
          <p:cNvPr id="239" name="Picture 12" descr="PKG9B"/>
          <p:cNvPicPr/>
          <p:nvPr/>
        </p:nvPicPr>
        <p:blipFill>
          <a:blip r:embed="rId2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DED4-5727-40D4-BF66-D0599AB7271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151F-8598-4965-A077-CC0333D10616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76D4-69F1-44E8-AA37-1279DE34BCB4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29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672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Lucida Sans Unicode"/>
              </a:rPr>
              <a:t>Режим и длительность занятий </a:t>
            </a:r>
            <a:br>
              <a:rPr sz="3600"/>
            </a:br>
            <a:r>
              <a:rPr b="1" i="1" lang="ru-RU" sz="3600" spc="-1" strike="noStrike">
                <a:solidFill>
                  <a:srgbClr val="0066ff"/>
                </a:solidFill>
                <a:latin typeface="Lucida Sans Unicode"/>
              </a:rPr>
              <a:t>с использованием П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02920" y="1980720"/>
            <a:ext cx="38163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Ребенок ежедневно, особенно в учебном году, получает огромное количество разнообразной информации и основное восприятие окружающего мира идет через орган зрения.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5" name="Picture 11" descr="шк"/>
          <p:cNvPicPr/>
          <p:nvPr/>
        </p:nvPicPr>
        <p:blipFill>
          <a:blip r:embed="rId1"/>
          <a:stretch/>
        </p:blipFill>
        <p:spPr>
          <a:xfrm>
            <a:off x="5562720" y="1981080"/>
            <a:ext cx="2884320" cy="3886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PKG9B"/>
          <p:cNvPicPr/>
          <p:nvPr/>
        </p:nvPicPr>
        <p:blipFill>
          <a:blip r:embed="rId2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6210-58B6-4EB3-B895-63B9616300F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1170-E3CE-465F-93BD-785397B905FD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46C8-03E8-4600-8A0C-456548DEF1B8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29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403280" y="685800"/>
            <a:ext cx="4392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Нагрузка на глаза в школе, дома для выполнения домашнего задания, увеличивается и дополняется просмотром телепередач, пользованием компьютером, компьютерными играми.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При всем этом глаза, как и тело постоянно вынуждены находиться в одном и том же положении. А недостаток движения ведет к возникновению многих проблем в растущем организме ребен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1" name="Picture 4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BD19582_"/>
          <p:cNvPicPr/>
          <p:nvPr/>
        </p:nvPicPr>
        <p:blipFill>
          <a:blip r:embed="rId2"/>
          <a:stretch/>
        </p:blipFill>
        <p:spPr>
          <a:xfrm>
            <a:off x="5943600" y="17524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A645-F087-42EA-B71A-E59081402098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55A2-1A75-4CF5-A624-AED5CBDFF810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AE8E-3795-498F-ACC0-76863F6882AE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29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04920" y="380880"/>
            <a:ext cx="8381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332000" y="457200"/>
            <a:ext cx="7812000" cy="75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Проблем помогут избежать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Четкое выполнение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режима дня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, труда и отдых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Обязательные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прогулк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 после школы на свежем воздухе, закаливающие процедуры для тела, проветривание комнаты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Правильная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осанка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 за столом и монитором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Освещ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 помещения предпочтительнее дневное. Стены комнаты спокойных тонов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Время безопасной работы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 за компьютером зависит от возраста ребенк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58" name="Picture 8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byd"/>
          <p:cNvPicPr/>
          <p:nvPr/>
        </p:nvPicPr>
        <p:blipFill>
          <a:blip r:embed="rId2"/>
          <a:stretch/>
        </p:blipFill>
        <p:spPr>
          <a:xfrm>
            <a:off x="3203640" y="1484280"/>
            <a:ext cx="860400" cy="13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47BF-9448-484D-BF14-C11D97D1C35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E4A9-37D3-4F37-ACB1-BBB4C84E471B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C9C0-74CF-45B5-BD57-71D9AB9DD6E4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29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0600" y="4572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Длительность работы за ПК </a:t>
            </a: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ru-RU" sz="3100" spc="-1" strike="noStrike">
                <a:solidFill>
                  <a:srgbClr val="6600ff"/>
                </a:solidFill>
                <a:latin typeface="Times New Roman"/>
              </a:rPr>
              <a:t>не должна превышать)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38080" y="182880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AutoShape 10"/>
          <p:cNvSpPr/>
          <p:nvPr/>
        </p:nvSpPr>
        <p:spPr>
          <a:xfrm>
            <a:off x="4392720" y="1941480"/>
            <a:ext cx="571320" cy="11448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4392720" y="2438280"/>
            <a:ext cx="571320" cy="11448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AutoShape 8"/>
          <p:cNvSpPr/>
          <p:nvPr/>
        </p:nvSpPr>
        <p:spPr>
          <a:xfrm>
            <a:off x="4392720" y="2935440"/>
            <a:ext cx="571320" cy="11412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120"/>
              <a:gd name="textAreaBottom" fmla="*/ 85680 h 11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4392720" y="3494160"/>
            <a:ext cx="571320" cy="11412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120"/>
              <a:gd name="textAreaBottom" fmla="*/ 85680 h 11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4392720" y="3990960"/>
            <a:ext cx="571320" cy="11448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4392720" y="4487760"/>
            <a:ext cx="571320" cy="11448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4" name="Rectangle 24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Rectangle 28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Rectangle 32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16000" y="1876320"/>
          <a:ext cx="7848720" cy="4577040"/>
        </p:xfrm>
        <a:graphic>
          <a:graphicData uri="http://schemas.openxmlformats.org/drawingml/2006/table">
            <a:tbl>
              <a:tblPr/>
              <a:tblGrid>
                <a:gridCol w="3121200"/>
                <a:gridCol w="2382840"/>
                <a:gridCol w="2344680"/>
              </a:tblGrid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-6 лет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 мин.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-5 класс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-7 класс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0 мин.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-9 класс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-11 класс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3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</a:tbl>
          </a:graphicData>
        </a:graphic>
      </p:graphicFrame>
      <p:sp>
        <p:nvSpPr>
          <p:cNvPr id="278" name="AutoShape 133"/>
          <p:cNvSpPr/>
          <p:nvPr/>
        </p:nvSpPr>
        <p:spPr>
          <a:xfrm>
            <a:off x="4191120" y="2057400"/>
            <a:ext cx="1904760" cy="380880"/>
          </a:xfrm>
          <a:custGeom>
            <a:avLst/>
            <a:gdLst>
              <a:gd name="textAreaLeft" fmla="*/ 237960 w 1904760"/>
              <a:gd name="textAreaRight" fmla="*/ 166680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AutoShape 134"/>
          <p:cNvSpPr/>
          <p:nvPr/>
        </p:nvSpPr>
        <p:spPr>
          <a:xfrm>
            <a:off x="4267080" y="2819520"/>
            <a:ext cx="1752840" cy="38088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AutoShape 135"/>
          <p:cNvSpPr/>
          <p:nvPr/>
        </p:nvSpPr>
        <p:spPr>
          <a:xfrm>
            <a:off x="4267080" y="3581280"/>
            <a:ext cx="1828800" cy="38124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AutoShape 136"/>
          <p:cNvSpPr/>
          <p:nvPr/>
        </p:nvSpPr>
        <p:spPr>
          <a:xfrm>
            <a:off x="4267080" y="4267080"/>
            <a:ext cx="1752840" cy="45720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AutoShape 137"/>
          <p:cNvSpPr/>
          <p:nvPr/>
        </p:nvSpPr>
        <p:spPr>
          <a:xfrm>
            <a:off x="4267080" y="5029200"/>
            <a:ext cx="1752840" cy="38088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AutoShape 138"/>
          <p:cNvSpPr/>
          <p:nvPr/>
        </p:nvSpPr>
        <p:spPr>
          <a:xfrm>
            <a:off x="4267080" y="5638680"/>
            <a:ext cx="1752840" cy="38124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Picture 141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7EDC-A3F4-4602-B319-997A5FD6BBBF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D1AF-892D-468B-9139-50FCF8798067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7638-9C80-402C-9424-90095329A3FD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29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351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Lucida Sans Unicode"/>
              </a:rPr>
              <a:t>Общее время работы с компьютером в течение дн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685800" y="1828800"/>
            <a:ext cx="2209680" cy="1219320"/>
          </a:xfrm>
          <a:prstGeom prst="rect">
            <a:avLst/>
          </a:prstGeom>
          <a:solidFill>
            <a:srgbClr val="ff00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8-10 ле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3581280" y="1828800"/>
            <a:ext cx="20574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11-13 лет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6400800" y="1828800"/>
            <a:ext cx="220968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  <a:ea typeface="Arial"/>
              </a:rPr>
              <a:t>14-16 лет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Text Box 7"/>
          <p:cNvSpPr/>
          <p:nvPr/>
        </p:nvSpPr>
        <p:spPr>
          <a:xfrm rot="16200000">
            <a:off x="1292040" y="3584160"/>
            <a:ext cx="12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Не более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 rot="16200000">
            <a:off x="4187880" y="3584160"/>
            <a:ext cx="12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Не более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Text Box 9"/>
          <p:cNvSpPr/>
          <p:nvPr/>
        </p:nvSpPr>
        <p:spPr>
          <a:xfrm rot="16200000">
            <a:off x="7083360" y="35082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Не более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1219320" y="304812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AutoShape 11"/>
          <p:cNvSpPr/>
          <p:nvPr/>
        </p:nvSpPr>
        <p:spPr>
          <a:xfrm>
            <a:off x="4114800" y="297180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AutoShape 12"/>
          <p:cNvSpPr/>
          <p:nvPr/>
        </p:nvSpPr>
        <p:spPr>
          <a:xfrm>
            <a:off x="7010280" y="28954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Oval 13"/>
          <p:cNvSpPr/>
          <p:nvPr/>
        </p:nvSpPr>
        <p:spPr>
          <a:xfrm>
            <a:off x="685800" y="4648320"/>
            <a:ext cx="1905120" cy="1676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Oval 14"/>
          <p:cNvSpPr/>
          <p:nvPr/>
        </p:nvSpPr>
        <p:spPr>
          <a:xfrm>
            <a:off x="3505320" y="4572000"/>
            <a:ext cx="2057400" cy="1752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Oval 15"/>
          <p:cNvSpPr/>
          <p:nvPr/>
        </p:nvSpPr>
        <p:spPr>
          <a:xfrm>
            <a:off x="6477120" y="4495680"/>
            <a:ext cx="2057400" cy="1752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Text Box 22"/>
          <p:cNvSpPr/>
          <p:nvPr/>
        </p:nvSpPr>
        <p:spPr>
          <a:xfrm>
            <a:off x="1050840" y="4789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143000" y="50292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30-35 мин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3809880" y="4952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35-45 мин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6880320" y="486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6858000" y="4876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45 м. -  1 час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6" name="Picture 29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B7A8-0EC2-495F-A393-2CD6E271015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1461-1527-447F-BBDD-BFF71E2756E0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C664-1D4A-43DD-86A1-FFC5EEFC72ED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29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Lucida Sans Unicode"/>
              </a:rPr>
              <a:t>Профилактика зрительного и общего утом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6920" y="1828440"/>
            <a:ext cx="54723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роведение упражнений для глаз, физкультминутки улучшают функциональное состояние зрительного анализатора, центральной нервной, сердечно-сосудистой, дыхательной, мышечной и других систем организма, способствует ликвидации застойных явлений в нижней половине тела и ног, образующихся при работе в положении сидя, улучшают кровоснабжение мозга, снимают зрительное утомлени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12" name="Picture 10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Дети-Индиго"/>
          <p:cNvPicPr/>
          <p:nvPr/>
        </p:nvPicPr>
        <p:blipFill>
          <a:blip r:embed="rId2"/>
          <a:stretch/>
        </p:blipFill>
        <p:spPr>
          <a:xfrm>
            <a:off x="6629400" y="2193840"/>
            <a:ext cx="2362320" cy="1997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4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829-5AF2-4923-96F7-BDA35252EAC5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-11520"/>
            <a:ext cx="8777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42920" y="571320"/>
            <a:ext cx="7948800" cy="55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левид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должно быть не целью,а средством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з передачи «Культурная революция»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мпьютер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может быть не только другом,     но и превратиться в злейшего врага,    который мстит потерей здоровья и интеллекта.                                     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Мнение врача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9" name="Рисунок 3" descr="http://im3-tub.yandex.net/i?id=116380452&amp;tov=3"/>
          <p:cNvPicPr/>
          <p:nvPr/>
        </p:nvPicPr>
        <p:blipFill>
          <a:blip r:embed="rId1"/>
          <a:stretch/>
        </p:blipFill>
        <p:spPr>
          <a:xfrm>
            <a:off x="682560" y="4054320"/>
            <a:ext cx="3481560" cy="28036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http://im8-tub.yandex.net/i?id=71021445&amp;tov=8"/>
          <p:cNvPicPr/>
          <p:nvPr/>
        </p:nvPicPr>
        <p:blipFill>
          <a:blip r:embed="rId2"/>
          <a:stretch/>
        </p:blipFill>
        <p:spPr>
          <a:xfrm>
            <a:off x="5394240" y="4151160"/>
            <a:ext cx="3640320" cy="3005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8F11-0ADC-4127-A24F-75A8CA35F0BB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2149-9EE7-47E0-BCBB-45CD4CBDBCB4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7FD7-D465-42EE-AD1C-2E7C6CFD76FE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29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ПОМНИТ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32000" y="1341000"/>
            <a:ext cx="7416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ыполнение рекомендаций и несложных упражнений поможет сохранить здоровье вашего ребенка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20" name="Picture 12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main_pict"/>
          <p:cNvPicPr/>
          <p:nvPr/>
        </p:nvPicPr>
        <p:blipFill>
          <a:blip r:embed="rId2"/>
          <a:stretch/>
        </p:blipFill>
        <p:spPr>
          <a:xfrm>
            <a:off x="3276720" y="4419720"/>
            <a:ext cx="3352680" cy="2139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39E1-BB75-40F0-83A0-536D57EA0CD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1054080" y="-231840"/>
            <a:ext cx="5827680" cy="20113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00"/>
                </a:solidFill>
                <a:latin typeface="Arial"/>
              </a:rPr>
              <a:t>Возможно, стоит просто запретить                             просмотр телепередач или                      ограничить ребёнка определёнными программами?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00"/>
                </a:solidFill>
                <a:latin typeface="Arial"/>
              </a:rPr>
              <a:t>А что даёт ребёнку телевизор?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00"/>
                </a:solidFill>
                <a:latin typeface="Arial"/>
              </a:rPr>
              <a:t>Если что-то в просмотре телепередач, особенно для пятиклассников нечто положительное?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00"/>
                </a:solidFill>
                <a:latin typeface="Arial"/>
              </a:rPr>
              <a:t>Возможно, стоит запретить играть на компьютере?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00"/>
                </a:solidFill>
                <a:latin typeface="Arial"/>
              </a:rPr>
              <a:t>А что может дать для ребёнка общение с компьютером?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25" name="Picture 4" descr="smile49"/>
          <p:cNvPicPr/>
          <p:nvPr/>
        </p:nvPicPr>
        <p:blipFill>
          <a:blip r:embed="rId2"/>
          <a:stretch/>
        </p:blipFill>
        <p:spPr>
          <a:xfrm>
            <a:off x="0" y="4746600"/>
            <a:ext cx="2357280" cy="211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0A48-F425-41CE-891A-B20F57FD713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58920" y="357120"/>
            <a:ext cx="7732800" cy="614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c3300"/>
                </a:solidFill>
                <a:latin typeface="Arial"/>
              </a:rPr>
              <a:t>Учеба с помощью компьютера</a:t>
            </a:r>
            <a:r>
              <a:rPr b="0" lang="ru-RU" sz="2300" spc="-1" strike="noStrike">
                <a:solidFill>
                  <a:srgbClr val="333300"/>
                </a:solidFill>
                <a:latin typeface="Arial"/>
              </a:rPr>
              <a:t> — это:</a:t>
            </a:r>
            <a:endParaRPr b="1" lang="en-US" sz="23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1.Написание текстов и упражнений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2.Составление таблиц и диаграмм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3.Сканирование текстов, рисунков для подготовки уроков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4.Использование учебных дисков по различным предметам для расширения своих знаний и кругозора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5.Использование компьютерного лексикона и словарей для выполнения домашних заданий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6.Возможность эстетичного оформления сочинений, научных работ, докладов, рефератов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7.Возможность поиска информации по определенной учебной теме.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8.Возможность участия в олимпиадах различного уровн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Компьютер даст школьнику возможность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-- находить себе друзей, единомышленников в различных странах, городах и поселках;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– бесплатно заказывать необходимые материалы для удовлетворения собственных знаний и интересов;</a:t>
            </a:r>
            <a:br>
              <a:rPr sz="2000"/>
            </a:b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-- досылать и получать электронные письма, развивать в себе умения писать письм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29" name="Picture 4" descr="v25ani"/>
          <p:cNvPicPr/>
          <p:nvPr/>
        </p:nvPicPr>
        <p:blipFill>
          <a:blip r:embed="rId1"/>
          <a:stretch/>
        </p:blipFill>
        <p:spPr>
          <a:xfrm>
            <a:off x="7667640" y="3645000"/>
            <a:ext cx="2136600" cy="215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8CD2-5F50-4070-9E29-89CDB40A5DEF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8020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Телевизор даст школьнику возможнос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331640" y="1197000"/>
            <a:ext cx="7497720" cy="508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расслабиться, забыть ежедневные проблемы, уйти от страхов и переживаний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онять с помощью телевизора, что такое «хорошо» и что такое «плохо»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нахождения ответа на вопросы, ответы на которые не может получить от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взрослых</a:t>
            </a: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 из-за их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занятости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Развитие познания, повышение культурного уровня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Знакомство с различными 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явлениями в разных областях знаний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Развитие воображения,                            фантазии, эмоциональной сферы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3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3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3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3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1FF4-1C00-4AFB-A03B-26887A79A66F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1725480" y="450720"/>
            <a:ext cx="7272360" cy="1158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1116000" y="1267920"/>
            <a:ext cx="7578720" cy="530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333300"/>
                </a:solidFill>
                <a:latin typeface="Arial"/>
              </a:rPr>
              <a:t>- Как сделать так, чтобы эта проблем решилась?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Установить определённое время на просмотр и игры. 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Соблюдать режим дня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Заняться любимым делом, спортом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Заинтересовать кружками, секциями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Заинтересовать книгами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Давать задания по дому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Уделять </a:t>
            </a: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 ребёнку 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больше внимание</a:t>
            </a: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, 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общаться</a:t>
            </a: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 с ним, 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быть рядом </a:t>
            </a: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с ним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00"/>
                </a:solidFill>
                <a:latin typeface="Arial"/>
              </a:rPr>
              <a:t>Гулять на воздухе, чаще выезжать с ребёнком в город, кино, театр, отдыхать  на природе.</a:t>
            </a:r>
            <a:endParaRPr b="1" lang="en-US" sz="27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36" name="Picture 7" descr="slide0033_image280"/>
          <p:cNvPicPr/>
          <p:nvPr/>
        </p:nvPicPr>
        <p:blipFill>
          <a:blip r:embed="rId2"/>
          <a:stretch/>
        </p:blipFill>
        <p:spPr>
          <a:xfrm>
            <a:off x="7153200" y="1773360"/>
            <a:ext cx="1990800" cy="149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8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9 0.137 0.06393 C 0.198 0.06659 0.248 0.05061 0.249 0.03063 C 0.249 0.01065 0.2 -0.00799 0.138 -0.00932 C 0.107 -0.00932 0.079 -0.00666 0.059 0 C 0.03 0.00932 0.013 0.02397 0.013 0.04129 C 0.013 0.05061 0.018 0.05993 0.027 0.06792 C 0.048 0.08523 0.089 0.09722 0.136 0.09855 C 0.191 0.10122 0.236 0.08657 0.236 0.06925 C 0.237 0.05061 0.192 0.03463 0.137 0.03196 C 0.109 0.03196 0.084 0.03463 0.065 0.03995 C 0.04 0.04928 0.024 0.06393 0.024 0.07858 C 0.024 0.08657 0.029 0.09456 0.037 0.10255 C 0.056 0.1172 0.092 0.12918 0.135 0.13052 C 0.185 0.13185 0.225 0.11853 0.225 0.10255 C 0.226 0.08657 0.186 0.07192 0.136 0.07058 C 0.111 0.06925 0.088 0.07192 0.071 0.07724 C 0.048 0.08523 0.035 0.09722 0.035 0.11187 C 0.035 0.11853 0.039 0.12652 0.046 0.13318 C 0.063 0.1465 0.096 0.15715 0.134 0.15848 C 0.179 0.15848 0.215 0.14783 0.215 0.13318 C 0.215 0.11853 0.18 0.10521 0.135 0.10388 C 0.113 0.10388 0.092 0.10654 0.077 0.11054 C 0.056 0.1172 0.044 0.12918 0.043 0.14117 C 0.043 0.14783 0.048 0.15449 0.054 0.15982 C 0.069 0.17313 0.099 0.18246 0.133 0.18246 C 0.173 0.18379 0.206 0.17446 0.206 0.16115 C 0.207 0.14783 0.174 0.13584 0.134 0.13451 C 0.114 0.13451 0.095 0.13584 0.082 0.14117 C 0.063 0.1465 0.052 0.15715 0.052 0.16781 C 0.052 0.17446 0.055 0.17979 0.061 0.18512 C 0.075 0.19711 0.101 0.2051 0.132 0.20643 C 0.169 0.20643 0.198 0.19844 0.198 0.18645 C 0.199 0.17446 0.17 0.16381 0.133 0.16248 C 0.115 0.16248 0.099 0.16381 0.087 0.16781 C 0.07 0.17313 0.06 0.18246 0.06 0.19311 C 0.06 0.19844 0.063 0.20243 0.068 0.20776 C 0.08 0.21841 0.104 0.22507 0.132 0.2264 C 0.165 0.22774 0.191 0.21975 0.191 0.20776 C 0.191 0.19844 0.166 0.18778 0.133 0.18778 C 0.116 0.18645 0.101 0.18911 0.09 0.19178 C 0.075 0.19711 0.066 0.2051 0.066 0.21442 C 0.066 0.21975 0.069 0.22374 0.074 0.22774 C 0.085 0.23706 0.107 0.24372 0.131 0.24505 C 0.161 0.24638 0.185 0.23839 0.185 0.22907 C 0.185 0.21841 0.161 0.21042 0.132 0.20909 C 0.118 0.20909 0.104 0.21042 0.094 0.21442 C 0.08 0.21841 0.072 0.22507 0.072 0.2344 C 0.072 0.23839 0.075 0.24239 0.079 0.24638 C 0.089 0.25437 0.108 0.26103 0.131 0.26103 C 0.157 0.26236 0.179 0.2557 0.179 0.24638 C 0.179 0.23839 0.158 0.2304 0.131 0.2304 C 0.119 0.22907 0.106 0.2304 0.097 0.23306 C 0.085 0.23839 0.078 0.24505 0.078 0.25171 C 0.078 0.2557 0.08 0.2597 0.084 0.26236 C 0.093 0.27035 0.11 0.27568 0.131 0.27701 C 0.155 0.27701 0.174 0.27035 0.174 0.26369 C 0.174 0.2557 0.155 0.24771 0.131 0.24771 C 0.119 0.24771 0.108 0.24905 0.101 0.25171 C 0.089 0.25437 0.083 0.26103 0.083 0.26769 C 0.083 0.27035 0.085 0.27435 0.088 0.27701 C 0.096 0.285 0.112 0.289 0.13 0.29033 C 0.152 0.29033 0.169 0.285 0.169 0.27834 C 0.169 0.27035 0.152 0.26503 0.131 0.26369 C 0.12 0.26369 0.11 0.26503 0.103 0.26769 C 0.093 0.27035 0.087 0.27568 0.087 0.28234 C 0.087 0.285 0.089 0.28767 0.092 0.29033 E">
                                      <p:cBhvr>
                                        <p:cTn id="474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89D8-B118-4E05-B55A-B2FECB743F5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3767040" y="5456160"/>
            <a:ext cx="5578560" cy="1700280"/>
          </a:xfrm>
          <a:prstGeom prst="rect">
            <a:avLst/>
          </a:prstGeom>
          <a:ln w="0">
            <a:noFill/>
          </a:ln>
        </p:spPr>
      </p:pic>
      <p:pic>
        <p:nvPicPr>
          <p:cNvPr id="339" name="Содержимое 2" descr=""/>
          <p:cNvPicPr/>
          <p:nvPr/>
        </p:nvPicPr>
        <p:blipFill>
          <a:blip r:embed="rId2"/>
          <a:stretch/>
        </p:blipFill>
        <p:spPr>
          <a:xfrm>
            <a:off x="212760" y="1487520"/>
            <a:ext cx="8821800" cy="453528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3" descr=""/>
          <p:cNvPicPr/>
          <p:nvPr/>
        </p:nvPicPr>
        <p:blipFill>
          <a:blip r:embed="rId3"/>
          <a:stretch/>
        </p:blipFill>
        <p:spPr>
          <a:xfrm>
            <a:off x="469800" y="-122400"/>
            <a:ext cx="7435800" cy="3511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slide0033_image280"/>
          <p:cNvPicPr/>
          <p:nvPr/>
        </p:nvPicPr>
        <p:blipFill>
          <a:blip r:embed="rId4"/>
          <a:stretch/>
        </p:blipFill>
        <p:spPr>
          <a:xfrm>
            <a:off x="5500800" y="785880"/>
            <a:ext cx="2340000" cy="175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BE7A-A941-405C-A661-FA70804E1F31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Считаете ли Вы, что телевизор, компьютер должны быть  в  числе главных предметов обихода?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Какие передачи, на Ваш взгляд, формирует личность ребёнка?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очему дети зачастую охотнее общаются с компьютером, а не со своими сверстниками?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Как, на Ваш взгляд, необходимо организовать общение ребёнка с  телевизором, компьютером.    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Назовите возможные варианты.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FD0E-196F-4489-8D27-360C0DE640D1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58920" y="333000"/>
            <a:ext cx="77328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Психологи выявляют компьютерную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зависимость</a:t>
            </a:r>
            <a:r>
              <a:rPr b="0" i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00"/>
                </a:solidFill>
                <a:latin typeface="Arial"/>
              </a:rPr>
              <a:t>даже  у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шестилетних детей</a:t>
            </a:r>
            <a:r>
              <a:rPr b="0" i="1" lang="ru-RU" sz="3200" spc="-1" strike="noStrike">
                <a:solidFill>
                  <a:srgbClr val="333300"/>
                </a:solidFill>
                <a:latin typeface="Arial"/>
              </a:rPr>
              <a:t>, однако наиболее подвержены ей подростки в возрасте 12-15 лет. Около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70%</a:t>
            </a:r>
            <a:r>
              <a:rPr b="0" i="1" lang="ru-RU" sz="3200" spc="-1" strike="noStrike">
                <a:solidFill>
                  <a:srgbClr val="333300"/>
                </a:solidFill>
                <a:latin typeface="Arial"/>
              </a:rPr>
              <a:t> современных школьников, отвечая на вопрос о своих интересах, увлечениях и хобби, упоминают компьютер практически наравне с занятиями спортом, прогулками и общением с друзьями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24BD-506D-4032-BF46-E7756482A11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699760" cy="115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question_md_wht"/>
          <p:cNvPicPr/>
          <p:nvPr/>
        </p:nvPicPr>
        <p:blipFill>
          <a:blip r:embed="rId2"/>
          <a:stretch/>
        </p:blipFill>
        <p:spPr>
          <a:xfrm>
            <a:off x="6670800" y="3716280"/>
            <a:ext cx="2473200" cy="3141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1332000" y="856800"/>
            <a:ext cx="6624720" cy="628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1. Сколько времени проводит ваш ребёнок у телевизора?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2. Сколько времени проводит ваш ребёнок у компьютера?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3. Какие передачи предпочитает?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4. Задаёт ли ребёнок вопросы после просмотра передач,  хочет ли обсудить с вами передачу? 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5. Изменилось ли поведение вашего ребёнка после того, как он   начал  активно   общаться с компьютером?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6. Как вы относитесь к увлечению детей компьютерными    играми?  В какие игры играет? 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7. Боитесь ли вы общения ребёнка с компьютером?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Вызывает ли это у вас тревогу?</a:t>
            </a: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6B55-9EB6-48C5-8D6E-AD67515F534B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огласно исследованиям гигиенистов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даже не очень продолжительная работа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за компьютером (не боле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-2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асов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ызывает общее и зрительное утомление у 73%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дростков.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А непрерывное сидение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 компьютером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ежедневно более двух часов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день ребенка в возрасте д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4-15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лет приводит к развитию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лизорукости.</a:t>
            </a:r>
            <a:br>
              <a:rPr sz="2800"/>
            </a:b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томление глаз вызывают прежде всего недостаточная резкость изображения на экране и мерцание изображения. Эту проблему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частично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можно решить, купив ЖК-монитор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4" name="Picture 7" descr="J0223740"/>
          <p:cNvPicPr/>
          <p:nvPr/>
        </p:nvPicPr>
        <p:blipFill>
          <a:blip r:embed="rId1"/>
          <a:stretch/>
        </p:blipFill>
        <p:spPr>
          <a:xfrm flipH="1">
            <a:off x="0" y="2708280"/>
            <a:ext cx="21067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99AE-BF08-4268-9500-B2D81BD786F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00"/>
                </a:solidFill>
                <a:latin typeface="Arial"/>
              </a:rPr>
              <a:t>Можно выделить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4 основных типа </a:t>
            </a:r>
            <a:r>
              <a:rPr b="0" lang="ru-RU" sz="2500" spc="-1" strike="noStrike">
                <a:solidFill>
                  <a:srgbClr val="333300"/>
                </a:solidFill>
                <a:latin typeface="Arial"/>
              </a:rPr>
              <a:t>проявления «компьютерной» усталости: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00"/>
                </a:solidFill>
                <a:latin typeface="Arial"/>
              </a:rPr>
              <a:t> </a:t>
            </a:r>
            <a:br>
              <a:rPr sz="2500"/>
            </a:br>
            <a:r>
              <a:rPr b="1" lang="ru-RU" sz="2500" spc="-1" strike="noStrike">
                <a:solidFill>
                  <a:srgbClr val="333300"/>
                </a:solidFill>
                <a:latin typeface="Arial"/>
              </a:rPr>
              <a:t>1) потеря контроля над собой (ребенок часто трогает лицо, сосет палец, гримасничает, кричит);</a:t>
            </a:r>
            <a:br>
              <a:rPr sz="2500"/>
            </a:br>
            <a:r>
              <a:rPr b="1" lang="ru-RU" sz="2500" spc="-1" strike="noStrike">
                <a:solidFill>
                  <a:srgbClr val="333300"/>
                </a:solidFill>
                <a:latin typeface="Arial"/>
              </a:rPr>
              <a:t>2) потеря интереса к компьютеру (ребенок часто отвлекается, вступает в разговоры, обращает внимание на другие предметы, не желая продолжать работу);</a:t>
            </a:r>
            <a:br>
              <a:rPr sz="2500"/>
            </a:br>
            <a:r>
              <a:rPr b="1" lang="ru-RU" sz="2500" spc="-1" strike="noStrike">
                <a:solidFill>
                  <a:srgbClr val="333300"/>
                </a:solidFill>
                <a:latin typeface="Arial"/>
              </a:rPr>
              <a:t>3) «утомленная» поза (ребенок склоняется то в одну, то в другую сторону, откидывается на спинку стула, задирает ноги, упираясь в край стола);</a:t>
            </a:r>
            <a:br>
              <a:rPr sz="2500"/>
            </a:br>
            <a:r>
              <a:rPr b="1" lang="ru-RU" sz="2500" spc="-1" strike="noStrike">
                <a:solidFill>
                  <a:srgbClr val="333300"/>
                </a:solidFill>
                <a:latin typeface="Arial"/>
              </a:rPr>
              <a:t>4) эмоционально-невротическая реакция (крик, подпрыгивания, пританцовывания,</a:t>
            </a:r>
            <a:br>
              <a:rPr sz="2500"/>
            </a:br>
            <a:r>
              <a:rPr b="1" lang="ru-RU" sz="2500" spc="-1" strike="noStrike">
                <a:solidFill>
                  <a:srgbClr val="333300"/>
                </a:solidFill>
                <a:latin typeface="Arial"/>
              </a:rPr>
              <a:t>истерический смех).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6EAD-E081-4702-A713-2886B25B4A3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9" name="Picture 4" descr="smile49"/>
          <p:cNvPicPr/>
          <p:nvPr/>
        </p:nvPicPr>
        <p:blipFill>
          <a:blip r:embed="rId1"/>
          <a:stretch/>
        </p:blipFill>
        <p:spPr>
          <a:xfrm>
            <a:off x="4067280" y="4221000"/>
            <a:ext cx="2355840" cy="21099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7" descr="http://im7-tub.yandex.net/i?id=70388047&amp;tov=7"/>
          <p:cNvPicPr/>
          <p:nvPr/>
        </p:nvPicPr>
        <p:blipFill>
          <a:blip r:embed="rId2"/>
          <a:stretch/>
        </p:blipFill>
        <p:spPr>
          <a:xfrm>
            <a:off x="176040" y="0"/>
            <a:ext cx="2543400" cy="21146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7"/>
          <p:cNvSpPr/>
          <p:nvPr/>
        </p:nvSpPr>
        <p:spPr>
          <a:xfrm>
            <a:off x="2484360" y="1773360"/>
            <a:ext cx="5040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равила работы 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за компьютером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0D3B-1171-437F-AA2C-DFF0FE5DE49E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3597-C112-4EAA-9258-7C818CE07885}" type="slidenum">
              <a:rPr b="0" lang="ru-RU" sz="1200" spc="-1" strike="noStrike">
                <a:solidFill>
                  <a:srgbClr val="3333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87D2-FD1C-43A2-94C6-F3FC12FF02F9}" type="datetime">
              <a:rPr b="0" lang="ru-RU" sz="1200" spc="-1" strike="noStrike">
                <a:solidFill>
                  <a:srgbClr val="333300"/>
                </a:solidFill>
                <a:latin typeface="Arial"/>
                <a:ea typeface="Arial"/>
              </a:rPr>
              <a:t>29.07.26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18920" y="990720"/>
            <a:ext cx="6381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Компьютеры занимают все больше места и времени в распорядке жизни взрослых и детей, </a:t>
            </a:r>
            <a:br>
              <a:rPr sz="2400"/>
            </a:b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до 60% российских подростков чрезмерно увлекаются компьютерными играми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Увеличивается не только количество ПК, но происходит также их качественное изменени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7760" y="266652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Современный ребенок существенно отличается от сверстника, например, двадцатилетней давности более низкими показателями здоровья и уровня сопротивляемости неблагоприятным факторам среды.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Именно поэтому, соблюдение правил работы с ПК на данном этапе развития компьютерных технологий является актуальны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7" name="Picture 5" descr="PKG9B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3:57:35Z</dcterms:created>
  <dc:creator>User</dc:creator>
  <dc:description/>
  <dc:language>en-US</dc:language>
  <cp:lastModifiedBy>user</cp:lastModifiedBy>
  <dcterms:modified xsi:type="dcterms:W3CDTF">2015-01-25T21:02:01Z</dcterms:modified>
  <cp:revision>11</cp:revision>
  <dc:subject/>
  <dc:title>Слайд 1</dc:title>
</cp:coreProperties>
</file>