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B638-C45E-401F-A160-25CDF4DF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4792-22E9-413E-AD06-3F5EA94A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EF30-E081-446B-A7D4-CCB56BFA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3BD3-126F-4E6B-801F-BD6803D7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54D2-4BCE-41C2-810B-C7AB145B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7D7-A21C-4F6F-87A5-6C9DCCF7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B17-13C6-4264-8918-EE9803FA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922-392A-47A2-9E9B-9A45053E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765-0B87-4AC0-B6E1-69D7A99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6D8-9998-4B85-BFFA-D8469AB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E2C5-479C-4E13-AFA0-01C6A30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9CF7-4FDA-4388-9CC2-F56F96DD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412E-2531-4C9F-A099-C017903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69B7-77CD-400D-AB78-321B6B5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7A0-035F-4E6B-AFED-E977F370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418B-89DB-42E7-8FEB-AFF2F24B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341E-B696-4E19-9BE9-BA49E844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A1E6-84F2-438A-BCDC-CAD9EC6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94EE-A9AA-408D-8D20-BA13A24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D6AE-F219-4F72-971C-B3D3370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A629-3B7F-45A6-BCF8-C704C2F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90AF-F299-467F-8FB2-31D33E5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CCF0-65DF-41C4-8D5C-53A7344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0712-72D7-4DB5-B615-221E696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7D9-9EA7-42F7-BAE6-D97757F1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87F-CCAE-47B9-B074-FBED795B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Тема урока: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оверка безударных гласных в корне слова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789360"/>
            <a:ext cx="28958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Застывшая ре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3, стр. 1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Если буква гла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Вызвала сомнени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Ты её, пожалуйст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Ставь под уда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19720" y="3749760"/>
            <a:ext cx="4724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85800" y="3430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Чтоб ошибок избеж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оркость надо развив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 игре проверить можешь с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вое внимание к сло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7" descr="зимушка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76320" y="4209840"/>
            <a:ext cx="49528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упила зим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нежная 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ал снег! Ура! У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елится де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проснулся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глянул в ок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же там увид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белым-б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т уже пришла 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а зимушка-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жала детв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играла у д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179280" y="184464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Водяной, водичка, в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Зимушка, зимний, зим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Светлячок, светлый, с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Снег, снеговик, снеж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694560" y="1752480"/>
            <a:ext cx="222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в_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_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в_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н_ж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611280" y="189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обрать проверочные слова из левого столбика к записанным с пропуском слов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5219640" y="1125360"/>
            <a:ext cx="33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з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и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с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т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сн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ж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613080" y="112536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В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614160" y="1844640"/>
            <a:ext cx="22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Зим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540000" y="2492280"/>
            <a:ext cx="427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Светлый, с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38920" y="3284640"/>
            <a:ext cx="42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Снег, снеж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Дети и снеговик"/>
          <p:cNvPicPr/>
          <p:nvPr/>
        </p:nvPicPr>
        <p:blipFill>
          <a:blip r:embed="rId1"/>
          <a:stretch/>
        </p:blipFill>
        <p:spPr>
          <a:xfrm>
            <a:off x="6603840" y="41148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зимушка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666520" y="42670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има, зимушка–зима,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интересно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егодня понял (а)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трудно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хочу научиться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18280" y="2124000"/>
            <a:ext cx="3825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0T19:32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