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A4FC-63DB-48BD-A65D-BED9FA45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6987-157D-4112-A235-00947014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11AF-89A7-4B06-BFC7-7DDEB8C9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B28F-C13C-467B-BDF7-7AEDF6BA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C3AD-53DC-465E-9E89-A3B2A011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C088-763C-462B-A7ED-DE234F9F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CC81-4C5B-46E5-B27E-F0CFB4A9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545A-6FB4-434F-BE08-CF3174F4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CB28-702B-4445-BDFD-924C09BB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B628-9F0E-4099-A31D-AC520D3E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A29F-827E-4C41-A34D-D77C80DA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7121-8A29-4811-BAA2-62EBDACA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BAF0-881C-4B68-BDD1-4E55E736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D50B-D7D1-4A63-9C27-72AD6B17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CD44-68BD-4269-848E-8C717003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71A3-FE40-4BAF-8492-384FB6FC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CAC4-746A-43AB-ABCD-7030F1FF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D9B6-666A-4DA1-966D-D16E0C86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8811-4077-4E73-AFFB-39A9E310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D2E9-2185-4097-91FC-13F51218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3408-484C-4F1E-A912-D4C89F39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47A7-954E-4A2C-A957-E2502887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E28B-9053-4C8C-B026-92E9D110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F9B48-182C-4B68-A936-F7B5C197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8F42-9A15-4372-8658-E94FDAC36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171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E2C3-73E9-4957-A565-5BFDFF211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200e4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200e4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171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Тема урока: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роверка безударных гласных в корне слова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609480" y="3789360"/>
            <a:ext cx="28958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5" descr="Застывшая ре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63, стр. 1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715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Если буква глас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Вызвала сомнение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Ты её, пожалуйст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Ставь под уда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419720" y="3749760"/>
            <a:ext cx="47242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685800" y="3430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Чтоб ошибок избежа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оркость надо развива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В игре проверить можешь с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Свое внимание к слов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9528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7" descr="зимушка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76320" y="4209840"/>
            <a:ext cx="495288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ступила зим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нежная п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пал снег! Ура! У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селится детв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42670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 проснулся р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глянул в ок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же там увид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 белым-б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343040" y="1828440"/>
            <a:ext cx="4800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т уже пришла он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ша зимушка-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жала детв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играла у дв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4"/>
          <p:cNvSpPr/>
          <p:nvPr/>
        </p:nvSpPr>
        <p:spPr>
          <a:xfrm>
            <a:off x="179280" y="1844640"/>
            <a:ext cx="62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Водяной, водичка, вод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Зимушка, зимний, зим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Светлячок, светлый, с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Снег, снеговик, снеж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6694560" y="1752480"/>
            <a:ext cx="2220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в_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з_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св_т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сн_ж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611280" y="18900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обрать проверочные слова из левого столбика к записанным с пропуском слова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5219640" y="1125360"/>
            <a:ext cx="334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в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з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и</a:t>
            </a: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св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т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сн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ж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613080" y="1125360"/>
            <a:ext cx="229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Вод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614160" y="1844640"/>
            <a:ext cx="22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Зим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540000" y="2492280"/>
            <a:ext cx="427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Светлый, с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538920" y="3284640"/>
            <a:ext cx="428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Снег, снеж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Дети и снеговик"/>
          <p:cNvPicPr/>
          <p:nvPr/>
        </p:nvPicPr>
        <p:blipFill>
          <a:blip r:embed="rId1"/>
          <a:stretch/>
        </p:blipFill>
        <p:spPr>
          <a:xfrm>
            <a:off x="6603840" y="411480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зимушка2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2666520" y="42670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има, зимушка–зима,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было интересно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сегодня понял (а) 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было трудно 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хочу научиться 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5318280" y="2124000"/>
            <a:ext cx="38257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10T19:32:4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