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45DF-3AB5-4311-8565-CB8B47B7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FD47-08A2-42BD-BA44-1D85B153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B534-408C-455D-A4FC-A003FCB0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63EF-621B-497A-AE92-47AEDD9C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1988F-E477-43C0-95CD-6D0F5E9C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1C599-68C9-48D4-86A3-A62972FC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504DC-34F6-4F96-8287-E7BD4747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9CD6A-38C4-4391-9CA9-A4822DF0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23B1F-0F22-40C1-B2D1-EB3942DD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F4178-D1E1-4EF5-97D4-7DC56918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9530F-8F55-445C-8C8D-38CD9442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83C-F268-454D-A80A-1B7B69F8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A8EB3-5EC4-4795-A29A-7ABB6794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A61C0-888C-4E68-8DCD-C4C1DA9F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DB12F-96BB-4CF1-A52F-D911557D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F5FE0-91B6-45EE-8713-1AA6526A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05D96-0F6E-4438-B2CF-3E75EC6D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F4ABA-2D51-41A4-9604-526297EB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F341F-BCFB-4775-9F96-7E004790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3D6BE-CE5E-4412-B4B6-020A6C94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CA557-0F93-40A0-8CE6-EDFFF67E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4F6FC-28CA-4288-9A70-AAD2E7EE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A3EF-186A-4E7B-A3CD-AB25C5CC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C2C5A-B4FB-40A0-821D-7AD47E01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A082E-0E20-4D88-BE87-6696822F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E3664-40B5-4098-90AB-C8FC26F5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D3381-4934-4912-BC3A-93D872D7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0EE66-A14A-4070-AC31-029C4422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5B283-F110-4E99-9637-57B903B0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D0583-0D27-419B-876E-2D1DEE5A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26FFD5-9557-4131-B135-6FBC1972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943964-449D-4D68-8F73-55D8344F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2E83EE-3C72-480F-ACCA-96C42C85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CA45-545D-4441-B5F0-A6A1CE5A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B69EBD-7B44-4663-904C-D84B4E05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D9FD7C-6683-43B9-A94D-B4ECFCFB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5E927E-00A2-4268-AE66-96EF5787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4FE11D-D81E-46C8-AF0F-00C7ED9B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057DF0-EDCA-4311-83CD-291404D7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17FFB3-D012-4458-8A50-3D5E2AA2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8A7119-93C3-460F-840F-878424E0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501CB5-21CD-402B-8135-A3802D47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A4083B-6A5E-4E83-93C3-23C3D953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C3F9EF-2580-4BC7-8977-56549552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C705-B8E3-43BB-85F8-8DE5DA72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BE3E54-06C1-4CFB-B354-9056F333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7FBD6F-BAFF-40A6-9CF3-A3CFC09E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738AB3-2596-4CA5-9FCE-91EBC534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4E6568-023F-4F5D-B254-3540DEE0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90DD62-74E6-4C01-BF08-400F22B0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C2B160-6F77-4F00-A7A3-93EA0489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C98CC9-2D4A-44DE-BFC0-E00896F0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EDF383-2092-43CA-95BF-55A0A1B4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5A2361-4635-42C8-B335-857CD5CF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64E375-117A-4315-921A-DBE5AFDE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D0BC-95FD-4CC9-9E01-A3A84B7B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9BA1A0-6418-4592-9A0A-F3A080F6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1F36FB-ACA9-49C5-A485-275FF35B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1BC399-1DD3-4AE9-91A2-ADB63BB6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B62F64-9078-4D57-985D-E566B434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FCDD4A-1F54-4014-A146-0F1F6ADF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7F0C62-CEE3-4BF5-BA0E-13DD48A4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828A36-A424-4289-9D4C-3D5FD24F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968EA9-DDA8-45D8-BA93-8788E61A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D22AA7-7F53-4987-BBEB-F7F651B3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ECB6EC-514A-4EE4-9C42-9AD6A313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0FC7-129B-4413-8EA1-83453482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BFBC9D-F1EC-4628-89BE-B23E733C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F20CD4-9F06-4FAE-84B0-ED3AC68E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A653CD-4216-48B0-8356-469DFF54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1843-5F14-4062-A2FC-31CC801C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4372-FE94-4CBE-98BC-9E313616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6AAB-F743-4AF7-BCA0-EDA8C682D24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3B23-982A-4A49-97FE-18BF7D50B9E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C7BF-13D1-48F9-883A-80C73928F84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C781-634A-4FF2-9B78-BE1D7EA663D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7C30-CD89-4FFF-9B7E-1A9EA4DA7F7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7518-8C49-4257-B49B-D88AABFC52E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6469200" cy="2024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http://cs605229.vk.me/v605229585/2644/u0NkfBpd90E.jpg"/>
          <p:cNvPicPr/>
          <p:nvPr/>
        </p:nvPicPr>
        <p:blipFill>
          <a:blip r:embed="rId2"/>
          <a:stretch/>
        </p:blipFill>
        <p:spPr>
          <a:xfrm>
            <a:off x="2857680" y="2143080"/>
            <a:ext cx="57528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http://cs406330.vk.me/v406330460/420b/JSfEtdACe4A.jpg"/>
          <p:cNvPicPr/>
          <p:nvPr/>
        </p:nvPicPr>
        <p:blipFill>
          <a:blip r:embed="rId2"/>
          <a:stretch/>
        </p:blipFill>
        <p:spPr>
          <a:xfrm>
            <a:off x="1428840" y="1643040"/>
            <a:ext cx="57531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http://cs618820.vk.me/v618820585/71ae/IVs71V2pb9w.jpg"/>
          <p:cNvPicPr/>
          <p:nvPr/>
        </p:nvPicPr>
        <p:blipFill>
          <a:blip r:embed="rId2"/>
          <a:stretch/>
        </p:blipFill>
        <p:spPr>
          <a:xfrm>
            <a:off x="2428920" y="1428840"/>
            <a:ext cx="575316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http://cs619821.vk.me/v619821630/933a/L7-OrIyJ-Ik.jpg"/>
          <p:cNvPicPr/>
          <p:nvPr/>
        </p:nvPicPr>
        <p:blipFill>
          <a:blip r:embed="rId2"/>
          <a:stretch/>
        </p:blipFill>
        <p:spPr>
          <a:xfrm>
            <a:off x="1357200" y="1714680"/>
            <a:ext cx="575316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http://cs308625.vk.me/v308625891/3633/97ny9mc8UnU.jpg"/>
          <p:cNvPicPr/>
          <p:nvPr/>
        </p:nvPicPr>
        <p:blipFill>
          <a:blip r:embed="rId2"/>
          <a:stretch/>
        </p:blipFill>
        <p:spPr>
          <a:xfrm>
            <a:off x="1714680" y="1571760"/>
            <a:ext cx="575280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437680" cy="1231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http://cs314717.vk.me/v314717585/518d/br_PPgN0kSU.jpg"/>
          <p:cNvPicPr/>
          <p:nvPr/>
        </p:nvPicPr>
        <p:blipFill>
          <a:blip r:embed="rId2"/>
          <a:stretch/>
        </p:blipFill>
        <p:spPr>
          <a:xfrm>
            <a:off x="1857240" y="1714680"/>
            <a:ext cx="575316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http://cs314717.vk.me/v314717585/5145/LK63qCusDpg.jpg"/>
          <p:cNvPicPr/>
          <p:nvPr/>
        </p:nvPicPr>
        <p:blipFill>
          <a:blip r:embed="rId2"/>
          <a:stretch/>
        </p:blipFill>
        <p:spPr>
          <a:xfrm>
            <a:off x="1500120" y="1785960"/>
            <a:ext cx="57531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8T12:14:34Z</dcterms:created>
  <dc:creator>1</dc:creator>
  <dc:description/>
  <dc:language>en-US</dc:language>
  <cp:lastModifiedBy>1</cp:lastModifiedBy>
  <dcterms:modified xsi:type="dcterms:W3CDTF">2014-09-18T12:31:43Z</dcterms:modified>
  <cp:revision>2</cp:revision>
  <dc:subject/>
  <dc:title>САМЫЙ ГЛАВНЫЙ КОРОЛЬ 101 ГРУППЫ  УРАЗБАХТИН ДМИТРИЙ</dc:title>
</cp:coreProperties>
</file>