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AEC-F36C-4B6A-ADE1-FA45138C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559-B25B-4BB8-BED5-1791B707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6D5-DEBB-40BB-ABF4-08FC59EA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3A9-FC57-4DB9-B07A-1649A232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9AD19-DA0F-41EF-A42A-13FAAAA3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053EF-5E73-44B3-94F3-EFC2C85C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2A4E9-110A-4C48-95D1-433A72BE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DCC57-F22A-4E6F-9E58-B2D09A65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D519E-488D-4F9D-A81E-73A24983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7B3C0-6099-47C3-BEF6-983703B6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CE41F-0F11-4610-9405-C7A3A582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F8B-9114-46F5-9290-5CDF624D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CB4E6-F52C-41B2-B94F-44E70313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5507F-7455-481E-9794-4E8BE1D4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2127E-9A7B-4BAF-B878-C456CDB4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C3D11-C789-497B-B7F9-E1508C00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FFE51-B0AD-4BB2-85DE-9524EF48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84EE-5511-4D9C-A5ED-658C9597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D395-2B6B-4581-BC32-70016481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2015-7A6F-470F-98AB-295AD1A7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176F-89F5-444F-963E-D76BDB67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1A353-80FA-413E-814E-A6711869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D19-A624-478E-941B-4239F4A6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3BED-F962-4414-8BD2-C4B80ADA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8D957-6D86-4DEB-A796-4F86EDE2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7F93F-B653-4DB0-8FE1-685C32E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9DE5-530A-428C-9E55-EA92AEE2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C83E-2A29-498D-8AA6-E0AA9063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EC49B-4A4C-4EB0-AE1F-1D5CDE18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89994-A07E-4FE0-8F25-7595AD87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E6E10-5355-4949-9264-EDF179D3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34C1C-11C0-4164-B435-4B75F800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0929F-1201-49A5-8FA2-1842DD2F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919-4E9D-494D-A2D4-98B00B47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40D6F-41D4-42A2-ABF2-EAF778CE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22CA0-FA57-4EDA-B4A1-C944E254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935CA-F406-461C-9412-D1537413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E599B-9FC8-4988-89C6-62E841F0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5B9B83-E212-4D0E-A081-B68FF4CE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F44FFF-6D3A-41B5-89C8-D6835CD8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A4150-CFD7-44A0-8260-F9F42458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657B18-CBE9-4895-8D92-7CF7076F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F1827-B25E-425C-BE83-34B56FC2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12262-B89A-4DF5-9BEF-3471D0F2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CF4-262D-4413-8BC4-C1E1B702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FC591-AB66-48DD-8D5A-4AA7CE14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41A21-8DD2-42D7-B2A8-F6EDF997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27C91-A447-4374-9978-B5453010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D357E-BB5D-484B-BB2D-D237F32A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88910-43C5-4961-9E48-D1CE88CA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5CA55-888B-44EB-9217-74C98332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EAB25-007C-4948-A81A-5FF03EA9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1E297-07D2-4BCD-8792-03A4FF8B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8EA94-5CAD-4FAD-8C7C-0728AC9B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E7C02-01E6-4C15-AF2A-006B23EE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D9C-B2EC-4506-BC96-C629680E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A187C-1653-4DD7-B6D5-379B7C87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5A8E5-A45D-4847-A99C-18E3A6FB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CE3D7-3B2D-4A83-8B32-56C6AA6D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C2B1C-00A5-48FB-99FA-8E885C2E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C9320-3DBC-45AD-AAE8-9FC66998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8E93D-F23E-4319-8940-4F0A3B21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1B66D-BA09-40C0-9F6C-BBBC50BA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B4D6B-F93B-457E-8C84-3D6B871F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22E6E-4127-40C3-9288-C752AC73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0B72E-0273-408F-B248-39360D0D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88C-10FE-47D9-8764-AF3EEE1B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6CDB2-58E5-4D16-8487-AC736B82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EF1E9-38F5-4E09-9035-2BC7DADC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7039F-5F03-43EB-B706-39CCE234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C3C-6F3A-41EC-A503-19452AC6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39B-FEBD-4CDB-9EE1-1C4FDD1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4A13-C7CE-4D06-9D9E-B8A3220D285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6184-605F-4C96-8AB2-6528CD78246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9660-0766-4D83-A850-C7A2149BB9D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9DB2-7FD7-452D-9365-F5CDBE79B53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5DAB-9B60-4ADE-A523-0028756431F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30B1-51BF-4529-9BD3-95DE1B8AE7D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6469200" cy="2024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ttp://cs605229.vk.me/v605229585/2644/u0NkfBpd90E.jpg"/>
          <p:cNvPicPr/>
          <p:nvPr/>
        </p:nvPicPr>
        <p:blipFill>
          <a:blip r:embed="rId2"/>
          <a:stretch/>
        </p:blipFill>
        <p:spPr>
          <a:xfrm>
            <a:off x="2857680" y="214308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cs406330.vk.me/v406330460/420b/JSfEtdACe4A.jpg"/>
          <p:cNvPicPr/>
          <p:nvPr/>
        </p:nvPicPr>
        <p:blipFill>
          <a:blip r:embed="rId2"/>
          <a:stretch/>
        </p:blipFill>
        <p:spPr>
          <a:xfrm>
            <a:off x="1428840" y="164304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cs618820.vk.me/v618820585/71ae/IVs71V2pb9w.jpg"/>
          <p:cNvPicPr/>
          <p:nvPr/>
        </p:nvPicPr>
        <p:blipFill>
          <a:blip r:embed="rId2"/>
          <a:stretch/>
        </p:blipFill>
        <p:spPr>
          <a:xfrm>
            <a:off x="2428920" y="1428840"/>
            <a:ext cx="57531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://cs619821.vk.me/v619821630/933a/L7-OrIyJ-Ik.jpg"/>
          <p:cNvPicPr/>
          <p:nvPr/>
        </p:nvPicPr>
        <p:blipFill>
          <a:blip r:embed="rId2"/>
          <a:stretch/>
        </p:blipFill>
        <p:spPr>
          <a:xfrm>
            <a:off x="1357200" y="1714680"/>
            <a:ext cx="57531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http://cs308625.vk.me/v308625891/3633/97ny9mc8UnU.jpg"/>
          <p:cNvPicPr/>
          <p:nvPr/>
        </p:nvPicPr>
        <p:blipFill>
          <a:blip r:embed="rId2"/>
          <a:stretch/>
        </p:blipFill>
        <p:spPr>
          <a:xfrm>
            <a:off x="1714680" y="1571760"/>
            <a:ext cx="57528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http://cs314717.vk.me/v314717585/518d/br_PPgN0kSU.jpg"/>
          <p:cNvPicPr/>
          <p:nvPr/>
        </p:nvPicPr>
        <p:blipFill>
          <a:blip r:embed="rId2"/>
          <a:stretch/>
        </p:blipFill>
        <p:spPr>
          <a:xfrm>
            <a:off x="1857240" y="1714680"/>
            <a:ext cx="57531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ttp://cs314717.vk.me/v314717585/5145/LK63qCusDpg.jpg"/>
          <p:cNvPicPr/>
          <p:nvPr/>
        </p:nvPicPr>
        <p:blipFill>
          <a:blip r:embed="rId2"/>
          <a:stretch/>
        </p:blipFill>
        <p:spPr>
          <a:xfrm>
            <a:off x="1500120" y="178596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12:14:34Z</dcterms:created>
  <dc:creator>1</dc:creator>
  <dc:description/>
  <dc:language>en-US</dc:language>
  <cp:lastModifiedBy>1</cp:lastModifiedBy>
  <dcterms:modified xsi:type="dcterms:W3CDTF">2014-09-18T12:31:43Z</dcterms:modified>
  <cp:revision>2</cp:revision>
  <dc:subject/>
  <dc:title>САМЫЙ ГЛАВНЫЙ КОРОЛЬ 101 ГРУППЫ  УРАЗБАХТИН ДМИТРИЙ</dc:title>
</cp:coreProperties>
</file>