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5947-D3F9-4036-AE43-24DE8DAF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313A-DFD5-43F7-93D3-4FB32732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0519-3645-4C5D-9DB6-B6B6C09A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885D-BF5A-4722-AE6A-F7622BDC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706D-4DF5-4F3F-8541-9B1C3490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90DC-2E58-4F48-A3EA-F8784B8D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047C-E92A-43D3-9A53-48E75F31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DF32-1FDD-4965-896E-B58704F8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B3F9-83FB-4BC6-B49D-6512BA5B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68D7-1755-47DD-9D12-FE8E0E50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C963-B669-4BD2-A1A9-73D7BFB1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6A26-0E3D-46EF-9972-61AC9750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88E2-B343-4D99-B2BE-F972B660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92B2-6B71-48B5-8990-E86B3962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2F57-167B-4ADF-916F-3FBBCA8B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1784-012E-4F10-8B4B-5B892298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FB50-19F6-448B-BEE7-BF4C287B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5687-15E4-4273-AE76-B5EC43C6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EEF9-7385-4B3A-88F8-13DDD5AA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43FB-D9EA-49FD-AF10-B154392F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19AD-869A-4CB7-8113-50A61010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9C7A-D773-4AC0-BFDE-080B222B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7BC1-1BFD-4E2D-BB96-43E73F19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07C-235B-468C-B99C-F799FF18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BB89-2020-4C8A-B857-709B3EBCBB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AACB-FAFC-4AC5-8D09-6AF238830F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амый ум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матическая и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9-11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Геометрический раунд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пендикулярны ли диагонали прямоугольник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резок, соединяющий не соседние вершины многоуголь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уч, делящий угол попол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тырёхугольник, у которого стороны попарно параллель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резок, соединяющий середины двух сторон треуголь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ямоугольник с равными сторо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игура, состоящая из двух лучей, выходящих из одной то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авильный четырёхугольн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реугольник, у которого две стороны рав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тырёхугольник, у которого две стороны параллельны, а две другие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резок, соединяющий вершину треугольника с серединой противоположной сторо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му равна сумма углов треугольник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5317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0039"/>
                </a:solidFill>
                <a:latin typeface="Arial"/>
              </a:rPr>
              <a:t>Верно ли что…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ва треугольника равны, если три угла одного равны трём углам друг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угол при вершине равнобедренного треугольника равен 60 градусов, то он равносторон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 треугольника равна произведению основания на выс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ота любого треугольника проходит внутри 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мма острых углов прямоугольного треугольника равна 180 граду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агонали ромба рав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157400" cy="150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Мыслительный тур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дите наименьшее трёхзначное число, кратное трём, если его первая цифра равна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ишите число 100 шестью одинаковыми двузначными числ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18908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0" y="228600"/>
            <a:ext cx="6400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какому принципу  разбили буквы на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 Д  Л  М  П  Т  Ф  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 Е  З  К  С  Э  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  И  О  Х 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больше: 2 в пятой степени или 5 во второй степе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гол в 1 градус рассматривают в лупу, дающую четырёхкратное увеличение. Какой величины окажется уго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Кто больше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мат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рмины на букву «п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ПАРАЛЛЕЛЕПИПЕ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ена матема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овицы и поговорки с именами числитель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ва, в которые входит 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514600" cy="228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оздравляем победителя!!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343400" y="2209680"/>
            <a:ext cx="2301840" cy="300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</cp:lastModifiedBy>
  <dcterms:modified xsi:type="dcterms:W3CDTF">2003-12-31T21:49:5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