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gif" ContentType="image/gif"/>
  <Override PartName="/ppt/media/image7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05EEC-B15F-4DCE-B693-3BB9D5552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749BD-5A90-409F-B31B-5E1BD1D93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33710-0947-46E6-A64B-032397510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BB7DD-D0F4-4C4F-862B-A29C25B98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C37EC-ABD8-4D92-9D7B-A4D67B4D0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0A3CE-8A65-44C5-AB0A-86B78256D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BC39A-8EA2-433F-84EE-AE58690BC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9CC34-90BE-4474-A0D7-6B193FBB9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4E831-F3C4-409F-9B18-D57D2EA58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284E7-D1FF-42A3-A17F-DD935D58D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EE70C-7B43-49AE-95F5-08F625AF6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D0BC3-6D6B-4723-994D-3182824EF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11A38-F033-4104-8BD4-0647D906B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CB649-31FF-46CB-BB4E-54D929EAB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7ABCA-0F87-4FD3-B523-A21998503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FF988-51DD-4B45-BCD6-8417782A4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83D50-193C-4F9D-9D8D-244076E78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E2856-7D6F-466F-A036-FBD30FB7D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53A3D-CDFD-4B74-88EC-788CABF35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76A38-1263-4002-8E17-CB5D953CE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1F1DA-F98C-4A6B-9024-8E23DBD08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D3661-DBB5-48D6-8389-8B03E7FA5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286F8-C15F-4C43-9874-8E0BB3721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563EC-2C76-4026-8DFC-D530ADCBB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73944-6D1E-4947-9341-3CBAF0B6096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5866A-EEC7-40F6-836C-F86450F1DA3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Самый умны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362320" y="3429000"/>
            <a:ext cx="6400800" cy="14479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атематическая иг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ля 9-11 класс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Геометрический раунд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ерпендикулярны ли диагонали прямоугольника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Отрезок, соединяющий не соседние вершины многоугольник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Луч, делящий угол попола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Четырёхугольник, у которого стороны попарно параллельн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Отрезок, соединяющий середины двух сторон треугольник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рямоугольник с равными сторона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Фигура, состоящая из двух лучей, выходящих из одной точк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равильный четырёхугольник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Треугольник, у которого две стороны равн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Четырёхугольник, у которого две стороны параллельны, а две другие не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Отрезок, соединяющий вершину треугольника с серединой противоположной сторон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Чему равна сумма углов треугольника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8077320" y="228600"/>
            <a:ext cx="531720" cy="2209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8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8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8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0039"/>
                </a:solidFill>
                <a:latin typeface="Arial"/>
              </a:rPr>
              <a:t>Верно ли что…</a:t>
            </a:r>
            <a:endParaRPr b="0" lang="en-US" sz="44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ва треугольника равны, если три угла одного равны трём углам другог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Если угол при вершине равнобедренного треугольника равен 60 градусов, то он равносторон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лощадь треугольника равна произведению основания на высот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ысота любого треугольника проходит внутри треугольни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умма острых углов прямоугольного треугольника равна 180 градус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иагонали ромба рав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7238880" y="228600"/>
            <a:ext cx="1157400" cy="1504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Мыслительный тур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йдите наименьшее трёхзначное число, кратное трём, если его первая цифра равна 7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апишите число 100 шестью одинаковыми двузначными числ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7315200" y="228600"/>
            <a:ext cx="1189080" cy="1895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0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5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0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86000" y="228600"/>
            <a:ext cx="64008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 какому принципу  разбили буквы на групп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  Д  Л  М  П  Т  Ф  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  Е  З  К  С  Э  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Ж  И  О  Х  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Что больше: 2 в пятой степени или 5 во второй степен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гол в 1 градус рассматривают в лупу, дающую четырёхкратное увеличение. Какой величины окажется угол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7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2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7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2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7" dur="5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2" dur="500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Кто больше?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атематическ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ермины на букву «п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«ПАРАЛЛЕЛЕПИПЕД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мена математик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словицы и поговорки с именами числительны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лова, в которые входит 1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6629400" y="152280"/>
            <a:ext cx="2514600" cy="2287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Поздравляем победителя!!!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4343400" y="2209680"/>
            <a:ext cx="2301840" cy="30006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*</cp:lastModifiedBy>
  <dcterms:modified xsi:type="dcterms:W3CDTF">2003-12-31T21:49:5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