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088-AB55-494B-BEF6-331E8900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9B6-DF52-4E06-934D-90DE613A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90D-E153-4195-81EE-C80EADEE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BCD-B32E-472C-98AB-049D973C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9F7-DD04-4F6A-A825-E4CD5959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D13-A52A-41CD-8332-F902E011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92F-FFA9-4C28-9552-53E94C1C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D27-3CEA-40B9-92AE-60CE453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8EB-7AFF-451C-8F21-BB99B02A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CC9-C451-4AF9-9F93-5033E933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72D-3DF4-4594-9CF1-7E0FC57D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E1B-F0E5-47DF-80FB-0A4DC90A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B391-72C2-4824-AA43-BD2CB17B69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«Интеграция физкультурно-оздоровительной работы с разными видами детской деятельност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2"/>
          <a:stretch/>
        </p:blipFill>
        <p:spPr>
          <a:xfrm>
            <a:off x="304920" y="1146240"/>
            <a:ext cx="8534160" cy="3797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1143000" y="5286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4716360" y="528804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и: старший воспитатель Тимофеева Тамара Владими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олева Елена Викто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ДС №6 «Солнышк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тесном взаимодействии всех участников педагогического процесса возможно успешное формирование личностной готовности детей к школьному обучению, социализации и адаптации их в обществе. Только совместными усилиями можно решить поставленные задачи, а значит, рассчитывать на положительные результаты своего тру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«Все, чему учат человека, должно быть не разрозненным, частичным, а единым, целым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                 Я.А. Комен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Таблица 5" descr=""/>
          <p:cNvPicPr/>
          <p:nvPr/>
        </p:nvPicPr>
        <p:blipFill>
          <a:blip r:embed="rId2"/>
          <a:stretch/>
        </p:blipFill>
        <p:spPr>
          <a:xfrm>
            <a:off x="487440" y="590400"/>
            <a:ext cx="8315280" cy="5919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1928880" y="180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ерспективный комплексно – тематический пл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Формы двигательной активности: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1424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ренняя гимнас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ятия физической культурой (в помещении и на воздух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культурные мину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ижные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ртивные упраж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тмическая гимнас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ятия на тренажерах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6002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0040" y="642960"/>
          <a:ext cx="8286840" cy="6080040"/>
        </p:xfrm>
        <a:graphic>
          <a:graphicData uri="http://schemas.openxmlformats.org/drawingml/2006/table">
            <a:tbl>
              <a:tblPr/>
              <a:tblGrid>
                <a:gridCol w="996840"/>
                <a:gridCol w="5832720"/>
                <a:gridCol w="1457280"/>
              </a:tblGrid>
              <a:tr h="137520">
                <a:tc gridSpan="3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ационный момен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gridSpan="3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хорошо, как весело по лесу мы идем, с корзинками плетенными, осенним ясным днем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в свои корзиночки мы дружно соберем и ягодкам поклонимся осенним ясным днем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раво повернись и в лес поторопис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иров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ая ч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в колон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с высоким подниманием ног (шагаем через пеньк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в полуприсиде (пройдем под ветк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й бе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дем по лесу весело осенним ясным днем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слегка расставлены, руки на пояс;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шаги на месте, не отрывая нос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б корзинку нам поднять, надо руки укреплять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: о.с., руки в стороны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уки к плечам, пальцы в кулак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ками ветки отведем, потом под ветками пройдем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врозь, руки в стор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ки, скрестить на предплечьях, наклон вперед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ежду кочек впереди, много ягод, посмотри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врозь, руки на поя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вороты в сторону, левая (правая) рука ко лбу, правая (левая) за спину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ы присядем на пенек, раз грибок и два грибок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стоя на коленях, руки на пояс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есть на пол справа (слева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куда собрать грибы, станем как корзинки мы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: лежа на живо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огнуть ноги, взяться за голеностоп, подтянуться вверх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на двух на ногах на мест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ышим свежим воздухом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: о.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уки через стороны вверх – вдо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ая ч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ый бе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ми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*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утренней гимнастики на 1 неделю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ябр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ая тема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годы и  грибы. Лес осенью»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85840" y="2071800"/>
          <a:ext cx="8572320" cy="4599000"/>
        </p:xfrm>
        <a:graphic>
          <a:graphicData uri="http://schemas.openxmlformats.org/drawingml/2006/table">
            <a:tbl>
              <a:tblPr/>
              <a:tblGrid>
                <a:gridCol w="295200"/>
                <a:gridCol w="3684600"/>
                <a:gridCol w="1685880"/>
                <a:gridCol w="2906640"/>
              </a:tblGrid>
              <a:tr h="3412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иров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ие рекоменд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960">
                <a:tc gridSpan="4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ительное слов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: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, точно терем расписной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овый, золотой, багряны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ой, пестрою сте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т над светлою поляной. (И. Бун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т какими красивыми словами можно описать лес. Давайте и мы прогуляемся по лесу и полюбуемся его красотой. Будем дышать свежим воздухом, укреплять здоровье, а заодно узнаем, что растет в лесу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35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ная ч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друг за друг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сокие деревья выросли в лес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на носках, руки на пояс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йдем под ветками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в полуприсиде, руки на пояс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шагнем через пеньки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с высоким подниманием колена, подниманием рук вверх, в сторо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й бег на носоч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прям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у держать прям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 gridSpan="4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Осенние листья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, два, три, четыре, пять -                                  Дети поочередно загибают пальч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ем листья собирать –                                       Сжимают и разжимают кула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 березы, листья рябины –                          Загибают пальчики, начи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ики тополя, листья осины                              с больш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ики с дуба мы соберем,                                Шагают по левой ладони средним 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е осенний букет отнесем.                               указательным пальцами правой ру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 прежде чем подарить букет маме, давайте полюбуемся осенними листьям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Rectangle 5"/>
          <p:cNvSpPr/>
          <p:nvPr/>
        </p:nvSpPr>
        <p:spPr>
          <a:xfrm>
            <a:off x="214200" y="103680"/>
            <a:ext cx="878688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с полон сказок и чудес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зкультурно-познавательно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Упражнять в ползании на животе оп гимнастической скамье, тренировать в перебрасывании мя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ориентировку в пространстве. Обобщать и уточнять знания детей о деревь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- Развивать координацию и общую моторику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- Воспитывать бережно отношение к природе, способность любоваться ее кра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. творчест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- Развивать воображение и фантазию.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имнастическая скамейка (высота – 35 см.), мячи, картинки с изображениями деревьев, по два листа из картона на ребенка, 3 кегли разного цв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57120" y="357120"/>
          <a:ext cx="8429760" cy="6097680"/>
        </p:xfrm>
        <a:graphic>
          <a:graphicData uri="http://schemas.openxmlformats.org/drawingml/2006/table">
            <a:tbl>
              <a:tblPr/>
              <a:tblGrid>
                <a:gridCol w="290520"/>
                <a:gridCol w="3622680"/>
                <a:gridCol w="1068480"/>
                <a:gridCol w="3448080"/>
              </a:tblGrid>
              <a:tr h="438948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 с листь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отая осень, в гости тебя просим!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слегка расставить, руки за спино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уки через стороны вверх, на носки, смотреть вверх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етерок пробежал, все деревья закача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врозь, руки вниз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днять руки в вверх, наклоны вправо-влев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ревья клонятся ниже, буря осенняя ближ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врозь, руки вн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клон вперед, руки в стороны, голову прямо - выдо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смотри по сторонам,  листопад и тут и та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слегка расставить, руки в сторон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исесть, коснуться но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ждь непоседа по лужам шага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о.с., руки на пояс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огу на носок вперед, в сторону, наза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ужит листьев хоровод, веселится,  всех з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на двух ногах вокруг листочк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2 круга (с ходьбой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ни не сгиб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у держать пря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га прямая, носок оттян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200">
                <a:tc gridSpan="4"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теперь постарайтесь отгадать мои загадки (загадки о деревья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загадки вы отгадали верно. А теперь давайте представим себя листочками и поиграем с ветро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листики осенние на ветках мы сидим,                       Дети идут по кругу, руки в стороны, ввер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нул ветер – полетели, мы летели, мы летели               Бегут по кругу машут ру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на землю тихо сели                                                          Приседают руки опускают на п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 снова набежал и листочки все поднял                    Поднимаются, движения руками вправо-вл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ужились, полетели                                                        Кружатся на ме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на землю снова сели                                                         Присед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как животные любуются лесом? Сейчас мы это узна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214200" y="357120"/>
          <a:ext cx="8643960" cy="5572080"/>
        </p:xfrm>
        <a:graphic>
          <a:graphicData uri="http://schemas.openxmlformats.org/drawingml/2006/table">
            <a:tbl>
              <a:tblPr/>
              <a:tblGrid>
                <a:gridCol w="436680"/>
                <a:gridCol w="3576600"/>
                <a:gridCol w="1093680"/>
                <a:gridCol w="3537000"/>
              </a:tblGrid>
              <a:tr h="151308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Ёжик идет, грибочки несе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зание на животе по гимнастической скамейке, подтягиваясь ру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личьи припас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ние (шишек) в вертикальную ц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о-групповой 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ог по выбору: прямые вместе или врозь, прямые согнутые в коле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 gridSpan="4"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хорошо в лесу просторно, давайте поиграем вот на этой полян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7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ое дерево найд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ой упал листик?» (проводит воспитате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делятся на три команды (шишки, желуди, каштаны). По команде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ревья качаются, плоды осыпаются»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ети разбегаются врассыпную. По команде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ыстро к дереву беги, свое дерево найди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дети строятся в колонны за своим деревом (кег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в кругу, воспитатель бросает мяч и называет дерево, ребенок бросает обратно и называет лист (клен-кленов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gridSpan="4"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вам понравилось в осеннем лесу? Давайте все, вместе выучим правило друзей леса и постараемся его выполнять: «Много леса не губи, мало леса – береги, нет леса – посад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7920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итель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по коррегирующим доро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5920" y="1856880"/>
            <a:ext cx="7215120" cy="26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едагоги, дети, мам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яни, бабушки и пап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огопеды и муз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 психолог и физо -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оспитательный процесс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А в развитии прогресс!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:\Documents and Settings\user\Рабочий стол\картинки\500 картинок\5000 изображений\Sports Cartoons\AEROB2.WMF"/>
          <p:cNvPicPr/>
          <p:nvPr/>
        </p:nvPicPr>
        <p:blipFill>
          <a:blip r:embed="rId2"/>
          <a:stretch/>
        </p:blipFill>
        <p:spPr>
          <a:xfrm>
            <a:off x="6929280" y="0"/>
            <a:ext cx="2479680" cy="3454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user\Рабочий стол\картинки\500 картинок\5000 изображений\Sports Cartoons\FREEST2.WMF"/>
          <p:cNvPicPr/>
          <p:nvPr/>
        </p:nvPicPr>
        <p:blipFill>
          <a:blip r:embed="rId3"/>
          <a:stretch/>
        </p:blipFill>
        <p:spPr>
          <a:xfrm flipH="1">
            <a:off x="6593040" y="4005360"/>
            <a:ext cx="2550960" cy="285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user\Рабочий стол\картинки\500 картинок\5000 изображений\Sports Cartoons\TRAINER2.WMF"/>
          <p:cNvPicPr/>
          <p:nvPr/>
        </p:nvPicPr>
        <p:blipFill>
          <a:blip r:embed="rId4"/>
          <a:stretch/>
        </p:blipFill>
        <p:spPr>
          <a:xfrm>
            <a:off x="857160" y="142920"/>
            <a:ext cx="1710000" cy="277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Documents and Settings\user\Рабочий стол\картинки\500 картинок\5000 изображений\Super Mom\SUPER063.WMF"/>
          <p:cNvPicPr/>
          <p:nvPr/>
        </p:nvPicPr>
        <p:blipFill>
          <a:blip r:embed="rId5"/>
          <a:stretch/>
        </p:blipFill>
        <p:spPr>
          <a:xfrm flipH="1">
            <a:off x="-360" y="2840040"/>
            <a:ext cx="20718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5-01-26T14:23:58Z</dcterms:modified>
  <cp:revision>33</cp:revision>
  <dc:subject/>
  <dc:title>PowerPoint Presentation</dc:title>
</cp:coreProperties>
</file>