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90F-480E-4271-8CB8-8CEC656B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85E-42B5-47BA-AF44-2535BA56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35F-959C-464A-AC9B-2578DE92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32E-16C3-44FD-BE31-B7CC7911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F3F-4609-43EC-B0B9-E40DF01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211-612E-400D-9557-254E2798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987-E0AF-4675-BFA2-5A8A87B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6E4-7F0A-4955-8082-E7ABBA7D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070-64A4-49DA-BA38-0B4A81E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31F-2224-406D-A6F9-FA38ADE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E19-7726-4D98-8BE5-AAA71D7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FE4-A92F-4835-86F4-EC439A3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07F-D2EA-49AE-9F44-C2120051DD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Интеграция физкультурно-оздоровительной работы с разными видами детской деятель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2"/>
          <a:stretch/>
        </p:blipFill>
        <p:spPr>
          <a:xfrm>
            <a:off x="304920" y="1146240"/>
            <a:ext cx="8534160" cy="3797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143000" y="5286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716360" y="528804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и: старший воспитатель Тимофеева Тамара Владими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олева Елена Викто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ДС №6 «Солнышк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тесном взаимодействии всех участников педагогического процесса возможно успешное формирование личностной готовности детей к школьному обучению, социализации и адаптации их в обществе. Только совместными усилиями можно решить поставленные задачи, а значит, рассчитывать на положительные результаты своего тру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«Все, чему учат человека, должно быть не разрозненным, частичным, а единым, целым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                 Я.А. Комен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Таблица 5" descr=""/>
          <p:cNvPicPr/>
          <p:nvPr/>
        </p:nvPicPr>
        <p:blipFill>
          <a:blip r:embed="rId2"/>
          <a:stretch/>
        </p:blipFill>
        <p:spPr>
          <a:xfrm>
            <a:off x="487440" y="590400"/>
            <a:ext cx="8315280" cy="5919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928880" y="180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ерспективный комплексно – тематический пл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Формы двигательной активности: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1424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ренняя гимнас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ятия физической культурой (в помещении и на воздух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культурные мину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ижные иг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ртивные упраж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тмическая гимнас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ятия на тренажерах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6002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0040" y="642960"/>
          <a:ext cx="8286840" cy="6080040"/>
        </p:xfrm>
        <a:graphic>
          <a:graphicData uri="http://schemas.openxmlformats.org/drawingml/2006/table">
            <a:tbl>
              <a:tblPr/>
              <a:tblGrid>
                <a:gridCol w="996840"/>
                <a:gridCol w="5832720"/>
                <a:gridCol w="1457280"/>
              </a:tblGrid>
              <a:tr h="137520">
                <a:tc gridSpan="3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ационный моме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gridSpan="3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хорошо, как весело по лесу мы идем, с корзинками плетенными, осенним ясным днем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в свои корзиночки мы дружно соберем и ягодкам поклонимся осенним ясным днем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аво повернись и в лес поторопис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ая ч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в колон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с высоким подниманием ног (шагаем через пеньк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в полуприсиде (пройдем под ветк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 бе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дем по лесу весело осенним ясным днем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слегка расставлены, руки на пояс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шаги на месте, не отрывая нос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б корзинку нам поднять, надо руки укреплять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: о.с., руки в стороны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и к плечам, пальцы в кулак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ками ветки отведем, потом под ветками пройдем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в стор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ки, скрестить на предплечьях, наклон вперед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ежду кочек впереди, много ягод, посмотри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на поя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ороты в сторону, левая (правая) рука ко лбу, правая (левая) за спину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присядем на пенек, раз грибок и два грибок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стоя на коленях, руки на пояс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есть на пол справа (слева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куда собрать грибы, станем как корзинки мы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: лежа на живо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огнуть ноги, взяться за голеностоп, подтянуться вверх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на двух на ногах на мест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ышим свежим воздухом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п.: о.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и через стороны вверх – вдо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ый бе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ми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*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утренней гимнастики на 1 неделю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ая тем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годы и  грибы. Лес осенью»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85840" y="2071800"/>
          <a:ext cx="8572320" cy="4599000"/>
        </p:xfrm>
        <a:graphic>
          <a:graphicData uri="http://schemas.openxmlformats.org/drawingml/2006/table">
            <a:tbl>
              <a:tblPr/>
              <a:tblGrid>
                <a:gridCol w="295200"/>
                <a:gridCol w="3684600"/>
                <a:gridCol w="1685880"/>
                <a:gridCol w="2906640"/>
              </a:tblGrid>
              <a:tr h="3412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иро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ие рекоменд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 gridSpan="4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ительное слов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: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, точно терем расписно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овый, золотой, багрян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лой, пестрою сте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т над светлою поляной. (И. Бун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т какими красивыми словами можно описать лес. Давайте и мы прогуляемся по лесу и полюбуемся его красотой. Будем дышать свежим воздухом, укреплять здоровье, а заодно узнаем, что растет в лесу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5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ая ч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друг за друг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сокие деревья выросли в лес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на носках, руки на пояс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йдем под веткам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в полуприсиде, руки на пояс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шагнем через пеньк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с высоким подниманием колена, подниманием рук вверх, в сторо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й бег на носоч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прям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у держать прям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 gridSpan="4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Осенние листь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, два, три, четыре, пять -                                  Дети поочередно загибают пальч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ем листья собирать –                                       Сжимают и разжимают кула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 березы, листья рябины –                          Загибают пальчики, начи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ики тополя, листья осины                              с больш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ики с дуба мы соберем,                                Шагают по левой ладони средним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е осенний букет отнесем.                               указательным пальцами правой ру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 прежде чем подарить букет маме, давайте полюбуемся осенними листьям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Rectangle 5"/>
          <p:cNvSpPr/>
          <p:nvPr/>
        </p:nvSpPr>
        <p:spPr>
          <a:xfrm>
            <a:off x="214200" y="103680"/>
            <a:ext cx="878688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с полон сказок и чудес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культурно-познавательно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Упражнять в ползании на животе оп гимнастической скамье, тренировать в перебрасывании мя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ориентировку в пространстве. Обобщать и уточнять знания детей о деревь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- Развивать координацию и общую моторику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- Воспитывать бережно отношение к природе, способность любоваться ее кра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. творчест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- Развивать воображение и фантазию.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мнастическая скамейка (высота – 35 см.), мячи, картинки с изображениями деревьев, по два листа из картона на ребенка, 3 кегли разного цв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57120" y="357120"/>
          <a:ext cx="8429760" cy="6097680"/>
        </p:xfrm>
        <a:graphic>
          <a:graphicData uri="http://schemas.openxmlformats.org/drawingml/2006/table">
            <a:tbl>
              <a:tblPr/>
              <a:tblGrid>
                <a:gridCol w="290520"/>
                <a:gridCol w="3622680"/>
                <a:gridCol w="1068480"/>
                <a:gridCol w="3448080"/>
              </a:tblGrid>
              <a:tr h="43894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 с листь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ая осень, в гости тебя просим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слегка расставить, руки за спино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и через стороны вверх, на носки, смотреть вверх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терок пробежал, все деревья закача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вниз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днять руки в вверх, наклоны вправо-влев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ревья клонятся ниже, буря осенняя ближ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врозь, руки вн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клон вперед, руки в стороны, голову прямо - выдох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смотри по сторонам,  листопад и тут и та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ноги слегка расставить, руки в сторо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исесть, коснуться но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ждь непоседа по лужам шага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п.: о.с., руки на пояс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огу на носок вперед, в сторону, наз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. п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жит листьев хоровод, веселится,  всех з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на двух ногах вокруг листоч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2 круга (с ходьбой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ни не сгиб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у держать пря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га прямая, носок оттян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теперь постарайтесь отгадать мои загадки (загадки о деревья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загадки вы отгадали верно. А теперь давайте представим себя листочками и поиграем с ветро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листики осенние на ветках мы сидим,                       Дети идут по кругу, руки в стороны, ввер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нул ветер – полетели, мы летели, мы летели               Бегут по кругу машут ру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 землю тихо сели                                                          Приседают руки опускают на 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 снова набежал и листочки все поднял                    Поднимаются, движения руками вправо-вл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ужились, полетели                                                        Кружатся на ме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 землю снова сели                                                         Присед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как животные любуются лесом? Сейчас мы это узна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214200" y="357120"/>
          <a:ext cx="8643960" cy="5572080"/>
        </p:xfrm>
        <a:graphic>
          <a:graphicData uri="http://schemas.openxmlformats.org/drawingml/2006/table">
            <a:tbl>
              <a:tblPr/>
              <a:tblGrid>
                <a:gridCol w="436680"/>
                <a:gridCol w="3576600"/>
                <a:gridCol w="1093680"/>
                <a:gridCol w="3537000"/>
              </a:tblGrid>
              <a:tr h="15130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Ёжик идет, грибочки нес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зание на животе по гимнастической скамейке, подтягиваясь ру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личьи припас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ие (шишек) в вертикальную ц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о-групповой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ог по выбору: прямые вместе или врозь, прямые согнутые в коле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3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хорошо в лесу просторно, давайте поиграем вот на этой полян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7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ое дерево найд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/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ой упал листик?» (проводит воспитат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делятся на три команды (шишки, желуди, каштаны). По команде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ревья качаются, плоды осыпаются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ети разбегаются врассыпную. По команде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ыстро к дереву беги, свое дерево найди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дети строятся в колонны за своим деревом (кег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 кругу, воспитатель бросает мяч и называет дерево, ребенок бросает обратно и называет лист (клен-кленов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gridSpan="4"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вам понравилось в осеннем лесу? Давайте все, вместе выучим правило друзей леса и постараемся его выполнять: «Много леса не губи, мало леса – береги, нет леса – посад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9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marL="7920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по коррегирующим доро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920" y="1856880"/>
            <a:ext cx="7215120" cy="26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едагоги, дети, мам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яни, бабушки и пап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опеды и муз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 психолог и физо -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оспитательный процесс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А в развитии прогресс!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:\Documents and Settings\user\Рабочий стол\картинки\500 картинок\5000 изображений\Sports Cartoons\AEROB2.WMF"/>
          <p:cNvPicPr/>
          <p:nvPr/>
        </p:nvPicPr>
        <p:blipFill>
          <a:blip r:embed="rId2"/>
          <a:stretch/>
        </p:blipFill>
        <p:spPr>
          <a:xfrm>
            <a:off x="6929280" y="0"/>
            <a:ext cx="2479680" cy="345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user\Рабочий стол\картинки\500 картинок\5000 изображений\Sports Cartoons\FREEST2.WMF"/>
          <p:cNvPicPr/>
          <p:nvPr/>
        </p:nvPicPr>
        <p:blipFill>
          <a:blip r:embed="rId3"/>
          <a:stretch/>
        </p:blipFill>
        <p:spPr>
          <a:xfrm flipH="1">
            <a:off x="6593040" y="4005360"/>
            <a:ext cx="2550960" cy="285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user\Рабочий стол\картинки\500 картинок\5000 изображений\Sports Cartoons\TRAINER2.WMF"/>
          <p:cNvPicPr/>
          <p:nvPr/>
        </p:nvPicPr>
        <p:blipFill>
          <a:blip r:embed="rId4"/>
          <a:stretch/>
        </p:blipFill>
        <p:spPr>
          <a:xfrm>
            <a:off x="857160" y="142920"/>
            <a:ext cx="1710000" cy="2778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Documents and Settings\user\Рабочий стол\картинки\500 картинок\5000 изображений\Super Mom\SUPER063.WMF"/>
          <p:cNvPicPr/>
          <p:nvPr/>
        </p:nvPicPr>
        <p:blipFill>
          <a:blip r:embed="rId5"/>
          <a:stretch/>
        </p:blipFill>
        <p:spPr>
          <a:xfrm flipH="1">
            <a:off x="-360" y="2840040"/>
            <a:ext cx="20718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5-01-26T14:23:58Z</dcterms:modified>
  <cp:revision>33</cp:revision>
  <dc:subject/>
  <dc:title>PowerPoint Presentation</dc:title>
</cp:coreProperties>
</file>