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DD6-038F-4D9C-8B50-E95DFA86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FD7-0F84-4B48-B791-B8B1DFFB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1CB-60D7-477B-BB63-B0C07629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18D-F41E-44A5-A02A-702B856F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7E22-8A4E-40A8-BD25-57E5104F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33CB-C874-442D-8DC4-D996F492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EFF3-3767-4A44-9F2E-D8969842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34E2-3785-48DE-8B99-6A476190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E9E9-E831-4D40-ADD9-D4F07450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F0CC-BF9D-43EA-BB2A-B6ABABEF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0812-618C-42E2-9997-2E946712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FE5-0FFC-4C07-B16A-8D4FE50E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0B75-C2D7-40D0-9770-8374E82D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9C82-CF56-4374-BD17-2EEB74F9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0FF6-5468-40E6-B0A7-5D43426F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FF1C-3F83-4748-A0F8-FF0AD365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3C94-8B82-46B5-B33C-FB3D708F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0A4-592F-445A-AE64-B1338463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32A-8A31-4A7A-AB9F-ED8D6064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701-C238-45B4-A7A6-2B0B9DF1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14C-98EF-4F0F-9581-3956D867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B37-B91F-4813-9F4F-EBDAA2F5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3B2-B745-43F9-B95B-31492A9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96F-2E49-4094-9E3C-A171298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4BB5-AFDE-4299-953E-0C8C2EDA3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6222-110F-4C5A-BD3E-E872556C4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еверный Рейн-Вестфал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714640" y="6019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760" y="1650960"/>
            <a:ext cx="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3165480" cy="3524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52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1120" y="609120"/>
            <a:ext cx="4419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Цифры и факты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Северный Рейн-Вестфалия расположена на западе Германии и является крупнейшей по численности населения федеральной землей. На площади 34 076 км</a:t>
            </a:r>
            <a:r>
              <a:rPr b="0" lang="ru-RU" sz="1800" spc="-1" strike="noStrike" baseline="30000">
                <a:solidFill>
                  <a:srgbClr val="666699"/>
                </a:solidFill>
                <a:latin typeface="Times New Roman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проживают 18 млн. человек. Рурская область - крупнейший промышленный регион Европы. Резиденция земельного правительства находится</a:t>
            </a:r>
            <a:r>
              <a:rPr b="0" lang="ru-RU" sz="1800" spc="-1" strike="noStrike">
                <a:solidFill>
                  <a:srgbClr val="666699"/>
                </a:solidFill>
                <a:latin typeface="Times New Roman"/>
              </a:rPr>
              <a:t> в </a:t>
            </a:r>
            <a:r>
              <a:rPr b="0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Дюссельдорфе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760" y="851040"/>
            <a:ext cx="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4491" t="5321" r="11228" b="7981"/>
          <a:stretch/>
        </p:blipFill>
        <p:spPr>
          <a:xfrm>
            <a:off x="1066680" y="3886200"/>
            <a:ext cx="2826000" cy="245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292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19861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0288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124d4"/>
                </a:solidFill>
                <a:latin typeface="Times New Roman"/>
                <a:ea typeface="Times New Roman"/>
              </a:rPr>
              <a:t>Это интересно: </a:t>
            </a:r>
            <a:br>
              <a:rPr sz="1800"/>
            </a:br>
            <a:r>
              <a:rPr b="0" i="1" lang="en-US" sz="1800" spc="-1" strike="noStrike">
                <a:solidFill>
                  <a:srgbClr val="4124d4"/>
                </a:solidFill>
                <a:latin typeface="Times New Roman"/>
                <a:ea typeface="Times New Roman"/>
              </a:rPr>
              <a:t>дом Бетховена в Бонне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386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2450" t="8436" r="4901" b="5624"/>
          <a:stretch/>
        </p:blipFill>
        <p:spPr>
          <a:xfrm>
            <a:off x="990720" y="1828800"/>
            <a:ext cx="3576600" cy="2887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00600" y="685800"/>
            <a:ext cx="4038480" cy="52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216da"/>
                </a:solidFill>
                <a:latin typeface="Times New Roman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216da"/>
                </a:solidFill>
                <a:latin typeface="Times New Roman"/>
              </a:rPr>
              <a:t>Северный Рейн-Вестфалия была создана по решению британской военной администрации 23 августа 1946 г. Указом номер 46 были объединены бывшая прусская провинция Вестфалия и северная часть Рейнской провинции. Слово «вестфальцы» как обозначение племени впервые упоминается в 775 г. в связи с саксонскими войнами Карла Великого. На гербе земли, состояшем из трех частей, изображен вздыбившийся саксонский конь, - старый символ Вестфа-лии, Рейн в виде серебрянной полоски на зеленом фоне и красная роза, символизирующая землю Липпе-Детмоль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78f37"/>
                </a:solidFill>
                <a:latin typeface="Times New Roman"/>
              </a:rPr>
              <a:t>Барочный дворец на озере в городе Нордкирхен, вестфальский Версаль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760" y="-6667560"/>
            <a:ext cx="36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232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-1701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Закусочная в Руре,</a:t>
            </a:r>
            <a:br>
              <a:rPr sz="2400"/>
            </a:b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«местное блюдо» колбаски карри с</a:t>
            </a:r>
            <a:br>
              <a:rPr sz="2400"/>
            </a:b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картошкой-фри и пивом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71880" y="-4240080"/>
            <a:ext cx="36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791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0" y="609120"/>
            <a:ext cx="3581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Times New Roman"/>
              </a:rPr>
              <a:t>Пятое время года</a:t>
            </a:r>
            <a:br>
              <a:rPr sz="2000"/>
            </a:br>
            <a:r>
              <a:rPr b="0" i="1" lang="ru-RU" sz="2000" spc="-1" strike="noStrike">
                <a:solidFill>
                  <a:srgbClr val="660066"/>
                </a:solidFill>
                <a:latin typeface="Times New Roman"/>
              </a:rPr>
              <a:t>Каждый год 11.11 в 11.11 по традиции открывается Кёльнский карнавал. Ряженые отмечают наступление «пятого времени года», организуя сотни заседаний и балов. В «женский четверг» в начале февраля ключи от города вручаются карнавальному принцу. После этого неделю и днем, и ночью на улицах и площадях, в офисах и питейных заведениях продолжается веселье. В «розовый понедельник» проходит знаменитое карнавальное шествие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0" y="-528480"/>
            <a:ext cx="36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7201" b="0"/>
          <a:stretch/>
        </p:blipFill>
        <p:spPr>
          <a:xfrm>
            <a:off x="1371600" y="2286000"/>
            <a:ext cx="2647800" cy="3962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417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520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7031" b="0"/>
          <a:stretch/>
        </p:blipFill>
        <p:spPr>
          <a:xfrm>
            <a:off x="1371600" y="457200"/>
            <a:ext cx="2590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62720" y="380880"/>
            <a:ext cx="3078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Мюнстер</a:t>
            </a:r>
            <a:br>
              <a:rPr sz="2400"/>
            </a:br>
            <a:r>
              <a:rPr b="0" i="1" lang="ru-RU" sz="1600" spc="-1" strike="noStrike">
                <a:solidFill>
                  <a:srgbClr val="660066"/>
                </a:solidFill>
                <a:latin typeface="Times New Roman"/>
              </a:rPr>
              <a:t>Университетский город: университет превратил бывшую столицу прусской провинции в живой студенческий город. Каждый пятый его житель учится в вузе. Центр Мюнстера образуют Принципальмаркт с его величественными купеческими домами и аркадами, а также историческая ратуша. В Зале мира были заключены многие мирные договора с целью прекращения Тридцатилетней войны.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0520" y="35244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6787" t="0" r="4525" b="0"/>
          <a:stretch/>
        </p:blipFill>
        <p:spPr>
          <a:xfrm>
            <a:off x="1066680" y="1295280"/>
            <a:ext cx="42768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Билефельд</a:t>
            </a:r>
            <a:br>
              <a:rPr sz="2000"/>
            </a:br>
            <a:r>
              <a:rPr b="0" i="1" lang="ru-RU" sz="2000" spc="-1" strike="noStrike">
                <a:solidFill>
                  <a:srgbClr val="660066"/>
                </a:solidFill>
                <a:latin typeface="Times New Roman"/>
              </a:rPr>
              <a:t>Город текстиля: лен принес Билефельду благосостояние. Кто следил за собой, носил «билефельдское белье». Об этом свидетельствует сегодня Равенсбергская ткацкая мануфактура, когда-то крупнейшая в Европе. Символом города служит крепость Шпарренбург. Отсюда открывается вид на Тевтобургский Лес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628" t="8045" r="0" b="24135"/>
          <a:stretch/>
        </p:blipFill>
        <p:spPr>
          <a:xfrm>
            <a:off x="1143000" y="990720"/>
            <a:ext cx="31320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09:36Z</dcterms:created>
  <dc:creator>Витёк</dc:creator>
  <dc:description/>
  <dc:language>en-US</dc:language>
  <cp:lastModifiedBy>Виктор</cp:lastModifiedBy>
  <dcterms:modified xsi:type="dcterms:W3CDTF">2003-12-31T21:24:55Z</dcterms:modified>
  <cp:revision>12</cp:revision>
  <dc:subject/>
  <dc:title>Северный Рейн-Вестфалия</dc:title>
</cp:coreProperties>
</file>