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2C8-E88D-458E-B259-E7CEA1BB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DD5-651B-4A5A-82CC-07550099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41F-A887-449E-B916-1FAEB909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01D-7AB6-4AC9-B67B-7E16FEF3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AA91-D101-4D00-966F-3807015E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28E1-E429-406A-91E1-C583D47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E836-1E48-43DA-A525-470A775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1841-C77C-4E84-8EFE-3972DF05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949-B000-4468-BC0B-A907A88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DB7-6BFA-4B48-8D1D-5B450ED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4050-46E9-4FB0-A24A-989852F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C07-616A-4CEB-A4F5-426BB299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D319-888E-40F2-ABE6-D599845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4B94-A0EA-4359-B275-12C8951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2EA7-F27E-4815-BCD8-FCFE20D3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A6E7-B935-40D0-812C-A5D040C6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ABF-F16F-4775-89AF-0C96E49B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466-4996-4222-97F5-2B2E2E8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C04-1422-4895-AE24-5B08AF9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A4C-5738-4892-93CD-62349200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48B-1504-4A78-8F76-38AB9CC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1C6-4E21-44F5-BD7D-83D8446B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CDD-D36A-4C4F-B007-E6BDA2E3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979-5CD9-4A66-A2BA-C7EA69B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0EA-5C7D-4D56-ACB8-A972C3AC5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00D-CED7-4021-B891-791CDC3C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еверный Рейн-Вестфал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146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760" y="1650960"/>
            <a:ext cx="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3165480" cy="3524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52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419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Цифры и факты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Северный Рейн-Вестфалия расположена на западе Германии и является крупнейшей по численности населения федеральной землей. На площади 34 076 км</a:t>
            </a:r>
            <a:r>
              <a:rPr b="0" lang="ru-RU" sz="1800" spc="-1" strike="noStrike" baseline="30000">
                <a:solidFill>
                  <a:srgbClr val="666699"/>
                </a:solidFill>
                <a:latin typeface="Times New Roman"/>
                <a:ea typeface="Times New Roman"/>
              </a:rPr>
              <a:t>2 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проживают 18 млн. человек. Рурская область - крупнейший промышленный регион Европы. Резиденция земельного правительства находится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</a:rPr>
              <a:t> в </a:t>
            </a:r>
            <a:r>
              <a:rPr b="0" lang="ru-RU" sz="18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Дюссельдорфе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760" y="851040"/>
            <a:ext cx="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491" t="5321" r="11228" b="7981"/>
          <a:stretch/>
        </p:blipFill>
        <p:spPr>
          <a:xfrm>
            <a:off x="1066680" y="3886200"/>
            <a:ext cx="2826000" cy="245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292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19861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0288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124d4"/>
                </a:solidFill>
                <a:latin typeface="Times New Roman"/>
                <a:ea typeface="Times New Roman"/>
              </a:rPr>
              <a:t>Это интересно: </a:t>
            </a:r>
            <a:br>
              <a:rPr sz="1800"/>
            </a:br>
            <a:r>
              <a:rPr b="0" i="1" lang="en-US" sz="1800" spc="-1" strike="noStrike">
                <a:solidFill>
                  <a:srgbClr val="4124d4"/>
                </a:solidFill>
                <a:latin typeface="Times New Roman"/>
                <a:ea typeface="Times New Roman"/>
              </a:rPr>
              <a:t>дом Бетховена в Бонне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86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450" t="8436" r="4901" b="5624"/>
          <a:stretch/>
        </p:blipFill>
        <p:spPr>
          <a:xfrm>
            <a:off x="990720" y="1828800"/>
            <a:ext cx="3576600" cy="2887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00600" y="685800"/>
            <a:ext cx="403848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216da"/>
                </a:solidFill>
                <a:latin typeface="Times New Roman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216da"/>
                </a:solidFill>
                <a:latin typeface="Times New Roman"/>
              </a:rPr>
              <a:t>Северный Рейн-Вестфалия была создана по решению британской военной администрации 23 августа 1946 г. Указом номер 46 были объединены бывшая прусская провинция Вестфалия и северная часть Рейнской провинции. Слово «вестфальцы» как обозначение племени впервые упоминается в 775 г. в связи с саксонскими войнами Карла Великого. На гербе земли, состояшем из трех частей, изображен вздыбившийся саксонский конь, - старый символ Вестфа-лии, Рейн в виде серебрянной полоски на зеленом фоне и красная роза, символизирующая землю Липпе-Детмоль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78f37"/>
                </a:solidFill>
                <a:latin typeface="Times New Roman"/>
              </a:rPr>
              <a:t>Барочный дворец на озере в городе Нордкирхен, вестфальский Версаль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60" y="-6667560"/>
            <a:ext cx="36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00800" cy="4232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-1701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Закусочная в Руре,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«местное блюдо» колбаски карри с</a:t>
            </a:r>
            <a:br>
              <a:rPr sz="2400"/>
            </a:b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картошкой-фри и пив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71880" y="-4240080"/>
            <a:ext cx="3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791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0" y="6091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Times New Roman"/>
              </a:rPr>
              <a:t>Пятое время года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Times New Roman"/>
              </a:rPr>
              <a:t>Каждый год 11.11 в 11.11 по традиции открывается Кёльнский карнавал. Ряженые отмечают наступление «пятого времени года», организуя сотни заседаний и балов. В «женский четверг» в начале февраля ключи от города вручаются карнавальному принцу. После этого неделю и днем, и ночью на улицах и площадях, в офисах и питейных заведениях продолжается веселье. В «розовый понедельник» проходит знаменитое карнавальное шествие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0" y="-528480"/>
            <a:ext cx="36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7201" b="0"/>
          <a:stretch/>
        </p:blipFill>
        <p:spPr>
          <a:xfrm>
            <a:off x="1371600" y="2286000"/>
            <a:ext cx="2647800" cy="3962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417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52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7031" b="0"/>
          <a:stretch/>
        </p:blipFill>
        <p:spPr>
          <a:xfrm>
            <a:off x="1371600" y="457200"/>
            <a:ext cx="2590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62720" y="380880"/>
            <a:ext cx="3078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Мюнстер</a:t>
            </a:r>
            <a:br>
              <a:rPr sz="2400"/>
            </a:br>
            <a:r>
              <a:rPr b="0" i="1" lang="ru-RU" sz="1600" spc="-1" strike="noStrike">
                <a:solidFill>
                  <a:srgbClr val="660066"/>
                </a:solidFill>
                <a:latin typeface="Times New Roman"/>
              </a:rPr>
              <a:t>Университетский город: университет превратил бывшую столицу прусской провинции в живой студенческий город. Каждый пятый его житель учится в вузе. Центр Мюнстера образуют Принципальмаркт с его величественными купеческими домами и аркадами, а также историческая ратуша. В Зале мира были заключены многие мирные договора с целью прекращения Тридцатилетней войны.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0520" y="35244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6787" t="0" r="4525" b="0"/>
          <a:stretch/>
        </p:blipFill>
        <p:spPr>
          <a:xfrm>
            <a:off x="1066680" y="1295280"/>
            <a:ext cx="42768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Билефельд</a:t>
            </a:r>
            <a:br>
              <a:rPr sz="2000"/>
            </a:br>
            <a:r>
              <a:rPr b="0" i="1" lang="ru-RU" sz="2000" spc="-1" strike="noStrike">
                <a:solidFill>
                  <a:srgbClr val="660066"/>
                </a:solidFill>
                <a:latin typeface="Times New Roman"/>
              </a:rPr>
              <a:t>Город текстиля: лен принес Билефельду благосостояние. Кто следил за собой, носил «билефельдское белье». Об этом свидетельствует сегодня Равенсбергская ткацкая мануфактура, когда-то крупнейшая в Европе. Символом города служит крепость Шпарренбург. Отсюда открывается вид на Тевтобургский Лес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628" t="8045" r="0" b="24135"/>
          <a:stretch/>
        </p:blipFill>
        <p:spPr>
          <a:xfrm>
            <a:off x="1143000" y="990720"/>
            <a:ext cx="3132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09:36Z</dcterms:created>
  <dc:creator>Витёк</dc:creator>
  <dc:description/>
  <dc:language>en-US</dc:language>
  <cp:lastModifiedBy>Виктор</cp:lastModifiedBy>
  <dcterms:modified xsi:type="dcterms:W3CDTF">2003-12-31T21:24:55Z</dcterms:modified>
  <cp:revision>12</cp:revision>
  <dc:subject/>
  <dc:title>Северный Рейн-Вестфалия</dc:title>
</cp:coreProperties>
</file>