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E8A-E290-4BE0-9C60-4C488BCE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5DF-8F34-40B3-B7AD-AFC65E9F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361-3F38-4B4D-B85B-F60EAD24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066-6EC2-4031-8B30-E9CA26D4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8E0-55D5-45F7-9F25-D4429A91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4E3-5CD9-47A4-8874-2DE2AB53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CD3-E938-4B10-82F1-CF79F88A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F1F-2C09-4601-8D77-8252F539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D8B-8A38-47F3-914D-CF83FD6E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F63-95AE-4F85-8868-BFB67F85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0EC-F6DC-4729-9A11-CAAE801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B5D-2E0F-4F48-9F26-3B955DB4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CB2D-A768-4268-BB19-CFBE40ED2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rapidlinks.ru/upload/pre/5/11663451475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ыкально – образовательный проект п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честву композитора П.И.Чайковског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Сказка в музыке»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основе балета Петра Ильича Чайковск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 Щелкунчик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400" y="5257440"/>
            <a:ext cx="55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ирнова Т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438280" y="153720"/>
            <a:ext cx="358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ДОУ общеразвивающего в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ский сад «Солнышк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.Сав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1447920" y="4724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609624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Новогодний утренник  «Щелкунч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F:\фото новый год\ста А НГ\DSC_0690.JPG"/>
          <p:cNvPicPr/>
          <p:nvPr/>
        </p:nvPicPr>
        <p:blipFill>
          <a:blip r:embed="rId1"/>
          <a:stretch/>
        </p:blipFill>
        <p:spPr>
          <a:xfrm>
            <a:off x="228600" y="1523880"/>
            <a:ext cx="4038480" cy="4953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F:\фото новый год\ста А НГ\DSC_0698.JPG"/>
          <p:cNvPicPr/>
          <p:nvPr/>
        </p:nvPicPr>
        <p:blipFill>
          <a:blip r:embed="rId2"/>
          <a:stretch/>
        </p:blipFill>
        <p:spPr>
          <a:xfrm>
            <a:off x="4495680" y="1523880"/>
            <a:ext cx="4438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3" descr="F:\фото новый год\ста А НГ\DSC_0694.JPG"/>
          <p:cNvPicPr/>
          <p:nvPr/>
        </p:nvPicPr>
        <p:blipFill>
          <a:blip r:embed="rId1"/>
          <a:stretch/>
        </p:blipFill>
        <p:spPr>
          <a:xfrm>
            <a:off x="4800600" y="228600"/>
            <a:ext cx="4156200" cy="292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щелк"/>
          <p:cNvPicPr/>
          <p:nvPr/>
        </p:nvPicPr>
        <p:blipFill>
          <a:blip r:embed="rId2"/>
          <a:stretch/>
        </p:blipFill>
        <p:spPr>
          <a:xfrm>
            <a:off x="457200" y="3174840"/>
            <a:ext cx="44956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3" descr=""/>
          <p:cNvPicPr/>
          <p:nvPr/>
        </p:nvPicPr>
        <p:blipFill>
          <a:blip r:embed="rId1"/>
          <a:stretch/>
        </p:blipFill>
        <p:spPr>
          <a:xfrm>
            <a:off x="878040" y="701640"/>
            <a:ext cx="8265960" cy="2925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Картинка 359 из 14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962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Цель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01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 музыкальную культуру  до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воображение, творческие  и  музыкальные способност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условия развития неравнодушного ребенка, атмосферу  радости  и  добра, создать чувства группового еди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Задачи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71600" y="1371600"/>
          <a:ext cx="7543800" cy="5181480"/>
        </p:xfrm>
        <a:graphic>
          <a:graphicData uri="http://schemas.openxmlformats.org/drawingml/2006/table">
            <a:tbl>
              <a:tblPr/>
              <a:tblGrid>
                <a:gridCol w="2768760"/>
                <a:gridCol w="2387520"/>
                <a:gridCol w="2387520"/>
              </a:tblGrid>
              <a:tr h="51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993300"/>
                          </a:solidFill>
                          <a:uFillTx/>
                          <a:latin typeface="Arial"/>
                        </a:rPr>
                        <a:t>Воспитательные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.  Воспитывать у детей сопереживание образ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.  Формировать у детей чувство коллективизма и ответствен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993300"/>
                          </a:solidFill>
                          <a:uFillTx/>
                          <a:latin typeface="Arial"/>
                        </a:rPr>
                        <a:t>Обучающие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.  Развивать умение воспринимать, чувствовать выразительность музы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.  Побуждать к творческой самореализации в выразительности исполнения   танцев, театрализованной постанов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993300"/>
                          </a:solidFill>
                          <a:uFillTx/>
                          <a:latin typeface="Arial"/>
                        </a:rPr>
                        <a:t>Развивающие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. Развивать эстетическую потребность ребенка дошкольного возра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в ознакомлении с прекрасными образцами  классическ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музыки,  литературы   и  мультикаплик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. Развивать творческое воображени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3. Развивать у детей чувство уверенности в себ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. Побуждать к музыкально – творческим проявлениям  в процесс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восприятия музыки и ритмик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1600200" y="4343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5943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таршей «А» и «Б» группы, воспитатели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 – Смирнова Т.А. родител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проекта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о–ориентированный, группов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авленность развития детей, в рамках которого проводится работа по проекту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мплексное (разные виды деятельности: восприятие музыки, слушание литературного произведения, познавательная,  театрализованная, музыкально – ритмическа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 flipV="1">
            <a:off x="1295280" y="1415520"/>
            <a:ext cx="1066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7238880" y="4724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3248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Просмотр мультфильма «Щелкунчик», «Щелкунчик и Барби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1676520"/>
            <a:ext cx="7543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Предполагаемый результат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47920" y="1447560"/>
            <a:ext cx="7238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узыкальной культуры детей, эмоциональной отзывчивости на музы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 в  детях чувства красоты, желания  слушать  классическую  музыку, понимать 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реализовывать свои впечатления через твор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атрализованной постановке, в танц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Музыкальная гостиная. Знакомство с балетом «Щелкунчик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152280" y="152280"/>
            <a:ext cx="2286000" cy="2671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0" y="2971800"/>
            <a:ext cx="4267080" cy="38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DSCN0523"/>
          <p:cNvPicPr/>
          <p:nvPr/>
        </p:nvPicPr>
        <p:blipFill>
          <a:blip r:embed="rId3"/>
          <a:stretch/>
        </p:blipFill>
        <p:spPr>
          <a:xfrm>
            <a:off x="4419720" y="2819520"/>
            <a:ext cx="4519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1722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Выставка рису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SCN0520"/>
          <p:cNvPicPr/>
          <p:nvPr/>
        </p:nvPicPr>
        <p:blipFill>
          <a:blip r:embed="rId1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zaak1"/>
          <p:cNvPicPr/>
          <p:nvPr/>
        </p:nvPicPr>
        <p:blipFill>
          <a:blip r:embed="rId2"/>
          <a:stretch/>
        </p:blipFill>
        <p:spPr>
          <a:xfrm>
            <a:off x="762120" y="1905120"/>
            <a:ext cx="3809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32448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Экскурсия в музыкальную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IMG_9795%20ihqto"/>
          <p:cNvPicPr/>
          <p:nvPr/>
        </p:nvPicPr>
        <p:blipFill>
          <a:blip r:embed="rId1"/>
          <a:stretch/>
        </p:blipFill>
        <p:spPr>
          <a:xfrm>
            <a:off x="1219320" y="1600200"/>
            <a:ext cx="3657600" cy="429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353333a5a9e17948b511c388c8c40763"/>
          <p:cNvPicPr/>
          <p:nvPr/>
        </p:nvPicPr>
        <p:blipFill>
          <a:blip r:embed="rId2"/>
          <a:stretch/>
        </p:blipFill>
        <p:spPr>
          <a:xfrm>
            <a:off x="5334120" y="1600200"/>
            <a:ext cx="3657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лнышко</cp:lastModifiedBy>
  <dcterms:modified xsi:type="dcterms:W3CDTF">2015-01-26T12:27:5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