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303-6D7C-4020-992D-EB030064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208-9D71-4D67-AE33-BE13270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E88-EB65-4160-B9E3-D71C0D37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AAE-D4BB-49DF-8545-BABAF24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118-B646-441E-A38A-F367FA4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D7B-CCD8-44F6-916F-92315F56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793-F37C-4702-B0B2-23C2CDE0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1A6-CE2B-4AAF-94FC-F56F583A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8D3-06EB-4924-93F9-8EDB35CB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B3E-CCFF-47F4-8EE2-B98C959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32E-753D-4DDB-A908-1045292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23B-FC94-4DF7-87B1-5C6CCD9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9A8-9F04-4831-AC26-8ADDFFB6D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rapidlinks.ru/upload/pre/5/11663451475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льно – образовательный проект п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тву композитора П.И.Чайковско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казка в музыке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снове балета Петра Ильича Чайковск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 Щелкунчик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525744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рнов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438280" y="153720"/>
            <a:ext cx="358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ДОУ общеразвивающего 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сад «Солныш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.Сав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447920" y="4724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Новогодний утренник  «Щелкунч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F:\фото новый год\ста А НГ\DSC_0690.JPG"/>
          <p:cNvPicPr/>
          <p:nvPr/>
        </p:nvPicPr>
        <p:blipFill>
          <a:blip r:embed="rId1"/>
          <a:stretch/>
        </p:blipFill>
        <p:spPr>
          <a:xfrm>
            <a:off x="228600" y="1523880"/>
            <a:ext cx="4038480" cy="4953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F:\фото новый год\ста А НГ\DSC_0698.JPG"/>
          <p:cNvPicPr/>
          <p:nvPr/>
        </p:nvPicPr>
        <p:blipFill>
          <a:blip r:embed="rId2"/>
          <a:stretch/>
        </p:blipFill>
        <p:spPr>
          <a:xfrm>
            <a:off x="4495680" y="1523880"/>
            <a:ext cx="4438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F:\фото новый год\ста А НГ\DSC_0694.JPG"/>
          <p:cNvPicPr/>
          <p:nvPr/>
        </p:nvPicPr>
        <p:blipFill>
          <a:blip r:embed="rId1"/>
          <a:stretch/>
        </p:blipFill>
        <p:spPr>
          <a:xfrm>
            <a:off x="4800600" y="228600"/>
            <a:ext cx="4156200" cy="292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щелк"/>
          <p:cNvPicPr/>
          <p:nvPr/>
        </p:nvPicPr>
        <p:blipFill>
          <a:blip r:embed="rId2"/>
          <a:stretch/>
        </p:blipFill>
        <p:spPr>
          <a:xfrm>
            <a:off x="457200" y="3174840"/>
            <a:ext cx="4495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878040" y="701640"/>
            <a:ext cx="8265960" cy="292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Картинка 359 из 14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Цель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 музыкальную культуру 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воображение, творческие  и  музыкальные способ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развития неравнодушного ребенка, атмосферу  радости  и  добра, создать чувства группового еди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адач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371600"/>
          <a:ext cx="7543800" cy="5181480"/>
        </p:xfrm>
        <a:graphic>
          <a:graphicData uri="http://schemas.openxmlformats.org/drawingml/2006/table">
            <a:tbl>
              <a:tblPr/>
              <a:tblGrid>
                <a:gridCol w="2768760"/>
                <a:gridCol w="2387520"/>
                <a:gridCol w="238752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Воспитательны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 Воспитывать у детей сопереживание образ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 Формировать у детей чувство коллективизма и ответств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Обучающ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 Развивать умение воспринимать, чувствовать выразительность музы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 Побуждать к творческой самореализации в выразительности исполнения   танцев, театрализованной постанов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Развивающ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Развивать эстетическую потребность ребенка дошкольного возра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 ознакомлении с прекрасными образцами  классическ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узыки,  литературы   и  мультикаплик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Развивать творческое воображе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. Развивать у детей чувство уверенности в себ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. Побуждать к музыкально – творческим проявлениям  в процесс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осприятия музыки и ритмик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таршей «А» и «Б» группы, воспитатели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– Смирнова Т.А. родител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проекта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о–ориентированный, группов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ость развития детей, в рамках которого проводится работа по проекту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мплексное (разные виды деятельности: восприятие музыки, слушание литературного произведения, познавательная,  театрализованная, музыкально – ритмическа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 flipV="1">
            <a:off x="1295280" y="1415520"/>
            <a:ext cx="106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7238880" y="472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3248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росмотр мультфильма «Щелкунчик», «Щелкунчик и Барби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1676520"/>
            <a:ext cx="7543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редполагаемый результат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920" y="1447560"/>
            <a:ext cx="7238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узыкальной культуры детей, эмоциональной отзывчивости на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 в  детях чувства красоты, желания  слушать  классическую  музыку, понимать 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еализовывать свои впечатления через твор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атрализованной постановке, в тан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Музыкальная гостиная. Знакомство с балетом «Щелкунч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152280" y="152280"/>
            <a:ext cx="2286000" cy="2671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2971800"/>
            <a:ext cx="426708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SCN0523"/>
          <p:cNvPicPr/>
          <p:nvPr/>
        </p:nvPicPr>
        <p:blipFill>
          <a:blip r:embed="rId3"/>
          <a:stretch/>
        </p:blipFill>
        <p:spPr>
          <a:xfrm>
            <a:off x="4419720" y="2819520"/>
            <a:ext cx="4519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1722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ыставка рису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SCN0520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zaak1"/>
          <p:cNvPicPr/>
          <p:nvPr/>
        </p:nvPicPr>
        <p:blipFill>
          <a:blip r:embed="rId2"/>
          <a:stretch/>
        </p:blipFill>
        <p:spPr>
          <a:xfrm>
            <a:off x="762120" y="19051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32448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Экскурсия в музыкальную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MG_9795%20ihqto"/>
          <p:cNvPicPr/>
          <p:nvPr/>
        </p:nvPicPr>
        <p:blipFill>
          <a:blip r:embed="rId1"/>
          <a:stretch/>
        </p:blipFill>
        <p:spPr>
          <a:xfrm>
            <a:off x="1219320" y="1600200"/>
            <a:ext cx="3657600" cy="429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353333a5a9e17948b511c388c8c40763"/>
          <p:cNvPicPr/>
          <p:nvPr/>
        </p:nvPicPr>
        <p:blipFill>
          <a:blip r:embed="rId2"/>
          <a:stretch/>
        </p:blipFill>
        <p:spPr>
          <a:xfrm>
            <a:off x="5334120" y="1600200"/>
            <a:ext cx="3657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нышко</cp:lastModifiedBy>
  <dcterms:modified xsi:type="dcterms:W3CDTF">2015-01-26T12:27:5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