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DAEB-3C7F-436A-A58D-FAF4D0B7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396-D6BF-40BC-8AA9-ED5FDCE4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3B21-BA98-49A2-ADAF-CE85D02A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1591-D7D5-47C9-9081-B96D1F16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50D7-5AB0-4EDE-9649-EF04621D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29E7-36EF-46B0-8B36-B41040B7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1078-27CD-4D9C-BA44-3565E287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A950-427B-4022-AD59-5437D871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DF9F-C625-4EAB-A094-AA393D8F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F390-D5FC-4308-BACF-97D6BA06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9611-BBEB-41B8-AE28-D84148D7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D70F-3A16-4272-B96A-A5F48CD2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5070-6435-4622-942D-83EEA5CE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020F-6CE5-47D0-9111-C4DCE7A8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65C3-00AE-4ED5-9454-A7AED909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17C8-E1C7-47F5-8BBE-22A32D3E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D965-5DAE-429B-8AFA-094045F9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31089-1723-48B9-B0F4-5D1E76FE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7B871-9539-4ED4-94FA-4E819C50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0E76E-9CA2-4AFA-9026-BE814B78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59534-E3A9-42EA-8B9A-398A5BD0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4C83C-5993-47CA-879B-12085968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CEA5-B8F3-4372-AB68-88A7AF73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98B0C-EA08-4D49-858D-514009B2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C16E5-D491-4856-8333-B8B55E59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F4266-E92F-4D7A-87B8-D5670BD8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E771D-5087-4C2E-8F6A-B592451E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14D79-909F-4CCF-A798-348657D3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6A04A-D71A-4759-87C8-A54F45DA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21F23-1033-4592-94FF-42227D1E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7DFBB-35F7-4793-B9D9-218C2DAD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4150-A1BC-4897-979B-59BC6720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A028A-72C2-4D8E-8661-D2FAE2CD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FA4-D4A5-455E-BE6A-5C56A4DB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20C87-F8DB-4B4C-9CED-D20C60F6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A3109-05E6-4A70-85DC-2A8E6B4B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40B32-7B04-4129-BFDA-CE13E5A3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07D15-8DDA-4FB8-B881-01E92A17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107D4-FC20-44D3-84FC-C8283FD2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E0165-C1BB-4DF0-832C-B36E4DA2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4B073-C32D-45B9-9AC1-97CC89DF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533F9-0D16-40DA-BC2C-5EEF91A0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1A1A7-4F20-44B9-9170-5E5FFA1C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42369-8FCF-4B0E-87E4-EF8236EB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5DA-6172-4B8F-9593-968D97A9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9EE81-939D-4021-976E-D203E208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B14FD-4419-46EF-8483-99891238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9BBE4-D790-4054-931F-A310A62B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05E77-3807-4A63-B5AE-58CE3E7D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B4D0C-8549-48B6-9573-6EF99CC9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C421B-59A7-448E-AA71-6F8E574E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F6463-F1A3-4933-8D05-1D5C78E7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49B70-C013-4A6B-ACE5-D45C8F36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6DC8C-CA20-432B-BC78-DE6ABD72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6CB03-9718-4E32-BA17-94439F66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CD7-0162-4BBA-8476-9155C8B4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DB61B-A243-4F6B-8F2A-4B4EDBEA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173D3-62F0-4CEF-9B7C-4B903D20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F0E35-ED1C-491F-B85D-E13A314A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36A21-6E8D-4EF0-BAA7-A7B6DB97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740C2-6E52-434A-88A7-DE3CAF92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B729B-06B7-4B6A-AF6F-E3D8B222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FB4FF-8A07-4265-B812-418F4202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927FA-D33C-49FC-A317-350415B8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D154A-DB01-4885-B118-341BE4DC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59756-DCBB-4D19-94AF-9AB343F5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57E9-2CA9-4074-8657-D437B3ED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1906E-9787-433E-B24D-C81846E4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C45AB-78BC-4E95-A81D-CF13DED8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F354F-7EEF-432B-8B63-45AEA93F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430-87E9-42D3-B874-C39CF880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7D62-B2D0-4954-95E7-5495F7EA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2DFB-ACEA-4366-9126-1733F03E8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1A83-3E19-458A-BEF5-5A975183E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91D1-F2B9-406B-9A85-92A6462750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5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3238-BDFF-4305-BDEB-6FFD08AA21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E64B-84A3-4798-8E39-D569CA3801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2338-F9CB-461D-A079-D28420DF19C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Tahoma"/>
              </a:rPr>
              <a:t>Сосна обыкновенная, обыкновенная ли он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cc00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696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dddd"/>
                </a:solidFill>
                <a:latin typeface="Verdana"/>
              </a:rPr>
              <a:t>Сосна – всем хорошо знакомое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dddd"/>
                </a:solidFill>
                <a:latin typeface="Verdana"/>
              </a:rPr>
              <a:t>мощное хвойное дерево с красно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dddd"/>
                </a:solidFill>
                <a:latin typeface="Verdana"/>
              </a:rPr>
              <a:t>бурой чешуйчатой корой.Это самое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dddd"/>
                </a:solidFill>
                <a:latin typeface="Verdana"/>
              </a:rPr>
              <a:t>распространенное вечнозеленое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dddd"/>
                </a:solidFill>
                <a:latin typeface="Verdana"/>
              </a:rPr>
              <a:t>хвойное дерево,вырастающее до 35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dddd"/>
                </a:solidFill>
                <a:latin typeface="Verdana"/>
              </a:rPr>
              <a:t>м.,с диаметром 1 м,и возрастом 350 ле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447920" y="4724280"/>
            <a:ext cx="27432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лечебных целях используют почки и хвою, древесину для дегтя, кору, пыльцу. Сосна богата эфирными маслами, смолой, горькими и дубильными веществами, аскорбиновой кислотой, минеральными солями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 rot="931800">
            <a:off x="837720" y="4336560"/>
            <a:ext cx="274320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Во время блокады в Ленинграде  изготавливали из хвои витаминный напиток и так боролись с цингой. В голодные годы крестьяне собирали мезгу – внутреннюю оболочку коры сосны — сушили, размалывали и добавляли в муку — и питательно и полез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5410080" y="152280"/>
            <a:ext cx="3353040" cy="22352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380880" y="0"/>
            <a:ext cx="28195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Кроме лечебного действия препаратов из сосны, стоит вспомнить и об удивительных целебных качествах воздуха в сосновом лес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7010280" y="373392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6:47:08Z</dcterms:created>
  <dc:creator>Лена</dc:creator>
  <dc:description/>
  <dc:language>en-US</dc:language>
  <cp:lastModifiedBy>Лена</cp:lastModifiedBy>
  <dcterms:modified xsi:type="dcterms:W3CDTF">2013-11-11T17:10:1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