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718-FA92-4255-81EC-415EE2FC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E62-6C8E-4466-89F4-E01B8BAD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D3D-84EA-46AA-B67D-C9E89085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51A-EC37-4972-827A-77DB3CD5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E57-5908-4ADF-A4A5-6176CE98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6FC7-26CA-40CC-A185-3B6C793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7C6-4B15-4CD5-8304-17EBC6BB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53E-6213-411F-8F23-E191433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BE16-4F49-436B-8923-D20C446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1DDD-5FDB-4C0D-B85B-5AF31A0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C66E-5923-4B8B-94C2-3D18755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6C7-F0FD-482C-A71E-34C7B25D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1BD8-E25C-486E-B5A2-EE95F0B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8541-7053-427A-AE39-43D280D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84EE-C1F2-4D8B-ACE6-5AA647C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0F6E-A2CA-454D-85C2-6A80E648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DBA-0C81-4017-A205-9FD47D4F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9075-A40B-4242-B7EE-AB16624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B140-AAD3-4857-A0AC-8FCA728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99C0-225C-40CC-A27D-375C7D38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0D44-EE50-4352-B45E-AAC0D2C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8E15-DF5D-4CB3-A400-1AB2E47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AF3-1D94-4BAE-B3FA-DFDAA4FC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9684-9F52-4721-AB4E-E0B4C401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9C62-937A-4BD9-A15B-C03256D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E162-CE56-4E40-855C-E351C30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0982-BA61-49B0-AA73-46047A6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0F22-53E2-4BAA-95F3-C49D5DD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63F8-0B78-493F-8E6B-46DA0B51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ABDC-6736-439C-843E-96563CA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3AF4-4E98-4B92-BDE6-CDFF145B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3092-0AD8-4270-A3B7-7943826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24F7-21F0-48AA-8594-C2FCF59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007-E6A8-4CFA-9584-06BBAF4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063B-EA79-42FE-847A-DC0AFE3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9D98-19F5-49F5-BC03-090153B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77B0-46EA-4D8E-9A8A-EF70F208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F9FA-8418-46B7-8246-BE5166CE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C99C-FE55-4E9F-A8B5-F1FA63B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A544-C576-4E43-83AB-B54F0C9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553E-96A8-4ED2-A220-9058369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11D3-F332-49F9-BE3E-F5C00997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80D3-52D2-4C35-9729-25127395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CB46-2450-4512-9685-B50A46B1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240-DCF9-433C-A148-67F09848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4103-846C-4182-BB3A-339B3ED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9E14-F404-4517-A45B-2B74CBD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3B89F-E51D-4B9E-A6AB-DCB522FF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65A2-1E7D-4A46-A3EC-F8C12C4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8641-42C8-4CA8-8E69-5E33385B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0C1E-707D-40F7-9057-35594B1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5B77-A3D3-421F-8027-706479F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C78A-2805-47FD-B014-50AEB1C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68E2-C38F-449B-AD10-63DC0A07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922CB-D174-4182-B7D1-EC653C8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8A-8264-442D-9896-0F61317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C94C-8C90-47F8-AD4E-B333160D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921B-DB0A-4CE7-BE81-759B05AF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B7DD-70ED-40D5-93CA-103C49F8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0C6E-80F2-42CD-8CAD-74F0BE1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DB0CF-4D30-49EA-B7EC-11677DFE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EE97-2987-4211-AF2A-A78715BD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5ABE-348A-40A1-9AE7-FD0B2B7F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E934-F333-467F-9A4C-045BCBC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C4F7-57A5-409F-A2AE-21ED81A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144B-72B8-48F0-A326-98DBED7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966-F07A-4710-8154-B4BA760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E38D-09DC-40FE-BC16-27B66941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896FA-3D06-4FD0-8A98-1162BA90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6FE7B-788D-45D2-AE6F-D5732007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0CD-C176-4DF8-9B0C-2DF29AA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806-F931-4B07-9FCC-CA85B16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4FA3-A026-4D17-AAD4-607535BC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2368-BD63-45FF-9992-543D2FCBA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06A-F538-4D8E-A079-939EA18EF0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D36D-D12A-424A-B167-F79DF1B91C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9C32-8C89-4B2C-B159-70BBEA0E4F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F9E9-C815-4903-8CB2-F943D4185F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Сосна обыкновенная, обыкновенная ли о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Сосна – всем хорошо знаком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мощное хвойное дерево с крас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бурой чешуйчатой корой.Это сам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распространенное вечнозелен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хвойное дерево,вырастающее до 35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м.,с диаметром 1 м,и возрастом 350 ле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47920" y="4724280"/>
            <a:ext cx="274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лечебных целях используют почки и хвою, древесину для дегтя, кору, пыльцу. Сосна богата эфирными маслами, смолой, горькими и дубильными веществами, аскорбиновой кислотой, минеральными солями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931800">
            <a:off x="837720" y="4336560"/>
            <a:ext cx="274320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Во время блокады в Ленинграде  изготавливали из хвои витаминный напиток и так боролись с цингой. В голодные годы крестьяне собирали мезгу – внутреннюю оболочку коры сосны — сушили, размалывали и добавляли в муку — и питательно и полез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Кроме лечебного действия препаратов из сосны, стоит вспомнить и об удивительных целебных качествах воздуха в сосновом лес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47:08Z</dcterms:created>
  <dc:creator>Лена</dc:creator>
  <dc:description/>
  <dc:language>en-US</dc:language>
  <cp:lastModifiedBy>Лена</cp:lastModifiedBy>
  <dcterms:modified xsi:type="dcterms:W3CDTF">2013-11-11T17:10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