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whoosh.wav" ContentType="audio/x-wav"/>
  <Override PartName="/ppt/media/chimes.wav" ContentType="audio/x-wav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3796-A710-4C46-B663-24B08EF0D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9495-E884-493E-A2FE-D478ADCA6C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03D2-560B-4175-B4E2-C093F9682B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FE50-7B4B-40F2-A8F8-0AF5CBADA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7D9B-0AEE-4AF6-B7F6-3DEE832FC6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5D80-873E-4522-9A37-4094207463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EEE2-D4DA-4C26-99EE-8B34368997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3547-5B27-470E-AD0B-E7FC73C63D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960-AA58-4FC7-AF11-D99E81D08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D0AB-CF1A-4958-9C94-5B00A56618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04E7-DBF5-4862-AF9B-959380F65A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9AC-ACB3-4C40-83DA-A5EC93F6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581-EE2F-45F0-9EB3-90CC4EC2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418-EDAD-4E92-A9AD-6868D1D4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3FF-2AC8-48A7-8305-9951A8FC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B8B-45BB-44F9-8936-14CFFDF7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6D9-C46C-42E9-8A87-0DADC51F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554-A40B-477F-9471-0FAE7002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71B-B47B-4198-B1DF-4E4D6C11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158-4327-4741-B29C-9020F9A8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AF3-0E0F-432F-B6E5-4DDE9FA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5AD-F5FA-490C-83B6-5C8C91EA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212-3B07-45AB-8DBF-B2386CF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B43-DDAE-4BB1-BDD6-AD3688AFB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-6480"/>
            <a:ext cx="9252000" cy="68644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724360" y="692280"/>
            <a:ext cx="288000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ст по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Фоне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724360" y="3284640"/>
            <a:ext cx="288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5724360" y="3419640"/>
            <a:ext cx="2819520" cy="116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чать 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28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29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2"/>
          <p:cNvSpPr/>
          <p:nvPr/>
        </p:nvSpPr>
        <p:spPr>
          <a:xfrm rot="169200">
            <a:off x="4951080" y="1499760"/>
            <a:ext cx="3938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каком слове букв больше, чем зву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 rot="181800">
            <a:off x="4952520" y="2554200"/>
            <a:ext cx="37450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 rot="181800">
            <a:off x="4941360" y="3665520"/>
            <a:ext cx="37450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у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 rot="181800">
            <a:off x="5049360" y="4818240"/>
            <a:ext cx="3552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37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38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рямоугольник 2"/>
          <p:cNvSpPr/>
          <p:nvPr/>
        </p:nvSpPr>
        <p:spPr>
          <a:xfrm rot="232800">
            <a:off x="4869000" y="1329840"/>
            <a:ext cx="3993840" cy="142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 трёхсложное слово с ударением на втором сл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 rot="240000">
            <a:off x="5003280" y="2893680"/>
            <a:ext cx="3672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и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 rot="240000">
            <a:off x="5003280" y="3916080"/>
            <a:ext cx="3672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 rot="240000">
            <a:off x="5003280" y="4906440"/>
            <a:ext cx="3672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Объект 5" descr=""/>
          <p:cNvPicPr/>
          <p:nvPr/>
        </p:nvPicPr>
        <p:blipFill>
          <a:blip r:embed="rId1"/>
          <a:stretch/>
        </p:blipFill>
        <p:spPr>
          <a:xfrm>
            <a:off x="-17640" y="-34920"/>
            <a:ext cx="9168120" cy="6892920"/>
          </a:xfrm>
          <a:prstGeom prst="rect">
            <a:avLst/>
          </a:prstGeom>
          <a:ln w="0">
            <a:noFill/>
          </a:ln>
        </p:spPr>
      </p:pic>
      <p:sp>
        <p:nvSpPr>
          <p:cNvPr id="146" name="Вертикальный свиток 6"/>
          <p:cNvSpPr/>
          <p:nvPr/>
        </p:nvSpPr>
        <p:spPr>
          <a:xfrm>
            <a:off x="5148360" y="1052640"/>
            <a:ext cx="3168720" cy="3168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55" name="Управляющая кнопка: далее 4"/>
          <p:cNvGrpSpPr/>
          <p:nvPr/>
        </p:nvGrpSpPr>
        <p:grpSpPr>
          <a:xfrm>
            <a:off x="5516640" y="5626080"/>
            <a:ext cx="834840" cy="914400"/>
            <a:chOff x="5516640" y="5626080"/>
            <a:chExt cx="834840" cy="914400"/>
          </a:xfrm>
        </p:grpSpPr>
        <p:pic>
          <p:nvPicPr>
            <p:cNvPr id="56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516640" y="5626080"/>
              <a:ext cx="834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580000" y="566100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Прямоугольник 9"/>
          <p:cNvSpPr/>
          <p:nvPr/>
        </p:nvSpPr>
        <p:spPr>
          <a:xfrm rot="186000">
            <a:off x="5047920" y="1468440"/>
            <a:ext cx="3700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вуки м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 rot="218400">
            <a:off x="5056200" y="2597040"/>
            <a:ext cx="3684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ид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 rot="217200">
            <a:off x="5009760" y="3663720"/>
            <a:ext cx="3619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иш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 rot="217200">
            <a:off x="5072040" y="4763880"/>
            <a:ext cx="35290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лышим и произно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800280" y="6675480"/>
            <a:ext cx="8329320" cy="38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www.templeit.net/useruploads/shablony/sh_ramka_det_prost0kvasha9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65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66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Прямоугольник 2"/>
          <p:cNvSpPr/>
          <p:nvPr/>
        </p:nvSpPr>
        <p:spPr>
          <a:xfrm rot="174000">
            <a:off x="5073480" y="1496880"/>
            <a:ext cx="3743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уквы м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 rot="156000">
            <a:off x="5049720" y="2563920"/>
            <a:ext cx="36147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идим и пиш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 rot="156000">
            <a:off x="4975200" y="3642840"/>
            <a:ext cx="3733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лы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 rot="156000">
            <a:off x="5070600" y="4763880"/>
            <a:ext cx="3524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изно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74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75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оугольник 2"/>
          <p:cNvSpPr/>
          <p:nvPr/>
        </p:nvSpPr>
        <p:spPr>
          <a:xfrm rot="210000">
            <a:off x="5003280" y="1464840"/>
            <a:ext cx="37497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олько букв в русском алфав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 rot="219600">
            <a:off x="4995360" y="2595240"/>
            <a:ext cx="362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 rot="234600">
            <a:off x="4993920" y="3691080"/>
            <a:ext cx="362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 rot="234600">
            <a:off x="5065560" y="4852800"/>
            <a:ext cx="3471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83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84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Прямоугольник 8"/>
          <p:cNvSpPr/>
          <p:nvPr/>
        </p:nvSpPr>
        <p:spPr>
          <a:xfrm rot="294600">
            <a:off x="4922640" y="1501560"/>
            <a:ext cx="3898800" cy="1077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олько гласных звуков в русском я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 rot="276600">
            <a:off x="5051160" y="2743200"/>
            <a:ext cx="36399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 rot="276600">
            <a:off x="5011200" y="3789360"/>
            <a:ext cx="36403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 rot="276600">
            <a:off x="5051160" y="4886280"/>
            <a:ext cx="36399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92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93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Прямоугольник 2"/>
          <p:cNvSpPr/>
          <p:nvPr/>
        </p:nvSpPr>
        <p:spPr>
          <a:xfrm rot="253200">
            <a:off x="4986000" y="1374480"/>
            <a:ext cx="3835440" cy="1339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гда буквы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Е,Ё,Ю,Я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значают один зву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 rot="234600">
            <a:off x="4968720" y="2835000"/>
            <a:ext cx="3735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гда стоят после гл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 rot="234600">
            <a:off x="4944960" y="3843000"/>
            <a:ext cx="3733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гда стоят пос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Ъ, Ь зн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 rot="234600">
            <a:off x="5033520" y="4865760"/>
            <a:ext cx="3579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гда стоят после согл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01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02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Прямоугольник 2"/>
          <p:cNvSpPr/>
          <p:nvPr/>
        </p:nvSpPr>
        <p:spPr>
          <a:xfrm rot="247800">
            <a:off x="5032080" y="1484280"/>
            <a:ext cx="3816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ой звук не является звон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 rot="219000">
            <a:off x="4955760" y="2533680"/>
            <a:ext cx="3740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 rot="219000">
            <a:off x="5003280" y="3679920"/>
            <a:ext cx="3606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 rot="219000">
            <a:off x="5135400" y="4839840"/>
            <a:ext cx="34768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10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11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Прямоугольник 2"/>
          <p:cNvSpPr/>
          <p:nvPr/>
        </p:nvSpPr>
        <p:spPr>
          <a:xfrm rot="235200">
            <a:off x="4982760" y="1398240"/>
            <a:ext cx="3821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каком слове все согласные звон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 rot="230400">
            <a:off x="4954680" y="2450880"/>
            <a:ext cx="3789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 rot="230400">
            <a:off x="4955760" y="3608280"/>
            <a:ext cx="3654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 rot="230400">
            <a:off x="5101920" y="4772160"/>
            <a:ext cx="3579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19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20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Прямоугольник 2"/>
          <p:cNvSpPr/>
          <p:nvPr/>
        </p:nvSpPr>
        <p:spPr>
          <a:xfrm rot="169800">
            <a:off x="4952520" y="1409760"/>
            <a:ext cx="3816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каком слове все согласные твёрд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 rot="178200">
            <a:off x="5003640" y="2573280"/>
            <a:ext cx="36705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и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 rot="178200">
            <a:off x="5024520" y="3714840"/>
            <a:ext cx="36018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 rot="178200">
            <a:off x="5028840" y="4817880"/>
            <a:ext cx="3578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5:06:04Z</dcterms:created>
  <dc:creator>оксана</dc:creator>
  <dc:description/>
  <dc:language>en-US</dc:language>
  <cp:lastModifiedBy>cab91</cp:lastModifiedBy>
  <dcterms:modified xsi:type="dcterms:W3CDTF">2005-01-01T01:02:14Z</dcterms:modified>
  <cp:revision>40</cp:revision>
  <dc:subject/>
  <dc:title>Презентация PowerPoint</dc:title>
</cp:coreProperties>
</file>