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B67-6A49-478B-9743-5C84AFBE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607-8609-4309-82A6-33F3408D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95E50-5162-4271-A185-7349B306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1C63F-5302-4F5B-8CAD-3C3E5E16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E10CF-4374-44C8-9F56-97C12BAD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1B02D-3F69-4FF1-8588-42BBF684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593DE-D6C7-47BD-8EF8-6967A781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79C6A-FCD3-43B7-BDE1-B2E54C46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C5C9C-7BCE-44AF-BC7A-D4C880A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6E252-59AF-442A-9C44-ED27FBE6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57BA9-AA4C-449B-913F-E73A3215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35212-13F1-409D-81B1-C6C91FB0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6A5-9AD1-4886-8492-75470301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4ACC1-853B-42E3-99DB-7689125C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1C99E-3104-460C-9F3B-344D3684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5EB57-09A8-408A-BBA8-5FD808C2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6BD0E-6299-451E-91E2-A49537F8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8806A-63C1-438E-8771-2FD273CE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10353-6791-40BF-8A4A-16C91332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F1B38-4B72-4E7F-BC39-8CEE4A0E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21A0D-E834-4969-8757-4C49E653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BCB80-635B-445F-869D-4DC21E57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313D4-11BC-4C56-9C59-93D045E3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191-1313-4435-862B-A570CBC0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67DB1-95A4-4981-9569-A2DB4063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03975-EBB5-42EB-9B75-9F05FC83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08943-C5C8-4664-B558-4F0E98D8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C908C-3B33-4582-811E-67E62BE5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5898B-0102-4FD8-BE96-EAABC99F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03B34-2B14-4598-8B79-F366D7F6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2AC44-763E-4D48-A531-70B3943E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B92A8-9A57-4E6C-B77D-087ABB55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E68C7-09A8-412C-B785-AB5BC5CD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8B089-F0CB-405D-8B97-8540CD4D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F237-A364-4C6E-952E-481D1DF9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80172-9AA6-477C-9D5A-61A3CFE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F3402-546C-4BEB-B98B-E929644E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957C7-485C-4753-8B4F-862942DF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6FE9A-C522-4936-A44D-B8552B0C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070CE-94DE-4D66-8D6A-F9AA5C60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6EC86-DEEC-4EE1-92FD-E02BA5D2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34A78-6855-4E6E-9B84-0472C5DC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3D116-C563-40EE-BD6C-C8F34325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79A72-6CCE-46C4-B0CB-C60F4F6C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AA74C-8C9D-4DE5-8FFE-0E02EA95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5B05-CAD2-4F2F-A68C-4D56F78C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BCC51-A9C9-4C7B-B18E-040BDE94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61931-816D-4911-9F36-5600F021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8BF23-8E47-4881-AB6B-A6A89B36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6E603-173F-4B1E-8449-F3DCF9AA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B798F-1622-4866-AEF8-A40E2F8C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CE80C-5826-4FD0-888F-EE3CC152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FCED0-DCC8-465E-99AF-570FC7D1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C40E2-C02D-4CB3-94F5-690620AA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E8A34-8809-46E3-BE92-9068EDA5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42C2C-77D4-4D0A-88E9-303FD243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2F1A-B45F-4531-A1A8-F2FAE5D4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8C6D2-4112-45D6-A0B3-790F301F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4BB3C-524A-49B1-B22A-9EB8B907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7B214-978A-41D4-8B39-55F189AF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6A5E0-E943-4E4C-8DDB-C2974681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7D9F6-26EA-48BB-A0FC-AE9D7422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3EEBA-CFD7-4A0F-9B01-0633DE4F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E9318-7C00-4DCC-8955-FACDF492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AFF8-AAA3-4781-9023-6B4ED3FA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C955-6FB1-4C57-B49D-01CBF0DF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EAA2-E52B-492B-9D26-8425A107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E043-3BF2-420D-AF00-E80BF18F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D11-633B-4FA7-9507-6B7953C8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3C74-3A9E-44C5-92CF-E75FEA9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3230-7A37-4F21-8EC8-C3C23484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94AA-7026-4C06-9EA9-B73DED0E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F7BD-A5BE-4B43-94A0-D4A1E47D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AFD0-A944-4391-B772-1013C7B0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8ECD8-09FA-4C87-8AFF-B6E5F6E9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CBC5-D382-42A2-AC23-7B94A349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9A2D-1563-42C8-AA33-12CDC35C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9264-B1CC-4106-A96F-CCA5038A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C4B4-ADFA-49E4-B35D-D537CEAC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B34-E0AD-472E-8099-79C2BF3A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F5E15-CC4E-43B2-B457-FB1CC295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CB2C-B97B-43DA-82AE-3CB0FC5A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7C4E-85DD-4BC2-9E21-56C23B4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CAA7-C99F-490F-AC50-18397B7E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8B0C-5E55-423C-8AD7-1FE92132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C28A-B416-4806-881B-B7D7FCB1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0E58E-EA9B-4952-A42F-42EEA5AE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EF0F-C3F1-40AD-8D29-CDC549D8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AB7BA-BAAA-47AB-956F-2302DD4C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4DD56-022E-4C14-9595-4F306FF8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8E0-5436-4EEA-B79D-0D700230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65BE1-CE6B-4945-814A-BF453F13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0F91-3365-4AF6-B345-CE1D0AAA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CC029-0951-46A9-A393-4CAAA40F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42BF0-35E2-4DE6-BD8C-F85164CA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36D9-8518-4F59-A9CE-9BEF78C1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A3B5B-2D89-4DDC-A1CD-0737B450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FA84-26AA-432D-BF50-27A26ED4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1FAD0-9ADD-49EB-8CA0-F20C6601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4D487-4AD5-4242-89F5-0C3FC712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F2A3-0ED6-4BE5-A9B2-BCDD7F26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9C6-5E48-494E-BE30-08153B37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6F183-0782-403C-A901-7F4B2818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A8D68-9281-4359-8EC5-40497A50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B8548-B041-4077-A139-1B1869DF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375A7-BAB1-4594-A722-3D1C5131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F3957-F487-445B-8ED3-C2502196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FE01-45FC-4F89-A09E-F00059C3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FCFC9-01E7-49EA-9FB1-AC4E2D11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8FE64-7F62-433C-BC36-F082BB90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CC322-53A6-49D6-9112-4FBFF334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253F-CA72-48A9-924D-1E35064E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D3E-B70C-4666-BC49-E30DF43F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2C018-D4F8-4EC8-87B7-7CC5C54F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F59BE-86AB-4749-963A-2E8C0A4D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4782E-17BA-4B1D-98BF-8906FF67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3127E-A573-447F-A33E-5FF19251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24169-B956-4B94-9AB0-674E85EE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3A085-4DB0-437D-A488-8E79FA89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3FD7A-17B8-4726-8512-D58680E3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84976-A334-4D9D-B322-40B9F5EF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F4C0A-5204-4FAA-9A8D-512FF43B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957A3-B5F9-4B3A-B7E7-3532465C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CBF-B316-4027-9B5D-D8BB464F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91CEE-A11E-4553-BDA5-6CB4B08E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B42B2-5347-4182-8AE2-198FC5B6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2BCBD-8BDD-4D43-A66D-1E86FCFF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7F650-B650-444B-8665-0FF80DDC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48834-98E8-490B-86E4-32BBC05A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780EB-74B6-458E-B07D-54B2CDFB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221A6-7726-47C4-84C0-76F652C9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BD840-A9E4-4B47-8979-0B71D1BF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E0182-B90B-40D9-9EEB-28C8411E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A9152-8A6A-4259-8A5C-CD5CF4B0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6C7-3054-413E-B1A8-AD90363A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1D8E9-ABE1-4739-8F89-150E5D50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39BDE-FBDE-4E41-AF24-423534F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D5ABD-06CF-42AF-8C7A-EE9B888A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EEA30-F6B9-465D-9CC4-890D3972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0CE28-0701-4F3E-B7B4-EF2F862B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5C09B-74BF-494D-952D-AE175E7D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4549D-F5F9-47BB-BA5D-33418758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ED38B-4431-4DB2-91DA-141E1226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C3E0C-E1E1-403E-BE5C-40EFD7FD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8D561-7057-490B-859B-81A92AD6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F38-2642-4195-A4F3-71BB7C90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69F52-03FB-4402-B568-06750D8E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F11D5-926D-452B-96BA-E9B5416F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A88E1-5B91-49B6-9F59-D0F88670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A948D-4159-4282-85BE-05CC1CE5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CF7A7-F549-418E-91EB-503161B7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B3BB3-020D-4093-8E4D-F8FD5112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BBD45-664C-4FFF-934E-DEF48311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C1483-9A83-4EAB-8089-B6C2780D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F19FF-2984-4BBE-8785-A3BE4181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A3E79-B2F5-4CD2-8BF5-6DB459DD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E75D-2A45-4003-9674-67398D879D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0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F0C9-9CBE-4DA9-A726-E9CDAFE6AA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269E-096A-42D7-8E69-ABE4B7DB3D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4B0E-4C55-469C-B33B-2B75D981CD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3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39A6-CF78-4BD5-BDBB-E9150AD495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8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F986-AC1F-444C-950C-6A81A7AB23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F2F0-653F-4C71-9948-9D82623A29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D3B7-A3C0-4B81-8838-7EC3B106A7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8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4BD8-DBC7-45FD-810D-A72C340B3C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2797-2FF7-41A8-AB1A-AD16720549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CB14-5F0B-4904-AFF4-BB5BFDF02D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1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DE58-3FE6-4D68-8950-4085D57E85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F780-684E-4C06-9FD2-C1520120CD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hyperlink" Target="http://www.calend.ru/img/content_images/i0/176_or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1120680"/>
            <a:ext cx="8136000" cy="9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33"/>
                </a:solidFill>
                <a:latin typeface="Arial"/>
              </a:rPr>
              <a:t>УРОК - НРАВСТВЕННОСТИ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539280" y="1692000"/>
            <a:ext cx="828036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ВВЕРХ ПО ЛЕСТНИЦЕ ЖИ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И НРАВСТВЕННЫЕ ЦЕННОСТ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Picture 4" descr="az1phsy96sbuv6"/>
          <p:cNvPicPr/>
          <p:nvPr/>
        </p:nvPicPr>
        <p:blipFill>
          <a:blip r:embed="rId1"/>
          <a:stretch/>
        </p:blipFill>
        <p:spPr>
          <a:xfrm>
            <a:off x="684360" y="3260880"/>
            <a:ext cx="3439800" cy="28461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6"/>
          <p:cNvSpPr/>
          <p:nvPr/>
        </p:nvSpPr>
        <p:spPr>
          <a:xfrm>
            <a:off x="3059280" y="5778360"/>
            <a:ext cx="5856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дагог – психолог ОСШГ №2 Жалгасбаева А.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Названия вещей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чатная машинка дедуш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терброд с красной икро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шка, живущая в доме 10 лет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рое военное фото бабушки и дедуш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али деда-фронтовик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ковая шуб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кг конфет «Белочк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802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ность – это все то, что значимо для жизни человека и людей в этом   обществ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а – это стоимость чего – либо, выраженная в денежных единица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ть вещи, которые не продаются – они дороги как памят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крайнем случае, можно отдать в муз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Picture 4" descr="yuig87y9xbsb6qj5ag9"/>
          <p:cNvPicPr/>
          <p:nvPr/>
        </p:nvPicPr>
        <p:blipFill>
          <a:blip r:embed="rId1"/>
          <a:stretch/>
        </p:blipFill>
        <p:spPr>
          <a:xfrm>
            <a:off x="5651640" y="4363920"/>
            <a:ext cx="3108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Игра «Я – волшебник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Я все могу, я – волшебник, я в вашем доме могу поменять все неживое, но я добрый волшебник, поэтому одну-единственную вещь я могу оставить неизменной. Выбирайте, какую»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Вещи, которые ребята не поменяли бы никог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288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отографии близких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исьма от матери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деокассеты с записями своего детства и событий из жизни семьи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Picture 4" descr="8029083rain7tu1"/>
          <p:cNvPicPr/>
          <p:nvPr/>
        </p:nvPicPr>
        <p:blipFill>
          <a:blip r:embed="rId1"/>
          <a:stretch/>
        </p:blipFill>
        <p:spPr>
          <a:xfrm>
            <a:off x="6732720" y="4437000"/>
            <a:ext cx="2247840" cy="2203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День матери России"/>
          <p:cNvPicPr/>
          <p:nvPr/>
        </p:nvPicPr>
        <p:blipFill>
          <a:blip r:embed="rId2"/>
          <a:stretch/>
        </p:blipFill>
        <p:spPr>
          <a:xfrm>
            <a:off x="6210360" y="1413000"/>
            <a:ext cx="2933640" cy="1955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Наши ветераны, День Победы, С-Петербург, Росс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4581360"/>
            <a:ext cx="316872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Легенд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7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одной из стран, неважно в какой, жила одна старушка. Многие годы она ходила с палочкой по пляжу в разгар летнего сезона. Многие люди недоумевали и не понимали, что она ищет в песке, разгребая его палкой. Только спустя годы люди узнали, что в течение многих лет она ходила по пляжу с одной лишь целью – она собирала осколки битого стекла, чтобы взрослые и дети не поранилис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опросы учащимся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го ли достигла в жизни эта старушк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каков был ее путь по лестнице жизн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ы были ее жизненные ценност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Минута открове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 небольшой отрезок своей жизни вы сделали достаточно много жизненных шагов. Попробуйте определить, какие из них были значимыми, важными, которые вы можете сравнить с поступками старушки, а о каких вам не хотелось бы вспоминат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Закончите фразу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успевающий в жизни человек – это человек, который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– неудачник – это человек, который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человек не имеет ….., то он не состоялся.( прожил жизнь зр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человек имеет….., то он состоял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1" name="Picture 4" descr="nhl"/>
          <p:cNvPicPr/>
          <p:nvPr/>
        </p:nvPicPr>
        <p:blipFill>
          <a:blip r:embed="rId1"/>
          <a:stretch/>
        </p:blipFill>
        <p:spPr>
          <a:xfrm>
            <a:off x="6012000" y="189000"/>
            <a:ext cx="29541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24000" y="609480"/>
            <a:ext cx="8640720" cy="15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Благодарим за внимание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3" name="Picture 4" descr="poki44743"/>
          <p:cNvPicPr/>
          <p:nvPr/>
        </p:nvPicPr>
        <p:blipFill>
          <a:blip r:embed="rId1"/>
          <a:stretch/>
        </p:blipFill>
        <p:spPr>
          <a:xfrm>
            <a:off x="539640" y="3355920"/>
            <a:ext cx="3888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4248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судить с учащимися понятия «ценности», «цена», их буквальное и переносное значение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звивать у учащихся умение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мысливать и определять для себя мнимые и истинные ценност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-252720" y="333360"/>
            <a:ext cx="9396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ЭПИГРАФ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Ценности – общее название для мнимых ценностей, имеющих   свою цену, и для ценностей подлинных, которые становятся мнимыми, как только им назначается цен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Из книги В.Г. Кротова «Массаж мысл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1" name="Picture 15" descr="bcd991807e6d4baf6d5b4c9e0de6726d"/>
          <p:cNvPicPr/>
          <p:nvPr/>
        </p:nvPicPr>
        <p:blipFill>
          <a:blip r:embed="rId1"/>
          <a:stretch/>
        </p:blipFill>
        <p:spPr>
          <a:xfrm>
            <a:off x="6191280" y="4221000"/>
            <a:ext cx="1855800" cy="2222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176633534900000017vw3"/>
          <p:cNvPicPr/>
          <p:nvPr/>
        </p:nvPicPr>
        <p:blipFill>
          <a:blip r:embed="rId2"/>
          <a:stretch/>
        </p:blipFill>
        <p:spPr>
          <a:xfrm>
            <a:off x="468360" y="4492800"/>
            <a:ext cx="31669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58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УСЛОВИЯ ВЕДЕНИЯ ДИАЛОГА: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т неправильных мн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один говорит – другие слушаю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кто ни к кому не присоединяется. Можно сказать то же самое, но другими слов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96472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каждого человека, маленького и большого, взрослого и ребенка есть удивительная возможность – возможность мечтать. Пока человек живет, он всегда о чем-то мечтает. Иногда его мечты становятся явью, превращаясь в жизненные цел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вайте представим себе нашу жизнь в виде лестницы, по которой мы идем вверх, в будущее, во взрослую жизнь. Ваше право – выбрать, какой будет ваша лестница, большая или маленькая, из каких ступенек она будет состоять. Вы можете считать, что каждая ступенька – это то, к чему вы стремитесь в вашей жизни и давайте назовем эту лестницу лестницей жел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нимаясь по лестнице, мы не всегда идем уверенно, можем ошибаться, можем оступиться и даже упасть. В жизни тоже бывает всякое: нас сопровождают болезни, разочарования и даже потери. Наш подъем зависит во многом от того, как мы будем вести себя по отношению к другим людям, которые идут вместе с нами по лестнице: будем толкаться, переступать через кого-то, пропускать вперед, идти ря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вайте попробуем подумать над тем, каким будет наше движ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250920" y="260280"/>
          <a:ext cx="8642160" cy="6572160"/>
        </p:xfrm>
        <a:graphic>
          <a:graphicData uri="http://schemas.openxmlformats.org/drawingml/2006/table">
            <a:tbl>
              <a:tblPr/>
              <a:tblGrid>
                <a:gridCol w="423720"/>
                <a:gridCol w="3900600"/>
                <a:gridCol w="4317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ЦЕН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 материальные предметы (шуба, маши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шинство – это духовные предметы, или материальные предметы, имеющие ценность для человека или общества (воспоминания, фотографии, письма, произведения искусства и т.д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ществует за пределами человека, независимо от нег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ществует в отношении человека к чему-либ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а подвергается захвату и насили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ность нельзя захватить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ловек может умереть, но ценности остаются в памя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а исчерпаем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еет вещь – цена снижаетс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ность не стареет, она неисчерпаема, не сгорает, не тонет и т.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обмене цена сохраняет себя (обмен яблоками – у каждого оказалось опять по одном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обмене ценность увеличивается (обмен идеями – стало у каждого по дв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а всегда заменима (товар – товар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ность незаменим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вая ценности, мы все равно отправимся в мир цены: купить краску, кисточку, если ценна картина, или пленку, фотобумагу, если – фотографии близких. Отправившись в мир цены, надо не забыть вернуться в мир ценностей. В мире цены счастлив не будешь. Роскошь развращает. Мы хотим кушать – можно наесться хлебом с солью и все. А нам хочется с семгой, с икрой. Важно не подчинить жизнь культу е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гра «Купи – продай».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5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пределить, что имеет ценность, а что – цен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ловия игры: 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а в парах, задача одного – уговорить продать вещь. Другой должен как можно дольше сопротивляться, выдвигая веские аргумен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8:13:38Z</dcterms:created>
  <dc:creator>Евгений</dc:creator>
  <dc:description/>
  <dc:language>en-US</dc:language>
  <cp:lastModifiedBy>ASER</cp:lastModifiedBy>
  <dcterms:modified xsi:type="dcterms:W3CDTF">2015-01-26T11:52:05Z</dcterms:modified>
  <cp:revision>15</cp:revision>
  <dc:subject/>
  <dc:title>Ценности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18000000000001024140</vt:lpwstr>
  </property>
</Properties>
</file>