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BD1-D1CB-4BB2-8A34-3328D089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F6C-E32E-4D86-BA38-894D7BD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019C-F9FF-4DD4-A8BF-298893F0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ED7A6-4E76-4136-B1A7-D849CC6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3187B-F4BC-40E0-A1F9-8048B58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521AA-132F-48A1-A63C-B33C36B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38B92-540E-4571-8D86-22AF5A8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2EC82-775F-4FA4-A2CD-57C5E3D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84F69-F60B-45A0-B555-5B6F1F3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8AB42-6CBA-4A33-8804-017F39E3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3AD8B-6486-4680-9C0C-050CC63D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06F6-E72E-409F-AF87-C47D16F1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F91-A165-41CA-A6A3-A4647C16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E4FC5-E981-467A-9179-117E9E1F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3C61-29F7-4B24-ABC7-A0F843F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5585-DD91-4CBA-8633-8001A2AC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A1F1C-2266-4908-BFE5-15F5A05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61665-7D0F-4CA1-9432-C068769E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788CA-BF45-45B9-AE23-714B3DD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CB8D6-112C-4FD3-8DFA-52F266F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8D1DD-E226-4B4A-AEEE-64D5A120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CDC2-590F-4C78-9EB6-9156805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ED04-DC47-44D6-B805-0313D916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AD9-7F21-473A-9B77-F27A96A7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FE930-C49B-4E8D-AD64-614C58E0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6422A-8460-4F91-AB85-CE640C94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3D2F7-ABD2-4124-9783-7A02E853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00E3-C126-46F8-A4B3-50D3F283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055D-F6E7-446F-8831-A585037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3C9CE-BBF7-4E8C-8462-F10185D0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692E-6EEA-42BB-A9C4-BCC39FB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E4D1C-0AC7-48F6-A132-F1827CD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2CC9-CF53-44CF-A6C0-3BCA58E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9044-0E87-4455-95CC-27EAD64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E2EE-E971-4368-B1F8-CC2BDEF7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7C299-E2A4-4479-8A8A-5EB94B21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5C24D-2DE9-4DF5-B0AE-C6C6F1F6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7F30-30EC-4D41-98E9-C39250AD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90461-CF91-414A-911A-EB42B964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E4B9-79B7-47D5-B69D-87383C90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7ACC5-2526-4D8E-9605-C0A3CC14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D4C2E-1F38-4FDB-9DD9-FD52333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0F111-81B0-4666-9128-D698145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525C-10E7-47C5-9CA4-0157FA1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4F744-E47A-4C65-ACC4-A8F1E80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41B4-D391-4EFC-B50A-37B4BBB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97B1-B3A8-4111-96E5-5BE72587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63788-06A2-484E-A454-341B0C9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74594-F0C4-46D3-BD9B-33A0CAE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62203-DC02-43B1-B381-107B1B14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D33BC-F512-4F9D-93DF-ECC1F0F7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03A76-DE41-4848-B42F-D9E96FEE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8A06C-5601-4463-A159-12166F9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614E4-0F56-4CCE-9414-9DB8A058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8E991-CF7D-4DC4-A7A2-6D12A401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55B6F-8AF8-4860-9253-D21A376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51B4-3333-4CE6-AE75-87EFD96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23AFE-244B-4AC5-8619-AF9A7574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3FD95-0519-4696-8AD3-4B45FB0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F743E-4AD8-458D-8703-CC12385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F22DC-925E-4001-96F8-633D080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7F11E-7DA6-427F-B4D4-FBF9D877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044BA-C509-44EF-BF88-B748A595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66B4D-9307-4900-9619-9263BDF9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065-6EB2-422A-AC7E-050A920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55C-0CE8-49CE-9EBD-9148B14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D4D6-EB1C-4AFC-B7F1-4FA9822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D42D-F251-472F-9EE0-CC1FC4B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CC2-7334-46A8-9889-4C76A345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101-B9BF-48C6-8EC8-54E64B2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7EC-949C-4D60-AE02-E2F741E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BD00-AE8E-473C-866A-1134925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F5D-FBB1-4167-B508-51C96F19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9F8A-973B-4206-AD16-6072C354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75EF-3259-4C38-8904-394CD46E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66C8-AA44-4590-99BC-16A7936B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6C5C-E953-4019-A4EC-D5EE379C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7C01-2F9B-4271-8D03-52C3D6A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1C9C-95A0-4BF4-8B52-30D1304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030-A587-4F17-B2D8-5F61ED4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EFCC-0F83-4E8C-BED2-5C750B05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522B-E520-4AC4-A2BA-0C6B6A3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B3FB-EB18-436C-937B-E4F2A2A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47B9-F176-4E08-9A29-10D5E09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91A1-73C1-4D32-B88A-C57547D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22EE-0FE3-482B-9B3E-51F3987C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DA40-BB46-43D4-BD39-4D10FD55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721B-24E3-4F57-8FE8-F475EAC9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E8C3-44FA-48EC-B85E-4B7BFD7F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81B0-D576-4C71-887A-4ACE3525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436-051F-4192-AF89-E3C02BE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FE6A-3DF1-45BD-BFD2-84A8385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50DD-9249-461D-A77D-B88F34B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8D24-8B2A-4840-BC36-4FECB942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4345-4DF5-42DC-883F-7735E00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02EC-7F1C-4232-BC01-DE094A3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436C-2DB1-44A1-B034-9AC70CA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5DC6-EFDE-4CF0-B99D-EAFDD2B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F1B0-CA31-4F8A-AE54-8536CC2A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B381-8C57-49F7-87C3-F4A2CCA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60FD-9254-4342-9B7B-BF62F8A4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DC6-A761-434B-91B7-AACA8CB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2C20-9F3E-4D1A-8AC8-2573C12C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D8C1-5936-46C7-A9BF-E03156D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8BCC-006E-4207-B549-081FC4F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6212-E668-4F93-A32C-82925A75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BC86-41A7-4140-8A90-918E325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1DA7-BD1C-4564-8E23-64167B6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2C9F-2877-420E-9E96-F9A3B8E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349D-C9B3-443A-81F2-3B501C8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3EB0-9B3F-428C-9137-AD66F84A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6B45-5A51-45C9-90D3-FC29C083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D4C-59DD-4EAA-B2E8-57731B8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B6BE-DDA4-4522-9515-BFECD8D0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6FB4-239B-41D6-86EC-06DF99F9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A723-FB7E-4DA3-A94E-F2902EE4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2C3E4-AD7B-408E-8AE2-E5035A6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9DC8-75C2-49E9-B65D-3872E73F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8F730-1A2B-42FC-92CD-B25909A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5753-A88B-4FA4-ADAA-FBE4428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09AC-1B85-48C1-BF9B-D4C4107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C8B5-319E-4CFB-8530-4D04D40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82A6-787F-4AFF-BDE0-520C9C6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0B4-112C-490E-846E-18CE4724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E0BD-AA17-40E5-9621-29D87AA8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852C-C6F2-4C92-99C3-92A37385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A9D5-59DE-4434-8A0E-534EEA94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C76C-8384-4F1F-9B20-D97132AE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585C-1306-47E2-98D0-66F6E9CD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5810A-2E76-4D5E-8259-0FDDCF1F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0A2F-99B9-44D7-97E9-2F33D3D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8517F-78A6-4178-95AE-F2F013E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74C1-C044-4E59-BA08-1CA8B93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9611-1F99-4299-89E0-4C22B0A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5C6-2614-4250-99C6-6AFCDE3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DDC0-2E18-4C98-ACF3-F776808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21C2-8F1C-490E-8330-994D3C1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F2E6-D3D2-45A0-886F-7B90B89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240C-079C-4E3C-88FC-DE9B266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EE7B-5934-4AB0-A92E-95C67081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A8BA-93A2-4E7B-A0DD-2A6B688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4E552-50B8-433B-973C-4F26D13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D200-1520-4332-B6C8-0E8E0C2F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FA3F-2B16-4D9F-B318-FECA4B25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18D5-3651-4782-B6C8-9060D442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98B-12D5-4697-9F3C-3016541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C5393-DB18-4C5A-82E9-3A6553AF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2F81-957D-4ADA-8686-F9183B7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E8DD-1186-4BE3-8742-8B65416D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8AA2-35C8-4346-8F14-44BACAF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F610-DD10-4100-9CD0-41B5962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43A7A-65F9-4FF5-85DD-699BCAB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F2AF-E9B5-405E-A76B-CEF5475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9F96-71DC-4700-91D1-B623D78E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0346F-638F-4525-9863-169B7FF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432D7-F4A7-4E2C-BA46-E770B60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FC74-DD6C-4116-9F2E-83CC36D69D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0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398-83BD-4215-8D86-3D206552FA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AC51-3944-42CA-8750-ECD09188CB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15A4-6956-4A8C-8BB6-C071BEFEBE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3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6139-E018-4CC5-846A-F27CBFDDAD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8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7BF-55BE-4D8B-8A01-FA4C43076A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B6C8-D409-4B67-AA2C-1D91893959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BC49-0A75-4914-B484-40EC75A224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099-04EF-434C-BA12-1F61F5C398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BE8-5CAD-45C8-B487-8E641783A1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7DE-5043-4439-8D60-7BEAF564F9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BF0-04CD-4E68-8EA3-361DD4112A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D6A-ACC2-451B-98D6-05B9B03A07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hyperlink" Target="http://www.calend.ru/img/content_images/i0/176_o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1120680"/>
            <a:ext cx="8136000" cy="9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33"/>
                </a:solidFill>
                <a:latin typeface="Arial"/>
              </a:rPr>
              <a:t>УРОК - НРАВСТВЕННОСТ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539280" y="1692000"/>
            <a:ext cx="828036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ВВЕРХ ПО ЛЕСТНИЦЕ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И НРАВСТВЕННЫЕ ЦЕННОСТ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4" descr="az1phsy96sbuv6"/>
          <p:cNvPicPr/>
          <p:nvPr/>
        </p:nvPicPr>
        <p:blipFill>
          <a:blip r:embed="rId1"/>
          <a:stretch/>
        </p:blipFill>
        <p:spPr>
          <a:xfrm>
            <a:off x="684360" y="3260880"/>
            <a:ext cx="3439800" cy="28461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3059280" y="5778360"/>
            <a:ext cx="5856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 – психолог ОСШГ №2 Жалгасбаева А.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азвания вещей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чатная машинка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терброд с красной икро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шка, живущая в доме 10 л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ое военное фото бабушки и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али деда-фронтовик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ковая шуб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кг конфет «Белоч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802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ность – это все то, что значимо для жизни человека и людей в этом   обществ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а – это стоимость чего – либо, выраженная в денежных единиц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ещи, которые не продаются – они дороги как памя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райнем случае, можно отдать в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4" descr="yuig87y9xbsb6qj5ag9"/>
          <p:cNvPicPr/>
          <p:nvPr/>
        </p:nvPicPr>
        <p:blipFill>
          <a:blip r:embed="rId1"/>
          <a:stretch/>
        </p:blipFill>
        <p:spPr>
          <a:xfrm>
            <a:off x="5651640" y="4363920"/>
            <a:ext cx="3108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Игра «Я – волшебник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Я все могу, я – волшебник, я в вашем доме могу поменять все неживое, но я добрый волшебник, поэтому одну-единственную вещь я могу оставить неизменной. Выбирайте, какую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ещи, которые ребята не поменяли бы никог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288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тографии близких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сьма от матери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еокассеты с записями своего детства и событий из жизни семьи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Picture 4" descr="8029083rain7tu1"/>
          <p:cNvPicPr/>
          <p:nvPr/>
        </p:nvPicPr>
        <p:blipFill>
          <a:blip r:embed="rId1"/>
          <a:stretch/>
        </p:blipFill>
        <p:spPr>
          <a:xfrm>
            <a:off x="6732720" y="4437000"/>
            <a:ext cx="2247840" cy="2203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День матери России"/>
          <p:cNvPicPr/>
          <p:nvPr/>
        </p:nvPicPr>
        <p:blipFill>
          <a:blip r:embed="rId2"/>
          <a:stretch/>
        </p:blipFill>
        <p:spPr>
          <a:xfrm>
            <a:off x="6210360" y="1413000"/>
            <a:ext cx="2933640" cy="1955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Наши ветераны, День Победы, С-Петербург, Росс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581360"/>
            <a:ext cx="31687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дной из стран, неважно в какой, жила одна старушка. Многие годы она ходила с палочкой по пляжу в разгар летнего сезона. Многие люди недоумевали и не понимали, что она ищет в песке, разгребая его палкой. Только спустя годы люди узнали, что в течение многих лет она ходила по пляжу с одной лишь целью – она собирала осколки битого стекла, чтобы взрослые и дети не порани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опросы учащимс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го ли достигла в жизни эта старуш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каков был ее путь по лестнице жизн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ы были ее жизненные ценност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Минута откров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 небольшой отрезок своей жизни вы сделали достаточно много жизненных шагов. Попробуйте определить, какие из них были значимыми, важными, которые вы можете сравнить с поступками старушки, а о каких вам не хотелось бы вспомина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Закончите фраз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успевающий в жизни челове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неудачни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не имеет ….., то он не состоялся.( прожил жизнь зр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имеет….., то он состоя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4" descr="nhl"/>
          <p:cNvPicPr/>
          <p:nvPr/>
        </p:nvPicPr>
        <p:blipFill>
          <a:blip r:embed="rId1"/>
          <a:stretch/>
        </p:blipFill>
        <p:spPr>
          <a:xfrm>
            <a:off x="6012000" y="189000"/>
            <a:ext cx="2954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640720" cy="15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3" name="Picture 4" descr="poki44743"/>
          <p:cNvPicPr/>
          <p:nvPr/>
        </p:nvPicPr>
        <p:blipFill>
          <a:blip r:embed="rId1"/>
          <a:stretch/>
        </p:blipFill>
        <p:spPr>
          <a:xfrm>
            <a:off x="539640" y="3355920"/>
            <a:ext cx="3888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судить с учащимися понятия «ценности», «цена», их буквальное и переносное значение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вать у учащихся умение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мысливать и определять для себя мнимые и истинные цен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-252720" y="33336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ПИГРАФ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Ценности – общее название для мнимых ценностей, имеющих   свою цену, и для ценностей подлинных, которые становятся мнимыми, как только им назначается цен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з книги В.Г. Кротова «Массаж мысл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Picture 15" descr="bcd991807e6d4baf6d5b4c9e0de6726d"/>
          <p:cNvPicPr/>
          <p:nvPr/>
        </p:nvPicPr>
        <p:blipFill>
          <a:blip r:embed="rId1"/>
          <a:stretch/>
        </p:blipFill>
        <p:spPr>
          <a:xfrm>
            <a:off x="6191280" y="4221000"/>
            <a:ext cx="1855800" cy="2222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176633534900000017vw3"/>
          <p:cNvPicPr/>
          <p:nvPr/>
        </p:nvPicPr>
        <p:blipFill>
          <a:blip r:embed="rId2"/>
          <a:stretch/>
        </p:blipFill>
        <p:spPr>
          <a:xfrm>
            <a:off x="468360" y="4492800"/>
            <a:ext cx="3166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58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УСЛОВИЯ ВЕДЕНИЯ ДИАЛОГА: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 неправильных м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один говорит – другие слушаю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то ни к кому не присоединяется. Можно сказать то же самое, но другими слов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ждого человека, маленького и большого, взрослого и ребенка есть удивительная возможность – возможность мечтать. Пока человек живет, он всегда о чем-то мечтает. Иногда его мечты становятся явью, превращаясь в жизненные це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айте представим себе нашу жизнь в виде лестницы, по которой мы идем вверх, в будущее, во взрослую жизнь. Ваше право – выбрать, какой будет ваша лестница, большая или маленькая, из каких ступенек она будет состоять. Вы можете считать, что каждая ступенька – это то, к чему вы стремитесь в вашей жизни и давайте назовем эту лестницу лестницей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нимаясь по лестнице, мы не всегда идем уверенно, можем ошибаться, можем оступиться и даже упасть. В жизни тоже бывает всякое: нас сопровождают болезни, разочарования и даже потери. Наш подъем зависит во многом от того, как мы будем вести себя по отношению к другим людям, которые идут вместе с нами по лестнице: будем толкаться, переступать через кого-то, пропускать вперед, идти ря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айте попробуем подумать над тем, каким будет наше движ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50920" y="260280"/>
          <a:ext cx="8642160" cy="6572160"/>
        </p:xfrm>
        <a:graphic>
          <a:graphicData uri="http://schemas.openxmlformats.org/drawingml/2006/table">
            <a:tbl>
              <a:tblPr/>
              <a:tblGrid>
                <a:gridCol w="423720"/>
                <a:gridCol w="3900600"/>
                <a:gridCol w="431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материальные предметы (шуба, маш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нство – это духовные предметы, или материальные предметы, имеющие ценность для человека или общества (воспоминания, фотографии, письма, произведения искусства и т.д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за пределами человека, независимо от н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в отношении человека к чему-либ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подвергается захвату и насил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льзя захватить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может умереть, но ценности остаются в памя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исчерпаем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еет вещь – цена снижае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 стареет, она неисчерпаема, не сгорает, не тонет и т.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а сохраняет себя (обмен яблоками – у каждого оказалось опять по одном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ность увеличивается (обмен идеями – стало у каждого по дв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всегда заменима (товар – товар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замени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вая ценности, мы все равно отправимся в мир цены: купить краску, кисточку, если ценна картина, или пленку, фотобумагу, если – фотографии близких. Отправившись в мир цены, надо не забыть вернуться в мир ценностей. В мире цены счастлив не будешь. Роскошь развращает. Мы хотим кушать – можно наесться хлебом с солью и все. А нам хочется с семгой, с икрой. Важно не подчинить жизнь культу 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гра «Купи – продай»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пределить, что имеет ценность, а что – це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ловия игры: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 в парах, задача одного – уговорить продать вещь. Другой должен как можно дольше сопротивляться, выдвигая веские аргумен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8:13:38Z</dcterms:created>
  <dc:creator>Евгений</dc:creator>
  <dc:description/>
  <dc:language>en-US</dc:language>
  <cp:lastModifiedBy>ASER</cp:lastModifiedBy>
  <dcterms:modified xsi:type="dcterms:W3CDTF">2015-01-26T11:52:05Z</dcterms:modified>
  <cp:revision>15</cp:revision>
  <dc:subject/>
  <dc:title>Ценности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8000000000001024140</vt:lpwstr>
  </property>
</Properties>
</file>