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11.png" ContentType="image/png"/>
  <Override PartName="/ppt/media/image18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4.gif" ContentType="image/gif"/>
  <Override PartName="/ppt/media/image1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643-157F-47DB-819C-A101F102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9DF-013D-4F1A-BEFB-821E2423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A02-FBB9-4D6E-B6B0-9F87D87B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C16-1A14-45D1-BD74-EABC64AA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C35-229B-4C6A-B4A2-606DF4BB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3DF-64EA-4B21-BCDB-170D6DF4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13E-8C50-40E2-8A60-CD0B3817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310-D933-4144-A938-C9F63B3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6EC-0A39-4B49-A877-CDD0903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F84-6878-45E4-B7B7-87CF0DB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E47-63A0-4BBA-9CF7-DF142A41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850-2A21-4B73-AF4B-F6E2723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3F24-CCB8-4505-A080-A12FAAD1E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433440" y="5334120"/>
            <a:ext cx="8283600" cy="1468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871560" y="1268280"/>
            <a:ext cx="7400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3332"/>
                </a:solidFill>
                <a:latin typeface="Comic Sans MS"/>
              </a:rPr>
              <a:t>Создайте свой алгоритм действий для орф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32"/>
                </a:solidFill>
                <a:latin typeface="Comic Sans MS"/>
              </a:rPr>
              <a:t>«Правописание НЕ с разными частями реч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OI12"/>
          <p:cNvPicPr/>
          <p:nvPr/>
        </p:nvPicPr>
        <p:blipFill>
          <a:blip r:embed="rId1"/>
          <a:stretch/>
        </p:blipFill>
        <p:spPr>
          <a:xfrm>
            <a:off x="7040520" y="4653000"/>
            <a:ext cx="210348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414360" y="291960"/>
            <a:ext cx="8120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MOI2"/>
          <p:cNvPicPr/>
          <p:nvPr/>
        </p:nvPicPr>
        <p:blipFill>
          <a:blip r:embed="rId1"/>
          <a:stretch/>
        </p:blipFill>
        <p:spPr>
          <a:xfrm rot="21301800">
            <a:off x="5996160" y="4363560"/>
            <a:ext cx="1734840" cy="18385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" descr=""/>
          <p:cNvPicPr/>
          <p:nvPr/>
        </p:nvPicPr>
        <p:blipFill>
          <a:blip r:embed="rId2"/>
          <a:stretch/>
        </p:blipFill>
        <p:spPr>
          <a:xfrm>
            <a:off x="-244440" y="2212920"/>
            <a:ext cx="95281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43132"/>
                </a:solidFill>
                <a:latin typeface="Arial"/>
              </a:rPr>
              <a:t>Худшая ошибка, которую можно совершить в жизни, - все время бояться </a:t>
            </a:r>
            <a:br>
              <a:rPr sz="4400"/>
            </a:br>
            <a:r>
              <a:rPr b="0" lang="ru-RU" sz="4400" spc="-1" strike="noStrike">
                <a:solidFill>
                  <a:srgbClr val="143132"/>
                </a:solidFill>
                <a:latin typeface="Arial"/>
              </a:rPr>
              <a:t>совершить ошибку.</a:t>
            </a:r>
            <a:br>
              <a:rPr sz="4400"/>
            </a:br>
            <a:r>
              <a:rPr b="0" lang="ru-RU" sz="4400" spc="-1" strike="noStrike">
                <a:solidFill>
                  <a:srgbClr val="143132"/>
                </a:solidFill>
                <a:latin typeface="Comic Sans MS"/>
              </a:rPr>
              <a:t>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Элберт Хабба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41781_24"/>
          <p:cNvPicPr/>
          <p:nvPr/>
        </p:nvPicPr>
        <p:blipFill>
          <a:blip r:embed="rId1"/>
          <a:stretch/>
        </p:blipFill>
        <p:spPr>
          <a:xfrm>
            <a:off x="250920" y="5407200"/>
            <a:ext cx="1296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Ласковое слово что весе..ий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Сказа..ого не воротишь, потеря..ого не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Ране..ый мечом вылечится, словом - никог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Что написа..о пером, не вырубишь топо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0044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442"/>
                </a:solidFill>
                <a:latin typeface="Times New Roman"/>
              </a:rPr>
              <a:t>Много говоре..о, да мало сдела..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WordArt 4" descr=""/>
          <p:cNvPicPr/>
          <p:nvPr/>
        </p:nvPicPr>
        <p:blipFill>
          <a:blip r:embed="rId1"/>
          <a:stretch/>
        </p:blipFill>
        <p:spPr>
          <a:xfrm>
            <a:off x="165240" y="2030400"/>
            <a:ext cx="8845560" cy="2554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152280"/>
            <a:ext cx="7096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Ласковое слово что весе..ий д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Сказа..ого не воротишь, потеря..ого не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Ране..ый мечом вылечится, словом - никог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Что написа..о пером, не вырубишь топо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001"/>
              </a:spcBef>
              <a:buClr>
                <a:srgbClr val="14313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3132"/>
                </a:solidFill>
                <a:latin typeface="Times New Roman"/>
              </a:rPr>
              <a:t>Много говоре..о, да мало сдела..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thinking2_zps8b626111"/>
          <p:cNvPicPr/>
          <p:nvPr/>
        </p:nvPicPr>
        <p:blipFill>
          <a:blip r:embed="rId1"/>
          <a:stretch/>
        </p:blipFill>
        <p:spPr>
          <a:xfrm>
            <a:off x="7881840" y="5189400"/>
            <a:ext cx="1324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9640" y="692280"/>
          <a:ext cx="8209080" cy="4537080"/>
        </p:xfrm>
        <a:graphic>
          <a:graphicData uri="http://schemas.openxmlformats.org/drawingml/2006/table">
            <a:tbl>
              <a:tblPr/>
              <a:tblGrid>
                <a:gridCol w="3051360"/>
                <a:gridCol w="5157720"/>
              </a:tblGrid>
              <a:tr h="90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Н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2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исан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ворен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елан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енний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анног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ерянног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ненный мечо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6"/>
          <p:cNvGrpSpPr/>
          <p:nvPr/>
        </p:nvGrpSpPr>
        <p:grpSpPr>
          <a:xfrm>
            <a:off x="755640" y="4179960"/>
            <a:ext cx="3421080" cy="2292120"/>
            <a:chOff x="755640" y="4179960"/>
            <a:chExt cx="3421080" cy="2292120"/>
          </a:xfrm>
        </p:grpSpPr>
        <p:pic>
          <p:nvPicPr>
            <p:cNvPr id="52" name="Picture 7" descr="E:\вязаный шарф.jpeg"/>
            <p:cNvPicPr/>
            <p:nvPr/>
          </p:nvPicPr>
          <p:blipFill>
            <a:blip r:embed="rId1"/>
            <a:stretch/>
          </p:blipFill>
          <p:spPr>
            <a:xfrm>
              <a:off x="1106640" y="4179960"/>
              <a:ext cx="284940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Заголовок 2"/>
            <p:cNvSpPr/>
            <p:nvPr/>
          </p:nvSpPr>
          <p:spPr>
            <a:xfrm>
              <a:off x="755640" y="5873760"/>
              <a:ext cx="3421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вяза..ый шар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5"/>
          <p:cNvGrpSpPr/>
          <p:nvPr/>
        </p:nvGrpSpPr>
        <p:grpSpPr>
          <a:xfrm>
            <a:off x="4176720" y="1622520"/>
            <a:ext cx="3743280" cy="2398680"/>
            <a:chOff x="4176720" y="1622520"/>
            <a:chExt cx="3743280" cy="2398680"/>
          </a:xfrm>
        </p:grpSpPr>
        <p:pic>
          <p:nvPicPr>
            <p:cNvPr id="55" name="Picture 9" descr="E:\шнурованный.jpg"/>
            <p:cNvPicPr/>
            <p:nvPr/>
          </p:nvPicPr>
          <p:blipFill>
            <a:blip r:embed="rId2"/>
            <a:stretch/>
          </p:blipFill>
          <p:spPr>
            <a:xfrm>
              <a:off x="4542480" y="1622520"/>
              <a:ext cx="30819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Заголовок 2"/>
            <p:cNvSpPr/>
            <p:nvPr/>
          </p:nvSpPr>
          <p:spPr>
            <a:xfrm>
              <a:off x="4176720" y="3419640"/>
              <a:ext cx="3743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шнурова..ый ботин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7"/>
          <p:cNvGrpSpPr/>
          <p:nvPr/>
        </p:nvGrpSpPr>
        <p:grpSpPr>
          <a:xfrm>
            <a:off x="4356000" y="4211640"/>
            <a:ext cx="3384720" cy="2301840"/>
            <a:chOff x="4356000" y="4211640"/>
            <a:chExt cx="3384720" cy="2301840"/>
          </a:xfrm>
        </p:grpSpPr>
        <p:pic>
          <p:nvPicPr>
            <p:cNvPr id="58" name="Picture 8" descr="E:\засушенный.jpg"/>
            <p:cNvPicPr/>
            <p:nvPr/>
          </p:nvPicPr>
          <p:blipFill>
            <a:blip r:embed="rId3"/>
            <a:stretch/>
          </p:blipFill>
          <p:spPr>
            <a:xfrm>
              <a:off x="4568760" y="4211640"/>
              <a:ext cx="3056400" cy="229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Заголовок 2"/>
            <p:cNvSpPr/>
            <p:nvPr/>
          </p:nvSpPr>
          <p:spPr>
            <a:xfrm>
              <a:off x="4356000" y="5937480"/>
              <a:ext cx="338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Arial"/>
                </a:rPr>
                <a:t>засуше...ый цвето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8" descr=""/>
          <p:cNvPicPr/>
          <p:nvPr/>
        </p:nvPicPr>
        <p:blipFill>
          <a:blip r:embed="rId4"/>
          <a:stretch/>
        </p:blipFill>
        <p:spPr>
          <a:xfrm>
            <a:off x="995400" y="1622520"/>
            <a:ext cx="302904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7680" y="5786280"/>
            <a:ext cx="706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3"/>
          <p:cNvSpPr/>
          <p:nvPr/>
        </p:nvSpPr>
        <p:spPr>
          <a:xfrm>
            <a:off x="6303960" y="3100320"/>
            <a:ext cx="644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3"/>
          <p:cNvSpPr/>
          <p:nvPr/>
        </p:nvSpPr>
        <p:spPr>
          <a:xfrm>
            <a:off x="1782720" y="5786280"/>
            <a:ext cx="514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3"/>
          <p:cNvSpPr/>
          <p:nvPr/>
        </p:nvSpPr>
        <p:spPr>
          <a:xfrm>
            <a:off x="1947960" y="3419640"/>
            <a:ext cx="514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" descr=""/>
          <p:cNvPicPr/>
          <p:nvPr/>
        </p:nvPicPr>
        <p:blipFill>
          <a:blip r:embed="rId5"/>
          <a:stretch/>
        </p:blipFill>
        <p:spPr>
          <a:xfrm>
            <a:off x="1109520" y="19080"/>
            <a:ext cx="6516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2360" y="980640"/>
            <a:ext cx="7859880" cy="51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43132"/>
                </a:solidFill>
                <a:latin typeface="Arial"/>
              </a:rPr>
              <a:t>Заживает рана, нанесёная стрелой, вновь поднимается лес, вырубленный топором, но не заживает рана, причинёная злым слов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765000"/>
            <a:ext cx="730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3403440" y="4437000"/>
            <a:ext cx="297000" cy="360360"/>
          </a:xfrm>
          <a:prstGeom prst="wedgeRectCallout">
            <a:avLst>
              <a:gd name="adj1" fmla="val 4212"/>
              <a:gd name="adj2" fmla="val 11359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7400880" y="1441440"/>
            <a:ext cx="358920" cy="431640"/>
          </a:xfrm>
          <a:prstGeom prst="wedgeRectCallout">
            <a:avLst>
              <a:gd name="adj1" fmla="val -46046"/>
              <a:gd name="adj2" fmla="val 123064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011240" y="133200"/>
            <a:ext cx="694368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1844640"/>
            <a:ext cx="583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e464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я узна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e464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я поня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e464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1e4649"/>
                </a:solidFill>
                <a:latin typeface="Comic Sans MS"/>
              </a:rPr>
              <a:t>теперь я могу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OI7"/>
          <p:cNvPicPr/>
          <p:nvPr/>
        </p:nvPicPr>
        <p:blipFill>
          <a:blip r:embed="rId1"/>
          <a:stretch/>
        </p:blipFill>
        <p:spPr>
          <a:xfrm>
            <a:off x="6948360" y="4005360"/>
            <a:ext cx="1835280" cy="22939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609480" y="122400"/>
            <a:ext cx="81741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5:50:33Z</dcterms:created>
  <dc:creator>123</dc:creator>
  <dc:description/>
  <dc:language>en-US</dc:language>
  <cp:lastModifiedBy>Ученик</cp:lastModifiedBy>
  <dcterms:modified xsi:type="dcterms:W3CDTF">2015-01-21T09:22:40Z</dcterms:modified>
  <cp:revision>56</cp:revision>
  <dc:subject/>
  <dc:title>Слайд 1</dc:title>
</cp:coreProperties>
</file>