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649-4AF6-403D-A80E-E08C76A3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3D3F-8E19-4070-A927-1F0BBC47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FE1-7973-4D90-8E7B-2AB33295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9ED-500E-4F57-BC83-99B12DE1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C1C4-E04F-4350-B16B-2EFEE265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EC0C-0FB7-4F1B-92FD-C78DAA25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A620-BCE6-49A3-9B48-B876264C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5580-66C0-4837-B1B9-011A2BFE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10FF-0CF6-4376-AA1D-990789D4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1579-9472-480A-AD4A-03B33D28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9993-C5B2-4BFA-9B49-4E7956A3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8E58-4C99-41CF-AABA-876FEDA1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5606-C09C-4333-89F7-A26A0468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FD29-559A-4027-8C3B-44B3736B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3877-BA38-4467-9023-49D2A666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2864-BB17-4BE0-BA53-1EEAC050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DD20-E561-4084-A52A-37237569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07D-A58E-443A-A2D2-EEE99D2C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D88-C5DC-4393-ABFB-B4235703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8E0E-187F-4F30-AFDD-4C315B58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6C2C-3A14-4610-8948-05B552C7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B14-3BC5-4E34-B33F-5B3D63F9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E022-2C9E-429D-B89E-45D4D783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D3A-119A-42FD-9DF0-2BBE5BF4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F51A-009B-4202-AE0D-85EE1E21F6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E650-102C-4FE9-906A-5CE1BAF2E9D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c4c3aa"/>
                </a:solidFill>
                <a:latin typeface="Arial"/>
              </a:rPr>
              <a:t>Великие сыны России</a:t>
            </a:r>
            <a:endParaRPr b="0" lang="en-US" sz="7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7280" y="3886200"/>
            <a:ext cx="4321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полнила: заместитель директора по воспитательной работ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ОУ «СОШ № 2 п. Переволоцкий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Чернышова О.Б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c3aa"/>
                </a:solidFill>
                <a:latin typeface="Arial"/>
              </a:rPr>
              <a:t>РОТА УХОДИТ НА НЕБО…</a:t>
            </a: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Шестая десантная рота - такие, выходит, дела -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не вышла из боя-похода, почти целиком полегла…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Всего три отчаянных взвода - заплачут родные, скорбя -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шестая десантная рота удар приняла на себя!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Залитые кровью, бесстрашно, врага повергая в кошмар,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сходились в упор в рукопашной с толпою, орущей: "Акбар!"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Простите нас всех, ради Бога! "Шестая, еще подержись!.."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Ты поздно пробилась, подмога, всего задержалась… на жизнь.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Войны моментальное фото, Россия, герои твои,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шестая десантная рота - ребята единой семьи…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Какими посмотрят глазами, узнав, что сынок их убит?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Заплачут в калугах-рязанях солдатские мамы навзрыд.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Белугой реветь мне охота, ладони прижав у висков: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шестая десантная рота, посмертно вернешься ты в Псков!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А я не найду себе места, оплакав их кровью стихов…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Вовек не оплакать невестам погибших в огне женихов!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Жгут строчки - рукою не взяться, нет горя отныне больней…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Довольно победных реляций - Верните живых сыновей!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Крылатого войска пехота, расклад, неподвластный уму: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шестая десантная рота - по двадцать врагов - одному!..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Былинного подвига нота, от города и до сельца…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Шестая десантная рота - не вырвался враг из кольца!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Из боя вернись и похода, покинув село Улус-Керт…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Шестая десантная рота в последнем застыла броске!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… Увижу, когда распогодит: развернут простреленный стяг,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и рота на небо уходит, чеканя в бессмертие шаг…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02"/>
          <p:cNvSpPr/>
          <p:nvPr/>
        </p:nvSpPr>
        <p:spPr>
          <a:xfrm>
            <a:off x="1116000" y="549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росок на Гор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7" name="Picture 403" descr="фото 2"/>
          <p:cNvPicPr/>
          <p:nvPr/>
        </p:nvPicPr>
        <p:blipFill>
          <a:blip r:embed="rId1"/>
          <a:stretch/>
        </p:blipFill>
        <p:spPr>
          <a:xfrm>
            <a:off x="468360" y="1341360"/>
            <a:ext cx="2284200" cy="1827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04" descr="фото4"/>
          <p:cNvPicPr/>
          <p:nvPr/>
        </p:nvPicPr>
        <p:blipFill>
          <a:blip r:embed="rId2"/>
          <a:stretch/>
        </p:blipFill>
        <p:spPr>
          <a:xfrm>
            <a:off x="4643280" y="1413000"/>
            <a:ext cx="2638440" cy="17478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05" descr="фото 1"/>
          <p:cNvPicPr/>
          <p:nvPr/>
        </p:nvPicPr>
        <p:blipFill>
          <a:blip r:embed="rId3"/>
          <a:stretch/>
        </p:blipFill>
        <p:spPr>
          <a:xfrm>
            <a:off x="2340000" y="3789360"/>
            <a:ext cx="2303280" cy="184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06" descr="фото6"/>
          <p:cNvPicPr/>
          <p:nvPr/>
        </p:nvPicPr>
        <p:blipFill>
          <a:blip r:embed="rId4"/>
          <a:stretch/>
        </p:blipFill>
        <p:spPr>
          <a:xfrm>
            <a:off x="6443640" y="3687840"/>
            <a:ext cx="230508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Бросок на Гор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62" name="Picture 5" descr="фото 3"/>
          <p:cNvPicPr/>
          <p:nvPr/>
        </p:nvPicPr>
        <p:blipFill>
          <a:blip r:embed="rId1"/>
          <a:stretch/>
        </p:blipFill>
        <p:spPr>
          <a:xfrm>
            <a:off x="468360" y="1341360"/>
            <a:ext cx="2305080" cy="18432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фото 1"/>
          <p:cNvPicPr/>
          <p:nvPr/>
        </p:nvPicPr>
        <p:blipFill>
          <a:blip r:embed="rId2"/>
          <a:stretch/>
        </p:blipFill>
        <p:spPr>
          <a:xfrm>
            <a:off x="6300720" y="4508640"/>
            <a:ext cx="2303640" cy="1842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фото4"/>
          <p:cNvPicPr/>
          <p:nvPr/>
        </p:nvPicPr>
        <p:blipFill>
          <a:blip r:embed="rId3"/>
          <a:stretch/>
        </p:blipFill>
        <p:spPr>
          <a:xfrm>
            <a:off x="3276720" y="2637000"/>
            <a:ext cx="2447640" cy="195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" descr="фото7"/>
          <p:cNvPicPr/>
          <p:nvPr/>
        </p:nvPicPr>
        <p:blipFill>
          <a:blip r:embed="rId4"/>
          <a:stretch/>
        </p:blipFill>
        <p:spPr>
          <a:xfrm>
            <a:off x="6443640" y="1268280"/>
            <a:ext cx="2376360" cy="19018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фото"/>
          <p:cNvPicPr/>
          <p:nvPr/>
        </p:nvPicPr>
        <p:blipFill>
          <a:blip r:embed="rId5"/>
          <a:stretch/>
        </p:blipFill>
        <p:spPr>
          <a:xfrm>
            <a:off x="539640" y="4581360"/>
            <a:ext cx="2160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«Солдат войну не выбирает»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У каждого своя война,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вои победы, пораженья,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вои успехи и лишенья.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тезя огнем обожжена.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Без боя, видно, не пройти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К тому заветному ковчегу,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Где Альфы переход в Омегу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Венчает таинство Пути.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И кружит в зареве инь-янь,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Небесный гром, как залп орудий,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Останки вечности не судят,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Мир - это скрытых мыслей бран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Конкурс чтецов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Время героев обычно ты кажешься прошлы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Главные битвы приходят из книг и кино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Главные даты отлиты в газетные строки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Главные судьбы историей стали давн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Время героев, по самому высшему прав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Ты подарило далеким и близким года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Доблесть и славу, и долгую добрую памя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Время героев, а что ты оставило нам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Ты нам оставило ясное небо Отчизны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Дом и дорогу, и ласковый хлеб на столе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Ты нам оставило самое главное в жизни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Радость работы на мирной, счастливой земл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Конкурс чтецов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* * 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Присягаешь на верность Отечеству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Исполняешь свой воинский дол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От беды защитить человечество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Наступил неизбежно твой сро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День присяги торжественно – строг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Офицер помнит и рядов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Пусть солдатские ваши дорог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Неизменно приводят до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Конкурс чтецов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Дается жизнь один лишь раз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И мой ты выполни наказ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Богатство, жизнь ее беречь, лелеять над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Горьких встреч, быть может, ты не избежиш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Но коль ты жизнью дорожиш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Превозмогай все на пути, и шанса жить не упу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Но если завтра вдруг война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Отдай свой долг, сынок, сполна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Страну, солдатик, защи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И встань у смерти на пу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Викторина о школьной жизн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гда начала  работу в новом здании Переволоцкая средняя школа №2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то был первым директором ПСШ №2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зовите имена выпускников нашей школы, окончивших её с золотыми и серебряными медалями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то из выпускников СОШ №2 сегодня работает в своей школе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колько выпусков было у школы №2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зовите имена учителей – фронтовиков школы №2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гда директором стал Бунин С. В.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зовите учительские династии школ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Кто из выпускников школы имеет высокие правительственные награды и звания? За какие заслуги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то из педагогов принимал участие в конкурсах педагогического мастерства? Каких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то из сегодняшних учащихся школы имеют призовые места на районных и областных конкурсах, олимпиадах, соревнованиях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то из учащихся школы награждались премией главы администрации района?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зовите имена выпускников школы, принимавших участие в антитеррористической компании в Чеченской республик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зовите имена выпускников школы, принимавших участие в Афганской войне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гда? Почему на здании нашей школы были установлены памятные мемориальные доски выпускникам школы? Кому? Почему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 каком виде соревнований учащиеся нашей школы на протяжении многих лет занимали призовые места не только на уровне района, но и на уровне области и даже России?  Назовите имена призёров областных и всероссийских соревновани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каком году был самый «золотой» выпуск? Сколько золотых и серебряных медалей было вручено на выпускном вечере? Кому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Мы призываем вас активно участвовать в судьбе своей Родины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Быть отважными, смелыми, без вредных привычек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Брать пример с наших выпускников, как Красов Андрей Леонидович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Высказывания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Для воевавших война никогда не кончается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Курцио Малапарте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Человека можно уничтожить, но нельзя победить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Эрнест Хеменгуэй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Мир – добродетель цивилизации, война – ее преступление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Виктор Гюго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Разум человека – это просто разум. Разум Человечества – это мир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Роберт Рождественский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Каково бы ни было наше сегодня, мир – это наше завтра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То ли мед, то ли горькая чаш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То ли адский огонь, то ли храм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Все, что было его, - нынче ваш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Все для вас. Посвящается ва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(Б. Окуджав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Красов Андрей Леонидович Герой России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6" name="Picture 4" descr="Красов"/>
          <p:cNvPicPr/>
          <p:nvPr/>
        </p:nvPicPr>
        <p:blipFill>
          <a:blip r:embed="rId1"/>
          <a:stretch/>
        </p:blipFill>
        <p:spPr>
          <a:xfrm>
            <a:off x="611280" y="1687680"/>
            <a:ext cx="763272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4c3a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4c3aa"/>
                </a:solidFill>
                <a:latin typeface="Arial"/>
              </a:rPr>
              <a:t>«За смелые и решительные действия в ходе проведения миротворческой операции» в Южной Осетии в августе 2008 года полковнику Красову А.Л. Указом Президента Российской Федерации от 5 сентября 2008 года было присвоено звание Героя Российской Федерации</a:t>
            </a: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8" name="Picture 5" descr="Красов 2"/>
          <p:cNvPicPr/>
          <p:nvPr/>
        </p:nvPicPr>
        <p:blipFill>
          <a:blip r:embed="rId1"/>
          <a:stretch/>
        </p:blipFill>
        <p:spPr>
          <a:xfrm>
            <a:off x="1258920" y="1684440"/>
            <a:ext cx="662616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Выпускник МОУ «СОШ № 2 п. Переволоцкий»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0" name="Picture 4" descr="Красов"/>
          <p:cNvPicPr/>
          <p:nvPr/>
        </p:nvPicPr>
        <p:blipFill>
          <a:blip r:embed="rId1"/>
          <a:stretch/>
        </p:blipFill>
        <p:spPr>
          <a:xfrm>
            <a:off x="1332000" y="1617840"/>
            <a:ext cx="6840360" cy="513072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5"/>
          <p:cNvSpPr/>
          <p:nvPr/>
        </p:nvSpPr>
        <p:spPr>
          <a:xfrm>
            <a:off x="971640" y="623736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стреча с учащимися школ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Из жизни Героя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3" name="Picture 4" descr="_MG_2420"/>
          <p:cNvPicPr/>
          <p:nvPr/>
        </p:nvPicPr>
        <p:blipFill>
          <a:blip r:embed="rId1"/>
          <a:stretch/>
        </p:blipFill>
        <p:spPr>
          <a:xfrm>
            <a:off x="0" y="1197000"/>
            <a:ext cx="4824360" cy="3216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_MG_2699"/>
          <p:cNvPicPr/>
          <p:nvPr/>
        </p:nvPicPr>
        <p:blipFill>
          <a:blip r:embed="rId2"/>
          <a:stretch/>
        </p:blipFill>
        <p:spPr>
          <a:xfrm>
            <a:off x="4356000" y="3664080"/>
            <a:ext cx="47880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В гостях Герой России </a:t>
            </a:r>
            <a:br>
              <a:rPr sz="4000"/>
            </a:b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Мустафин Раис Рауфович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6" name="Picture 5" descr="DSC00305"/>
          <p:cNvPicPr/>
          <p:nvPr/>
        </p:nvPicPr>
        <p:blipFill>
          <a:blip r:embed="rId1"/>
          <a:stretch/>
        </p:blipFill>
        <p:spPr>
          <a:xfrm>
            <a:off x="250920" y="1557360"/>
            <a:ext cx="4170240" cy="3129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DSC00304"/>
          <p:cNvPicPr/>
          <p:nvPr/>
        </p:nvPicPr>
        <p:blipFill>
          <a:blip r:embed="rId2"/>
          <a:stretch/>
        </p:blipFill>
        <p:spPr>
          <a:xfrm>
            <a:off x="4643280" y="3500280"/>
            <a:ext cx="4211640" cy="31593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7"/>
          <p:cNvSpPr/>
          <p:nvPr/>
        </p:nvSpPr>
        <p:spPr>
          <a:xfrm>
            <a:off x="250920" y="515772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крытие мемориальных досок погибшим выпускникам в чеченской компан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Афганская войн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0" name="Picture 4" descr="P2140012"/>
          <p:cNvPicPr/>
          <p:nvPr/>
        </p:nvPicPr>
        <p:blipFill>
          <a:blip r:embed="rId1"/>
          <a:stretch/>
        </p:blipFill>
        <p:spPr>
          <a:xfrm>
            <a:off x="250920" y="1197000"/>
            <a:ext cx="4833720" cy="36259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P2140021"/>
          <p:cNvPicPr/>
          <p:nvPr/>
        </p:nvPicPr>
        <p:blipFill>
          <a:blip r:embed="rId2"/>
          <a:stretch/>
        </p:blipFill>
        <p:spPr>
          <a:xfrm>
            <a:off x="4643280" y="3573360"/>
            <a:ext cx="4042080" cy="30304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6"/>
          <p:cNvSpPr/>
          <p:nvPr/>
        </p:nvSpPr>
        <p:spPr>
          <a:xfrm>
            <a:off x="5292720" y="1557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5435640" y="1628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стречи с учащимися школы на уроках мужеств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6:41:54Z</dcterms:created>
  <dc:creator>Admin</dc:creator>
  <dc:description/>
  <dc:language>en-US</dc:language>
  <cp:lastModifiedBy>user</cp:lastModifiedBy>
  <dcterms:modified xsi:type="dcterms:W3CDTF">2015-01-26T04:21:24Z</dcterms:modified>
  <cp:revision>6</cp:revision>
  <dc:subject/>
  <dc:title>Великие сыны России</dc:title>
</cp:coreProperties>
</file>