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B0D-3304-4200-A0E0-A5E07A78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112-82D5-4074-8CB3-78C19CB5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C16-1434-48A1-A8ED-A050A5DC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4C9-BE68-4712-9A45-DB36D503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8765-23C9-47E0-9EA5-128E89F1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BD2F-7188-4F59-A880-0D5C5177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921A-1ACA-460E-ABC9-381CB60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448-5D30-4C4D-BB7D-E79F753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540A-5671-4167-B770-32313C2A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B504-EEB6-4C6C-8F30-171A1ECF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D31-C99D-4C69-8AA8-E38EB77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521-685A-460E-ACBC-DE2E4175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51D7-8296-4F18-A38E-587D21F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980B-DBD5-480C-BF2A-35E4BF08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89BE-6817-49D5-AD61-88141BA0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778F-6BBF-4EC6-AF3F-19BE5D54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8773-4540-4056-ADCA-D9410DC0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40F-D0EF-42AD-9C09-BB679168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18D-0F52-49F8-891D-A1E27758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413-4840-4E7E-AD4B-1C68FB75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CC2-63DA-437B-A437-D61A6183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CE3-A7C7-411D-9A02-0BD3EF87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8A8-13A9-45DE-A9E1-066162EB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8FE-1AEB-473D-B084-ABF21C3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5847-C604-42B8-9D49-A97A9350AE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3773-20C6-4986-B17C-6073EB9D49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c4c3aa"/>
                </a:solidFill>
                <a:latin typeface="Arial"/>
              </a:rPr>
              <a:t>Великие сыны России</a:t>
            </a:r>
            <a:endParaRPr b="0" lang="en-US" sz="7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427280" y="3886200"/>
            <a:ext cx="432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ила: заместитель директора по воспитательной работ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У «СОШ № 2 п. Переволоцкий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ернышова О.Б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c3aa"/>
                </a:solidFill>
                <a:latin typeface="Arial"/>
              </a:rPr>
              <a:t>РОТА УХОДИТ НА НЕБО…</a:t>
            </a: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- такие, выходит, дела -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не вышла из боя-похода, почти целиком полегла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Всего три отчаянных взвода - заплачут родные, скорбя -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удар приняла на себя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Залитые кровью, бесстрашно, врага повергая в кошмар,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сходились в упор в рукопашной с толпою, орущей: "Акбар!"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Простите нас всех, ради Бога! "Шестая, еще подержись!.."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Ты поздно пробилась, подмога, всего задержалась… на жизнь.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Войны моментальное фото, Россия, герои твои,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- ребята единой семьи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Какими посмотрят глазами, узнав, что сынок их убит?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Заплачут в калугах-рязанях солдатские мамы навзрыд.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Белугой реветь мне охота, ладони прижав у висков: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, посмертно вернешься ты в Псков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А я не найду себе места, оплакав их кровью стихов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Вовек не оплакать невестам погибших в огне женихов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Жгут строчки - рукою не взяться, нет горя отныне больней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Довольно победных реляций - Верните живых сыновей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Крылатого войска пехота, расклад, неподвластный уму: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- по двадцать врагов - одному!..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Былинного подвига нота, от города и до сельца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- не вырвался враг из кольца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Из боя вернись и похода, покинув село Улус-Керт…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Шестая десантная рота в последнем застыла броске!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… Увижу, когда распогодит: развернут простреленный стяг,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Verdana"/>
              </a:rPr>
              <a:t>и рота на небо уходит, чеканя в бессмертие шаг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02"/>
          <p:cNvSpPr/>
          <p:nvPr/>
        </p:nvSpPr>
        <p:spPr>
          <a:xfrm>
            <a:off x="1116000" y="549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росок на Гор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Picture 403" descr="фото 2"/>
          <p:cNvPicPr/>
          <p:nvPr/>
        </p:nvPicPr>
        <p:blipFill>
          <a:blip r:embed="rId1"/>
          <a:stretch/>
        </p:blipFill>
        <p:spPr>
          <a:xfrm>
            <a:off x="468360" y="1341360"/>
            <a:ext cx="2284200" cy="1827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04" descr="фото4"/>
          <p:cNvPicPr/>
          <p:nvPr/>
        </p:nvPicPr>
        <p:blipFill>
          <a:blip r:embed="rId2"/>
          <a:stretch/>
        </p:blipFill>
        <p:spPr>
          <a:xfrm>
            <a:off x="4643280" y="1413000"/>
            <a:ext cx="2638440" cy="1747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05" descr="фото 1"/>
          <p:cNvPicPr/>
          <p:nvPr/>
        </p:nvPicPr>
        <p:blipFill>
          <a:blip r:embed="rId3"/>
          <a:stretch/>
        </p:blipFill>
        <p:spPr>
          <a:xfrm>
            <a:off x="2340000" y="3789360"/>
            <a:ext cx="2303280" cy="184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06" descr="фото6"/>
          <p:cNvPicPr/>
          <p:nvPr/>
        </p:nvPicPr>
        <p:blipFill>
          <a:blip r:embed="rId4"/>
          <a:stretch/>
        </p:blipFill>
        <p:spPr>
          <a:xfrm>
            <a:off x="6443640" y="3687840"/>
            <a:ext cx="230508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Бросок на Гор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2" name="Picture 5" descr="фото 3"/>
          <p:cNvPicPr/>
          <p:nvPr/>
        </p:nvPicPr>
        <p:blipFill>
          <a:blip r:embed="rId1"/>
          <a:stretch/>
        </p:blipFill>
        <p:spPr>
          <a:xfrm>
            <a:off x="468360" y="1341360"/>
            <a:ext cx="2305080" cy="1843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фото 1"/>
          <p:cNvPicPr/>
          <p:nvPr/>
        </p:nvPicPr>
        <p:blipFill>
          <a:blip r:embed="rId2"/>
          <a:stretch/>
        </p:blipFill>
        <p:spPr>
          <a:xfrm>
            <a:off x="6300720" y="4508640"/>
            <a:ext cx="2303640" cy="1842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фото4"/>
          <p:cNvPicPr/>
          <p:nvPr/>
        </p:nvPicPr>
        <p:blipFill>
          <a:blip r:embed="rId3"/>
          <a:stretch/>
        </p:blipFill>
        <p:spPr>
          <a:xfrm>
            <a:off x="3276720" y="2637000"/>
            <a:ext cx="2447640" cy="195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фото7"/>
          <p:cNvPicPr/>
          <p:nvPr/>
        </p:nvPicPr>
        <p:blipFill>
          <a:blip r:embed="rId4"/>
          <a:stretch/>
        </p:blipFill>
        <p:spPr>
          <a:xfrm>
            <a:off x="6443640" y="1268280"/>
            <a:ext cx="2376360" cy="19018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фото"/>
          <p:cNvPicPr/>
          <p:nvPr/>
        </p:nvPicPr>
        <p:blipFill>
          <a:blip r:embed="rId5"/>
          <a:stretch/>
        </p:blipFill>
        <p:spPr>
          <a:xfrm>
            <a:off x="539640" y="4581360"/>
            <a:ext cx="2160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«Солдат войну не выбирает»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У каждого своя война,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вои победы, пораженья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вои успехи и лишенья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тезя огнем обожжена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ез боя, видно, не пройти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К тому заветному ковчегу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де Альфы переход в Омегу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Венчает таинство Пути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 кружит в зареве инь-янь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Небесный гром, как залп орудий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Останки вечности не судят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ир - это скрытых мыслей бран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онкурс чтецов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ремя героев обычно ты кажешься прошлы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лавные битвы приходят из книг и кино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лавные даты отлиты в газетные строк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лавные судьбы историей стали давн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ремя героев, по самому высшему прав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ы подарило далеким и близким год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облесть и славу, и долгую добрую памя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ремя героев, а что ты оставило нам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ы нам оставило ясное небо Отчизн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ом и дорогу, и ласковый хлеб на столе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ы нам оставило самое главное в жизни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Радость работы на мирной, счастливой земл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онкурс чтецов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рисягаешь на верность Отечеству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сполняешь свой воинский дол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От беды защитить человечество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Наступил неизбежно твой ср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День присяги торжественно – строг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Офицер помнит и рядов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усть солдатские ваши дорог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Неизменно приводят до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Конкурс чтецов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ается жизнь один лишь раз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И мой ты выполни наказ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Богатство, жизнь ее беречь, лелеять над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орьких встреч, быть может, ты не избежиш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Но коль ты жизнью дорожиш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Превозмогай все на пути, и шанса жить не упу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Но если завтра вдруг вой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Отдай свой долг, сынок, спол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Страну, солдатик, защи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И встань у смерти на пу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Викторина о школьной жизн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гда начала  работу в новом здании Переволоцкая средняя школа №2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был первым директором ПСШ №2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имена выпускников нашей школы, окончивших её с золотыми и серебряными медалям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выпускников СОШ №2 сегодня работает в своей школе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колько выпусков было у школы №2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имена учителей – фронтовиков школы №2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гда директором стал Бунин С. В.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учительские династии школ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Кто из выпускников школы имеет высокие правительственные награды и звания? За какие заслуги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педагогов принимал участие в конкурсах педагогического мастерства? Каких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сегодняшних учащихся школы имеют призовые места на районных и областных конкурсах, олимпиадах, соревнованиях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учащихся школы награждались премией главы администрации района?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имена выпускников школы, принимавших участие в антитеррористической компании в Чеченской республик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зовите имена выпускников школы, принимавших участие в Афганской войне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гда? Почему на здании нашей школы были установлены памятные мемориальные доски выпускникам школы? Кому? Почему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 каком виде соревнований учащиеся нашей школы на протяжении многих лет занимали призовые места не только на уровне района, но и на уровне области и даже России?  Назовите имена призёров областных и всероссийских соревновани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каком году был самый «золотой» выпуск? Сколько золотых и серебряных медалей было вручено на выпускном вечере? Кому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Мы призываем вас активно участвовать в судьбе своей Родины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ыть отважными, смелыми, без вредных привычек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рать пример с наших выпускников, как Красов Андрей Леонидови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Высказыван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Для воевавших война никогда не кончаетс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Курцио Малапарт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Человека можно уничтожить, но нельзя победить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Эрнест Хеменгуэ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ир – добродетель цивилизации, война – ее преступление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иктор Гюго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азум человека – это просто разум. Разум Человечества – это мир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оберт Рождественский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Каково бы ни было наше сегодня, мир – это наше завтра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 ли мед, то ли горькая чаш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 ли адский огонь, то ли храм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се, что было его, - нынче ваш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се для вас. Посвящается ва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Б. Окуджав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Красов Андрей Леонидович Герой Росс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6" name="Picture 4" descr="Красов"/>
          <p:cNvPicPr/>
          <p:nvPr/>
        </p:nvPicPr>
        <p:blipFill>
          <a:blip r:embed="rId1"/>
          <a:stretch/>
        </p:blipFill>
        <p:spPr>
          <a:xfrm>
            <a:off x="611280" y="1687680"/>
            <a:ext cx="76327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4c3aa"/>
                </a:solidFill>
                <a:latin typeface="Arial"/>
              </a:rPr>
              <a:t>«За смелые и решительные действия в ходе проведения миротворческой операции» в Южной Осетии в августе 2008 года полковнику Красову А.Л. Указом Президента Российской Федерации от 5 сентября 2008 года было присвоено звание Героя Российской Федерации</a:t>
            </a: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8" name="Picture 5" descr="Красов 2"/>
          <p:cNvPicPr/>
          <p:nvPr/>
        </p:nvPicPr>
        <p:blipFill>
          <a:blip r:embed="rId1"/>
          <a:stretch/>
        </p:blipFill>
        <p:spPr>
          <a:xfrm>
            <a:off x="1258920" y="1684440"/>
            <a:ext cx="66261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ыпускник МОУ «СОШ № 2 п. Переволоцкий»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0" name="Picture 4" descr="Красов"/>
          <p:cNvPicPr/>
          <p:nvPr/>
        </p:nvPicPr>
        <p:blipFill>
          <a:blip r:embed="rId1"/>
          <a:stretch/>
        </p:blipFill>
        <p:spPr>
          <a:xfrm>
            <a:off x="1332000" y="1617840"/>
            <a:ext cx="6840360" cy="51307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971640" y="6237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реча с учащимися школ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з жизни Геро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3" name="Picture 4" descr="_MG_2420"/>
          <p:cNvPicPr/>
          <p:nvPr/>
        </p:nvPicPr>
        <p:blipFill>
          <a:blip r:embed="rId1"/>
          <a:stretch/>
        </p:blipFill>
        <p:spPr>
          <a:xfrm>
            <a:off x="0" y="1197000"/>
            <a:ext cx="4824360" cy="321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_MG_2699"/>
          <p:cNvPicPr/>
          <p:nvPr/>
        </p:nvPicPr>
        <p:blipFill>
          <a:blip r:embed="rId2"/>
          <a:stretch/>
        </p:blipFill>
        <p:spPr>
          <a:xfrm>
            <a:off x="4356000" y="3664080"/>
            <a:ext cx="47880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 гостях Герой России </a:t>
            </a:r>
            <a:br>
              <a:rPr sz="4000"/>
            </a:b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Мустафин Раис Рауфович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6" name="Picture 5" descr="DSC00305"/>
          <p:cNvPicPr/>
          <p:nvPr/>
        </p:nvPicPr>
        <p:blipFill>
          <a:blip r:embed="rId1"/>
          <a:stretch/>
        </p:blipFill>
        <p:spPr>
          <a:xfrm>
            <a:off x="250920" y="1557360"/>
            <a:ext cx="4170240" cy="3129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DSC00304"/>
          <p:cNvPicPr/>
          <p:nvPr/>
        </p:nvPicPr>
        <p:blipFill>
          <a:blip r:embed="rId2"/>
          <a:stretch/>
        </p:blipFill>
        <p:spPr>
          <a:xfrm>
            <a:off x="4643280" y="350028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7"/>
          <p:cNvSpPr/>
          <p:nvPr/>
        </p:nvSpPr>
        <p:spPr>
          <a:xfrm>
            <a:off x="250920" y="5157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крытие мемориальных досок погибшим выпускникам в чеченской компан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Афганская войн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0" name="Picture 4" descr="P2140012"/>
          <p:cNvPicPr/>
          <p:nvPr/>
        </p:nvPicPr>
        <p:blipFill>
          <a:blip r:embed="rId1"/>
          <a:stretch/>
        </p:blipFill>
        <p:spPr>
          <a:xfrm>
            <a:off x="250920" y="1197000"/>
            <a:ext cx="4833720" cy="362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P2140021"/>
          <p:cNvPicPr/>
          <p:nvPr/>
        </p:nvPicPr>
        <p:blipFill>
          <a:blip r:embed="rId2"/>
          <a:stretch/>
        </p:blipFill>
        <p:spPr>
          <a:xfrm>
            <a:off x="4643280" y="3573360"/>
            <a:ext cx="4042080" cy="30304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5292720" y="1557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435640" y="1628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стречи с учащимися школы на уроках мужест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6:41:54Z</dcterms:created>
  <dc:creator>Admin</dc:creator>
  <dc:description/>
  <dc:language>en-US</dc:language>
  <cp:lastModifiedBy>user</cp:lastModifiedBy>
  <dcterms:modified xsi:type="dcterms:W3CDTF">2015-01-26T04:21:24Z</dcterms:modified>
  <cp:revision>6</cp:revision>
  <dc:subject/>
  <dc:title>Великие сыны России</dc:title>
</cp:coreProperties>
</file>