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A75-DC2B-4BC3-AEEB-1EA5089E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2C4-B4D1-41D3-A58F-FD0DBA0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FF9-C019-49B3-BE7A-5944A72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8DA-5209-4D84-95F9-1ED32DCC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9A8-967D-4623-A36D-8948D4D6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E33-A75D-4FBA-BCBC-6025A18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D9F-8908-45E3-83DD-1D53C961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029-60DF-4611-B7A4-3D5CF82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778-2D82-4624-A6E1-9BCF7CD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0D2-D2B9-42D7-8660-3D658AF6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CF6-0DCF-4F5B-A6C5-34896EB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77C-2618-4146-B294-BA16562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1D80-47B1-4BB3-AE79-36EBC8E9D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 Gothic"/>
              </a:rPr>
              <a:t>Вирусология – наука о вирус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0" y="5500800"/>
            <a:ext cx="2286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едоренко 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олекулярная вирус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1962 г. вирусологи многих стран собрались на симпозиуме в США, чтобы подвести первые итоги развития молекулярной вирусологии. На этом симпозиуме звучали не совсем привычные для вирусологов термины: архитектура вирионов, нуклеокапсиды, капсомеры. Начался новый период в развитии вирусологии — период молекулярной вирус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85840"/>
            <a:ext cx="8429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 конца 50-х годов, когда начала формироваться синтетическая область знаний, лежащая на границе неживого и живого и занимающаяся изучением живого, методы молекулярной биологии хлынули обильным потоком в вирусологию. Эти методы, основанные на биофизике и биохимии живого, позволили в короткие сроки изучить строение, химический состав и репродукцию вир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Если в 60-х годах основное внимание вирусологов было фиксировано на характеристике вирусных нуклеиновых кислот и белков, то к началу 80-х годов была расшифрована полная структура многих вирусных генов и геномов и установлена не только аминокислотная последовательность, но и третичная пространственная структура таких сложных белков, как гликопротеид гемагглютинина вируса гриппа. В настоящее время можно не только связать изменения антигенных детерминант вируса гриппа с заменой в них аминокислот, но и рассчитывать прошедшие, настоящие и будущие изменения этих антиге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 1974 года начала бурно развиваться новая отрасль биотехнологии и новый раздел молекулярной биологии — генная, или генетическая, инженерия. Она немедленно была поставлена на службу вирусоло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85480"/>
            <a:ext cx="8400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ирусология — раздел микробиологии, изучающий вирусы (от латинского слова virus — </a:t>
            </a:r>
            <a:r>
              <a:rPr b="0" i="1" lang="ru-RU" sz="6600" spc="-1" strike="noStrike">
                <a:solidFill>
                  <a:srgbClr val="ffffff"/>
                </a:solidFill>
                <a:latin typeface="Calibri"/>
              </a:rPr>
              <a:t>яд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0"/>
            <a:ext cx="8400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первые существование вируса (как нового типа возбудителя болезней) доказал в 1892 году русский учёный Д. И. Ивановский. После многолетних исследований заболеваний табачных растений, в работе, датированной 1892 годом, Д. И. Ивановский приходит к выводу, что мозаичная болезнь табака вызывается «бактериями, проходящими через фильтр Шамберлана, которые, однако, не способны расти на искусственных субстратах». На основании этих данных были определены критерии, по которым возбудителей заболеваний относили к этой новой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ять лет спустя, при изучении заболеваний крупного рогатого скота, а именно — ящура, был выделен аналогичный фильтрующийся микроорганизм. А в 1898 году, при воспроизведении опытов Д. Ивановского голландским ботаником М. Бейеринком, он назвал такие микроорганизмы «фильтрующимися вирусами». В сокращённом виде это название и стало обозначать данную группу микроорганизм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28548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 1901 году было обнаружено первое вирусное заболевание человека — жёлтая лихорадка. Это открытие было сделано американским военным хирургом У. Ридом и его коллег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21384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 1911 году Фрэнсис Раус доказал вирусную природу рака — саркомы Рауса (лишь в 196 году, спустя 55 лет, ему была вручена за это открытие Нобелевская премия по физиологии и медицине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рирода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ирусы обладают уникальными свойствами, которые позволяют выделить их из общей массы микроорганизм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аличие только одного из двух видов нуклеиновых кисло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тсутствие собственных белок-синтезируемых сист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ни представляют собой генетических парази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ирусы не растут, а только репродуцируются (размножаютс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азделы вирус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бщая вирусолог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бщая вирусология изучает основные принципы строения, размножения вирусов, их взаимодействие с клеткой-хозяином, происхождение и распространение вирусов в природе. Один из важнейших разделов общей вирусологии — молекулярная вирусология, изучающая структуру и функции вирусных нуклеиновых кислот, механизмы экспрессии вирусных генов, природу устойчивости организмов к вирусным заболеваниям, молекулярную эволюцию виру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тная вирус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астная вирусология исследует особенности определённых групп вирусов человека, животных и растений и разрабатывает меры борьбы с вызываемыми этими вирусами болезн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я</cp:lastModifiedBy>
  <dcterms:modified xsi:type="dcterms:W3CDTF">2015-01-21T12:35:09Z</dcterms:modified>
  <cp:revision>4</cp:revision>
  <dc:subject/>
  <dc:title>Слайд 1</dc:title>
</cp:coreProperties>
</file>