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F51-B424-4A54-B42D-1C74FD63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4C4-7A88-4323-AAA2-E647A56D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708-03EE-4C94-9170-D00FCDF9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5B3-6836-4B3F-975F-4D783F76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203-393D-4EC9-A1CD-A001615A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02C-5840-405A-ABBD-E362A795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7B5-804E-4E85-9D5C-7BDAE70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162-37BB-425F-B3A1-624A2A39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7E1-ABB2-41A3-A7D1-C3C1B097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A71-BC35-4474-8250-7671A34B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1FE-3B9C-4A8E-8094-40FF0E0B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315-7E25-413A-AD25-5B7013C5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32D9-8ECF-4FC6-9232-BBF98FB47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 Gothic"/>
              </a:rPr>
              <a:t>Вирусология – наука о вирус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0" y="5500800"/>
            <a:ext cx="2286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едоренко Ан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Молекулярная вирус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1962 г. вирусологи многих стран собрались на симпозиуме в США, чтобы подвести первые итоги развития молекулярной вирусологии. На этом симпозиуме звучали не совсем привычные для вирусологов термины: архитектура вирионов, нуклеокапсиды, капсомеры. Начался новый период в развитии вирусологии — период молекулярной вирус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285840"/>
            <a:ext cx="8429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 конца 50-х годов, когда начала формироваться синтетическая область знаний, лежащая на границе неживого и живого и занимающаяся изучением живого, методы молекулярной биологии хлынули обильным потоком в вирусологию. Эти методы, основанные на биофизике и биохимии живого, позволили в короткие сроки изучить строение, химический состав и репродукцию виру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21384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Если в 60-х годах основное внимание вирусологов было фиксировано на характеристике вирусных нуклеиновых кислот и белков, то к началу 80-х годов была расшифрована полная структура многих вирусных генов и геномов и установлена не только аминокислотная последовательность, но и третичная пространственная структура таких сложных белков, как гликопротеид гемагглютинина вируса гриппа. В настоящее время можно не только связать изменения антигенных детерминант вируса гриппа с заменой в них аминокислот, но и рассчитывать прошедшие, настоящие и будущие изменения этих антиген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 1974 года начала бурно развиваться новая отрасль биотехнологии и новый раздел молекулярной биологии — генная, или генетическая, инженерия. Она немедленно была поставлена на службу вирусолог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85480"/>
            <a:ext cx="8400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Вирусология — раздел микробиологии, изучающий вирусы (от латинского слова virus — </a:t>
            </a:r>
            <a:r>
              <a:rPr b="0" i="1" lang="ru-RU" sz="6600" spc="-1" strike="noStrike">
                <a:solidFill>
                  <a:srgbClr val="ffffff"/>
                </a:solidFill>
                <a:latin typeface="Calibri"/>
              </a:rPr>
              <a:t>яд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0"/>
            <a:ext cx="8400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первые существование вируса (как нового типа возбудителя болезней) доказал в 1892 году русский учёный Д. И. Ивановский. После многолетних исследований заболеваний табачных растений, в работе, датированной 1892 годом, Д. И. Ивановский приходит к выводу, что мозаичная болезнь табака вызывается «бактериями, проходящими через фильтр Шамберлана, которые, однако, не способны расти на искусственных субстратах». На основании этих данных были определены критерии, по которым возбудителей заболеваний относили к этой новой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-360"/>
            <a:ext cx="87868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ять лет спустя, при изучении заболеваний крупного рогатого скота, а именно — ящура, был выделен аналогичный фильтрующийся микроорганизм. А в 1898 году, при воспроизведении опытов Д. Ивановского голландским ботаником М. Бейеринком, он назвал такие микроорганизмы «фильтрующимися вирусами». В сокращённом виде это название и стало обозначать данную группу микроорганизмо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285480"/>
            <a:ext cx="8572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 1901 году было обнаружено первое вирусное заболевание человека — жёлтая лихорадка. Это открытие было сделано американским военным хирургом У. Ридом и его коллега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21384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 1911 году Фрэнсис Раус доказал вирусную природу рака — саркомы Рауса (лишь в 196 году, спустя 55 лет, ему была вручена за это открытие Нобелевская премия по физиологии и медицине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рирода вир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Вирусы обладают уникальными свойствами, которые позволяют выделить их из общей массы микроорганизм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Наличие только одного из двух видов нуклеиновых кисло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Отсутствие собственных белок-синтезируемых сист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Они представляют собой генетических парази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Вирусы не растут, а только репродуцируются (размножаютс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азделы вирус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бщая вирусолог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бщая вирусология изучает основные принципы строения, размножения вирусов, их взаимодействие с клеткой-хозяином, происхождение и распространение вирусов в природе. Один из важнейших разделов общей вирусологии — молекулярная вирусология, изучающая структуру и функции вирусных нуклеиновых кислот, механизмы экспрессии вирусных генов, природу устойчивости организмов к вирусным заболеваниям, молекулярную эволюцию вирус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астная вирус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астная вирусология исследует особенности определённых групп вирусов человека, животных и растений и разрабатывает меры борьбы с вызываемыми этими вирусами болезн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</dc:creator>
  <dc:description/>
  <dc:language>en-US</dc:language>
  <cp:lastModifiedBy>я</cp:lastModifiedBy>
  <dcterms:modified xsi:type="dcterms:W3CDTF">2015-01-21T12:35:09Z</dcterms:modified>
  <cp:revision>4</cp:revision>
  <dc:subject/>
  <dc:title>Слайд 1</dc:title>
</cp:coreProperties>
</file>