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7E8-2833-40E2-A43A-9726086A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6E1-ED99-4FF1-9343-5CBFB842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901-E2E6-484D-91FC-5D5D9BF7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64F-1A31-48B0-A8CF-A135E542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27E-84ED-4CE1-A815-E0F6586A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1E7-7746-4B0C-8944-135A3441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9E3B-DD37-436C-A306-8D5598FE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B4E7-7551-469F-BC92-44F6E64F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386C-A8B8-4E1A-A9F3-81FDA49A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B37-A370-4280-9A6A-ED36C4C1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F59-5E28-4F25-9A96-EE5456AF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60EF-8BD8-4C6D-8652-C0AFEB63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6B27-F5A0-4B99-B410-B4BA5B3EB7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75f0"/>
            </a:gs>
            <a:gs pos="100000">
              <a:srgbClr val="bacf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230702679_4_seasons_background_vector"/>
          <p:cNvPicPr/>
          <p:nvPr/>
        </p:nvPicPr>
        <p:blipFill>
          <a:blip r:embed="rId1"/>
          <a:stretch/>
        </p:blipFill>
        <p:spPr>
          <a:xfrm>
            <a:off x="1571760" y="0"/>
            <a:ext cx="6168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6920b3852aft"/>
          <p:cNvPicPr/>
          <p:nvPr/>
        </p:nvPicPr>
        <p:blipFill>
          <a:blip r:embed="rId1"/>
          <a:stretch/>
        </p:blipFill>
        <p:spPr>
          <a:xfrm>
            <a:off x="0" y="0"/>
            <a:ext cx="9144000" cy="7207200"/>
          </a:xfrm>
          <a:prstGeom prst="rect">
            <a:avLst/>
          </a:prstGeom>
          <a:ln w="0">
            <a:noFill/>
          </a:ln>
        </p:spPr>
      </p:pic>
      <p:sp>
        <p:nvSpPr>
          <p:cNvPr id="43" name="WordArt 3"/>
          <p:cNvSpPr txBox="1"/>
          <p:nvPr/>
        </p:nvSpPr>
        <p:spPr>
          <a:xfrm>
            <a:off x="1979640" y="2349360"/>
            <a:ext cx="4824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c1818"/>
                  </a:solidFill>
                  <a:miter/>
                </a:ln>
                <a:solidFill>
                  <a:srgbClr val="fc1818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ень</a:t>
            </a:r>
            <a:endParaRPr b="0" lang="en-US" sz="1800" spc="1" strike="noStrike">
              <a:ln w="12600">
                <a:solidFill>
                  <a:srgbClr val="fc1818"/>
                </a:solidFill>
                <a:miter/>
              </a:ln>
              <a:solidFill>
                <a:srgbClr val="fc1818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030560" y="4365720"/>
            <a:ext cx="511344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адают с ветки жёлтые монет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од ногами целый клад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Это осень золо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арит листья не счит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Золотые дарит лист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Вам, и н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 всем подр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cf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осень дети"/>
          <p:cNvPicPr/>
          <p:nvPr/>
        </p:nvPicPr>
        <p:blipFill>
          <a:blip r:embed="rId1"/>
          <a:stretch/>
        </p:blipFill>
        <p:spPr>
          <a:xfrm>
            <a:off x="115920" y="189000"/>
            <a:ext cx="4213080" cy="616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f018c31c10df9f57c5be6b88d24_prev"/>
          <p:cNvPicPr/>
          <p:nvPr/>
        </p:nvPicPr>
        <p:blipFill>
          <a:blip r:embed="rId2"/>
          <a:stretch/>
        </p:blipFill>
        <p:spPr>
          <a:xfrm>
            <a:off x="4602240" y="189000"/>
            <a:ext cx="4562280" cy="6681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5003640" y="2349360"/>
            <a:ext cx="414036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адают, падают листь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 нашем саду листопа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Желтые, красные листь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о ветру вьются, летят!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c8d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5651640" y="333360"/>
            <a:ext cx="324000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ж пыхтит и морщ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-Что я вам – уборщиц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Лес никак не подме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облюдайте чистот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0730d629ed727a4836c838517e4b00a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755640" y="1628640"/>
            <a:ext cx="4824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44a30"/>
                  </a:solidFill>
                  <a:miter/>
                </a:ln>
                <a:solidFill>
                  <a:srgbClr val="8adfea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има</a:t>
            </a:r>
            <a:endParaRPr b="0" lang="en-US" sz="1800" spc="1" strike="noStrike">
              <a:ln w="12600">
                <a:solidFill>
                  <a:srgbClr val="e44a30"/>
                </a:solidFill>
                <a:miter/>
              </a:ln>
              <a:solidFill>
                <a:srgbClr val="8adfea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403280" y="4221000"/>
            <a:ext cx="6840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84360" y="4869000"/>
            <a:ext cx="554508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Снег на полях, лёд на река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Ветер гуляет. Когда это бывает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зима дети1"/>
          <p:cNvPicPr/>
          <p:nvPr/>
        </p:nvPicPr>
        <p:blipFill>
          <a:blip r:embed="rId1"/>
          <a:stretch/>
        </p:blipFill>
        <p:spPr>
          <a:xfrm>
            <a:off x="4067280" y="189000"/>
            <a:ext cx="4459320" cy="6437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original"/>
          <p:cNvPicPr/>
          <p:nvPr/>
        </p:nvPicPr>
        <p:blipFill>
          <a:blip r:embed="rId2"/>
          <a:stretch/>
        </p:blipFill>
        <p:spPr>
          <a:xfrm>
            <a:off x="3995640" y="162000"/>
            <a:ext cx="4703760" cy="640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149400" y="3286080"/>
            <a:ext cx="40320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Arial"/>
              </a:rPr>
              <a:t>Тихо, тихо снег идет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Arial"/>
              </a:rPr>
              <a:t>Белый снег, мохнаты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Arial"/>
              </a:rPr>
              <a:t>Мы расчистим снег и ле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Arial"/>
              </a:rPr>
              <a:t>Во дворе лопато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179280" y="549360"/>
            <a:ext cx="3888000" cy="19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Вы не видели в лес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Ярко-рыжую лису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Эта рыжая плутов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След свой прячет очень ловк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5"/>
          <p:cNvSpPr txBox="1"/>
          <p:nvPr/>
        </p:nvSpPr>
        <p:spPr>
          <a:xfrm>
            <a:off x="2050920" y="2205000"/>
            <a:ext cx="4824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44a30"/>
                  </a:solidFill>
                  <a:miter/>
                </a:ln>
                <a:solidFill>
                  <a:srgbClr val="e8a9f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есна</a:t>
            </a:r>
            <a:endParaRPr b="0" lang="en-US" sz="1800" spc="1" strike="noStrike">
              <a:ln w="12600">
                <a:solidFill>
                  <a:srgbClr val="e44a30"/>
                </a:solidFill>
                <a:miter/>
              </a:ln>
              <a:solidFill>
                <a:srgbClr val="e8a9f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780000" y="5013360"/>
            <a:ext cx="7343640" cy="1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ам весна шагает быстрыми шаг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угробы тают под ее ног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рные проталины на полях вид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но, очень теплые ноги у вес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38502cec97d8aea3d9b356e6a32c5808_41ab6b3189dc0cdb68d5085be5e009ab"/>
          <p:cNvPicPr/>
          <p:nvPr/>
        </p:nvPicPr>
        <p:blipFill>
          <a:blip r:embed="rId1"/>
          <a:stretch/>
        </p:blipFill>
        <p:spPr>
          <a:xfrm>
            <a:off x="324000" y="189000"/>
            <a:ext cx="8459640" cy="6476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1080-2210-thickbox"/>
          <p:cNvPicPr/>
          <p:nvPr/>
        </p:nvPicPr>
        <p:blipFill>
          <a:blip r:embed="rId2"/>
          <a:stretch/>
        </p:blipFill>
        <p:spPr>
          <a:xfrm>
            <a:off x="1042920" y="-27000"/>
            <a:ext cx="6913800" cy="691344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2"/>
          <p:cNvGrpSpPr/>
          <p:nvPr/>
        </p:nvGrpSpPr>
        <p:grpSpPr>
          <a:xfrm>
            <a:off x="1165320" y="235080"/>
            <a:ext cx="6769080" cy="6623640"/>
            <a:chOff x="1165320" y="235080"/>
            <a:chExt cx="6769080" cy="6623640"/>
          </a:xfrm>
        </p:grpSpPr>
        <p:sp>
          <p:nvSpPr>
            <p:cNvPr id="62" name="Text Box 8"/>
            <p:cNvSpPr/>
            <p:nvPr/>
          </p:nvSpPr>
          <p:spPr>
            <a:xfrm>
              <a:off x="1165320" y="235080"/>
              <a:ext cx="6769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Возвращаются скворцы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Наши старые жильцы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0"/>
            <p:cNvSpPr/>
            <p:nvPr/>
          </p:nvSpPr>
          <p:spPr>
            <a:xfrm>
              <a:off x="1236600" y="5851440"/>
              <a:ext cx="65534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1"/>
            <p:cNvSpPr/>
            <p:nvPr/>
          </p:nvSpPr>
          <p:spPr>
            <a:xfrm>
              <a:off x="1236600" y="5996160"/>
              <a:ext cx="6624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Воробьи у лужиц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Шумной стайкой кружатся.        (Г. Ладонщиков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755640" y="765000"/>
            <a:ext cx="4824360" cy="14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44a3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ето</a:t>
            </a:r>
            <a:endParaRPr b="0" lang="en-US" sz="1800" spc="1" strike="noStrike">
              <a:ln w="12600">
                <a:solidFill>
                  <a:srgbClr val="e44a3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419640" y="4581360"/>
            <a:ext cx="756108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оброе лето! доброе л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колько тепла в нем и сколько в нем свет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ето стучится к нам в окна с ут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Вставай, детвор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лето дети"/>
          <p:cNvPicPr/>
          <p:nvPr/>
        </p:nvPicPr>
        <p:blipFill>
          <a:blip r:embed="rId1"/>
          <a:stretch/>
        </p:blipFill>
        <p:spPr>
          <a:xfrm>
            <a:off x="1042920" y="1341360"/>
            <a:ext cx="7058160" cy="5294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лето жив1"/>
          <p:cNvPicPr/>
          <p:nvPr/>
        </p:nvPicPr>
        <p:blipFill>
          <a:blip r:embed="rId2"/>
          <a:stretch/>
        </p:blipFill>
        <p:spPr>
          <a:xfrm>
            <a:off x="971640" y="189000"/>
            <a:ext cx="6553080" cy="4782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2556000" y="404640"/>
            <a:ext cx="626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Где цветок ,там и мед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весна дети"/>
          <p:cNvPicPr/>
          <p:nvPr/>
        </p:nvPicPr>
        <p:blipFill>
          <a:blip r:embed="rId3"/>
          <a:stretch/>
        </p:blipFill>
        <p:spPr>
          <a:xfrm>
            <a:off x="1042920" y="189000"/>
            <a:ext cx="6551640" cy="469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1763640" y="5084640"/>
            <a:ext cx="633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рядные платьица, желтые брю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пятнышка нет  на красивой одеж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кие веселые эти ромашк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т – вот заиграют, как дети, в пятна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8:53:39Z</dcterms:created>
  <dc:creator>Дмитрий</dc:creator>
  <dc:description/>
  <dc:language>en-US</dc:language>
  <cp:lastModifiedBy>Anna</cp:lastModifiedBy>
  <dcterms:modified xsi:type="dcterms:W3CDTF">2015-01-26T16:49:13Z</dcterms:modified>
  <cp:revision>11</cp:revision>
  <dc:subject/>
  <dc:title>Слайд 1</dc:title>
</cp:coreProperties>
</file>