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61D-0260-4CBE-A241-6BBC80D1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A33-3AE4-4D2F-A238-9E78A503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E2F-E121-48E0-92F9-1E44AF47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484-4D8F-44C2-B217-8F231F65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5FC-0D8E-4B6C-A490-8B33044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E7B-7AA4-4912-9A04-24009823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269-FF4D-482D-A610-E8D5A4B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8CC-506C-4C61-A4C5-DCF73829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4DE-553C-4F50-B5FB-AA5B5D34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2B9-21E5-4BF3-8B79-55BF549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2F2-A22C-4A45-AFAE-6F1E9D8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2FB-F5F6-4062-A3A1-8EE0DEA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406-1A55-484F-BB04-7509E8544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75f0"/>
            </a:gs>
            <a:gs pos="100000">
              <a:srgbClr val="bac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30702679_4_seasons_background_vector"/>
          <p:cNvPicPr/>
          <p:nvPr/>
        </p:nvPicPr>
        <p:blipFill>
          <a:blip r:embed="rId1"/>
          <a:stretch/>
        </p:blipFill>
        <p:spPr>
          <a:xfrm>
            <a:off x="1571760" y="0"/>
            <a:ext cx="6168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6920b3852aft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979640" y="2349360"/>
            <a:ext cx="48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c1818"/>
                  </a:solidFill>
                  <a:miter/>
                </a:ln>
                <a:solidFill>
                  <a:srgbClr val="fc1818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fc1818"/>
                </a:solidFill>
                <a:miter/>
              </a:ln>
              <a:solidFill>
                <a:srgbClr val="fc1818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0560" y="4365720"/>
            <a:ext cx="511344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адают с ветки жёлтые монет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од ногами целый кла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осень золо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арит листья не счит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олотые дарит ли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ам, и н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 всем под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cf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осень дети"/>
          <p:cNvPicPr/>
          <p:nvPr/>
        </p:nvPicPr>
        <p:blipFill>
          <a:blip r:embed="rId1"/>
          <a:stretch/>
        </p:blipFill>
        <p:spPr>
          <a:xfrm>
            <a:off x="115920" y="189000"/>
            <a:ext cx="4213080" cy="616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018c31c10df9f57c5be6b88d24_prev"/>
          <p:cNvPicPr/>
          <p:nvPr/>
        </p:nvPicPr>
        <p:blipFill>
          <a:blip r:embed="rId2"/>
          <a:stretch/>
        </p:blipFill>
        <p:spPr>
          <a:xfrm>
            <a:off x="4602240" y="189000"/>
            <a:ext cx="4562280" cy="6681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003640" y="2349360"/>
            <a:ext cx="4140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адают, падают листь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нашем саду листопа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Желтые, красные листь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о ветру вьются, летят!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c8d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651640" y="333360"/>
            <a:ext cx="324000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ж пыхтит и морщ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Что я вам – уборщи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ес никак не подм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блюдайте чист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730d629ed727a4836c838517e4b00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755640" y="1628640"/>
            <a:ext cx="48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8adfea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8adfea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403280" y="4221000"/>
            <a:ext cx="684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84360" y="4869000"/>
            <a:ext cx="554508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нег на полях, лёд на рек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етер гуляет. Когда это бывае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зима дети1"/>
          <p:cNvPicPr/>
          <p:nvPr/>
        </p:nvPicPr>
        <p:blipFill>
          <a:blip r:embed="rId1"/>
          <a:stretch/>
        </p:blipFill>
        <p:spPr>
          <a:xfrm>
            <a:off x="4067280" y="189000"/>
            <a:ext cx="4459320" cy="643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original"/>
          <p:cNvPicPr/>
          <p:nvPr/>
        </p:nvPicPr>
        <p:blipFill>
          <a:blip r:embed="rId2"/>
          <a:stretch/>
        </p:blipFill>
        <p:spPr>
          <a:xfrm>
            <a:off x="3995640" y="162000"/>
            <a:ext cx="4703760" cy="640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149400" y="3286080"/>
            <a:ext cx="40320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Тихо, тихо снег идет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Белый снег, мохнаты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Мы расчистим снег и ле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Во дворе лопат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79280" y="549360"/>
            <a:ext cx="388800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ы не видели в лес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Ярко-рыжую лис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Эта рыжая плутов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лед свой прячет очень лов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2050920" y="2205000"/>
            <a:ext cx="4824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e8a9f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e8a9f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780000" y="5013360"/>
            <a:ext cx="734364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весна шагает быстрыми ша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угробы тают под ее но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ные проталины на полях вид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, очень теплые ноги у в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8502cec97d8aea3d9b356e6a32c5808_41ab6b3189dc0cdb68d5085be5e009ab"/>
          <p:cNvPicPr/>
          <p:nvPr/>
        </p:nvPicPr>
        <p:blipFill>
          <a:blip r:embed="rId1"/>
          <a:stretch/>
        </p:blipFill>
        <p:spPr>
          <a:xfrm>
            <a:off x="324000" y="189000"/>
            <a:ext cx="8459640" cy="647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080-2210-thickbox"/>
          <p:cNvPicPr/>
          <p:nvPr/>
        </p:nvPicPr>
        <p:blipFill>
          <a:blip r:embed="rId2"/>
          <a:stretch/>
        </p:blipFill>
        <p:spPr>
          <a:xfrm>
            <a:off x="1042920" y="-27000"/>
            <a:ext cx="6913800" cy="69134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1165320" y="235080"/>
            <a:ext cx="6769080" cy="6623640"/>
            <a:chOff x="1165320" y="235080"/>
            <a:chExt cx="6769080" cy="6623640"/>
          </a:xfrm>
        </p:grpSpPr>
        <p:sp>
          <p:nvSpPr>
            <p:cNvPr id="62" name="Text Box 8"/>
            <p:cNvSpPr/>
            <p:nvPr/>
          </p:nvSpPr>
          <p:spPr>
            <a:xfrm>
              <a:off x="1165320" y="235080"/>
              <a:ext cx="676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Возвращаются скворцы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Наши старые жильц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1236600" y="5851440"/>
              <a:ext cx="65534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1236600" y="5996160"/>
              <a:ext cx="6624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Воробьи у лужи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Шумной стайкой кружатся.        (Г. Ладонщиков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755640" y="765000"/>
            <a:ext cx="482436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44a3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</a:t>
            </a:r>
            <a:endParaRPr b="0" lang="en-US" sz="1800" spc="1" strike="noStrike">
              <a:ln w="12600">
                <a:solidFill>
                  <a:srgbClr val="e44a3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19640" y="4581360"/>
            <a:ext cx="756108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брое лето! доброе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олько тепла в нем и сколько в нем све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 стучится к нам в окна с ут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Вставай, детво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лето дети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9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лето жив1"/>
          <p:cNvPicPr/>
          <p:nvPr/>
        </p:nvPicPr>
        <p:blipFill>
          <a:blip r:embed="rId2"/>
          <a:stretch/>
        </p:blipFill>
        <p:spPr>
          <a:xfrm>
            <a:off x="971640" y="189000"/>
            <a:ext cx="6553080" cy="4782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556000" y="404640"/>
            <a:ext cx="62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Где цветок ,там и ме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весна дети"/>
          <p:cNvPicPr/>
          <p:nvPr/>
        </p:nvPicPr>
        <p:blipFill>
          <a:blip r:embed="rId3"/>
          <a:stretch/>
        </p:blipFill>
        <p:spPr>
          <a:xfrm>
            <a:off x="1042920" y="189000"/>
            <a:ext cx="6551640" cy="469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763640" y="5084640"/>
            <a:ext cx="63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ядные платьица, желтые брю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пятнышка нет  на красивой одеж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кие веселые эти ромашк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т – вот заиграют, как дети, в пятн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8:53:39Z</dcterms:created>
  <dc:creator>Дмитрий</dc:creator>
  <dc:description/>
  <dc:language>en-US</dc:language>
  <cp:lastModifiedBy>Anna</cp:lastModifiedBy>
  <dcterms:modified xsi:type="dcterms:W3CDTF">2015-01-26T16:49:13Z</dcterms:modified>
  <cp:revision>11</cp:revision>
  <dc:subject/>
  <dc:title>Слайд 1</dc:title>
</cp:coreProperties>
</file>