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E9E-49B5-472B-B3BE-0296B7F7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F16-3F48-4CC4-9DBF-F90E5F95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81C63-F146-4832-8223-C8BFBCD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41C33-1F36-4B27-9CBE-2806C37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739FE-8422-4E8A-A560-FD8E367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AA518-4B37-4ED9-8D03-908F719D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617AC-7816-4DA8-BF3A-3A816DA6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27745-789C-4ED9-BE9D-18FDA9E6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9C936-132B-4A8D-B6B7-8FE7275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5C433-C575-4F96-971E-B49BE853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79C7A-6F3E-4E78-9D4F-B6E8D41F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AC4-1E85-4C81-9C70-7F32E663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101-AD2E-4B79-A123-EE1C8729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0C20-4FF6-44FC-B7DC-73175784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4930-EFCD-4E7A-81DE-3CB4959E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E672-AF0C-430A-8079-90D397D1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FDCF-B4B7-455C-A012-D5E541B0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7645-BDFA-4650-81ED-AF16C72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714E-2E72-4514-AF28-09A16D11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1CCD-FB16-4E5D-8DBD-30CF65E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BF7-027B-4067-AFD0-3ED0BCFE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D0AE-6473-4216-B88D-4A710AD9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96B9-CD5D-41EF-9E56-3CB5777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ACDA-188C-4D06-A9D0-C023C46A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6B84-A850-4098-A707-372353B5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F02C-2970-483A-BABD-8E248D94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B926-C227-4C93-8FFA-CFA31119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99B6-9951-4D7E-8A10-F30122B9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33B2-1F10-4D55-96D6-5D5422ED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1396-639A-4791-A57E-9440FBD1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F9A8-1021-4078-97E6-FBDD461C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20B-8A09-4589-8FA0-D1D09768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FFBF-FF0D-4EB7-AB0D-340C9902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4617-9E57-448D-B5C0-9F32566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E925-596F-43C4-AB7C-9C5C57CF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473C-A864-490C-86C7-049AD64A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6C1B-600A-42EA-BC85-1B9C5B04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230A-56D2-48BE-9263-46D2A448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8738-2049-49F6-B9D7-549B8BDF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289E-6168-402C-B2A9-09DC780E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30BFE-FC88-431C-8728-64001CF1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B70B-879A-45C1-A49B-1B445F0D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22B-DB0F-45A6-93A6-0E2F45C9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5B6A-672D-4781-BE47-036EDD01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04FFB-ACAF-4FFF-88D6-56B7042E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0749-C6EB-4A7B-A55B-222ECFAA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9C39-9C8C-42EF-9F66-BB193822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0655D-4D5C-45C9-BEEA-AE6A8C46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028AE-6382-4ABB-BE55-A4E71C88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82B46-6784-404A-8253-6A21506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5B4E-99CC-4EC0-A1BD-5C8728C8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4FC7-E6FB-4B7B-AD40-FC93970D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2645-8EF0-4984-A181-AA4BEE74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54F-8F98-4A70-B28F-2AEB4F14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C924-50F0-494D-B932-5905FB4A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1D8C7-18D3-44FE-B2BE-4E0C4AD3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CFE2-C414-458B-A5DB-89B5656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2A091-EEDD-4664-9D64-D2DFD13B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0FA15-53B5-4C25-8EA2-2AC1241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3B9BC-CA0D-4BB9-9436-C3DE512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6F7C7-DB53-40A5-B450-8E8CE48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9F65B-E2F2-4810-BF7F-50101DF3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05F1-446E-4520-99FC-6D052AB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B4787-61C1-4226-B013-D63DB9BA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409-7A64-4290-AB8E-32B884A5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CFD0-5080-4AC3-87F6-98041126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40C1E-80DC-4D89-B423-78A24874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FE636-FFE6-4023-91AC-08643BF4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43E98-02B0-4DF3-A17D-02FE14CA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56080-1E6C-4A6B-A57F-B019F073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F9940-CD3E-491F-B8BF-8340817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5E692-EC69-42CF-A8D6-03926B8B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C62A0-0D10-44F6-AB08-511773E6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1E059-11BF-47E6-9452-5E79D462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1C041-241E-469C-BD0A-D0E9D89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DA4-F921-4E9D-973E-BED5443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448E5-AAFD-44D6-BD83-27316680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35CA-D3EC-4B9E-AECB-038B3BF5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74545-8D50-48CA-8F52-F6954322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51A5C-C200-42BB-94A7-98953722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73A15-716F-43DD-A58C-C9B1D087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24A0-54D0-4D2D-857D-6881E2B2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47306-A745-4A1B-8352-99384F3B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30967-C444-48A7-BD34-2F76EFFD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9A317-D27D-4BE1-8FF5-9AABE3D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198B9-5A8A-4E89-BF21-33C0EB4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405-F662-47AE-8D38-A05B4EB1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A730-04D6-4FFA-98FC-6E73AD5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D9C9B-1F35-4E67-86E7-27A4ED7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3DE0-FA0B-4B58-897D-C3DB0B2B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A1263-E425-47D0-8A3E-2FA4EA08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28BF-A6ED-4FE1-B21E-7BA40EA0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B0D4-0F98-4F75-AE57-C76111BA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6807C-D8B3-4134-84D6-A5E5C38C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590E9-9179-48CB-AD6B-D70826B9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0EE49-C15C-4034-AACD-43C8611F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ACFE4-E7E5-4C01-B52A-0F1EEFBF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D18-119C-4102-82C9-8ED42CEE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F2436-A2F4-4848-ADE4-6C73ED68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45772-90F3-48EB-B266-CF4C5CA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ADD4C-0685-4437-A136-822D6DC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D27A7-8E4A-4D33-B35D-1275E41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8E894-8D76-4516-B31E-DFD75B6C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84B0-6DF5-47F7-BA2B-DD0334D1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FB229-F136-4382-A473-2122C348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1467C-2FA3-4AFE-8B05-8098045E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161B3-910B-4DF8-8DAD-F6AC719E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87390-803B-4A48-BD77-9E591762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030B-ED80-4567-B888-C722BF432E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44E7-A21A-4414-A310-E0CBBE1A477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05D8-6AE2-4CAE-9FB2-99901B0848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0ED1-9415-4FFB-A9CC-38C4BC79CB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3022-D329-44E2-970A-0C04C4B0D4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6315-2315-46F3-8536-E68C9EA690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C15F-1D07-4BA1-8D42-2C83EF87A4F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7FF0-A5BD-4F0A-8EBD-79EF16B801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DA5C-9519-4658-B951-45C34935DA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87440" y="974880"/>
            <a:ext cx="7980120" cy="2633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928840" y="5285880"/>
            <a:ext cx="29862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икитенко О.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учитель биологии высшей категори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9). Какой сосуд изображен на рисунк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артер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ве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капилля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аор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http://opengia.ru/resources/059E6D476D4E935B498E60B1F29C5677-GIABIO2010A1309-059E6D476D4E935B498E60B1F29C5677-2-1396450030/repr-0.jpg"/>
          <p:cNvPicPr/>
          <p:nvPr/>
        </p:nvPicPr>
        <p:blipFill>
          <a:blip r:embed="rId1"/>
          <a:stretch/>
        </p:blipFill>
        <p:spPr>
          <a:xfrm>
            <a:off x="4286160" y="2143080"/>
            <a:ext cx="18576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142640"/>
            <a:ext cx="8686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0).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Увеличение числа лейкоцитов в крови свидетельствует 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)повышении скорости свертывания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)понижении давления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)наличии воспалительного процесс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)развивающемся малокров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1).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В каких сосудах большого круга кровобращения организма человека регистрируют самое высокое давление кров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аорт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капилляр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мелких вен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крупных вен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2). Какой буквой на рисунке обозначена камера сердца, в которой заканчивается лёгочный круг кровообращени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2" descr="http://opengia.ru/resources/0A6AC0E2C068A17A4BF5993B631F90E8-G13RA1302-0A6AC0E2C068A17A4BF5993B631F90E8-2-1396448243/repr-0.jpg"/>
          <p:cNvPicPr/>
          <p:nvPr/>
        </p:nvPicPr>
        <p:blipFill>
          <a:blip r:embed="rId1"/>
          <a:stretch/>
        </p:blipFill>
        <p:spPr>
          <a:xfrm>
            <a:off x="3571920" y="3143160"/>
            <a:ext cx="235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3). Людей, не имеющих в своей крови резус-фактора, называю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резус-определенн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резус-значим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резус-отрицательн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резус-положительн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4).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В какой камере сердца условно начинается малый круг кровообращени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в правом желудочк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в ле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в левом желудочк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в пра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5). Что произойдет с эритроцитами, если их поместить в раствор солей, концентрация которых равна концентрации солей в кров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останутся неизменн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сморща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склея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набухну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04920" y="285480"/>
            <a:ext cx="868680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6). На рисунке изображено сердце и крупные кровеносные сосуды человека. Какой цифрой на нем обозначена нижняя полая вен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1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2" descr="http://opengia.ru/resources/0C2680D40D07A2E54CB5FB8BE4821C6D-0C2680D40D07A2E54CB5FB8BE4821C6D-0C2680D40D07A2E54CB5FB8BE4821C6D-1-1389699842/repr-0.png"/>
          <p:cNvPicPr/>
          <p:nvPr/>
        </p:nvPicPr>
        <p:blipFill>
          <a:blip r:embed="rId1"/>
          <a:stretch/>
        </p:blipFill>
        <p:spPr>
          <a:xfrm>
            <a:off x="2500200" y="1928880"/>
            <a:ext cx="47149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7). Что является компонентом внутренней среды организма чело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желч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слю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межклеточная жидк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поджелудочный с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8). К людям с какой группой крови применим термин «универсальный донор»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I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II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IV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. Где кровь движется с наименьшей скорость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в плечевой артер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в капилляр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в нижней полой ве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в верхней полой ве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9). Кровь выполняет все перечисленные функции, кром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транспортн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защитн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терморегуляторн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рефлекторн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713880"/>
            <a:ext cx="86868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0). Верны ли суждения о внутренней среде организма человека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. Внутреннюю среду организма образуют кровь, тканевая жидкость и лимф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Б. Внутренняя среда имеет постоянный состав, что обеспечивает нормальный обмен веществ в организме челове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)верно только 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)верно только Б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)верны оба сужден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4)оба суждения неверны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1). Какими цифрами обозначены сосуды, по которым течет венозная кров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2,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3,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1,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1,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2" descr="http://opengia.ru/resources/12734299e560e311af61001fc68344c9-BIO2012II9A1301-copy1--12734299e560e311af61001fc68344c9-2-1394528164/repr-0.jpg"/>
          <p:cNvPicPr/>
          <p:nvPr/>
        </p:nvPicPr>
        <p:blipFill>
          <a:blip r:embed="rId1"/>
          <a:stretch/>
        </p:blipFill>
        <p:spPr>
          <a:xfrm>
            <a:off x="3214800" y="271476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04920" y="571320"/>
            <a:ext cx="86868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2).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Какое из утверждений правильно описывает движение крови по малому кругу кровообращени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начинается в правом желудочке и заканчивается в пра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начинается в левом желудочке и заканчивается в пра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начинается в правом желудочке и заканчивается в ле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начинается в левом желудочке и заканчивается в ле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3. Мельчайшим сосудом кровеносной системы являе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ве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аор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капилля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артер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4). В какую камеру сердца поступает кровь из вен большого круга кровообращени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левое предсерд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левый желудоче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правое предсерд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правый желудоче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5). Свертывание крови обусловлено наличием в н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фибриноге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эритр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лейк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антите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6). Давление крови на стенки крупных артерий возникает в результате сокращ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предсерд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левого желудоч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створчатых клапан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полулунных клапан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7). Какой фактор обеспечивает движение крови в венах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работа створчатых клапанов сердц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большая разветвлённость сосуд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сокращение близлежащих скелетных мышц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разная скорость движения крови по сосуд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8). Какую функцию выполняют лейкоциты кров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транспортируют газ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обеспечивают иммунит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переносят питательные веще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обеспечивают свёртываемость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. В медицинской карте пациента часто можно увидеть следующую запись: АД 120/70 мм рт. ст. Что она обозначае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давление крови в артер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частоту пульса до и после приседан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рост человека стоя и сид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содержание кислорода в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9). Что является компонентом внутренней среды организма чело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желч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слю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лимф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желудочный с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30).У больного перед операцией определяют группу крови. Это позволяет лечащему врач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найти нужного доно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определить причину болезн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назначить правильное леч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рассчитать химический состав наркоз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. На рисунке изображена схема строения сердца человека. Какой буквой на ней обозначено правое предсерд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2" descr="http://opengia.ru/resources/01AE05F5D49083E54AE727FFFC5AB5FE-GIABIO2010demoA14-01AE05F5D49083E54AE727FFFC5AB5FE-1-1396449750/repr-0.jpg"/>
          <p:cNvPicPr/>
          <p:nvPr/>
        </p:nvPicPr>
        <p:blipFill>
          <a:blip r:embed="rId1"/>
          <a:stretch/>
        </p:blipFill>
        <p:spPr>
          <a:xfrm>
            <a:off x="3214800" y="214308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. Кровеносная система переноси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растворённый азо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питательные веще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заражённые клетки к почк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углеводы для выведения их из организ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5). Часто на спецодежде военнослужащих, спасателей, пожарных, охранников можно встретить специальные нашивки. Что обозначает нашивка, приведённая в задании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)у её обладателя четвёртая группа крови, резус-положительн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)у её обладателя третья  группа крови, резус-положительн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)у её обладателя четвёртая группа крови, резус-отрицательн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)у её обладателя третья  группа крови, резус-отрицательн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http://opengia.ru/resources/03A7DE61E8DBB84B48CD3E24A2566E75-03A7DE61E8DBB84B48CD3E24A2566E75-03A7DE61E8DBB84B48CD3E24A2566E75-2-1396426709/repr-0.jpg"/>
          <p:cNvPicPr/>
          <p:nvPr/>
        </p:nvPicPr>
        <p:blipFill>
          <a:blip r:embed="rId1"/>
          <a:stretch/>
        </p:blipFill>
        <p:spPr>
          <a:xfrm>
            <a:off x="3643200" y="5000760"/>
            <a:ext cx="49071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). Какую функцию выполняет кровь в организме чело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рефлекторну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защитну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строительну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опорну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7. Белок фибриноген входит в соста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эритр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лейк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тромб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плазмы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8). Какие элементы крови придают ей красный цве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лейкоци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тромбоци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эритроци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белки плазм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3:35:26Z</dcterms:created>
  <dc:creator>Сергей</dc:creator>
  <dc:description/>
  <dc:language>en-US</dc:language>
  <cp:lastModifiedBy>Сергей</cp:lastModifiedBy>
  <dcterms:modified xsi:type="dcterms:W3CDTF">2015-01-20T14:16:52Z</dcterms:modified>
  <cp:revision>7</cp:revision>
  <dc:subject/>
  <dc:title>Задания ОГЭ по теме  «Внутренняя среда организма человека».</dc:title>
</cp:coreProperties>
</file>