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833-15A7-4C74-9AD5-A64DF5D7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C4-DBCE-4E62-98B0-3AC6D73D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A08C-CB28-4457-8828-C7A5E9E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C74DE-E490-4A1A-B956-F1C964B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4200C-8F0E-4302-ACE3-5D3332E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B34F-719C-4CBE-BBF0-8217165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147F-90E0-460C-94B8-73290BC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7BFA-E447-4F84-A715-3C0B326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2E2DE-6BAB-47B9-A60E-C75E17A0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48233-91F3-4721-B1A9-B778D8B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CC974-DCA3-4085-8AEB-BFCA3C78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192-02E8-437B-A101-DBC30D0D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763-0E6D-4583-AB51-D1A0CBB5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B6ED-3893-42FA-91C8-AB0B2A69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605A-547E-4FBD-A526-97F5692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116F-A4E3-4859-8708-3C4F837D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FF6-D5FE-47DA-B86F-483C9FD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9215-A3F3-4020-A874-6376037C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3C52-6982-4B9E-939C-20287BD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72B-5B58-4EF8-B6C1-20986B6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6D0-4B5F-430B-B497-9714651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BED-55E3-43FB-9D6B-75A27AD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C3E6-CDF0-4574-88AF-C604F0C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942D-F84B-4CD3-93D3-46DFC31C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6547-0B6D-49D2-832D-42A03199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B9D5-03C0-42C4-ACA6-9CF0FD91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9A8A-84DD-4D55-B860-7BF037AE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5B6D-6DC5-49CD-B200-065F170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B55F-7B0C-4D29-96DC-4178FCB2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516B-0214-4AC7-B84A-75EA1E68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D5F0-514A-4533-9DA5-48CDF69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FA5-A1C7-4A58-B38B-9C1F713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38B5-A0A2-4E9C-A8B5-8EC3B4F2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36AA-AA14-4189-B327-141FE47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06D4-D958-4DAB-9AEC-CB171BF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8B80-3B57-4E25-86C1-C37926C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DE28-C4BF-4E80-87A4-CF7E3B2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A7DE-0CC4-4FF1-B9EE-2E31FF43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F240-F258-4A42-BB23-EF3E3C92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334E-A7AD-4CB8-AF16-5CD106D5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5DB1-B4A2-47D8-8512-9C04693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1517-756B-4DE1-B0BB-5073CA21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EA2-435B-4C41-9A87-F2D5ABA7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CAEC-AB5F-4C8B-9AD3-707C9CD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EDDB-AC1C-44CE-957D-3C1DCC25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B422-03C9-4022-A567-D67D3AA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1ECA-6837-4280-A987-A0A55AE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FAA0-C736-4AEC-9302-E71FCB7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7A62-BB7B-4051-8109-8340274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1ABB-D931-4967-9B70-E8A2AD5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9829-CC2F-4D3B-BED7-4AEE6A95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AC019-272D-40C3-B527-EE0680E1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674C-E76D-46BE-8BC8-E65C7D2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E5B-D136-43E2-BD51-0ECC3DB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34D7-F03F-4F06-B1AC-7CF7761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0723-D1B8-4A4E-853E-8CF5ADB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F2B3-8E57-47D8-AEF4-6E35B36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8E85-7258-4754-ACE6-DA859B56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7CDF-98BD-42D0-8E62-E953ACE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CBDB-EDC7-40B7-9FBA-3FE7CA6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1F1A-7929-49E8-9D65-0B9AFA3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0D4C-601C-4213-8831-099C469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6448-6302-427C-BDE8-E1E5E50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0968-FB59-4F95-9228-83EC48FC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2A3-FCF3-4274-9B1A-25E29E46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6281-01DD-4AB0-8955-E9690FD5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C23F-ABF4-4CA6-A583-81CEF491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E201-176D-4DED-B343-16B254A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F451-150E-42EE-BC26-49B3070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6B1A-C790-4246-87C6-3473183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86A8-DB5F-4B23-A8E4-5D126729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4E5B3-A946-4920-845B-602D27B4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47A00-5B39-4C4B-9359-4952A84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393C-5445-4ED1-81CF-6C7F8B6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3232-81D2-41AE-A579-BB164B2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EDA-FDCE-4F4F-BBCC-F30C20D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8186-DDFD-4E68-9D34-80A94A4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F1D6-0334-4826-82D6-5FF74BD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033F-53D2-4BCD-977D-A3F6F1C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A59B-E06B-4608-B5E4-20BF6358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C195-FBCB-4B34-8540-26C877BA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9FE8-51BB-42E2-B87E-39CD900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F6C5-C836-4755-AD68-A0BA0FB2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48C49-DB67-462B-903A-D7D5224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86E03-7FB5-47AE-A561-1C9ADB5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7B9C-CE8F-408F-A196-CE160BAB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CA3-EA1C-45D5-9DF0-B361B38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4355-D95F-4524-99D8-01CCC8A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ACA9-B89B-4632-9722-B531D0F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22CBB-508F-4FC9-8DF2-178F6C35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2AD8E-5F30-479B-BF0A-68AB19D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87F9-F9A5-4E5F-B8BB-6886879A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7A3BA-0EB7-4330-A1C7-92100451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1640-1165-4C1A-946F-3ACB3E8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5F4A-1408-4F59-BA77-AA321E5F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90CF-0F07-4D24-B33D-EC1B9E5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DA2B-16FD-45B9-95A0-5E565A3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E6B-2358-47A8-8DED-D944B33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3BAE4-2F21-4AF4-B5FA-DD66A31C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119DA-9F13-4E48-A681-F9B835F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A080-F5A1-4B90-A7A0-9231645E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F0A0-26B2-4380-869C-41FF2D9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AADC-E919-4BCB-9D01-74CB978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F4751-E93F-40FB-B7F3-FC136F2E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DC9A-AC65-41C0-8EAE-18D881F2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0C36-7EE9-47E9-B4F9-619C6B27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AF5D1-D40E-46AA-8B8C-5529467F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2A983-7AA0-40FA-921E-BBF7EA2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AD1-C0D3-4C5F-A367-1D1B5423BB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282-8B03-49EB-AAD6-C49B8F5BEC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564-E11B-4289-9531-19F4A156F3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4E0-2A59-46A0-9E94-2C61BDB2F6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E099-52E5-41A5-ACAE-E8630A32F5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8097-F43D-4339-A1AC-677DAF5B3E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3793-1280-4AFC-801C-12E01ED0FA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160-6856-4D37-8C0C-21753746B7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D24C-D711-4FA7-869B-FBBA18C716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87440" y="974880"/>
            <a:ext cx="7980120" cy="2633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28840" y="5285880"/>
            <a:ext cx="29862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икитенко О.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читель биологии высшей категори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9). Какой сосуд изображен на рисун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ртер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капилля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о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http://opengia.ru/resources/059E6D476D4E935B498E60B1F29C5677-GIABIO2010A1309-059E6D476D4E935B498E60B1F29C5677-2-1396450030/repr-0.jpg"/>
          <p:cNvPicPr/>
          <p:nvPr/>
        </p:nvPicPr>
        <p:blipFill>
          <a:blip r:embed="rId1"/>
          <a:stretch/>
        </p:blipFill>
        <p:spPr>
          <a:xfrm>
            <a:off x="4286160" y="2143080"/>
            <a:ext cx="1857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14264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0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Увеличение числа лейкоцитов в крови свидетельствует 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)повышении скорости свертывания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)понижении давления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)наличии воспалительного процес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)развивающемся малокров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1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 каких сосудах большого круга кровобращения организма человека регистрируют самое высокое давление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ор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капилляр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мелких ве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крупных вен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2). Какой буквой на рисунке обозначена камера сердца, в которой заканчивается лёгочный круг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http://opengia.ru/resources/0A6AC0E2C068A17A4BF5993B631F90E8-G13RA1302-0A6AC0E2C068A17A4BF5993B631F90E8-2-1396448243/repr-0.jpg"/>
          <p:cNvPicPr/>
          <p:nvPr/>
        </p:nvPicPr>
        <p:blipFill>
          <a:blip r:embed="rId1"/>
          <a:stretch/>
        </p:blipFill>
        <p:spPr>
          <a:xfrm>
            <a:off x="3571920" y="3143160"/>
            <a:ext cx="235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3). Людей, не имеющих в своей крови резус-фактора, называю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езус-определен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резус-значим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резус-отрицатель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езус-положитель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4).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 какой камере сердца условно начинается малый круг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 правом желудочк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 левом желудочк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5). Что произойдет с эритроцитами, если их поместить в раствор солей, концентрация которых равна концентрации солей в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останутся неизменны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морща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клея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бухну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04920" y="285480"/>
            <a:ext cx="86868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6). На рисунке изображено сердце и крупные кровеносные сосуды человека. Какой цифрой на нем обозначена нижняя полая вен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opengia.ru/resources/0C2680D40D07A2E54CB5FB8BE4821C6D-0C2680D40D07A2E54CB5FB8BE4821C6D-0C2680D40D07A2E54CB5FB8BE4821C6D-1-1389699842/repr-0.png"/>
          <p:cNvPicPr/>
          <p:nvPr/>
        </p:nvPicPr>
        <p:blipFill>
          <a:blip r:embed="rId1"/>
          <a:stretch/>
        </p:blipFill>
        <p:spPr>
          <a:xfrm>
            <a:off x="2500200" y="1928880"/>
            <a:ext cx="47149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7). Что является компонентом внутренней среды организма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жел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лю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межклеточная жидк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оджелудочный с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8). К людям с какой группой крови применим термин «универсальный донор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I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II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. Где кровь движется с наименьшей скорость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 плечевой артер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в капилляр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 нижней полой ве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в верхней полой ве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9). Кровь выполняет все перечисленные функции, кром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транспорт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защит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терморегулятор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ефлекторн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04920" y="713880"/>
            <a:ext cx="86868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0). Верны ли суждения о внутренней среде организма человека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. Внутреннюю среду организма образуют кровь, тканевая жидкость и лимф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Б. Внутренняя среда имеет постоянный состав, что обеспечивает нормальный обмен веществ в организме челове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)верно только 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)верно только Б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)верны оба сужде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)оба суждения неверны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1). Какими цифрами обозначены сосуды, по которым течет венозная кров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2,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3,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1,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1,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http://opengia.ru/resources/12734299e560e311af61001fc68344c9-BIO2012II9A1301-copy1--12734299e560e311af61001fc68344c9-2-1394528164/repr-0.jpg"/>
          <p:cNvPicPr/>
          <p:nvPr/>
        </p:nvPicPr>
        <p:blipFill>
          <a:blip r:embed="rId1"/>
          <a:stretch/>
        </p:blipFill>
        <p:spPr>
          <a:xfrm>
            <a:off x="3214800" y="271476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04920" y="571320"/>
            <a:ext cx="86868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2).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Какое из утверждений правильно описывает движение крови по малому кругу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начинается в правом желудочке и заканчивается 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начинается в левом желудочке и заканчивается в пра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начинается в правом желудочке и заканчивается 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чинается в левом желудочке и заканчивается в левом предсерд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3. Мельчайшим сосудом кровеносной системы явля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в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ао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капилля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ртер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4). В какую камеру сердца поступает кровь из вен большого круга кровообращения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левое предсерд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вый желудоч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правое предсерд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равый желудоч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5). Свертывание крови обусловлено наличием в н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фибриног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эритр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лейк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антите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6). Давление крови на стенки крупных артерий возникает в результате сокращ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предсерд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вого желудоч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творчатых клапан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олулунных клапан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7). Какой фактор обеспечивает движение крови в венах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абота створчатых клапанов сердц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ольшая разветвлённость сосуд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окращение близлежащих скелетных мышц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азная скорость движения крови по сосуд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8). Какую функцию выполняют лейкоциты кров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транспортируют газ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обеспечивают иммун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переносят питательные 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обеспечивают свёртываемость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. В медицинской карте пациента часто можно увидеть следующую запись: АД 120/70 мм рт. ст. Что она обознача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давление крови в артер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частоту пульса до и после приседа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рост человека стоя и сид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содержание кислорода в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29). Что является компонентом внутренней среды организма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желч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слю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лимф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желудочный с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30).У больного перед операцией определяют группу крови. Это позволяет лечащему врач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найти нужного доно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определить причину болез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назначить правильное леч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рассчитать химический состав наркоз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. На рисунке изображена схема строения сердца человека. Какой буквой на ней обозначено правое предсерд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http://opengia.ru/resources/01AE05F5D49083E54AE727FFFC5AB5FE-GIABIO2010demoA14-01AE05F5D49083E54AE727FFFC5AB5FE-1-1396449750/repr-0.jpg"/>
          <p:cNvPicPr/>
          <p:nvPr/>
        </p:nvPicPr>
        <p:blipFill>
          <a:blip r:embed="rId1"/>
          <a:stretch/>
        </p:blipFill>
        <p:spPr>
          <a:xfrm>
            <a:off x="3214800" y="214308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. Кровеносная система перенос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астворённый аз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питательные 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заражённые клетки к почк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углеводы для выведения их из организ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5). Часто на спецодежде военнослужащих, спасателей, пожарных, охранников можно встретить специальные нашивки. Что обозначает нашивка, приведённая в задании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)у её обладателя четвёртая группа крови, резус-положи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)у её обладателя третья  группа крови, резус-положи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)у её обладателя четвёртая группа крови, резус-отрица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)у её обладателя третья  группа крови, резус-отрицательна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http://opengia.ru/resources/03A7DE61E8DBB84B48CD3E24A2566E75-03A7DE61E8DBB84B48CD3E24A2566E75-03A7DE61E8DBB84B48CD3E24A2566E75-2-1396426709/repr-0.jpg"/>
          <p:cNvPicPr/>
          <p:nvPr/>
        </p:nvPicPr>
        <p:blipFill>
          <a:blip r:embed="rId1"/>
          <a:stretch/>
        </p:blipFill>
        <p:spPr>
          <a:xfrm>
            <a:off x="3643200" y="5000760"/>
            <a:ext cx="4907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). Какую функцию выполняет кровь в организме челове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рефлектор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защит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строитель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опорну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7. Белок фибриноген входит в соста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эритр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лейк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тромбоци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плазмы кро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8). Какие элементы крови придают ей красный цв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лейк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тромб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эритроци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белки плаз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3:35:26Z</dcterms:created>
  <dc:creator>Сергей</dc:creator>
  <dc:description/>
  <dc:language>en-US</dc:language>
  <cp:lastModifiedBy>Сергей</cp:lastModifiedBy>
  <dcterms:modified xsi:type="dcterms:W3CDTF">2015-01-20T14:16:52Z</dcterms:modified>
  <cp:revision>7</cp:revision>
  <dc:subject/>
  <dc:title>Задания ОГЭ по теме  «Внутренняя среда организма человека».</dc:title>
</cp:coreProperties>
</file>