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E320-10C3-43CB-BDBF-60E89B5A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F52-6A2B-4984-8DD2-74818350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874-ACF7-4A11-9C45-975F4F7B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1B0B-4019-481F-93E5-79788E4B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0359-0CFF-4BBE-85B1-80757634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5CC7-0088-409E-9161-FEBF4C0F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E30F-3A19-43D9-9B29-E35BCDFD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E72E-CE3F-493B-B7EE-4FE27520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8B31-8A2C-435B-9D85-EE3BC25A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4414-DCF6-40D2-AB2E-4E9EFD66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D4FB-2458-4803-88E7-EFAE59A4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C4DE-A44F-45E2-A926-AD0C30CC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02A6-ED8A-4C48-9341-11B87C31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5B54-0081-4D8A-B2F3-3230053B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C1D5-28A9-41DB-A24D-3A607445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A489-45FC-44D2-9D24-317DA83B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F6F1-31D9-4EEA-A9A5-914C9D85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F464-4C36-462A-A6DE-4539DA0F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DDC-F56B-4389-847D-3CC92047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AC1B-0405-4BFF-959B-4EC4C888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1685-1ED3-452A-9754-EE3B851C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BC05-2FB6-4F24-B63A-ADEC0D32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C9C-AC9E-48BF-88D7-14EAD137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CA3B-308A-4EA1-9B25-4AF39DD0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9C58-C2CE-4E37-9267-79B580DF0CE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903A-2475-48FC-9C62-857E5FF2625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Заседание клуба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9900"/>
                </a:solidFill>
                <a:latin typeface="Arial"/>
              </a:rPr>
              <a:t>«Мы и окружающий мир»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cc99"/>
                </a:solidFill>
                <a:latin typeface="Arial"/>
              </a:rPr>
              <a:t>Прозвенел звонок для нас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cc99"/>
                </a:solidFill>
                <a:latin typeface="Arial"/>
              </a:rPr>
              <a:t>Всех ребят позвал он в класс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cc99"/>
                </a:solidFill>
                <a:latin typeface="Arial"/>
              </a:rPr>
              <a:t>Чтобы дети не ленились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cc99"/>
                </a:solidFill>
                <a:latin typeface="Arial"/>
              </a:rPr>
              <a:t>С удовольствием трудились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cc99"/>
                </a:solidFill>
                <a:latin typeface="Arial"/>
              </a:rPr>
              <a:t>Всем здоровья пожелаем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cc99"/>
                </a:solidFill>
                <a:latin typeface="Arial"/>
              </a:rPr>
              <a:t>И урок наш начинаем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cc"/>
                </a:solidFill>
                <a:latin typeface="Arial"/>
              </a:rPr>
              <a:t>        </a:t>
            </a:r>
            <a:r>
              <a:rPr b="1" lang="ru-RU" sz="8000" spc="-1" strike="noStrike">
                <a:solidFill>
                  <a:srgbClr val="cc00cc"/>
                </a:solidFill>
                <a:latin typeface="Arial"/>
              </a:rPr>
              <a:t>тема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«От кого зависит твой режим дня?»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66"/>
                </a:solidFill>
                <a:latin typeface="Arial"/>
              </a:rPr>
              <a:t>Физминутка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Arial"/>
              </a:rPr>
              <a:t>Будем прыгать, как лягушка,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Arial"/>
              </a:rPr>
              <a:t>Чемпионка- попрыгушка!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Arial"/>
              </a:rPr>
              <a:t>За прыжком опять прыжок,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Arial"/>
              </a:rPr>
              <a:t>Выше прыгаем, дружок!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     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Помни!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Помни твёрдо, что режим людям всем необходим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66"/>
                </a:solidFill>
                <a:latin typeface="Arial"/>
              </a:rPr>
              <a:t>Режим дня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1.Подъё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2.Умыван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3.Заряд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4.Одетьс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5.Застелить пос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6.Завтра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7.Школ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7336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8.Обед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9.Прогул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0.Уро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1.Ужи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2.Свободное врем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3.Со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Письмо от Миши Иванова.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У меня есть три совета, как сохранять здоровье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 е р в ы й – надо делать всё вовремя: учить уроки, делать зарядку, отдыхать, ложиться спа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т о р о й – дружить с солнцем, воздухом и водой, закалятьс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 это мой т р е т и й  совет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 здравствует мыло душистое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 полотенце пушистое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 зубной порошок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 густой гребешок!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ru-RU" sz="6600" spc="-1" strike="noStrike">
                <a:solidFill>
                  <a:srgbClr val="006666"/>
                </a:solidFill>
                <a:latin typeface="Arial"/>
              </a:rPr>
              <a:t>Помни!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1424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Ежедневно вставай в одно и то же время, проветривай комнату и делай зарядк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Утром умывайся, чисть зубы, мой уши и ше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Приучайся обтираться после зарядки до пояса водой комнатной температу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Всегда мой руки перед едой, после прогулки, после работы и после посещения туалет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Перед сном умывайся, хорошо проветривай комнату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Дом</cp:lastModifiedBy>
  <dcterms:modified xsi:type="dcterms:W3CDTF">2012-04-12T18:04:14Z</dcterms:modified>
  <cp:revision>13</cp:revision>
  <dc:subject/>
  <dc:title>PowerPoint Presentation</dc:title>
</cp:coreProperties>
</file>