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B6C-48F3-455C-B3DE-0C31F447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9C4-B6FB-40EA-B188-02C61B6F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EAB-C5AB-47FB-A299-EB23D81D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061-2AB7-4A2D-A893-34A0AEAA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8265-1785-4AA7-AECF-507EB22B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2E49-D0BC-4234-B0C1-8563397B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4161-3B2A-4E37-B8C2-B185A0BA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1E9C-E6FA-46F6-87A2-7FAED982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1E9C-59BA-4C28-BBCB-F66C8F51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1CD0-5AA8-493F-8554-49254483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62CD-353E-487C-BFFD-D8499FF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46A-98BB-4294-A03F-19A8A87D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FC2A-1A89-4D21-8335-B468578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63EE-1F06-4EFA-941D-8DA7B077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E0FE-E85C-456A-9549-BF1061B7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5B48-8DFF-484B-A99E-6A9A66E1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3A7B-655C-4FB5-B74F-5E65BF93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769-9CDF-43B4-81EA-75E0C16E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B4F-5F37-42A6-B1C3-0E5E2F67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D59-96E6-4BFD-91F9-FDD803F2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71C-8FE1-495E-95C0-AAAD2283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399-C16F-4975-A9D1-D2421BC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7CE-F7D4-4580-95CB-A735732A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28B-99C9-4F4E-A0A5-A810E80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ADD5-10E8-4374-A185-9347E15AE31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E6FB-EBE3-45BD-A423-60B65F4B343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Заседание клуба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«Мы и окружающий мир»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Прозвенел звонок для нас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Всех ребят позвал он в класс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Чтобы дети не ленилис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С удовольствием трудилис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Всем здоровья пожелае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99"/>
                </a:solidFill>
                <a:latin typeface="Arial"/>
              </a:rPr>
              <a:t>И урок наш начинаем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cc"/>
                </a:solidFill>
                <a:latin typeface="Arial"/>
              </a:rPr>
              <a:t>        </a:t>
            </a:r>
            <a:r>
              <a:rPr b="1" lang="ru-RU" sz="8000" spc="-1" strike="noStrike">
                <a:solidFill>
                  <a:srgbClr val="cc00cc"/>
                </a:solidFill>
                <a:latin typeface="Arial"/>
              </a:rPr>
              <a:t>тема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«От кого зависит твой режим дня?»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Физминутка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Будем прыгать, как лягушка,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Чемпионка- попрыгушка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За прыжком опять прыжок,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Выше прыгаем, дружок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омни!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Помни твёрдо, что режим людям всем необходим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Режим дня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.Подъё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2.Умыва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3.Заряд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4.Одетьс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5.Застелить пос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6.Завтра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7.Школ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73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8.Обе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9.Прогул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0.Уро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1.Уж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2.Свободное врем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3.С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исьмо от Миши Иванова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У меня есть три совета, как сохранять здоровье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 е р в ы й – надо делать всё вовремя: учить уроки, делать зарядку, отдыхать, ложиться спа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т о р о й – дружить с солнцем, воздухом и водой, закалятьс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 это мой т р е т и й  сов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 здравствует мыло душистое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 полотенце пушистое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 зубной порошок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 густой гребешок!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Помни!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1424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Ежедневно вставай в одно и то же время, проветривай комнату и делай зарядк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Утром умывайся, чисть зубы, мой уши и ше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Приучайся обтираться после зарядки до пояса водой комнатной темпера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Всегда мой руки перед едой, после прогулки, после работы и после посещения туале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Перед сном умывайся, хорошо проветривай комнат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Дом</cp:lastModifiedBy>
  <dcterms:modified xsi:type="dcterms:W3CDTF">2012-04-12T18:04:14Z</dcterms:modified>
  <cp:revision>13</cp:revision>
  <dc:subject/>
  <dc:title>PowerPoint Presentation</dc:title>
</cp:coreProperties>
</file>