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6441-8D7C-457C-A081-8698D27B8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5445-46ED-4E57-975C-0CDB9174F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6E4-CC65-43A3-8E50-8441B9CE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AA4-F62D-4E13-ADE7-70CD695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F78-057F-4F99-BE8B-B1A7615A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EA7-A193-4522-8E2F-007217FF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158-1284-4BA9-A21C-2B3C73A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A77-7C18-48A1-877E-4701B60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DDC-7E86-4E0A-AC6E-790C2D8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6BD-52BB-49B3-A242-7915327D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B49-EE60-4B74-9A42-4FD0DF52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462-F11B-4D0E-940D-28B2488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926-995A-4E44-8A0F-1BEFEAF3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DB2-5CED-4E3C-A55D-AD4FB29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1325-7C14-4C26-B26A-8EF475FB4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Лена\Рабочий стол\Лена\Лена\Новый класс\Классные часы\Жизненные ценности\Для 1 слайд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Жизненные ценност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640" y="2781360"/>
            <a:ext cx="6400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рок нравствен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 6 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1643040"/>
            <a:ext cx="607212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 u="sng">
                <a:solidFill>
                  <a:srgbClr val="c00000"/>
                </a:solidFill>
                <a:uFillTx/>
                <a:latin typeface="Calibri"/>
              </a:rPr>
              <a:t>Оптимизм</a:t>
            </a:r>
            <a:r>
              <a:rPr b="1" lang="ru-RU" sz="3100" spc="-1" strike="noStrike">
                <a:solidFill>
                  <a:srgbClr val="c00000"/>
                </a:solidFill>
                <a:latin typeface="Calibri"/>
              </a:rPr>
              <a:t> - бодрое, жизнерадостное мироощущение, при котором  человек видит во всем только светлые стороны; верит в будущее, в успех, в то, что в мире господствует положительное начало, добро.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9760" y="1643040"/>
            <a:ext cx="607212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ессимизм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- мрачное мироощущение, при котором человек не верит в будущее и во всем склонен видеть унылое, плохо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0120" y="1643040"/>
            <a:ext cx="614376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ир многогранен, многоцветен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ю добр, жесток подчас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н щедр и скуп, богат и беден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глядись в него - он весь для нас!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Алатырце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0120" y="1643040"/>
            <a:ext cx="614376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ир многогранен, многоцветен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ю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бр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7f7f7f"/>
                </a:solidFill>
                <a:latin typeface="Calibri"/>
              </a:rPr>
              <a:t>жесток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подчас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н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щедр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7f7f7f"/>
                </a:solidFill>
                <a:latin typeface="Calibri"/>
              </a:rPr>
              <a:t>скуп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огат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7f7f7f"/>
                </a:solidFill>
                <a:latin typeface="Calibri"/>
              </a:rPr>
              <a:t>беден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глядись в него - он весь для нас!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Алатырце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Лена\Рабочий стол\Лена\Лена\Новый класс\Классные часы\Жизненные ценности\С вороной.pn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Ответьте </a:t>
            </a:r>
            <a:br>
              <a:rPr sz="6600"/>
            </a:b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на вопросы анке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0000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Лена\Рабочий стол\Лена\Лена\Новый класс\Классные часы\Жизненные ценности\Пессимист и оптимист.jpe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Лена\Рабочий стол\Лена\Лена\Новый класс\Классные часы\Жизненные ценности\Оптимис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Лена\Рабочий стол\Лена\Лена\Новый класс\Классные часы\Жизненные ценности\Рамка для песни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т улыбк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От улыбк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348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3488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4348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Лена\Рабочий стол\Лена\Лена\Новый класс\Классные часы\Жизненные ценности\Рамка коричневая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144080" cy="7712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62863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такое жизненные ценности?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может ценить человек?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является ценностью для ва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ена\Рабочий стол\Лена\Лена\Новый класс\Классные часы\Жизненные ценности\Рамка коричневая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358280" cy="7712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62863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ослушайте притчу, а потом ответьте на вопрос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Лена\Рабочий стол\Лена\Лена\Новый класс\Классные часы\Жизненные ценности\Рамка коричневая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215720" cy="7712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600048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ороший ли способ выбрал отец?</a:t>
            </a: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акой способ убеждения используют ваши родители?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чему заплакал мальч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ена\Рабочий стол\Лена\Лена\Новый класс\Классные часы\Жизненные ценности\ромашка.png"/>
          <p:cNvPicPr/>
          <p:nvPr/>
        </p:nvPicPr>
        <p:blipFill>
          <a:blip r:embed="rId1"/>
          <a:stretch/>
        </p:blipFill>
        <p:spPr>
          <a:xfrm rot="1589400">
            <a:off x="1495080" y="-495000"/>
            <a:ext cx="6151680" cy="79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Лена\Рабочий стол\Лена\Лена\Новый класс\Классные часы\Жизненные ценности\голуби - жизн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ена\Рабочий стол\Лена\Лена\Новый класс\Классные часы\Жизненные ценности\голуби - жизн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4571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я ценю в жизни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ожить жизнь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жизненные качества ценятся у челове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Лена\Рабочий стол\Лена\Лена\Новый класс\Классные часы\Жизненные ценности\Подсолнух в грозу.jpg"/>
          <p:cNvPicPr/>
          <p:nvPr/>
        </p:nvPicPr>
        <p:blipFill>
          <a:blip r:embed="rId1"/>
          <a:stretch/>
        </p:blipFill>
        <p:spPr>
          <a:xfrm>
            <a:off x="-82440" y="0"/>
            <a:ext cx="930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х и Ах.avi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724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Лена\Рабочий стол\Лена\Лена\Новый класс\Классные часы\Жизненные ценности\для мультфильма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3"/>
          <a:stretch/>
        </p:blipFill>
        <p:spPr>
          <a:xfrm>
            <a:off x="798480" y="1816200"/>
            <a:ext cx="58276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576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4-12-04T07:54:12Z</dcterms:modified>
  <cp:revision>18</cp:revision>
  <dc:subject/>
  <dc:title>Слайд 1</dc:title>
</cp:coreProperties>
</file>