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86A-3398-4155-964A-F1819297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919-881A-44D6-B552-2C823670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517-2C9B-4523-84DE-D6B90BEA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0A7-EDA2-4148-B463-32311828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F1B-9149-4325-A9E4-BFBAA2F9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E24-E67B-48A9-A156-406F231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F42-F779-4910-BD3B-7F920E06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73D-C6C2-4741-8CFF-F0B6F53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3BF-D3CB-4F6E-8D37-27B7B9DD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601-759E-4B5A-B296-5C21854E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2BE-FAF9-4853-9EFE-EF20BC9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4C1-30A4-4625-A8C6-C8CB8382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B05-EF6F-4E41-9F04-7F409CB2B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765000"/>
            <a:ext cx="784692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менитые личности Германии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нер фон симе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нер фон Сименс был одним из крупнейших изобретателей наше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имя очень тесно связано с понятием “Электротехника”. Продукция фирмы “Сименс” отличается высоким качеством и известна во всём мире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нер родился в 1816 году недалеко от Ганновера и был самым старшим из 10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3008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окончания гимназии в Любеке, он решил стать инженером.  Однако его родители были не в состоянии дать ему такое образование.  Вернер стал солдатом.  Он был просто счастлив, когда его направили на трёхгодичное обучение в инженерно-артиллерийское училище в Бер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ё свободное время молодой солдат посвящал и вне службы занятиям физикой, химией, техникой.  Через 3 года он получил свой первый отпуск домой.  Но тогда он увидел отца и мать в последний раз, вскоре после этого они умерли.  И Вернер решает дополнительно заняться изобретательством, чтобы обеспечить своих братьев и сестё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мысли направлены на практические вещи.  Так, вскоре появляется пресс для изготовления искусственного камня, регулятор паровой машины и новый способ печатания.  Он же изобрёл метод гальванического золочения и серебрения.  Вскоре Вернер переезжает в Берлин, так как весь город интересуется естествознанием и техн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он знакомится с университетским механиком Хальске.  Они решают вместе работать над созданием телеграфной линии.  1 октября 1847 г. была создана фирма по производству телеграфного оборудования “Сименс и Хальске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рма начинает принимать первые заказы: она устанавливает телеграфную линию между Берлином и Франкфуртом. Вернер Сименс стал героем дня благодаря этой первой в Европе телеграфной линии.  В последующие 2 года братья Карл и Вернер Сименс наладили телеграфное сообщение между Петербургом через Москву и Киев с Одессой, между Петербургом и Варшавой, Силезией, Финляндией и Кронштад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Индоевропейской линии Сименс создаёт улучшенную модель пишущего телеграфа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же океан не был непреодолимым препятствием.  Из Ирландии в Нью-Йорк был проложен трансатлантический кабель.  Имя Сименса становится знаменитым во всём мире.  С 1877 года в Берлине установлены первые телефонные аппараты, изготовленные на фирме “Сименс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881 году на всемирной выставке электротехники в Париже фирма Сименс получила почётный диплом.  Вернер был удостоен диплома почётного доктора и был избран членом Академии наук.  В 1888 году ему был пожалован дворянский титул.  С тех пор он носил имя Вернер фон Сименс.  Он умер 6 декабря 1892 года в Берл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06:41:15Z</dcterms:created>
  <dc:creator>Пользователь</dc:creator>
  <dc:description/>
  <dc:language>en-US</dc:language>
  <cp:lastModifiedBy>Виктор</cp:lastModifiedBy>
  <dcterms:modified xsi:type="dcterms:W3CDTF">2003-12-31T21:49:22Z</dcterms:modified>
  <cp:revision>3</cp:revision>
  <dc:subject/>
  <dc:title>Знаменитые личности Германии: Вернер фон сименс</dc:title>
</cp:coreProperties>
</file>