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3917-9015-4D0F-8308-21467273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8F85-DB73-404B-8F1A-E4E9727F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9AB9-45DE-42B1-93AD-BFA05AC0E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64E1-023E-4D75-BCC4-41CB3613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BD5C-772F-4109-98D6-0FDF32F9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6814-38F6-496F-B6CE-FBDC2780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E0B8-FA7A-41B6-89FE-8C801907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8F89-FFD0-4370-BDB3-7D69AABC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5743-E664-4305-AB77-714E43D4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771D-1662-4D75-B67A-75BBE29C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CDD1-A022-4225-B678-9A1DF6E1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4A32-69BE-49B1-AAF3-A3EE3E7A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5CC9-4DAD-45AB-B21B-D99D96D19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765000"/>
            <a:ext cx="784692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наменитые личности Германии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рнер фон симен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нер фон Сименс был одним из крупнейших изобретателей нашего вр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го имя очень тесно связано с понятием “Электротехника”. Продукция фирмы “Сименс” отличается высоким качеством и известна во всём мире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нер родился в 1816 году недалеко от Ганновера и был самым старшим из 10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830088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ле окончания гимназии в Любеке, он решил стать инженером.  Однако его родители были не в состоянии дать ему такое образование.  Вернер стал солдатом.  Он был просто счастлив, когда его направили на трёхгодичное обучение в инженерно-артиллерийское училище в Бер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ё свободное время молодой солдат посвящал и вне службы занятиям физикой, химией, техникой.  Через 3 года он получил свой первый отпуск домой.  Но тогда он увидел отца и мать в последний раз, вскоре после этого они умерли.  И Вернер решает дополнительно заняться изобретательством, чтобы обеспечить своих братьев и сестё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го мысли направлены на практические вещи.  Так, вскоре появляется пресс для изготовления искусственного камня, регулятор паровой машины и новый способ печатания.  Он же изобрёл метод гальванического золочения и серебрения.  Вскоре Вернер переезжает в Берлин, так как весь город интересуется естествознанием и техни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9152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есь он знакомится с университетским механиком Хальске.  Они решают вместе работать над созданием телеграфной линии.  1 октября 1847 г. была создана фирма по производству телеграфного оборудования “Сименс и Хальске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ирма начинает принимать первые заказы: она устанавливает телеграфную линию между Берлином и Франкфуртом. Вернер Сименс стал героем дня благодаря этой первой в Европе телеграфной линии.  В последующие 2 года братья Карл и Вернер Сименс наладили телеграфное сообщение между Петербургом через Москву и Киев с Одессой, между Петербургом и Варшавой, Силезией, Финляндией и Кронштад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Индоевропейской линии Сименс создаёт улучшенную модель пишущего телеграфа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же океан не был непреодолимым препятствием.  Из Ирландии в Нью-Йорк был проложен трансатлантический кабель.  Имя Сименса становится знаменитым во всём мире.  С 1877 года в Берлине установлены первые телефонные аппараты, изготовленные на фирме “Сименс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881 году на всемирной выставке электротехники в Париже фирма Сименс получила почётный диплом.  Вернер был удостоен диплома почётного доктора и был избран членом Академии наук.  В 1888 году ему был пожалован дворянский титул.  С тех пор он носил имя Вернер фон Сименс.  Он умер 6 декабря 1892 года в Берл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06:41:15Z</dcterms:created>
  <dc:creator>Пользователь</dc:creator>
  <dc:description/>
  <dc:language>en-US</dc:language>
  <cp:lastModifiedBy>Виктор</cp:lastModifiedBy>
  <dcterms:modified xsi:type="dcterms:W3CDTF">2003-12-31T21:49:22Z</dcterms:modified>
  <cp:revision>3</cp:revision>
  <dc:subject/>
  <dc:title>Знаменитые личности Германии: Вернер фон сименс</dc:title>
</cp:coreProperties>
</file>