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D1F-C3D8-43CC-B08F-2C465929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10B-3A64-45FB-8407-32F78501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8F6-4BF3-482B-A0FE-893A21D3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F28-FFB4-407D-9382-EED6CDA7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1F76-E064-4E68-84BE-605ECE77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94FA-823C-4567-9B53-DA9A092A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FB95-3B40-4DFA-8705-A7B06111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6DE3-8E3D-4E47-92DD-54D24D31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55D5-97AD-424B-820E-84BDFC98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33D7-E2D7-490B-A6E4-89995784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2C5C-DEE5-40F5-B224-E83E4BD5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976-28C0-4567-B359-BA1D63AC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BB69-E693-4FD8-9827-D26535A5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2C41-1873-41E9-87A0-BB3456E7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061A-69D7-4033-B2E5-D72B149B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CB83-BC3B-4278-8AE0-973BD2CF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7F57-E439-405C-BD2A-82F3EAE7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661-C5D5-4FD5-ADC4-4FBB240A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837-8B19-4AA4-8DF6-86C4CDC4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99B-0F93-4A75-85C7-18FC76DE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E34-52F4-4E0E-ADF5-27D6CD84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09B-E312-409D-8144-563AEBE4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9F7-EA03-434B-B1A2-D36AE37B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B63-64DB-4649-B4E3-696CA424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3A73-F440-4B99-9B23-9E5B794752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0976-C21C-4934-809A-13C50C7C9BB5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лассный час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«Моя малая родина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5" descr="mylino-reka"/>
          <p:cNvPicPr/>
          <p:nvPr/>
        </p:nvPicPr>
        <p:blipFill>
          <a:blip r:embed="rId1"/>
          <a:stretch/>
        </p:blipFill>
        <p:spPr>
          <a:xfrm>
            <a:off x="2268360" y="3357720"/>
            <a:ext cx="6191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рта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4" descr="bio_and_nano511"/>
          <p:cNvPicPr/>
          <p:nvPr/>
        </p:nvPicPr>
        <p:blipFill>
          <a:blip r:embed="rId1"/>
          <a:stretch/>
        </p:blipFill>
        <p:spPr>
          <a:xfrm>
            <a:off x="0" y="1844640"/>
            <a:ext cx="9325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МО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потому что здесь моя семья, мои друзья, мой дом, моя улица, моя школа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МАЛ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потому что это маленькая частичка моей необъятной стра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РОДИН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потому что здесь живут родные моему сердцу люд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-2475000"/>
            <a:ext cx="7792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ИТЕ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тец и мать, у которых рождаются дети. (слайд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ИЧ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родственник, член род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Н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родственн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ИН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это и Отечество, страна, и место рождения челове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НАРО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нация, жители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ОСЛОВ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перечень поколений одного рода. Люди гордятся своей родословной, изучают е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гра «Составь пословицу»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на – мать,      Родине служи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ить- ,          умей за неё постоя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без Родины,         там и пригодит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кто родится,               что соловей без пес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на – мать, умей за неё постоя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ить- Родине служить.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без Родины, что соловей без пес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кто родится, там и пригодит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0720" y="-31240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когда мы говорим о нашем государстве, о нашей большой стране под названием Росс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 когда мы говорим о нашем селе, где мы родились и жив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ahoma"/>
              </a:rPr>
              <a:t>                                </a:t>
            </a:r>
            <a:r>
              <a:rPr b="1" lang="ru-RU" sz="1600" spc="-1" strike="noStrike">
                <a:solidFill>
                  <a:srgbClr val="3333cc"/>
                </a:solidFill>
                <a:latin typeface="Tahoma"/>
              </a:rPr>
              <a:t>АНКЕ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ahoma"/>
              </a:rPr>
              <a:t>«Знаю ли я свою малую Родину?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Инструкция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: выберите один или несколько ответ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.Знаете ли Вы историю жизни Ваших родственников (Ф.И.О., род деятельности, место жительства)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наю все о своих родителя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наю все о своих родителях и бабушках-дедушк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наю о своих родителях, бабушках-дедушках, прабабушках-прадедушк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атрудняюсь ответи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Владею информацией частичн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Являетесь ли Вы коренным жителем своего села (3 и более поколения Вашей семьи проживали в этом селе)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Д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Не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атрудняюсь ответи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Знаете ли Вы знаменитых земляков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Не знаю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наю (укажите)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.Знаете ли Вы историю своего края (области)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Особенности реч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Традиции праздник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Особенности местного костюм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Легенды, сказки, преда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Другое 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8:44:04Z</dcterms:created>
  <dc:creator>User</dc:creator>
  <dc:description/>
  <dc:language>en-US</dc:language>
  <cp:lastModifiedBy>Гулнур</cp:lastModifiedBy>
  <dcterms:modified xsi:type="dcterms:W3CDTF">2014-09-01T02:45:12Z</dcterms:modified>
  <cp:revision>6</cp:revision>
  <dc:subject/>
  <dc:title>Классный час   «Моя малая родина»</dc:title>
</cp:coreProperties>
</file>