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977-F974-4419-B651-E814DA7C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F12-916F-44CC-B214-7A1C893B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38E-645F-43CA-AFD8-5B17FB8F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DD9-FD0E-4012-8965-7B0777FB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5B71-39E8-4084-A609-8894A1CC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8FAE-1086-4359-8940-7B1D6AD0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A456-E602-45A9-A937-BFF4853D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5A2F-6279-4EDF-9E46-DC3A7E9A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720F-6108-42A5-A5DA-DD7E67C1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35FD-FE36-45A7-A7DB-FB85194E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2B7B-5C99-49D2-8BB6-C1B5542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7F5-A9C9-49FC-8B10-F028806D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2DD6-B2F3-4E45-858A-40100A89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1BB7-FF3A-482F-940B-6A5E5E91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A1BE-9D4A-492B-89A7-3D67A8CB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C74A-BAFB-4A89-9B5F-8C93C42C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79D0-51D7-45C6-9314-B57C7DA9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E7E-84CB-41C3-BC23-2405C140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B39-28D2-4D8D-A19C-95CFB5A9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01F-5EDF-4C09-95B4-5D5223AF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0A3-5CB3-463B-95AF-989273D1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2AC-8817-42D0-9043-EA81C4D6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DE4-83F1-413A-B69B-CD01C68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929-C142-4DC6-B9BB-B6E16716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4D8C-A17F-46E7-AB87-AF4B8CD50C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8C30-8ECB-4149-B72E-51914EAE51A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лассный час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«Моя малая родина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mylino-reka"/>
          <p:cNvPicPr/>
          <p:nvPr/>
        </p:nvPicPr>
        <p:blipFill>
          <a:blip r:embed="rId1"/>
          <a:stretch/>
        </p:blipFill>
        <p:spPr>
          <a:xfrm>
            <a:off x="2268360" y="3357720"/>
            <a:ext cx="6191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рта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bio_and_nano511"/>
          <p:cNvPicPr/>
          <p:nvPr/>
        </p:nvPicPr>
        <p:blipFill>
          <a:blip r:embed="rId1"/>
          <a:stretch/>
        </p:blipFill>
        <p:spPr>
          <a:xfrm>
            <a:off x="0" y="1844640"/>
            <a:ext cx="9325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МО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тому что здесь моя семья, мои друзья, мой дом, моя улица, моя школа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МАЛ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тому что это маленькая частичка моей необъятной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РОДИ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тому что здесь живут родные моему сердцу люд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-2475000"/>
            <a:ext cx="7792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ТЕ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тец и мать, у которых рождаются дети. (слайд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Ч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одственник, член род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Н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одственн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ИН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то и Отечество, страна, и место рождения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АР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нация, жители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ОДОСЛОВ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перечень поколений одного рода. Люди гордятся своей родословной, изучают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гра «Составь пословицу»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на – мать,      Родине служи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ить- ,          умей за неё постоя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без Родины,         там и пригоди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кто родится,               что соловей без пес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дина – мать, умей за неё постоя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ить- Родине служить.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без Родины, что соловей без пес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кто родится, там и пригоди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-31240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огда мы говорим о нашем государстве, о нашей большой стране под названием Росс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«родин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 когда мы говорим о нашем селе, где мы родились и жив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                                </a:t>
            </a: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АНКЕ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ahoma"/>
              </a:rPr>
              <a:t>«Знаю ли я свою малую Родину?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нструкция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: выберите один или несколько ответ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Знаете ли Вы историю жизни Ваших родственников (Ф.И.О., род деятельности, место жительства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все о своих родителя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все о своих родителях и бабушках-дедушк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о своих родителях, бабушках-дедушках, прабабушках-прадедушк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атрудняюсь ответ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Владею информацией частичн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Являетесь ли Вы коренным жителем своего села (3 и более поколения Вашей семьи проживали в этом селе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Н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атрудняюсь ответ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Знаете ли Вы знаменитых земляков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Не зна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Знаю (укажите)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Знаете ли Вы историю своего края (области)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Особенности реч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Традиции праздни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Особенности местного костю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Легенды, сказки, преда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o Другое 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8:44:04Z</dcterms:created>
  <dc:creator>User</dc:creator>
  <dc:description/>
  <dc:language>en-US</dc:language>
  <cp:lastModifiedBy>Гулнур</cp:lastModifiedBy>
  <dcterms:modified xsi:type="dcterms:W3CDTF">2014-09-01T02:45:12Z</dcterms:modified>
  <cp:revision>6</cp:revision>
  <dc:subject/>
  <dc:title>Классный час   «Моя малая родина»</dc:title>
</cp:coreProperties>
</file>