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9EB1-00B1-49FC-AC5E-67C1EBF3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BB67-B5E7-47D8-A94C-EA0CB27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370D9-21C2-4988-94BD-F8B1903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E5C8C-9D31-4A0F-9AD6-7B6D9C9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D754-343F-4D63-9E71-36EE816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ACA4-25A8-46D4-9797-03C924C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50115-1A87-4116-9461-96449B7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A684-C93B-4761-9E1E-1BAA030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419D4-1ECB-4209-8A35-67FA82F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49C90-63FE-4B6A-A854-CA0C3E78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8C1F5-F739-4429-B056-C2D264A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E77D-37D9-4B76-8F4B-DB800C69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FB5A-1E2C-4D3A-9EF6-A337E591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1C771-029E-4C1B-8EBF-BBF5600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B0D5A-8CB4-4711-80D9-AF06BA94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721D5-64BD-4C57-9D76-C4F8C56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00D4E-D858-4601-8144-748F5C66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92912-CCFC-4AF1-8506-FC0B473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9026-3C25-47D3-A46F-6E487F9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AC930-8C60-4500-B4FD-64C176D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0D0D-228D-4520-9612-E8ADBA8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03802-34E6-430D-96AA-A8DB43F9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7AE4-8608-481E-91AF-6C27A055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CCCA-76FE-4237-9D7D-BC723FE8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3D550-FD42-43ED-A64D-6A337E06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82E8-156F-4463-9535-5A298E43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DE9D2-22E2-40BA-8A6B-8AE6740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1DCAC-ED05-4B9D-93A8-09D5D37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03A79-1920-4E8B-AB82-C69BDEA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0CA63-E250-4EA7-9F2B-2220631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59458-84E3-48AB-BA04-881761B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A1D9F-A515-4A5A-A5CD-B75103E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A8C52-7F9F-460F-B977-E4072221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61DB-534E-4EBB-B3D2-5448BF1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6ABE-1137-4252-BA30-D7E5ABF4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D6472-9C30-48B4-8BCF-3B62533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1CE3-D466-492C-AD0E-697F4119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2C36-BFCC-45FD-90D3-BE79ADE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078F0D-9ABB-4A2B-9227-3B19982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2F6182-6A24-4865-9A37-6064DE29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9E6AA0-76AC-4721-9619-DD5D326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6FA313-8EA9-4F89-AFBC-7FCB26BF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1322AB-9837-4415-8E04-2C790A2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503043-2B0B-4042-B860-B8C7C769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7C0C07-3DF1-48AC-8B9D-6CF7091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C09A-EE14-4964-BDE3-734893E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A4E92C-7805-45C6-BD44-D6AA0DA2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4101EA-4785-40AE-9B55-785E330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A41716-5877-42A4-AF5D-99DC7B7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258AF-3A28-43B7-84DF-FB7F3603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8E903C-4321-4972-9FF4-B4D66C70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A4636-C48B-4D8D-92B5-A3A87E8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CD701-B53E-4D29-A3BF-1070F2F1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AC393-2168-4ABE-B425-B361414C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3ED0C-C278-4A53-B150-7E1CBB03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E8E04-E3DE-44CA-9EBB-6E75B068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732A-FC4D-4FB8-8CDA-6181B16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141A6-5112-487D-933F-6795BAD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D24CB-9EED-477F-B0E7-C663535B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5392A-82FD-4C06-9BF5-164AD4A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30615-D0B0-4518-8D2A-50F08A4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DEF0C-F17F-41BD-91ED-F88FF57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40791-FE9F-45D7-ADE1-EF323115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20D4A-9DC5-4F2B-9D08-4EE7DC43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7805E-F0FE-49B0-91B7-FCDADE4F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FA0CA-2A79-4A9D-BAC7-30F6604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07B79-DB98-4E46-8AD4-61993A44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34C-6FE6-4ABC-A445-4B54C73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F78C9-24CE-4664-BAA0-0689A31A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49196-C772-47E9-8992-0DCAF78A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A9E9A-C321-4CFD-A64D-4721283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FC2EF-FD4E-4560-9A75-71D2A029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6F987-3C9D-48EF-9D32-07E978C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A92DF-92D6-49F9-9AF0-24AAC65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50C1D-C349-4E30-989C-D25E02F8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84D79-2CFE-4992-BE3C-3BCA79BB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E2D6D-0A0E-4EF7-8F18-1937D563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371C4-2409-493F-B9BD-A9685863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442-D35E-4378-A554-85C481BB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A7E08-2F9D-4A49-8F4C-84DDE76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5FE70-514A-4F45-9018-6AE71A8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EB0AC-3CC9-44A7-85BD-7446731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6468C-B180-4DCF-83A5-6A99B67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CFEA5-6B56-44E3-B7FC-ECD266B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8034B-4683-4D83-B8EF-03480FE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4BBBB-55F8-489E-8D96-52811F7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07800-3318-4050-A958-9674A17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40953-1C38-4A89-A08B-1A2B312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569D5-AEA1-4DB4-AED0-E3783A56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3FE-996D-4544-AFBE-2A76B83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06E81-0DB2-4F0E-B559-A5C95ED1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20E-EB44-45DF-87CB-B018CE30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65DF-BAE2-40D5-895A-5F6138D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DEB0-F562-4BAA-9D39-B62284C4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C2EB-CDDA-49C1-90D3-006CC3E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FF2C-DD21-4B04-A169-EAC224A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A25-9EE3-4996-8F82-E02FB4D0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DF4F-3DA2-40C0-8D3C-AE15F130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3635-D7B3-45B6-A581-C92427F4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FDC9-7F07-4F49-960A-C72F6246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4104-E1E2-4553-8485-88855EC9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A44D-6DA8-4DA9-9716-D4512AA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5987-9777-4950-A483-2A26D05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FB8B-EB45-4A46-828E-D1234913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998D-58E8-4E2C-AF83-E776297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97DB-F824-428B-846C-E45F334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7094-EADA-4D82-96C3-A363B01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3721-7240-492A-95AF-C62A2FF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AAB9-85FE-4E6F-AB63-EE5ADB0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10D1-C608-4C6F-B149-7AE5D865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26D9-85C3-4D2F-B8BE-9B3F0FF7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DD3C-60FB-4C59-88C9-E167C9AD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BA21-D86A-4F45-A721-302A6BD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660D-1D8C-4379-A5AB-40CADFC0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2A9D-A72D-412E-91E3-9857F614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42E1-B8DA-4AEC-BC85-EE3A7181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871C-C356-4730-8989-52B735A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1802-0E7A-401D-B0BA-5C985E6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A631-F089-4D1E-A2F5-681F1FC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6C2D-3E59-4D3E-B8E5-65C22BF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B407-6507-4C98-8EEE-DB34F1B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FBAE-6984-492F-820D-F177A97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872A-5817-4D15-A3AD-71C447EC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BF86-608E-4B81-A6A5-75DA3A21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B415-50AE-4027-B395-1B752D7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43CC-DACB-471F-8E07-98AA7A46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5B45-BB4D-466A-8E8A-F5A7F37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B13B-BE22-49F6-8D3D-59D17E1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C691-EB9C-4C74-AB1A-D232074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357E-4A5B-4D54-8C73-DDAA3A5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1957-B3FB-4481-A620-1DE8E9C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4A05-1534-4E1B-B9CD-6DFDB968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4B18-19D5-462D-AE01-599271B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8559-F9AF-4F73-82E4-0112CB7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A530-E199-4FDE-BF05-DAF21CCE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918E-CCED-494C-8170-E4A4A806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9DC5-7275-46B6-9A34-FA8BB924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C1F3-6772-4C75-B260-D51E8D4D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7D032-3E13-4537-8264-897B3CA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6CCE-F182-4FA7-A348-A2930A28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15E7-B055-40C2-B07F-04D58359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9048-2807-4081-800B-7B76D7A7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026E-4DBF-4C5C-9DD8-CC06B942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0FE9-0C2F-43E5-AC24-3DE3355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B0B6-EA81-4084-8432-9095760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F27C-24C7-4564-B968-22F4AE5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3E86-124B-4812-A109-C5A2D0F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681B-1FB1-458B-B1CF-1F4D579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2318-4BFE-497C-B6B6-F09B848C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E15F-A928-4866-8202-B116F126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87639-0808-4E82-93D4-ADE78BBF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3B8D-9DCA-41AB-A256-07CB1324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E164-98F0-43E4-99F6-65C79D5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5446-7DF9-4E8D-BD19-F5ACDCD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A336-DC6C-4B94-A2A8-B5E1AC4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1C4E-A492-44F2-9DCD-F3ADF8E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4D3A1-00D1-4A53-BCE1-5279919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33D3-FB7E-4157-B386-91053C5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288A-02B7-48B6-A062-5667EA7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69FE6-EA08-46CF-A386-CFEAD61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BED6-C92B-48FC-BADC-BCD06B5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23B3-333E-446C-B8AB-A18C3FF7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E5A5-BDB7-4D30-92F3-E537226E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0B9D-9686-4EC9-8B82-B5E2782E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BF3F-D9FA-42DE-9621-8CDB2E76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1568-B625-4987-AAE0-871D6B96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000E5-9345-4559-9A7A-7DF2370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E1F41-41EF-4715-820D-45759BE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B7A7A-4F2C-45A5-B321-8CEB215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0488-22DF-4C5D-83C9-08B6FB5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3BE4-508A-437E-B3FF-3D7903B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30B4-CCD1-4ACF-A94F-4E1E9A0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11E77-81A4-4455-B262-18B5BC1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C6F6-910A-4A33-B447-70E80B9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41D1E-C786-4A6C-9328-92FD03A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5D33-3C47-4E39-A425-F7676198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26B1-6D45-4EB5-BE8B-7ACC03E2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D36A7-91C5-4114-BF49-2C3F40A0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E2717-0BE8-4888-A0B2-641FFCA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7D9B-7EFC-4131-83CB-7D8D8CC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5296-9E68-460D-865A-F4C8755EA9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E01-66EE-4899-B377-9B9A442085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3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E4A-DD19-4B1E-8F39-9FA208FC656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AB17-50F1-41BB-9BD5-73188A7B07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1FF-CBD4-4A1B-82F5-10A85A0866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B62-8A40-4FCC-A474-CC791B4BB5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7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7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9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9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9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90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90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4441-15C6-450A-A24F-472E4EF6698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2B3-468C-49DF-B150-CBD4775523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D3A-788D-4F7C-AC24-9DA8B2EEAF8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87D-2D90-491E-93DB-172C96D6C6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3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7990-B87D-4AF6-B36A-00A9AD4E29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6DD-CBAC-4150-B820-040C6C716C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78F7-8797-4C57-9727-DF20519A2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4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4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B020-E659-4CDE-B688-74CF2A0A7AA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14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0D3-BF53-4BBE-BFEF-46E5EFED4C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Настоящий друг2.mp3" descr=""/>
          <p:cNvPicPr/>
          <p:nvPr/>
        </p:nvPicPr>
        <p:blipFill>
          <a:blip r:embed="rId1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59" name="WordArt 11"/>
          <p:cNvSpPr txBox="1"/>
          <p:nvPr/>
        </p:nvSpPr>
        <p:spPr>
          <a:xfrm>
            <a:off x="611280" y="1700280"/>
            <a:ext cx="820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ружб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8888" fill="hold"/>
                                        <p:tgtEl>
                                          <p:spTgt spid="9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9" descr="tourism_61"/>
          <p:cNvPicPr/>
          <p:nvPr/>
        </p:nvPicPr>
        <p:blipFill>
          <a:blip r:embed="rId1"/>
          <a:stretch/>
        </p:blipFill>
        <p:spPr>
          <a:xfrm>
            <a:off x="4500720" y="2347920"/>
            <a:ext cx="4643280" cy="45100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0" descr=""/>
          <p:cNvPicPr/>
          <p:nvPr/>
        </p:nvPicPr>
        <p:blipFill>
          <a:blip r:embed="rId2"/>
          <a:stretch/>
        </p:blipFill>
        <p:spPr>
          <a:xfrm>
            <a:off x="0" y="47242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1" descr="ребята и зверята 8j peg"/>
          <p:cNvPicPr/>
          <p:nvPr/>
        </p:nvPicPr>
        <p:blipFill>
          <a:blip r:embed="rId3"/>
          <a:stretch/>
        </p:blipFill>
        <p:spPr>
          <a:xfrm>
            <a:off x="0" y="0"/>
            <a:ext cx="4627440" cy="465300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3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Давайте буд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Дружить друг с друг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птица- с неб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травы- с луго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ветер- с море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Поля- с дождям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Как дружит солнц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e247"/>
                </a:solidFill>
                <a:latin typeface="Arial"/>
              </a:rPr>
              <a:t>Со всеми нам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0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Давайте буд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К тому стрем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Чтоб нас люби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И зверь, и пт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И доверя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Повсюду на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Как самым верны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e247"/>
                </a:solidFill>
                <a:latin typeface="Arial"/>
              </a:rPr>
              <a:t>Своим друзья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Пословицы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02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 имей 100 рубле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Сам пропада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овых друзей наживай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ружба крепка не лестью, а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Старый друг лучш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т друга, так ищи, 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руг познаётся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3fd4b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Был у друга, пил воду – показалась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то друга в беде покидает, тот сам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репкую дружбу и топором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еловек без друзей – что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ружба как стекло: разобьёшь –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Не в службу, а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руг за друга держаться -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Проблемные ситуаци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2e2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4"/>
          <p:cNvSpPr/>
          <p:nvPr/>
        </p:nvSpPr>
        <p:spPr>
          <a:xfrm>
            <a:off x="2195640" y="1052640"/>
            <a:ext cx="6948360" cy="5329080"/>
          </a:xfrm>
          <a:custGeom>
            <a:avLst/>
            <a:gdLst>
              <a:gd name="textAreaLeft" fmla="*/ 868320 w 6948360"/>
              <a:gd name="textAreaRight" fmla="*/ 6080040 w 6948360"/>
              <a:gd name="textAreaTop" fmla="*/ 666000 h 5329080"/>
              <a:gd name="textAreaBottom" fmla="*/ 496656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20129"/>
                </a:lnTo>
                <a:arcTo wR="21600" hR="20153" stAng="3993615" swAng="-498571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20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10679"/>
                </a:lnTo>
                <a:close/>
              </a:path>
              <a:path fill="none" w="21600" h="21600">
                <a:moveTo>
                  <a:pt x="5400" y="20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20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20129"/>
                </a:moveTo>
                <a:lnTo>
                  <a:pt x="2700" y="1229"/>
                </a:lnTo>
              </a:path>
              <a:path fill="none" w="21600" h="21600">
                <a:moveTo>
                  <a:pt x="18900" y="20129"/>
                </a:moveTo>
                <a:lnTo>
                  <a:pt x="18900" y="122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сдела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 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сит тетрадку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бы спис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5"/>
          <p:cNvSpPr/>
          <p:nvPr/>
        </p:nvSpPr>
        <p:spPr>
          <a:xfrm>
            <a:off x="2916360" y="1484280"/>
            <a:ext cx="6227640" cy="4392720"/>
          </a:xfrm>
          <a:prstGeom prst="flowChartPreparat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едлагает теб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ступить плох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AutoShape 4"/>
          <p:cNvSpPr/>
          <p:nvPr/>
        </p:nvSpPr>
        <p:spPr>
          <a:xfrm>
            <a:off x="2124000" y="0"/>
            <a:ext cx="7020000" cy="6453360"/>
          </a:xfrm>
          <a:custGeom>
            <a:avLst/>
            <a:gdLst>
              <a:gd name="textAreaLeft" fmla="*/ 1602360 w 7020000"/>
              <a:gd name="textAreaRight" fmla="*/ 5417640 w 7020000"/>
              <a:gd name="textAreaTop" fmla="*/ 1473120 h 6453360"/>
              <a:gd name="textAreaBottom" fmla="*/ 4980240 h 645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вой дру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уч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хие отмет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четверть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бе запрещ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 ним дружи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AutoShape 4"/>
          <p:cNvSpPr/>
          <p:nvPr/>
        </p:nvSpPr>
        <p:spPr>
          <a:xfrm>
            <a:off x="2735280" y="981000"/>
            <a:ext cx="6408720" cy="5112000"/>
          </a:xfrm>
          <a:custGeom>
            <a:avLst/>
            <a:gdLst>
              <a:gd name="textAreaLeft" fmla="*/ 1463040 w 6408720"/>
              <a:gd name="textAreaRight" fmla="*/ 4945680 w 6408720"/>
              <a:gd name="textAreaTop" fmla="*/ 1166760 h 5112000"/>
              <a:gd name="textAreaBottom" fmla="*/ 3945240 h 511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вой дру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лохие слова 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раж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4" descr="068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25" name="Где друзья там и я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6" name="Ты, да я, да мы с тобой (Тихие троечники) - 2.mp3" descr=""/>
          <p:cNvPicPr/>
          <p:nvPr/>
        </p:nvPicPr>
        <p:blipFill>
          <a:blip r:embed="rId3"/>
          <a:stretch/>
        </p:blipFill>
        <p:spPr>
          <a:xfrm>
            <a:off x="802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386600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386600"/>
                            </p:stCondLst>
                            <p:childTnLst>
                              <p:par>
                                <p:cTn id="6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608" dur="119613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1" lang="ru-RU" sz="6000" spc="-1" strike="noStrike">
                <a:solidFill>
                  <a:srgbClr val="703dff"/>
                </a:solidFill>
                <a:latin typeface="Comic Sans MS"/>
              </a:rPr>
              <a:t>р</a:t>
            </a:r>
            <a:r>
              <a:rPr b="1" lang="ru-RU" sz="6000" spc="-1" strike="noStrike">
                <a:solidFill>
                  <a:srgbClr val="02e247"/>
                </a:solidFill>
                <a:latin typeface="Comic Sans MS"/>
              </a:rPr>
              <a:t>у</a:t>
            </a:r>
            <a:r>
              <a:rPr b="1" lang="ru-RU" sz="6000" spc="-1" strike="noStrike">
                <a:solidFill>
                  <a:srgbClr val="ffb800"/>
                </a:solidFill>
                <a:latin typeface="Comic Sans MS"/>
              </a:rPr>
              <a:t>ж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б</a:t>
            </a:r>
            <a:r>
              <a:rPr b="1" lang="ru-RU" sz="6000" spc="-1" strike="noStrike">
                <a:solidFill>
                  <a:srgbClr val="33cccc"/>
                </a:solidFill>
                <a:latin typeface="Comic Sans MS"/>
              </a:rPr>
              <a:t>а </a:t>
            </a:r>
            <a:r>
              <a:rPr b="1" lang="ru-RU" sz="60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ru-RU" sz="4800" spc="-1" strike="noStrike">
                <a:solidFill>
                  <a:srgbClr val="0033cc"/>
                </a:solidFill>
                <a:latin typeface="Comic Sans MS"/>
              </a:rPr>
              <a:t>это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8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Близкие отношения               между людьми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808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снованные на взаимном доверии, привязанности, общности интерес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1676160" y="404280"/>
            <a:ext cx="746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28736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Дру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Georgia"/>
              </a:rPr>
              <a:t>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Приятел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2873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                                                  </a:t>
            </a:r>
            <a:r>
              <a:rPr b="1" lang="ru-RU" sz="6000" spc="-1" strike="noStrike">
                <a:solidFill>
                  <a:srgbClr val="00ff00"/>
                </a:solidFill>
                <a:latin typeface="Georgia"/>
              </a:rPr>
              <a:t>Товари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Друг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- это тот, кто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964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- </a:t>
            </a: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поможет в трудные минуты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выручит, когда ты окажешься в беде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тебя понимает лучше всех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поделится последним куском хлеба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- ничего не пожалеет для тебя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Verdana"/>
              </a:rPr>
              <a:t>- </a:t>
            </a:r>
            <a:r>
              <a:rPr b="0" lang="ru-RU" sz="3400" spc="-1" strike="noStrike">
                <a:solidFill>
                  <a:srgbClr val="990000"/>
                </a:solidFill>
                <a:latin typeface="Verdana"/>
              </a:rPr>
              <a:t>волнуется, переживает и радуется за теб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AutoShape 4"/>
          <p:cNvSpPr/>
          <p:nvPr/>
        </p:nvSpPr>
        <p:spPr>
          <a:xfrm>
            <a:off x="2916360" y="1844640"/>
            <a:ext cx="3095640" cy="2354400"/>
          </a:xfrm>
          <a:custGeom>
            <a:avLst/>
            <a:gdLst>
              <a:gd name="textAreaLeft" fmla="*/ 737280 w 3095640"/>
              <a:gd name="textAreaRight" fmla="*/ 2358360 w 3095640"/>
              <a:gd name="textAreaTop" fmla="*/ 560520 h 2354400"/>
              <a:gd name="textAreaBottom" fmla="*/ 1793880 h 235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49" y="12326"/>
                </a:lnTo>
                <a:lnTo>
                  <a:pt x="786" y="14846"/>
                </a:lnTo>
                <a:lnTo>
                  <a:pt x="4092" y="15156"/>
                </a:lnTo>
                <a:lnTo>
                  <a:pt x="3163" y="18437"/>
                </a:lnTo>
                <a:lnTo>
                  <a:pt x="6328" y="17431"/>
                </a:lnTo>
                <a:lnTo>
                  <a:pt x="6580" y="20741"/>
                </a:lnTo>
                <a:lnTo>
                  <a:pt x="9137" y="18623"/>
                </a:lnTo>
                <a:lnTo>
                  <a:pt x="10800" y="21600"/>
                </a:lnTo>
                <a:lnTo>
                  <a:pt x="12326" y="18651"/>
                </a:lnTo>
                <a:lnTo>
                  <a:pt x="14846" y="20814"/>
                </a:lnTo>
                <a:lnTo>
                  <a:pt x="15156" y="17508"/>
                </a:lnTo>
                <a:lnTo>
                  <a:pt x="18437" y="18437"/>
                </a:lnTo>
                <a:lnTo>
                  <a:pt x="17431" y="15272"/>
                </a:lnTo>
                <a:lnTo>
                  <a:pt x="20741" y="15020"/>
                </a:lnTo>
                <a:lnTo>
                  <a:pt x="18623" y="12463"/>
                </a:lnTo>
                <a:lnTo>
                  <a:pt x="21600" y="10800"/>
                </a:lnTo>
                <a:lnTo>
                  <a:pt x="18651" y="9274"/>
                </a:lnTo>
                <a:lnTo>
                  <a:pt x="20814" y="6754"/>
                </a:lnTo>
                <a:lnTo>
                  <a:pt x="17508" y="6444"/>
                </a:lnTo>
                <a:lnTo>
                  <a:pt x="18437" y="3163"/>
                </a:lnTo>
                <a:lnTo>
                  <a:pt x="15272" y="4169"/>
                </a:lnTo>
                <a:lnTo>
                  <a:pt x="15020" y="859"/>
                </a:lnTo>
                <a:lnTo>
                  <a:pt x="12463" y="2977"/>
                </a:lnTo>
                <a:lnTo>
                  <a:pt x="10800" y="0"/>
                </a:lnTo>
                <a:lnTo>
                  <a:pt x="9274" y="2949"/>
                </a:lnTo>
                <a:lnTo>
                  <a:pt x="6754" y="786"/>
                </a:lnTo>
                <a:lnTo>
                  <a:pt x="6444" y="4092"/>
                </a:lnTo>
                <a:lnTo>
                  <a:pt x="3163" y="3163"/>
                </a:lnTo>
                <a:lnTo>
                  <a:pt x="4169" y="6328"/>
                </a:lnTo>
                <a:lnTo>
                  <a:pt x="859" y="6580"/>
                </a:lnTo>
                <a:lnTo>
                  <a:pt x="2977" y="913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5"/>
          <p:cNvSpPr/>
          <p:nvPr/>
        </p:nvSpPr>
        <p:spPr>
          <a:xfrm>
            <a:off x="3132000" y="2565360"/>
            <a:ext cx="23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5000" spc="-1" strike="noStrike">
                <a:solidFill>
                  <a:srgbClr val="ff0000"/>
                </a:solidFill>
                <a:latin typeface="Georgia"/>
              </a:rPr>
              <a:t>Друг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Line 6"/>
          <p:cNvSpPr/>
          <p:nvPr/>
        </p:nvSpPr>
        <p:spPr>
          <a:xfrm>
            <a:off x="1835280" y="836640"/>
            <a:ext cx="1728720" cy="115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7"/>
          <p:cNvSpPr/>
          <p:nvPr/>
        </p:nvSpPr>
        <p:spPr>
          <a:xfrm>
            <a:off x="4356000" y="549360"/>
            <a:ext cx="0" cy="1295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Line 9"/>
          <p:cNvSpPr/>
          <p:nvPr/>
        </p:nvSpPr>
        <p:spPr>
          <a:xfrm flipH="1">
            <a:off x="5292720" y="836640"/>
            <a:ext cx="1511280" cy="1224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0" y="1557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0" y="299736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едл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 flipV="1">
            <a:off x="1619280" y="3212640"/>
            <a:ext cx="1368360" cy="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Line 15"/>
          <p:cNvSpPr/>
          <p:nvPr/>
        </p:nvSpPr>
        <p:spPr>
          <a:xfrm flipV="1">
            <a:off x="2556000" y="3933720"/>
            <a:ext cx="1150920" cy="194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1547640" y="1989000"/>
            <a:ext cx="1440000" cy="64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3059280" y="6278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Line 18"/>
          <p:cNvSpPr/>
          <p:nvPr/>
        </p:nvSpPr>
        <p:spPr>
          <a:xfrm flipV="1">
            <a:off x="4427640" y="4221000"/>
            <a:ext cx="0" cy="19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9"/>
          <p:cNvSpPr/>
          <p:nvPr/>
        </p:nvSpPr>
        <p:spPr>
          <a:xfrm>
            <a:off x="7559640" y="155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20"/>
          <p:cNvSpPr/>
          <p:nvPr/>
        </p:nvSpPr>
        <p:spPr>
          <a:xfrm flipH="1">
            <a:off x="6011640" y="1989000"/>
            <a:ext cx="1368360" cy="50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21"/>
          <p:cNvSpPr/>
          <p:nvPr/>
        </p:nvSpPr>
        <p:spPr>
          <a:xfrm>
            <a:off x="7704000" y="285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22"/>
          <p:cNvSpPr/>
          <p:nvPr/>
        </p:nvSpPr>
        <p:spPr>
          <a:xfrm flipH="1">
            <a:off x="6084360" y="3141720"/>
            <a:ext cx="15116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23"/>
          <p:cNvSpPr/>
          <p:nvPr/>
        </p:nvSpPr>
        <p:spPr>
          <a:xfrm>
            <a:off x="0" y="4365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ев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24"/>
          <p:cNvSpPr/>
          <p:nvPr/>
        </p:nvSpPr>
        <p:spPr>
          <a:xfrm flipV="1">
            <a:off x="2050920" y="3715920"/>
            <a:ext cx="115272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26"/>
          <p:cNvSpPr/>
          <p:nvPr/>
        </p:nvSpPr>
        <p:spPr>
          <a:xfrm>
            <a:off x="6156360" y="580536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има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H="1" flipV="1">
            <a:off x="5292720" y="4005000"/>
            <a:ext cx="1008000" cy="187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8"/>
          <p:cNvSpPr/>
          <p:nvPr/>
        </p:nvSpPr>
        <p:spPr>
          <a:xfrm>
            <a:off x="6732720" y="4221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ч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Line 29"/>
          <p:cNvSpPr/>
          <p:nvPr/>
        </p:nvSpPr>
        <p:spPr>
          <a:xfrm flipH="1" flipV="1">
            <a:off x="5724000" y="3716280"/>
            <a:ext cx="100836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31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ёж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32"/>
          <p:cNvSpPr/>
          <p:nvPr/>
        </p:nvSpPr>
        <p:spPr>
          <a:xfrm>
            <a:off x="3419640" y="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33"/>
          <p:cNvSpPr/>
          <p:nvPr/>
        </p:nvSpPr>
        <p:spPr>
          <a:xfrm>
            <a:off x="0" y="1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с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569916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2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743200" cy="2085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72000" cy="2016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6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995" name="Rectangle 7"/>
          <p:cNvSpPr/>
          <p:nvPr/>
        </p:nvSpPr>
        <p:spPr>
          <a:xfrm>
            <a:off x="2916360" y="333360"/>
            <a:ext cx="58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Упражнение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“Пять добрых слов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324000" y="551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Желаю бы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Чтобы стать хорошим другом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необходимо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уважение и взаимопонимание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готовность помочь другу, выручить    из беды ;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недопустимость отрицательных проявлений: зависти, чёрствости, бездушия, бессердечност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9" name="Svirel_da_rozhok.mp3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292091" fill="hold"/>
                                        <p:tgtEl>
                                          <p:spTgt spid="9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8004"/>
            </a:gs>
            <a:gs pos="50000">
              <a:srgbClr val="ffff00"/>
            </a:gs>
            <a:gs pos="100000">
              <a:srgbClr val="fc800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4" descr="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4575240" cy="30574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Изображение 001"/>
          <p:cNvPicPr/>
          <p:nvPr/>
        </p:nvPicPr>
        <p:blipFill>
          <a:blip r:embed="rId2"/>
          <a:stretch/>
        </p:blipFill>
        <p:spPr>
          <a:xfrm>
            <a:off x="179280" y="3348000"/>
            <a:ext cx="4500720" cy="35100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" descr="Изображение 005"/>
          <p:cNvPicPr/>
          <p:nvPr/>
        </p:nvPicPr>
        <p:blipFill>
          <a:blip r:embed="rId3"/>
          <a:stretch/>
        </p:blipFill>
        <p:spPr>
          <a:xfrm>
            <a:off x="5435640" y="1989000"/>
            <a:ext cx="3297240" cy="443736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7"/>
          <p:cNvSpPr/>
          <p:nvPr/>
        </p:nvSpPr>
        <p:spPr>
          <a:xfrm>
            <a:off x="5435640" y="47628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eorgia"/>
              </a:rPr>
              <a:t>Выбирай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eorgia"/>
              </a:rPr>
              <a:t>друг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4" name="Копия Кристина Орбакайте - Солнышко смеется дубль3.mp3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308" dur="1" fill="hold"/>
                                        <p:tgtEl>
                                          <p:spTgt spid="10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d300"/>
            </a:gs>
            <a:gs pos="50000">
              <a:srgbClr val="ffff00"/>
            </a:gs>
            <a:gs pos="100000">
              <a:srgbClr val="d3d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8" descr="Изображение 004"/>
          <p:cNvPicPr/>
          <p:nvPr/>
        </p:nvPicPr>
        <p:blipFill>
          <a:blip r:embed="rId1"/>
          <a:stretch/>
        </p:blipFill>
        <p:spPr>
          <a:xfrm>
            <a:off x="179280" y="189000"/>
            <a:ext cx="1895760" cy="47876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9" descr="Изображение 002"/>
          <p:cNvPicPr/>
          <p:nvPr/>
        </p:nvPicPr>
        <p:blipFill>
          <a:blip r:embed="rId2"/>
          <a:stretch/>
        </p:blipFill>
        <p:spPr>
          <a:xfrm>
            <a:off x="1835280" y="2708280"/>
            <a:ext cx="3894120" cy="4149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0" descr="Изображение 003"/>
          <p:cNvPicPr/>
          <p:nvPr/>
        </p:nvPicPr>
        <p:blipFill>
          <a:blip r:embed="rId3"/>
          <a:stretch/>
        </p:blipFill>
        <p:spPr>
          <a:xfrm>
            <a:off x="5514840" y="0"/>
            <a:ext cx="3629160" cy="4076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1" descr=""/>
          <p:cNvPicPr/>
          <p:nvPr/>
        </p:nvPicPr>
        <p:blipFill>
          <a:blip r:embed="rId4"/>
          <a:stretch/>
        </p:blipFill>
        <p:spPr>
          <a:xfrm>
            <a:off x="6585120" y="4292640"/>
            <a:ext cx="2558880" cy="2565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79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3:47:58Z</dcterms:created>
  <dc:creator>Алёша</dc:creator>
  <dc:description/>
  <dc:language>en-US</dc:language>
  <cp:lastModifiedBy>Work</cp:lastModifiedBy>
  <cp:lastPrinted>2015-01-27T12:10:57Z</cp:lastPrinted>
  <dcterms:modified xsi:type="dcterms:W3CDTF">2015-01-27T12:18:59Z</dcterms:modified>
  <cp:revision>37</cp:revision>
  <dc:subject/>
  <dc:title>Слайд 1</dc:title>
</cp:coreProperties>
</file>