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A59D-3C4D-4721-A634-58965907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877B-8034-4612-9A12-01ECA83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04FB2-8EE2-48E6-AB1C-F0B092F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D886-ED79-4D64-A7DD-0516E322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79040-F273-46D3-8472-A747990D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DA504-37C6-4050-850F-9B47DC6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37EE2-2F63-41AA-9641-6CDDC05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20A4-A8A9-4DB4-BED8-0E61DAE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A78C7-7663-4EC9-AACD-6C634AF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E66FA-C1E2-4962-A7C3-5EB2FD6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2F5E7-DD98-4BD2-8667-3C66AA5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97BE4-4F33-4448-84A8-C099641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69C4-15D0-4EF2-8A06-8412501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E975-F767-4016-A9BF-19C5F988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3585-C561-41E9-AC38-68C7C44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A07BF-A255-4D8B-B7D9-689C2A9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A06A7-1E65-42CF-AEE1-CCAFB36B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DC1C7-6E6A-431B-8DCF-5E85A41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EC9D0-D542-4D76-BB6A-9A4A9B5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BA61F-4DB7-4F65-B4FD-B07E861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26A65-37B0-46BF-A9B8-9F85171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F228-B96F-40E5-B9B9-65D4DED4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ACD58-A442-4D81-B166-739C0D20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59B0-A56D-4424-9E76-6955D933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DE18-04E7-47DE-903C-C255F795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F934-D98C-4D11-AB79-F5398315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7E5B9-40EF-4AE1-814B-6FEF747E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95E14-7315-46B8-983D-689E2F1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4C2A6-8D8C-4B5E-AB27-E61B799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FF98-BC7A-48A5-80AA-79D0053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F89B-E1D9-452F-9853-BD71AECA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E96F-4E92-4D65-8F6F-FDBE744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559C-1FFA-4C35-8148-B36A3B9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B7D02-202A-44A7-B776-B73CF25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1A8-4582-443E-8B87-70548A75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A166-D86C-41F5-AB7B-2F43862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C0972-CD8E-4049-A5FE-B54D446E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1730A-85E9-4242-9406-928EEF2B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2B80F9-CCE5-47D0-B8F5-7F65DE96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2B4F6C-7B3B-409C-9681-C6540C88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E4CE20-8DAA-4E99-83BA-B7BD2F6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A85801-CEA0-47AB-BE86-D49B7F5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E85BB-E561-4F12-AE93-50ECBDE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C75CE0-01BC-4506-8927-6C834763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BBF2CC-63B7-4CD1-97AC-F84ED09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D426-AF09-4FE8-A6D3-0EE9463D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0618CF-0734-44D1-AE99-89E57DA9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546124-4E55-4B3C-B33F-44490FD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09341B-7A10-4218-82E9-1B6FADF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80628B-08FB-431B-98CD-3A6F5CB7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C4C086-17D3-4BB0-82CE-144B954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E1BFE-ECDA-43EA-824A-EC78D11B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9BA92-930B-4792-9025-68FD04E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15FD8-2977-44AF-8E0A-E07A729B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2CF89-9A1F-432A-922D-14DB172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F25C-7EA0-4E6B-B174-59778D6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077-94D1-45AA-886A-B23DB38D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30E52-0285-43D5-8DE6-004EC294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F1289-2D73-40C9-A74D-DF3EE362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C54F1-027A-4921-9094-1A3715F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2A38A-0F5B-424B-978C-43513E6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4094C-7EE2-427F-8BCF-812F2AA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AE2D3-0CEE-482C-A613-843A84CB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D11BB-23ED-46F6-A3D6-98C5D6D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60EE0-4953-464B-ACBB-3DD79753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E7D94-8030-4E83-ADE1-7B291DE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7E49F-7E38-406F-848C-D66B0BC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D612-D11A-4952-B235-6B21130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C1E24-E0C7-4E02-B622-DB992C7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03B3E-F127-41D5-97F1-CE529D4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358C8-D5B4-4DB3-8BDD-6844AA2B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9617E-DB1A-4083-B398-9AB183C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D5A3A-4E0B-495A-8709-7913BD4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3E54D-8C33-4DD3-8961-15784CE2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4A000-2BA9-41BB-8517-7C403D8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9D857-0595-4B95-840C-C584FD33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EDB19-485C-4D4B-8E94-9669EB6B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97717-B012-4D7B-AF7F-4A345037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142-0B52-42ED-8EED-1FB51ED9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1769E-5FD2-43DD-AC2E-E10BC1E4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94F6F-6142-482A-8973-291EFFB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7FDBA-3D56-4F26-84F9-B933813E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E78ED-B776-481C-B977-6C121DD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2E6F6-93D5-41E4-946C-FA75C99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58F62-4CE3-444A-862F-EAA382C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35699-DC6D-4C12-867B-F627635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F527C-EA85-40F8-859A-82387FE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7327B-6FD0-4EBF-9103-DC695AF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911F0-855F-49AE-9881-47782F4F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4E02-BACD-4E30-93BB-C5D874E5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3BDBB-410B-4360-BE49-F941440A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B211-9BCB-48E0-A1AC-4256264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99DB-3AB2-468C-AE83-05D496E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CCE-8A95-478F-A31C-7904C40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216-6948-485A-A099-B2E79F0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915-0DA6-428C-8075-9D8AD3D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C48-7873-4730-B429-BCBDECD0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98F4-E88C-439B-A6A9-6A6F2620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8F9F-BB5A-4C14-9230-8C88A975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6E33-309E-4193-A33A-EB6984C4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1C69-C185-4C82-ACFF-C106DB3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E7B0-9965-4453-A53C-0996A9C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E545-9C99-4644-8DAE-119AA229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F53D-F1A4-43E1-8302-275FFDC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8B47-1B92-47E5-B940-966AC19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45C-5688-45F6-844E-961A5F4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7941-AE3B-4369-8F24-966B1BC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DB92-935C-4C22-944A-5BFB3F6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6CDD-2867-4F64-B01E-8170223E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54FB-2068-4081-8193-3EC36B81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D5CE-4DDD-4DC0-B166-FE236E58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FD5C-3EE7-4E85-89A3-5AD800D3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56F6-9649-4EA9-A873-4FB3F52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A972-FA78-49E6-AE15-F5FABA1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796F-A099-4F69-8699-0EEC112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053D-D956-4501-B61A-73B340A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9436-F9BA-473E-963C-ADADA882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81CB-3D79-4E1A-8C0C-576067EC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ABE9-C0A5-4CE8-AB11-5B27E36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B451-BC8F-4FB2-B7CF-062CC31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BCCE-59E2-4501-A4CA-05296FA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D0B9-3303-4CB2-A7B0-8790ED2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45CA-3CC0-4DAC-B60F-DCD95D49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3E7A-E945-4B9A-A8A2-3EEE86F1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8AAA-D03A-4905-8F66-9CD710A2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BE61-AAAA-43BC-962A-750E97A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16CB-3D1B-416A-98B7-1FFE70E9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8140-AAF1-4B9E-BBBE-8EF8FB6D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D988-9B13-46E0-B469-6B809C5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A3AC-8B59-46E3-952F-7045771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39DC-5014-4FBA-9B67-CE48A35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2B72-34DD-45B3-A890-9956C31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0828-0D5C-41CA-8B15-7668DAE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9C4F-AF2E-481C-8FFA-599AA5D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39D0-DA46-4007-B0C7-310EA0E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683B-4595-4EA0-BB7A-7C67EB01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2D3B-DE69-4F56-B153-D650A7E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A742-DA8A-4CAC-89B7-0C8BE158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36BC-D822-479B-AD9F-98B39CB4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95AD-B56C-4649-B889-5CB6BF8B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EED4-FBF3-40BA-87BB-3A7F974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FA61-4DD8-4F66-9D1E-D93AAF6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CD5E-4EFC-4D79-9612-C9AD01B5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8CB1-DF07-4526-A2CF-0DE86124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0ADC-5C4F-44FC-9EEE-744AD29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5670-107D-4ADC-9CF0-009FF98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A7FE-9576-40AC-822F-64AB44C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14EF-B40F-4E94-B45A-3A39B4E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A40E4-6CE0-420D-8B02-C4D4B4BC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28B42-3520-4962-8F78-5398F7EC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9D62-B31B-4DEF-8242-1547081F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4F611-B316-4262-A1B4-9E82A522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4859-9CCD-43A3-8462-6BCB2FF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3A62-DA04-4A38-B426-8942F7B3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BB19-73B2-4209-863D-568F9F8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B37C7-0B81-4910-B3FC-20F60B9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8CF3-49AE-4E3A-85A9-81494298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2B3B-8DA4-4770-8C74-022A4F2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CDC3-1B2E-410F-9BED-82C39FE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967C-32F1-44F4-A422-AB0F00F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CEB4-C73C-44A3-AF2F-56AAB90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E1F85-2EE6-4B09-A08C-CD36377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CA88-4A2C-4B02-99DA-7C692B30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97E18-B3BC-4590-B611-B925F56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89A41-CC61-49B1-8A61-4C5DB90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0122B-9A24-41A6-BDDE-E2F5F09E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E7DA-5F65-41CE-81AC-12434D7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D158-325B-4461-BC69-F2FEDEFF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E420-DAAC-4A8F-951F-967C114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EAF6-1AB1-4B0C-B0D3-1190DB3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9946-70CD-4512-BB57-28347A1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55C42-73E4-4A1C-906A-F32C12F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BAA33-2950-49FC-8333-C9D8186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2F2E3-11F6-40D4-AA16-DFB7854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DB4A-E76D-4B0E-9BF8-28C477E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21D6-2B91-435D-9D30-D432C5C5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D9D1-45EB-4DBE-9754-06736239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5A6A0-93B2-4C02-AD14-07F8CC6A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6DC8-71A0-494C-A53D-E11541B8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33E3-E612-48BA-8337-64F38A6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9C0-BDA7-4B26-AA42-AA326B553D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5A26-6C07-46F6-9038-9F7341D4584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3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3A1F-928C-4659-828F-F93B4C005F4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6AA8-4456-4C97-A4A3-DB6CE28F31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89DC-9341-493D-9223-90DB4F4C15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F66-3C12-4159-9B5D-98F79AD434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7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7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9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9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9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0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0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45EC-4939-4084-BA25-0BB7E1A80A4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D5F-FDEB-4D53-8827-D711071305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8FA-6996-42AB-A4EC-662FD920F65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B12-58C8-4554-9214-95DAA4A699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820-BB86-47AD-BC35-58AEB6C46C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197-1B5D-4874-B9F6-06CB500EC0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3EF-5168-4E26-A82F-76C06D916C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4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4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010-40D4-48C5-809D-69A70AB181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14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142-0204-4A1D-9105-FEE7693DF3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Настоящий друг2.mp3" descr=""/>
          <p:cNvPicPr/>
          <p:nvPr/>
        </p:nvPicPr>
        <p:blipFill>
          <a:blip r:embed="rId1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59" name="WordArt 11"/>
          <p:cNvSpPr txBox="1"/>
          <p:nvPr/>
        </p:nvSpPr>
        <p:spPr>
          <a:xfrm>
            <a:off x="611280" y="1700280"/>
            <a:ext cx="820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жб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8888" fill="hold"/>
                                        <p:tgtEl>
                                          <p:spTgt spid="9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9" descr="tourism_61"/>
          <p:cNvPicPr/>
          <p:nvPr/>
        </p:nvPicPr>
        <p:blipFill>
          <a:blip r:embed="rId1"/>
          <a:stretch/>
        </p:blipFill>
        <p:spPr>
          <a:xfrm>
            <a:off x="4500720" y="2347920"/>
            <a:ext cx="4643280" cy="45100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0" descr=""/>
          <p:cNvPicPr/>
          <p:nvPr/>
        </p:nvPicPr>
        <p:blipFill>
          <a:blip r:embed="rId2"/>
          <a:stretch/>
        </p:blipFill>
        <p:spPr>
          <a:xfrm>
            <a:off x="0" y="47242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1" descr="ребята и зверята 8j peg"/>
          <p:cNvPicPr/>
          <p:nvPr/>
        </p:nvPicPr>
        <p:blipFill>
          <a:blip r:embed="rId3"/>
          <a:stretch/>
        </p:blipFill>
        <p:spPr>
          <a:xfrm>
            <a:off x="0" y="0"/>
            <a:ext cx="4627440" cy="46530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3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Давайте буд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Дружить друг с друг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птица- с неб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травы- с луг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ветер- с море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Поля- с дождям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дружит солнц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Со всеми нам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Давайте буд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К тому стрем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Чтоб нас люби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И зверь, и пт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И доверя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Повсюду на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Как самым верны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Своим друзья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Пословицы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02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 имей 100 рубле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Сам пропада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овых друзей нажива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ружба крепка не лестью, а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Старый друг лучш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т друга, так ищи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руг познаётся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3fd4b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Был у друга, пил воду – показалась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то друга в беде покидает, тот сам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репкую дружбу и топором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еловек без друзей – что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ружба как стекло: разобьёшь –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Не в службу, а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руг за друга держаться -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Проблемные ситуаци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2e2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4"/>
          <p:cNvSpPr/>
          <p:nvPr/>
        </p:nvSpPr>
        <p:spPr>
          <a:xfrm>
            <a:off x="2195640" y="1052640"/>
            <a:ext cx="6948360" cy="5329080"/>
          </a:xfrm>
          <a:custGeom>
            <a:avLst/>
            <a:gdLst>
              <a:gd name="textAreaLeft" fmla="*/ 868320 w 6948360"/>
              <a:gd name="textAreaRight" fmla="*/ 6080040 w 6948360"/>
              <a:gd name="textAreaTop" fmla="*/ 666000 h 5329080"/>
              <a:gd name="textAreaBottom" fmla="*/ 496656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20129"/>
                </a:lnTo>
                <a:arcTo wR="21600" hR="20153" stAng="3993615" swAng="-498571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20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10679"/>
                </a:lnTo>
                <a:close/>
              </a:path>
              <a:path fill="none" w="21600" h="21600">
                <a:moveTo>
                  <a:pt x="5400" y="20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20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20129"/>
                </a:moveTo>
                <a:lnTo>
                  <a:pt x="2700" y="1229"/>
                </a:lnTo>
              </a:path>
              <a:path fill="none" w="21600" h="21600">
                <a:moveTo>
                  <a:pt x="18900" y="20129"/>
                </a:moveTo>
                <a:lnTo>
                  <a:pt x="18900" y="122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сдела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 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сит тетрадку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бы спис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5"/>
          <p:cNvSpPr/>
          <p:nvPr/>
        </p:nvSpPr>
        <p:spPr>
          <a:xfrm>
            <a:off x="2916360" y="1484280"/>
            <a:ext cx="6227640" cy="4392720"/>
          </a:xfrm>
          <a:prstGeom prst="flowChartPreparat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едлагает теб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ступить плох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AutoShape 4"/>
          <p:cNvSpPr/>
          <p:nvPr/>
        </p:nvSpPr>
        <p:spPr>
          <a:xfrm>
            <a:off x="2124000" y="0"/>
            <a:ext cx="7020000" cy="6453360"/>
          </a:xfrm>
          <a:custGeom>
            <a:avLst/>
            <a:gdLst>
              <a:gd name="textAreaLeft" fmla="*/ 1602360 w 7020000"/>
              <a:gd name="textAreaRight" fmla="*/ 5417640 w 7020000"/>
              <a:gd name="textAreaTop" fmla="*/ 1473120 h 6453360"/>
              <a:gd name="textAreaBottom" fmla="*/ 4980240 h 645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вой дру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уч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хие отмет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четверть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бе запрещ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 ним дружи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AutoShape 4"/>
          <p:cNvSpPr/>
          <p:nvPr/>
        </p:nvSpPr>
        <p:spPr>
          <a:xfrm>
            <a:off x="2735280" y="981000"/>
            <a:ext cx="6408720" cy="5112000"/>
          </a:xfrm>
          <a:custGeom>
            <a:avLst/>
            <a:gdLst>
              <a:gd name="textAreaLeft" fmla="*/ 1463040 w 6408720"/>
              <a:gd name="textAreaRight" fmla="*/ 4945680 w 6408720"/>
              <a:gd name="textAreaTop" fmla="*/ 1166760 h 5112000"/>
              <a:gd name="textAreaBottom" fmla="*/ 3945240 h 511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охие слова 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раж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4" descr="068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25" name="Где друзья там и я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6" name="Ты, да я, да мы с тобой (Тихие троечники) - 2.mp3" descr=""/>
          <p:cNvPicPr/>
          <p:nvPr/>
        </p:nvPicPr>
        <p:blipFill>
          <a:blip r:embed="rId3"/>
          <a:stretch/>
        </p:blipFill>
        <p:spPr>
          <a:xfrm>
            <a:off x="802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386600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386600"/>
                            </p:stCondLst>
                            <p:childTnLst>
                              <p:par>
                                <p:cTn id="6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608" dur="119613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1" lang="ru-RU" sz="6000" spc="-1" strike="noStrike">
                <a:solidFill>
                  <a:srgbClr val="703dff"/>
                </a:solidFill>
                <a:latin typeface="Comic Sans MS"/>
              </a:rPr>
              <a:t>р</a:t>
            </a:r>
            <a:r>
              <a:rPr b="1" lang="ru-RU" sz="6000" spc="-1" strike="noStrike">
                <a:solidFill>
                  <a:srgbClr val="02e247"/>
                </a:solidFill>
                <a:latin typeface="Comic Sans MS"/>
              </a:rPr>
              <a:t>у</a:t>
            </a:r>
            <a:r>
              <a:rPr b="1" lang="ru-RU" sz="6000" spc="-1" strike="noStrike">
                <a:solidFill>
                  <a:srgbClr val="ffb800"/>
                </a:solidFill>
                <a:latin typeface="Comic Sans MS"/>
              </a:rPr>
              <a:t>ж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б</a:t>
            </a:r>
            <a:r>
              <a:rPr b="1" lang="ru-RU" sz="6000" spc="-1" strike="noStrike">
                <a:solidFill>
                  <a:srgbClr val="33cccc"/>
                </a:solidFill>
                <a:latin typeface="Comic Sans MS"/>
              </a:rPr>
              <a:t>а </a:t>
            </a:r>
            <a:r>
              <a:rPr b="1" lang="ru-RU" sz="60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ru-RU" sz="4800" spc="-1" strike="noStrike">
                <a:solidFill>
                  <a:srgbClr val="0033cc"/>
                </a:solidFill>
                <a:latin typeface="Comic Sans MS"/>
              </a:rPr>
              <a:t>это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Близкие отношения               между людьми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808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снованные на взаимном доверии, привязанности, общности интерес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1676160" y="404280"/>
            <a:ext cx="746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28736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Дру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Georgia"/>
              </a:rPr>
              <a:t>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Приятел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                                          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Товари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Друг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- это тот, кто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- </a:t>
            </a: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поможет в трудные минуты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выручит, когда ты окажешься в беде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тебя понимает лучше всех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поделится последним куском хлеба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ничего не пожалеет для тебя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Verdana"/>
              </a:rPr>
              <a:t>- </a:t>
            </a: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волнуется, переживает и радуется за теб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AutoShape 4"/>
          <p:cNvSpPr/>
          <p:nvPr/>
        </p:nvSpPr>
        <p:spPr>
          <a:xfrm>
            <a:off x="2916360" y="1844640"/>
            <a:ext cx="3095640" cy="2354400"/>
          </a:xfrm>
          <a:custGeom>
            <a:avLst/>
            <a:gdLst>
              <a:gd name="textAreaLeft" fmla="*/ 737280 w 3095640"/>
              <a:gd name="textAreaRight" fmla="*/ 2358360 w 3095640"/>
              <a:gd name="textAreaTop" fmla="*/ 560520 h 2354400"/>
              <a:gd name="textAreaBottom" fmla="*/ 179388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49" y="12326"/>
                </a:lnTo>
                <a:lnTo>
                  <a:pt x="786" y="14846"/>
                </a:lnTo>
                <a:lnTo>
                  <a:pt x="4092" y="15156"/>
                </a:lnTo>
                <a:lnTo>
                  <a:pt x="3163" y="18437"/>
                </a:lnTo>
                <a:lnTo>
                  <a:pt x="6328" y="17431"/>
                </a:lnTo>
                <a:lnTo>
                  <a:pt x="6580" y="20741"/>
                </a:lnTo>
                <a:lnTo>
                  <a:pt x="9137" y="18623"/>
                </a:lnTo>
                <a:lnTo>
                  <a:pt x="10800" y="21600"/>
                </a:lnTo>
                <a:lnTo>
                  <a:pt x="12326" y="18651"/>
                </a:lnTo>
                <a:lnTo>
                  <a:pt x="14846" y="20814"/>
                </a:lnTo>
                <a:lnTo>
                  <a:pt x="15156" y="17508"/>
                </a:lnTo>
                <a:lnTo>
                  <a:pt x="18437" y="18437"/>
                </a:lnTo>
                <a:lnTo>
                  <a:pt x="17431" y="15272"/>
                </a:lnTo>
                <a:lnTo>
                  <a:pt x="20741" y="15020"/>
                </a:lnTo>
                <a:lnTo>
                  <a:pt x="18623" y="12463"/>
                </a:lnTo>
                <a:lnTo>
                  <a:pt x="21600" y="10800"/>
                </a:lnTo>
                <a:lnTo>
                  <a:pt x="18651" y="9274"/>
                </a:lnTo>
                <a:lnTo>
                  <a:pt x="20814" y="6754"/>
                </a:lnTo>
                <a:lnTo>
                  <a:pt x="17508" y="6444"/>
                </a:lnTo>
                <a:lnTo>
                  <a:pt x="18437" y="3163"/>
                </a:lnTo>
                <a:lnTo>
                  <a:pt x="15272" y="4169"/>
                </a:lnTo>
                <a:lnTo>
                  <a:pt x="15020" y="859"/>
                </a:lnTo>
                <a:lnTo>
                  <a:pt x="12463" y="2977"/>
                </a:lnTo>
                <a:lnTo>
                  <a:pt x="10800" y="0"/>
                </a:lnTo>
                <a:lnTo>
                  <a:pt x="9274" y="2949"/>
                </a:lnTo>
                <a:lnTo>
                  <a:pt x="6754" y="786"/>
                </a:lnTo>
                <a:lnTo>
                  <a:pt x="6444" y="4092"/>
                </a:lnTo>
                <a:lnTo>
                  <a:pt x="3163" y="3163"/>
                </a:lnTo>
                <a:lnTo>
                  <a:pt x="4169" y="6328"/>
                </a:lnTo>
                <a:lnTo>
                  <a:pt x="859" y="6580"/>
                </a:lnTo>
                <a:lnTo>
                  <a:pt x="2977" y="913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3132000" y="2565360"/>
            <a:ext cx="23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ff0000"/>
                </a:solidFill>
                <a:latin typeface="Georgia"/>
              </a:rPr>
              <a:t>Друг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Line 6"/>
          <p:cNvSpPr/>
          <p:nvPr/>
        </p:nvSpPr>
        <p:spPr>
          <a:xfrm>
            <a:off x="1835280" y="836640"/>
            <a:ext cx="1728720" cy="115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7"/>
          <p:cNvSpPr/>
          <p:nvPr/>
        </p:nvSpPr>
        <p:spPr>
          <a:xfrm>
            <a:off x="4356000" y="549360"/>
            <a:ext cx="0" cy="1295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Line 9"/>
          <p:cNvSpPr/>
          <p:nvPr/>
        </p:nvSpPr>
        <p:spPr>
          <a:xfrm flipH="1">
            <a:off x="5292720" y="836640"/>
            <a:ext cx="1511280" cy="1224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0" y="1557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0" y="2997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едл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 flipV="1">
            <a:off x="1619280" y="3212640"/>
            <a:ext cx="1368360" cy="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Line 15"/>
          <p:cNvSpPr/>
          <p:nvPr/>
        </p:nvSpPr>
        <p:spPr>
          <a:xfrm flipV="1">
            <a:off x="2556000" y="3933720"/>
            <a:ext cx="1150920" cy="194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1547640" y="1989000"/>
            <a:ext cx="1440000" cy="6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3059280" y="6278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Line 18"/>
          <p:cNvSpPr/>
          <p:nvPr/>
        </p:nvSpPr>
        <p:spPr>
          <a:xfrm flipV="1">
            <a:off x="4427640" y="4221000"/>
            <a:ext cx="0" cy="19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9"/>
          <p:cNvSpPr/>
          <p:nvPr/>
        </p:nvSpPr>
        <p:spPr>
          <a:xfrm>
            <a:off x="7559640" y="155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20"/>
          <p:cNvSpPr/>
          <p:nvPr/>
        </p:nvSpPr>
        <p:spPr>
          <a:xfrm flipH="1">
            <a:off x="6011640" y="1989000"/>
            <a:ext cx="1368360" cy="50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21"/>
          <p:cNvSpPr/>
          <p:nvPr/>
        </p:nvSpPr>
        <p:spPr>
          <a:xfrm>
            <a:off x="7704000" y="285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22"/>
          <p:cNvSpPr/>
          <p:nvPr/>
        </p:nvSpPr>
        <p:spPr>
          <a:xfrm flipH="1">
            <a:off x="6084360" y="3141720"/>
            <a:ext cx="15116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23"/>
          <p:cNvSpPr/>
          <p:nvPr/>
        </p:nvSpPr>
        <p:spPr>
          <a:xfrm>
            <a:off x="0" y="4365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ев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24"/>
          <p:cNvSpPr/>
          <p:nvPr/>
        </p:nvSpPr>
        <p:spPr>
          <a:xfrm flipV="1">
            <a:off x="2050920" y="3715920"/>
            <a:ext cx="115272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26"/>
          <p:cNvSpPr/>
          <p:nvPr/>
        </p:nvSpPr>
        <p:spPr>
          <a:xfrm>
            <a:off x="615636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има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H="1" flipV="1">
            <a:off x="5292720" y="4005000"/>
            <a:ext cx="1008000" cy="18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8"/>
          <p:cNvSpPr/>
          <p:nvPr/>
        </p:nvSpPr>
        <p:spPr>
          <a:xfrm>
            <a:off x="6732720" y="4221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ч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Line 29"/>
          <p:cNvSpPr/>
          <p:nvPr/>
        </p:nvSpPr>
        <p:spPr>
          <a:xfrm flipH="1" flipV="1">
            <a:off x="5724000" y="3716280"/>
            <a:ext cx="100836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31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ёж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32"/>
          <p:cNvSpPr/>
          <p:nvPr/>
        </p:nvSpPr>
        <p:spPr>
          <a:xfrm>
            <a:off x="3419640" y="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33"/>
          <p:cNvSpPr/>
          <p:nvPr/>
        </p:nvSpPr>
        <p:spPr>
          <a:xfrm>
            <a:off x="0" y="1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с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569916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2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743200" cy="2085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72000" cy="2016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6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995" name="Rectangle 7"/>
          <p:cNvSpPr/>
          <p:nvPr/>
        </p:nvSpPr>
        <p:spPr>
          <a:xfrm>
            <a:off x="2916360" y="333360"/>
            <a:ext cx="58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Упражнение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“Пять добрых слов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324000" y="551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Желаю бы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Чтобы стать хорошим другом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необходимо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уважение и взаимопонимание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готовность помочь другу, выручить    из беды 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недопустимость отрицательных проявлений: зависти, чёрствости, бездушия, бессердечност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9" name="Svirel_da_rozhok.mp3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292091" fill="hold"/>
                                        <p:tgtEl>
                                          <p:spTgt spid="9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8004"/>
            </a:gs>
            <a:gs pos="50000">
              <a:srgbClr val="ffff00"/>
            </a:gs>
            <a:gs pos="100000">
              <a:srgbClr val="fc800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4" descr="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4575240" cy="30574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179280" y="3348000"/>
            <a:ext cx="4500720" cy="35100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" descr="Изображение 005"/>
          <p:cNvPicPr/>
          <p:nvPr/>
        </p:nvPicPr>
        <p:blipFill>
          <a:blip r:embed="rId3"/>
          <a:stretch/>
        </p:blipFill>
        <p:spPr>
          <a:xfrm>
            <a:off x="5435640" y="1989000"/>
            <a:ext cx="3297240" cy="443736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7"/>
          <p:cNvSpPr/>
          <p:nvPr/>
        </p:nvSpPr>
        <p:spPr>
          <a:xfrm>
            <a:off x="5435640" y="47628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eorgia"/>
              </a:rPr>
              <a:t>Выбирай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eorgia"/>
              </a:rPr>
              <a:t>друг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Копия Кристина Орбакайте - Солнышко смеется дубль3.mp3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308" dur="1" fill="hold"/>
                                        <p:tgtEl>
                                          <p:spTgt spid="10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d300"/>
            </a:gs>
            <a:gs pos="50000">
              <a:srgbClr val="ffff00"/>
            </a:gs>
            <a:gs pos="100000">
              <a:srgbClr val="d3d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8" descr="Изображение 004"/>
          <p:cNvPicPr/>
          <p:nvPr/>
        </p:nvPicPr>
        <p:blipFill>
          <a:blip r:embed="rId1"/>
          <a:stretch/>
        </p:blipFill>
        <p:spPr>
          <a:xfrm>
            <a:off x="179280" y="189000"/>
            <a:ext cx="1895760" cy="47876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9" descr="Изображение 002"/>
          <p:cNvPicPr/>
          <p:nvPr/>
        </p:nvPicPr>
        <p:blipFill>
          <a:blip r:embed="rId2"/>
          <a:stretch/>
        </p:blipFill>
        <p:spPr>
          <a:xfrm>
            <a:off x="1835280" y="2708280"/>
            <a:ext cx="3894120" cy="4149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0" descr="Изображение 003"/>
          <p:cNvPicPr/>
          <p:nvPr/>
        </p:nvPicPr>
        <p:blipFill>
          <a:blip r:embed="rId3"/>
          <a:stretch/>
        </p:blipFill>
        <p:spPr>
          <a:xfrm>
            <a:off x="5514840" y="0"/>
            <a:ext cx="3629160" cy="4076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1" descr=""/>
          <p:cNvPicPr/>
          <p:nvPr/>
        </p:nvPicPr>
        <p:blipFill>
          <a:blip r:embed="rId4"/>
          <a:stretch/>
        </p:blipFill>
        <p:spPr>
          <a:xfrm>
            <a:off x="6585120" y="4292640"/>
            <a:ext cx="2558880" cy="2565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79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3:47:58Z</dcterms:created>
  <dc:creator>Алёша</dc:creator>
  <dc:description/>
  <dc:language>en-US</dc:language>
  <cp:lastModifiedBy>Work</cp:lastModifiedBy>
  <cp:lastPrinted>2015-01-27T12:10:57Z</cp:lastPrinted>
  <dcterms:modified xsi:type="dcterms:W3CDTF">2015-01-27T12:18:59Z</dcterms:modified>
  <cp:revision>37</cp:revision>
  <dc:subject/>
  <dc:title>Слайд 1</dc:title>
</cp:coreProperties>
</file>